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BA5-B2A2-418B-AEB0-4705CD9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BFC-5D3E-4809-84BF-9528FF7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3DC-0CBB-4A7B-9D47-309B91DB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185-5B3C-4721-904A-85D5546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7A7-AE17-4964-B729-F7190B83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84DC-906A-4FFE-8043-559657A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FFDE-D14A-41F7-A62E-E06B0016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742-AC5B-4510-8B29-487DF25E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875-022B-4EAB-BB17-10B0777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C6D-F6A8-4C3B-BBC3-2C93D3A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5B2-5E58-4CCB-A825-D1C7B79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59E-2B82-4646-9E51-3926E3E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2CBA-707F-4B52-95C6-48D3A707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1BE8-4864-452A-89BF-05FF5DB4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778-9807-4001-80B7-8073F88F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F57-2658-46FD-B725-62223E1C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E74-64C0-456C-9FD4-F499CBE3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8C9-A675-4853-8DEA-A9B1F75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B91-D58D-404B-BAD9-3EFC5EA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41B-9C13-4F0F-A6CA-01689F89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903-F751-4991-90BB-3595AF65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03B-CD9A-4EBB-9E89-D1DB93B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07B-D916-43F0-8998-94B796C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D4B-AC7E-472B-BB4C-8E66434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53F-584A-4557-AB34-4E6823830C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2340-E07E-47A8-8907-2AC8309F1E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Teorijske osnove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Formalizmi za opisivanje sistema sa diskretnim događaji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jagram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 su matematički formalizam, kojim se opisuju sistemi sa diskretnim događaj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redložen od strane Carl Adam Petri-ja 1962. g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 omogućavaj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nalizu sistema (strukture i dinamik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alidaci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valaciju perfoman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 mrežu (PM) čini bipartitni graf koji se sastoji iz dva tipa čvorova: mesta i tranzicij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Čvorovi se povezuju sa lukovima. </a:t>
            </a:r>
            <a:r>
              <a:rPr b="0" lang="sr-Latn-CS" sz="2800" spc="-1" strike="noStrike" u="sng">
                <a:solidFill>
                  <a:srgbClr val="40458c"/>
                </a:solidFill>
                <a:uFillTx/>
                <a:latin typeface="Tahoma"/>
              </a:rPr>
              <a:t>Povezivanje čvorova istog tipa nije dozvoljeno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oga se i zovu biparititni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sta se obeležavaju sa krugovima, a tranzicije sa kvadrat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908000" y="5448240"/>
            <a:ext cx="4751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efinicija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(PM) je trojka (P,T,F) gde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nb-NO" sz="2000" spc="-1" strike="noStrike">
                <a:solidFill>
                  <a:srgbClr val="40458c"/>
                </a:solidFill>
                <a:latin typeface="Tahoma"/>
              </a:rPr>
              <a:t>- P konačan skup mest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- T konačan skup tranzicij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 F skup lukova (relacija tok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esto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se zov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ulazno mesto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tranzici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akko postoji usmereni luk iz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esto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izlazno mesto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tranzicij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akko postoji usmereni luk iz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a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U bilo kom trenutku, mesto sadrži nula ili više </a:t>
            </a:r>
            <a:r>
              <a:rPr b="0" i="1" lang="pl-PL" sz="2400" spc="-1" strike="noStrike">
                <a:solidFill>
                  <a:srgbClr val="40458c"/>
                </a:solidFill>
                <a:latin typeface="Tahoma"/>
              </a:rPr>
              <a:t>žetona (tokena)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, koji se obeležavaju kao crne tačke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ranzicije mogu predstavlja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or, događaj, aktivnost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na mesta mogu predstavlja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ni podatak, pre-uslov, potrebni resu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lazna mesta mogu predstavlja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ni podatak, post-uslov, oslobođeni resu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059280" y="5445000"/>
            <a:ext cx="2019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M  se mogu izvršavati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Izvršavanje bazirano na konc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tu tok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arkiranje PM predstavlja preslikavanje koje svakom mestu dodeljuje nenegativan broj koji predstavlja broj tokena u njem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istribucija tokena po mestima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arkiranje predstavlja sta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 algn="ctr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arkiranje [1 1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tojanje toke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u mestu označava dostupnost resursa ili ispunjenost uslova za tranziciju, dok nepostojanje predstavlja obrnu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a t je omogućena i može se okinuti, ako sva ulazna mesta imaju bar po jedan  tok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da se tranz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ija okine, token se uklanja iz svakog ulaznog mesta, a token se proizvodi u svakoj izlaznom mes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7272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476360" y="2124000"/>
            <a:ext cx="6337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772240" cy="416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43606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stemi sa kontinualnim vremen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istemi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kaz teorija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a modelovanje sistema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ijagram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etrijeve mrež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0400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orak 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ve bilijarske kugle se pomeraju po istoj liniji, paraleno ivici sto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icijalno se pomeraju jedna prema drugoj istom brzin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udar kugli je perfektno elastič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4321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Inic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jalno s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1 1 0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619272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ada se s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dar kugli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dogodi,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kugle počinju da se udaljavaju jedna od dru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51832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akon sudara 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0 0 1 1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6337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ugl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 A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dara u ivicu stola,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enja pravac kre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4968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etrijeve mreže - pri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etri mreža koja predstavlja ovu situacij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anje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akon sudara je: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1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65959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Dijagram promene stanja (DPS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 se posmatra kao konačni automa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ma konačni broj 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utomat opisuje kako sistem menja svoja stanja u zavisnosti od događa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i više oblika DPS (eng. State transition diagram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or-ov automat, Mealy-ev automat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ML DPS - Statecharts ili State Mach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ML DPS je zasnovan na Harelovim hijerarhijskim mašinama promene st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hijerarhijska dekompozicija 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imer: klima uređa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455840" y="2133720"/>
          <a:ext cx="6375240" cy="446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2133720"/>
                    <a:ext cx="6375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DPS predstavlja graf koji se sastoji od stanja i tranzicij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Stan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 je uvek u nekom stanj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 stanju se obavlja neka akcija ili čeka neki događa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pecijalna stanja: početak i kra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entiteta (realnih ili apstraktnih) i njihovih međusobnih veza koji zajedno čine celin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 mnogim naučnim oblastima se fenomeni (predmeti izučavanja) mogu posmatrati kao siste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Biološki sistemi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živi organizm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Tehnički sistemi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strujno kolo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rganizacioni sistem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Poslovni sistem (preduzeć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eorija sistema se bavi izučavanjem opštih osobina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Tranzic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evodi sistem iz jednog stanja u drug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u okida događa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ranzicija može imati uslo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đaj može imati argum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ilikom trazicije se može izvršiti ak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042920" y="4869000"/>
          <a:ext cx="6408720" cy="13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4869000"/>
                    <a:ext cx="64087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oženo stanje - Nadst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Jedno stanje može imati pod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nalazu u samo jednom podstanj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68360" y="3716280"/>
          <a:ext cx="439272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716280"/>
                    <a:ext cx="4392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Dijagram promene st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loženo stanje – Agregirano stan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nje je agregacija podstanja - stanje sistema ima više kompon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je istovremeno u svakom od podst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411280" y="3789360"/>
          <a:ext cx="4392720" cy="29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3789360"/>
                    <a:ext cx="43927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šti pojam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lazi u si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jstva okoline na si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zlazi siste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jstva sistema na okoli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6019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iste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a kontinualnim vremeno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i i izlazi sistema imaju kontinulane vrednosti u vre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: T </a:t>
            </a:r>
            <a:r>
              <a:rPr b="0" lang="sr-Latn-CS" sz="2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sr-Latn-CS" sz="2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 - skup trenutaka vremena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 - skup ulaza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Y - skup izlaza iz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6019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istem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sa kontinualnim vremeno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8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ksplicitni oblik S = { F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Y,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A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kup familija funkcija Fa čiji svaki elemenat  napisan u eksplicitnom obliku j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sr-Latn-CS" sz="32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t) = f</a:t>
            </a:r>
            <a:r>
              <a:rPr b="0" lang="sr-Latn-CS" sz="32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t,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edstavlja izlaz sistema dobijen u "eksperimentu </a:t>
            </a:r>
            <a:r>
              <a:rPr b="0" lang="sr-Latn-C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"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cept "eksperimenta" se uvodi ovde da bi se istakla činjenica da isti ulazi ne generišu uvek iste izlaze, odnosno da izlazi iz sistema zavise ne samo od ulaza već i od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stanj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sistem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Koncept stanja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tanje sistema je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kup informacija o prošlosti i sadašnjosti sistema koji je dovoljan da se utvrde njegovi budući izlazi, pretpostavljajući da su budući ulazi da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preko stanja definiše kao kompozicija funkci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) funkcije prelaza stan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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U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ii) izlazne transformacij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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T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GB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657600" y="5084640"/>
          <a:ext cx="5486400" cy="13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084640"/>
                    <a:ext cx="54864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istemi u kojima su ulazi i izlazi diskretni događaj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našanje sistema ne zavisi od vreme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 se ne predstavlja kao funkcija vrem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našanje sistema (izlazni događaji) zavisi od stanja sistema (akumulirana istorija rada sistema) i poslednjeg ulaznog događa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no-izlazna definicija sistema sa diskretnim događajima 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: U* </a:t>
            </a:r>
            <a:r>
              <a:rPr b="0" lang="en-GB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Y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Sistem sa diskretnim događajim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Mnoge klase “realnih” sistema se prirodnije opisuju kao  sistemi sa diskretnim događaji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oftverski sistem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i: pritisak na dugmić, izbor men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i: prikaz forme i podataka na njoj, zatvaranje for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e organizacije (preduzeć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laz: zahtev za ponudom, narudžben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zlaz: ponuda kupcu, fa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Kostandin Dimitrijevic</cp:lastModifiedBy>
  <dcterms:modified xsi:type="dcterms:W3CDTF">2007-06-18T11:17:49Z</dcterms:modified>
  <cp:revision>186</cp:revision>
  <dc:subject/>
  <dc:title>Strukture podataka</dc:title>
</cp:coreProperties>
</file>