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3760-FD45-4A81-955E-0C210B087D4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the file is declared as a xml1.0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AP-ENV declares the overall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si declares the instance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sd declares the schema nam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header contains directives to processor which receives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ody contains the method call and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21E-78D7-483E-BE97-6529683D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90F-D98E-470F-A703-7F32DCD6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4FD-76F4-4F12-A612-7295A8E8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BD9-FB47-40DB-ACE7-6E2D26DD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FF2F-B1D7-4C85-93A9-9B23CCFC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7AD1-3E63-410B-96C6-C3686CD6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9C9D-25D5-4351-8C61-D647AC10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CDC4-45F6-4810-BCFA-AD0284A7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D3DB-8BC1-48D1-9DD2-FD256788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1808-72B7-4CDF-8292-F7A5A25D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B445-0084-4F14-BF5F-667A27B1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FCB-7E74-42FF-B523-CC6D3BE3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3A1F-D48A-40BD-AA14-4662959E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A8BE-AC0F-46CB-BA55-8A65014E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98B4-447A-43FB-A0A1-A12FA735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552C-E83D-436F-937D-388F7B8D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5C8C-B917-4EDB-8A87-D81A0774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A36-F6DC-44A4-ACFC-E00BF3AB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78A-FD30-4EA3-A7A4-EBFFE83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7D8-7B7D-4E76-A5A9-43F12AC4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A10-AA91-49A8-85BF-DE1BE7F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1FB-6D7C-499C-87F7-88AAE196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87B-BBA7-4053-BC61-35E39E71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6B9-A384-4B12-8DAE-620D8BEE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6713-0716-4DD9-A491-CB467A98960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96BA-E7FD-47B2-A23B-75567C79C6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213000"/>
            <a:ext cx="8497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ervisno orijentisana arhitektura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300" spc="-1" strike="noStrike">
                <a:solidFill>
                  <a:srgbClr val="660066"/>
                </a:solidFill>
                <a:latin typeface="Tahoma"/>
              </a:rPr>
              <a:t>Servisi u SOA su orkestrirani </a:t>
            </a:r>
            <a:r>
              <a:rPr b="0" lang="en-US" sz="3300" spc="-1" strike="noStrike">
                <a:solidFill>
                  <a:srgbClr val="660066"/>
                </a:solidFill>
                <a:latin typeface="Tahoma"/>
              </a:rPr>
              <a:t>(BPEL) </a:t>
            </a:r>
            <a:br>
              <a:rPr sz="3300"/>
            </a:br>
            <a:r>
              <a:rPr b="0" lang="sr-Latn-CS" sz="2400" spc="-1" strike="noStrike">
                <a:solidFill>
                  <a:srgbClr val="660066"/>
                </a:solidFill>
                <a:latin typeface="Tahoma"/>
              </a:rPr>
              <a:t>- ( ovaj model koji omogućava najbolje ponovno korišćenje poslovne logike 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1981080"/>
            <a:ext cx="4495680" cy="3962520"/>
          </a:xfrm>
          <a:prstGeom prst="flowChartPredefinedProcess">
            <a:avLst/>
          </a:prstGeom>
          <a:solidFill>
            <a:srgbClr val="ffcc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37920" y="1371600"/>
            <a:ext cx="23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Servis </a:t>
            </a: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Quote Serv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Definicija orkestracij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71600" y="236232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3880" y="2286000"/>
            <a:ext cx="990720" cy="38088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RFQ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371600" y="3657600"/>
            <a:ext cx="1447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3880" y="3581280"/>
            <a:ext cx="990720" cy="38124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N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371600" y="5029200"/>
            <a:ext cx="1447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4952880"/>
            <a:ext cx="990360" cy="38124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Ponu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236232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866920" y="32004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24280" y="3124080"/>
            <a:ext cx="0" cy="38124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43200" y="4952880"/>
            <a:ext cx="152280" cy="1526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5638680"/>
            <a:ext cx="144756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24480" y="419112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7120" y="4114800"/>
            <a:ext cx="990360" cy="38088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  <a:ea typeface="Arial"/>
              </a:rPr>
              <a:t>Prodaj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  <a:ea typeface="Arial"/>
              </a:rPr>
              <a:t>Porez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4114800"/>
            <a:ext cx="152280" cy="152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52880" y="4952880"/>
            <a:ext cx="838440" cy="3812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&lt;&lt;send&gt;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quo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47242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9880" y="5181480"/>
            <a:ext cx="685800" cy="2286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0458c"/>
                </a:solidFill>
                <a:latin typeface="Arial"/>
                <a:ea typeface="Arial"/>
              </a:rPr>
              <a:t>updateDB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609588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6629400"/>
            <a:ext cx="76320" cy="763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657600" y="3809880"/>
            <a:ext cx="0" cy="198144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86400" y="5334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9720" y="54100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76720" y="6172200"/>
            <a:ext cx="1523880" cy="533520"/>
          </a:xfrm>
          <a:prstGeom prst="can">
            <a:avLst>
              <a:gd name="adj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43800" y="5826240"/>
            <a:ext cx="106668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43800" y="55180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Transi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543800" y="6283440"/>
            <a:ext cx="10666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542720" y="63244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Message 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8480" y="5410080"/>
            <a:ext cx="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24480" y="266688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2590920"/>
            <a:ext cx="990360" cy="38088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RFQ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2590920"/>
            <a:ext cx="152280" cy="1522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3124080"/>
            <a:ext cx="152280" cy="1526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324480" y="320040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77120" y="3124080"/>
            <a:ext cx="990360" cy="38124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Quo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91120" y="3505320"/>
            <a:ext cx="990360" cy="380880"/>
          </a:xfrm>
          <a:prstGeom prst="diamond">
            <a:avLst/>
          </a:prstGeom>
          <a:solidFill>
            <a:srgbClr val="c6ccb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Ok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3581280"/>
            <a:ext cx="152280" cy="1526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2819160" y="3657600"/>
            <a:ext cx="144756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44240" y="327672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N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3581280"/>
            <a:ext cx="685800" cy="2286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0458c"/>
                </a:solidFill>
                <a:latin typeface="Arial"/>
                <a:ea typeface="Arial"/>
              </a:rPr>
              <a:t>sendNack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563868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76360" y="5516640"/>
            <a:ext cx="990720" cy="380880"/>
          </a:xfrm>
          <a:prstGeom prst="flowChartInputOutput">
            <a:avLst/>
          </a:prstGeom>
          <a:solidFill>
            <a:srgbClr val="eaeae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Narud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38862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29200" y="26668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114800"/>
            <a:ext cx="1447560" cy="4572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&lt;&lt;invoke&gt;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calculateSalesTax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409720" y="4191120"/>
            <a:ext cx="7621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2590920"/>
            <a:ext cx="914400" cy="6858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0458c"/>
                </a:solidFill>
                <a:latin typeface="Arial"/>
                <a:ea typeface="Arial"/>
              </a:rPr>
              <a:t>&lt;&lt;invok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0458c"/>
                </a:solidFill>
                <a:latin typeface="Arial"/>
                <a:ea typeface="Arial"/>
              </a:rPr>
              <a:t>GetQuot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24280" y="312408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1120" y="4724280"/>
            <a:ext cx="144756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457200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472428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57600" y="579132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715000"/>
            <a:ext cx="990720" cy="380880"/>
          </a:xfrm>
          <a:prstGeom prst="diamond">
            <a:avLst/>
          </a:prstGeom>
          <a:solidFill>
            <a:srgbClr val="c6ccb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Ok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96880" y="579132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N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5029200"/>
            <a:ext cx="20574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26920" y="1773360"/>
            <a:ext cx="4952520" cy="2818440"/>
            <a:chOff x="826920" y="1773360"/>
            <a:chExt cx="4952520" cy="2818440"/>
          </a:xfrm>
        </p:grpSpPr>
        <p:sp>
          <p:nvSpPr>
            <p:cNvPr id="522" name=""/>
            <p:cNvSpPr/>
            <p:nvPr/>
          </p:nvSpPr>
          <p:spPr>
            <a:xfrm>
              <a:off x="3252600" y="2524680"/>
              <a:ext cx="2526840" cy="2067120"/>
            </a:xfrm>
            <a:prstGeom prst="irregularSeal1">
              <a:avLst/>
            </a:prstGeom>
            <a:solidFill>
              <a:srgbClr val="00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Arial"/>
                </a:rPr>
                <a:t>Stanj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Arial"/>
                </a:rPr>
                <a:t>Entite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6920" y="1773360"/>
              <a:ext cx="2526840" cy="2067120"/>
            </a:xfrm>
            <a:prstGeom prst="irregularSeal1">
              <a:avLst/>
            </a:prstGeom>
            <a:solidFill>
              <a:srgbClr val="00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tit</a:t>
              </a:r>
              <a:r>
                <a:rPr b="1" lang="sr-Latn-CS" sz="2000" spc="-1" strike="noStrike">
                  <a:solidFill>
                    <a:srgbClr val="ffffff"/>
                  </a:solidFill>
                  <a:latin typeface="Arial"/>
                </a:rPr>
                <a:t>e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895480" y="2362320"/>
            <a:ext cx="251460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209680"/>
            <a:ext cx="914400" cy="3812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&lt;&lt;receive&gt;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Arial"/>
                <a:ea typeface="Arial"/>
              </a:rPr>
              <a:t>R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Koreografija omogućava definisanje model toka događaja između aktivnos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26920" y="1700280"/>
            <a:ext cx="7620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372360" y="2997360"/>
            <a:ext cx="2590560" cy="13716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0066"/>
                </a:solidFill>
                <a:latin typeface="Tahoma"/>
              </a:rPr>
              <a:t>SOA 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zahteva potpunu odvojenost poslovne logike i korisničkog interfejsa (UI – user interface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3505320"/>
            <a:ext cx="1066680" cy="3124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1600200"/>
            <a:ext cx="18288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Vie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800600"/>
            <a:ext cx="1981080" cy="9907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ER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0920" y="4800600"/>
            <a:ext cx="1981080" cy="9907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PL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4800600"/>
            <a:ext cx="1981440" cy="9907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CR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2971800"/>
            <a:ext cx="266688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9520" y="29718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U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Controll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81280" y="3505320"/>
            <a:ext cx="114300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Obra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Posl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43640" y="292428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Controll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Poslovnog proces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76920" y="403848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61800" y="371628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Zahte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za s</a:t>
            </a:r>
            <a:r>
              <a:rPr b="0" lang="fr-FR" sz="1800" spc="-1" strike="noStrike">
                <a:solidFill>
                  <a:srgbClr val="40458c"/>
                </a:solidFill>
                <a:latin typeface="Arial"/>
                <a:ea typeface="Arial"/>
              </a:rPr>
              <a:t>ervi</a:t>
            </a: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so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6057720" y="3847320"/>
            <a:ext cx="685800" cy="15264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0" y="3505320"/>
            <a:ext cx="114300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Obra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  <a:ea typeface="Arial"/>
              </a:rPr>
              <a:t>Upi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819160" y="2362320"/>
            <a:ext cx="106668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066320" y="4191120"/>
            <a:ext cx="17528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9520" y="4191120"/>
            <a:ext cx="60948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9520" y="4191120"/>
            <a:ext cx="281916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91120" y="2362320"/>
            <a:ext cx="152280" cy="99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2019240" y="4914720"/>
            <a:ext cx="68580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2019240" y="5676480"/>
            <a:ext cx="68580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4381560" y="4914720"/>
            <a:ext cx="68580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4381560" y="5676480"/>
            <a:ext cx="68580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6743520" y="4914360"/>
            <a:ext cx="685800" cy="15264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6743520" y="5676120"/>
            <a:ext cx="685800" cy="15264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001000" y="4648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7238520" y="472428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81880" y="50292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876560" y="5181480"/>
            <a:ext cx="34290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1880" y="54100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514240" y="5562720"/>
            <a:ext cx="57913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001000" y="5791320"/>
            <a:ext cx="457200" cy="2286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77320" y="62485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238520" y="5943600"/>
            <a:ext cx="68580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305920" y="4800600"/>
            <a:ext cx="22860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534520" y="5257800"/>
            <a:ext cx="0" cy="763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534520" y="5638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29600" y="601992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153280" y="4267080"/>
            <a:ext cx="0" cy="381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8381880" y="5867280"/>
            <a:ext cx="1526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andardi Web 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904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snovni standardi za web servise su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XML (Extensible Markup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(simple object access protoco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SDL (web services description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DDI (universal description, discovery and integrat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 z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W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erv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577800" y="1535040"/>
          <a:ext cx="856620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535040"/>
                    <a:ext cx="85662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Arhitektura 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36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ključuje tri glavna ulo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ovider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 servi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egistra 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trošača 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buhvata tri glave operaci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ublikovanj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egistrovanje web servisa za korišćen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onalaženj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lociranj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eb servi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vršavanj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šćenj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eb servi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mponente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eb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258920" y="2060640"/>
          <a:ext cx="698004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98004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ostupnost servi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a bi neko mogao da koristi servis mora da zna da on postoji i da se omoguć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tkrivanje registrovanih (publikovanih) servisa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(UDDI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pis interfejsa servisa (metode i argumenti) kako bi korisnik mogao da ga korisiti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WSDL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Lokacija na kojoj se nalazi servis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(web server ili specifične aplikacije za komunikaciju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sovne karakteristike 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va WS dokumenta su napisana u X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XML Schema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 koristi za definisanje elemenata koji se koriste u WS komunikacij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O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ti se za komunikaciju sa W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Zasnovan na paradigmi poruka zahtev-odgovor (SOAP poruk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Telo poruke (čija je gramatika data preko WSDL) se nalazi u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“envelop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vezuj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nika i W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Razvoj softverskih arhitek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Vrednost softv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se sve više definiše preko povezanosti, a ne funkcionalnos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46040" y="4457880"/>
            <a:ext cx="8229600" cy="1562040"/>
          </a:xfrm>
          <a:custGeom>
            <a:avLst/>
            <a:gdLst/>
            <a:ahLst/>
            <a:rect l="l" t="t" r="r" b="b"/>
            <a:pathLst>
              <a:path w="5184" h="984">
                <a:moveTo>
                  <a:pt x="0" y="984"/>
                </a:moveTo>
                <a:cubicBezTo>
                  <a:pt x="32" y="972"/>
                  <a:pt x="64" y="960"/>
                  <a:pt x="96" y="936"/>
                </a:cubicBezTo>
                <a:cubicBezTo>
                  <a:pt x="128" y="912"/>
                  <a:pt x="128" y="976"/>
                  <a:pt x="192" y="840"/>
                </a:cubicBezTo>
                <a:cubicBezTo>
                  <a:pt x="256" y="704"/>
                  <a:pt x="336" y="240"/>
                  <a:pt x="480" y="120"/>
                </a:cubicBezTo>
                <a:cubicBezTo>
                  <a:pt x="624" y="0"/>
                  <a:pt x="712" y="88"/>
                  <a:pt x="1056" y="120"/>
                </a:cubicBezTo>
                <a:cubicBezTo>
                  <a:pt x="1400" y="152"/>
                  <a:pt x="1856" y="256"/>
                  <a:pt x="2544" y="312"/>
                </a:cubicBezTo>
                <a:cubicBezTo>
                  <a:pt x="3232" y="368"/>
                  <a:pt x="4744" y="432"/>
                  <a:pt x="5184" y="4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181480"/>
            <a:ext cx="8229600" cy="838440"/>
          </a:xfrm>
          <a:custGeom>
            <a:avLst/>
            <a:gdLst/>
            <a:ahLst/>
            <a:rect l="l" t="t" r="r" b="b"/>
            <a:pathLst>
              <a:path w="5184" h="528">
                <a:moveTo>
                  <a:pt x="5184" y="0"/>
                </a:moveTo>
                <a:lnTo>
                  <a:pt x="5184" y="528"/>
                </a:lnTo>
                <a:lnTo>
                  <a:pt x="0" y="528"/>
                </a:lnTo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457880"/>
            <a:ext cx="8229600" cy="1562040"/>
          </a:xfrm>
          <a:custGeom>
            <a:avLst/>
            <a:gdLst/>
            <a:ahLst/>
            <a:rect l="l" t="t" r="r" b="b"/>
            <a:pathLst>
              <a:path w="5184" h="984">
                <a:moveTo>
                  <a:pt x="0" y="984"/>
                </a:moveTo>
                <a:cubicBezTo>
                  <a:pt x="32" y="972"/>
                  <a:pt x="64" y="960"/>
                  <a:pt x="96" y="936"/>
                </a:cubicBezTo>
                <a:cubicBezTo>
                  <a:pt x="128" y="912"/>
                  <a:pt x="128" y="976"/>
                  <a:pt x="192" y="840"/>
                </a:cubicBezTo>
                <a:cubicBezTo>
                  <a:pt x="256" y="704"/>
                  <a:pt x="336" y="240"/>
                  <a:pt x="480" y="120"/>
                </a:cubicBezTo>
                <a:cubicBezTo>
                  <a:pt x="624" y="0"/>
                  <a:pt x="712" y="88"/>
                  <a:pt x="1056" y="120"/>
                </a:cubicBezTo>
                <a:cubicBezTo>
                  <a:pt x="1400" y="152"/>
                  <a:pt x="1856" y="256"/>
                  <a:pt x="2544" y="312"/>
                </a:cubicBezTo>
                <a:cubicBezTo>
                  <a:pt x="3232" y="368"/>
                  <a:pt x="4744" y="432"/>
                  <a:pt x="5184" y="456"/>
                </a:cubicBezTo>
              </a:path>
            </a:pathLst>
          </a:custGeom>
          <a:solidFill>
            <a:srgbClr val="ffcc00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5105520"/>
            <a:ext cx="6324480" cy="91440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4176" y="0"/>
                </a:moveTo>
                <a:lnTo>
                  <a:pt x="4176" y="576"/>
                </a:lnTo>
                <a:lnTo>
                  <a:pt x="0" y="57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457880"/>
            <a:ext cx="8229600" cy="1562040"/>
          </a:xfrm>
          <a:custGeom>
            <a:avLst/>
            <a:gdLst/>
            <a:ahLst/>
            <a:rect l="l" t="t" r="r" b="b"/>
            <a:pathLst>
              <a:path w="5184" h="984">
                <a:moveTo>
                  <a:pt x="0" y="984"/>
                </a:moveTo>
                <a:cubicBezTo>
                  <a:pt x="32" y="972"/>
                  <a:pt x="64" y="960"/>
                  <a:pt x="96" y="936"/>
                </a:cubicBezTo>
                <a:cubicBezTo>
                  <a:pt x="128" y="912"/>
                  <a:pt x="128" y="976"/>
                  <a:pt x="192" y="840"/>
                </a:cubicBezTo>
                <a:cubicBezTo>
                  <a:pt x="256" y="704"/>
                  <a:pt x="336" y="240"/>
                  <a:pt x="480" y="120"/>
                </a:cubicBezTo>
                <a:cubicBezTo>
                  <a:pt x="624" y="0"/>
                  <a:pt x="712" y="88"/>
                  <a:pt x="1056" y="120"/>
                </a:cubicBezTo>
                <a:cubicBezTo>
                  <a:pt x="1400" y="152"/>
                  <a:pt x="1856" y="256"/>
                  <a:pt x="2544" y="312"/>
                </a:cubicBezTo>
                <a:cubicBezTo>
                  <a:pt x="3232" y="368"/>
                  <a:pt x="4744" y="432"/>
                  <a:pt x="5184" y="456"/>
                </a:cubicBezTo>
              </a:path>
            </a:pathLst>
          </a:custGeom>
          <a:solidFill>
            <a:srgbClr val="99cc00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5029200"/>
            <a:ext cx="4724280" cy="990720"/>
          </a:xfrm>
          <a:custGeom>
            <a:avLst/>
            <a:gdLst/>
            <a:ahLst/>
            <a:rect l="l" t="t" r="r" b="b"/>
            <a:pathLst>
              <a:path w="3120" h="624">
                <a:moveTo>
                  <a:pt x="3120" y="0"/>
                </a:moveTo>
                <a:lnTo>
                  <a:pt x="3120" y="624"/>
                </a:lnTo>
                <a:lnTo>
                  <a:pt x="0" y="624"/>
                </a:lnTo>
              </a:path>
            </a:pathLst>
          </a:custGeom>
          <a:solidFill>
            <a:srgbClr val="99cc00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5520" y="51055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Mainfram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8000" y="51055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Client Serv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86360" y="5105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715000" y="4457880"/>
            <a:ext cx="8229600" cy="1562040"/>
            <a:chOff x="5715000" y="4457880"/>
            <a:chExt cx="8229600" cy="1562040"/>
          </a:xfrm>
        </p:grpSpPr>
        <p:grpSp>
          <p:nvGrpSpPr>
            <p:cNvPr id="231" name=""/>
            <p:cNvGrpSpPr/>
            <p:nvPr/>
          </p:nvGrpSpPr>
          <p:grpSpPr>
            <a:xfrm>
              <a:off x="5715000" y="4457880"/>
              <a:ext cx="8229600" cy="1562040"/>
              <a:chOff x="5715000" y="4457880"/>
              <a:chExt cx="8229600" cy="1562040"/>
            </a:xfrm>
          </p:grpSpPr>
          <p:sp>
            <p:nvSpPr>
              <p:cNvPr id="232" name=""/>
              <p:cNvSpPr/>
              <p:nvPr/>
            </p:nvSpPr>
            <p:spPr>
              <a:xfrm>
                <a:off x="5790960" y="4876920"/>
                <a:ext cx="2819520" cy="1143000"/>
              </a:xfrm>
              <a:custGeom>
                <a:avLst/>
                <a:gdLst/>
                <a:ahLst/>
                <a:rect l="l" t="t" r="r" b="b"/>
                <a:pathLst>
                  <a:path w="1968" h="720">
                    <a:moveTo>
                      <a:pt x="1968" y="0"/>
                    </a:moveTo>
                    <a:lnTo>
                      <a:pt x="1968" y="720"/>
                    </a:lnTo>
                    <a:lnTo>
                      <a:pt x="0" y="720"/>
                    </a:lnTo>
                  </a:path>
                </a:pathLst>
              </a:custGeom>
              <a:solidFill>
                <a:srgbClr val="6f89f7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5715000" y="4457880"/>
                <a:ext cx="8229600" cy="1562040"/>
                <a:chOff x="5715000" y="4457880"/>
                <a:chExt cx="8229600" cy="15620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715000" y="4457880"/>
                  <a:ext cx="8229600" cy="1562040"/>
                </a:xfrm>
                <a:custGeom>
                  <a:avLst/>
                  <a:gdLst/>
                  <a:ahLst/>
                  <a:rect l="l" t="t" r="r" b="b"/>
                  <a:pathLst>
                    <a:path w="5184" h="984">
                      <a:moveTo>
                        <a:pt x="0" y="984"/>
                      </a:moveTo>
                      <a:cubicBezTo>
                        <a:pt x="32" y="972"/>
                        <a:pt x="64" y="960"/>
                        <a:pt x="96" y="936"/>
                      </a:cubicBezTo>
                      <a:cubicBezTo>
                        <a:pt x="128" y="912"/>
                        <a:pt x="128" y="976"/>
                        <a:pt x="192" y="840"/>
                      </a:cubicBezTo>
                      <a:cubicBezTo>
                        <a:pt x="256" y="704"/>
                        <a:pt x="336" y="240"/>
                        <a:pt x="480" y="120"/>
                      </a:cubicBezTo>
                      <a:cubicBezTo>
                        <a:pt x="624" y="0"/>
                        <a:pt x="712" y="88"/>
                        <a:pt x="1056" y="120"/>
                      </a:cubicBezTo>
                      <a:cubicBezTo>
                        <a:pt x="1400" y="152"/>
                        <a:pt x="1856" y="256"/>
                        <a:pt x="2544" y="312"/>
                      </a:cubicBezTo>
                      <a:cubicBezTo>
                        <a:pt x="3232" y="368"/>
                        <a:pt x="4744" y="432"/>
                        <a:pt x="5184" y="456"/>
                      </a:cubicBezTo>
                    </a:path>
                  </a:pathLst>
                </a:custGeom>
                <a:solidFill>
                  <a:srgbClr val="6f89f7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649920" y="5105520"/>
                  <a:ext cx="67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SOA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8610480" y="4724280"/>
              <a:ext cx="45720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8610480" y="4572000"/>
            <a:ext cx="533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6019920"/>
            <a:ext cx="8458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OAP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ruk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35576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še standardi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‘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verat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’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 okviru kojeg poruka može biti poslata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810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je mehanizam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(proto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l)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za prenos informacija (poruka) između distribuiranih aplikacija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810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 govori ništa o sadržini poruke već pošiljalac i primalac moraju međusobno da je razumeju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810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je deo komunikacionog sloja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ruktura SOAP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-22680" y="1844640"/>
            <a:ext cx="50259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vaka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SOAP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uka sadrži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Envelope</a:t>
            </a:r>
            <a:r>
              <a:rPr b="0" lang="sr-Latn-CS" sz="2000" spc="-1" strike="noStrike">
                <a:solidFill>
                  <a:srgbClr val="40458c"/>
                </a:solidFill>
                <a:latin typeface="Courier New"/>
              </a:rPr>
              <a:t> –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bavija ceo dokum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Header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pciono – sadrži dodatne informacije za npr. autentifikaciju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Body</a:t>
            </a:r>
            <a:r>
              <a:rPr b="0" lang="sr-Latn-CS" sz="2000" spc="-1" strike="noStrike">
                <a:solidFill>
                  <a:srgbClr val="40458c"/>
                </a:solidFill>
                <a:latin typeface="Courier New"/>
              </a:rPr>
              <a:t> –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adržaj poruke koji je sama XML poruka ili RPC (sadrži XML koji predstavlja poziv metod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Body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ože sadržati </a:t>
            </a:r>
            <a:r>
              <a:rPr b="0" lang="en-GB" sz="2000" spc="-1" strike="noStrike">
                <a:solidFill>
                  <a:srgbClr val="40458c"/>
                </a:solidFill>
                <a:latin typeface="Courier New"/>
              </a:rPr>
              <a:t>Fault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element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kojim se definišu informacije o izuzecim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5073480" y="1905120"/>
            <a:ext cx="3962520" cy="3886200"/>
          </a:xfrm>
          <a:prstGeom prst="roundRect">
            <a:avLst>
              <a:gd name="adj" fmla="val 6870"/>
            </a:avLst>
          </a:prstGeom>
          <a:solidFill>
            <a:srgbClr val="99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Envelo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02080" y="2438280"/>
            <a:ext cx="3581640" cy="838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Head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: aut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entifikacija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, 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informacije o 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transa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kciji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, 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it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02080" y="3429000"/>
            <a:ext cx="3581640" cy="2133720"/>
          </a:xfrm>
          <a:prstGeom prst="roundRect">
            <a:avLst>
              <a:gd name="adj" fmla="val 9602"/>
            </a:avLst>
          </a:prstGeom>
          <a:solidFill>
            <a:srgbClr val="99cc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Bod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54720" y="3886200"/>
            <a:ext cx="32004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Body Blo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: paramet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ri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, 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povratne vrednosti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굴림"/>
              </a:rPr>
              <a:t>, </a:t>
            </a:r>
            <a:r>
              <a:rPr b="0" lang="sr-Latn-CS" sz="1400" spc="-1" strike="noStrike">
                <a:solidFill>
                  <a:srgbClr val="40458c"/>
                </a:solidFill>
                <a:latin typeface="Arial"/>
              </a:rPr>
              <a:t>it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54720" y="4876920"/>
            <a:ext cx="3200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굴림"/>
              </a:rPr>
              <a:t>SOAP Faul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SOAP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ruk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2560" y="1823760"/>
            <a:ext cx="78501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?xml … ?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SOAP-ENV:Envelope xmlns:SOAP-ENV=“URI” 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SOAP-ENV:Header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t:Transaction xmlns:t=“URI”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OAP-ENV:mustUnderstand=“1” 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12345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t:Transaction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p:Priority xmlns:p=“URI”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ery High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p:Priority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SOAP-ENV:Header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SOAP-ENV:Body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XML Document”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SOAP-ENV:Body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&lt;/SOAP-ENV:Envelop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SD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pisuje WS i definiše funkcije koje su dostupne na nje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Definiše XML gramatiku koja se koristi u poruka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ruktura WSDL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tType – apstraktna definicija servisa (skup operacij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Binding – načini pristupa izvršavanju servi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t – gde se pristupa servis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4859280" y="1557360"/>
            <a:ext cx="39877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3840" y="30456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SDL :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&lt;?xml version="1.0"?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&lt;!-- the root element, wsdl:definitions, defines a set of --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&lt;!-- related services --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&lt;wsdl:defini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me="Temperature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argetNamespace="http://www.socweather.com/schema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mlns:ts="http://www.socweather.com/TempSvc.wsdl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mlns:tsxsd="http://schemas.socweather.com/TempSvc.xs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mlns:soap="http://schemas.xmlsoap.org/wsdl/soap/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xmlns:wsdl="http://schemas.xmlsoap.org/wsdl/"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3840" y="407880"/>
            <a:ext cx="7143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SDL: 2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!-- wsdl:types encapsulates schema definitions of --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!-- communication types; here using xsd --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wsdl:types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!-- all type declarations are expressed in xsd --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schema targetNamespace="http://namespaces.socweather.com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xmlns:xsd="http://www.w3.org/1999/XMLSchema"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!-- xsd def: GetTemp [City string, When string] --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element name="GetTemp"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complexTyp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sequenc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element name="City" type="string"/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xsd:element name="When" type="string"/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/xsd:sequenc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/xsd:complexType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&lt;/xsd:elemen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D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ti se za registrovanje i pronalaženje servisa u nekom centralnom regist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ovajderi servisa mogu publikovati informacije o njihovim poslovima i servisima koje nu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nici servisa mogu pretraživati servise organizovane po poslu kategoriji servisa ili kao specifične servi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ruktur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UDDI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1403280" y="1461960"/>
          <a:ext cx="6964560" cy="513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61960"/>
                    <a:ext cx="696456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SDL </a:t>
            </a:r>
            <a:r>
              <a:rPr b="0" lang="en-US" sz="4000" spc="-1" strike="noStrike">
                <a:solidFill>
                  <a:srgbClr val="660066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UDD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539640" y="1413000"/>
          <a:ext cx="8182080" cy="51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818208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ahoma"/>
              </a:rPr>
              <a:t>Potrebe za povezanošću komponenti su uticale na zbližavanje tehnolog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124080"/>
            <a:ext cx="4648320" cy="2286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Workflo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4495680"/>
            <a:ext cx="48006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5334120"/>
            <a:ext cx="5181840" cy="3045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Mainfram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429000"/>
            <a:ext cx="601992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5181480"/>
            <a:ext cx="601992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934320" y="3048120"/>
            <a:ext cx="1444320" cy="2894760"/>
            <a:chOff x="6934320" y="3048120"/>
            <a:chExt cx="1444320" cy="2894760"/>
          </a:xfrm>
        </p:grpSpPr>
        <p:sp>
          <p:nvSpPr>
            <p:cNvPr id="246" name=""/>
            <p:cNvSpPr/>
            <p:nvPr/>
          </p:nvSpPr>
          <p:spPr>
            <a:xfrm>
              <a:off x="7086600" y="3048120"/>
              <a:ext cx="685800" cy="99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34320" y="4419360"/>
              <a:ext cx="6858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010280" y="4876200"/>
              <a:ext cx="762120" cy="10666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4200" y="3886200"/>
              <a:ext cx="60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40458c"/>
                  </a:solidFill>
                  <a:latin typeface="Arial"/>
                  <a:ea typeface="Arial"/>
                </a:rPr>
                <a:t>?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791320" y="3504960"/>
            <a:ext cx="1066680" cy="3048120"/>
            <a:chOff x="5791320" y="3504960"/>
            <a:chExt cx="1066680" cy="3048120"/>
          </a:xfrm>
        </p:grpSpPr>
        <p:sp>
          <p:nvSpPr>
            <p:cNvPr id="251" name=""/>
            <p:cNvSpPr/>
            <p:nvPr/>
          </p:nvSpPr>
          <p:spPr>
            <a:xfrm rot="16200000">
              <a:off x="5524560" y="3771720"/>
              <a:ext cx="1600200" cy="1066680"/>
            </a:xfrm>
            <a:prstGeom prst="flowChartManualOperation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Busines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Integrat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5715000" y="5410080"/>
              <a:ext cx="1218960" cy="1066680"/>
            </a:xfrm>
            <a:prstGeom prst="flowChartManualOperation">
              <a:avLst/>
            </a:prstGeom>
            <a:solidFill>
              <a:srgbClr val="cfdbfd"/>
            </a:solidFill>
            <a:ln w="0">
              <a:noFill/>
            </a:ln>
            <a:effectLst>
              <a:outerShdw dist="17819" dir="2700000" blurRad="0" rotWithShape="0">
                <a:srgbClr val="7b82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J2E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.NET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733920" y="5334120"/>
            <a:ext cx="2391480" cy="1219680"/>
            <a:chOff x="3733920" y="5334120"/>
            <a:chExt cx="2391480" cy="1219680"/>
          </a:xfrm>
        </p:grpSpPr>
        <p:sp>
          <p:nvSpPr>
            <p:cNvPr id="254" name=""/>
            <p:cNvSpPr/>
            <p:nvPr/>
          </p:nvSpPr>
          <p:spPr>
            <a:xfrm>
              <a:off x="3733920" y="5791320"/>
              <a:ext cx="2057760" cy="30456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  <a:effectLst>
              <a:outerShdw dist="17819" dir="2700000" blurRad="0" rotWithShape="0">
                <a:srgbClr val="7b82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21400" y="6248520"/>
              <a:ext cx="1069920" cy="30456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  <a:effectLst>
              <a:outerShdw dist="17819" dir="2700000" blurRad="0" rotWithShape="0">
                <a:srgbClr val="7b82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20320" y="575928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Arial"/>
                  <a:ea typeface="Arial"/>
                </a:rPr>
                <a:t>Client / Ser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85560" y="621648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Arial"/>
                  <a:ea typeface="Arial"/>
                </a:rPr>
                <a:t>Web/Portal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91680" y="5334120"/>
              <a:ext cx="0" cy="12189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114800" y="3505320"/>
            <a:ext cx="1676520" cy="1600200"/>
            <a:chOff x="4114800" y="3505320"/>
            <a:chExt cx="1676520" cy="1600200"/>
          </a:xfrm>
        </p:grpSpPr>
        <p:sp>
          <p:nvSpPr>
            <p:cNvPr id="260" name=""/>
            <p:cNvSpPr/>
            <p:nvPr/>
          </p:nvSpPr>
          <p:spPr>
            <a:xfrm>
              <a:off x="4114800" y="3505320"/>
              <a:ext cx="1676520" cy="30456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EA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2880" y="4267080"/>
              <a:ext cx="838440" cy="3049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B2B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520" y="3886200"/>
              <a:ext cx="685800" cy="3049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BP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1480" y="4800600"/>
              <a:ext cx="609840" cy="3049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W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91320" y="3581280"/>
              <a:ext cx="0" cy="144792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657600" y="2819520"/>
            <a:ext cx="32004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Off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11280" y="1789200"/>
            <a:ext cx="8532720" cy="954000"/>
            <a:chOff x="611280" y="1789200"/>
            <a:chExt cx="8532720" cy="954000"/>
          </a:xfrm>
        </p:grpSpPr>
        <p:grpSp>
          <p:nvGrpSpPr>
            <p:cNvPr id="267" name=""/>
            <p:cNvGrpSpPr/>
            <p:nvPr/>
          </p:nvGrpSpPr>
          <p:grpSpPr>
            <a:xfrm>
              <a:off x="611280" y="1789200"/>
              <a:ext cx="8532720" cy="954000"/>
              <a:chOff x="611280" y="1789200"/>
              <a:chExt cx="8532720" cy="9540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914400" y="2170080"/>
                <a:ext cx="8229600" cy="573120"/>
                <a:chOff x="914400" y="2170080"/>
                <a:chExt cx="8229600" cy="573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914400" y="2666880"/>
                  <a:ext cx="8229600" cy="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1374480" y="2170080"/>
                  <a:ext cx="686520" cy="573120"/>
                  <a:chOff x="1374480" y="2170080"/>
                  <a:chExt cx="686520" cy="57312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752480" y="259092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374480" y="2170080"/>
                    <a:ext cx="686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40458c"/>
                        </a:solidFill>
                        <a:latin typeface="Arial"/>
                        <a:ea typeface="Arial"/>
                      </a:rPr>
                      <a:t>1980</a:t>
                    </a:r>
                    <a:endParaRPr b="0" lang="en-US" sz="18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3501720" y="2170080"/>
                  <a:ext cx="686520" cy="573120"/>
                  <a:chOff x="3501720" y="2170080"/>
                  <a:chExt cx="686520" cy="57312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3879720" y="259092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501720" y="2170080"/>
                    <a:ext cx="686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40458c"/>
                        </a:solidFill>
                        <a:latin typeface="Arial"/>
                        <a:ea typeface="Arial"/>
                      </a:rPr>
                      <a:t>1990</a:t>
                    </a:r>
                    <a:endParaRPr b="0" lang="en-US" sz="18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5635080" y="2170080"/>
                  <a:ext cx="686520" cy="573120"/>
                  <a:chOff x="5635080" y="2170080"/>
                  <a:chExt cx="686520" cy="5731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6013080" y="259092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5635080" y="2170080"/>
                    <a:ext cx="686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40458c"/>
                        </a:solidFill>
                        <a:latin typeface="Arial"/>
                        <a:ea typeface="Arial"/>
                      </a:rPr>
                      <a:t>2000</a:t>
                    </a:r>
                    <a:endParaRPr b="0" lang="en-US" sz="18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692480" y="2170080"/>
                  <a:ext cx="686520" cy="573120"/>
                  <a:chOff x="7692480" y="2170080"/>
                  <a:chExt cx="686520" cy="573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8070480" y="259092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692480" y="2170080"/>
                    <a:ext cx="686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40458c"/>
                        </a:solidFill>
                        <a:latin typeface="Arial"/>
                        <a:ea typeface="Arial"/>
                      </a:rPr>
                      <a:t>2010</a:t>
                    </a:r>
                    <a:endParaRPr b="0" lang="en-US" sz="18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2" name=""/>
              <p:cNvSpPr/>
              <p:nvPr/>
            </p:nvSpPr>
            <p:spPr>
              <a:xfrm>
                <a:off x="5029200" y="2133720"/>
                <a:ext cx="0" cy="5331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81440" y="178920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XML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38680" y="2362320"/>
                <a:ext cx="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92440" y="198108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WS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1120" y="2133720"/>
                <a:ext cx="0" cy="5331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43360" y="178920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Web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30600" y="2133720"/>
                <a:ext cx="0" cy="5331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83200" y="178920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LAN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0080" y="2133720"/>
                <a:ext cx="0" cy="5331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1280" y="1789200"/>
                <a:ext cx="101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Interne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705720" y="236232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59480" y="20178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SO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OA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BPM (Business Process Management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A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 opisuje kao mogućnost konstruisanja softverski komponenti koje mogu biti korišćene u kontekstu koji nije poznat u vreme dizaj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PM se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pisuje kao mogućnost preciznog modelovanja i promene konteksta u kojem će komponente preduzeća biti korišće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 rot="1642200">
            <a:off x="2725560" y="3516120"/>
            <a:ext cx="3640320" cy="2286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51360" y="4470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Entit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52560" y="1407960"/>
            <a:ext cx="4952880" cy="3124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BPM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2639880" y="20178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tiv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25680" y="35416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Stanj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73600" y="24750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Dogadjaj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54080" y="54468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kt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7280" y="49896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Sadržaj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59200" y="2119320"/>
            <a:ext cx="1523880" cy="355680"/>
          </a:xfrm>
          <a:custGeom>
            <a:avLst/>
            <a:gdLst/>
            <a:ahLst/>
            <a:rect l="l" t="t" r="r" b="b"/>
            <a:pathLst>
              <a:path w="960" h="224">
                <a:moveTo>
                  <a:pt x="960" y="224"/>
                </a:moveTo>
                <a:cubicBezTo>
                  <a:pt x="800" y="144"/>
                  <a:pt x="640" y="64"/>
                  <a:pt x="480" y="32"/>
                </a:cubicBezTo>
                <a:cubicBezTo>
                  <a:pt x="320" y="0"/>
                  <a:pt x="80" y="32"/>
                  <a:pt x="0" y="32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41480" y="2322360"/>
            <a:ext cx="698400" cy="3124440"/>
          </a:xfrm>
          <a:custGeom>
            <a:avLst/>
            <a:gdLst/>
            <a:ahLst/>
            <a:rect l="l" t="t" r="r" b="b"/>
            <a:pathLst>
              <a:path w="440" h="1968">
                <a:moveTo>
                  <a:pt x="296" y="1968"/>
                </a:moveTo>
                <a:cubicBezTo>
                  <a:pt x="220" y="1904"/>
                  <a:pt x="144" y="1840"/>
                  <a:pt x="104" y="1632"/>
                </a:cubicBezTo>
                <a:cubicBezTo>
                  <a:pt x="64" y="1424"/>
                  <a:pt x="0" y="992"/>
                  <a:pt x="56" y="720"/>
                </a:cubicBezTo>
                <a:cubicBezTo>
                  <a:pt x="112" y="448"/>
                  <a:pt x="276" y="224"/>
                  <a:pt x="440" y="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99440" y="49896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okreć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6240" y="1901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Inici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95560" y="2703600"/>
            <a:ext cx="330120" cy="1143000"/>
          </a:xfrm>
          <a:custGeom>
            <a:avLst/>
            <a:gdLst/>
            <a:ahLst/>
            <a:rect l="l" t="t" r="r" b="b"/>
            <a:pathLst>
              <a:path w="208" h="720">
                <a:moveTo>
                  <a:pt x="112" y="0"/>
                </a:moveTo>
                <a:cubicBezTo>
                  <a:pt x="56" y="108"/>
                  <a:pt x="0" y="216"/>
                  <a:pt x="16" y="336"/>
                </a:cubicBezTo>
                <a:cubicBezTo>
                  <a:pt x="32" y="456"/>
                  <a:pt x="120" y="588"/>
                  <a:pt x="208" y="72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75000" y="2703600"/>
            <a:ext cx="2222280" cy="2438280"/>
          </a:xfrm>
          <a:custGeom>
            <a:avLst/>
            <a:gdLst/>
            <a:ahLst/>
            <a:rect l="l" t="t" r="r" b="b"/>
            <a:pathLst>
              <a:path w="1400" h="1536">
                <a:moveTo>
                  <a:pt x="440" y="0"/>
                </a:moveTo>
                <a:cubicBezTo>
                  <a:pt x="340" y="108"/>
                  <a:pt x="240" y="216"/>
                  <a:pt x="200" y="384"/>
                </a:cubicBezTo>
                <a:cubicBezTo>
                  <a:pt x="160" y="552"/>
                  <a:pt x="0" y="816"/>
                  <a:pt x="200" y="1008"/>
                </a:cubicBezTo>
                <a:cubicBezTo>
                  <a:pt x="400" y="1200"/>
                  <a:pt x="900" y="1368"/>
                  <a:pt x="1400" y="1536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23640" y="2779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men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21120" y="2703600"/>
            <a:ext cx="5079960" cy="3504960"/>
          </a:xfrm>
          <a:custGeom>
            <a:avLst/>
            <a:gdLst/>
            <a:ahLst/>
            <a:rect l="l" t="t" r="r" b="b"/>
            <a:pathLst>
              <a:path w="3200" h="2208">
                <a:moveTo>
                  <a:pt x="96" y="2064"/>
                </a:moveTo>
                <a:cubicBezTo>
                  <a:pt x="48" y="2052"/>
                  <a:pt x="0" y="2040"/>
                  <a:pt x="192" y="2064"/>
                </a:cubicBezTo>
                <a:cubicBezTo>
                  <a:pt x="384" y="2088"/>
                  <a:pt x="888" y="2208"/>
                  <a:pt x="1248" y="2208"/>
                </a:cubicBezTo>
                <a:cubicBezTo>
                  <a:pt x="1608" y="2208"/>
                  <a:pt x="2072" y="2192"/>
                  <a:pt x="2352" y="2064"/>
                </a:cubicBezTo>
                <a:cubicBezTo>
                  <a:pt x="2632" y="1936"/>
                  <a:pt x="2816" y="1688"/>
                  <a:pt x="2928" y="1440"/>
                </a:cubicBezTo>
                <a:cubicBezTo>
                  <a:pt x="3040" y="1192"/>
                  <a:pt x="3200" y="816"/>
                  <a:pt x="3024" y="576"/>
                </a:cubicBezTo>
                <a:cubicBezTo>
                  <a:pt x="2848" y="336"/>
                  <a:pt x="2360" y="168"/>
                  <a:pt x="1872" y="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37280" y="57513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generiš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8680" y="605628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rvi</a:t>
            </a: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47640" y="613260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0"/>
                </a:moveTo>
                <a:cubicBezTo>
                  <a:pt x="792" y="16"/>
                  <a:pt x="768" y="32"/>
                  <a:pt x="720" y="48"/>
                </a:cubicBezTo>
                <a:cubicBezTo>
                  <a:pt x="672" y="64"/>
                  <a:pt x="648" y="80"/>
                  <a:pt x="528" y="96"/>
                </a:cubicBezTo>
                <a:cubicBezTo>
                  <a:pt x="408" y="112"/>
                  <a:pt x="204" y="128"/>
                  <a:pt x="0" y="144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27560" y="63612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redstavljen ka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Kako se posmatra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PM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u SOA zajednic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va pristupa u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P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Zasnovan na događaj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BPML, BPEL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Pi-Calculus (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takođe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Event Calculus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Orijentisan ka aktivnost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WfMC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Petrijeve mreže (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Petri nets</a:t>
            </a:r>
            <a:r>
              <a:rPr b="0" lang="sr-Latn-CS" sz="2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700" spc="-1" strike="noStrike">
                <a:solidFill>
                  <a:srgbClr val="660066"/>
                </a:solidFill>
                <a:latin typeface="Tahoma"/>
              </a:rPr>
              <a:t>Komponente postaju servisi koji se izvršavaju izvan granica potrošača</a:t>
            </a:r>
            <a:endParaRPr b="0" lang="en-US" sz="37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205280" y="4397400"/>
            <a:ext cx="3910680" cy="1852560"/>
            <a:chOff x="1205280" y="4397400"/>
            <a:chExt cx="3910680" cy="1852560"/>
          </a:xfrm>
        </p:grpSpPr>
        <p:sp>
          <p:nvSpPr>
            <p:cNvPr id="321" name=""/>
            <p:cNvSpPr/>
            <p:nvPr/>
          </p:nvSpPr>
          <p:spPr>
            <a:xfrm>
              <a:off x="1219320" y="4397400"/>
              <a:ext cx="685800" cy="13716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7080" y="4397400"/>
              <a:ext cx="685800" cy="13716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3200" y="4397400"/>
              <a:ext cx="685800" cy="13716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71600" y="5083200"/>
              <a:ext cx="380880" cy="609480"/>
            </a:xfrm>
            <a:prstGeom prst="can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  <a:ea typeface="Arial"/>
                </a:rPr>
                <a:t>DB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5280" y="4473720"/>
              <a:ext cx="533520" cy="30456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66960 h 304560"/>
                <a:gd name="textAreaBottom" fmla="*/ 237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  <a:ea typeface="Arial"/>
                </a:rPr>
                <a:t>CCI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19520" y="4473720"/>
              <a:ext cx="533160" cy="30456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66960 h 304560"/>
                <a:gd name="textAreaBottom" fmla="*/ 237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  <a:ea typeface="Arial"/>
                </a:rPr>
                <a:t>CCI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43400" y="4473720"/>
              <a:ext cx="533520" cy="30456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66960 h 304560"/>
                <a:gd name="textAreaBottom" fmla="*/ 237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  <a:ea typeface="Arial"/>
                </a:rPr>
                <a:t>CCI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5480" y="5083200"/>
              <a:ext cx="457200" cy="60948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Arial"/>
                  <a:ea typeface="Arial"/>
                </a:rPr>
                <a:t>ERP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720" y="5083200"/>
              <a:ext cx="457200" cy="60948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Arial"/>
                  <a:ea typeface="Arial"/>
                </a:rPr>
                <a:t>CRM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23880" y="47782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24080" y="4778280"/>
              <a:ext cx="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4778280"/>
              <a:ext cx="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05280" y="5881680"/>
              <a:ext cx="8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ervi</a:t>
              </a: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5360" y="58593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erv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1280" y="58593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erv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952880" y="2514600"/>
            <a:ext cx="2971800" cy="2209320"/>
            <a:chOff x="4952880" y="2514600"/>
            <a:chExt cx="2971800" cy="2209320"/>
          </a:xfrm>
        </p:grpSpPr>
        <p:sp>
          <p:nvSpPr>
            <p:cNvPr id="337" name=""/>
            <p:cNvSpPr/>
            <p:nvPr/>
          </p:nvSpPr>
          <p:spPr>
            <a:xfrm>
              <a:off x="6400800" y="2514600"/>
              <a:ext cx="1523880" cy="121932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Regis</a:t>
              </a: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ta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952880" y="3733560"/>
              <a:ext cx="1447920" cy="99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0080" y="40384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93840" y="4343400"/>
              <a:ext cx="99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regis</a:t>
              </a: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truj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187280" y="1700280"/>
            <a:ext cx="3962520" cy="7617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40458c"/>
                </a:solidFill>
                <a:latin typeface="Arial"/>
              </a:rPr>
              <a:t>Potrošač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40458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40458c"/>
                </a:solidFill>
                <a:latin typeface="Arial"/>
              </a:rPr>
              <a:t>Consumer</a:t>
            </a:r>
            <a:r>
              <a:rPr b="1" i="1" lang="sr-Latn-CS" sz="1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4960" y="2438280"/>
            <a:ext cx="4650120" cy="1982880"/>
            <a:chOff x="534960" y="2438280"/>
            <a:chExt cx="4650120" cy="1982880"/>
          </a:xfrm>
        </p:grpSpPr>
        <p:sp>
          <p:nvSpPr>
            <p:cNvPr id="343" name=""/>
            <p:cNvSpPr/>
            <p:nvPr/>
          </p:nvSpPr>
          <p:spPr>
            <a:xfrm>
              <a:off x="1219320" y="3635280"/>
              <a:ext cx="30456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43200" y="3635280"/>
              <a:ext cx="30492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3635280"/>
              <a:ext cx="30492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4960" y="405288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OA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5160" y="405288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OA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16280" y="405288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SOA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" y="297180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6000" y="297180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09880" y="297180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218960" y="2438280"/>
              <a:ext cx="1143000" cy="533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819160" y="2438280"/>
              <a:ext cx="152280" cy="533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9000" y="2438280"/>
              <a:ext cx="914400" cy="533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33920" y="2514600"/>
              <a:ext cx="380880" cy="380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3640" y="251460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pokreć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181480" y="1789200"/>
            <a:ext cx="2364480" cy="1487520"/>
            <a:chOff x="5181480" y="1789200"/>
            <a:chExt cx="2364480" cy="1487520"/>
          </a:xfrm>
        </p:grpSpPr>
        <p:sp>
          <p:nvSpPr>
            <p:cNvPr id="358" name=""/>
            <p:cNvSpPr/>
            <p:nvPr/>
          </p:nvSpPr>
          <p:spPr>
            <a:xfrm>
              <a:off x="5181480" y="2133720"/>
              <a:ext cx="1447920" cy="457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22096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90720" y="1789200"/>
              <a:ext cx="205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Pronađi i-ili Povež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2590920"/>
              <a:ext cx="1066680" cy="68580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Pravil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458c"/>
                  </a:solidFill>
                  <a:latin typeface="Arial"/>
                </a:rPr>
                <a:t>Polici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71720" y="6408720"/>
            <a:ext cx="30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CCI: Client Communication Interfac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formation Entities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SO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arakteristike entiteta u S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1676520" y="3200400"/>
            <a:ext cx="1447560" cy="1828800"/>
          </a:xfrm>
          <a:prstGeom prst="rect">
            <a:avLst/>
          </a:prstGeom>
          <a:solidFill>
            <a:srgbClr val="ecd882"/>
          </a:solidFill>
          <a:ln w="0">
            <a:noFill/>
          </a:ln>
          <a:effectLst>
            <a:outerShdw dist="17819" dir="2700000" blurRad="0" rotWithShape="0">
              <a:srgbClr val="8d81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124080" y="2819520"/>
            <a:ext cx="2438640" cy="533160"/>
            <a:chOff x="3124080" y="2819520"/>
            <a:chExt cx="2438640" cy="533160"/>
          </a:xfrm>
        </p:grpSpPr>
        <p:sp>
          <p:nvSpPr>
            <p:cNvPr id="367" name=""/>
            <p:cNvSpPr/>
            <p:nvPr/>
          </p:nvSpPr>
          <p:spPr>
            <a:xfrm>
              <a:off x="3886200" y="2819520"/>
              <a:ext cx="16765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Identifikacij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40458c"/>
                  </a:solidFill>
                  <a:latin typeface="Arial"/>
                </a:rPr>
                <a:t>Identit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124080" y="3048120"/>
              <a:ext cx="76212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132000" y="3429000"/>
            <a:ext cx="2743200" cy="457200"/>
            <a:chOff x="3132000" y="3429000"/>
            <a:chExt cx="2743200" cy="457200"/>
          </a:xfrm>
        </p:grpSpPr>
        <p:sp>
          <p:nvSpPr>
            <p:cNvPr id="370" name=""/>
            <p:cNvSpPr/>
            <p:nvPr/>
          </p:nvSpPr>
          <p:spPr>
            <a:xfrm>
              <a:off x="4199040" y="3429000"/>
              <a:ext cx="1676160" cy="45720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Sadržaj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40458c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32000" y="3657600"/>
              <a:ext cx="1067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132000" y="4005360"/>
            <a:ext cx="2667240" cy="457200"/>
            <a:chOff x="3132000" y="4005360"/>
            <a:chExt cx="2667240" cy="457200"/>
          </a:xfrm>
        </p:grpSpPr>
        <p:sp>
          <p:nvSpPr>
            <p:cNvPr id="373" name=""/>
            <p:cNvSpPr/>
            <p:nvPr/>
          </p:nvSpPr>
          <p:spPr>
            <a:xfrm>
              <a:off x="4122720" y="4005360"/>
              <a:ext cx="167652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Stanj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rial"/>
                </a:rPr>
                <a:t>Stat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32000" y="4158000"/>
              <a:ext cx="990720" cy="75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124080" y="4648320"/>
            <a:ext cx="2438640" cy="457200"/>
            <a:chOff x="3124080" y="4648320"/>
            <a:chExt cx="2438640" cy="457200"/>
          </a:xfrm>
        </p:grpSpPr>
        <p:sp>
          <p:nvSpPr>
            <p:cNvPr id="376" name=""/>
            <p:cNvSpPr/>
            <p:nvPr/>
          </p:nvSpPr>
          <p:spPr>
            <a:xfrm>
              <a:off x="3886200" y="4648320"/>
              <a:ext cx="1676520" cy="45720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40458c"/>
                  </a:solidFill>
                  <a:latin typeface="Arial"/>
                </a:rPr>
                <a:t>Lokacij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rial"/>
                </a:rPr>
                <a:t>Location(s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24080" y="4648320"/>
              <a:ext cx="76212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124080" y="4800600"/>
            <a:ext cx="2133720" cy="914400"/>
            <a:chOff x="3124080" y="4800600"/>
            <a:chExt cx="2133720" cy="914400"/>
          </a:xfrm>
        </p:grpSpPr>
        <p:sp>
          <p:nvSpPr>
            <p:cNvPr id="379" name=""/>
            <p:cNvSpPr/>
            <p:nvPr/>
          </p:nvSpPr>
          <p:spPr>
            <a:xfrm>
              <a:off x="3581280" y="5257800"/>
              <a:ext cx="1676520" cy="45720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Replikacij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licatio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24080" y="480060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843280" y="5805360"/>
            <a:ext cx="1676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Arial"/>
              </a:rPr>
              <a:t>Privat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</a:rPr>
              <a:t>Privac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590920" y="5029200"/>
            <a:ext cx="45720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40000" y="4581360"/>
            <a:ext cx="5327280" cy="1981440"/>
            <a:chOff x="2340000" y="4581360"/>
            <a:chExt cx="5327280" cy="1981440"/>
          </a:xfrm>
        </p:grpSpPr>
        <p:sp>
          <p:nvSpPr>
            <p:cNvPr id="384" name=""/>
            <p:cNvSpPr/>
            <p:nvPr/>
          </p:nvSpPr>
          <p:spPr>
            <a:xfrm>
              <a:off x="2340000" y="4581360"/>
              <a:ext cx="5220360" cy="198144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49840" y="5315040"/>
              <a:ext cx="11174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40458c"/>
                  </a:solidFill>
                  <a:latin typeface="Arial"/>
                </a:rPr>
                <a:t>Specifičn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40458c"/>
                  </a:solidFill>
                  <a:latin typeface="Arial"/>
                </a:rPr>
                <a:t>za</a:t>
              </a:r>
              <a:r>
                <a:rPr b="1" lang="en-US" sz="1600" spc="-1" strike="noStrike">
                  <a:solidFill>
                    <a:srgbClr val="40458c"/>
                  </a:solidFill>
                  <a:latin typeface="Arial"/>
                </a:rPr>
                <a:t> SO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300" spc="-1" strike="noStrike">
                <a:solidFill>
                  <a:srgbClr val="660066"/>
                </a:solidFill>
                <a:latin typeface="Tahoma"/>
              </a:rPr>
              <a:t>Poslovni proces može se posmatrati kao više akterska koreografija servis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802480" y="259092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</a:rPr>
              <a:t>Aktivnos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40458c"/>
                </a:solidFill>
                <a:latin typeface="Arial"/>
              </a:rPr>
              <a:t>Korisnik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53200" y="2268360"/>
            <a:ext cx="9720" cy="3048120"/>
          </a:xfrm>
          <a:custGeom>
            <a:avLst/>
            <a:gdLst/>
            <a:ahLst/>
            <a:rect l="l" t="t" r="r" b="b"/>
            <a:pathLst>
              <a:path w="6" h="1920">
                <a:moveTo>
                  <a:pt x="6" y="5"/>
                </a:moveTo>
                <a:lnTo>
                  <a:pt x="6" y="24"/>
                </a:lnTo>
                <a:lnTo>
                  <a:pt x="6" y="26"/>
                </a:lnTo>
                <a:lnTo>
                  <a:pt x="6" y="26"/>
                </a:lnTo>
                <a:lnTo>
                  <a:pt x="4" y="26"/>
                </a:lnTo>
                <a:lnTo>
                  <a:pt x="4" y="28"/>
                </a:lnTo>
                <a:lnTo>
                  <a:pt x="2" y="26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6" y="0"/>
                </a:lnTo>
                <a:lnTo>
                  <a:pt x="6" y="3"/>
                </a:lnTo>
                <a:lnTo>
                  <a:pt x="6" y="5"/>
                </a:lnTo>
                <a:lnTo>
                  <a:pt x="6" y="5"/>
                </a:lnTo>
                <a:close/>
                <a:moveTo>
                  <a:pt x="6" y="49"/>
                </a:moveTo>
                <a:lnTo>
                  <a:pt x="6" y="71"/>
                </a:lnTo>
                <a:lnTo>
                  <a:pt x="6" y="71"/>
                </a:lnTo>
                <a:lnTo>
                  <a:pt x="6" y="73"/>
                </a:lnTo>
                <a:lnTo>
                  <a:pt x="4" y="73"/>
                </a:lnTo>
                <a:lnTo>
                  <a:pt x="4" y="73"/>
                </a:lnTo>
                <a:lnTo>
                  <a:pt x="2" y="73"/>
                </a:lnTo>
                <a:lnTo>
                  <a:pt x="0" y="73"/>
                </a:lnTo>
                <a:lnTo>
                  <a:pt x="0" y="71"/>
                </a:lnTo>
                <a:lnTo>
                  <a:pt x="0" y="71"/>
                </a:lnTo>
                <a:lnTo>
                  <a:pt x="0" y="49"/>
                </a:lnTo>
                <a:lnTo>
                  <a:pt x="0" y="49"/>
                </a:lnTo>
                <a:lnTo>
                  <a:pt x="0" y="47"/>
                </a:lnTo>
                <a:lnTo>
                  <a:pt x="2" y="47"/>
                </a:lnTo>
                <a:lnTo>
                  <a:pt x="4" y="47"/>
                </a:lnTo>
                <a:lnTo>
                  <a:pt x="4" y="47"/>
                </a:lnTo>
                <a:lnTo>
                  <a:pt x="6" y="47"/>
                </a:lnTo>
                <a:lnTo>
                  <a:pt x="6" y="49"/>
                </a:lnTo>
                <a:lnTo>
                  <a:pt x="6" y="49"/>
                </a:lnTo>
                <a:lnTo>
                  <a:pt x="6" y="49"/>
                </a:lnTo>
                <a:close/>
                <a:moveTo>
                  <a:pt x="6" y="96"/>
                </a:moveTo>
                <a:lnTo>
                  <a:pt x="6" y="118"/>
                </a:lnTo>
                <a:lnTo>
                  <a:pt x="6" y="118"/>
                </a:lnTo>
                <a:lnTo>
                  <a:pt x="6" y="120"/>
                </a:lnTo>
                <a:lnTo>
                  <a:pt x="4" y="120"/>
                </a:lnTo>
                <a:lnTo>
                  <a:pt x="4" y="120"/>
                </a:lnTo>
                <a:lnTo>
                  <a:pt x="2" y="120"/>
                </a:lnTo>
                <a:lnTo>
                  <a:pt x="0" y="120"/>
                </a:lnTo>
                <a:lnTo>
                  <a:pt x="0" y="118"/>
                </a:lnTo>
                <a:lnTo>
                  <a:pt x="0" y="118"/>
                </a:lnTo>
                <a:lnTo>
                  <a:pt x="0" y="96"/>
                </a:lnTo>
                <a:lnTo>
                  <a:pt x="0" y="96"/>
                </a:lnTo>
                <a:lnTo>
                  <a:pt x="0" y="94"/>
                </a:lnTo>
                <a:lnTo>
                  <a:pt x="2" y="94"/>
                </a:lnTo>
                <a:lnTo>
                  <a:pt x="4" y="94"/>
                </a:lnTo>
                <a:lnTo>
                  <a:pt x="4" y="94"/>
                </a:lnTo>
                <a:lnTo>
                  <a:pt x="6" y="94"/>
                </a:lnTo>
                <a:lnTo>
                  <a:pt x="6" y="96"/>
                </a:lnTo>
                <a:lnTo>
                  <a:pt x="6" y="96"/>
                </a:lnTo>
                <a:lnTo>
                  <a:pt x="6" y="96"/>
                </a:lnTo>
                <a:close/>
                <a:moveTo>
                  <a:pt x="6" y="143"/>
                </a:moveTo>
                <a:lnTo>
                  <a:pt x="6" y="164"/>
                </a:lnTo>
                <a:lnTo>
                  <a:pt x="6" y="164"/>
                </a:lnTo>
                <a:lnTo>
                  <a:pt x="6" y="166"/>
                </a:lnTo>
                <a:lnTo>
                  <a:pt x="4" y="166"/>
                </a:lnTo>
                <a:lnTo>
                  <a:pt x="4" y="166"/>
                </a:lnTo>
                <a:lnTo>
                  <a:pt x="2" y="166"/>
                </a:lnTo>
                <a:lnTo>
                  <a:pt x="0" y="166"/>
                </a:lnTo>
                <a:lnTo>
                  <a:pt x="0" y="164"/>
                </a:lnTo>
                <a:lnTo>
                  <a:pt x="0" y="164"/>
                </a:lnTo>
                <a:lnTo>
                  <a:pt x="0" y="143"/>
                </a:lnTo>
                <a:lnTo>
                  <a:pt x="0" y="143"/>
                </a:lnTo>
                <a:lnTo>
                  <a:pt x="0" y="141"/>
                </a:lnTo>
                <a:lnTo>
                  <a:pt x="2" y="141"/>
                </a:lnTo>
                <a:lnTo>
                  <a:pt x="4" y="141"/>
                </a:lnTo>
                <a:lnTo>
                  <a:pt x="4" y="141"/>
                </a:lnTo>
                <a:lnTo>
                  <a:pt x="6" y="141"/>
                </a:lnTo>
                <a:lnTo>
                  <a:pt x="6" y="143"/>
                </a:lnTo>
                <a:lnTo>
                  <a:pt x="6" y="143"/>
                </a:lnTo>
                <a:lnTo>
                  <a:pt x="6" y="143"/>
                </a:lnTo>
                <a:close/>
                <a:moveTo>
                  <a:pt x="6" y="190"/>
                </a:moveTo>
                <a:lnTo>
                  <a:pt x="6" y="209"/>
                </a:lnTo>
                <a:lnTo>
                  <a:pt x="6" y="211"/>
                </a:lnTo>
                <a:lnTo>
                  <a:pt x="6" y="213"/>
                </a:lnTo>
                <a:lnTo>
                  <a:pt x="4" y="213"/>
                </a:lnTo>
                <a:lnTo>
                  <a:pt x="4" y="213"/>
                </a:lnTo>
                <a:lnTo>
                  <a:pt x="2" y="213"/>
                </a:lnTo>
                <a:lnTo>
                  <a:pt x="0" y="213"/>
                </a:lnTo>
                <a:lnTo>
                  <a:pt x="0" y="211"/>
                </a:lnTo>
                <a:lnTo>
                  <a:pt x="0" y="209"/>
                </a:lnTo>
                <a:lnTo>
                  <a:pt x="0" y="190"/>
                </a:lnTo>
                <a:lnTo>
                  <a:pt x="0" y="188"/>
                </a:lnTo>
                <a:lnTo>
                  <a:pt x="0" y="188"/>
                </a:lnTo>
                <a:lnTo>
                  <a:pt x="2" y="188"/>
                </a:lnTo>
                <a:lnTo>
                  <a:pt x="4" y="188"/>
                </a:lnTo>
                <a:lnTo>
                  <a:pt x="4" y="188"/>
                </a:lnTo>
                <a:lnTo>
                  <a:pt x="6" y="188"/>
                </a:lnTo>
                <a:lnTo>
                  <a:pt x="6" y="188"/>
                </a:lnTo>
                <a:lnTo>
                  <a:pt x="6" y="190"/>
                </a:lnTo>
                <a:lnTo>
                  <a:pt x="6" y="190"/>
                </a:lnTo>
                <a:close/>
                <a:moveTo>
                  <a:pt x="6" y="237"/>
                </a:moveTo>
                <a:lnTo>
                  <a:pt x="6" y="256"/>
                </a:lnTo>
                <a:lnTo>
                  <a:pt x="6" y="258"/>
                </a:lnTo>
                <a:lnTo>
                  <a:pt x="6" y="258"/>
                </a:lnTo>
                <a:lnTo>
                  <a:pt x="4" y="260"/>
                </a:lnTo>
                <a:lnTo>
                  <a:pt x="4" y="260"/>
                </a:lnTo>
                <a:lnTo>
                  <a:pt x="2" y="260"/>
                </a:lnTo>
                <a:lnTo>
                  <a:pt x="0" y="258"/>
                </a:lnTo>
                <a:lnTo>
                  <a:pt x="0" y="258"/>
                </a:lnTo>
                <a:lnTo>
                  <a:pt x="0" y="256"/>
                </a:lnTo>
                <a:lnTo>
                  <a:pt x="0" y="237"/>
                </a:lnTo>
                <a:lnTo>
                  <a:pt x="0" y="235"/>
                </a:lnTo>
                <a:lnTo>
                  <a:pt x="0" y="235"/>
                </a:lnTo>
                <a:lnTo>
                  <a:pt x="2" y="235"/>
                </a:lnTo>
                <a:lnTo>
                  <a:pt x="4" y="232"/>
                </a:lnTo>
                <a:lnTo>
                  <a:pt x="4" y="235"/>
                </a:lnTo>
                <a:lnTo>
                  <a:pt x="6" y="235"/>
                </a:lnTo>
                <a:lnTo>
                  <a:pt x="6" y="235"/>
                </a:lnTo>
                <a:lnTo>
                  <a:pt x="6" y="237"/>
                </a:lnTo>
                <a:lnTo>
                  <a:pt x="6" y="237"/>
                </a:lnTo>
                <a:close/>
                <a:moveTo>
                  <a:pt x="6" y="284"/>
                </a:moveTo>
                <a:lnTo>
                  <a:pt x="6" y="303"/>
                </a:lnTo>
                <a:lnTo>
                  <a:pt x="6" y="305"/>
                </a:lnTo>
                <a:lnTo>
                  <a:pt x="6" y="305"/>
                </a:lnTo>
                <a:lnTo>
                  <a:pt x="4" y="307"/>
                </a:lnTo>
                <a:lnTo>
                  <a:pt x="4" y="307"/>
                </a:lnTo>
                <a:lnTo>
                  <a:pt x="2" y="307"/>
                </a:lnTo>
                <a:lnTo>
                  <a:pt x="0" y="305"/>
                </a:lnTo>
                <a:lnTo>
                  <a:pt x="0" y="305"/>
                </a:lnTo>
                <a:lnTo>
                  <a:pt x="0" y="303"/>
                </a:lnTo>
                <a:lnTo>
                  <a:pt x="0" y="284"/>
                </a:lnTo>
                <a:lnTo>
                  <a:pt x="0" y="281"/>
                </a:lnTo>
                <a:lnTo>
                  <a:pt x="0" y="281"/>
                </a:lnTo>
                <a:lnTo>
                  <a:pt x="2" y="279"/>
                </a:lnTo>
                <a:lnTo>
                  <a:pt x="4" y="279"/>
                </a:lnTo>
                <a:lnTo>
                  <a:pt x="4" y="279"/>
                </a:lnTo>
                <a:lnTo>
                  <a:pt x="6" y="281"/>
                </a:lnTo>
                <a:lnTo>
                  <a:pt x="6" y="281"/>
                </a:lnTo>
                <a:lnTo>
                  <a:pt x="6" y="284"/>
                </a:lnTo>
                <a:lnTo>
                  <a:pt x="6" y="284"/>
                </a:lnTo>
                <a:close/>
                <a:moveTo>
                  <a:pt x="6" y="330"/>
                </a:moveTo>
                <a:lnTo>
                  <a:pt x="6" y="350"/>
                </a:lnTo>
                <a:lnTo>
                  <a:pt x="6" y="352"/>
                </a:lnTo>
                <a:lnTo>
                  <a:pt x="6" y="352"/>
                </a:lnTo>
                <a:lnTo>
                  <a:pt x="4" y="354"/>
                </a:lnTo>
                <a:lnTo>
                  <a:pt x="4" y="354"/>
                </a:lnTo>
                <a:lnTo>
                  <a:pt x="2" y="354"/>
                </a:lnTo>
                <a:lnTo>
                  <a:pt x="0" y="352"/>
                </a:lnTo>
                <a:lnTo>
                  <a:pt x="0" y="352"/>
                </a:lnTo>
                <a:lnTo>
                  <a:pt x="0" y="350"/>
                </a:lnTo>
                <a:lnTo>
                  <a:pt x="0" y="330"/>
                </a:lnTo>
                <a:lnTo>
                  <a:pt x="0" y="328"/>
                </a:lnTo>
                <a:lnTo>
                  <a:pt x="0" y="328"/>
                </a:lnTo>
                <a:lnTo>
                  <a:pt x="2" y="326"/>
                </a:lnTo>
                <a:lnTo>
                  <a:pt x="4" y="326"/>
                </a:lnTo>
                <a:lnTo>
                  <a:pt x="4" y="326"/>
                </a:lnTo>
                <a:lnTo>
                  <a:pt x="6" y="328"/>
                </a:lnTo>
                <a:lnTo>
                  <a:pt x="6" y="328"/>
                </a:lnTo>
                <a:lnTo>
                  <a:pt x="6" y="330"/>
                </a:lnTo>
                <a:lnTo>
                  <a:pt x="6" y="330"/>
                </a:lnTo>
                <a:close/>
                <a:moveTo>
                  <a:pt x="6" y="377"/>
                </a:moveTo>
                <a:lnTo>
                  <a:pt x="6" y="396"/>
                </a:lnTo>
                <a:lnTo>
                  <a:pt x="6" y="399"/>
                </a:lnTo>
                <a:lnTo>
                  <a:pt x="6" y="399"/>
                </a:lnTo>
                <a:lnTo>
                  <a:pt x="4" y="399"/>
                </a:lnTo>
                <a:lnTo>
                  <a:pt x="4" y="401"/>
                </a:lnTo>
                <a:lnTo>
                  <a:pt x="2" y="399"/>
                </a:lnTo>
                <a:lnTo>
                  <a:pt x="0" y="399"/>
                </a:lnTo>
                <a:lnTo>
                  <a:pt x="0" y="399"/>
                </a:lnTo>
                <a:lnTo>
                  <a:pt x="0" y="396"/>
                </a:lnTo>
                <a:lnTo>
                  <a:pt x="0" y="377"/>
                </a:lnTo>
                <a:lnTo>
                  <a:pt x="0" y="375"/>
                </a:lnTo>
                <a:lnTo>
                  <a:pt x="0" y="373"/>
                </a:lnTo>
                <a:lnTo>
                  <a:pt x="2" y="373"/>
                </a:lnTo>
                <a:lnTo>
                  <a:pt x="4" y="373"/>
                </a:lnTo>
                <a:lnTo>
                  <a:pt x="4" y="373"/>
                </a:lnTo>
                <a:lnTo>
                  <a:pt x="6" y="373"/>
                </a:lnTo>
                <a:lnTo>
                  <a:pt x="6" y="375"/>
                </a:lnTo>
                <a:lnTo>
                  <a:pt x="6" y="377"/>
                </a:lnTo>
                <a:lnTo>
                  <a:pt x="6" y="377"/>
                </a:lnTo>
                <a:close/>
                <a:moveTo>
                  <a:pt x="6" y="422"/>
                </a:moveTo>
                <a:lnTo>
                  <a:pt x="6" y="443"/>
                </a:lnTo>
                <a:lnTo>
                  <a:pt x="6" y="443"/>
                </a:lnTo>
                <a:lnTo>
                  <a:pt x="6" y="445"/>
                </a:lnTo>
                <a:lnTo>
                  <a:pt x="4" y="445"/>
                </a:lnTo>
                <a:lnTo>
                  <a:pt x="4" y="445"/>
                </a:lnTo>
                <a:lnTo>
                  <a:pt x="2" y="445"/>
                </a:lnTo>
                <a:lnTo>
                  <a:pt x="0" y="445"/>
                </a:lnTo>
                <a:lnTo>
                  <a:pt x="0" y="443"/>
                </a:lnTo>
                <a:lnTo>
                  <a:pt x="0" y="443"/>
                </a:lnTo>
                <a:lnTo>
                  <a:pt x="0" y="422"/>
                </a:lnTo>
                <a:lnTo>
                  <a:pt x="0" y="422"/>
                </a:lnTo>
                <a:lnTo>
                  <a:pt x="0" y="420"/>
                </a:lnTo>
                <a:lnTo>
                  <a:pt x="2" y="420"/>
                </a:lnTo>
                <a:lnTo>
                  <a:pt x="4" y="420"/>
                </a:lnTo>
                <a:lnTo>
                  <a:pt x="4" y="420"/>
                </a:lnTo>
                <a:lnTo>
                  <a:pt x="6" y="420"/>
                </a:lnTo>
                <a:lnTo>
                  <a:pt x="6" y="422"/>
                </a:lnTo>
                <a:lnTo>
                  <a:pt x="6" y="422"/>
                </a:lnTo>
                <a:lnTo>
                  <a:pt x="6" y="422"/>
                </a:lnTo>
                <a:close/>
                <a:moveTo>
                  <a:pt x="6" y="469"/>
                </a:moveTo>
                <a:lnTo>
                  <a:pt x="6" y="490"/>
                </a:lnTo>
                <a:lnTo>
                  <a:pt x="6" y="490"/>
                </a:lnTo>
                <a:lnTo>
                  <a:pt x="6" y="492"/>
                </a:lnTo>
                <a:lnTo>
                  <a:pt x="4" y="492"/>
                </a:lnTo>
                <a:lnTo>
                  <a:pt x="4" y="492"/>
                </a:lnTo>
                <a:lnTo>
                  <a:pt x="2" y="492"/>
                </a:lnTo>
                <a:lnTo>
                  <a:pt x="0" y="492"/>
                </a:lnTo>
                <a:lnTo>
                  <a:pt x="0" y="490"/>
                </a:lnTo>
                <a:lnTo>
                  <a:pt x="0" y="490"/>
                </a:lnTo>
                <a:lnTo>
                  <a:pt x="0" y="469"/>
                </a:lnTo>
                <a:lnTo>
                  <a:pt x="0" y="469"/>
                </a:lnTo>
                <a:lnTo>
                  <a:pt x="0" y="467"/>
                </a:lnTo>
                <a:lnTo>
                  <a:pt x="2" y="467"/>
                </a:lnTo>
                <a:lnTo>
                  <a:pt x="4" y="467"/>
                </a:lnTo>
                <a:lnTo>
                  <a:pt x="4" y="467"/>
                </a:lnTo>
                <a:lnTo>
                  <a:pt x="6" y="467"/>
                </a:lnTo>
                <a:lnTo>
                  <a:pt x="6" y="469"/>
                </a:lnTo>
                <a:lnTo>
                  <a:pt x="6" y="469"/>
                </a:lnTo>
                <a:lnTo>
                  <a:pt x="6" y="469"/>
                </a:lnTo>
                <a:close/>
                <a:moveTo>
                  <a:pt x="6" y="516"/>
                </a:moveTo>
                <a:lnTo>
                  <a:pt x="6" y="537"/>
                </a:lnTo>
                <a:lnTo>
                  <a:pt x="6" y="537"/>
                </a:lnTo>
                <a:lnTo>
                  <a:pt x="6" y="539"/>
                </a:lnTo>
                <a:lnTo>
                  <a:pt x="4" y="539"/>
                </a:lnTo>
                <a:lnTo>
                  <a:pt x="4" y="539"/>
                </a:lnTo>
                <a:lnTo>
                  <a:pt x="2" y="539"/>
                </a:lnTo>
                <a:lnTo>
                  <a:pt x="0" y="539"/>
                </a:lnTo>
                <a:lnTo>
                  <a:pt x="0" y="537"/>
                </a:lnTo>
                <a:lnTo>
                  <a:pt x="0" y="537"/>
                </a:lnTo>
                <a:lnTo>
                  <a:pt x="0" y="516"/>
                </a:lnTo>
                <a:lnTo>
                  <a:pt x="0" y="516"/>
                </a:lnTo>
                <a:lnTo>
                  <a:pt x="0" y="513"/>
                </a:lnTo>
                <a:lnTo>
                  <a:pt x="2" y="513"/>
                </a:lnTo>
                <a:lnTo>
                  <a:pt x="4" y="513"/>
                </a:lnTo>
                <a:lnTo>
                  <a:pt x="4" y="513"/>
                </a:lnTo>
                <a:lnTo>
                  <a:pt x="6" y="513"/>
                </a:lnTo>
                <a:lnTo>
                  <a:pt x="6" y="516"/>
                </a:lnTo>
                <a:lnTo>
                  <a:pt x="6" y="516"/>
                </a:lnTo>
                <a:lnTo>
                  <a:pt x="6" y="516"/>
                </a:lnTo>
                <a:close/>
                <a:moveTo>
                  <a:pt x="6" y="562"/>
                </a:moveTo>
                <a:lnTo>
                  <a:pt x="6" y="582"/>
                </a:lnTo>
                <a:lnTo>
                  <a:pt x="6" y="584"/>
                </a:lnTo>
                <a:lnTo>
                  <a:pt x="6" y="586"/>
                </a:lnTo>
                <a:lnTo>
                  <a:pt x="4" y="586"/>
                </a:lnTo>
                <a:lnTo>
                  <a:pt x="4" y="586"/>
                </a:lnTo>
                <a:lnTo>
                  <a:pt x="2" y="586"/>
                </a:lnTo>
                <a:lnTo>
                  <a:pt x="0" y="586"/>
                </a:lnTo>
                <a:lnTo>
                  <a:pt x="0" y="584"/>
                </a:lnTo>
                <a:lnTo>
                  <a:pt x="0" y="582"/>
                </a:lnTo>
                <a:lnTo>
                  <a:pt x="0" y="562"/>
                </a:lnTo>
                <a:lnTo>
                  <a:pt x="0" y="560"/>
                </a:lnTo>
                <a:lnTo>
                  <a:pt x="0" y="560"/>
                </a:lnTo>
                <a:lnTo>
                  <a:pt x="2" y="560"/>
                </a:lnTo>
                <a:lnTo>
                  <a:pt x="4" y="560"/>
                </a:lnTo>
                <a:lnTo>
                  <a:pt x="4" y="560"/>
                </a:lnTo>
                <a:lnTo>
                  <a:pt x="6" y="560"/>
                </a:lnTo>
                <a:lnTo>
                  <a:pt x="6" y="560"/>
                </a:lnTo>
                <a:lnTo>
                  <a:pt x="6" y="562"/>
                </a:lnTo>
                <a:lnTo>
                  <a:pt x="6" y="562"/>
                </a:lnTo>
                <a:close/>
                <a:moveTo>
                  <a:pt x="6" y="609"/>
                </a:moveTo>
                <a:lnTo>
                  <a:pt x="6" y="628"/>
                </a:lnTo>
                <a:lnTo>
                  <a:pt x="6" y="631"/>
                </a:lnTo>
                <a:lnTo>
                  <a:pt x="6" y="631"/>
                </a:lnTo>
                <a:lnTo>
                  <a:pt x="4" y="633"/>
                </a:lnTo>
                <a:lnTo>
                  <a:pt x="4" y="633"/>
                </a:lnTo>
                <a:lnTo>
                  <a:pt x="2" y="633"/>
                </a:lnTo>
                <a:lnTo>
                  <a:pt x="0" y="631"/>
                </a:lnTo>
                <a:lnTo>
                  <a:pt x="0" y="631"/>
                </a:lnTo>
                <a:lnTo>
                  <a:pt x="0" y="628"/>
                </a:lnTo>
                <a:lnTo>
                  <a:pt x="0" y="609"/>
                </a:lnTo>
                <a:lnTo>
                  <a:pt x="0" y="607"/>
                </a:lnTo>
                <a:lnTo>
                  <a:pt x="0" y="607"/>
                </a:lnTo>
                <a:lnTo>
                  <a:pt x="2" y="607"/>
                </a:lnTo>
                <a:lnTo>
                  <a:pt x="4" y="605"/>
                </a:lnTo>
                <a:lnTo>
                  <a:pt x="4" y="607"/>
                </a:lnTo>
                <a:lnTo>
                  <a:pt x="6" y="607"/>
                </a:lnTo>
                <a:lnTo>
                  <a:pt x="6" y="607"/>
                </a:lnTo>
                <a:lnTo>
                  <a:pt x="6" y="609"/>
                </a:lnTo>
                <a:lnTo>
                  <a:pt x="6" y="609"/>
                </a:lnTo>
                <a:close/>
                <a:moveTo>
                  <a:pt x="6" y="656"/>
                </a:moveTo>
                <a:lnTo>
                  <a:pt x="6" y="675"/>
                </a:lnTo>
                <a:lnTo>
                  <a:pt x="6" y="677"/>
                </a:lnTo>
                <a:lnTo>
                  <a:pt x="6" y="677"/>
                </a:lnTo>
                <a:lnTo>
                  <a:pt x="4" y="679"/>
                </a:lnTo>
                <a:lnTo>
                  <a:pt x="4" y="679"/>
                </a:lnTo>
                <a:lnTo>
                  <a:pt x="2" y="679"/>
                </a:lnTo>
                <a:lnTo>
                  <a:pt x="0" y="677"/>
                </a:lnTo>
                <a:lnTo>
                  <a:pt x="0" y="677"/>
                </a:lnTo>
                <a:lnTo>
                  <a:pt x="0" y="675"/>
                </a:lnTo>
                <a:lnTo>
                  <a:pt x="0" y="656"/>
                </a:lnTo>
                <a:lnTo>
                  <a:pt x="0" y="654"/>
                </a:lnTo>
                <a:lnTo>
                  <a:pt x="0" y="654"/>
                </a:lnTo>
                <a:lnTo>
                  <a:pt x="2" y="652"/>
                </a:lnTo>
                <a:lnTo>
                  <a:pt x="4" y="652"/>
                </a:lnTo>
                <a:lnTo>
                  <a:pt x="4" y="652"/>
                </a:lnTo>
                <a:lnTo>
                  <a:pt x="6" y="654"/>
                </a:lnTo>
                <a:lnTo>
                  <a:pt x="6" y="654"/>
                </a:lnTo>
                <a:lnTo>
                  <a:pt x="6" y="656"/>
                </a:lnTo>
                <a:lnTo>
                  <a:pt x="6" y="656"/>
                </a:lnTo>
                <a:close/>
                <a:moveTo>
                  <a:pt x="6" y="703"/>
                </a:moveTo>
                <a:lnTo>
                  <a:pt x="6" y="722"/>
                </a:lnTo>
                <a:lnTo>
                  <a:pt x="6" y="724"/>
                </a:lnTo>
                <a:lnTo>
                  <a:pt x="6" y="724"/>
                </a:lnTo>
                <a:lnTo>
                  <a:pt x="4" y="726"/>
                </a:lnTo>
                <a:lnTo>
                  <a:pt x="4" y="726"/>
                </a:lnTo>
                <a:lnTo>
                  <a:pt x="2" y="726"/>
                </a:lnTo>
                <a:lnTo>
                  <a:pt x="0" y="724"/>
                </a:lnTo>
                <a:lnTo>
                  <a:pt x="0" y="724"/>
                </a:lnTo>
                <a:lnTo>
                  <a:pt x="0" y="722"/>
                </a:lnTo>
                <a:lnTo>
                  <a:pt x="0" y="703"/>
                </a:lnTo>
                <a:lnTo>
                  <a:pt x="0" y="701"/>
                </a:lnTo>
                <a:lnTo>
                  <a:pt x="0" y="701"/>
                </a:lnTo>
                <a:lnTo>
                  <a:pt x="2" y="699"/>
                </a:lnTo>
                <a:lnTo>
                  <a:pt x="4" y="699"/>
                </a:lnTo>
                <a:lnTo>
                  <a:pt x="4" y="699"/>
                </a:lnTo>
                <a:lnTo>
                  <a:pt x="6" y="701"/>
                </a:lnTo>
                <a:lnTo>
                  <a:pt x="6" y="701"/>
                </a:lnTo>
                <a:lnTo>
                  <a:pt x="6" y="703"/>
                </a:lnTo>
                <a:lnTo>
                  <a:pt x="6" y="703"/>
                </a:lnTo>
                <a:close/>
                <a:moveTo>
                  <a:pt x="6" y="750"/>
                </a:moveTo>
                <a:lnTo>
                  <a:pt x="6" y="767"/>
                </a:lnTo>
                <a:lnTo>
                  <a:pt x="6" y="769"/>
                </a:lnTo>
                <a:lnTo>
                  <a:pt x="6" y="769"/>
                </a:lnTo>
                <a:lnTo>
                  <a:pt x="4" y="769"/>
                </a:lnTo>
                <a:lnTo>
                  <a:pt x="4" y="771"/>
                </a:lnTo>
                <a:lnTo>
                  <a:pt x="2" y="769"/>
                </a:lnTo>
                <a:lnTo>
                  <a:pt x="0" y="769"/>
                </a:lnTo>
                <a:lnTo>
                  <a:pt x="0" y="769"/>
                </a:lnTo>
                <a:lnTo>
                  <a:pt x="0" y="767"/>
                </a:lnTo>
                <a:lnTo>
                  <a:pt x="0" y="750"/>
                </a:lnTo>
                <a:lnTo>
                  <a:pt x="0" y="748"/>
                </a:lnTo>
                <a:lnTo>
                  <a:pt x="0" y="745"/>
                </a:lnTo>
                <a:lnTo>
                  <a:pt x="2" y="745"/>
                </a:lnTo>
                <a:lnTo>
                  <a:pt x="4" y="745"/>
                </a:lnTo>
                <a:lnTo>
                  <a:pt x="4" y="745"/>
                </a:lnTo>
                <a:lnTo>
                  <a:pt x="6" y="745"/>
                </a:lnTo>
                <a:lnTo>
                  <a:pt x="6" y="748"/>
                </a:lnTo>
                <a:lnTo>
                  <a:pt x="6" y="750"/>
                </a:lnTo>
                <a:lnTo>
                  <a:pt x="6" y="750"/>
                </a:lnTo>
                <a:close/>
                <a:moveTo>
                  <a:pt x="6" y="792"/>
                </a:moveTo>
                <a:lnTo>
                  <a:pt x="6" y="814"/>
                </a:lnTo>
                <a:lnTo>
                  <a:pt x="6" y="814"/>
                </a:lnTo>
                <a:lnTo>
                  <a:pt x="6" y="816"/>
                </a:lnTo>
                <a:lnTo>
                  <a:pt x="4" y="816"/>
                </a:lnTo>
                <a:lnTo>
                  <a:pt x="4" y="816"/>
                </a:lnTo>
                <a:lnTo>
                  <a:pt x="2" y="816"/>
                </a:lnTo>
                <a:lnTo>
                  <a:pt x="0" y="816"/>
                </a:lnTo>
                <a:lnTo>
                  <a:pt x="0" y="814"/>
                </a:lnTo>
                <a:lnTo>
                  <a:pt x="0" y="814"/>
                </a:lnTo>
                <a:lnTo>
                  <a:pt x="0" y="792"/>
                </a:lnTo>
                <a:lnTo>
                  <a:pt x="0" y="792"/>
                </a:lnTo>
                <a:lnTo>
                  <a:pt x="0" y="790"/>
                </a:lnTo>
                <a:lnTo>
                  <a:pt x="2" y="790"/>
                </a:lnTo>
                <a:lnTo>
                  <a:pt x="4" y="790"/>
                </a:lnTo>
                <a:lnTo>
                  <a:pt x="4" y="790"/>
                </a:lnTo>
                <a:lnTo>
                  <a:pt x="6" y="790"/>
                </a:lnTo>
                <a:lnTo>
                  <a:pt x="6" y="792"/>
                </a:lnTo>
                <a:lnTo>
                  <a:pt x="6" y="792"/>
                </a:lnTo>
                <a:lnTo>
                  <a:pt x="6" y="792"/>
                </a:lnTo>
                <a:close/>
                <a:moveTo>
                  <a:pt x="6" y="839"/>
                </a:moveTo>
                <a:lnTo>
                  <a:pt x="6" y="860"/>
                </a:lnTo>
                <a:lnTo>
                  <a:pt x="6" y="860"/>
                </a:lnTo>
                <a:lnTo>
                  <a:pt x="6" y="863"/>
                </a:lnTo>
                <a:lnTo>
                  <a:pt x="4" y="863"/>
                </a:lnTo>
                <a:lnTo>
                  <a:pt x="4" y="863"/>
                </a:lnTo>
                <a:lnTo>
                  <a:pt x="2" y="863"/>
                </a:lnTo>
                <a:lnTo>
                  <a:pt x="0" y="863"/>
                </a:lnTo>
                <a:lnTo>
                  <a:pt x="0" y="860"/>
                </a:lnTo>
                <a:lnTo>
                  <a:pt x="0" y="860"/>
                </a:lnTo>
                <a:lnTo>
                  <a:pt x="0" y="839"/>
                </a:lnTo>
                <a:lnTo>
                  <a:pt x="0" y="839"/>
                </a:lnTo>
                <a:lnTo>
                  <a:pt x="0" y="837"/>
                </a:lnTo>
                <a:lnTo>
                  <a:pt x="2" y="837"/>
                </a:lnTo>
                <a:lnTo>
                  <a:pt x="4" y="837"/>
                </a:lnTo>
                <a:lnTo>
                  <a:pt x="4" y="837"/>
                </a:lnTo>
                <a:lnTo>
                  <a:pt x="6" y="837"/>
                </a:lnTo>
                <a:lnTo>
                  <a:pt x="6" y="839"/>
                </a:lnTo>
                <a:lnTo>
                  <a:pt x="6" y="839"/>
                </a:lnTo>
                <a:lnTo>
                  <a:pt x="6" y="839"/>
                </a:lnTo>
                <a:close/>
                <a:moveTo>
                  <a:pt x="6" y="886"/>
                </a:moveTo>
                <a:lnTo>
                  <a:pt x="6" y="907"/>
                </a:lnTo>
                <a:lnTo>
                  <a:pt x="6" y="907"/>
                </a:lnTo>
                <a:lnTo>
                  <a:pt x="6" y="909"/>
                </a:lnTo>
                <a:lnTo>
                  <a:pt x="4" y="909"/>
                </a:lnTo>
                <a:lnTo>
                  <a:pt x="4" y="909"/>
                </a:lnTo>
                <a:lnTo>
                  <a:pt x="2" y="909"/>
                </a:lnTo>
                <a:lnTo>
                  <a:pt x="0" y="909"/>
                </a:lnTo>
                <a:lnTo>
                  <a:pt x="0" y="907"/>
                </a:lnTo>
                <a:lnTo>
                  <a:pt x="0" y="907"/>
                </a:lnTo>
                <a:lnTo>
                  <a:pt x="0" y="886"/>
                </a:lnTo>
                <a:lnTo>
                  <a:pt x="0" y="886"/>
                </a:lnTo>
                <a:lnTo>
                  <a:pt x="0" y="884"/>
                </a:lnTo>
                <a:lnTo>
                  <a:pt x="2" y="884"/>
                </a:lnTo>
                <a:lnTo>
                  <a:pt x="4" y="884"/>
                </a:lnTo>
                <a:lnTo>
                  <a:pt x="4" y="884"/>
                </a:lnTo>
                <a:lnTo>
                  <a:pt x="6" y="884"/>
                </a:lnTo>
                <a:lnTo>
                  <a:pt x="6" y="886"/>
                </a:lnTo>
                <a:lnTo>
                  <a:pt x="6" y="886"/>
                </a:lnTo>
                <a:lnTo>
                  <a:pt x="6" y="886"/>
                </a:lnTo>
                <a:close/>
                <a:moveTo>
                  <a:pt x="6" y="933"/>
                </a:moveTo>
                <a:lnTo>
                  <a:pt x="6" y="952"/>
                </a:lnTo>
                <a:lnTo>
                  <a:pt x="6" y="954"/>
                </a:lnTo>
                <a:lnTo>
                  <a:pt x="6" y="956"/>
                </a:lnTo>
                <a:lnTo>
                  <a:pt x="4" y="956"/>
                </a:lnTo>
                <a:lnTo>
                  <a:pt x="4" y="956"/>
                </a:lnTo>
                <a:lnTo>
                  <a:pt x="2" y="956"/>
                </a:lnTo>
                <a:lnTo>
                  <a:pt x="0" y="956"/>
                </a:lnTo>
                <a:lnTo>
                  <a:pt x="0" y="954"/>
                </a:lnTo>
                <a:lnTo>
                  <a:pt x="0" y="952"/>
                </a:lnTo>
                <a:lnTo>
                  <a:pt x="0" y="933"/>
                </a:lnTo>
                <a:lnTo>
                  <a:pt x="0" y="931"/>
                </a:lnTo>
                <a:lnTo>
                  <a:pt x="0" y="931"/>
                </a:lnTo>
                <a:lnTo>
                  <a:pt x="2" y="931"/>
                </a:lnTo>
                <a:lnTo>
                  <a:pt x="4" y="931"/>
                </a:lnTo>
                <a:lnTo>
                  <a:pt x="4" y="931"/>
                </a:lnTo>
                <a:lnTo>
                  <a:pt x="6" y="931"/>
                </a:lnTo>
                <a:lnTo>
                  <a:pt x="6" y="931"/>
                </a:lnTo>
                <a:lnTo>
                  <a:pt x="6" y="933"/>
                </a:lnTo>
                <a:lnTo>
                  <a:pt x="6" y="933"/>
                </a:lnTo>
                <a:close/>
                <a:moveTo>
                  <a:pt x="6" y="980"/>
                </a:moveTo>
                <a:lnTo>
                  <a:pt x="6" y="999"/>
                </a:lnTo>
                <a:lnTo>
                  <a:pt x="6" y="1001"/>
                </a:lnTo>
                <a:lnTo>
                  <a:pt x="6" y="1001"/>
                </a:lnTo>
                <a:lnTo>
                  <a:pt x="4" y="1003"/>
                </a:lnTo>
                <a:lnTo>
                  <a:pt x="4" y="1003"/>
                </a:lnTo>
                <a:lnTo>
                  <a:pt x="2" y="1003"/>
                </a:lnTo>
                <a:lnTo>
                  <a:pt x="0" y="1001"/>
                </a:lnTo>
                <a:lnTo>
                  <a:pt x="0" y="1001"/>
                </a:lnTo>
                <a:lnTo>
                  <a:pt x="0" y="999"/>
                </a:lnTo>
                <a:lnTo>
                  <a:pt x="0" y="980"/>
                </a:lnTo>
                <a:lnTo>
                  <a:pt x="0" y="977"/>
                </a:lnTo>
                <a:lnTo>
                  <a:pt x="0" y="977"/>
                </a:lnTo>
                <a:lnTo>
                  <a:pt x="2" y="977"/>
                </a:lnTo>
                <a:lnTo>
                  <a:pt x="4" y="975"/>
                </a:lnTo>
                <a:lnTo>
                  <a:pt x="4" y="977"/>
                </a:lnTo>
                <a:lnTo>
                  <a:pt x="6" y="977"/>
                </a:lnTo>
                <a:lnTo>
                  <a:pt x="6" y="977"/>
                </a:lnTo>
                <a:lnTo>
                  <a:pt x="6" y="980"/>
                </a:lnTo>
                <a:lnTo>
                  <a:pt x="6" y="980"/>
                </a:lnTo>
                <a:close/>
                <a:moveTo>
                  <a:pt x="6" y="1026"/>
                </a:moveTo>
                <a:lnTo>
                  <a:pt x="6" y="1046"/>
                </a:lnTo>
                <a:lnTo>
                  <a:pt x="6" y="1048"/>
                </a:lnTo>
                <a:lnTo>
                  <a:pt x="6" y="1048"/>
                </a:lnTo>
                <a:lnTo>
                  <a:pt x="4" y="1050"/>
                </a:lnTo>
                <a:lnTo>
                  <a:pt x="4" y="1050"/>
                </a:lnTo>
                <a:lnTo>
                  <a:pt x="2" y="1050"/>
                </a:lnTo>
                <a:lnTo>
                  <a:pt x="0" y="1048"/>
                </a:lnTo>
                <a:lnTo>
                  <a:pt x="0" y="1048"/>
                </a:lnTo>
                <a:lnTo>
                  <a:pt x="0" y="1046"/>
                </a:lnTo>
                <a:lnTo>
                  <a:pt x="0" y="1026"/>
                </a:lnTo>
                <a:lnTo>
                  <a:pt x="0" y="1024"/>
                </a:lnTo>
                <a:lnTo>
                  <a:pt x="0" y="1024"/>
                </a:lnTo>
                <a:lnTo>
                  <a:pt x="2" y="1022"/>
                </a:lnTo>
                <a:lnTo>
                  <a:pt x="4" y="1022"/>
                </a:lnTo>
                <a:lnTo>
                  <a:pt x="4" y="1022"/>
                </a:lnTo>
                <a:lnTo>
                  <a:pt x="6" y="1024"/>
                </a:lnTo>
                <a:lnTo>
                  <a:pt x="6" y="1024"/>
                </a:lnTo>
                <a:lnTo>
                  <a:pt x="6" y="1026"/>
                </a:lnTo>
                <a:lnTo>
                  <a:pt x="6" y="1026"/>
                </a:lnTo>
                <a:close/>
                <a:moveTo>
                  <a:pt x="6" y="1073"/>
                </a:moveTo>
                <a:lnTo>
                  <a:pt x="6" y="1092"/>
                </a:lnTo>
                <a:lnTo>
                  <a:pt x="6" y="1095"/>
                </a:lnTo>
                <a:lnTo>
                  <a:pt x="6" y="1095"/>
                </a:lnTo>
                <a:lnTo>
                  <a:pt x="4" y="1097"/>
                </a:lnTo>
                <a:lnTo>
                  <a:pt x="4" y="1097"/>
                </a:lnTo>
                <a:lnTo>
                  <a:pt x="2" y="1097"/>
                </a:lnTo>
                <a:lnTo>
                  <a:pt x="0" y="1095"/>
                </a:lnTo>
                <a:lnTo>
                  <a:pt x="0" y="1095"/>
                </a:lnTo>
                <a:lnTo>
                  <a:pt x="0" y="1092"/>
                </a:lnTo>
                <a:lnTo>
                  <a:pt x="0" y="1073"/>
                </a:lnTo>
                <a:lnTo>
                  <a:pt x="0" y="1071"/>
                </a:lnTo>
                <a:lnTo>
                  <a:pt x="0" y="1071"/>
                </a:lnTo>
                <a:lnTo>
                  <a:pt x="2" y="1069"/>
                </a:lnTo>
                <a:lnTo>
                  <a:pt x="4" y="1069"/>
                </a:lnTo>
                <a:lnTo>
                  <a:pt x="4" y="1069"/>
                </a:lnTo>
                <a:lnTo>
                  <a:pt x="6" y="1071"/>
                </a:lnTo>
                <a:lnTo>
                  <a:pt x="6" y="1071"/>
                </a:lnTo>
                <a:lnTo>
                  <a:pt x="6" y="1073"/>
                </a:lnTo>
                <a:lnTo>
                  <a:pt x="6" y="1073"/>
                </a:lnTo>
                <a:close/>
                <a:moveTo>
                  <a:pt x="6" y="1120"/>
                </a:moveTo>
                <a:lnTo>
                  <a:pt x="6" y="1139"/>
                </a:lnTo>
                <a:lnTo>
                  <a:pt x="6" y="1141"/>
                </a:lnTo>
                <a:lnTo>
                  <a:pt x="6" y="1141"/>
                </a:lnTo>
                <a:lnTo>
                  <a:pt x="4" y="1141"/>
                </a:lnTo>
                <a:lnTo>
                  <a:pt x="4" y="1144"/>
                </a:lnTo>
                <a:lnTo>
                  <a:pt x="2" y="1141"/>
                </a:lnTo>
                <a:lnTo>
                  <a:pt x="0" y="1141"/>
                </a:lnTo>
                <a:lnTo>
                  <a:pt x="0" y="1141"/>
                </a:lnTo>
                <a:lnTo>
                  <a:pt x="0" y="1139"/>
                </a:lnTo>
                <a:lnTo>
                  <a:pt x="0" y="1120"/>
                </a:lnTo>
                <a:lnTo>
                  <a:pt x="0" y="1118"/>
                </a:lnTo>
                <a:lnTo>
                  <a:pt x="0" y="1116"/>
                </a:lnTo>
                <a:lnTo>
                  <a:pt x="2" y="1116"/>
                </a:lnTo>
                <a:lnTo>
                  <a:pt x="4" y="1116"/>
                </a:lnTo>
                <a:lnTo>
                  <a:pt x="4" y="1116"/>
                </a:lnTo>
                <a:lnTo>
                  <a:pt x="6" y="1116"/>
                </a:lnTo>
                <a:lnTo>
                  <a:pt x="6" y="1118"/>
                </a:lnTo>
                <a:lnTo>
                  <a:pt x="6" y="1120"/>
                </a:lnTo>
                <a:lnTo>
                  <a:pt x="6" y="1120"/>
                </a:lnTo>
                <a:close/>
                <a:moveTo>
                  <a:pt x="6" y="1165"/>
                </a:moveTo>
                <a:lnTo>
                  <a:pt x="6" y="1186"/>
                </a:lnTo>
                <a:lnTo>
                  <a:pt x="6" y="1186"/>
                </a:lnTo>
                <a:lnTo>
                  <a:pt x="6" y="1188"/>
                </a:lnTo>
                <a:lnTo>
                  <a:pt x="4" y="1188"/>
                </a:lnTo>
                <a:lnTo>
                  <a:pt x="4" y="1188"/>
                </a:lnTo>
                <a:lnTo>
                  <a:pt x="2" y="1188"/>
                </a:lnTo>
                <a:lnTo>
                  <a:pt x="0" y="1188"/>
                </a:lnTo>
                <a:lnTo>
                  <a:pt x="0" y="1186"/>
                </a:lnTo>
                <a:lnTo>
                  <a:pt x="0" y="1186"/>
                </a:lnTo>
                <a:lnTo>
                  <a:pt x="0" y="1165"/>
                </a:lnTo>
                <a:lnTo>
                  <a:pt x="0" y="1165"/>
                </a:lnTo>
                <a:lnTo>
                  <a:pt x="0" y="1163"/>
                </a:lnTo>
                <a:lnTo>
                  <a:pt x="2" y="1163"/>
                </a:lnTo>
                <a:lnTo>
                  <a:pt x="4" y="1163"/>
                </a:lnTo>
                <a:lnTo>
                  <a:pt x="4" y="1163"/>
                </a:lnTo>
                <a:lnTo>
                  <a:pt x="6" y="1163"/>
                </a:lnTo>
                <a:lnTo>
                  <a:pt x="6" y="1165"/>
                </a:lnTo>
                <a:lnTo>
                  <a:pt x="6" y="1165"/>
                </a:lnTo>
                <a:lnTo>
                  <a:pt x="6" y="1165"/>
                </a:lnTo>
                <a:close/>
                <a:moveTo>
                  <a:pt x="6" y="1212"/>
                </a:moveTo>
                <a:lnTo>
                  <a:pt x="6" y="1233"/>
                </a:lnTo>
                <a:lnTo>
                  <a:pt x="6" y="1233"/>
                </a:lnTo>
                <a:lnTo>
                  <a:pt x="6" y="1235"/>
                </a:lnTo>
                <a:lnTo>
                  <a:pt x="4" y="1235"/>
                </a:lnTo>
                <a:lnTo>
                  <a:pt x="4" y="1235"/>
                </a:lnTo>
                <a:lnTo>
                  <a:pt x="2" y="1235"/>
                </a:lnTo>
                <a:lnTo>
                  <a:pt x="0" y="1235"/>
                </a:lnTo>
                <a:lnTo>
                  <a:pt x="0" y="1233"/>
                </a:lnTo>
                <a:lnTo>
                  <a:pt x="0" y="1233"/>
                </a:lnTo>
                <a:lnTo>
                  <a:pt x="0" y="1212"/>
                </a:lnTo>
                <a:lnTo>
                  <a:pt x="0" y="1212"/>
                </a:lnTo>
                <a:lnTo>
                  <a:pt x="0" y="1210"/>
                </a:lnTo>
                <a:lnTo>
                  <a:pt x="2" y="1210"/>
                </a:lnTo>
                <a:lnTo>
                  <a:pt x="4" y="1210"/>
                </a:lnTo>
                <a:lnTo>
                  <a:pt x="4" y="1210"/>
                </a:lnTo>
                <a:lnTo>
                  <a:pt x="6" y="1210"/>
                </a:lnTo>
                <a:lnTo>
                  <a:pt x="6" y="1212"/>
                </a:lnTo>
                <a:lnTo>
                  <a:pt x="6" y="1212"/>
                </a:lnTo>
                <a:lnTo>
                  <a:pt x="6" y="1212"/>
                </a:lnTo>
                <a:close/>
                <a:moveTo>
                  <a:pt x="6" y="1258"/>
                </a:moveTo>
                <a:lnTo>
                  <a:pt x="6" y="1280"/>
                </a:lnTo>
                <a:lnTo>
                  <a:pt x="6" y="1280"/>
                </a:lnTo>
                <a:lnTo>
                  <a:pt x="6" y="1282"/>
                </a:lnTo>
                <a:lnTo>
                  <a:pt x="4" y="1282"/>
                </a:lnTo>
                <a:lnTo>
                  <a:pt x="4" y="1282"/>
                </a:lnTo>
                <a:lnTo>
                  <a:pt x="2" y="1282"/>
                </a:lnTo>
                <a:lnTo>
                  <a:pt x="0" y="1282"/>
                </a:lnTo>
                <a:lnTo>
                  <a:pt x="0" y="1280"/>
                </a:lnTo>
                <a:lnTo>
                  <a:pt x="0" y="1280"/>
                </a:lnTo>
                <a:lnTo>
                  <a:pt x="0" y="1258"/>
                </a:lnTo>
                <a:lnTo>
                  <a:pt x="0" y="1258"/>
                </a:lnTo>
                <a:lnTo>
                  <a:pt x="0" y="1256"/>
                </a:lnTo>
                <a:lnTo>
                  <a:pt x="2" y="1256"/>
                </a:lnTo>
                <a:lnTo>
                  <a:pt x="4" y="1256"/>
                </a:lnTo>
                <a:lnTo>
                  <a:pt x="4" y="1256"/>
                </a:lnTo>
                <a:lnTo>
                  <a:pt x="6" y="1256"/>
                </a:lnTo>
                <a:lnTo>
                  <a:pt x="6" y="1258"/>
                </a:lnTo>
                <a:lnTo>
                  <a:pt x="6" y="1258"/>
                </a:lnTo>
                <a:lnTo>
                  <a:pt x="6" y="1258"/>
                </a:lnTo>
                <a:close/>
                <a:moveTo>
                  <a:pt x="6" y="1305"/>
                </a:moveTo>
                <a:lnTo>
                  <a:pt x="6" y="1324"/>
                </a:lnTo>
                <a:lnTo>
                  <a:pt x="6" y="1327"/>
                </a:lnTo>
                <a:lnTo>
                  <a:pt x="6" y="1329"/>
                </a:lnTo>
                <a:lnTo>
                  <a:pt x="4" y="1329"/>
                </a:lnTo>
                <a:lnTo>
                  <a:pt x="4" y="1329"/>
                </a:lnTo>
                <a:lnTo>
                  <a:pt x="2" y="1329"/>
                </a:lnTo>
                <a:lnTo>
                  <a:pt x="0" y="1329"/>
                </a:lnTo>
                <a:lnTo>
                  <a:pt x="0" y="1327"/>
                </a:lnTo>
                <a:lnTo>
                  <a:pt x="0" y="1324"/>
                </a:lnTo>
                <a:lnTo>
                  <a:pt x="0" y="1305"/>
                </a:lnTo>
                <a:lnTo>
                  <a:pt x="0" y="1303"/>
                </a:lnTo>
                <a:lnTo>
                  <a:pt x="0" y="1303"/>
                </a:lnTo>
                <a:lnTo>
                  <a:pt x="2" y="1303"/>
                </a:lnTo>
                <a:lnTo>
                  <a:pt x="4" y="1303"/>
                </a:lnTo>
                <a:lnTo>
                  <a:pt x="4" y="1303"/>
                </a:lnTo>
                <a:lnTo>
                  <a:pt x="6" y="1303"/>
                </a:lnTo>
                <a:lnTo>
                  <a:pt x="6" y="1303"/>
                </a:lnTo>
                <a:lnTo>
                  <a:pt x="6" y="1305"/>
                </a:lnTo>
                <a:lnTo>
                  <a:pt x="6" y="1305"/>
                </a:lnTo>
                <a:close/>
                <a:moveTo>
                  <a:pt x="6" y="1352"/>
                </a:moveTo>
                <a:lnTo>
                  <a:pt x="6" y="1371"/>
                </a:lnTo>
                <a:lnTo>
                  <a:pt x="6" y="1373"/>
                </a:lnTo>
                <a:lnTo>
                  <a:pt x="6" y="1373"/>
                </a:lnTo>
                <a:lnTo>
                  <a:pt x="4" y="1376"/>
                </a:lnTo>
                <a:lnTo>
                  <a:pt x="4" y="1376"/>
                </a:lnTo>
                <a:lnTo>
                  <a:pt x="2" y="1376"/>
                </a:lnTo>
                <a:lnTo>
                  <a:pt x="0" y="1373"/>
                </a:lnTo>
                <a:lnTo>
                  <a:pt x="0" y="1373"/>
                </a:lnTo>
                <a:lnTo>
                  <a:pt x="0" y="1371"/>
                </a:lnTo>
                <a:lnTo>
                  <a:pt x="0" y="1352"/>
                </a:lnTo>
                <a:lnTo>
                  <a:pt x="0" y="1350"/>
                </a:lnTo>
                <a:lnTo>
                  <a:pt x="0" y="1350"/>
                </a:lnTo>
                <a:lnTo>
                  <a:pt x="2" y="1350"/>
                </a:lnTo>
                <a:lnTo>
                  <a:pt x="4" y="1348"/>
                </a:lnTo>
                <a:lnTo>
                  <a:pt x="4" y="1350"/>
                </a:lnTo>
                <a:lnTo>
                  <a:pt x="6" y="1350"/>
                </a:lnTo>
                <a:lnTo>
                  <a:pt x="6" y="1350"/>
                </a:lnTo>
                <a:lnTo>
                  <a:pt x="6" y="1352"/>
                </a:lnTo>
                <a:lnTo>
                  <a:pt x="6" y="1352"/>
                </a:lnTo>
                <a:close/>
                <a:moveTo>
                  <a:pt x="6" y="1399"/>
                </a:moveTo>
                <a:lnTo>
                  <a:pt x="6" y="1418"/>
                </a:lnTo>
                <a:lnTo>
                  <a:pt x="6" y="1420"/>
                </a:lnTo>
                <a:lnTo>
                  <a:pt x="6" y="1420"/>
                </a:lnTo>
                <a:lnTo>
                  <a:pt x="4" y="1422"/>
                </a:lnTo>
                <a:lnTo>
                  <a:pt x="4" y="1422"/>
                </a:lnTo>
                <a:lnTo>
                  <a:pt x="2" y="1422"/>
                </a:lnTo>
                <a:lnTo>
                  <a:pt x="0" y="1420"/>
                </a:lnTo>
                <a:lnTo>
                  <a:pt x="0" y="1420"/>
                </a:lnTo>
                <a:lnTo>
                  <a:pt x="0" y="1418"/>
                </a:lnTo>
                <a:lnTo>
                  <a:pt x="0" y="1399"/>
                </a:lnTo>
                <a:lnTo>
                  <a:pt x="0" y="1397"/>
                </a:lnTo>
                <a:lnTo>
                  <a:pt x="0" y="1397"/>
                </a:lnTo>
                <a:lnTo>
                  <a:pt x="2" y="1395"/>
                </a:lnTo>
                <a:lnTo>
                  <a:pt x="4" y="1395"/>
                </a:lnTo>
                <a:lnTo>
                  <a:pt x="4" y="1395"/>
                </a:lnTo>
                <a:lnTo>
                  <a:pt x="6" y="1397"/>
                </a:lnTo>
                <a:lnTo>
                  <a:pt x="6" y="1397"/>
                </a:lnTo>
                <a:lnTo>
                  <a:pt x="6" y="1399"/>
                </a:lnTo>
                <a:lnTo>
                  <a:pt x="6" y="1399"/>
                </a:lnTo>
                <a:close/>
                <a:moveTo>
                  <a:pt x="6" y="1446"/>
                </a:moveTo>
                <a:lnTo>
                  <a:pt x="6" y="1465"/>
                </a:lnTo>
                <a:lnTo>
                  <a:pt x="6" y="1467"/>
                </a:lnTo>
                <a:lnTo>
                  <a:pt x="6" y="1467"/>
                </a:lnTo>
                <a:lnTo>
                  <a:pt x="4" y="1469"/>
                </a:lnTo>
                <a:lnTo>
                  <a:pt x="4" y="1469"/>
                </a:lnTo>
                <a:lnTo>
                  <a:pt x="2" y="1469"/>
                </a:lnTo>
                <a:lnTo>
                  <a:pt x="0" y="1467"/>
                </a:lnTo>
                <a:lnTo>
                  <a:pt x="0" y="1467"/>
                </a:lnTo>
                <a:lnTo>
                  <a:pt x="0" y="1465"/>
                </a:lnTo>
                <a:lnTo>
                  <a:pt x="0" y="1446"/>
                </a:lnTo>
                <a:lnTo>
                  <a:pt x="0" y="1444"/>
                </a:lnTo>
                <a:lnTo>
                  <a:pt x="0" y="1444"/>
                </a:lnTo>
                <a:lnTo>
                  <a:pt x="2" y="1442"/>
                </a:lnTo>
                <a:lnTo>
                  <a:pt x="4" y="1442"/>
                </a:lnTo>
                <a:lnTo>
                  <a:pt x="4" y="1442"/>
                </a:lnTo>
                <a:lnTo>
                  <a:pt x="6" y="1444"/>
                </a:lnTo>
                <a:lnTo>
                  <a:pt x="6" y="1444"/>
                </a:lnTo>
                <a:lnTo>
                  <a:pt x="6" y="1446"/>
                </a:lnTo>
                <a:lnTo>
                  <a:pt x="6" y="1446"/>
                </a:lnTo>
                <a:close/>
                <a:moveTo>
                  <a:pt x="6" y="1493"/>
                </a:moveTo>
                <a:lnTo>
                  <a:pt x="6" y="1512"/>
                </a:lnTo>
                <a:lnTo>
                  <a:pt x="6" y="1514"/>
                </a:lnTo>
                <a:lnTo>
                  <a:pt x="6" y="1514"/>
                </a:lnTo>
                <a:lnTo>
                  <a:pt x="4" y="1514"/>
                </a:lnTo>
                <a:lnTo>
                  <a:pt x="4" y="1516"/>
                </a:lnTo>
                <a:lnTo>
                  <a:pt x="2" y="1514"/>
                </a:lnTo>
                <a:lnTo>
                  <a:pt x="0" y="1514"/>
                </a:lnTo>
                <a:lnTo>
                  <a:pt x="0" y="1514"/>
                </a:lnTo>
                <a:lnTo>
                  <a:pt x="0" y="1512"/>
                </a:lnTo>
                <a:lnTo>
                  <a:pt x="0" y="1493"/>
                </a:lnTo>
                <a:lnTo>
                  <a:pt x="0" y="1490"/>
                </a:lnTo>
                <a:lnTo>
                  <a:pt x="0" y="1488"/>
                </a:lnTo>
                <a:lnTo>
                  <a:pt x="2" y="1488"/>
                </a:lnTo>
                <a:lnTo>
                  <a:pt x="4" y="1488"/>
                </a:lnTo>
                <a:lnTo>
                  <a:pt x="4" y="1488"/>
                </a:lnTo>
                <a:lnTo>
                  <a:pt x="6" y="1488"/>
                </a:lnTo>
                <a:lnTo>
                  <a:pt x="6" y="1490"/>
                </a:lnTo>
                <a:lnTo>
                  <a:pt x="6" y="1493"/>
                </a:lnTo>
                <a:lnTo>
                  <a:pt x="6" y="1493"/>
                </a:lnTo>
                <a:close/>
                <a:moveTo>
                  <a:pt x="6" y="1537"/>
                </a:moveTo>
                <a:lnTo>
                  <a:pt x="6" y="1559"/>
                </a:lnTo>
                <a:lnTo>
                  <a:pt x="6" y="1559"/>
                </a:lnTo>
                <a:lnTo>
                  <a:pt x="6" y="1561"/>
                </a:lnTo>
                <a:lnTo>
                  <a:pt x="4" y="1561"/>
                </a:lnTo>
                <a:lnTo>
                  <a:pt x="4" y="1561"/>
                </a:lnTo>
                <a:lnTo>
                  <a:pt x="2" y="1561"/>
                </a:lnTo>
                <a:lnTo>
                  <a:pt x="0" y="1561"/>
                </a:lnTo>
                <a:lnTo>
                  <a:pt x="0" y="1559"/>
                </a:lnTo>
                <a:lnTo>
                  <a:pt x="0" y="1559"/>
                </a:lnTo>
                <a:lnTo>
                  <a:pt x="0" y="1537"/>
                </a:lnTo>
                <a:lnTo>
                  <a:pt x="0" y="1537"/>
                </a:lnTo>
                <a:lnTo>
                  <a:pt x="0" y="1535"/>
                </a:lnTo>
                <a:lnTo>
                  <a:pt x="2" y="1535"/>
                </a:lnTo>
                <a:lnTo>
                  <a:pt x="4" y="1535"/>
                </a:lnTo>
                <a:lnTo>
                  <a:pt x="4" y="1535"/>
                </a:lnTo>
                <a:lnTo>
                  <a:pt x="6" y="1535"/>
                </a:lnTo>
                <a:lnTo>
                  <a:pt x="6" y="1537"/>
                </a:lnTo>
                <a:lnTo>
                  <a:pt x="6" y="1537"/>
                </a:lnTo>
                <a:lnTo>
                  <a:pt x="6" y="1537"/>
                </a:lnTo>
                <a:close/>
                <a:moveTo>
                  <a:pt x="6" y="1584"/>
                </a:moveTo>
                <a:lnTo>
                  <a:pt x="6" y="1605"/>
                </a:lnTo>
                <a:lnTo>
                  <a:pt x="6" y="1605"/>
                </a:lnTo>
                <a:lnTo>
                  <a:pt x="6" y="1608"/>
                </a:lnTo>
                <a:lnTo>
                  <a:pt x="4" y="1608"/>
                </a:lnTo>
                <a:lnTo>
                  <a:pt x="4" y="1608"/>
                </a:lnTo>
                <a:lnTo>
                  <a:pt x="2" y="1608"/>
                </a:lnTo>
                <a:lnTo>
                  <a:pt x="0" y="1608"/>
                </a:lnTo>
                <a:lnTo>
                  <a:pt x="0" y="1605"/>
                </a:lnTo>
                <a:lnTo>
                  <a:pt x="0" y="1605"/>
                </a:lnTo>
                <a:lnTo>
                  <a:pt x="0" y="1584"/>
                </a:lnTo>
                <a:lnTo>
                  <a:pt x="0" y="1584"/>
                </a:lnTo>
                <a:lnTo>
                  <a:pt x="0" y="1582"/>
                </a:lnTo>
                <a:lnTo>
                  <a:pt x="2" y="1582"/>
                </a:lnTo>
                <a:lnTo>
                  <a:pt x="4" y="1582"/>
                </a:lnTo>
                <a:lnTo>
                  <a:pt x="4" y="1582"/>
                </a:lnTo>
                <a:lnTo>
                  <a:pt x="6" y="1582"/>
                </a:lnTo>
                <a:lnTo>
                  <a:pt x="6" y="1584"/>
                </a:lnTo>
                <a:lnTo>
                  <a:pt x="6" y="1584"/>
                </a:lnTo>
                <a:lnTo>
                  <a:pt x="6" y="1584"/>
                </a:lnTo>
                <a:close/>
                <a:moveTo>
                  <a:pt x="6" y="1631"/>
                </a:moveTo>
                <a:lnTo>
                  <a:pt x="6" y="1652"/>
                </a:lnTo>
                <a:lnTo>
                  <a:pt x="6" y="1652"/>
                </a:lnTo>
                <a:lnTo>
                  <a:pt x="6" y="1654"/>
                </a:lnTo>
                <a:lnTo>
                  <a:pt x="4" y="1654"/>
                </a:lnTo>
                <a:lnTo>
                  <a:pt x="4" y="1654"/>
                </a:lnTo>
                <a:lnTo>
                  <a:pt x="2" y="1654"/>
                </a:lnTo>
                <a:lnTo>
                  <a:pt x="0" y="1654"/>
                </a:lnTo>
                <a:lnTo>
                  <a:pt x="0" y="1652"/>
                </a:lnTo>
                <a:lnTo>
                  <a:pt x="0" y="1652"/>
                </a:lnTo>
                <a:lnTo>
                  <a:pt x="0" y="1631"/>
                </a:lnTo>
                <a:lnTo>
                  <a:pt x="0" y="1631"/>
                </a:lnTo>
                <a:lnTo>
                  <a:pt x="0" y="1629"/>
                </a:lnTo>
                <a:lnTo>
                  <a:pt x="2" y="1629"/>
                </a:lnTo>
                <a:lnTo>
                  <a:pt x="4" y="1629"/>
                </a:lnTo>
                <a:lnTo>
                  <a:pt x="4" y="1629"/>
                </a:lnTo>
                <a:lnTo>
                  <a:pt x="6" y="1629"/>
                </a:lnTo>
                <a:lnTo>
                  <a:pt x="6" y="1631"/>
                </a:lnTo>
                <a:lnTo>
                  <a:pt x="6" y="1631"/>
                </a:lnTo>
                <a:lnTo>
                  <a:pt x="6" y="1631"/>
                </a:lnTo>
                <a:close/>
                <a:moveTo>
                  <a:pt x="6" y="1678"/>
                </a:moveTo>
                <a:lnTo>
                  <a:pt x="6" y="1697"/>
                </a:lnTo>
                <a:lnTo>
                  <a:pt x="6" y="1699"/>
                </a:lnTo>
                <a:lnTo>
                  <a:pt x="6" y="1701"/>
                </a:lnTo>
                <a:lnTo>
                  <a:pt x="4" y="1701"/>
                </a:lnTo>
                <a:lnTo>
                  <a:pt x="4" y="1701"/>
                </a:lnTo>
                <a:lnTo>
                  <a:pt x="2" y="1701"/>
                </a:lnTo>
                <a:lnTo>
                  <a:pt x="0" y="1701"/>
                </a:lnTo>
                <a:lnTo>
                  <a:pt x="0" y="1699"/>
                </a:lnTo>
                <a:lnTo>
                  <a:pt x="0" y="1697"/>
                </a:lnTo>
                <a:lnTo>
                  <a:pt x="0" y="1678"/>
                </a:lnTo>
                <a:lnTo>
                  <a:pt x="0" y="1676"/>
                </a:lnTo>
                <a:lnTo>
                  <a:pt x="0" y="1676"/>
                </a:lnTo>
                <a:lnTo>
                  <a:pt x="2" y="1676"/>
                </a:lnTo>
                <a:lnTo>
                  <a:pt x="4" y="1676"/>
                </a:lnTo>
                <a:lnTo>
                  <a:pt x="4" y="1676"/>
                </a:lnTo>
                <a:lnTo>
                  <a:pt x="6" y="1676"/>
                </a:lnTo>
                <a:lnTo>
                  <a:pt x="6" y="1676"/>
                </a:lnTo>
                <a:lnTo>
                  <a:pt x="6" y="1678"/>
                </a:lnTo>
                <a:lnTo>
                  <a:pt x="6" y="1678"/>
                </a:lnTo>
                <a:close/>
                <a:moveTo>
                  <a:pt x="6" y="1725"/>
                </a:moveTo>
                <a:lnTo>
                  <a:pt x="6" y="1744"/>
                </a:lnTo>
                <a:lnTo>
                  <a:pt x="6" y="1746"/>
                </a:lnTo>
                <a:lnTo>
                  <a:pt x="6" y="1746"/>
                </a:lnTo>
                <a:lnTo>
                  <a:pt x="4" y="1748"/>
                </a:lnTo>
                <a:lnTo>
                  <a:pt x="4" y="1748"/>
                </a:lnTo>
                <a:lnTo>
                  <a:pt x="2" y="1748"/>
                </a:lnTo>
                <a:lnTo>
                  <a:pt x="0" y="1746"/>
                </a:lnTo>
                <a:lnTo>
                  <a:pt x="0" y="1746"/>
                </a:lnTo>
                <a:lnTo>
                  <a:pt x="0" y="1744"/>
                </a:lnTo>
                <a:lnTo>
                  <a:pt x="0" y="1725"/>
                </a:lnTo>
                <a:lnTo>
                  <a:pt x="0" y="1722"/>
                </a:lnTo>
                <a:lnTo>
                  <a:pt x="0" y="1722"/>
                </a:lnTo>
                <a:lnTo>
                  <a:pt x="2" y="1722"/>
                </a:lnTo>
                <a:lnTo>
                  <a:pt x="4" y="1720"/>
                </a:lnTo>
                <a:lnTo>
                  <a:pt x="4" y="1722"/>
                </a:lnTo>
                <a:lnTo>
                  <a:pt x="6" y="1722"/>
                </a:lnTo>
                <a:lnTo>
                  <a:pt x="6" y="1722"/>
                </a:lnTo>
                <a:lnTo>
                  <a:pt x="6" y="1725"/>
                </a:lnTo>
                <a:lnTo>
                  <a:pt x="6" y="1725"/>
                </a:lnTo>
                <a:close/>
                <a:moveTo>
                  <a:pt x="6" y="1771"/>
                </a:moveTo>
                <a:lnTo>
                  <a:pt x="6" y="1791"/>
                </a:lnTo>
                <a:lnTo>
                  <a:pt x="6" y="1793"/>
                </a:lnTo>
                <a:lnTo>
                  <a:pt x="6" y="1793"/>
                </a:lnTo>
                <a:lnTo>
                  <a:pt x="4" y="1795"/>
                </a:lnTo>
                <a:lnTo>
                  <a:pt x="4" y="1795"/>
                </a:lnTo>
                <a:lnTo>
                  <a:pt x="2" y="1795"/>
                </a:lnTo>
                <a:lnTo>
                  <a:pt x="0" y="1793"/>
                </a:lnTo>
                <a:lnTo>
                  <a:pt x="0" y="1793"/>
                </a:lnTo>
                <a:lnTo>
                  <a:pt x="0" y="1791"/>
                </a:lnTo>
                <a:lnTo>
                  <a:pt x="0" y="1771"/>
                </a:lnTo>
                <a:lnTo>
                  <a:pt x="0" y="1769"/>
                </a:lnTo>
                <a:lnTo>
                  <a:pt x="0" y="1769"/>
                </a:lnTo>
                <a:lnTo>
                  <a:pt x="2" y="1767"/>
                </a:lnTo>
                <a:lnTo>
                  <a:pt x="4" y="1767"/>
                </a:lnTo>
                <a:lnTo>
                  <a:pt x="4" y="1767"/>
                </a:lnTo>
                <a:lnTo>
                  <a:pt x="6" y="1769"/>
                </a:lnTo>
                <a:lnTo>
                  <a:pt x="6" y="1769"/>
                </a:lnTo>
                <a:lnTo>
                  <a:pt x="6" y="1771"/>
                </a:lnTo>
                <a:lnTo>
                  <a:pt x="6" y="1771"/>
                </a:lnTo>
                <a:close/>
                <a:moveTo>
                  <a:pt x="6" y="1818"/>
                </a:moveTo>
                <a:lnTo>
                  <a:pt x="6" y="1837"/>
                </a:lnTo>
                <a:lnTo>
                  <a:pt x="6" y="1840"/>
                </a:lnTo>
                <a:lnTo>
                  <a:pt x="6" y="1840"/>
                </a:lnTo>
                <a:lnTo>
                  <a:pt x="4" y="1842"/>
                </a:lnTo>
                <a:lnTo>
                  <a:pt x="4" y="1842"/>
                </a:lnTo>
                <a:lnTo>
                  <a:pt x="2" y="1842"/>
                </a:lnTo>
                <a:lnTo>
                  <a:pt x="0" y="1840"/>
                </a:lnTo>
                <a:lnTo>
                  <a:pt x="0" y="1840"/>
                </a:lnTo>
                <a:lnTo>
                  <a:pt x="0" y="1837"/>
                </a:lnTo>
                <a:lnTo>
                  <a:pt x="0" y="1818"/>
                </a:lnTo>
                <a:lnTo>
                  <a:pt x="0" y="1816"/>
                </a:lnTo>
                <a:lnTo>
                  <a:pt x="0" y="1816"/>
                </a:lnTo>
                <a:lnTo>
                  <a:pt x="2" y="1814"/>
                </a:lnTo>
                <a:lnTo>
                  <a:pt x="4" y="1814"/>
                </a:lnTo>
                <a:lnTo>
                  <a:pt x="4" y="1814"/>
                </a:lnTo>
                <a:lnTo>
                  <a:pt x="6" y="1816"/>
                </a:lnTo>
                <a:lnTo>
                  <a:pt x="6" y="1816"/>
                </a:lnTo>
                <a:lnTo>
                  <a:pt x="6" y="1818"/>
                </a:lnTo>
                <a:lnTo>
                  <a:pt x="6" y="1818"/>
                </a:lnTo>
                <a:close/>
                <a:moveTo>
                  <a:pt x="6" y="1865"/>
                </a:moveTo>
                <a:lnTo>
                  <a:pt x="6" y="1884"/>
                </a:lnTo>
                <a:lnTo>
                  <a:pt x="6" y="1886"/>
                </a:lnTo>
                <a:lnTo>
                  <a:pt x="6" y="1886"/>
                </a:lnTo>
                <a:lnTo>
                  <a:pt x="4" y="1886"/>
                </a:lnTo>
                <a:lnTo>
                  <a:pt x="4" y="1889"/>
                </a:lnTo>
                <a:lnTo>
                  <a:pt x="2" y="1886"/>
                </a:lnTo>
                <a:lnTo>
                  <a:pt x="0" y="1886"/>
                </a:lnTo>
                <a:lnTo>
                  <a:pt x="0" y="1886"/>
                </a:lnTo>
                <a:lnTo>
                  <a:pt x="0" y="1884"/>
                </a:lnTo>
                <a:lnTo>
                  <a:pt x="0" y="1865"/>
                </a:lnTo>
                <a:lnTo>
                  <a:pt x="0" y="1863"/>
                </a:lnTo>
                <a:lnTo>
                  <a:pt x="0" y="1861"/>
                </a:lnTo>
                <a:lnTo>
                  <a:pt x="2" y="1861"/>
                </a:lnTo>
                <a:lnTo>
                  <a:pt x="4" y="1861"/>
                </a:lnTo>
                <a:lnTo>
                  <a:pt x="4" y="1861"/>
                </a:lnTo>
                <a:lnTo>
                  <a:pt x="6" y="1861"/>
                </a:lnTo>
                <a:lnTo>
                  <a:pt x="6" y="1863"/>
                </a:lnTo>
                <a:lnTo>
                  <a:pt x="6" y="1865"/>
                </a:lnTo>
                <a:lnTo>
                  <a:pt x="6" y="1865"/>
                </a:lnTo>
                <a:close/>
                <a:moveTo>
                  <a:pt x="6" y="1910"/>
                </a:moveTo>
                <a:lnTo>
                  <a:pt x="6" y="1918"/>
                </a:lnTo>
                <a:lnTo>
                  <a:pt x="6" y="1918"/>
                </a:lnTo>
                <a:lnTo>
                  <a:pt x="6" y="1920"/>
                </a:lnTo>
                <a:lnTo>
                  <a:pt x="4" y="1920"/>
                </a:lnTo>
                <a:lnTo>
                  <a:pt x="4" y="1920"/>
                </a:lnTo>
                <a:lnTo>
                  <a:pt x="2" y="1920"/>
                </a:lnTo>
                <a:lnTo>
                  <a:pt x="0" y="1920"/>
                </a:lnTo>
                <a:lnTo>
                  <a:pt x="0" y="1918"/>
                </a:lnTo>
                <a:lnTo>
                  <a:pt x="0" y="1918"/>
                </a:lnTo>
                <a:lnTo>
                  <a:pt x="0" y="1910"/>
                </a:lnTo>
                <a:lnTo>
                  <a:pt x="0" y="1910"/>
                </a:lnTo>
                <a:lnTo>
                  <a:pt x="0" y="1908"/>
                </a:lnTo>
                <a:lnTo>
                  <a:pt x="2" y="1908"/>
                </a:lnTo>
                <a:lnTo>
                  <a:pt x="4" y="1908"/>
                </a:lnTo>
                <a:lnTo>
                  <a:pt x="4" y="1908"/>
                </a:lnTo>
                <a:lnTo>
                  <a:pt x="6" y="1908"/>
                </a:lnTo>
                <a:lnTo>
                  <a:pt x="6" y="1910"/>
                </a:lnTo>
                <a:lnTo>
                  <a:pt x="6" y="1910"/>
                </a:lnTo>
                <a:lnTo>
                  <a:pt x="6" y="191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351080" y="2276280"/>
            <a:ext cx="1440" cy="3036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38720" y="2268360"/>
            <a:ext cx="9720" cy="3048120"/>
          </a:xfrm>
          <a:custGeom>
            <a:avLst/>
            <a:gdLst/>
            <a:ahLst/>
            <a:rect l="l" t="t" r="r" b="b"/>
            <a:pathLst>
              <a:path w="6" h="1920">
                <a:moveTo>
                  <a:pt x="6" y="5"/>
                </a:moveTo>
                <a:lnTo>
                  <a:pt x="6" y="24"/>
                </a:lnTo>
                <a:lnTo>
                  <a:pt x="6" y="26"/>
                </a:lnTo>
                <a:lnTo>
                  <a:pt x="6" y="26"/>
                </a:lnTo>
                <a:lnTo>
                  <a:pt x="6" y="26"/>
                </a:lnTo>
                <a:lnTo>
                  <a:pt x="4" y="26"/>
                </a:lnTo>
                <a:lnTo>
                  <a:pt x="2" y="26"/>
                </a:lnTo>
                <a:lnTo>
                  <a:pt x="2" y="26"/>
                </a:lnTo>
                <a:lnTo>
                  <a:pt x="0" y="26"/>
                </a:lnTo>
                <a:lnTo>
                  <a:pt x="0" y="24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6" y="3"/>
                </a:lnTo>
                <a:lnTo>
                  <a:pt x="6" y="5"/>
                </a:lnTo>
                <a:lnTo>
                  <a:pt x="6" y="5"/>
                </a:lnTo>
                <a:close/>
                <a:moveTo>
                  <a:pt x="6" y="49"/>
                </a:moveTo>
                <a:lnTo>
                  <a:pt x="6" y="71"/>
                </a:lnTo>
                <a:lnTo>
                  <a:pt x="6" y="71"/>
                </a:lnTo>
                <a:lnTo>
                  <a:pt x="6" y="73"/>
                </a:lnTo>
                <a:lnTo>
                  <a:pt x="6" y="73"/>
                </a:lnTo>
                <a:lnTo>
                  <a:pt x="4" y="73"/>
                </a:lnTo>
                <a:lnTo>
                  <a:pt x="2" y="73"/>
                </a:lnTo>
                <a:lnTo>
                  <a:pt x="2" y="73"/>
                </a:lnTo>
                <a:lnTo>
                  <a:pt x="0" y="71"/>
                </a:lnTo>
                <a:lnTo>
                  <a:pt x="0" y="71"/>
                </a:lnTo>
                <a:lnTo>
                  <a:pt x="0" y="49"/>
                </a:lnTo>
                <a:lnTo>
                  <a:pt x="0" y="49"/>
                </a:lnTo>
                <a:lnTo>
                  <a:pt x="2" y="47"/>
                </a:lnTo>
                <a:lnTo>
                  <a:pt x="2" y="47"/>
                </a:lnTo>
                <a:lnTo>
                  <a:pt x="4" y="47"/>
                </a:lnTo>
                <a:lnTo>
                  <a:pt x="6" y="47"/>
                </a:lnTo>
                <a:lnTo>
                  <a:pt x="6" y="47"/>
                </a:lnTo>
                <a:lnTo>
                  <a:pt x="6" y="49"/>
                </a:lnTo>
                <a:lnTo>
                  <a:pt x="6" y="49"/>
                </a:lnTo>
                <a:lnTo>
                  <a:pt x="6" y="49"/>
                </a:lnTo>
                <a:close/>
                <a:moveTo>
                  <a:pt x="6" y="96"/>
                </a:moveTo>
                <a:lnTo>
                  <a:pt x="6" y="118"/>
                </a:lnTo>
                <a:lnTo>
                  <a:pt x="6" y="118"/>
                </a:lnTo>
                <a:lnTo>
                  <a:pt x="6" y="120"/>
                </a:lnTo>
                <a:lnTo>
                  <a:pt x="6" y="120"/>
                </a:lnTo>
                <a:lnTo>
                  <a:pt x="4" y="120"/>
                </a:lnTo>
                <a:lnTo>
                  <a:pt x="2" y="120"/>
                </a:lnTo>
                <a:lnTo>
                  <a:pt x="2" y="120"/>
                </a:lnTo>
                <a:lnTo>
                  <a:pt x="0" y="118"/>
                </a:lnTo>
                <a:lnTo>
                  <a:pt x="0" y="118"/>
                </a:lnTo>
                <a:lnTo>
                  <a:pt x="0" y="96"/>
                </a:lnTo>
                <a:lnTo>
                  <a:pt x="0" y="96"/>
                </a:lnTo>
                <a:lnTo>
                  <a:pt x="2" y="94"/>
                </a:lnTo>
                <a:lnTo>
                  <a:pt x="2" y="94"/>
                </a:lnTo>
                <a:lnTo>
                  <a:pt x="4" y="94"/>
                </a:lnTo>
                <a:lnTo>
                  <a:pt x="6" y="94"/>
                </a:lnTo>
                <a:lnTo>
                  <a:pt x="6" y="94"/>
                </a:lnTo>
                <a:lnTo>
                  <a:pt x="6" y="96"/>
                </a:lnTo>
                <a:lnTo>
                  <a:pt x="6" y="96"/>
                </a:lnTo>
                <a:lnTo>
                  <a:pt x="6" y="96"/>
                </a:lnTo>
                <a:close/>
                <a:moveTo>
                  <a:pt x="6" y="143"/>
                </a:moveTo>
                <a:lnTo>
                  <a:pt x="6" y="164"/>
                </a:lnTo>
                <a:lnTo>
                  <a:pt x="6" y="164"/>
                </a:lnTo>
                <a:lnTo>
                  <a:pt x="6" y="166"/>
                </a:lnTo>
                <a:lnTo>
                  <a:pt x="6" y="166"/>
                </a:lnTo>
                <a:lnTo>
                  <a:pt x="4" y="166"/>
                </a:lnTo>
                <a:lnTo>
                  <a:pt x="2" y="166"/>
                </a:lnTo>
                <a:lnTo>
                  <a:pt x="2" y="166"/>
                </a:lnTo>
                <a:lnTo>
                  <a:pt x="0" y="164"/>
                </a:lnTo>
                <a:lnTo>
                  <a:pt x="0" y="164"/>
                </a:lnTo>
                <a:lnTo>
                  <a:pt x="0" y="143"/>
                </a:lnTo>
                <a:lnTo>
                  <a:pt x="0" y="143"/>
                </a:lnTo>
                <a:lnTo>
                  <a:pt x="2" y="141"/>
                </a:lnTo>
                <a:lnTo>
                  <a:pt x="2" y="141"/>
                </a:lnTo>
                <a:lnTo>
                  <a:pt x="4" y="141"/>
                </a:lnTo>
                <a:lnTo>
                  <a:pt x="6" y="141"/>
                </a:lnTo>
                <a:lnTo>
                  <a:pt x="6" y="141"/>
                </a:lnTo>
                <a:lnTo>
                  <a:pt x="6" y="143"/>
                </a:lnTo>
                <a:lnTo>
                  <a:pt x="6" y="143"/>
                </a:lnTo>
                <a:lnTo>
                  <a:pt x="6" y="143"/>
                </a:lnTo>
                <a:close/>
                <a:moveTo>
                  <a:pt x="6" y="190"/>
                </a:moveTo>
                <a:lnTo>
                  <a:pt x="6" y="209"/>
                </a:lnTo>
                <a:lnTo>
                  <a:pt x="6" y="211"/>
                </a:lnTo>
                <a:lnTo>
                  <a:pt x="6" y="213"/>
                </a:lnTo>
                <a:lnTo>
                  <a:pt x="6" y="213"/>
                </a:lnTo>
                <a:lnTo>
                  <a:pt x="4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1"/>
                </a:lnTo>
                <a:lnTo>
                  <a:pt x="0" y="209"/>
                </a:lnTo>
                <a:lnTo>
                  <a:pt x="0" y="190"/>
                </a:lnTo>
                <a:lnTo>
                  <a:pt x="0" y="188"/>
                </a:lnTo>
                <a:lnTo>
                  <a:pt x="2" y="188"/>
                </a:lnTo>
                <a:lnTo>
                  <a:pt x="2" y="188"/>
                </a:lnTo>
                <a:lnTo>
                  <a:pt x="4" y="186"/>
                </a:lnTo>
                <a:lnTo>
                  <a:pt x="6" y="188"/>
                </a:lnTo>
                <a:lnTo>
                  <a:pt x="6" y="188"/>
                </a:lnTo>
                <a:lnTo>
                  <a:pt x="6" y="188"/>
                </a:lnTo>
                <a:lnTo>
                  <a:pt x="6" y="190"/>
                </a:lnTo>
                <a:lnTo>
                  <a:pt x="6" y="190"/>
                </a:lnTo>
                <a:close/>
                <a:moveTo>
                  <a:pt x="6" y="237"/>
                </a:moveTo>
                <a:lnTo>
                  <a:pt x="6" y="256"/>
                </a:lnTo>
                <a:lnTo>
                  <a:pt x="6" y="258"/>
                </a:lnTo>
                <a:lnTo>
                  <a:pt x="6" y="258"/>
                </a:lnTo>
                <a:lnTo>
                  <a:pt x="6" y="260"/>
                </a:lnTo>
                <a:lnTo>
                  <a:pt x="4" y="260"/>
                </a:lnTo>
                <a:lnTo>
                  <a:pt x="2" y="260"/>
                </a:lnTo>
                <a:lnTo>
                  <a:pt x="2" y="258"/>
                </a:lnTo>
                <a:lnTo>
                  <a:pt x="0" y="258"/>
                </a:lnTo>
                <a:lnTo>
                  <a:pt x="0" y="256"/>
                </a:lnTo>
                <a:lnTo>
                  <a:pt x="0" y="237"/>
                </a:lnTo>
                <a:lnTo>
                  <a:pt x="0" y="235"/>
                </a:lnTo>
                <a:lnTo>
                  <a:pt x="2" y="235"/>
                </a:lnTo>
                <a:lnTo>
                  <a:pt x="2" y="232"/>
                </a:lnTo>
                <a:lnTo>
                  <a:pt x="4" y="232"/>
                </a:lnTo>
                <a:lnTo>
                  <a:pt x="6" y="232"/>
                </a:lnTo>
                <a:lnTo>
                  <a:pt x="6" y="235"/>
                </a:lnTo>
                <a:lnTo>
                  <a:pt x="6" y="235"/>
                </a:lnTo>
                <a:lnTo>
                  <a:pt x="6" y="237"/>
                </a:lnTo>
                <a:lnTo>
                  <a:pt x="6" y="237"/>
                </a:lnTo>
                <a:close/>
                <a:moveTo>
                  <a:pt x="6" y="284"/>
                </a:moveTo>
                <a:lnTo>
                  <a:pt x="6" y="303"/>
                </a:lnTo>
                <a:lnTo>
                  <a:pt x="6" y="305"/>
                </a:lnTo>
                <a:lnTo>
                  <a:pt x="6" y="305"/>
                </a:lnTo>
                <a:lnTo>
                  <a:pt x="6" y="307"/>
                </a:lnTo>
                <a:lnTo>
                  <a:pt x="4" y="307"/>
                </a:lnTo>
                <a:lnTo>
                  <a:pt x="2" y="307"/>
                </a:lnTo>
                <a:lnTo>
                  <a:pt x="2" y="305"/>
                </a:lnTo>
                <a:lnTo>
                  <a:pt x="0" y="305"/>
                </a:lnTo>
                <a:lnTo>
                  <a:pt x="0" y="303"/>
                </a:lnTo>
                <a:lnTo>
                  <a:pt x="0" y="284"/>
                </a:lnTo>
                <a:lnTo>
                  <a:pt x="0" y="281"/>
                </a:lnTo>
                <a:lnTo>
                  <a:pt x="2" y="281"/>
                </a:lnTo>
                <a:lnTo>
                  <a:pt x="2" y="279"/>
                </a:lnTo>
                <a:lnTo>
                  <a:pt x="4" y="279"/>
                </a:lnTo>
                <a:lnTo>
                  <a:pt x="6" y="279"/>
                </a:lnTo>
                <a:lnTo>
                  <a:pt x="6" y="281"/>
                </a:lnTo>
                <a:lnTo>
                  <a:pt x="6" y="281"/>
                </a:lnTo>
                <a:lnTo>
                  <a:pt x="6" y="284"/>
                </a:lnTo>
                <a:lnTo>
                  <a:pt x="6" y="284"/>
                </a:lnTo>
                <a:close/>
                <a:moveTo>
                  <a:pt x="6" y="330"/>
                </a:moveTo>
                <a:lnTo>
                  <a:pt x="6" y="350"/>
                </a:lnTo>
                <a:lnTo>
                  <a:pt x="6" y="352"/>
                </a:lnTo>
                <a:lnTo>
                  <a:pt x="6" y="352"/>
                </a:lnTo>
                <a:lnTo>
                  <a:pt x="6" y="352"/>
                </a:lnTo>
                <a:lnTo>
                  <a:pt x="4" y="354"/>
                </a:lnTo>
                <a:lnTo>
                  <a:pt x="2" y="352"/>
                </a:lnTo>
                <a:lnTo>
                  <a:pt x="2" y="352"/>
                </a:lnTo>
                <a:lnTo>
                  <a:pt x="0" y="352"/>
                </a:lnTo>
                <a:lnTo>
                  <a:pt x="0" y="350"/>
                </a:lnTo>
                <a:lnTo>
                  <a:pt x="0" y="330"/>
                </a:lnTo>
                <a:lnTo>
                  <a:pt x="0" y="328"/>
                </a:lnTo>
                <a:lnTo>
                  <a:pt x="2" y="328"/>
                </a:lnTo>
                <a:lnTo>
                  <a:pt x="2" y="326"/>
                </a:lnTo>
                <a:lnTo>
                  <a:pt x="4" y="326"/>
                </a:lnTo>
                <a:lnTo>
                  <a:pt x="6" y="326"/>
                </a:lnTo>
                <a:lnTo>
                  <a:pt x="6" y="328"/>
                </a:lnTo>
                <a:lnTo>
                  <a:pt x="6" y="328"/>
                </a:lnTo>
                <a:lnTo>
                  <a:pt x="6" y="330"/>
                </a:lnTo>
                <a:lnTo>
                  <a:pt x="6" y="330"/>
                </a:lnTo>
                <a:close/>
                <a:moveTo>
                  <a:pt x="6" y="377"/>
                </a:moveTo>
                <a:lnTo>
                  <a:pt x="6" y="396"/>
                </a:lnTo>
                <a:lnTo>
                  <a:pt x="6" y="399"/>
                </a:lnTo>
                <a:lnTo>
                  <a:pt x="6" y="399"/>
                </a:lnTo>
                <a:lnTo>
                  <a:pt x="6" y="399"/>
                </a:lnTo>
                <a:lnTo>
                  <a:pt x="4" y="399"/>
                </a:lnTo>
                <a:lnTo>
                  <a:pt x="2" y="399"/>
                </a:lnTo>
                <a:lnTo>
                  <a:pt x="2" y="399"/>
                </a:lnTo>
                <a:lnTo>
                  <a:pt x="0" y="399"/>
                </a:lnTo>
                <a:lnTo>
                  <a:pt x="0" y="396"/>
                </a:lnTo>
                <a:lnTo>
                  <a:pt x="0" y="377"/>
                </a:lnTo>
                <a:lnTo>
                  <a:pt x="0" y="375"/>
                </a:lnTo>
                <a:lnTo>
                  <a:pt x="2" y="373"/>
                </a:lnTo>
                <a:lnTo>
                  <a:pt x="2" y="373"/>
                </a:lnTo>
                <a:lnTo>
                  <a:pt x="4" y="373"/>
                </a:lnTo>
                <a:lnTo>
                  <a:pt x="6" y="373"/>
                </a:lnTo>
                <a:lnTo>
                  <a:pt x="6" y="373"/>
                </a:lnTo>
                <a:lnTo>
                  <a:pt x="6" y="375"/>
                </a:lnTo>
                <a:lnTo>
                  <a:pt x="6" y="377"/>
                </a:lnTo>
                <a:lnTo>
                  <a:pt x="6" y="377"/>
                </a:lnTo>
                <a:close/>
                <a:moveTo>
                  <a:pt x="6" y="422"/>
                </a:moveTo>
                <a:lnTo>
                  <a:pt x="6" y="443"/>
                </a:lnTo>
                <a:lnTo>
                  <a:pt x="6" y="443"/>
                </a:lnTo>
                <a:lnTo>
                  <a:pt x="6" y="445"/>
                </a:lnTo>
                <a:lnTo>
                  <a:pt x="6" y="445"/>
                </a:lnTo>
                <a:lnTo>
                  <a:pt x="4" y="445"/>
                </a:lnTo>
                <a:lnTo>
                  <a:pt x="2" y="445"/>
                </a:lnTo>
                <a:lnTo>
                  <a:pt x="2" y="445"/>
                </a:lnTo>
                <a:lnTo>
                  <a:pt x="0" y="443"/>
                </a:lnTo>
                <a:lnTo>
                  <a:pt x="0" y="443"/>
                </a:lnTo>
                <a:lnTo>
                  <a:pt x="0" y="422"/>
                </a:lnTo>
                <a:lnTo>
                  <a:pt x="0" y="422"/>
                </a:lnTo>
                <a:lnTo>
                  <a:pt x="2" y="420"/>
                </a:lnTo>
                <a:lnTo>
                  <a:pt x="2" y="420"/>
                </a:lnTo>
                <a:lnTo>
                  <a:pt x="4" y="420"/>
                </a:lnTo>
                <a:lnTo>
                  <a:pt x="6" y="420"/>
                </a:lnTo>
                <a:lnTo>
                  <a:pt x="6" y="420"/>
                </a:lnTo>
                <a:lnTo>
                  <a:pt x="6" y="422"/>
                </a:lnTo>
                <a:lnTo>
                  <a:pt x="6" y="422"/>
                </a:lnTo>
                <a:lnTo>
                  <a:pt x="6" y="422"/>
                </a:lnTo>
                <a:close/>
                <a:moveTo>
                  <a:pt x="6" y="469"/>
                </a:moveTo>
                <a:lnTo>
                  <a:pt x="6" y="490"/>
                </a:lnTo>
                <a:lnTo>
                  <a:pt x="6" y="490"/>
                </a:lnTo>
                <a:lnTo>
                  <a:pt x="6" y="492"/>
                </a:lnTo>
                <a:lnTo>
                  <a:pt x="6" y="492"/>
                </a:lnTo>
                <a:lnTo>
                  <a:pt x="4" y="492"/>
                </a:lnTo>
                <a:lnTo>
                  <a:pt x="2" y="492"/>
                </a:lnTo>
                <a:lnTo>
                  <a:pt x="2" y="492"/>
                </a:lnTo>
                <a:lnTo>
                  <a:pt x="0" y="490"/>
                </a:lnTo>
                <a:lnTo>
                  <a:pt x="0" y="490"/>
                </a:lnTo>
                <a:lnTo>
                  <a:pt x="0" y="469"/>
                </a:lnTo>
                <a:lnTo>
                  <a:pt x="0" y="469"/>
                </a:lnTo>
                <a:lnTo>
                  <a:pt x="2" y="467"/>
                </a:lnTo>
                <a:lnTo>
                  <a:pt x="2" y="467"/>
                </a:lnTo>
                <a:lnTo>
                  <a:pt x="4" y="467"/>
                </a:lnTo>
                <a:lnTo>
                  <a:pt x="6" y="467"/>
                </a:lnTo>
                <a:lnTo>
                  <a:pt x="6" y="467"/>
                </a:lnTo>
                <a:lnTo>
                  <a:pt x="6" y="469"/>
                </a:lnTo>
                <a:lnTo>
                  <a:pt x="6" y="469"/>
                </a:lnTo>
                <a:lnTo>
                  <a:pt x="6" y="469"/>
                </a:lnTo>
                <a:close/>
                <a:moveTo>
                  <a:pt x="6" y="516"/>
                </a:moveTo>
                <a:lnTo>
                  <a:pt x="6" y="537"/>
                </a:lnTo>
                <a:lnTo>
                  <a:pt x="6" y="537"/>
                </a:lnTo>
                <a:lnTo>
                  <a:pt x="6" y="539"/>
                </a:lnTo>
                <a:lnTo>
                  <a:pt x="6" y="539"/>
                </a:lnTo>
                <a:lnTo>
                  <a:pt x="4" y="539"/>
                </a:lnTo>
                <a:lnTo>
                  <a:pt x="2" y="539"/>
                </a:lnTo>
                <a:lnTo>
                  <a:pt x="2" y="539"/>
                </a:lnTo>
                <a:lnTo>
                  <a:pt x="0" y="537"/>
                </a:lnTo>
                <a:lnTo>
                  <a:pt x="0" y="537"/>
                </a:lnTo>
                <a:lnTo>
                  <a:pt x="0" y="516"/>
                </a:lnTo>
                <a:lnTo>
                  <a:pt x="0" y="516"/>
                </a:lnTo>
                <a:lnTo>
                  <a:pt x="2" y="513"/>
                </a:lnTo>
                <a:lnTo>
                  <a:pt x="2" y="513"/>
                </a:lnTo>
                <a:lnTo>
                  <a:pt x="4" y="513"/>
                </a:lnTo>
                <a:lnTo>
                  <a:pt x="6" y="513"/>
                </a:lnTo>
                <a:lnTo>
                  <a:pt x="6" y="513"/>
                </a:lnTo>
                <a:lnTo>
                  <a:pt x="6" y="516"/>
                </a:lnTo>
                <a:lnTo>
                  <a:pt x="6" y="516"/>
                </a:lnTo>
                <a:lnTo>
                  <a:pt x="6" y="516"/>
                </a:lnTo>
                <a:close/>
                <a:moveTo>
                  <a:pt x="6" y="562"/>
                </a:moveTo>
                <a:lnTo>
                  <a:pt x="6" y="582"/>
                </a:lnTo>
                <a:lnTo>
                  <a:pt x="6" y="584"/>
                </a:lnTo>
                <a:lnTo>
                  <a:pt x="6" y="586"/>
                </a:lnTo>
                <a:lnTo>
                  <a:pt x="6" y="586"/>
                </a:lnTo>
                <a:lnTo>
                  <a:pt x="4" y="586"/>
                </a:lnTo>
                <a:lnTo>
                  <a:pt x="2" y="586"/>
                </a:lnTo>
                <a:lnTo>
                  <a:pt x="2" y="586"/>
                </a:lnTo>
                <a:lnTo>
                  <a:pt x="0" y="584"/>
                </a:lnTo>
                <a:lnTo>
                  <a:pt x="0" y="582"/>
                </a:lnTo>
                <a:lnTo>
                  <a:pt x="0" y="562"/>
                </a:lnTo>
                <a:lnTo>
                  <a:pt x="0" y="560"/>
                </a:lnTo>
                <a:lnTo>
                  <a:pt x="2" y="560"/>
                </a:lnTo>
                <a:lnTo>
                  <a:pt x="2" y="560"/>
                </a:lnTo>
                <a:lnTo>
                  <a:pt x="4" y="558"/>
                </a:lnTo>
                <a:lnTo>
                  <a:pt x="6" y="560"/>
                </a:lnTo>
                <a:lnTo>
                  <a:pt x="6" y="560"/>
                </a:lnTo>
                <a:lnTo>
                  <a:pt x="6" y="560"/>
                </a:lnTo>
                <a:lnTo>
                  <a:pt x="6" y="562"/>
                </a:lnTo>
                <a:lnTo>
                  <a:pt x="6" y="562"/>
                </a:lnTo>
                <a:close/>
                <a:moveTo>
                  <a:pt x="6" y="609"/>
                </a:moveTo>
                <a:lnTo>
                  <a:pt x="6" y="628"/>
                </a:lnTo>
                <a:lnTo>
                  <a:pt x="6" y="631"/>
                </a:lnTo>
                <a:lnTo>
                  <a:pt x="6" y="631"/>
                </a:lnTo>
                <a:lnTo>
                  <a:pt x="6" y="633"/>
                </a:lnTo>
                <a:lnTo>
                  <a:pt x="4" y="633"/>
                </a:lnTo>
                <a:lnTo>
                  <a:pt x="2" y="633"/>
                </a:lnTo>
                <a:lnTo>
                  <a:pt x="2" y="631"/>
                </a:lnTo>
                <a:lnTo>
                  <a:pt x="0" y="631"/>
                </a:lnTo>
                <a:lnTo>
                  <a:pt x="0" y="628"/>
                </a:lnTo>
                <a:lnTo>
                  <a:pt x="0" y="609"/>
                </a:lnTo>
                <a:lnTo>
                  <a:pt x="0" y="607"/>
                </a:lnTo>
                <a:lnTo>
                  <a:pt x="2" y="607"/>
                </a:lnTo>
                <a:lnTo>
                  <a:pt x="2" y="605"/>
                </a:lnTo>
                <a:lnTo>
                  <a:pt x="4" y="605"/>
                </a:lnTo>
                <a:lnTo>
                  <a:pt x="6" y="605"/>
                </a:lnTo>
                <a:lnTo>
                  <a:pt x="6" y="607"/>
                </a:lnTo>
                <a:lnTo>
                  <a:pt x="6" y="607"/>
                </a:lnTo>
                <a:lnTo>
                  <a:pt x="6" y="609"/>
                </a:lnTo>
                <a:lnTo>
                  <a:pt x="6" y="609"/>
                </a:lnTo>
                <a:close/>
                <a:moveTo>
                  <a:pt x="6" y="656"/>
                </a:moveTo>
                <a:lnTo>
                  <a:pt x="6" y="675"/>
                </a:lnTo>
                <a:lnTo>
                  <a:pt x="6" y="677"/>
                </a:lnTo>
                <a:lnTo>
                  <a:pt x="6" y="677"/>
                </a:lnTo>
                <a:lnTo>
                  <a:pt x="6" y="679"/>
                </a:lnTo>
                <a:lnTo>
                  <a:pt x="4" y="679"/>
                </a:lnTo>
                <a:lnTo>
                  <a:pt x="2" y="679"/>
                </a:lnTo>
                <a:lnTo>
                  <a:pt x="2" y="677"/>
                </a:lnTo>
                <a:lnTo>
                  <a:pt x="0" y="677"/>
                </a:lnTo>
                <a:lnTo>
                  <a:pt x="0" y="675"/>
                </a:lnTo>
                <a:lnTo>
                  <a:pt x="0" y="656"/>
                </a:lnTo>
                <a:lnTo>
                  <a:pt x="0" y="654"/>
                </a:lnTo>
                <a:lnTo>
                  <a:pt x="2" y="654"/>
                </a:lnTo>
                <a:lnTo>
                  <a:pt x="2" y="652"/>
                </a:lnTo>
                <a:lnTo>
                  <a:pt x="4" y="652"/>
                </a:lnTo>
                <a:lnTo>
                  <a:pt x="6" y="652"/>
                </a:lnTo>
                <a:lnTo>
                  <a:pt x="6" y="654"/>
                </a:lnTo>
                <a:lnTo>
                  <a:pt x="6" y="654"/>
                </a:lnTo>
                <a:lnTo>
                  <a:pt x="6" y="656"/>
                </a:lnTo>
                <a:lnTo>
                  <a:pt x="6" y="656"/>
                </a:lnTo>
                <a:close/>
                <a:moveTo>
                  <a:pt x="6" y="703"/>
                </a:moveTo>
                <a:lnTo>
                  <a:pt x="6" y="722"/>
                </a:lnTo>
                <a:lnTo>
                  <a:pt x="6" y="724"/>
                </a:lnTo>
                <a:lnTo>
                  <a:pt x="6" y="724"/>
                </a:lnTo>
                <a:lnTo>
                  <a:pt x="6" y="724"/>
                </a:lnTo>
                <a:lnTo>
                  <a:pt x="4" y="726"/>
                </a:lnTo>
                <a:lnTo>
                  <a:pt x="2" y="724"/>
                </a:lnTo>
                <a:lnTo>
                  <a:pt x="2" y="724"/>
                </a:lnTo>
                <a:lnTo>
                  <a:pt x="0" y="724"/>
                </a:lnTo>
                <a:lnTo>
                  <a:pt x="0" y="722"/>
                </a:lnTo>
                <a:lnTo>
                  <a:pt x="0" y="703"/>
                </a:lnTo>
                <a:lnTo>
                  <a:pt x="0" y="701"/>
                </a:lnTo>
                <a:lnTo>
                  <a:pt x="2" y="701"/>
                </a:lnTo>
                <a:lnTo>
                  <a:pt x="2" y="699"/>
                </a:lnTo>
                <a:lnTo>
                  <a:pt x="4" y="699"/>
                </a:lnTo>
                <a:lnTo>
                  <a:pt x="6" y="699"/>
                </a:lnTo>
                <a:lnTo>
                  <a:pt x="6" y="701"/>
                </a:lnTo>
                <a:lnTo>
                  <a:pt x="6" y="701"/>
                </a:lnTo>
                <a:lnTo>
                  <a:pt x="6" y="703"/>
                </a:lnTo>
                <a:lnTo>
                  <a:pt x="6" y="703"/>
                </a:lnTo>
                <a:close/>
                <a:moveTo>
                  <a:pt x="6" y="750"/>
                </a:moveTo>
                <a:lnTo>
                  <a:pt x="6" y="767"/>
                </a:lnTo>
                <a:lnTo>
                  <a:pt x="6" y="769"/>
                </a:lnTo>
                <a:lnTo>
                  <a:pt x="6" y="769"/>
                </a:lnTo>
                <a:lnTo>
                  <a:pt x="6" y="769"/>
                </a:lnTo>
                <a:lnTo>
                  <a:pt x="4" y="769"/>
                </a:lnTo>
                <a:lnTo>
                  <a:pt x="2" y="769"/>
                </a:lnTo>
                <a:lnTo>
                  <a:pt x="2" y="769"/>
                </a:lnTo>
                <a:lnTo>
                  <a:pt x="0" y="769"/>
                </a:lnTo>
                <a:lnTo>
                  <a:pt x="0" y="767"/>
                </a:lnTo>
                <a:lnTo>
                  <a:pt x="0" y="750"/>
                </a:lnTo>
                <a:lnTo>
                  <a:pt x="0" y="748"/>
                </a:lnTo>
                <a:lnTo>
                  <a:pt x="2" y="745"/>
                </a:lnTo>
                <a:lnTo>
                  <a:pt x="2" y="745"/>
                </a:lnTo>
                <a:lnTo>
                  <a:pt x="4" y="745"/>
                </a:lnTo>
                <a:lnTo>
                  <a:pt x="6" y="745"/>
                </a:lnTo>
                <a:lnTo>
                  <a:pt x="6" y="745"/>
                </a:lnTo>
                <a:lnTo>
                  <a:pt x="6" y="748"/>
                </a:lnTo>
                <a:lnTo>
                  <a:pt x="6" y="750"/>
                </a:lnTo>
                <a:lnTo>
                  <a:pt x="6" y="750"/>
                </a:lnTo>
                <a:close/>
                <a:moveTo>
                  <a:pt x="6" y="792"/>
                </a:moveTo>
                <a:lnTo>
                  <a:pt x="6" y="814"/>
                </a:lnTo>
                <a:lnTo>
                  <a:pt x="6" y="814"/>
                </a:lnTo>
                <a:lnTo>
                  <a:pt x="6" y="816"/>
                </a:lnTo>
                <a:lnTo>
                  <a:pt x="6" y="816"/>
                </a:lnTo>
                <a:lnTo>
                  <a:pt x="4" y="816"/>
                </a:lnTo>
                <a:lnTo>
                  <a:pt x="2" y="816"/>
                </a:lnTo>
                <a:lnTo>
                  <a:pt x="2" y="816"/>
                </a:lnTo>
                <a:lnTo>
                  <a:pt x="0" y="814"/>
                </a:lnTo>
                <a:lnTo>
                  <a:pt x="0" y="814"/>
                </a:lnTo>
                <a:lnTo>
                  <a:pt x="0" y="792"/>
                </a:lnTo>
                <a:lnTo>
                  <a:pt x="0" y="792"/>
                </a:lnTo>
                <a:lnTo>
                  <a:pt x="2" y="790"/>
                </a:lnTo>
                <a:lnTo>
                  <a:pt x="2" y="790"/>
                </a:lnTo>
                <a:lnTo>
                  <a:pt x="4" y="790"/>
                </a:lnTo>
                <a:lnTo>
                  <a:pt x="6" y="790"/>
                </a:lnTo>
                <a:lnTo>
                  <a:pt x="6" y="790"/>
                </a:lnTo>
                <a:lnTo>
                  <a:pt x="6" y="792"/>
                </a:lnTo>
                <a:lnTo>
                  <a:pt x="6" y="792"/>
                </a:lnTo>
                <a:lnTo>
                  <a:pt x="6" y="792"/>
                </a:lnTo>
                <a:close/>
                <a:moveTo>
                  <a:pt x="6" y="839"/>
                </a:moveTo>
                <a:lnTo>
                  <a:pt x="6" y="860"/>
                </a:lnTo>
                <a:lnTo>
                  <a:pt x="6" y="860"/>
                </a:lnTo>
                <a:lnTo>
                  <a:pt x="6" y="863"/>
                </a:lnTo>
                <a:lnTo>
                  <a:pt x="6" y="863"/>
                </a:lnTo>
                <a:lnTo>
                  <a:pt x="4" y="863"/>
                </a:lnTo>
                <a:lnTo>
                  <a:pt x="2" y="863"/>
                </a:lnTo>
                <a:lnTo>
                  <a:pt x="2" y="863"/>
                </a:lnTo>
                <a:lnTo>
                  <a:pt x="0" y="860"/>
                </a:lnTo>
                <a:lnTo>
                  <a:pt x="0" y="860"/>
                </a:lnTo>
                <a:lnTo>
                  <a:pt x="0" y="839"/>
                </a:lnTo>
                <a:lnTo>
                  <a:pt x="0" y="839"/>
                </a:lnTo>
                <a:lnTo>
                  <a:pt x="2" y="837"/>
                </a:lnTo>
                <a:lnTo>
                  <a:pt x="2" y="837"/>
                </a:lnTo>
                <a:lnTo>
                  <a:pt x="4" y="837"/>
                </a:lnTo>
                <a:lnTo>
                  <a:pt x="6" y="837"/>
                </a:lnTo>
                <a:lnTo>
                  <a:pt x="6" y="837"/>
                </a:lnTo>
                <a:lnTo>
                  <a:pt x="6" y="839"/>
                </a:lnTo>
                <a:lnTo>
                  <a:pt x="6" y="839"/>
                </a:lnTo>
                <a:lnTo>
                  <a:pt x="6" y="839"/>
                </a:lnTo>
                <a:close/>
                <a:moveTo>
                  <a:pt x="6" y="886"/>
                </a:moveTo>
                <a:lnTo>
                  <a:pt x="6" y="907"/>
                </a:lnTo>
                <a:lnTo>
                  <a:pt x="6" y="907"/>
                </a:lnTo>
                <a:lnTo>
                  <a:pt x="6" y="909"/>
                </a:lnTo>
                <a:lnTo>
                  <a:pt x="6" y="909"/>
                </a:lnTo>
                <a:lnTo>
                  <a:pt x="4" y="909"/>
                </a:lnTo>
                <a:lnTo>
                  <a:pt x="2" y="909"/>
                </a:lnTo>
                <a:lnTo>
                  <a:pt x="2" y="909"/>
                </a:lnTo>
                <a:lnTo>
                  <a:pt x="0" y="907"/>
                </a:lnTo>
                <a:lnTo>
                  <a:pt x="0" y="907"/>
                </a:lnTo>
                <a:lnTo>
                  <a:pt x="0" y="886"/>
                </a:lnTo>
                <a:lnTo>
                  <a:pt x="0" y="886"/>
                </a:lnTo>
                <a:lnTo>
                  <a:pt x="2" y="884"/>
                </a:lnTo>
                <a:lnTo>
                  <a:pt x="2" y="884"/>
                </a:lnTo>
                <a:lnTo>
                  <a:pt x="4" y="884"/>
                </a:lnTo>
                <a:lnTo>
                  <a:pt x="6" y="884"/>
                </a:lnTo>
                <a:lnTo>
                  <a:pt x="6" y="884"/>
                </a:lnTo>
                <a:lnTo>
                  <a:pt x="6" y="886"/>
                </a:lnTo>
                <a:lnTo>
                  <a:pt x="6" y="886"/>
                </a:lnTo>
                <a:lnTo>
                  <a:pt x="6" y="886"/>
                </a:lnTo>
                <a:close/>
                <a:moveTo>
                  <a:pt x="6" y="933"/>
                </a:moveTo>
                <a:lnTo>
                  <a:pt x="6" y="952"/>
                </a:lnTo>
                <a:lnTo>
                  <a:pt x="6" y="954"/>
                </a:lnTo>
                <a:lnTo>
                  <a:pt x="6" y="956"/>
                </a:lnTo>
                <a:lnTo>
                  <a:pt x="6" y="956"/>
                </a:lnTo>
                <a:lnTo>
                  <a:pt x="4" y="956"/>
                </a:lnTo>
                <a:lnTo>
                  <a:pt x="2" y="956"/>
                </a:lnTo>
                <a:lnTo>
                  <a:pt x="2" y="956"/>
                </a:lnTo>
                <a:lnTo>
                  <a:pt x="0" y="954"/>
                </a:lnTo>
                <a:lnTo>
                  <a:pt x="0" y="952"/>
                </a:lnTo>
                <a:lnTo>
                  <a:pt x="0" y="933"/>
                </a:lnTo>
                <a:lnTo>
                  <a:pt x="0" y="931"/>
                </a:lnTo>
                <a:lnTo>
                  <a:pt x="2" y="931"/>
                </a:lnTo>
                <a:lnTo>
                  <a:pt x="2" y="931"/>
                </a:lnTo>
                <a:lnTo>
                  <a:pt x="4" y="929"/>
                </a:lnTo>
                <a:lnTo>
                  <a:pt x="6" y="931"/>
                </a:lnTo>
                <a:lnTo>
                  <a:pt x="6" y="931"/>
                </a:lnTo>
                <a:lnTo>
                  <a:pt x="6" y="931"/>
                </a:lnTo>
                <a:lnTo>
                  <a:pt x="6" y="933"/>
                </a:lnTo>
                <a:lnTo>
                  <a:pt x="6" y="933"/>
                </a:lnTo>
                <a:close/>
                <a:moveTo>
                  <a:pt x="6" y="980"/>
                </a:moveTo>
                <a:lnTo>
                  <a:pt x="6" y="999"/>
                </a:lnTo>
                <a:lnTo>
                  <a:pt x="6" y="1001"/>
                </a:lnTo>
                <a:lnTo>
                  <a:pt x="6" y="1001"/>
                </a:lnTo>
                <a:lnTo>
                  <a:pt x="6" y="1003"/>
                </a:lnTo>
                <a:lnTo>
                  <a:pt x="4" y="1003"/>
                </a:lnTo>
                <a:lnTo>
                  <a:pt x="2" y="1003"/>
                </a:lnTo>
                <a:lnTo>
                  <a:pt x="2" y="1001"/>
                </a:lnTo>
                <a:lnTo>
                  <a:pt x="0" y="1001"/>
                </a:lnTo>
                <a:lnTo>
                  <a:pt x="0" y="999"/>
                </a:lnTo>
                <a:lnTo>
                  <a:pt x="0" y="980"/>
                </a:lnTo>
                <a:lnTo>
                  <a:pt x="0" y="977"/>
                </a:lnTo>
                <a:lnTo>
                  <a:pt x="2" y="977"/>
                </a:lnTo>
                <a:lnTo>
                  <a:pt x="2" y="975"/>
                </a:lnTo>
                <a:lnTo>
                  <a:pt x="4" y="975"/>
                </a:lnTo>
                <a:lnTo>
                  <a:pt x="6" y="975"/>
                </a:lnTo>
                <a:lnTo>
                  <a:pt x="6" y="977"/>
                </a:lnTo>
                <a:lnTo>
                  <a:pt x="6" y="977"/>
                </a:lnTo>
                <a:lnTo>
                  <a:pt x="6" y="980"/>
                </a:lnTo>
                <a:lnTo>
                  <a:pt x="6" y="980"/>
                </a:lnTo>
                <a:close/>
                <a:moveTo>
                  <a:pt x="6" y="1026"/>
                </a:moveTo>
                <a:lnTo>
                  <a:pt x="6" y="1046"/>
                </a:lnTo>
                <a:lnTo>
                  <a:pt x="6" y="1048"/>
                </a:lnTo>
                <a:lnTo>
                  <a:pt x="6" y="1048"/>
                </a:lnTo>
                <a:lnTo>
                  <a:pt x="6" y="1050"/>
                </a:lnTo>
                <a:lnTo>
                  <a:pt x="4" y="1050"/>
                </a:lnTo>
                <a:lnTo>
                  <a:pt x="2" y="1050"/>
                </a:lnTo>
                <a:lnTo>
                  <a:pt x="2" y="1048"/>
                </a:lnTo>
                <a:lnTo>
                  <a:pt x="0" y="1048"/>
                </a:lnTo>
                <a:lnTo>
                  <a:pt x="0" y="1046"/>
                </a:lnTo>
                <a:lnTo>
                  <a:pt x="0" y="1026"/>
                </a:lnTo>
                <a:lnTo>
                  <a:pt x="0" y="1024"/>
                </a:lnTo>
                <a:lnTo>
                  <a:pt x="2" y="1024"/>
                </a:lnTo>
                <a:lnTo>
                  <a:pt x="2" y="1022"/>
                </a:lnTo>
                <a:lnTo>
                  <a:pt x="4" y="1022"/>
                </a:lnTo>
                <a:lnTo>
                  <a:pt x="6" y="1022"/>
                </a:lnTo>
                <a:lnTo>
                  <a:pt x="6" y="1024"/>
                </a:lnTo>
                <a:lnTo>
                  <a:pt x="6" y="1024"/>
                </a:lnTo>
                <a:lnTo>
                  <a:pt x="6" y="1026"/>
                </a:lnTo>
                <a:lnTo>
                  <a:pt x="6" y="1026"/>
                </a:lnTo>
                <a:close/>
                <a:moveTo>
                  <a:pt x="6" y="1073"/>
                </a:moveTo>
                <a:lnTo>
                  <a:pt x="6" y="1092"/>
                </a:lnTo>
                <a:lnTo>
                  <a:pt x="6" y="1095"/>
                </a:lnTo>
                <a:lnTo>
                  <a:pt x="6" y="1095"/>
                </a:lnTo>
                <a:lnTo>
                  <a:pt x="6" y="1095"/>
                </a:lnTo>
                <a:lnTo>
                  <a:pt x="4" y="1097"/>
                </a:lnTo>
                <a:lnTo>
                  <a:pt x="2" y="1095"/>
                </a:lnTo>
                <a:lnTo>
                  <a:pt x="2" y="1095"/>
                </a:lnTo>
                <a:lnTo>
                  <a:pt x="0" y="1095"/>
                </a:lnTo>
                <a:lnTo>
                  <a:pt x="0" y="1092"/>
                </a:lnTo>
                <a:lnTo>
                  <a:pt x="0" y="1073"/>
                </a:lnTo>
                <a:lnTo>
                  <a:pt x="0" y="1071"/>
                </a:lnTo>
                <a:lnTo>
                  <a:pt x="2" y="1071"/>
                </a:lnTo>
                <a:lnTo>
                  <a:pt x="2" y="1069"/>
                </a:lnTo>
                <a:lnTo>
                  <a:pt x="4" y="1069"/>
                </a:lnTo>
                <a:lnTo>
                  <a:pt x="6" y="1069"/>
                </a:lnTo>
                <a:lnTo>
                  <a:pt x="6" y="1071"/>
                </a:lnTo>
                <a:lnTo>
                  <a:pt x="6" y="1071"/>
                </a:lnTo>
                <a:lnTo>
                  <a:pt x="6" y="1073"/>
                </a:lnTo>
                <a:lnTo>
                  <a:pt x="6" y="1073"/>
                </a:lnTo>
                <a:close/>
                <a:moveTo>
                  <a:pt x="6" y="1120"/>
                </a:moveTo>
                <a:lnTo>
                  <a:pt x="6" y="1139"/>
                </a:lnTo>
                <a:lnTo>
                  <a:pt x="6" y="1141"/>
                </a:lnTo>
                <a:lnTo>
                  <a:pt x="6" y="1141"/>
                </a:lnTo>
                <a:lnTo>
                  <a:pt x="6" y="1141"/>
                </a:lnTo>
                <a:lnTo>
                  <a:pt x="4" y="1141"/>
                </a:lnTo>
                <a:lnTo>
                  <a:pt x="2" y="1141"/>
                </a:lnTo>
                <a:lnTo>
                  <a:pt x="2" y="1141"/>
                </a:lnTo>
                <a:lnTo>
                  <a:pt x="0" y="1141"/>
                </a:lnTo>
                <a:lnTo>
                  <a:pt x="0" y="1139"/>
                </a:lnTo>
                <a:lnTo>
                  <a:pt x="0" y="1120"/>
                </a:lnTo>
                <a:lnTo>
                  <a:pt x="0" y="1118"/>
                </a:lnTo>
                <a:lnTo>
                  <a:pt x="2" y="1116"/>
                </a:lnTo>
                <a:lnTo>
                  <a:pt x="2" y="1116"/>
                </a:lnTo>
                <a:lnTo>
                  <a:pt x="4" y="1116"/>
                </a:lnTo>
                <a:lnTo>
                  <a:pt x="6" y="1116"/>
                </a:lnTo>
                <a:lnTo>
                  <a:pt x="6" y="1116"/>
                </a:lnTo>
                <a:lnTo>
                  <a:pt x="6" y="1118"/>
                </a:lnTo>
                <a:lnTo>
                  <a:pt x="6" y="1120"/>
                </a:lnTo>
                <a:lnTo>
                  <a:pt x="6" y="1120"/>
                </a:lnTo>
                <a:close/>
                <a:moveTo>
                  <a:pt x="6" y="1165"/>
                </a:moveTo>
                <a:lnTo>
                  <a:pt x="6" y="1186"/>
                </a:lnTo>
                <a:lnTo>
                  <a:pt x="6" y="1186"/>
                </a:lnTo>
                <a:lnTo>
                  <a:pt x="6" y="1188"/>
                </a:lnTo>
                <a:lnTo>
                  <a:pt x="6" y="1188"/>
                </a:lnTo>
                <a:lnTo>
                  <a:pt x="4" y="1188"/>
                </a:lnTo>
                <a:lnTo>
                  <a:pt x="2" y="1188"/>
                </a:lnTo>
                <a:lnTo>
                  <a:pt x="2" y="1188"/>
                </a:lnTo>
                <a:lnTo>
                  <a:pt x="0" y="1186"/>
                </a:lnTo>
                <a:lnTo>
                  <a:pt x="0" y="1186"/>
                </a:lnTo>
                <a:lnTo>
                  <a:pt x="0" y="1165"/>
                </a:lnTo>
                <a:lnTo>
                  <a:pt x="0" y="1165"/>
                </a:lnTo>
                <a:lnTo>
                  <a:pt x="2" y="1163"/>
                </a:lnTo>
                <a:lnTo>
                  <a:pt x="2" y="1163"/>
                </a:lnTo>
                <a:lnTo>
                  <a:pt x="4" y="1163"/>
                </a:lnTo>
                <a:lnTo>
                  <a:pt x="6" y="1163"/>
                </a:lnTo>
                <a:lnTo>
                  <a:pt x="6" y="1163"/>
                </a:lnTo>
                <a:lnTo>
                  <a:pt x="6" y="1165"/>
                </a:lnTo>
                <a:lnTo>
                  <a:pt x="6" y="1165"/>
                </a:lnTo>
                <a:lnTo>
                  <a:pt x="6" y="1165"/>
                </a:lnTo>
                <a:close/>
                <a:moveTo>
                  <a:pt x="6" y="1212"/>
                </a:moveTo>
                <a:lnTo>
                  <a:pt x="6" y="1233"/>
                </a:lnTo>
                <a:lnTo>
                  <a:pt x="6" y="1233"/>
                </a:lnTo>
                <a:lnTo>
                  <a:pt x="6" y="1235"/>
                </a:lnTo>
                <a:lnTo>
                  <a:pt x="6" y="1235"/>
                </a:lnTo>
                <a:lnTo>
                  <a:pt x="4" y="1235"/>
                </a:lnTo>
                <a:lnTo>
                  <a:pt x="2" y="1235"/>
                </a:lnTo>
                <a:lnTo>
                  <a:pt x="2" y="1235"/>
                </a:lnTo>
                <a:lnTo>
                  <a:pt x="0" y="1233"/>
                </a:lnTo>
                <a:lnTo>
                  <a:pt x="0" y="1233"/>
                </a:lnTo>
                <a:lnTo>
                  <a:pt x="0" y="1212"/>
                </a:lnTo>
                <a:lnTo>
                  <a:pt x="0" y="1212"/>
                </a:lnTo>
                <a:lnTo>
                  <a:pt x="2" y="1210"/>
                </a:lnTo>
                <a:lnTo>
                  <a:pt x="2" y="1210"/>
                </a:lnTo>
                <a:lnTo>
                  <a:pt x="4" y="1210"/>
                </a:lnTo>
                <a:lnTo>
                  <a:pt x="6" y="1210"/>
                </a:lnTo>
                <a:lnTo>
                  <a:pt x="6" y="1210"/>
                </a:lnTo>
                <a:lnTo>
                  <a:pt x="6" y="1212"/>
                </a:lnTo>
                <a:lnTo>
                  <a:pt x="6" y="1212"/>
                </a:lnTo>
                <a:lnTo>
                  <a:pt x="6" y="1212"/>
                </a:lnTo>
                <a:close/>
                <a:moveTo>
                  <a:pt x="6" y="1258"/>
                </a:moveTo>
                <a:lnTo>
                  <a:pt x="6" y="1280"/>
                </a:lnTo>
                <a:lnTo>
                  <a:pt x="6" y="1280"/>
                </a:lnTo>
                <a:lnTo>
                  <a:pt x="6" y="1282"/>
                </a:lnTo>
                <a:lnTo>
                  <a:pt x="6" y="1282"/>
                </a:lnTo>
                <a:lnTo>
                  <a:pt x="4" y="1282"/>
                </a:lnTo>
                <a:lnTo>
                  <a:pt x="2" y="1282"/>
                </a:lnTo>
                <a:lnTo>
                  <a:pt x="2" y="1282"/>
                </a:lnTo>
                <a:lnTo>
                  <a:pt x="0" y="1280"/>
                </a:lnTo>
                <a:lnTo>
                  <a:pt x="0" y="1280"/>
                </a:lnTo>
                <a:lnTo>
                  <a:pt x="0" y="1258"/>
                </a:lnTo>
                <a:lnTo>
                  <a:pt x="0" y="1258"/>
                </a:lnTo>
                <a:lnTo>
                  <a:pt x="2" y="1256"/>
                </a:lnTo>
                <a:lnTo>
                  <a:pt x="2" y="1256"/>
                </a:lnTo>
                <a:lnTo>
                  <a:pt x="4" y="1256"/>
                </a:lnTo>
                <a:lnTo>
                  <a:pt x="6" y="1256"/>
                </a:lnTo>
                <a:lnTo>
                  <a:pt x="6" y="1256"/>
                </a:lnTo>
                <a:lnTo>
                  <a:pt x="6" y="1258"/>
                </a:lnTo>
                <a:lnTo>
                  <a:pt x="6" y="1258"/>
                </a:lnTo>
                <a:lnTo>
                  <a:pt x="6" y="1258"/>
                </a:lnTo>
                <a:close/>
                <a:moveTo>
                  <a:pt x="6" y="1305"/>
                </a:moveTo>
                <a:lnTo>
                  <a:pt x="6" y="1324"/>
                </a:lnTo>
                <a:lnTo>
                  <a:pt x="6" y="1327"/>
                </a:lnTo>
                <a:lnTo>
                  <a:pt x="6" y="1329"/>
                </a:lnTo>
                <a:lnTo>
                  <a:pt x="6" y="1329"/>
                </a:lnTo>
                <a:lnTo>
                  <a:pt x="4" y="1329"/>
                </a:lnTo>
                <a:lnTo>
                  <a:pt x="2" y="1329"/>
                </a:lnTo>
                <a:lnTo>
                  <a:pt x="2" y="1329"/>
                </a:lnTo>
                <a:lnTo>
                  <a:pt x="0" y="1327"/>
                </a:lnTo>
                <a:lnTo>
                  <a:pt x="0" y="1324"/>
                </a:lnTo>
                <a:lnTo>
                  <a:pt x="0" y="1305"/>
                </a:lnTo>
                <a:lnTo>
                  <a:pt x="0" y="1303"/>
                </a:lnTo>
                <a:lnTo>
                  <a:pt x="2" y="1303"/>
                </a:lnTo>
                <a:lnTo>
                  <a:pt x="2" y="1303"/>
                </a:lnTo>
                <a:lnTo>
                  <a:pt x="4" y="1301"/>
                </a:lnTo>
                <a:lnTo>
                  <a:pt x="6" y="1303"/>
                </a:lnTo>
                <a:lnTo>
                  <a:pt x="6" y="1303"/>
                </a:lnTo>
                <a:lnTo>
                  <a:pt x="6" y="1303"/>
                </a:lnTo>
                <a:lnTo>
                  <a:pt x="6" y="1305"/>
                </a:lnTo>
                <a:lnTo>
                  <a:pt x="6" y="1305"/>
                </a:lnTo>
                <a:close/>
                <a:moveTo>
                  <a:pt x="6" y="1352"/>
                </a:moveTo>
                <a:lnTo>
                  <a:pt x="6" y="1371"/>
                </a:lnTo>
                <a:lnTo>
                  <a:pt x="6" y="1373"/>
                </a:lnTo>
                <a:lnTo>
                  <a:pt x="6" y="1373"/>
                </a:lnTo>
                <a:lnTo>
                  <a:pt x="6" y="1376"/>
                </a:lnTo>
                <a:lnTo>
                  <a:pt x="4" y="1376"/>
                </a:lnTo>
                <a:lnTo>
                  <a:pt x="2" y="1376"/>
                </a:lnTo>
                <a:lnTo>
                  <a:pt x="2" y="1373"/>
                </a:lnTo>
                <a:lnTo>
                  <a:pt x="0" y="1373"/>
                </a:lnTo>
                <a:lnTo>
                  <a:pt x="0" y="1371"/>
                </a:lnTo>
                <a:lnTo>
                  <a:pt x="0" y="1352"/>
                </a:lnTo>
                <a:lnTo>
                  <a:pt x="0" y="1350"/>
                </a:lnTo>
                <a:lnTo>
                  <a:pt x="2" y="1350"/>
                </a:lnTo>
                <a:lnTo>
                  <a:pt x="2" y="1348"/>
                </a:lnTo>
                <a:lnTo>
                  <a:pt x="4" y="1348"/>
                </a:lnTo>
                <a:lnTo>
                  <a:pt x="6" y="1348"/>
                </a:lnTo>
                <a:lnTo>
                  <a:pt x="6" y="1350"/>
                </a:lnTo>
                <a:lnTo>
                  <a:pt x="6" y="1350"/>
                </a:lnTo>
                <a:lnTo>
                  <a:pt x="6" y="1352"/>
                </a:lnTo>
                <a:lnTo>
                  <a:pt x="6" y="1352"/>
                </a:lnTo>
                <a:close/>
                <a:moveTo>
                  <a:pt x="6" y="1399"/>
                </a:moveTo>
                <a:lnTo>
                  <a:pt x="6" y="1418"/>
                </a:lnTo>
                <a:lnTo>
                  <a:pt x="6" y="1420"/>
                </a:lnTo>
                <a:lnTo>
                  <a:pt x="6" y="1420"/>
                </a:lnTo>
                <a:lnTo>
                  <a:pt x="6" y="1422"/>
                </a:lnTo>
                <a:lnTo>
                  <a:pt x="4" y="1422"/>
                </a:lnTo>
                <a:lnTo>
                  <a:pt x="2" y="1422"/>
                </a:lnTo>
                <a:lnTo>
                  <a:pt x="2" y="1420"/>
                </a:lnTo>
                <a:lnTo>
                  <a:pt x="0" y="1420"/>
                </a:lnTo>
                <a:lnTo>
                  <a:pt x="0" y="1418"/>
                </a:lnTo>
                <a:lnTo>
                  <a:pt x="0" y="1399"/>
                </a:lnTo>
                <a:lnTo>
                  <a:pt x="0" y="1397"/>
                </a:lnTo>
                <a:lnTo>
                  <a:pt x="2" y="1397"/>
                </a:lnTo>
                <a:lnTo>
                  <a:pt x="2" y="1395"/>
                </a:lnTo>
                <a:lnTo>
                  <a:pt x="4" y="1395"/>
                </a:lnTo>
                <a:lnTo>
                  <a:pt x="6" y="1395"/>
                </a:lnTo>
                <a:lnTo>
                  <a:pt x="6" y="1397"/>
                </a:lnTo>
                <a:lnTo>
                  <a:pt x="6" y="1397"/>
                </a:lnTo>
                <a:lnTo>
                  <a:pt x="6" y="1399"/>
                </a:lnTo>
                <a:lnTo>
                  <a:pt x="6" y="1399"/>
                </a:lnTo>
                <a:close/>
                <a:moveTo>
                  <a:pt x="6" y="1446"/>
                </a:moveTo>
                <a:lnTo>
                  <a:pt x="6" y="1465"/>
                </a:lnTo>
                <a:lnTo>
                  <a:pt x="6" y="1467"/>
                </a:lnTo>
                <a:lnTo>
                  <a:pt x="6" y="1467"/>
                </a:lnTo>
                <a:lnTo>
                  <a:pt x="6" y="1467"/>
                </a:lnTo>
                <a:lnTo>
                  <a:pt x="4" y="1469"/>
                </a:lnTo>
                <a:lnTo>
                  <a:pt x="2" y="1467"/>
                </a:lnTo>
                <a:lnTo>
                  <a:pt x="2" y="1467"/>
                </a:lnTo>
                <a:lnTo>
                  <a:pt x="0" y="1467"/>
                </a:lnTo>
                <a:lnTo>
                  <a:pt x="0" y="1465"/>
                </a:lnTo>
                <a:lnTo>
                  <a:pt x="0" y="1446"/>
                </a:lnTo>
                <a:lnTo>
                  <a:pt x="0" y="1444"/>
                </a:lnTo>
                <a:lnTo>
                  <a:pt x="2" y="1444"/>
                </a:lnTo>
                <a:lnTo>
                  <a:pt x="2" y="1442"/>
                </a:lnTo>
                <a:lnTo>
                  <a:pt x="4" y="1442"/>
                </a:lnTo>
                <a:lnTo>
                  <a:pt x="6" y="1442"/>
                </a:lnTo>
                <a:lnTo>
                  <a:pt x="6" y="1444"/>
                </a:lnTo>
                <a:lnTo>
                  <a:pt x="6" y="1444"/>
                </a:lnTo>
                <a:lnTo>
                  <a:pt x="6" y="1446"/>
                </a:lnTo>
                <a:lnTo>
                  <a:pt x="6" y="1446"/>
                </a:lnTo>
                <a:close/>
                <a:moveTo>
                  <a:pt x="6" y="1493"/>
                </a:moveTo>
                <a:lnTo>
                  <a:pt x="6" y="1512"/>
                </a:lnTo>
                <a:lnTo>
                  <a:pt x="6" y="1514"/>
                </a:lnTo>
                <a:lnTo>
                  <a:pt x="6" y="1514"/>
                </a:lnTo>
                <a:lnTo>
                  <a:pt x="6" y="1514"/>
                </a:lnTo>
                <a:lnTo>
                  <a:pt x="4" y="1514"/>
                </a:lnTo>
                <a:lnTo>
                  <a:pt x="2" y="1514"/>
                </a:lnTo>
                <a:lnTo>
                  <a:pt x="2" y="1514"/>
                </a:lnTo>
                <a:lnTo>
                  <a:pt x="0" y="1514"/>
                </a:lnTo>
                <a:lnTo>
                  <a:pt x="0" y="1512"/>
                </a:lnTo>
                <a:lnTo>
                  <a:pt x="0" y="1493"/>
                </a:lnTo>
                <a:lnTo>
                  <a:pt x="0" y="1490"/>
                </a:lnTo>
                <a:lnTo>
                  <a:pt x="2" y="1488"/>
                </a:lnTo>
                <a:lnTo>
                  <a:pt x="2" y="1488"/>
                </a:lnTo>
                <a:lnTo>
                  <a:pt x="4" y="1488"/>
                </a:lnTo>
                <a:lnTo>
                  <a:pt x="6" y="1488"/>
                </a:lnTo>
                <a:lnTo>
                  <a:pt x="6" y="1488"/>
                </a:lnTo>
                <a:lnTo>
                  <a:pt x="6" y="1490"/>
                </a:lnTo>
                <a:lnTo>
                  <a:pt x="6" y="1493"/>
                </a:lnTo>
                <a:lnTo>
                  <a:pt x="6" y="1493"/>
                </a:lnTo>
                <a:close/>
                <a:moveTo>
                  <a:pt x="6" y="1537"/>
                </a:moveTo>
                <a:lnTo>
                  <a:pt x="6" y="1559"/>
                </a:lnTo>
                <a:lnTo>
                  <a:pt x="6" y="1559"/>
                </a:lnTo>
                <a:lnTo>
                  <a:pt x="6" y="1561"/>
                </a:lnTo>
                <a:lnTo>
                  <a:pt x="6" y="1561"/>
                </a:lnTo>
                <a:lnTo>
                  <a:pt x="4" y="1561"/>
                </a:lnTo>
                <a:lnTo>
                  <a:pt x="2" y="1561"/>
                </a:lnTo>
                <a:lnTo>
                  <a:pt x="2" y="1561"/>
                </a:lnTo>
                <a:lnTo>
                  <a:pt x="0" y="1559"/>
                </a:lnTo>
                <a:lnTo>
                  <a:pt x="0" y="1559"/>
                </a:lnTo>
                <a:lnTo>
                  <a:pt x="0" y="1537"/>
                </a:lnTo>
                <a:lnTo>
                  <a:pt x="0" y="1537"/>
                </a:lnTo>
                <a:lnTo>
                  <a:pt x="2" y="1535"/>
                </a:lnTo>
                <a:lnTo>
                  <a:pt x="2" y="1535"/>
                </a:lnTo>
                <a:lnTo>
                  <a:pt x="4" y="1535"/>
                </a:lnTo>
                <a:lnTo>
                  <a:pt x="6" y="1535"/>
                </a:lnTo>
                <a:lnTo>
                  <a:pt x="6" y="1535"/>
                </a:lnTo>
                <a:lnTo>
                  <a:pt x="6" y="1537"/>
                </a:lnTo>
                <a:lnTo>
                  <a:pt x="6" y="1537"/>
                </a:lnTo>
                <a:lnTo>
                  <a:pt x="6" y="1537"/>
                </a:lnTo>
                <a:close/>
                <a:moveTo>
                  <a:pt x="6" y="1584"/>
                </a:moveTo>
                <a:lnTo>
                  <a:pt x="6" y="1605"/>
                </a:lnTo>
                <a:lnTo>
                  <a:pt x="6" y="1605"/>
                </a:lnTo>
                <a:lnTo>
                  <a:pt x="6" y="1608"/>
                </a:lnTo>
                <a:lnTo>
                  <a:pt x="6" y="1608"/>
                </a:lnTo>
                <a:lnTo>
                  <a:pt x="4" y="1608"/>
                </a:lnTo>
                <a:lnTo>
                  <a:pt x="2" y="1608"/>
                </a:lnTo>
                <a:lnTo>
                  <a:pt x="2" y="1608"/>
                </a:lnTo>
                <a:lnTo>
                  <a:pt x="0" y="1605"/>
                </a:lnTo>
                <a:lnTo>
                  <a:pt x="0" y="1605"/>
                </a:lnTo>
                <a:lnTo>
                  <a:pt x="0" y="1584"/>
                </a:lnTo>
                <a:lnTo>
                  <a:pt x="0" y="1584"/>
                </a:lnTo>
                <a:lnTo>
                  <a:pt x="2" y="1582"/>
                </a:lnTo>
                <a:lnTo>
                  <a:pt x="2" y="1582"/>
                </a:lnTo>
                <a:lnTo>
                  <a:pt x="4" y="1582"/>
                </a:lnTo>
                <a:lnTo>
                  <a:pt x="6" y="1582"/>
                </a:lnTo>
                <a:lnTo>
                  <a:pt x="6" y="1582"/>
                </a:lnTo>
                <a:lnTo>
                  <a:pt x="6" y="1584"/>
                </a:lnTo>
                <a:lnTo>
                  <a:pt x="6" y="1584"/>
                </a:lnTo>
                <a:lnTo>
                  <a:pt x="6" y="1584"/>
                </a:lnTo>
                <a:close/>
                <a:moveTo>
                  <a:pt x="6" y="1631"/>
                </a:moveTo>
                <a:lnTo>
                  <a:pt x="6" y="1652"/>
                </a:lnTo>
                <a:lnTo>
                  <a:pt x="6" y="1652"/>
                </a:lnTo>
                <a:lnTo>
                  <a:pt x="6" y="1654"/>
                </a:lnTo>
                <a:lnTo>
                  <a:pt x="6" y="1654"/>
                </a:lnTo>
                <a:lnTo>
                  <a:pt x="4" y="1654"/>
                </a:lnTo>
                <a:lnTo>
                  <a:pt x="2" y="1654"/>
                </a:lnTo>
                <a:lnTo>
                  <a:pt x="2" y="1654"/>
                </a:lnTo>
                <a:lnTo>
                  <a:pt x="0" y="1652"/>
                </a:lnTo>
                <a:lnTo>
                  <a:pt x="0" y="1652"/>
                </a:lnTo>
                <a:lnTo>
                  <a:pt x="0" y="1631"/>
                </a:lnTo>
                <a:lnTo>
                  <a:pt x="0" y="1631"/>
                </a:lnTo>
                <a:lnTo>
                  <a:pt x="2" y="1629"/>
                </a:lnTo>
                <a:lnTo>
                  <a:pt x="2" y="1629"/>
                </a:lnTo>
                <a:lnTo>
                  <a:pt x="4" y="1629"/>
                </a:lnTo>
                <a:lnTo>
                  <a:pt x="6" y="1629"/>
                </a:lnTo>
                <a:lnTo>
                  <a:pt x="6" y="1629"/>
                </a:lnTo>
                <a:lnTo>
                  <a:pt x="6" y="1631"/>
                </a:lnTo>
                <a:lnTo>
                  <a:pt x="6" y="1631"/>
                </a:lnTo>
                <a:lnTo>
                  <a:pt x="6" y="1631"/>
                </a:lnTo>
                <a:close/>
                <a:moveTo>
                  <a:pt x="6" y="1678"/>
                </a:moveTo>
                <a:lnTo>
                  <a:pt x="6" y="1697"/>
                </a:lnTo>
                <a:lnTo>
                  <a:pt x="6" y="1699"/>
                </a:lnTo>
                <a:lnTo>
                  <a:pt x="6" y="1701"/>
                </a:lnTo>
                <a:lnTo>
                  <a:pt x="6" y="1701"/>
                </a:lnTo>
                <a:lnTo>
                  <a:pt x="4" y="1701"/>
                </a:lnTo>
                <a:lnTo>
                  <a:pt x="2" y="1701"/>
                </a:lnTo>
                <a:lnTo>
                  <a:pt x="2" y="1701"/>
                </a:lnTo>
                <a:lnTo>
                  <a:pt x="0" y="1699"/>
                </a:lnTo>
                <a:lnTo>
                  <a:pt x="0" y="1697"/>
                </a:lnTo>
                <a:lnTo>
                  <a:pt x="0" y="1678"/>
                </a:lnTo>
                <a:lnTo>
                  <a:pt x="0" y="1676"/>
                </a:lnTo>
                <a:lnTo>
                  <a:pt x="2" y="1676"/>
                </a:lnTo>
                <a:lnTo>
                  <a:pt x="2" y="1676"/>
                </a:lnTo>
                <a:lnTo>
                  <a:pt x="4" y="1674"/>
                </a:lnTo>
                <a:lnTo>
                  <a:pt x="6" y="1676"/>
                </a:lnTo>
                <a:lnTo>
                  <a:pt x="6" y="1676"/>
                </a:lnTo>
                <a:lnTo>
                  <a:pt x="6" y="1676"/>
                </a:lnTo>
                <a:lnTo>
                  <a:pt x="6" y="1678"/>
                </a:lnTo>
                <a:lnTo>
                  <a:pt x="6" y="1678"/>
                </a:lnTo>
                <a:close/>
                <a:moveTo>
                  <a:pt x="6" y="1725"/>
                </a:moveTo>
                <a:lnTo>
                  <a:pt x="6" y="1744"/>
                </a:lnTo>
                <a:lnTo>
                  <a:pt x="6" y="1746"/>
                </a:lnTo>
                <a:lnTo>
                  <a:pt x="6" y="1746"/>
                </a:lnTo>
                <a:lnTo>
                  <a:pt x="6" y="1748"/>
                </a:lnTo>
                <a:lnTo>
                  <a:pt x="4" y="1748"/>
                </a:lnTo>
                <a:lnTo>
                  <a:pt x="2" y="1748"/>
                </a:lnTo>
                <a:lnTo>
                  <a:pt x="2" y="1746"/>
                </a:lnTo>
                <a:lnTo>
                  <a:pt x="0" y="1746"/>
                </a:lnTo>
                <a:lnTo>
                  <a:pt x="0" y="1744"/>
                </a:lnTo>
                <a:lnTo>
                  <a:pt x="0" y="1725"/>
                </a:lnTo>
                <a:lnTo>
                  <a:pt x="0" y="1722"/>
                </a:lnTo>
                <a:lnTo>
                  <a:pt x="2" y="1722"/>
                </a:lnTo>
                <a:lnTo>
                  <a:pt x="2" y="1720"/>
                </a:lnTo>
                <a:lnTo>
                  <a:pt x="4" y="1720"/>
                </a:lnTo>
                <a:lnTo>
                  <a:pt x="6" y="1720"/>
                </a:lnTo>
                <a:lnTo>
                  <a:pt x="6" y="1722"/>
                </a:lnTo>
                <a:lnTo>
                  <a:pt x="6" y="1722"/>
                </a:lnTo>
                <a:lnTo>
                  <a:pt x="6" y="1725"/>
                </a:lnTo>
                <a:lnTo>
                  <a:pt x="6" y="1725"/>
                </a:lnTo>
                <a:close/>
                <a:moveTo>
                  <a:pt x="6" y="1771"/>
                </a:moveTo>
                <a:lnTo>
                  <a:pt x="6" y="1791"/>
                </a:lnTo>
                <a:lnTo>
                  <a:pt x="6" y="1793"/>
                </a:lnTo>
                <a:lnTo>
                  <a:pt x="6" y="1793"/>
                </a:lnTo>
                <a:lnTo>
                  <a:pt x="6" y="1795"/>
                </a:lnTo>
                <a:lnTo>
                  <a:pt x="4" y="1795"/>
                </a:lnTo>
                <a:lnTo>
                  <a:pt x="2" y="1795"/>
                </a:lnTo>
                <a:lnTo>
                  <a:pt x="2" y="1793"/>
                </a:lnTo>
                <a:lnTo>
                  <a:pt x="0" y="1793"/>
                </a:lnTo>
                <a:lnTo>
                  <a:pt x="0" y="1791"/>
                </a:lnTo>
                <a:lnTo>
                  <a:pt x="0" y="1771"/>
                </a:lnTo>
                <a:lnTo>
                  <a:pt x="0" y="1769"/>
                </a:lnTo>
                <a:lnTo>
                  <a:pt x="2" y="1769"/>
                </a:lnTo>
                <a:lnTo>
                  <a:pt x="2" y="1767"/>
                </a:lnTo>
                <a:lnTo>
                  <a:pt x="4" y="1767"/>
                </a:lnTo>
                <a:lnTo>
                  <a:pt x="6" y="1767"/>
                </a:lnTo>
                <a:lnTo>
                  <a:pt x="6" y="1769"/>
                </a:lnTo>
                <a:lnTo>
                  <a:pt x="6" y="1769"/>
                </a:lnTo>
                <a:lnTo>
                  <a:pt x="6" y="1771"/>
                </a:lnTo>
                <a:lnTo>
                  <a:pt x="6" y="1771"/>
                </a:lnTo>
                <a:close/>
                <a:moveTo>
                  <a:pt x="6" y="1818"/>
                </a:moveTo>
                <a:lnTo>
                  <a:pt x="6" y="1837"/>
                </a:lnTo>
                <a:lnTo>
                  <a:pt x="6" y="1840"/>
                </a:lnTo>
                <a:lnTo>
                  <a:pt x="6" y="1840"/>
                </a:lnTo>
                <a:lnTo>
                  <a:pt x="6" y="1840"/>
                </a:lnTo>
                <a:lnTo>
                  <a:pt x="4" y="1842"/>
                </a:lnTo>
                <a:lnTo>
                  <a:pt x="2" y="1840"/>
                </a:lnTo>
                <a:lnTo>
                  <a:pt x="2" y="1840"/>
                </a:lnTo>
                <a:lnTo>
                  <a:pt x="0" y="1840"/>
                </a:lnTo>
                <a:lnTo>
                  <a:pt x="0" y="1837"/>
                </a:lnTo>
                <a:lnTo>
                  <a:pt x="0" y="1818"/>
                </a:lnTo>
                <a:lnTo>
                  <a:pt x="0" y="1816"/>
                </a:lnTo>
                <a:lnTo>
                  <a:pt x="2" y="1816"/>
                </a:lnTo>
                <a:lnTo>
                  <a:pt x="2" y="1814"/>
                </a:lnTo>
                <a:lnTo>
                  <a:pt x="4" y="1814"/>
                </a:lnTo>
                <a:lnTo>
                  <a:pt x="6" y="1814"/>
                </a:lnTo>
                <a:lnTo>
                  <a:pt x="6" y="1816"/>
                </a:lnTo>
                <a:lnTo>
                  <a:pt x="6" y="1816"/>
                </a:lnTo>
                <a:lnTo>
                  <a:pt x="6" y="1818"/>
                </a:lnTo>
                <a:lnTo>
                  <a:pt x="6" y="1818"/>
                </a:lnTo>
                <a:close/>
                <a:moveTo>
                  <a:pt x="6" y="1865"/>
                </a:moveTo>
                <a:lnTo>
                  <a:pt x="6" y="1884"/>
                </a:lnTo>
                <a:lnTo>
                  <a:pt x="6" y="1886"/>
                </a:lnTo>
                <a:lnTo>
                  <a:pt x="6" y="1886"/>
                </a:lnTo>
                <a:lnTo>
                  <a:pt x="6" y="1886"/>
                </a:lnTo>
                <a:lnTo>
                  <a:pt x="4" y="1886"/>
                </a:lnTo>
                <a:lnTo>
                  <a:pt x="2" y="1886"/>
                </a:lnTo>
                <a:lnTo>
                  <a:pt x="2" y="1886"/>
                </a:lnTo>
                <a:lnTo>
                  <a:pt x="0" y="1886"/>
                </a:lnTo>
                <a:lnTo>
                  <a:pt x="0" y="1884"/>
                </a:lnTo>
                <a:lnTo>
                  <a:pt x="0" y="1865"/>
                </a:lnTo>
                <a:lnTo>
                  <a:pt x="0" y="1863"/>
                </a:lnTo>
                <a:lnTo>
                  <a:pt x="2" y="1861"/>
                </a:lnTo>
                <a:lnTo>
                  <a:pt x="2" y="1861"/>
                </a:lnTo>
                <a:lnTo>
                  <a:pt x="4" y="1861"/>
                </a:lnTo>
                <a:lnTo>
                  <a:pt x="6" y="1861"/>
                </a:lnTo>
                <a:lnTo>
                  <a:pt x="6" y="1861"/>
                </a:lnTo>
                <a:lnTo>
                  <a:pt x="6" y="1863"/>
                </a:lnTo>
                <a:lnTo>
                  <a:pt x="6" y="1865"/>
                </a:lnTo>
                <a:lnTo>
                  <a:pt x="6" y="1865"/>
                </a:lnTo>
                <a:close/>
                <a:moveTo>
                  <a:pt x="6" y="1910"/>
                </a:moveTo>
                <a:lnTo>
                  <a:pt x="6" y="1918"/>
                </a:lnTo>
                <a:lnTo>
                  <a:pt x="6" y="1918"/>
                </a:lnTo>
                <a:lnTo>
                  <a:pt x="6" y="1920"/>
                </a:lnTo>
                <a:lnTo>
                  <a:pt x="6" y="1920"/>
                </a:lnTo>
                <a:lnTo>
                  <a:pt x="4" y="1920"/>
                </a:lnTo>
                <a:lnTo>
                  <a:pt x="2" y="1920"/>
                </a:lnTo>
                <a:lnTo>
                  <a:pt x="2" y="1920"/>
                </a:lnTo>
                <a:lnTo>
                  <a:pt x="0" y="1918"/>
                </a:lnTo>
                <a:lnTo>
                  <a:pt x="0" y="1918"/>
                </a:lnTo>
                <a:lnTo>
                  <a:pt x="0" y="1910"/>
                </a:lnTo>
                <a:lnTo>
                  <a:pt x="0" y="1910"/>
                </a:lnTo>
                <a:lnTo>
                  <a:pt x="2" y="1908"/>
                </a:lnTo>
                <a:lnTo>
                  <a:pt x="2" y="1908"/>
                </a:lnTo>
                <a:lnTo>
                  <a:pt x="4" y="1908"/>
                </a:lnTo>
                <a:lnTo>
                  <a:pt x="6" y="1908"/>
                </a:lnTo>
                <a:lnTo>
                  <a:pt x="6" y="1908"/>
                </a:lnTo>
                <a:lnTo>
                  <a:pt x="6" y="1910"/>
                </a:lnTo>
                <a:lnTo>
                  <a:pt x="6" y="1910"/>
                </a:lnTo>
                <a:lnTo>
                  <a:pt x="6" y="191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2286000"/>
            <a:ext cx="11160" cy="3048120"/>
          </a:xfrm>
          <a:custGeom>
            <a:avLst/>
            <a:gdLst/>
            <a:ahLst/>
            <a:rect l="l" t="t" r="r" b="b"/>
            <a:pathLst>
              <a:path w="7" h="1920">
                <a:moveTo>
                  <a:pt x="7" y="5"/>
                </a:moveTo>
                <a:lnTo>
                  <a:pt x="7" y="24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5" y="26"/>
                </a:lnTo>
                <a:lnTo>
                  <a:pt x="2" y="26"/>
                </a:lnTo>
                <a:lnTo>
                  <a:pt x="2" y="26"/>
                </a:lnTo>
                <a:lnTo>
                  <a:pt x="0" y="26"/>
                </a:lnTo>
                <a:lnTo>
                  <a:pt x="0" y="24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5"/>
                </a:lnTo>
                <a:lnTo>
                  <a:pt x="7" y="5"/>
                </a:lnTo>
                <a:close/>
                <a:moveTo>
                  <a:pt x="7" y="49"/>
                </a:moveTo>
                <a:lnTo>
                  <a:pt x="7" y="71"/>
                </a:lnTo>
                <a:lnTo>
                  <a:pt x="7" y="71"/>
                </a:lnTo>
                <a:lnTo>
                  <a:pt x="7" y="73"/>
                </a:lnTo>
                <a:lnTo>
                  <a:pt x="7" y="73"/>
                </a:lnTo>
                <a:lnTo>
                  <a:pt x="5" y="73"/>
                </a:lnTo>
                <a:lnTo>
                  <a:pt x="2" y="73"/>
                </a:lnTo>
                <a:lnTo>
                  <a:pt x="2" y="73"/>
                </a:lnTo>
                <a:lnTo>
                  <a:pt x="0" y="71"/>
                </a:lnTo>
                <a:lnTo>
                  <a:pt x="0" y="71"/>
                </a:lnTo>
                <a:lnTo>
                  <a:pt x="0" y="49"/>
                </a:lnTo>
                <a:lnTo>
                  <a:pt x="0" y="49"/>
                </a:lnTo>
                <a:lnTo>
                  <a:pt x="2" y="47"/>
                </a:lnTo>
                <a:lnTo>
                  <a:pt x="2" y="47"/>
                </a:lnTo>
                <a:lnTo>
                  <a:pt x="5" y="47"/>
                </a:lnTo>
                <a:lnTo>
                  <a:pt x="7" y="47"/>
                </a:lnTo>
                <a:lnTo>
                  <a:pt x="7" y="47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close/>
                <a:moveTo>
                  <a:pt x="7" y="96"/>
                </a:moveTo>
                <a:lnTo>
                  <a:pt x="7" y="118"/>
                </a:lnTo>
                <a:lnTo>
                  <a:pt x="7" y="118"/>
                </a:lnTo>
                <a:lnTo>
                  <a:pt x="7" y="120"/>
                </a:lnTo>
                <a:lnTo>
                  <a:pt x="7" y="120"/>
                </a:lnTo>
                <a:lnTo>
                  <a:pt x="5" y="120"/>
                </a:lnTo>
                <a:lnTo>
                  <a:pt x="2" y="120"/>
                </a:lnTo>
                <a:lnTo>
                  <a:pt x="2" y="120"/>
                </a:lnTo>
                <a:lnTo>
                  <a:pt x="0" y="118"/>
                </a:lnTo>
                <a:lnTo>
                  <a:pt x="0" y="118"/>
                </a:lnTo>
                <a:lnTo>
                  <a:pt x="0" y="96"/>
                </a:lnTo>
                <a:lnTo>
                  <a:pt x="0" y="96"/>
                </a:lnTo>
                <a:lnTo>
                  <a:pt x="2" y="94"/>
                </a:lnTo>
                <a:lnTo>
                  <a:pt x="2" y="94"/>
                </a:lnTo>
                <a:lnTo>
                  <a:pt x="5" y="94"/>
                </a:lnTo>
                <a:lnTo>
                  <a:pt x="7" y="94"/>
                </a:lnTo>
                <a:lnTo>
                  <a:pt x="7" y="94"/>
                </a:lnTo>
                <a:lnTo>
                  <a:pt x="7" y="96"/>
                </a:lnTo>
                <a:lnTo>
                  <a:pt x="7" y="96"/>
                </a:lnTo>
                <a:lnTo>
                  <a:pt x="7" y="96"/>
                </a:lnTo>
                <a:close/>
                <a:moveTo>
                  <a:pt x="7" y="143"/>
                </a:moveTo>
                <a:lnTo>
                  <a:pt x="7" y="164"/>
                </a:lnTo>
                <a:lnTo>
                  <a:pt x="7" y="164"/>
                </a:lnTo>
                <a:lnTo>
                  <a:pt x="7" y="166"/>
                </a:lnTo>
                <a:lnTo>
                  <a:pt x="7" y="166"/>
                </a:lnTo>
                <a:lnTo>
                  <a:pt x="5" y="166"/>
                </a:lnTo>
                <a:lnTo>
                  <a:pt x="2" y="166"/>
                </a:lnTo>
                <a:lnTo>
                  <a:pt x="2" y="166"/>
                </a:lnTo>
                <a:lnTo>
                  <a:pt x="0" y="164"/>
                </a:lnTo>
                <a:lnTo>
                  <a:pt x="0" y="164"/>
                </a:lnTo>
                <a:lnTo>
                  <a:pt x="0" y="143"/>
                </a:lnTo>
                <a:lnTo>
                  <a:pt x="0" y="143"/>
                </a:lnTo>
                <a:lnTo>
                  <a:pt x="2" y="141"/>
                </a:lnTo>
                <a:lnTo>
                  <a:pt x="2" y="141"/>
                </a:lnTo>
                <a:lnTo>
                  <a:pt x="5" y="141"/>
                </a:lnTo>
                <a:lnTo>
                  <a:pt x="7" y="141"/>
                </a:lnTo>
                <a:lnTo>
                  <a:pt x="7" y="141"/>
                </a:lnTo>
                <a:lnTo>
                  <a:pt x="7" y="143"/>
                </a:lnTo>
                <a:lnTo>
                  <a:pt x="7" y="143"/>
                </a:lnTo>
                <a:lnTo>
                  <a:pt x="7" y="143"/>
                </a:lnTo>
                <a:close/>
                <a:moveTo>
                  <a:pt x="7" y="190"/>
                </a:moveTo>
                <a:lnTo>
                  <a:pt x="7" y="209"/>
                </a:lnTo>
                <a:lnTo>
                  <a:pt x="7" y="211"/>
                </a:lnTo>
                <a:lnTo>
                  <a:pt x="7" y="213"/>
                </a:lnTo>
                <a:lnTo>
                  <a:pt x="7" y="213"/>
                </a:lnTo>
                <a:lnTo>
                  <a:pt x="5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1"/>
                </a:lnTo>
                <a:lnTo>
                  <a:pt x="0" y="209"/>
                </a:lnTo>
                <a:lnTo>
                  <a:pt x="0" y="190"/>
                </a:lnTo>
                <a:lnTo>
                  <a:pt x="0" y="188"/>
                </a:lnTo>
                <a:lnTo>
                  <a:pt x="2" y="188"/>
                </a:lnTo>
                <a:lnTo>
                  <a:pt x="2" y="188"/>
                </a:lnTo>
                <a:lnTo>
                  <a:pt x="5" y="186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90"/>
                </a:lnTo>
                <a:lnTo>
                  <a:pt x="7" y="190"/>
                </a:lnTo>
                <a:close/>
                <a:moveTo>
                  <a:pt x="7" y="237"/>
                </a:moveTo>
                <a:lnTo>
                  <a:pt x="7" y="256"/>
                </a:lnTo>
                <a:lnTo>
                  <a:pt x="7" y="258"/>
                </a:lnTo>
                <a:lnTo>
                  <a:pt x="7" y="258"/>
                </a:lnTo>
                <a:lnTo>
                  <a:pt x="7" y="260"/>
                </a:lnTo>
                <a:lnTo>
                  <a:pt x="5" y="260"/>
                </a:lnTo>
                <a:lnTo>
                  <a:pt x="2" y="260"/>
                </a:lnTo>
                <a:lnTo>
                  <a:pt x="2" y="258"/>
                </a:lnTo>
                <a:lnTo>
                  <a:pt x="0" y="258"/>
                </a:lnTo>
                <a:lnTo>
                  <a:pt x="0" y="256"/>
                </a:lnTo>
                <a:lnTo>
                  <a:pt x="0" y="237"/>
                </a:lnTo>
                <a:lnTo>
                  <a:pt x="0" y="235"/>
                </a:lnTo>
                <a:lnTo>
                  <a:pt x="2" y="235"/>
                </a:lnTo>
                <a:lnTo>
                  <a:pt x="2" y="232"/>
                </a:lnTo>
                <a:lnTo>
                  <a:pt x="5" y="232"/>
                </a:lnTo>
                <a:lnTo>
                  <a:pt x="7" y="232"/>
                </a:lnTo>
                <a:lnTo>
                  <a:pt x="7" y="235"/>
                </a:lnTo>
                <a:lnTo>
                  <a:pt x="7" y="235"/>
                </a:lnTo>
                <a:lnTo>
                  <a:pt x="7" y="237"/>
                </a:lnTo>
                <a:lnTo>
                  <a:pt x="7" y="237"/>
                </a:lnTo>
                <a:close/>
                <a:moveTo>
                  <a:pt x="7" y="284"/>
                </a:moveTo>
                <a:lnTo>
                  <a:pt x="7" y="303"/>
                </a:lnTo>
                <a:lnTo>
                  <a:pt x="7" y="305"/>
                </a:lnTo>
                <a:lnTo>
                  <a:pt x="7" y="305"/>
                </a:lnTo>
                <a:lnTo>
                  <a:pt x="7" y="307"/>
                </a:lnTo>
                <a:lnTo>
                  <a:pt x="5" y="307"/>
                </a:lnTo>
                <a:lnTo>
                  <a:pt x="2" y="307"/>
                </a:lnTo>
                <a:lnTo>
                  <a:pt x="2" y="305"/>
                </a:lnTo>
                <a:lnTo>
                  <a:pt x="0" y="305"/>
                </a:lnTo>
                <a:lnTo>
                  <a:pt x="0" y="303"/>
                </a:lnTo>
                <a:lnTo>
                  <a:pt x="0" y="284"/>
                </a:lnTo>
                <a:lnTo>
                  <a:pt x="0" y="281"/>
                </a:lnTo>
                <a:lnTo>
                  <a:pt x="2" y="281"/>
                </a:lnTo>
                <a:lnTo>
                  <a:pt x="2" y="279"/>
                </a:lnTo>
                <a:lnTo>
                  <a:pt x="5" y="279"/>
                </a:lnTo>
                <a:lnTo>
                  <a:pt x="7" y="279"/>
                </a:lnTo>
                <a:lnTo>
                  <a:pt x="7" y="281"/>
                </a:lnTo>
                <a:lnTo>
                  <a:pt x="7" y="281"/>
                </a:lnTo>
                <a:lnTo>
                  <a:pt x="7" y="284"/>
                </a:lnTo>
                <a:lnTo>
                  <a:pt x="7" y="284"/>
                </a:lnTo>
                <a:close/>
                <a:moveTo>
                  <a:pt x="7" y="330"/>
                </a:moveTo>
                <a:lnTo>
                  <a:pt x="7" y="350"/>
                </a:lnTo>
                <a:lnTo>
                  <a:pt x="7" y="352"/>
                </a:lnTo>
                <a:lnTo>
                  <a:pt x="7" y="352"/>
                </a:lnTo>
                <a:lnTo>
                  <a:pt x="7" y="352"/>
                </a:lnTo>
                <a:lnTo>
                  <a:pt x="5" y="354"/>
                </a:lnTo>
                <a:lnTo>
                  <a:pt x="2" y="352"/>
                </a:lnTo>
                <a:lnTo>
                  <a:pt x="2" y="352"/>
                </a:lnTo>
                <a:lnTo>
                  <a:pt x="0" y="352"/>
                </a:lnTo>
                <a:lnTo>
                  <a:pt x="0" y="350"/>
                </a:lnTo>
                <a:lnTo>
                  <a:pt x="0" y="330"/>
                </a:lnTo>
                <a:lnTo>
                  <a:pt x="0" y="328"/>
                </a:lnTo>
                <a:lnTo>
                  <a:pt x="2" y="328"/>
                </a:lnTo>
                <a:lnTo>
                  <a:pt x="2" y="326"/>
                </a:lnTo>
                <a:lnTo>
                  <a:pt x="5" y="326"/>
                </a:lnTo>
                <a:lnTo>
                  <a:pt x="7" y="326"/>
                </a:lnTo>
                <a:lnTo>
                  <a:pt x="7" y="328"/>
                </a:lnTo>
                <a:lnTo>
                  <a:pt x="7" y="328"/>
                </a:lnTo>
                <a:lnTo>
                  <a:pt x="7" y="330"/>
                </a:lnTo>
                <a:lnTo>
                  <a:pt x="7" y="330"/>
                </a:lnTo>
                <a:close/>
                <a:moveTo>
                  <a:pt x="7" y="377"/>
                </a:moveTo>
                <a:lnTo>
                  <a:pt x="7" y="396"/>
                </a:lnTo>
                <a:lnTo>
                  <a:pt x="7" y="399"/>
                </a:lnTo>
                <a:lnTo>
                  <a:pt x="7" y="399"/>
                </a:lnTo>
                <a:lnTo>
                  <a:pt x="7" y="399"/>
                </a:lnTo>
                <a:lnTo>
                  <a:pt x="5" y="399"/>
                </a:lnTo>
                <a:lnTo>
                  <a:pt x="2" y="399"/>
                </a:lnTo>
                <a:lnTo>
                  <a:pt x="2" y="399"/>
                </a:lnTo>
                <a:lnTo>
                  <a:pt x="0" y="399"/>
                </a:lnTo>
                <a:lnTo>
                  <a:pt x="0" y="396"/>
                </a:lnTo>
                <a:lnTo>
                  <a:pt x="0" y="377"/>
                </a:lnTo>
                <a:lnTo>
                  <a:pt x="0" y="375"/>
                </a:lnTo>
                <a:lnTo>
                  <a:pt x="2" y="373"/>
                </a:lnTo>
                <a:lnTo>
                  <a:pt x="2" y="373"/>
                </a:lnTo>
                <a:lnTo>
                  <a:pt x="5" y="373"/>
                </a:lnTo>
                <a:lnTo>
                  <a:pt x="7" y="373"/>
                </a:lnTo>
                <a:lnTo>
                  <a:pt x="7" y="373"/>
                </a:lnTo>
                <a:lnTo>
                  <a:pt x="7" y="375"/>
                </a:lnTo>
                <a:lnTo>
                  <a:pt x="7" y="377"/>
                </a:lnTo>
                <a:lnTo>
                  <a:pt x="7" y="377"/>
                </a:lnTo>
                <a:close/>
                <a:moveTo>
                  <a:pt x="7" y="422"/>
                </a:moveTo>
                <a:lnTo>
                  <a:pt x="7" y="443"/>
                </a:lnTo>
                <a:lnTo>
                  <a:pt x="7" y="443"/>
                </a:lnTo>
                <a:lnTo>
                  <a:pt x="7" y="445"/>
                </a:lnTo>
                <a:lnTo>
                  <a:pt x="7" y="445"/>
                </a:lnTo>
                <a:lnTo>
                  <a:pt x="5" y="445"/>
                </a:lnTo>
                <a:lnTo>
                  <a:pt x="2" y="445"/>
                </a:lnTo>
                <a:lnTo>
                  <a:pt x="2" y="445"/>
                </a:lnTo>
                <a:lnTo>
                  <a:pt x="0" y="443"/>
                </a:lnTo>
                <a:lnTo>
                  <a:pt x="0" y="443"/>
                </a:lnTo>
                <a:lnTo>
                  <a:pt x="0" y="422"/>
                </a:lnTo>
                <a:lnTo>
                  <a:pt x="0" y="422"/>
                </a:lnTo>
                <a:lnTo>
                  <a:pt x="2" y="420"/>
                </a:lnTo>
                <a:lnTo>
                  <a:pt x="2" y="420"/>
                </a:lnTo>
                <a:lnTo>
                  <a:pt x="5" y="420"/>
                </a:lnTo>
                <a:lnTo>
                  <a:pt x="7" y="420"/>
                </a:lnTo>
                <a:lnTo>
                  <a:pt x="7" y="420"/>
                </a:lnTo>
                <a:lnTo>
                  <a:pt x="7" y="422"/>
                </a:lnTo>
                <a:lnTo>
                  <a:pt x="7" y="422"/>
                </a:lnTo>
                <a:lnTo>
                  <a:pt x="7" y="422"/>
                </a:lnTo>
                <a:close/>
                <a:moveTo>
                  <a:pt x="7" y="469"/>
                </a:moveTo>
                <a:lnTo>
                  <a:pt x="7" y="490"/>
                </a:lnTo>
                <a:lnTo>
                  <a:pt x="7" y="490"/>
                </a:lnTo>
                <a:lnTo>
                  <a:pt x="7" y="492"/>
                </a:lnTo>
                <a:lnTo>
                  <a:pt x="7" y="492"/>
                </a:lnTo>
                <a:lnTo>
                  <a:pt x="5" y="492"/>
                </a:lnTo>
                <a:lnTo>
                  <a:pt x="2" y="492"/>
                </a:lnTo>
                <a:lnTo>
                  <a:pt x="2" y="492"/>
                </a:lnTo>
                <a:lnTo>
                  <a:pt x="0" y="490"/>
                </a:lnTo>
                <a:lnTo>
                  <a:pt x="0" y="490"/>
                </a:lnTo>
                <a:lnTo>
                  <a:pt x="0" y="469"/>
                </a:lnTo>
                <a:lnTo>
                  <a:pt x="0" y="469"/>
                </a:lnTo>
                <a:lnTo>
                  <a:pt x="2" y="467"/>
                </a:lnTo>
                <a:lnTo>
                  <a:pt x="2" y="467"/>
                </a:lnTo>
                <a:lnTo>
                  <a:pt x="5" y="467"/>
                </a:lnTo>
                <a:lnTo>
                  <a:pt x="7" y="467"/>
                </a:lnTo>
                <a:lnTo>
                  <a:pt x="7" y="467"/>
                </a:lnTo>
                <a:lnTo>
                  <a:pt x="7" y="469"/>
                </a:lnTo>
                <a:lnTo>
                  <a:pt x="7" y="469"/>
                </a:lnTo>
                <a:lnTo>
                  <a:pt x="7" y="469"/>
                </a:lnTo>
                <a:close/>
                <a:moveTo>
                  <a:pt x="7" y="516"/>
                </a:moveTo>
                <a:lnTo>
                  <a:pt x="7" y="537"/>
                </a:lnTo>
                <a:lnTo>
                  <a:pt x="7" y="537"/>
                </a:lnTo>
                <a:lnTo>
                  <a:pt x="7" y="539"/>
                </a:lnTo>
                <a:lnTo>
                  <a:pt x="7" y="539"/>
                </a:lnTo>
                <a:lnTo>
                  <a:pt x="5" y="539"/>
                </a:lnTo>
                <a:lnTo>
                  <a:pt x="2" y="539"/>
                </a:lnTo>
                <a:lnTo>
                  <a:pt x="2" y="539"/>
                </a:lnTo>
                <a:lnTo>
                  <a:pt x="0" y="537"/>
                </a:lnTo>
                <a:lnTo>
                  <a:pt x="0" y="537"/>
                </a:lnTo>
                <a:lnTo>
                  <a:pt x="0" y="516"/>
                </a:lnTo>
                <a:lnTo>
                  <a:pt x="0" y="516"/>
                </a:lnTo>
                <a:lnTo>
                  <a:pt x="2" y="513"/>
                </a:lnTo>
                <a:lnTo>
                  <a:pt x="2" y="513"/>
                </a:lnTo>
                <a:lnTo>
                  <a:pt x="5" y="513"/>
                </a:lnTo>
                <a:lnTo>
                  <a:pt x="7" y="513"/>
                </a:lnTo>
                <a:lnTo>
                  <a:pt x="7" y="513"/>
                </a:lnTo>
                <a:lnTo>
                  <a:pt x="7" y="516"/>
                </a:lnTo>
                <a:lnTo>
                  <a:pt x="7" y="516"/>
                </a:lnTo>
                <a:lnTo>
                  <a:pt x="7" y="516"/>
                </a:lnTo>
                <a:close/>
                <a:moveTo>
                  <a:pt x="7" y="562"/>
                </a:moveTo>
                <a:lnTo>
                  <a:pt x="7" y="582"/>
                </a:lnTo>
                <a:lnTo>
                  <a:pt x="7" y="584"/>
                </a:lnTo>
                <a:lnTo>
                  <a:pt x="7" y="586"/>
                </a:lnTo>
                <a:lnTo>
                  <a:pt x="7" y="586"/>
                </a:lnTo>
                <a:lnTo>
                  <a:pt x="5" y="586"/>
                </a:lnTo>
                <a:lnTo>
                  <a:pt x="2" y="586"/>
                </a:lnTo>
                <a:lnTo>
                  <a:pt x="2" y="586"/>
                </a:lnTo>
                <a:lnTo>
                  <a:pt x="0" y="584"/>
                </a:lnTo>
                <a:lnTo>
                  <a:pt x="0" y="582"/>
                </a:lnTo>
                <a:lnTo>
                  <a:pt x="0" y="562"/>
                </a:lnTo>
                <a:lnTo>
                  <a:pt x="0" y="560"/>
                </a:lnTo>
                <a:lnTo>
                  <a:pt x="2" y="560"/>
                </a:lnTo>
                <a:lnTo>
                  <a:pt x="2" y="560"/>
                </a:lnTo>
                <a:lnTo>
                  <a:pt x="5" y="558"/>
                </a:lnTo>
                <a:lnTo>
                  <a:pt x="7" y="560"/>
                </a:lnTo>
                <a:lnTo>
                  <a:pt x="7" y="560"/>
                </a:lnTo>
                <a:lnTo>
                  <a:pt x="7" y="560"/>
                </a:lnTo>
                <a:lnTo>
                  <a:pt x="7" y="562"/>
                </a:lnTo>
                <a:lnTo>
                  <a:pt x="7" y="562"/>
                </a:lnTo>
                <a:close/>
                <a:moveTo>
                  <a:pt x="7" y="609"/>
                </a:moveTo>
                <a:lnTo>
                  <a:pt x="7" y="628"/>
                </a:lnTo>
                <a:lnTo>
                  <a:pt x="7" y="631"/>
                </a:lnTo>
                <a:lnTo>
                  <a:pt x="7" y="631"/>
                </a:lnTo>
                <a:lnTo>
                  <a:pt x="7" y="633"/>
                </a:lnTo>
                <a:lnTo>
                  <a:pt x="5" y="633"/>
                </a:lnTo>
                <a:lnTo>
                  <a:pt x="2" y="633"/>
                </a:lnTo>
                <a:lnTo>
                  <a:pt x="2" y="631"/>
                </a:lnTo>
                <a:lnTo>
                  <a:pt x="0" y="631"/>
                </a:lnTo>
                <a:lnTo>
                  <a:pt x="0" y="628"/>
                </a:lnTo>
                <a:lnTo>
                  <a:pt x="0" y="609"/>
                </a:lnTo>
                <a:lnTo>
                  <a:pt x="0" y="607"/>
                </a:lnTo>
                <a:lnTo>
                  <a:pt x="2" y="607"/>
                </a:lnTo>
                <a:lnTo>
                  <a:pt x="2" y="605"/>
                </a:lnTo>
                <a:lnTo>
                  <a:pt x="5" y="605"/>
                </a:lnTo>
                <a:lnTo>
                  <a:pt x="7" y="605"/>
                </a:lnTo>
                <a:lnTo>
                  <a:pt x="7" y="607"/>
                </a:lnTo>
                <a:lnTo>
                  <a:pt x="7" y="607"/>
                </a:lnTo>
                <a:lnTo>
                  <a:pt x="7" y="609"/>
                </a:lnTo>
                <a:lnTo>
                  <a:pt x="7" y="609"/>
                </a:lnTo>
                <a:close/>
                <a:moveTo>
                  <a:pt x="7" y="656"/>
                </a:moveTo>
                <a:lnTo>
                  <a:pt x="7" y="675"/>
                </a:lnTo>
                <a:lnTo>
                  <a:pt x="7" y="677"/>
                </a:lnTo>
                <a:lnTo>
                  <a:pt x="7" y="677"/>
                </a:lnTo>
                <a:lnTo>
                  <a:pt x="7" y="679"/>
                </a:lnTo>
                <a:lnTo>
                  <a:pt x="5" y="679"/>
                </a:lnTo>
                <a:lnTo>
                  <a:pt x="2" y="679"/>
                </a:lnTo>
                <a:lnTo>
                  <a:pt x="2" y="677"/>
                </a:lnTo>
                <a:lnTo>
                  <a:pt x="0" y="677"/>
                </a:lnTo>
                <a:lnTo>
                  <a:pt x="0" y="675"/>
                </a:lnTo>
                <a:lnTo>
                  <a:pt x="0" y="656"/>
                </a:lnTo>
                <a:lnTo>
                  <a:pt x="0" y="654"/>
                </a:lnTo>
                <a:lnTo>
                  <a:pt x="2" y="654"/>
                </a:lnTo>
                <a:lnTo>
                  <a:pt x="2" y="652"/>
                </a:lnTo>
                <a:lnTo>
                  <a:pt x="5" y="652"/>
                </a:lnTo>
                <a:lnTo>
                  <a:pt x="7" y="652"/>
                </a:lnTo>
                <a:lnTo>
                  <a:pt x="7" y="654"/>
                </a:lnTo>
                <a:lnTo>
                  <a:pt x="7" y="654"/>
                </a:lnTo>
                <a:lnTo>
                  <a:pt x="7" y="656"/>
                </a:lnTo>
                <a:lnTo>
                  <a:pt x="7" y="656"/>
                </a:lnTo>
                <a:close/>
                <a:moveTo>
                  <a:pt x="7" y="703"/>
                </a:moveTo>
                <a:lnTo>
                  <a:pt x="7" y="722"/>
                </a:lnTo>
                <a:lnTo>
                  <a:pt x="7" y="724"/>
                </a:lnTo>
                <a:lnTo>
                  <a:pt x="7" y="724"/>
                </a:lnTo>
                <a:lnTo>
                  <a:pt x="7" y="724"/>
                </a:lnTo>
                <a:lnTo>
                  <a:pt x="5" y="726"/>
                </a:lnTo>
                <a:lnTo>
                  <a:pt x="2" y="724"/>
                </a:lnTo>
                <a:lnTo>
                  <a:pt x="2" y="724"/>
                </a:lnTo>
                <a:lnTo>
                  <a:pt x="0" y="724"/>
                </a:lnTo>
                <a:lnTo>
                  <a:pt x="0" y="722"/>
                </a:lnTo>
                <a:lnTo>
                  <a:pt x="0" y="703"/>
                </a:lnTo>
                <a:lnTo>
                  <a:pt x="0" y="701"/>
                </a:lnTo>
                <a:lnTo>
                  <a:pt x="2" y="701"/>
                </a:lnTo>
                <a:lnTo>
                  <a:pt x="2" y="699"/>
                </a:lnTo>
                <a:lnTo>
                  <a:pt x="5" y="699"/>
                </a:lnTo>
                <a:lnTo>
                  <a:pt x="7" y="699"/>
                </a:lnTo>
                <a:lnTo>
                  <a:pt x="7" y="701"/>
                </a:lnTo>
                <a:lnTo>
                  <a:pt x="7" y="701"/>
                </a:lnTo>
                <a:lnTo>
                  <a:pt x="7" y="703"/>
                </a:lnTo>
                <a:lnTo>
                  <a:pt x="7" y="703"/>
                </a:lnTo>
                <a:close/>
                <a:moveTo>
                  <a:pt x="7" y="750"/>
                </a:moveTo>
                <a:lnTo>
                  <a:pt x="7" y="767"/>
                </a:lnTo>
                <a:lnTo>
                  <a:pt x="7" y="769"/>
                </a:lnTo>
                <a:lnTo>
                  <a:pt x="7" y="769"/>
                </a:lnTo>
                <a:lnTo>
                  <a:pt x="7" y="769"/>
                </a:lnTo>
                <a:lnTo>
                  <a:pt x="5" y="769"/>
                </a:lnTo>
                <a:lnTo>
                  <a:pt x="2" y="769"/>
                </a:lnTo>
                <a:lnTo>
                  <a:pt x="2" y="769"/>
                </a:lnTo>
                <a:lnTo>
                  <a:pt x="0" y="769"/>
                </a:lnTo>
                <a:lnTo>
                  <a:pt x="0" y="767"/>
                </a:lnTo>
                <a:lnTo>
                  <a:pt x="0" y="750"/>
                </a:lnTo>
                <a:lnTo>
                  <a:pt x="0" y="748"/>
                </a:lnTo>
                <a:lnTo>
                  <a:pt x="2" y="745"/>
                </a:lnTo>
                <a:lnTo>
                  <a:pt x="2" y="745"/>
                </a:lnTo>
                <a:lnTo>
                  <a:pt x="5" y="745"/>
                </a:lnTo>
                <a:lnTo>
                  <a:pt x="7" y="745"/>
                </a:lnTo>
                <a:lnTo>
                  <a:pt x="7" y="745"/>
                </a:lnTo>
                <a:lnTo>
                  <a:pt x="7" y="748"/>
                </a:lnTo>
                <a:lnTo>
                  <a:pt x="7" y="750"/>
                </a:lnTo>
                <a:lnTo>
                  <a:pt x="7" y="750"/>
                </a:lnTo>
                <a:close/>
                <a:moveTo>
                  <a:pt x="7" y="792"/>
                </a:moveTo>
                <a:lnTo>
                  <a:pt x="7" y="814"/>
                </a:lnTo>
                <a:lnTo>
                  <a:pt x="7" y="814"/>
                </a:lnTo>
                <a:lnTo>
                  <a:pt x="7" y="816"/>
                </a:lnTo>
                <a:lnTo>
                  <a:pt x="7" y="816"/>
                </a:lnTo>
                <a:lnTo>
                  <a:pt x="5" y="816"/>
                </a:lnTo>
                <a:lnTo>
                  <a:pt x="2" y="816"/>
                </a:lnTo>
                <a:lnTo>
                  <a:pt x="2" y="816"/>
                </a:lnTo>
                <a:lnTo>
                  <a:pt x="0" y="814"/>
                </a:lnTo>
                <a:lnTo>
                  <a:pt x="0" y="814"/>
                </a:lnTo>
                <a:lnTo>
                  <a:pt x="0" y="792"/>
                </a:lnTo>
                <a:lnTo>
                  <a:pt x="0" y="792"/>
                </a:lnTo>
                <a:lnTo>
                  <a:pt x="2" y="790"/>
                </a:lnTo>
                <a:lnTo>
                  <a:pt x="2" y="790"/>
                </a:lnTo>
                <a:lnTo>
                  <a:pt x="5" y="790"/>
                </a:lnTo>
                <a:lnTo>
                  <a:pt x="7" y="790"/>
                </a:lnTo>
                <a:lnTo>
                  <a:pt x="7" y="790"/>
                </a:lnTo>
                <a:lnTo>
                  <a:pt x="7" y="792"/>
                </a:lnTo>
                <a:lnTo>
                  <a:pt x="7" y="792"/>
                </a:lnTo>
                <a:lnTo>
                  <a:pt x="7" y="792"/>
                </a:lnTo>
                <a:close/>
                <a:moveTo>
                  <a:pt x="7" y="839"/>
                </a:moveTo>
                <a:lnTo>
                  <a:pt x="7" y="860"/>
                </a:lnTo>
                <a:lnTo>
                  <a:pt x="7" y="860"/>
                </a:lnTo>
                <a:lnTo>
                  <a:pt x="7" y="863"/>
                </a:lnTo>
                <a:lnTo>
                  <a:pt x="7" y="863"/>
                </a:lnTo>
                <a:lnTo>
                  <a:pt x="5" y="863"/>
                </a:lnTo>
                <a:lnTo>
                  <a:pt x="2" y="863"/>
                </a:lnTo>
                <a:lnTo>
                  <a:pt x="2" y="863"/>
                </a:lnTo>
                <a:lnTo>
                  <a:pt x="0" y="860"/>
                </a:lnTo>
                <a:lnTo>
                  <a:pt x="0" y="860"/>
                </a:lnTo>
                <a:lnTo>
                  <a:pt x="0" y="839"/>
                </a:lnTo>
                <a:lnTo>
                  <a:pt x="0" y="839"/>
                </a:lnTo>
                <a:lnTo>
                  <a:pt x="2" y="837"/>
                </a:lnTo>
                <a:lnTo>
                  <a:pt x="2" y="837"/>
                </a:lnTo>
                <a:lnTo>
                  <a:pt x="5" y="837"/>
                </a:lnTo>
                <a:lnTo>
                  <a:pt x="7" y="837"/>
                </a:lnTo>
                <a:lnTo>
                  <a:pt x="7" y="837"/>
                </a:lnTo>
                <a:lnTo>
                  <a:pt x="7" y="839"/>
                </a:lnTo>
                <a:lnTo>
                  <a:pt x="7" y="839"/>
                </a:lnTo>
                <a:lnTo>
                  <a:pt x="7" y="839"/>
                </a:lnTo>
                <a:close/>
                <a:moveTo>
                  <a:pt x="7" y="886"/>
                </a:moveTo>
                <a:lnTo>
                  <a:pt x="7" y="907"/>
                </a:lnTo>
                <a:lnTo>
                  <a:pt x="7" y="907"/>
                </a:lnTo>
                <a:lnTo>
                  <a:pt x="7" y="909"/>
                </a:lnTo>
                <a:lnTo>
                  <a:pt x="7" y="909"/>
                </a:lnTo>
                <a:lnTo>
                  <a:pt x="5" y="909"/>
                </a:lnTo>
                <a:lnTo>
                  <a:pt x="2" y="909"/>
                </a:lnTo>
                <a:lnTo>
                  <a:pt x="2" y="909"/>
                </a:lnTo>
                <a:lnTo>
                  <a:pt x="0" y="907"/>
                </a:lnTo>
                <a:lnTo>
                  <a:pt x="0" y="907"/>
                </a:lnTo>
                <a:lnTo>
                  <a:pt x="0" y="886"/>
                </a:lnTo>
                <a:lnTo>
                  <a:pt x="0" y="886"/>
                </a:lnTo>
                <a:lnTo>
                  <a:pt x="2" y="884"/>
                </a:lnTo>
                <a:lnTo>
                  <a:pt x="2" y="884"/>
                </a:lnTo>
                <a:lnTo>
                  <a:pt x="5" y="884"/>
                </a:lnTo>
                <a:lnTo>
                  <a:pt x="7" y="884"/>
                </a:lnTo>
                <a:lnTo>
                  <a:pt x="7" y="884"/>
                </a:lnTo>
                <a:lnTo>
                  <a:pt x="7" y="886"/>
                </a:lnTo>
                <a:lnTo>
                  <a:pt x="7" y="886"/>
                </a:lnTo>
                <a:lnTo>
                  <a:pt x="7" y="886"/>
                </a:lnTo>
                <a:close/>
                <a:moveTo>
                  <a:pt x="7" y="933"/>
                </a:moveTo>
                <a:lnTo>
                  <a:pt x="7" y="952"/>
                </a:lnTo>
                <a:lnTo>
                  <a:pt x="7" y="954"/>
                </a:lnTo>
                <a:lnTo>
                  <a:pt x="7" y="956"/>
                </a:lnTo>
                <a:lnTo>
                  <a:pt x="7" y="956"/>
                </a:lnTo>
                <a:lnTo>
                  <a:pt x="5" y="956"/>
                </a:lnTo>
                <a:lnTo>
                  <a:pt x="2" y="956"/>
                </a:lnTo>
                <a:lnTo>
                  <a:pt x="2" y="956"/>
                </a:lnTo>
                <a:lnTo>
                  <a:pt x="0" y="954"/>
                </a:lnTo>
                <a:lnTo>
                  <a:pt x="0" y="952"/>
                </a:lnTo>
                <a:lnTo>
                  <a:pt x="0" y="933"/>
                </a:lnTo>
                <a:lnTo>
                  <a:pt x="0" y="931"/>
                </a:lnTo>
                <a:lnTo>
                  <a:pt x="2" y="931"/>
                </a:lnTo>
                <a:lnTo>
                  <a:pt x="2" y="931"/>
                </a:lnTo>
                <a:lnTo>
                  <a:pt x="5" y="929"/>
                </a:lnTo>
                <a:lnTo>
                  <a:pt x="7" y="931"/>
                </a:lnTo>
                <a:lnTo>
                  <a:pt x="7" y="931"/>
                </a:lnTo>
                <a:lnTo>
                  <a:pt x="7" y="931"/>
                </a:lnTo>
                <a:lnTo>
                  <a:pt x="7" y="933"/>
                </a:lnTo>
                <a:lnTo>
                  <a:pt x="7" y="933"/>
                </a:lnTo>
                <a:close/>
                <a:moveTo>
                  <a:pt x="7" y="980"/>
                </a:moveTo>
                <a:lnTo>
                  <a:pt x="7" y="999"/>
                </a:lnTo>
                <a:lnTo>
                  <a:pt x="7" y="1001"/>
                </a:lnTo>
                <a:lnTo>
                  <a:pt x="7" y="1001"/>
                </a:lnTo>
                <a:lnTo>
                  <a:pt x="7" y="1003"/>
                </a:lnTo>
                <a:lnTo>
                  <a:pt x="5" y="1003"/>
                </a:lnTo>
                <a:lnTo>
                  <a:pt x="2" y="1003"/>
                </a:lnTo>
                <a:lnTo>
                  <a:pt x="2" y="1001"/>
                </a:lnTo>
                <a:lnTo>
                  <a:pt x="0" y="1001"/>
                </a:lnTo>
                <a:lnTo>
                  <a:pt x="0" y="999"/>
                </a:lnTo>
                <a:lnTo>
                  <a:pt x="0" y="980"/>
                </a:lnTo>
                <a:lnTo>
                  <a:pt x="0" y="977"/>
                </a:lnTo>
                <a:lnTo>
                  <a:pt x="2" y="977"/>
                </a:lnTo>
                <a:lnTo>
                  <a:pt x="2" y="975"/>
                </a:lnTo>
                <a:lnTo>
                  <a:pt x="5" y="975"/>
                </a:lnTo>
                <a:lnTo>
                  <a:pt x="7" y="975"/>
                </a:lnTo>
                <a:lnTo>
                  <a:pt x="7" y="977"/>
                </a:lnTo>
                <a:lnTo>
                  <a:pt x="7" y="977"/>
                </a:lnTo>
                <a:lnTo>
                  <a:pt x="7" y="980"/>
                </a:lnTo>
                <a:lnTo>
                  <a:pt x="7" y="980"/>
                </a:lnTo>
                <a:close/>
                <a:moveTo>
                  <a:pt x="7" y="1026"/>
                </a:moveTo>
                <a:lnTo>
                  <a:pt x="7" y="1046"/>
                </a:lnTo>
                <a:lnTo>
                  <a:pt x="7" y="1048"/>
                </a:lnTo>
                <a:lnTo>
                  <a:pt x="7" y="1048"/>
                </a:lnTo>
                <a:lnTo>
                  <a:pt x="7" y="1050"/>
                </a:lnTo>
                <a:lnTo>
                  <a:pt x="5" y="1050"/>
                </a:lnTo>
                <a:lnTo>
                  <a:pt x="2" y="1050"/>
                </a:lnTo>
                <a:lnTo>
                  <a:pt x="2" y="1048"/>
                </a:lnTo>
                <a:lnTo>
                  <a:pt x="0" y="1048"/>
                </a:lnTo>
                <a:lnTo>
                  <a:pt x="0" y="1046"/>
                </a:lnTo>
                <a:lnTo>
                  <a:pt x="0" y="1026"/>
                </a:lnTo>
                <a:lnTo>
                  <a:pt x="0" y="1024"/>
                </a:lnTo>
                <a:lnTo>
                  <a:pt x="2" y="1024"/>
                </a:lnTo>
                <a:lnTo>
                  <a:pt x="2" y="1022"/>
                </a:lnTo>
                <a:lnTo>
                  <a:pt x="5" y="1022"/>
                </a:lnTo>
                <a:lnTo>
                  <a:pt x="7" y="1022"/>
                </a:lnTo>
                <a:lnTo>
                  <a:pt x="7" y="1024"/>
                </a:lnTo>
                <a:lnTo>
                  <a:pt x="7" y="1024"/>
                </a:lnTo>
                <a:lnTo>
                  <a:pt x="7" y="1026"/>
                </a:lnTo>
                <a:lnTo>
                  <a:pt x="7" y="1026"/>
                </a:lnTo>
                <a:close/>
                <a:moveTo>
                  <a:pt x="7" y="1073"/>
                </a:moveTo>
                <a:lnTo>
                  <a:pt x="7" y="1092"/>
                </a:lnTo>
                <a:lnTo>
                  <a:pt x="7" y="1095"/>
                </a:lnTo>
                <a:lnTo>
                  <a:pt x="7" y="1095"/>
                </a:lnTo>
                <a:lnTo>
                  <a:pt x="7" y="1095"/>
                </a:lnTo>
                <a:lnTo>
                  <a:pt x="5" y="1097"/>
                </a:lnTo>
                <a:lnTo>
                  <a:pt x="2" y="1095"/>
                </a:lnTo>
                <a:lnTo>
                  <a:pt x="2" y="1095"/>
                </a:lnTo>
                <a:lnTo>
                  <a:pt x="0" y="1095"/>
                </a:lnTo>
                <a:lnTo>
                  <a:pt x="0" y="1092"/>
                </a:lnTo>
                <a:lnTo>
                  <a:pt x="0" y="1073"/>
                </a:lnTo>
                <a:lnTo>
                  <a:pt x="0" y="1071"/>
                </a:lnTo>
                <a:lnTo>
                  <a:pt x="2" y="1071"/>
                </a:lnTo>
                <a:lnTo>
                  <a:pt x="2" y="1069"/>
                </a:lnTo>
                <a:lnTo>
                  <a:pt x="5" y="1069"/>
                </a:lnTo>
                <a:lnTo>
                  <a:pt x="7" y="1069"/>
                </a:lnTo>
                <a:lnTo>
                  <a:pt x="7" y="1071"/>
                </a:lnTo>
                <a:lnTo>
                  <a:pt x="7" y="1071"/>
                </a:lnTo>
                <a:lnTo>
                  <a:pt x="7" y="1073"/>
                </a:lnTo>
                <a:lnTo>
                  <a:pt x="7" y="1073"/>
                </a:lnTo>
                <a:close/>
                <a:moveTo>
                  <a:pt x="7" y="1120"/>
                </a:moveTo>
                <a:lnTo>
                  <a:pt x="7" y="1139"/>
                </a:lnTo>
                <a:lnTo>
                  <a:pt x="7" y="1141"/>
                </a:lnTo>
                <a:lnTo>
                  <a:pt x="7" y="1141"/>
                </a:lnTo>
                <a:lnTo>
                  <a:pt x="7" y="1141"/>
                </a:lnTo>
                <a:lnTo>
                  <a:pt x="5" y="1141"/>
                </a:lnTo>
                <a:lnTo>
                  <a:pt x="2" y="1141"/>
                </a:lnTo>
                <a:lnTo>
                  <a:pt x="2" y="1141"/>
                </a:lnTo>
                <a:lnTo>
                  <a:pt x="0" y="1141"/>
                </a:lnTo>
                <a:lnTo>
                  <a:pt x="0" y="1139"/>
                </a:lnTo>
                <a:lnTo>
                  <a:pt x="0" y="1120"/>
                </a:lnTo>
                <a:lnTo>
                  <a:pt x="0" y="1118"/>
                </a:lnTo>
                <a:lnTo>
                  <a:pt x="2" y="1116"/>
                </a:lnTo>
                <a:lnTo>
                  <a:pt x="2" y="1116"/>
                </a:lnTo>
                <a:lnTo>
                  <a:pt x="5" y="1116"/>
                </a:lnTo>
                <a:lnTo>
                  <a:pt x="7" y="1116"/>
                </a:lnTo>
                <a:lnTo>
                  <a:pt x="7" y="1116"/>
                </a:lnTo>
                <a:lnTo>
                  <a:pt x="7" y="1118"/>
                </a:lnTo>
                <a:lnTo>
                  <a:pt x="7" y="1120"/>
                </a:lnTo>
                <a:lnTo>
                  <a:pt x="7" y="1120"/>
                </a:lnTo>
                <a:close/>
                <a:moveTo>
                  <a:pt x="7" y="1165"/>
                </a:moveTo>
                <a:lnTo>
                  <a:pt x="7" y="1186"/>
                </a:lnTo>
                <a:lnTo>
                  <a:pt x="7" y="1186"/>
                </a:lnTo>
                <a:lnTo>
                  <a:pt x="7" y="1188"/>
                </a:lnTo>
                <a:lnTo>
                  <a:pt x="7" y="1188"/>
                </a:lnTo>
                <a:lnTo>
                  <a:pt x="5" y="1188"/>
                </a:lnTo>
                <a:lnTo>
                  <a:pt x="2" y="1188"/>
                </a:lnTo>
                <a:lnTo>
                  <a:pt x="2" y="1188"/>
                </a:lnTo>
                <a:lnTo>
                  <a:pt x="0" y="1186"/>
                </a:lnTo>
                <a:lnTo>
                  <a:pt x="0" y="1186"/>
                </a:lnTo>
                <a:lnTo>
                  <a:pt x="0" y="1165"/>
                </a:lnTo>
                <a:lnTo>
                  <a:pt x="0" y="1165"/>
                </a:lnTo>
                <a:lnTo>
                  <a:pt x="2" y="1163"/>
                </a:lnTo>
                <a:lnTo>
                  <a:pt x="2" y="1163"/>
                </a:lnTo>
                <a:lnTo>
                  <a:pt x="5" y="1163"/>
                </a:lnTo>
                <a:lnTo>
                  <a:pt x="7" y="1163"/>
                </a:lnTo>
                <a:lnTo>
                  <a:pt x="7" y="1163"/>
                </a:lnTo>
                <a:lnTo>
                  <a:pt x="7" y="1165"/>
                </a:lnTo>
                <a:lnTo>
                  <a:pt x="7" y="1165"/>
                </a:lnTo>
                <a:lnTo>
                  <a:pt x="7" y="1165"/>
                </a:lnTo>
                <a:close/>
                <a:moveTo>
                  <a:pt x="7" y="1212"/>
                </a:moveTo>
                <a:lnTo>
                  <a:pt x="7" y="1233"/>
                </a:lnTo>
                <a:lnTo>
                  <a:pt x="7" y="1233"/>
                </a:lnTo>
                <a:lnTo>
                  <a:pt x="7" y="1235"/>
                </a:lnTo>
                <a:lnTo>
                  <a:pt x="7" y="1235"/>
                </a:lnTo>
                <a:lnTo>
                  <a:pt x="5" y="1235"/>
                </a:lnTo>
                <a:lnTo>
                  <a:pt x="2" y="1235"/>
                </a:lnTo>
                <a:lnTo>
                  <a:pt x="2" y="1235"/>
                </a:lnTo>
                <a:lnTo>
                  <a:pt x="0" y="1233"/>
                </a:lnTo>
                <a:lnTo>
                  <a:pt x="0" y="1233"/>
                </a:lnTo>
                <a:lnTo>
                  <a:pt x="0" y="1212"/>
                </a:lnTo>
                <a:lnTo>
                  <a:pt x="0" y="1212"/>
                </a:lnTo>
                <a:lnTo>
                  <a:pt x="2" y="1210"/>
                </a:lnTo>
                <a:lnTo>
                  <a:pt x="2" y="1210"/>
                </a:lnTo>
                <a:lnTo>
                  <a:pt x="5" y="1210"/>
                </a:lnTo>
                <a:lnTo>
                  <a:pt x="7" y="1210"/>
                </a:lnTo>
                <a:lnTo>
                  <a:pt x="7" y="1210"/>
                </a:lnTo>
                <a:lnTo>
                  <a:pt x="7" y="1212"/>
                </a:lnTo>
                <a:lnTo>
                  <a:pt x="7" y="1212"/>
                </a:lnTo>
                <a:lnTo>
                  <a:pt x="7" y="1212"/>
                </a:lnTo>
                <a:close/>
                <a:moveTo>
                  <a:pt x="7" y="1258"/>
                </a:moveTo>
                <a:lnTo>
                  <a:pt x="7" y="1280"/>
                </a:lnTo>
                <a:lnTo>
                  <a:pt x="7" y="1280"/>
                </a:lnTo>
                <a:lnTo>
                  <a:pt x="7" y="1282"/>
                </a:lnTo>
                <a:lnTo>
                  <a:pt x="7" y="1282"/>
                </a:lnTo>
                <a:lnTo>
                  <a:pt x="5" y="1282"/>
                </a:lnTo>
                <a:lnTo>
                  <a:pt x="2" y="1282"/>
                </a:lnTo>
                <a:lnTo>
                  <a:pt x="2" y="1282"/>
                </a:lnTo>
                <a:lnTo>
                  <a:pt x="0" y="1280"/>
                </a:lnTo>
                <a:lnTo>
                  <a:pt x="0" y="1280"/>
                </a:lnTo>
                <a:lnTo>
                  <a:pt x="0" y="1258"/>
                </a:lnTo>
                <a:lnTo>
                  <a:pt x="0" y="1258"/>
                </a:lnTo>
                <a:lnTo>
                  <a:pt x="2" y="1256"/>
                </a:lnTo>
                <a:lnTo>
                  <a:pt x="2" y="1256"/>
                </a:lnTo>
                <a:lnTo>
                  <a:pt x="5" y="1256"/>
                </a:lnTo>
                <a:lnTo>
                  <a:pt x="7" y="1256"/>
                </a:lnTo>
                <a:lnTo>
                  <a:pt x="7" y="1256"/>
                </a:lnTo>
                <a:lnTo>
                  <a:pt x="7" y="1258"/>
                </a:lnTo>
                <a:lnTo>
                  <a:pt x="7" y="1258"/>
                </a:lnTo>
                <a:lnTo>
                  <a:pt x="7" y="1258"/>
                </a:lnTo>
                <a:close/>
                <a:moveTo>
                  <a:pt x="7" y="1305"/>
                </a:moveTo>
                <a:lnTo>
                  <a:pt x="7" y="1324"/>
                </a:lnTo>
                <a:lnTo>
                  <a:pt x="7" y="1327"/>
                </a:lnTo>
                <a:lnTo>
                  <a:pt x="7" y="1329"/>
                </a:lnTo>
                <a:lnTo>
                  <a:pt x="7" y="1329"/>
                </a:lnTo>
                <a:lnTo>
                  <a:pt x="5" y="1329"/>
                </a:lnTo>
                <a:lnTo>
                  <a:pt x="2" y="1329"/>
                </a:lnTo>
                <a:lnTo>
                  <a:pt x="2" y="1329"/>
                </a:lnTo>
                <a:lnTo>
                  <a:pt x="0" y="1327"/>
                </a:lnTo>
                <a:lnTo>
                  <a:pt x="0" y="1324"/>
                </a:lnTo>
                <a:lnTo>
                  <a:pt x="0" y="1305"/>
                </a:lnTo>
                <a:lnTo>
                  <a:pt x="0" y="1303"/>
                </a:lnTo>
                <a:lnTo>
                  <a:pt x="2" y="1303"/>
                </a:lnTo>
                <a:lnTo>
                  <a:pt x="2" y="1303"/>
                </a:lnTo>
                <a:lnTo>
                  <a:pt x="5" y="1301"/>
                </a:lnTo>
                <a:lnTo>
                  <a:pt x="7" y="1303"/>
                </a:lnTo>
                <a:lnTo>
                  <a:pt x="7" y="1303"/>
                </a:lnTo>
                <a:lnTo>
                  <a:pt x="7" y="1303"/>
                </a:lnTo>
                <a:lnTo>
                  <a:pt x="7" y="1305"/>
                </a:lnTo>
                <a:lnTo>
                  <a:pt x="7" y="1305"/>
                </a:lnTo>
                <a:close/>
                <a:moveTo>
                  <a:pt x="7" y="1352"/>
                </a:moveTo>
                <a:lnTo>
                  <a:pt x="7" y="1371"/>
                </a:lnTo>
                <a:lnTo>
                  <a:pt x="7" y="1373"/>
                </a:lnTo>
                <a:lnTo>
                  <a:pt x="7" y="1373"/>
                </a:lnTo>
                <a:lnTo>
                  <a:pt x="7" y="1376"/>
                </a:lnTo>
                <a:lnTo>
                  <a:pt x="5" y="1376"/>
                </a:lnTo>
                <a:lnTo>
                  <a:pt x="2" y="1376"/>
                </a:lnTo>
                <a:lnTo>
                  <a:pt x="2" y="1373"/>
                </a:lnTo>
                <a:lnTo>
                  <a:pt x="0" y="1373"/>
                </a:lnTo>
                <a:lnTo>
                  <a:pt x="0" y="1371"/>
                </a:lnTo>
                <a:lnTo>
                  <a:pt x="0" y="1352"/>
                </a:lnTo>
                <a:lnTo>
                  <a:pt x="0" y="1350"/>
                </a:lnTo>
                <a:lnTo>
                  <a:pt x="2" y="1350"/>
                </a:lnTo>
                <a:lnTo>
                  <a:pt x="2" y="1348"/>
                </a:lnTo>
                <a:lnTo>
                  <a:pt x="5" y="1348"/>
                </a:lnTo>
                <a:lnTo>
                  <a:pt x="7" y="1348"/>
                </a:lnTo>
                <a:lnTo>
                  <a:pt x="7" y="1350"/>
                </a:lnTo>
                <a:lnTo>
                  <a:pt x="7" y="1350"/>
                </a:lnTo>
                <a:lnTo>
                  <a:pt x="7" y="1352"/>
                </a:lnTo>
                <a:lnTo>
                  <a:pt x="7" y="1352"/>
                </a:lnTo>
                <a:close/>
                <a:moveTo>
                  <a:pt x="7" y="1399"/>
                </a:moveTo>
                <a:lnTo>
                  <a:pt x="7" y="1418"/>
                </a:lnTo>
                <a:lnTo>
                  <a:pt x="7" y="1420"/>
                </a:lnTo>
                <a:lnTo>
                  <a:pt x="7" y="1420"/>
                </a:lnTo>
                <a:lnTo>
                  <a:pt x="7" y="1422"/>
                </a:lnTo>
                <a:lnTo>
                  <a:pt x="5" y="1422"/>
                </a:lnTo>
                <a:lnTo>
                  <a:pt x="2" y="1422"/>
                </a:lnTo>
                <a:lnTo>
                  <a:pt x="2" y="1420"/>
                </a:lnTo>
                <a:lnTo>
                  <a:pt x="0" y="1420"/>
                </a:lnTo>
                <a:lnTo>
                  <a:pt x="0" y="1418"/>
                </a:lnTo>
                <a:lnTo>
                  <a:pt x="0" y="1399"/>
                </a:lnTo>
                <a:lnTo>
                  <a:pt x="0" y="1397"/>
                </a:lnTo>
                <a:lnTo>
                  <a:pt x="2" y="1397"/>
                </a:lnTo>
                <a:lnTo>
                  <a:pt x="2" y="1395"/>
                </a:lnTo>
                <a:lnTo>
                  <a:pt x="5" y="1395"/>
                </a:lnTo>
                <a:lnTo>
                  <a:pt x="7" y="1395"/>
                </a:lnTo>
                <a:lnTo>
                  <a:pt x="7" y="1397"/>
                </a:lnTo>
                <a:lnTo>
                  <a:pt x="7" y="1397"/>
                </a:lnTo>
                <a:lnTo>
                  <a:pt x="7" y="1399"/>
                </a:lnTo>
                <a:lnTo>
                  <a:pt x="7" y="1399"/>
                </a:lnTo>
                <a:close/>
                <a:moveTo>
                  <a:pt x="7" y="1446"/>
                </a:moveTo>
                <a:lnTo>
                  <a:pt x="7" y="1465"/>
                </a:lnTo>
                <a:lnTo>
                  <a:pt x="7" y="1467"/>
                </a:lnTo>
                <a:lnTo>
                  <a:pt x="7" y="1467"/>
                </a:lnTo>
                <a:lnTo>
                  <a:pt x="7" y="1467"/>
                </a:lnTo>
                <a:lnTo>
                  <a:pt x="5" y="1469"/>
                </a:lnTo>
                <a:lnTo>
                  <a:pt x="2" y="1467"/>
                </a:lnTo>
                <a:lnTo>
                  <a:pt x="2" y="1467"/>
                </a:lnTo>
                <a:lnTo>
                  <a:pt x="0" y="1467"/>
                </a:lnTo>
                <a:lnTo>
                  <a:pt x="0" y="1465"/>
                </a:lnTo>
                <a:lnTo>
                  <a:pt x="0" y="1446"/>
                </a:lnTo>
                <a:lnTo>
                  <a:pt x="0" y="1444"/>
                </a:lnTo>
                <a:lnTo>
                  <a:pt x="2" y="1444"/>
                </a:lnTo>
                <a:lnTo>
                  <a:pt x="2" y="1442"/>
                </a:lnTo>
                <a:lnTo>
                  <a:pt x="5" y="1442"/>
                </a:lnTo>
                <a:lnTo>
                  <a:pt x="7" y="1442"/>
                </a:lnTo>
                <a:lnTo>
                  <a:pt x="7" y="1444"/>
                </a:lnTo>
                <a:lnTo>
                  <a:pt x="7" y="1444"/>
                </a:lnTo>
                <a:lnTo>
                  <a:pt x="7" y="1446"/>
                </a:lnTo>
                <a:lnTo>
                  <a:pt x="7" y="1446"/>
                </a:lnTo>
                <a:close/>
                <a:moveTo>
                  <a:pt x="7" y="1493"/>
                </a:moveTo>
                <a:lnTo>
                  <a:pt x="7" y="1512"/>
                </a:lnTo>
                <a:lnTo>
                  <a:pt x="7" y="1514"/>
                </a:lnTo>
                <a:lnTo>
                  <a:pt x="7" y="1514"/>
                </a:lnTo>
                <a:lnTo>
                  <a:pt x="7" y="1514"/>
                </a:lnTo>
                <a:lnTo>
                  <a:pt x="5" y="1514"/>
                </a:lnTo>
                <a:lnTo>
                  <a:pt x="2" y="1514"/>
                </a:lnTo>
                <a:lnTo>
                  <a:pt x="2" y="1514"/>
                </a:lnTo>
                <a:lnTo>
                  <a:pt x="0" y="1514"/>
                </a:lnTo>
                <a:lnTo>
                  <a:pt x="0" y="1512"/>
                </a:lnTo>
                <a:lnTo>
                  <a:pt x="0" y="1493"/>
                </a:lnTo>
                <a:lnTo>
                  <a:pt x="0" y="1490"/>
                </a:lnTo>
                <a:lnTo>
                  <a:pt x="2" y="1488"/>
                </a:lnTo>
                <a:lnTo>
                  <a:pt x="2" y="1488"/>
                </a:lnTo>
                <a:lnTo>
                  <a:pt x="5" y="1488"/>
                </a:lnTo>
                <a:lnTo>
                  <a:pt x="7" y="1488"/>
                </a:lnTo>
                <a:lnTo>
                  <a:pt x="7" y="1488"/>
                </a:lnTo>
                <a:lnTo>
                  <a:pt x="7" y="1490"/>
                </a:lnTo>
                <a:lnTo>
                  <a:pt x="7" y="1493"/>
                </a:lnTo>
                <a:lnTo>
                  <a:pt x="7" y="1493"/>
                </a:lnTo>
                <a:close/>
                <a:moveTo>
                  <a:pt x="7" y="1537"/>
                </a:moveTo>
                <a:lnTo>
                  <a:pt x="7" y="1559"/>
                </a:lnTo>
                <a:lnTo>
                  <a:pt x="7" y="1559"/>
                </a:lnTo>
                <a:lnTo>
                  <a:pt x="7" y="1561"/>
                </a:lnTo>
                <a:lnTo>
                  <a:pt x="7" y="1561"/>
                </a:lnTo>
                <a:lnTo>
                  <a:pt x="5" y="1561"/>
                </a:lnTo>
                <a:lnTo>
                  <a:pt x="2" y="1561"/>
                </a:lnTo>
                <a:lnTo>
                  <a:pt x="2" y="1561"/>
                </a:lnTo>
                <a:lnTo>
                  <a:pt x="0" y="1559"/>
                </a:lnTo>
                <a:lnTo>
                  <a:pt x="0" y="1559"/>
                </a:lnTo>
                <a:lnTo>
                  <a:pt x="0" y="1537"/>
                </a:lnTo>
                <a:lnTo>
                  <a:pt x="0" y="1537"/>
                </a:lnTo>
                <a:lnTo>
                  <a:pt x="2" y="1535"/>
                </a:lnTo>
                <a:lnTo>
                  <a:pt x="2" y="1535"/>
                </a:lnTo>
                <a:lnTo>
                  <a:pt x="5" y="1535"/>
                </a:lnTo>
                <a:lnTo>
                  <a:pt x="7" y="1535"/>
                </a:lnTo>
                <a:lnTo>
                  <a:pt x="7" y="1535"/>
                </a:lnTo>
                <a:lnTo>
                  <a:pt x="7" y="1537"/>
                </a:lnTo>
                <a:lnTo>
                  <a:pt x="7" y="1537"/>
                </a:lnTo>
                <a:lnTo>
                  <a:pt x="7" y="1537"/>
                </a:lnTo>
                <a:close/>
                <a:moveTo>
                  <a:pt x="7" y="1584"/>
                </a:moveTo>
                <a:lnTo>
                  <a:pt x="7" y="1605"/>
                </a:lnTo>
                <a:lnTo>
                  <a:pt x="7" y="1605"/>
                </a:lnTo>
                <a:lnTo>
                  <a:pt x="7" y="1608"/>
                </a:lnTo>
                <a:lnTo>
                  <a:pt x="7" y="1608"/>
                </a:lnTo>
                <a:lnTo>
                  <a:pt x="5" y="1608"/>
                </a:lnTo>
                <a:lnTo>
                  <a:pt x="2" y="1608"/>
                </a:lnTo>
                <a:lnTo>
                  <a:pt x="2" y="1608"/>
                </a:lnTo>
                <a:lnTo>
                  <a:pt x="0" y="1605"/>
                </a:lnTo>
                <a:lnTo>
                  <a:pt x="0" y="1605"/>
                </a:lnTo>
                <a:lnTo>
                  <a:pt x="0" y="1584"/>
                </a:lnTo>
                <a:lnTo>
                  <a:pt x="0" y="1584"/>
                </a:lnTo>
                <a:lnTo>
                  <a:pt x="2" y="1582"/>
                </a:lnTo>
                <a:lnTo>
                  <a:pt x="2" y="1582"/>
                </a:lnTo>
                <a:lnTo>
                  <a:pt x="5" y="1582"/>
                </a:lnTo>
                <a:lnTo>
                  <a:pt x="7" y="1582"/>
                </a:lnTo>
                <a:lnTo>
                  <a:pt x="7" y="1582"/>
                </a:lnTo>
                <a:lnTo>
                  <a:pt x="7" y="1584"/>
                </a:lnTo>
                <a:lnTo>
                  <a:pt x="7" y="1584"/>
                </a:lnTo>
                <a:lnTo>
                  <a:pt x="7" y="1584"/>
                </a:lnTo>
                <a:close/>
                <a:moveTo>
                  <a:pt x="7" y="1631"/>
                </a:moveTo>
                <a:lnTo>
                  <a:pt x="7" y="1652"/>
                </a:lnTo>
                <a:lnTo>
                  <a:pt x="7" y="1652"/>
                </a:lnTo>
                <a:lnTo>
                  <a:pt x="7" y="1654"/>
                </a:lnTo>
                <a:lnTo>
                  <a:pt x="7" y="1654"/>
                </a:lnTo>
                <a:lnTo>
                  <a:pt x="5" y="1654"/>
                </a:lnTo>
                <a:lnTo>
                  <a:pt x="2" y="1654"/>
                </a:lnTo>
                <a:lnTo>
                  <a:pt x="2" y="1654"/>
                </a:lnTo>
                <a:lnTo>
                  <a:pt x="0" y="1652"/>
                </a:lnTo>
                <a:lnTo>
                  <a:pt x="0" y="1652"/>
                </a:lnTo>
                <a:lnTo>
                  <a:pt x="0" y="1631"/>
                </a:lnTo>
                <a:lnTo>
                  <a:pt x="0" y="1631"/>
                </a:lnTo>
                <a:lnTo>
                  <a:pt x="2" y="1629"/>
                </a:lnTo>
                <a:lnTo>
                  <a:pt x="2" y="1629"/>
                </a:lnTo>
                <a:lnTo>
                  <a:pt x="5" y="1629"/>
                </a:lnTo>
                <a:lnTo>
                  <a:pt x="7" y="1629"/>
                </a:lnTo>
                <a:lnTo>
                  <a:pt x="7" y="1629"/>
                </a:lnTo>
                <a:lnTo>
                  <a:pt x="7" y="1631"/>
                </a:lnTo>
                <a:lnTo>
                  <a:pt x="7" y="1631"/>
                </a:lnTo>
                <a:lnTo>
                  <a:pt x="7" y="1631"/>
                </a:lnTo>
                <a:close/>
                <a:moveTo>
                  <a:pt x="7" y="1678"/>
                </a:moveTo>
                <a:lnTo>
                  <a:pt x="7" y="1697"/>
                </a:lnTo>
                <a:lnTo>
                  <a:pt x="7" y="1699"/>
                </a:lnTo>
                <a:lnTo>
                  <a:pt x="7" y="1701"/>
                </a:lnTo>
                <a:lnTo>
                  <a:pt x="7" y="1701"/>
                </a:lnTo>
                <a:lnTo>
                  <a:pt x="5" y="1701"/>
                </a:lnTo>
                <a:lnTo>
                  <a:pt x="2" y="1701"/>
                </a:lnTo>
                <a:lnTo>
                  <a:pt x="2" y="1701"/>
                </a:lnTo>
                <a:lnTo>
                  <a:pt x="0" y="1699"/>
                </a:lnTo>
                <a:lnTo>
                  <a:pt x="0" y="1697"/>
                </a:lnTo>
                <a:lnTo>
                  <a:pt x="0" y="1678"/>
                </a:lnTo>
                <a:lnTo>
                  <a:pt x="0" y="1676"/>
                </a:lnTo>
                <a:lnTo>
                  <a:pt x="2" y="1676"/>
                </a:lnTo>
                <a:lnTo>
                  <a:pt x="2" y="1676"/>
                </a:lnTo>
                <a:lnTo>
                  <a:pt x="5" y="1674"/>
                </a:lnTo>
                <a:lnTo>
                  <a:pt x="7" y="1676"/>
                </a:lnTo>
                <a:lnTo>
                  <a:pt x="7" y="1676"/>
                </a:lnTo>
                <a:lnTo>
                  <a:pt x="7" y="1676"/>
                </a:lnTo>
                <a:lnTo>
                  <a:pt x="7" y="1678"/>
                </a:lnTo>
                <a:lnTo>
                  <a:pt x="7" y="1678"/>
                </a:lnTo>
                <a:close/>
                <a:moveTo>
                  <a:pt x="7" y="1725"/>
                </a:moveTo>
                <a:lnTo>
                  <a:pt x="7" y="1744"/>
                </a:lnTo>
                <a:lnTo>
                  <a:pt x="7" y="1746"/>
                </a:lnTo>
                <a:lnTo>
                  <a:pt x="7" y="1746"/>
                </a:lnTo>
                <a:lnTo>
                  <a:pt x="7" y="1748"/>
                </a:lnTo>
                <a:lnTo>
                  <a:pt x="5" y="1748"/>
                </a:lnTo>
                <a:lnTo>
                  <a:pt x="2" y="1748"/>
                </a:lnTo>
                <a:lnTo>
                  <a:pt x="2" y="1746"/>
                </a:lnTo>
                <a:lnTo>
                  <a:pt x="0" y="1746"/>
                </a:lnTo>
                <a:lnTo>
                  <a:pt x="0" y="1744"/>
                </a:lnTo>
                <a:lnTo>
                  <a:pt x="0" y="1725"/>
                </a:lnTo>
                <a:lnTo>
                  <a:pt x="0" y="1722"/>
                </a:lnTo>
                <a:lnTo>
                  <a:pt x="2" y="1722"/>
                </a:lnTo>
                <a:lnTo>
                  <a:pt x="2" y="1720"/>
                </a:lnTo>
                <a:lnTo>
                  <a:pt x="5" y="1720"/>
                </a:lnTo>
                <a:lnTo>
                  <a:pt x="7" y="1720"/>
                </a:lnTo>
                <a:lnTo>
                  <a:pt x="7" y="1722"/>
                </a:lnTo>
                <a:lnTo>
                  <a:pt x="7" y="1722"/>
                </a:lnTo>
                <a:lnTo>
                  <a:pt x="7" y="1725"/>
                </a:lnTo>
                <a:lnTo>
                  <a:pt x="7" y="1725"/>
                </a:lnTo>
                <a:close/>
                <a:moveTo>
                  <a:pt x="7" y="1771"/>
                </a:moveTo>
                <a:lnTo>
                  <a:pt x="7" y="1791"/>
                </a:lnTo>
                <a:lnTo>
                  <a:pt x="7" y="1793"/>
                </a:lnTo>
                <a:lnTo>
                  <a:pt x="7" y="1793"/>
                </a:lnTo>
                <a:lnTo>
                  <a:pt x="7" y="1795"/>
                </a:lnTo>
                <a:lnTo>
                  <a:pt x="5" y="1795"/>
                </a:lnTo>
                <a:lnTo>
                  <a:pt x="2" y="1795"/>
                </a:lnTo>
                <a:lnTo>
                  <a:pt x="2" y="1793"/>
                </a:lnTo>
                <a:lnTo>
                  <a:pt x="0" y="1793"/>
                </a:lnTo>
                <a:lnTo>
                  <a:pt x="0" y="1791"/>
                </a:lnTo>
                <a:lnTo>
                  <a:pt x="0" y="1771"/>
                </a:lnTo>
                <a:lnTo>
                  <a:pt x="0" y="1769"/>
                </a:lnTo>
                <a:lnTo>
                  <a:pt x="2" y="1769"/>
                </a:lnTo>
                <a:lnTo>
                  <a:pt x="2" y="1767"/>
                </a:lnTo>
                <a:lnTo>
                  <a:pt x="5" y="1767"/>
                </a:lnTo>
                <a:lnTo>
                  <a:pt x="7" y="1767"/>
                </a:lnTo>
                <a:lnTo>
                  <a:pt x="7" y="1769"/>
                </a:lnTo>
                <a:lnTo>
                  <a:pt x="7" y="1769"/>
                </a:lnTo>
                <a:lnTo>
                  <a:pt x="7" y="1771"/>
                </a:lnTo>
                <a:lnTo>
                  <a:pt x="7" y="1771"/>
                </a:lnTo>
                <a:close/>
                <a:moveTo>
                  <a:pt x="7" y="1818"/>
                </a:moveTo>
                <a:lnTo>
                  <a:pt x="7" y="1837"/>
                </a:lnTo>
                <a:lnTo>
                  <a:pt x="7" y="1840"/>
                </a:lnTo>
                <a:lnTo>
                  <a:pt x="7" y="1840"/>
                </a:lnTo>
                <a:lnTo>
                  <a:pt x="7" y="1840"/>
                </a:lnTo>
                <a:lnTo>
                  <a:pt x="5" y="1842"/>
                </a:lnTo>
                <a:lnTo>
                  <a:pt x="2" y="1840"/>
                </a:lnTo>
                <a:lnTo>
                  <a:pt x="2" y="1840"/>
                </a:lnTo>
                <a:lnTo>
                  <a:pt x="0" y="1840"/>
                </a:lnTo>
                <a:lnTo>
                  <a:pt x="0" y="1837"/>
                </a:lnTo>
                <a:lnTo>
                  <a:pt x="0" y="1818"/>
                </a:lnTo>
                <a:lnTo>
                  <a:pt x="0" y="1816"/>
                </a:lnTo>
                <a:lnTo>
                  <a:pt x="2" y="1816"/>
                </a:lnTo>
                <a:lnTo>
                  <a:pt x="2" y="1814"/>
                </a:lnTo>
                <a:lnTo>
                  <a:pt x="5" y="1814"/>
                </a:lnTo>
                <a:lnTo>
                  <a:pt x="7" y="1814"/>
                </a:lnTo>
                <a:lnTo>
                  <a:pt x="7" y="1816"/>
                </a:lnTo>
                <a:lnTo>
                  <a:pt x="7" y="1816"/>
                </a:lnTo>
                <a:lnTo>
                  <a:pt x="7" y="1818"/>
                </a:lnTo>
                <a:lnTo>
                  <a:pt x="7" y="1818"/>
                </a:lnTo>
                <a:close/>
                <a:moveTo>
                  <a:pt x="7" y="1865"/>
                </a:moveTo>
                <a:lnTo>
                  <a:pt x="7" y="1884"/>
                </a:lnTo>
                <a:lnTo>
                  <a:pt x="7" y="1886"/>
                </a:lnTo>
                <a:lnTo>
                  <a:pt x="7" y="1886"/>
                </a:lnTo>
                <a:lnTo>
                  <a:pt x="7" y="1886"/>
                </a:lnTo>
                <a:lnTo>
                  <a:pt x="5" y="1886"/>
                </a:lnTo>
                <a:lnTo>
                  <a:pt x="2" y="1886"/>
                </a:lnTo>
                <a:lnTo>
                  <a:pt x="2" y="1886"/>
                </a:lnTo>
                <a:lnTo>
                  <a:pt x="0" y="1886"/>
                </a:lnTo>
                <a:lnTo>
                  <a:pt x="0" y="1884"/>
                </a:lnTo>
                <a:lnTo>
                  <a:pt x="0" y="1865"/>
                </a:lnTo>
                <a:lnTo>
                  <a:pt x="0" y="1863"/>
                </a:lnTo>
                <a:lnTo>
                  <a:pt x="2" y="1861"/>
                </a:lnTo>
                <a:lnTo>
                  <a:pt x="2" y="1861"/>
                </a:lnTo>
                <a:lnTo>
                  <a:pt x="5" y="1861"/>
                </a:lnTo>
                <a:lnTo>
                  <a:pt x="7" y="1861"/>
                </a:lnTo>
                <a:lnTo>
                  <a:pt x="7" y="1861"/>
                </a:lnTo>
                <a:lnTo>
                  <a:pt x="7" y="1863"/>
                </a:lnTo>
                <a:lnTo>
                  <a:pt x="7" y="1865"/>
                </a:lnTo>
                <a:lnTo>
                  <a:pt x="7" y="1865"/>
                </a:lnTo>
                <a:close/>
                <a:moveTo>
                  <a:pt x="7" y="1910"/>
                </a:moveTo>
                <a:lnTo>
                  <a:pt x="7" y="1918"/>
                </a:lnTo>
                <a:lnTo>
                  <a:pt x="7" y="1918"/>
                </a:lnTo>
                <a:lnTo>
                  <a:pt x="7" y="1920"/>
                </a:lnTo>
                <a:lnTo>
                  <a:pt x="7" y="1920"/>
                </a:lnTo>
                <a:lnTo>
                  <a:pt x="5" y="1920"/>
                </a:lnTo>
                <a:lnTo>
                  <a:pt x="2" y="1920"/>
                </a:lnTo>
                <a:lnTo>
                  <a:pt x="2" y="1920"/>
                </a:lnTo>
                <a:lnTo>
                  <a:pt x="0" y="1918"/>
                </a:lnTo>
                <a:lnTo>
                  <a:pt x="0" y="1918"/>
                </a:lnTo>
                <a:lnTo>
                  <a:pt x="0" y="1910"/>
                </a:lnTo>
                <a:lnTo>
                  <a:pt x="0" y="1910"/>
                </a:lnTo>
                <a:lnTo>
                  <a:pt x="2" y="1908"/>
                </a:lnTo>
                <a:lnTo>
                  <a:pt x="2" y="1908"/>
                </a:lnTo>
                <a:lnTo>
                  <a:pt x="5" y="1908"/>
                </a:lnTo>
                <a:lnTo>
                  <a:pt x="7" y="1908"/>
                </a:lnTo>
                <a:lnTo>
                  <a:pt x="7" y="1908"/>
                </a:lnTo>
                <a:lnTo>
                  <a:pt x="7" y="1910"/>
                </a:lnTo>
                <a:lnTo>
                  <a:pt x="7" y="1910"/>
                </a:lnTo>
                <a:lnTo>
                  <a:pt x="7" y="191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13000" y="2268360"/>
            <a:ext cx="11160" cy="3048120"/>
          </a:xfrm>
          <a:custGeom>
            <a:avLst/>
            <a:gdLst/>
            <a:ahLst/>
            <a:rect l="l" t="t" r="r" b="b"/>
            <a:pathLst>
              <a:path w="7" h="1920">
                <a:moveTo>
                  <a:pt x="7" y="5"/>
                </a:moveTo>
                <a:lnTo>
                  <a:pt x="7" y="24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5" y="26"/>
                </a:lnTo>
                <a:lnTo>
                  <a:pt x="2" y="26"/>
                </a:lnTo>
                <a:lnTo>
                  <a:pt x="2" y="26"/>
                </a:lnTo>
                <a:lnTo>
                  <a:pt x="0" y="26"/>
                </a:lnTo>
                <a:lnTo>
                  <a:pt x="0" y="24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5"/>
                </a:lnTo>
                <a:lnTo>
                  <a:pt x="7" y="5"/>
                </a:lnTo>
                <a:close/>
                <a:moveTo>
                  <a:pt x="7" y="49"/>
                </a:moveTo>
                <a:lnTo>
                  <a:pt x="7" y="71"/>
                </a:lnTo>
                <a:lnTo>
                  <a:pt x="7" y="71"/>
                </a:lnTo>
                <a:lnTo>
                  <a:pt x="7" y="73"/>
                </a:lnTo>
                <a:lnTo>
                  <a:pt x="7" y="73"/>
                </a:lnTo>
                <a:lnTo>
                  <a:pt x="5" y="73"/>
                </a:lnTo>
                <a:lnTo>
                  <a:pt x="2" y="73"/>
                </a:lnTo>
                <a:lnTo>
                  <a:pt x="2" y="73"/>
                </a:lnTo>
                <a:lnTo>
                  <a:pt x="0" y="71"/>
                </a:lnTo>
                <a:lnTo>
                  <a:pt x="0" y="71"/>
                </a:lnTo>
                <a:lnTo>
                  <a:pt x="0" y="49"/>
                </a:lnTo>
                <a:lnTo>
                  <a:pt x="0" y="49"/>
                </a:lnTo>
                <a:lnTo>
                  <a:pt x="2" y="47"/>
                </a:lnTo>
                <a:lnTo>
                  <a:pt x="2" y="47"/>
                </a:lnTo>
                <a:lnTo>
                  <a:pt x="5" y="47"/>
                </a:lnTo>
                <a:lnTo>
                  <a:pt x="7" y="47"/>
                </a:lnTo>
                <a:lnTo>
                  <a:pt x="7" y="47"/>
                </a:lnTo>
                <a:lnTo>
                  <a:pt x="7" y="49"/>
                </a:lnTo>
                <a:lnTo>
                  <a:pt x="7" y="49"/>
                </a:lnTo>
                <a:lnTo>
                  <a:pt x="7" y="49"/>
                </a:lnTo>
                <a:close/>
                <a:moveTo>
                  <a:pt x="7" y="96"/>
                </a:moveTo>
                <a:lnTo>
                  <a:pt x="7" y="118"/>
                </a:lnTo>
                <a:lnTo>
                  <a:pt x="7" y="118"/>
                </a:lnTo>
                <a:lnTo>
                  <a:pt x="7" y="120"/>
                </a:lnTo>
                <a:lnTo>
                  <a:pt x="7" y="120"/>
                </a:lnTo>
                <a:lnTo>
                  <a:pt x="5" y="120"/>
                </a:lnTo>
                <a:lnTo>
                  <a:pt x="2" y="120"/>
                </a:lnTo>
                <a:lnTo>
                  <a:pt x="2" y="120"/>
                </a:lnTo>
                <a:lnTo>
                  <a:pt x="0" y="118"/>
                </a:lnTo>
                <a:lnTo>
                  <a:pt x="0" y="118"/>
                </a:lnTo>
                <a:lnTo>
                  <a:pt x="0" y="96"/>
                </a:lnTo>
                <a:lnTo>
                  <a:pt x="0" y="96"/>
                </a:lnTo>
                <a:lnTo>
                  <a:pt x="2" y="94"/>
                </a:lnTo>
                <a:lnTo>
                  <a:pt x="2" y="94"/>
                </a:lnTo>
                <a:lnTo>
                  <a:pt x="5" y="94"/>
                </a:lnTo>
                <a:lnTo>
                  <a:pt x="7" y="94"/>
                </a:lnTo>
                <a:lnTo>
                  <a:pt x="7" y="94"/>
                </a:lnTo>
                <a:lnTo>
                  <a:pt x="7" y="96"/>
                </a:lnTo>
                <a:lnTo>
                  <a:pt x="7" y="96"/>
                </a:lnTo>
                <a:lnTo>
                  <a:pt x="7" y="96"/>
                </a:lnTo>
                <a:close/>
                <a:moveTo>
                  <a:pt x="7" y="143"/>
                </a:moveTo>
                <a:lnTo>
                  <a:pt x="7" y="164"/>
                </a:lnTo>
                <a:lnTo>
                  <a:pt x="7" y="164"/>
                </a:lnTo>
                <a:lnTo>
                  <a:pt x="7" y="166"/>
                </a:lnTo>
                <a:lnTo>
                  <a:pt x="7" y="166"/>
                </a:lnTo>
                <a:lnTo>
                  <a:pt x="5" y="166"/>
                </a:lnTo>
                <a:lnTo>
                  <a:pt x="2" y="166"/>
                </a:lnTo>
                <a:lnTo>
                  <a:pt x="2" y="166"/>
                </a:lnTo>
                <a:lnTo>
                  <a:pt x="0" y="164"/>
                </a:lnTo>
                <a:lnTo>
                  <a:pt x="0" y="164"/>
                </a:lnTo>
                <a:lnTo>
                  <a:pt x="0" y="143"/>
                </a:lnTo>
                <a:lnTo>
                  <a:pt x="0" y="143"/>
                </a:lnTo>
                <a:lnTo>
                  <a:pt x="2" y="141"/>
                </a:lnTo>
                <a:lnTo>
                  <a:pt x="2" y="141"/>
                </a:lnTo>
                <a:lnTo>
                  <a:pt x="5" y="141"/>
                </a:lnTo>
                <a:lnTo>
                  <a:pt x="7" y="141"/>
                </a:lnTo>
                <a:lnTo>
                  <a:pt x="7" y="141"/>
                </a:lnTo>
                <a:lnTo>
                  <a:pt x="7" y="143"/>
                </a:lnTo>
                <a:lnTo>
                  <a:pt x="7" y="143"/>
                </a:lnTo>
                <a:lnTo>
                  <a:pt x="7" y="143"/>
                </a:lnTo>
                <a:close/>
                <a:moveTo>
                  <a:pt x="7" y="190"/>
                </a:moveTo>
                <a:lnTo>
                  <a:pt x="7" y="209"/>
                </a:lnTo>
                <a:lnTo>
                  <a:pt x="7" y="211"/>
                </a:lnTo>
                <a:lnTo>
                  <a:pt x="7" y="213"/>
                </a:lnTo>
                <a:lnTo>
                  <a:pt x="7" y="213"/>
                </a:lnTo>
                <a:lnTo>
                  <a:pt x="5" y="213"/>
                </a:lnTo>
                <a:lnTo>
                  <a:pt x="2" y="213"/>
                </a:lnTo>
                <a:lnTo>
                  <a:pt x="2" y="213"/>
                </a:lnTo>
                <a:lnTo>
                  <a:pt x="0" y="211"/>
                </a:lnTo>
                <a:lnTo>
                  <a:pt x="0" y="209"/>
                </a:lnTo>
                <a:lnTo>
                  <a:pt x="0" y="190"/>
                </a:lnTo>
                <a:lnTo>
                  <a:pt x="0" y="188"/>
                </a:lnTo>
                <a:lnTo>
                  <a:pt x="2" y="188"/>
                </a:lnTo>
                <a:lnTo>
                  <a:pt x="2" y="188"/>
                </a:lnTo>
                <a:lnTo>
                  <a:pt x="5" y="186"/>
                </a:lnTo>
                <a:lnTo>
                  <a:pt x="7" y="188"/>
                </a:lnTo>
                <a:lnTo>
                  <a:pt x="7" y="188"/>
                </a:lnTo>
                <a:lnTo>
                  <a:pt x="7" y="188"/>
                </a:lnTo>
                <a:lnTo>
                  <a:pt x="7" y="190"/>
                </a:lnTo>
                <a:lnTo>
                  <a:pt x="7" y="190"/>
                </a:lnTo>
                <a:close/>
                <a:moveTo>
                  <a:pt x="7" y="237"/>
                </a:moveTo>
                <a:lnTo>
                  <a:pt x="7" y="256"/>
                </a:lnTo>
                <a:lnTo>
                  <a:pt x="7" y="258"/>
                </a:lnTo>
                <a:lnTo>
                  <a:pt x="7" y="258"/>
                </a:lnTo>
                <a:lnTo>
                  <a:pt x="7" y="260"/>
                </a:lnTo>
                <a:lnTo>
                  <a:pt x="5" y="260"/>
                </a:lnTo>
                <a:lnTo>
                  <a:pt x="2" y="260"/>
                </a:lnTo>
                <a:lnTo>
                  <a:pt x="2" y="258"/>
                </a:lnTo>
                <a:lnTo>
                  <a:pt x="0" y="258"/>
                </a:lnTo>
                <a:lnTo>
                  <a:pt x="0" y="256"/>
                </a:lnTo>
                <a:lnTo>
                  <a:pt x="0" y="237"/>
                </a:lnTo>
                <a:lnTo>
                  <a:pt x="0" y="235"/>
                </a:lnTo>
                <a:lnTo>
                  <a:pt x="2" y="235"/>
                </a:lnTo>
                <a:lnTo>
                  <a:pt x="2" y="232"/>
                </a:lnTo>
                <a:lnTo>
                  <a:pt x="5" y="232"/>
                </a:lnTo>
                <a:lnTo>
                  <a:pt x="7" y="232"/>
                </a:lnTo>
                <a:lnTo>
                  <a:pt x="7" y="235"/>
                </a:lnTo>
                <a:lnTo>
                  <a:pt x="7" y="235"/>
                </a:lnTo>
                <a:lnTo>
                  <a:pt x="7" y="237"/>
                </a:lnTo>
                <a:lnTo>
                  <a:pt x="7" y="237"/>
                </a:lnTo>
                <a:close/>
                <a:moveTo>
                  <a:pt x="7" y="284"/>
                </a:moveTo>
                <a:lnTo>
                  <a:pt x="7" y="303"/>
                </a:lnTo>
                <a:lnTo>
                  <a:pt x="7" y="305"/>
                </a:lnTo>
                <a:lnTo>
                  <a:pt x="7" y="305"/>
                </a:lnTo>
                <a:lnTo>
                  <a:pt x="7" y="307"/>
                </a:lnTo>
                <a:lnTo>
                  <a:pt x="5" y="307"/>
                </a:lnTo>
                <a:lnTo>
                  <a:pt x="2" y="307"/>
                </a:lnTo>
                <a:lnTo>
                  <a:pt x="2" y="305"/>
                </a:lnTo>
                <a:lnTo>
                  <a:pt x="0" y="305"/>
                </a:lnTo>
                <a:lnTo>
                  <a:pt x="0" y="303"/>
                </a:lnTo>
                <a:lnTo>
                  <a:pt x="0" y="284"/>
                </a:lnTo>
                <a:lnTo>
                  <a:pt x="0" y="281"/>
                </a:lnTo>
                <a:lnTo>
                  <a:pt x="2" y="281"/>
                </a:lnTo>
                <a:lnTo>
                  <a:pt x="2" y="279"/>
                </a:lnTo>
                <a:lnTo>
                  <a:pt x="5" y="279"/>
                </a:lnTo>
                <a:lnTo>
                  <a:pt x="7" y="279"/>
                </a:lnTo>
                <a:lnTo>
                  <a:pt x="7" y="281"/>
                </a:lnTo>
                <a:lnTo>
                  <a:pt x="7" y="281"/>
                </a:lnTo>
                <a:lnTo>
                  <a:pt x="7" y="284"/>
                </a:lnTo>
                <a:lnTo>
                  <a:pt x="7" y="284"/>
                </a:lnTo>
                <a:close/>
                <a:moveTo>
                  <a:pt x="7" y="330"/>
                </a:moveTo>
                <a:lnTo>
                  <a:pt x="7" y="350"/>
                </a:lnTo>
                <a:lnTo>
                  <a:pt x="7" y="352"/>
                </a:lnTo>
                <a:lnTo>
                  <a:pt x="7" y="352"/>
                </a:lnTo>
                <a:lnTo>
                  <a:pt x="7" y="352"/>
                </a:lnTo>
                <a:lnTo>
                  <a:pt x="5" y="354"/>
                </a:lnTo>
                <a:lnTo>
                  <a:pt x="2" y="352"/>
                </a:lnTo>
                <a:lnTo>
                  <a:pt x="2" y="352"/>
                </a:lnTo>
                <a:lnTo>
                  <a:pt x="0" y="352"/>
                </a:lnTo>
                <a:lnTo>
                  <a:pt x="0" y="350"/>
                </a:lnTo>
                <a:lnTo>
                  <a:pt x="0" y="330"/>
                </a:lnTo>
                <a:lnTo>
                  <a:pt x="0" y="328"/>
                </a:lnTo>
                <a:lnTo>
                  <a:pt x="2" y="328"/>
                </a:lnTo>
                <a:lnTo>
                  <a:pt x="2" y="326"/>
                </a:lnTo>
                <a:lnTo>
                  <a:pt x="5" y="326"/>
                </a:lnTo>
                <a:lnTo>
                  <a:pt x="7" y="326"/>
                </a:lnTo>
                <a:lnTo>
                  <a:pt x="7" y="328"/>
                </a:lnTo>
                <a:lnTo>
                  <a:pt x="7" y="328"/>
                </a:lnTo>
                <a:lnTo>
                  <a:pt x="7" y="330"/>
                </a:lnTo>
                <a:lnTo>
                  <a:pt x="7" y="330"/>
                </a:lnTo>
                <a:close/>
                <a:moveTo>
                  <a:pt x="7" y="377"/>
                </a:moveTo>
                <a:lnTo>
                  <a:pt x="7" y="396"/>
                </a:lnTo>
                <a:lnTo>
                  <a:pt x="7" y="399"/>
                </a:lnTo>
                <a:lnTo>
                  <a:pt x="7" y="399"/>
                </a:lnTo>
                <a:lnTo>
                  <a:pt x="7" y="399"/>
                </a:lnTo>
                <a:lnTo>
                  <a:pt x="5" y="399"/>
                </a:lnTo>
                <a:lnTo>
                  <a:pt x="2" y="399"/>
                </a:lnTo>
                <a:lnTo>
                  <a:pt x="2" y="399"/>
                </a:lnTo>
                <a:lnTo>
                  <a:pt x="0" y="399"/>
                </a:lnTo>
                <a:lnTo>
                  <a:pt x="0" y="396"/>
                </a:lnTo>
                <a:lnTo>
                  <a:pt x="0" y="377"/>
                </a:lnTo>
                <a:lnTo>
                  <a:pt x="0" y="375"/>
                </a:lnTo>
                <a:lnTo>
                  <a:pt x="2" y="373"/>
                </a:lnTo>
                <a:lnTo>
                  <a:pt x="2" y="373"/>
                </a:lnTo>
                <a:lnTo>
                  <a:pt x="5" y="373"/>
                </a:lnTo>
                <a:lnTo>
                  <a:pt x="7" y="373"/>
                </a:lnTo>
                <a:lnTo>
                  <a:pt x="7" y="373"/>
                </a:lnTo>
                <a:lnTo>
                  <a:pt x="7" y="375"/>
                </a:lnTo>
                <a:lnTo>
                  <a:pt x="7" y="377"/>
                </a:lnTo>
                <a:lnTo>
                  <a:pt x="7" y="377"/>
                </a:lnTo>
                <a:close/>
                <a:moveTo>
                  <a:pt x="7" y="422"/>
                </a:moveTo>
                <a:lnTo>
                  <a:pt x="7" y="443"/>
                </a:lnTo>
                <a:lnTo>
                  <a:pt x="7" y="443"/>
                </a:lnTo>
                <a:lnTo>
                  <a:pt x="7" y="445"/>
                </a:lnTo>
                <a:lnTo>
                  <a:pt x="7" y="445"/>
                </a:lnTo>
                <a:lnTo>
                  <a:pt x="5" y="445"/>
                </a:lnTo>
                <a:lnTo>
                  <a:pt x="2" y="445"/>
                </a:lnTo>
                <a:lnTo>
                  <a:pt x="2" y="445"/>
                </a:lnTo>
                <a:lnTo>
                  <a:pt x="0" y="443"/>
                </a:lnTo>
                <a:lnTo>
                  <a:pt x="0" y="443"/>
                </a:lnTo>
                <a:lnTo>
                  <a:pt x="0" y="422"/>
                </a:lnTo>
                <a:lnTo>
                  <a:pt x="0" y="422"/>
                </a:lnTo>
                <a:lnTo>
                  <a:pt x="2" y="420"/>
                </a:lnTo>
                <a:lnTo>
                  <a:pt x="2" y="420"/>
                </a:lnTo>
                <a:lnTo>
                  <a:pt x="5" y="420"/>
                </a:lnTo>
                <a:lnTo>
                  <a:pt x="7" y="420"/>
                </a:lnTo>
                <a:lnTo>
                  <a:pt x="7" y="420"/>
                </a:lnTo>
                <a:lnTo>
                  <a:pt x="7" y="422"/>
                </a:lnTo>
                <a:lnTo>
                  <a:pt x="7" y="422"/>
                </a:lnTo>
                <a:lnTo>
                  <a:pt x="7" y="422"/>
                </a:lnTo>
                <a:close/>
                <a:moveTo>
                  <a:pt x="7" y="469"/>
                </a:moveTo>
                <a:lnTo>
                  <a:pt x="7" y="490"/>
                </a:lnTo>
                <a:lnTo>
                  <a:pt x="7" y="490"/>
                </a:lnTo>
                <a:lnTo>
                  <a:pt x="7" y="492"/>
                </a:lnTo>
                <a:lnTo>
                  <a:pt x="7" y="492"/>
                </a:lnTo>
                <a:lnTo>
                  <a:pt x="5" y="492"/>
                </a:lnTo>
                <a:lnTo>
                  <a:pt x="2" y="492"/>
                </a:lnTo>
                <a:lnTo>
                  <a:pt x="2" y="492"/>
                </a:lnTo>
                <a:lnTo>
                  <a:pt x="0" y="490"/>
                </a:lnTo>
                <a:lnTo>
                  <a:pt x="0" y="490"/>
                </a:lnTo>
                <a:lnTo>
                  <a:pt x="0" y="469"/>
                </a:lnTo>
                <a:lnTo>
                  <a:pt x="0" y="469"/>
                </a:lnTo>
                <a:lnTo>
                  <a:pt x="2" y="467"/>
                </a:lnTo>
                <a:lnTo>
                  <a:pt x="2" y="467"/>
                </a:lnTo>
                <a:lnTo>
                  <a:pt x="5" y="467"/>
                </a:lnTo>
                <a:lnTo>
                  <a:pt x="7" y="467"/>
                </a:lnTo>
                <a:lnTo>
                  <a:pt x="7" y="467"/>
                </a:lnTo>
                <a:lnTo>
                  <a:pt x="7" y="469"/>
                </a:lnTo>
                <a:lnTo>
                  <a:pt x="7" y="469"/>
                </a:lnTo>
                <a:lnTo>
                  <a:pt x="7" y="469"/>
                </a:lnTo>
                <a:close/>
                <a:moveTo>
                  <a:pt x="7" y="516"/>
                </a:moveTo>
                <a:lnTo>
                  <a:pt x="7" y="537"/>
                </a:lnTo>
                <a:lnTo>
                  <a:pt x="7" y="537"/>
                </a:lnTo>
                <a:lnTo>
                  <a:pt x="7" y="539"/>
                </a:lnTo>
                <a:lnTo>
                  <a:pt x="7" y="539"/>
                </a:lnTo>
                <a:lnTo>
                  <a:pt x="5" y="539"/>
                </a:lnTo>
                <a:lnTo>
                  <a:pt x="2" y="539"/>
                </a:lnTo>
                <a:lnTo>
                  <a:pt x="2" y="539"/>
                </a:lnTo>
                <a:lnTo>
                  <a:pt x="0" y="537"/>
                </a:lnTo>
                <a:lnTo>
                  <a:pt x="0" y="537"/>
                </a:lnTo>
                <a:lnTo>
                  <a:pt x="0" y="516"/>
                </a:lnTo>
                <a:lnTo>
                  <a:pt x="0" y="516"/>
                </a:lnTo>
                <a:lnTo>
                  <a:pt x="2" y="513"/>
                </a:lnTo>
                <a:lnTo>
                  <a:pt x="2" y="513"/>
                </a:lnTo>
                <a:lnTo>
                  <a:pt x="5" y="513"/>
                </a:lnTo>
                <a:lnTo>
                  <a:pt x="7" y="513"/>
                </a:lnTo>
                <a:lnTo>
                  <a:pt x="7" y="513"/>
                </a:lnTo>
                <a:lnTo>
                  <a:pt x="7" y="516"/>
                </a:lnTo>
                <a:lnTo>
                  <a:pt x="7" y="516"/>
                </a:lnTo>
                <a:lnTo>
                  <a:pt x="7" y="516"/>
                </a:lnTo>
                <a:close/>
                <a:moveTo>
                  <a:pt x="7" y="562"/>
                </a:moveTo>
                <a:lnTo>
                  <a:pt x="7" y="582"/>
                </a:lnTo>
                <a:lnTo>
                  <a:pt x="7" y="584"/>
                </a:lnTo>
                <a:lnTo>
                  <a:pt x="7" y="586"/>
                </a:lnTo>
                <a:lnTo>
                  <a:pt x="7" y="586"/>
                </a:lnTo>
                <a:lnTo>
                  <a:pt x="5" y="586"/>
                </a:lnTo>
                <a:lnTo>
                  <a:pt x="2" y="586"/>
                </a:lnTo>
                <a:lnTo>
                  <a:pt x="2" y="586"/>
                </a:lnTo>
                <a:lnTo>
                  <a:pt x="0" y="584"/>
                </a:lnTo>
                <a:lnTo>
                  <a:pt x="0" y="582"/>
                </a:lnTo>
                <a:lnTo>
                  <a:pt x="0" y="562"/>
                </a:lnTo>
                <a:lnTo>
                  <a:pt x="0" y="560"/>
                </a:lnTo>
                <a:lnTo>
                  <a:pt x="2" y="560"/>
                </a:lnTo>
                <a:lnTo>
                  <a:pt x="2" y="560"/>
                </a:lnTo>
                <a:lnTo>
                  <a:pt x="5" y="558"/>
                </a:lnTo>
                <a:lnTo>
                  <a:pt x="7" y="560"/>
                </a:lnTo>
                <a:lnTo>
                  <a:pt x="7" y="560"/>
                </a:lnTo>
                <a:lnTo>
                  <a:pt x="7" y="560"/>
                </a:lnTo>
                <a:lnTo>
                  <a:pt x="7" y="562"/>
                </a:lnTo>
                <a:lnTo>
                  <a:pt x="7" y="562"/>
                </a:lnTo>
                <a:close/>
                <a:moveTo>
                  <a:pt x="7" y="609"/>
                </a:moveTo>
                <a:lnTo>
                  <a:pt x="7" y="628"/>
                </a:lnTo>
                <a:lnTo>
                  <a:pt x="7" y="631"/>
                </a:lnTo>
                <a:lnTo>
                  <a:pt x="7" y="631"/>
                </a:lnTo>
                <a:lnTo>
                  <a:pt x="7" y="633"/>
                </a:lnTo>
                <a:lnTo>
                  <a:pt x="5" y="633"/>
                </a:lnTo>
                <a:lnTo>
                  <a:pt x="2" y="633"/>
                </a:lnTo>
                <a:lnTo>
                  <a:pt x="2" y="631"/>
                </a:lnTo>
                <a:lnTo>
                  <a:pt x="0" y="631"/>
                </a:lnTo>
                <a:lnTo>
                  <a:pt x="0" y="628"/>
                </a:lnTo>
                <a:lnTo>
                  <a:pt x="0" y="609"/>
                </a:lnTo>
                <a:lnTo>
                  <a:pt x="0" y="607"/>
                </a:lnTo>
                <a:lnTo>
                  <a:pt x="2" y="607"/>
                </a:lnTo>
                <a:lnTo>
                  <a:pt x="2" y="605"/>
                </a:lnTo>
                <a:lnTo>
                  <a:pt x="5" y="605"/>
                </a:lnTo>
                <a:lnTo>
                  <a:pt x="7" y="605"/>
                </a:lnTo>
                <a:lnTo>
                  <a:pt x="7" y="607"/>
                </a:lnTo>
                <a:lnTo>
                  <a:pt x="7" y="607"/>
                </a:lnTo>
                <a:lnTo>
                  <a:pt x="7" y="609"/>
                </a:lnTo>
                <a:lnTo>
                  <a:pt x="7" y="609"/>
                </a:lnTo>
                <a:close/>
                <a:moveTo>
                  <a:pt x="7" y="656"/>
                </a:moveTo>
                <a:lnTo>
                  <a:pt x="7" y="675"/>
                </a:lnTo>
                <a:lnTo>
                  <a:pt x="7" y="677"/>
                </a:lnTo>
                <a:lnTo>
                  <a:pt x="7" y="677"/>
                </a:lnTo>
                <a:lnTo>
                  <a:pt x="7" y="679"/>
                </a:lnTo>
                <a:lnTo>
                  <a:pt x="5" y="679"/>
                </a:lnTo>
                <a:lnTo>
                  <a:pt x="2" y="679"/>
                </a:lnTo>
                <a:lnTo>
                  <a:pt x="2" y="677"/>
                </a:lnTo>
                <a:lnTo>
                  <a:pt x="0" y="677"/>
                </a:lnTo>
                <a:lnTo>
                  <a:pt x="0" y="675"/>
                </a:lnTo>
                <a:lnTo>
                  <a:pt x="0" y="656"/>
                </a:lnTo>
                <a:lnTo>
                  <a:pt x="0" y="654"/>
                </a:lnTo>
                <a:lnTo>
                  <a:pt x="2" y="654"/>
                </a:lnTo>
                <a:lnTo>
                  <a:pt x="2" y="652"/>
                </a:lnTo>
                <a:lnTo>
                  <a:pt x="5" y="652"/>
                </a:lnTo>
                <a:lnTo>
                  <a:pt x="7" y="652"/>
                </a:lnTo>
                <a:lnTo>
                  <a:pt x="7" y="654"/>
                </a:lnTo>
                <a:lnTo>
                  <a:pt x="7" y="654"/>
                </a:lnTo>
                <a:lnTo>
                  <a:pt x="7" y="656"/>
                </a:lnTo>
                <a:lnTo>
                  <a:pt x="7" y="656"/>
                </a:lnTo>
                <a:close/>
                <a:moveTo>
                  <a:pt x="7" y="703"/>
                </a:moveTo>
                <a:lnTo>
                  <a:pt x="7" y="722"/>
                </a:lnTo>
                <a:lnTo>
                  <a:pt x="7" y="724"/>
                </a:lnTo>
                <a:lnTo>
                  <a:pt x="7" y="724"/>
                </a:lnTo>
                <a:lnTo>
                  <a:pt x="7" y="724"/>
                </a:lnTo>
                <a:lnTo>
                  <a:pt x="5" y="726"/>
                </a:lnTo>
                <a:lnTo>
                  <a:pt x="2" y="724"/>
                </a:lnTo>
                <a:lnTo>
                  <a:pt x="2" y="724"/>
                </a:lnTo>
                <a:lnTo>
                  <a:pt x="0" y="724"/>
                </a:lnTo>
                <a:lnTo>
                  <a:pt x="0" y="722"/>
                </a:lnTo>
                <a:lnTo>
                  <a:pt x="0" y="703"/>
                </a:lnTo>
                <a:lnTo>
                  <a:pt x="0" y="701"/>
                </a:lnTo>
                <a:lnTo>
                  <a:pt x="2" y="701"/>
                </a:lnTo>
                <a:lnTo>
                  <a:pt x="2" y="699"/>
                </a:lnTo>
                <a:lnTo>
                  <a:pt x="5" y="699"/>
                </a:lnTo>
                <a:lnTo>
                  <a:pt x="7" y="699"/>
                </a:lnTo>
                <a:lnTo>
                  <a:pt x="7" y="701"/>
                </a:lnTo>
                <a:lnTo>
                  <a:pt x="7" y="701"/>
                </a:lnTo>
                <a:lnTo>
                  <a:pt x="7" y="703"/>
                </a:lnTo>
                <a:lnTo>
                  <a:pt x="7" y="703"/>
                </a:lnTo>
                <a:close/>
                <a:moveTo>
                  <a:pt x="7" y="750"/>
                </a:moveTo>
                <a:lnTo>
                  <a:pt x="7" y="767"/>
                </a:lnTo>
                <a:lnTo>
                  <a:pt x="7" y="769"/>
                </a:lnTo>
                <a:lnTo>
                  <a:pt x="7" y="769"/>
                </a:lnTo>
                <a:lnTo>
                  <a:pt x="7" y="769"/>
                </a:lnTo>
                <a:lnTo>
                  <a:pt x="5" y="769"/>
                </a:lnTo>
                <a:lnTo>
                  <a:pt x="2" y="769"/>
                </a:lnTo>
                <a:lnTo>
                  <a:pt x="2" y="769"/>
                </a:lnTo>
                <a:lnTo>
                  <a:pt x="0" y="769"/>
                </a:lnTo>
                <a:lnTo>
                  <a:pt x="0" y="767"/>
                </a:lnTo>
                <a:lnTo>
                  <a:pt x="0" y="750"/>
                </a:lnTo>
                <a:lnTo>
                  <a:pt x="0" y="748"/>
                </a:lnTo>
                <a:lnTo>
                  <a:pt x="2" y="745"/>
                </a:lnTo>
                <a:lnTo>
                  <a:pt x="2" y="745"/>
                </a:lnTo>
                <a:lnTo>
                  <a:pt x="5" y="745"/>
                </a:lnTo>
                <a:lnTo>
                  <a:pt x="7" y="745"/>
                </a:lnTo>
                <a:lnTo>
                  <a:pt x="7" y="745"/>
                </a:lnTo>
                <a:lnTo>
                  <a:pt x="7" y="748"/>
                </a:lnTo>
                <a:lnTo>
                  <a:pt x="7" y="750"/>
                </a:lnTo>
                <a:lnTo>
                  <a:pt x="7" y="750"/>
                </a:lnTo>
                <a:close/>
                <a:moveTo>
                  <a:pt x="7" y="792"/>
                </a:moveTo>
                <a:lnTo>
                  <a:pt x="7" y="814"/>
                </a:lnTo>
                <a:lnTo>
                  <a:pt x="7" y="814"/>
                </a:lnTo>
                <a:lnTo>
                  <a:pt x="7" y="816"/>
                </a:lnTo>
                <a:lnTo>
                  <a:pt x="7" y="816"/>
                </a:lnTo>
                <a:lnTo>
                  <a:pt x="5" y="816"/>
                </a:lnTo>
                <a:lnTo>
                  <a:pt x="2" y="816"/>
                </a:lnTo>
                <a:lnTo>
                  <a:pt x="2" y="816"/>
                </a:lnTo>
                <a:lnTo>
                  <a:pt x="0" y="814"/>
                </a:lnTo>
                <a:lnTo>
                  <a:pt x="0" y="814"/>
                </a:lnTo>
                <a:lnTo>
                  <a:pt x="0" y="792"/>
                </a:lnTo>
                <a:lnTo>
                  <a:pt x="0" y="792"/>
                </a:lnTo>
                <a:lnTo>
                  <a:pt x="2" y="790"/>
                </a:lnTo>
                <a:lnTo>
                  <a:pt x="2" y="790"/>
                </a:lnTo>
                <a:lnTo>
                  <a:pt x="5" y="790"/>
                </a:lnTo>
                <a:lnTo>
                  <a:pt x="7" y="790"/>
                </a:lnTo>
                <a:lnTo>
                  <a:pt x="7" y="790"/>
                </a:lnTo>
                <a:lnTo>
                  <a:pt x="7" y="792"/>
                </a:lnTo>
                <a:lnTo>
                  <a:pt x="7" y="792"/>
                </a:lnTo>
                <a:lnTo>
                  <a:pt x="7" y="792"/>
                </a:lnTo>
                <a:close/>
                <a:moveTo>
                  <a:pt x="7" y="839"/>
                </a:moveTo>
                <a:lnTo>
                  <a:pt x="7" y="860"/>
                </a:lnTo>
                <a:lnTo>
                  <a:pt x="7" y="860"/>
                </a:lnTo>
                <a:lnTo>
                  <a:pt x="7" y="863"/>
                </a:lnTo>
                <a:lnTo>
                  <a:pt x="7" y="863"/>
                </a:lnTo>
                <a:lnTo>
                  <a:pt x="5" y="863"/>
                </a:lnTo>
                <a:lnTo>
                  <a:pt x="2" y="863"/>
                </a:lnTo>
                <a:lnTo>
                  <a:pt x="2" y="863"/>
                </a:lnTo>
                <a:lnTo>
                  <a:pt x="0" y="860"/>
                </a:lnTo>
                <a:lnTo>
                  <a:pt x="0" y="860"/>
                </a:lnTo>
                <a:lnTo>
                  <a:pt x="0" y="839"/>
                </a:lnTo>
                <a:lnTo>
                  <a:pt x="0" y="839"/>
                </a:lnTo>
                <a:lnTo>
                  <a:pt x="2" y="837"/>
                </a:lnTo>
                <a:lnTo>
                  <a:pt x="2" y="837"/>
                </a:lnTo>
                <a:lnTo>
                  <a:pt x="5" y="837"/>
                </a:lnTo>
                <a:lnTo>
                  <a:pt x="7" y="837"/>
                </a:lnTo>
                <a:lnTo>
                  <a:pt x="7" y="837"/>
                </a:lnTo>
                <a:lnTo>
                  <a:pt x="7" y="839"/>
                </a:lnTo>
                <a:lnTo>
                  <a:pt x="7" y="839"/>
                </a:lnTo>
                <a:lnTo>
                  <a:pt x="7" y="839"/>
                </a:lnTo>
                <a:close/>
                <a:moveTo>
                  <a:pt x="7" y="886"/>
                </a:moveTo>
                <a:lnTo>
                  <a:pt x="7" y="907"/>
                </a:lnTo>
                <a:lnTo>
                  <a:pt x="7" y="907"/>
                </a:lnTo>
                <a:lnTo>
                  <a:pt x="7" y="909"/>
                </a:lnTo>
                <a:lnTo>
                  <a:pt x="7" y="909"/>
                </a:lnTo>
                <a:lnTo>
                  <a:pt x="5" y="909"/>
                </a:lnTo>
                <a:lnTo>
                  <a:pt x="2" y="909"/>
                </a:lnTo>
                <a:lnTo>
                  <a:pt x="2" y="909"/>
                </a:lnTo>
                <a:lnTo>
                  <a:pt x="0" y="907"/>
                </a:lnTo>
                <a:lnTo>
                  <a:pt x="0" y="907"/>
                </a:lnTo>
                <a:lnTo>
                  <a:pt x="0" y="886"/>
                </a:lnTo>
                <a:lnTo>
                  <a:pt x="0" y="886"/>
                </a:lnTo>
                <a:lnTo>
                  <a:pt x="2" y="884"/>
                </a:lnTo>
                <a:lnTo>
                  <a:pt x="2" y="884"/>
                </a:lnTo>
                <a:lnTo>
                  <a:pt x="5" y="884"/>
                </a:lnTo>
                <a:lnTo>
                  <a:pt x="7" y="884"/>
                </a:lnTo>
                <a:lnTo>
                  <a:pt x="7" y="884"/>
                </a:lnTo>
                <a:lnTo>
                  <a:pt x="7" y="886"/>
                </a:lnTo>
                <a:lnTo>
                  <a:pt x="7" y="886"/>
                </a:lnTo>
                <a:lnTo>
                  <a:pt x="7" y="886"/>
                </a:lnTo>
                <a:close/>
                <a:moveTo>
                  <a:pt x="7" y="933"/>
                </a:moveTo>
                <a:lnTo>
                  <a:pt x="7" y="952"/>
                </a:lnTo>
                <a:lnTo>
                  <a:pt x="7" y="954"/>
                </a:lnTo>
                <a:lnTo>
                  <a:pt x="7" y="956"/>
                </a:lnTo>
                <a:lnTo>
                  <a:pt x="7" y="956"/>
                </a:lnTo>
                <a:lnTo>
                  <a:pt x="5" y="956"/>
                </a:lnTo>
                <a:lnTo>
                  <a:pt x="2" y="956"/>
                </a:lnTo>
                <a:lnTo>
                  <a:pt x="2" y="956"/>
                </a:lnTo>
                <a:lnTo>
                  <a:pt x="0" y="954"/>
                </a:lnTo>
                <a:lnTo>
                  <a:pt x="0" y="952"/>
                </a:lnTo>
                <a:lnTo>
                  <a:pt x="0" y="933"/>
                </a:lnTo>
                <a:lnTo>
                  <a:pt x="0" y="931"/>
                </a:lnTo>
                <a:lnTo>
                  <a:pt x="2" y="931"/>
                </a:lnTo>
                <a:lnTo>
                  <a:pt x="2" y="931"/>
                </a:lnTo>
                <a:lnTo>
                  <a:pt x="5" y="929"/>
                </a:lnTo>
                <a:lnTo>
                  <a:pt x="7" y="931"/>
                </a:lnTo>
                <a:lnTo>
                  <a:pt x="7" y="931"/>
                </a:lnTo>
                <a:lnTo>
                  <a:pt x="7" y="931"/>
                </a:lnTo>
                <a:lnTo>
                  <a:pt x="7" y="933"/>
                </a:lnTo>
                <a:lnTo>
                  <a:pt x="7" y="933"/>
                </a:lnTo>
                <a:close/>
                <a:moveTo>
                  <a:pt x="7" y="980"/>
                </a:moveTo>
                <a:lnTo>
                  <a:pt x="7" y="999"/>
                </a:lnTo>
                <a:lnTo>
                  <a:pt x="7" y="1001"/>
                </a:lnTo>
                <a:lnTo>
                  <a:pt x="7" y="1001"/>
                </a:lnTo>
                <a:lnTo>
                  <a:pt x="7" y="1003"/>
                </a:lnTo>
                <a:lnTo>
                  <a:pt x="5" y="1003"/>
                </a:lnTo>
                <a:lnTo>
                  <a:pt x="2" y="1003"/>
                </a:lnTo>
                <a:lnTo>
                  <a:pt x="2" y="1001"/>
                </a:lnTo>
                <a:lnTo>
                  <a:pt x="0" y="1001"/>
                </a:lnTo>
                <a:lnTo>
                  <a:pt x="0" y="999"/>
                </a:lnTo>
                <a:lnTo>
                  <a:pt x="0" y="980"/>
                </a:lnTo>
                <a:lnTo>
                  <a:pt x="0" y="977"/>
                </a:lnTo>
                <a:lnTo>
                  <a:pt x="2" y="977"/>
                </a:lnTo>
                <a:lnTo>
                  <a:pt x="2" y="975"/>
                </a:lnTo>
                <a:lnTo>
                  <a:pt x="5" y="975"/>
                </a:lnTo>
                <a:lnTo>
                  <a:pt x="7" y="975"/>
                </a:lnTo>
                <a:lnTo>
                  <a:pt x="7" y="977"/>
                </a:lnTo>
                <a:lnTo>
                  <a:pt x="7" y="977"/>
                </a:lnTo>
                <a:lnTo>
                  <a:pt x="7" y="980"/>
                </a:lnTo>
                <a:lnTo>
                  <a:pt x="7" y="980"/>
                </a:lnTo>
                <a:close/>
                <a:moveTo>
                  <a:pt x="7" y="1026"/>
                </a:moveTo>
                <a:lnTo>
                  <a:pt x="7" y="1046"/>
                </a:lnTo>
                <a:lnTo>
                  <a:pt x="7" y="1048"/>
                </a:lnTo>
                <a:lnTo>
                  <a:pt x="7" y="1048"/>
                </a:lnTo>
                <a:lnTo>
                  <a:pt x="7" y="1050"/>
                </a:lnTo>
                <a:lnTo>
                  <a:pt x="5" y="1050"/>
                </a:lnTo>
                <a:lnTo>
                  <a:pt x="2" y="1050"/>
                </a:lnTo>
                <a:lnTo>
                  <a:pt x="2" y="1048"/>
                </a:lnTo>
                <a:lnTo>
                  <a:pt x="0" y="1048"/>
                </a:lnTo>
                <a:lnTo>
                  <a:pt x="0" y="1046"/>
                </a:lnTo>
                <a:lnTo>
                  <a:pt x="0" y="1026"/>
                </a:lnTo>
                <a:lnTo>
                  <a:pt x="0" y="1024"/>
                </a:lnTo>
                <a:lnTo>
                  <a:pt x="2" y="1024"/>
                </a:lnTo>
                <a:lnTo>
                  <a:pt x="2" y="1022"/>
                </a:lnTo>
                <a:lnTo>
                  <a:pt x="5" y="1022"/>
                </a:lnTo>
                <a:lnTo>
                  <a:pt x="7" y="1022"/>
                </a:lnTo>
                <a:lnTo>
                  <a:pt x="7" y="1024"/>
                </a:lnTo>
                <a:lnTo>
                  <a:pt x="7" y="1024"/>
                </a:lnTo>
                <a:lnTo>
                  <a:pt x="7" y="1026"/>
                </a:lnTo>
                <a:lnTo>
                  <a:pt x="7" y="1026"/>
                </a:lnTo>
                <a:close/>
                <a:moveTo>
                  <a:pt x="7" y="1073"/>
                </a:moveTo>
                <a:lnTo>
                  <a:pt x="7" y="1092"/>
                </a:lnTo>
                <a:lnTo>
                  <a:pt x="7" y="1095"/>
                </a:lnTo>
                <a:lnTo>
                  <a:pt x="7" y="1095"/>
                </a:lnTo>
                <a:lnTo>
                  <a:pt x="7" y="1095"/>
                </a:lnTo>
                <a:lnTo>
                  <a:pt x="5" y="1097"/>
                </a:lnTo>
                <a:lnTo>
                  <a:pt x="2" y="1095"/>
                </a:lnTo>
                <a:lnTo>
                  <a:pt x="2" y="1095"/>
                </a:lnTo>
                <a:lnTo>
                  <a:pt x="0" y="1095"/>
                </a:lnTo>
                <a:lnTo>
                  <a:pt x="0" y="1092"/>
                </a:lnTo>
                <a:lnTo>
                  <a:pt x="0" y="1073"/>
                </a:lnTo>
                <a:lnTo>
                  <a:pt x="0" y="1071"/>
                </a:lnTo>
                <a:lnTo>
                  <a:pt x="2" y="1071"/>
                </a:lnTo>
                <a:lnTo>
                  <a:pt x="2" y="1069"/>
                </a:lnTo>
                <a:lnTo>
                  <a:pt x="5" y="1069"/>
                </a:lnTo>
                <a:lnTo>
                  <a:pt x="7" y="1069"/>
                </a:lnTo>
                <a:lnTo>
                  <a:pt x="7" y="1071"/>
                </a:lnTo>
                <a:lnTo>
                  <a:pt x="7" y="1071"/>
                </a:lnTo>
                <a:lnTo>
                  <a:pt x="7" y="1073"/>
                </a:lnTo>
                <a:lnTo>
                  <a:pt x="7" y="1073"/>
                </a:lnTo>
                <a:close/>
                <a:moveTo>
                  <a:pt x="7" y="1120"/>
                </a:moveTo>
                <a:lnTo>
                  <a:pt x="7" y="1139"/>
                </a:lnTo>
                <a:lnTo>
                  <a:pt x="7" y="1141"/>
                </a:lnTo>
                <a:lnTo>
                  <a:pt x="7" y="1141"/>
                </a:lnTo>
                <a:lnTo>
                  <a:pt x="7" y="1141"/>
                </a:lnTo>
                <a:lnTo>
                  <a:pt x="5" y="1141"/>
                </a:lnTo>
                <a:lnTo>
                  <a:pt x="2" y="1141"/>
                </a:lnTo>
                <a:lnTo>
                  <a:pt x="2" y="1141"/>
                </a:lnTo>
                <a:lnTo>
                  <a:pt x="0" y="1141"/>
                </a:lnTo>
                <a:lnTo>
                  <a:pt x="0" y="1139"/>
                </a:lnTo>
                <a:lnTo>
                  <a:pt x="0" y="1120"/>
                </a:lnTo>
                <a:lnTo>
                  <a:pt x="0" y="1118"/>
                </a:lnTo>
                <a:lnTo>
                  <a:pt x="2" y="1116"/>
                </a:lnTo>
                <a:lnTo>
                  <a:pt x="2" y="1116"/>
                </a:lnTo>
                <a:lnTo>
                  <a:pt x="5" y="1116"/>
                </a:lnTo>
                <a:lnTo>
                  <a:pt x="7" y="1116"/>
                </a:lnTo>
                <a:lnTo>
                  <a:pt x="7" y="1116"/>
                </a:lnTo>
                <a:lnTo>
                  <a:pt x="7" y="1118"/>
                </a:lnTo>
                <a:lnTo>
                  <a:pt x="7" y="1120"/>
                </a:lnTo>
                <a:lnTo>
                  <a:pt x="7" y="1120"/>
                </a:lnTo>
                <a:close/>
                <a:moveTo>
                  <a:pt x="7" y="1165"/>
                </a:moveTo>
                <a:lnTo>
                  <a:pt x="7" y="1186"/>
                </a:lnTo>
                <a:lnTo>
                  <a:pt x="7" y="1186"/>
                </a:lnTo>
                <a:lnTo>
                  <a:pt x="7" y="1188"/>
                </a:lnTo>
                <a:lnTo>
                  <a:pt x="7" y="1188"/>
                </a:lnTo>
                <a:lnTo>
                  <a:pt x="5" y="1188"/>
                </a:lnTo>
                <a:lnTo>
                  <a:pt x="2" y="1188"/>
                </a:lnTo>
                <a:lnTo>
                  <a:pt x="2" y="1188"/>
                </a:lnTo>
                <a:lnTo>
                  <a:pt x="0" y="1186"/>
                </a:lnTo>
                <a:lnTo>
                  <a:pt x="0" y="1186"/>
                </a:lnTo>
                <a:lnTo>
                  <a:pt x="0" y="1165"/>
                </a:lnTo>
                <a:lnTo>
                  <a:pt x="0" y="1165"/>
                </a:lnTo>
                <a:lnTo>
                  <a:pt x="2" y="1163"/>
                </a:lnTo>
                <a:lnTo>
                  <a:pt x="2" y="1163"/>
                </a:lnTo>
                <a:lnTo>
                  <a:pt x="5" y="1163"/>
                </a:lnTo>
                <a:lnTo>
                  <a:pt x="7" y="1163"/>
                </a:lnTo>
                <a:lnTo>
                  <a:pt x="7" y="1163"/>
                </a:lnTo>
                <a:lnTo>
                  <a:pt x="7" y="1165"/>
                </a:lnTo>
                <a:lnTo>
                  <a:pt x="7" y="1165"/>
                </a:lnTo>
                <a:lnTo>
                  <a:pt x="7" y="1165"/>
                </a:lnTo>
                <a:close/>
                <a:moveTo>
                  <a:pt x="7" y="1212"/>
                </a:moveTo>
                <a:lnTo>
                  <a:pt x="7" y="1233"/>
                </a:lnTo>
                <a:lnTo>
                  <a:pt x="7" y="1233"/>
                </a:lnTo>
                <a:lnTo>
                  <a:pt x="7" y="1235"/>
                </a:lnTo>
                <a:lnTo>
                  <a:pt x="7" y="1235"/>
                </a:lnTo>
                <a:lnTo>
                  <a:pt x="5" y="1235"/>
                </a:lnTo>
                <a:lnTo>
                  <a:pt x="2" y="1235"/>
                </a:lnTo>
                <a:lnTo>
                  <a:pt x="2" y="1235"/>
                </a:lnTo>
                <a:lnTo>
                  <a:pt x="0" y="1233"/>
                </a:lnTo>
                <a:lnTo>
                  <a:pt x="0" y="1233"/>
                </a:lnTo>
                <a:lnTo>
                  <a:pt x="0" y="1212"/>
                </a:lnTo>
                <a:lnTo>
                  <a:pt x="0" y="1212"/>
                </a:lnTo>
                <a:lnTo>
                  <a:pt x="2" y="1210"/>
                </a:lnTo>
                <a:lnTo>
                  <a:pt x="2" y="1210"/>
                </a:lnTo>
                <a:lnTo>
                  <a:pt x="5" y="1210"/>
                </a:lnTo>
                <a:lnTo>
                  <a:pt x="7" y="1210"/>
                </a:lnTo>
                <a:lnTo>
                  <a:pt x="7" y="1210"/>
                </a:lnTo>
                <a:lnTo>
                  <a:pt x="7" y="1212"/>
                </a:lnTo>
                <a:lnTo>
                  <a:pt x="7" y="1212"/>
                </a:lnTo>
                <a:lnTo>
                  <a:pt x="7" y="1212"/>
                </a:lnTo>
                <a:close/>
                <a:moveTo>
                  <a:pt x="7" y="1258"/>
                </a:moveTo>
                <a:lnTo>
                  <a:pt x="7" y="1280"/>
                </a:lnTo>
                <a:lnTo>
                  <a:pt x="7" y="1280"/>
                </a:lnTo>
                <a:lnTo>
                  <a:pt x="7" y="1282"/>
                </a:lnTo>
                <a:lnTo>
                  <a:pt x="7" y="1282"/>
                </a:lnTo>
                <a:lnTo>
                  <a:pt x="5" y="1282"/>
                </a:lnTo>
                <a:lnTo>
                  <a:pt x="2" y="1282"/>
                </a:lnTo>
                <a:lnTo>
                  <a:pt x="2" y="1282"/>
                </a:lnTo>
                <a:lnTo>
                  <a:pt x="0" y="1280"/>
                </a:lnTo>
                <a:lnTo>
                  <a:pt x="0" y="1280"/>
                </a:lnTo>
                <a:lnTo>
                  <a:pt x="0" y="1258"/>
                </a:lnTo>
                <a:lnTo>
                  <a:pt x="0" y="1258"/>
                </a:lnTo>
                <a:lnTo>
                  <a:pt x="2" y="1256"/>
                </a:lnTo>
                <a:lnTo>
                  <a:pt x="2" y="1256"/>
                </a:lnTo>
                <a:lnTo>
                  <a:pt x="5" y="1256"/>
                </a:lnTo>
                <a:lnTo>
                  <a:pt x="7" y="1256"/>
                </a:lnTo>
                <a:lnTo>
                  <a:pt x="7" y="1256"/>
                </a:lnTo>
                <a:lnTo>
                  <a:pt x="7" y="1258"/>
                </a:lnTo>
                <a:lnTo>
                  <a:pt x="7" y="1258"/>
                </a:lnTo>
                <a:lnTo>
                  <a:pt x="7" y="1258"/>
                </a:lnTo>
                <a:close/>
                <a:moveTo>
                  <a:pt x="7" y="1305"/>
                </a:moveTo>
                <a:lnTo>
                  <a:pt x="7" y="1324"/>
                </a:lnTo>
                <a:lnTo>
                  <a:pt x="7" y="1327"/>
                </a:lnTo>
                <a:lnTo>
                  <a:pt x="7" y="1329"/>
                </a:lnTo>
                <a:lnTo>
                  <a:pt x="7" y="1329"/>
                </a:lnTo>
                <a:lnTo>
                  <a:pt x="5" y="1329"/>
                </a:lnTo>
                <a:lnTo>
                  <a:pt x="2" y="1329"/>
                </a:lnTo>
                <a:lnTo>
                  <a:pt x="2" y="1329"/>
                </a:lnTo>
                <a:lnTo>
                  <a:pt x="0" y="1327"/>
                </a:lnTo>
                <a:lnTo>
                  <a:pt x="0" y="1324"/>
                </a:lnTo>
                <a:lnTo>
                  <a:pt x="0" y="1305"/>
                </a:lnTo>
                <a:lnTo>
                  <a:pt x="0" y="1303"/>
                </a:lnTo>
                <a:lnTo>
                  <a:pt x="2" y="1303"/>
                </a:lnTo>
                <a:lnTo>
                  <a:pt x="2" y="1303"/>
                </a:lnTo>
                <a:lnTo>
                  <a:pt x="5" y="1301"/>
                </a:lnTo>
                <a:lnTo>
                  <a:pt x="7" y="1303"/>
                </a:lnTo>
                <a:lnTo>
                  <a:pt x="7" y="1303"/>
                </a:lnTo>
                <a:lnTo>
                  <a:pt x="7" y="1303"/>
                </a:lnTo>
                <a:lnTo>
                  <a:pt x="7" y="1305"/>
                </a:lnTo>
                <a:lnTo>
                  <a:pt x="7" y="1305"/>
                </a:lnTo>
                <a:close/>
                <a:moveTo>
                  <a:pt x="7" y="1352"/>
                </a:moveTo>
                <a:lnTo>
                  <a:pt x="7" y="1371"/>
                </a:lnTo>
                <a:lnTo>
                  <a:pt x="7" y="1373"/>
                </a:lnTo>
                <a:lnTo>
                  <a:pt x="7" y="1373"/>
                </a:lnTo>
                <a:lnTo>
                  <a:pt x="7" y="1376"/>
                </a:lnTo>
                <a:lnTo>
                  <a:pt x="5" y="1376"/>
                </a:lnTo>
                <a:lnTo>
                  <a:pt x="2" y="1376"/>
                </a:lnTo>
                <a:lnTo>
                  <a:pt x="2" y="1373"/>
                </a:lnTo>
                <a:lnTo>
                  <a:pt x="0" y="1373"/>
                </a:lnTo>
                <a:lnTo>
                  <a:pt x="0" y="1371"/>
                </a:lnTo>
                <a:lnTo>
                  <a:pt x="0" y="1352"/>
                </a:lnTo>
                <a:lnTo>
                  <a:pt x="0" y="1350"/>
                </a:lnTo>
                <a:lnTo>
                  <a:pt x="2" y="1350"/>
                </a:lnTo>
                <a:lnTo>
                  <a:pt x="2" y="1348"/>
                </a:lnTo>
                <a:lnTo>
                  <a:pt x="5" y="1348"/>
                </a:lnTo>
                <a:lnTo>
                  <a:pt x="7" y="1348"/>
                </a:lnTo>
                <a:lnTo>
                  <a:pt x="7" y="1350"/>
                </a:lnTo>
                <a:lnTo>
                  <a:pt x="7" y="1350"/>
                </a:lnTo>
                <a:lnTo>
                  <a:pt x="7" y="1352"/>
                </a:lnTo>
                <a:lnTo>
                  <a:pt x="7" y="1352"/>
                </a:lnTo>
                <a:close/>
                <a:moveTo>
                  <a:pt x="7" y="1399"/>
                </a:moveTo>
                <a:lnTo>
                  <a:pt x="7" y="1418"/>
                </a:lnTo>
                <a:lnTo>
                  <a:pt x="7" y="1420"/>
                </a:lnTo>
                <a:lnTo>
                  <a:pt x="7" y="1420"/>
                </a:lnTo>
                <a:lnTo>
                  <a:pt x="7" y="1422"/>
                </a:lnTo>
                <a:lnTo>
                  <a:pt x="5" y="1422"/>
                </a:lnTo>
                <a:lnTo>
                  <a:pt x="2" y="1422"/>
                </a:lnTo>
                <a:lnTo>
                  <a:pt x="2" y="1420"/>
                </a:lnTo>
                <a:lnTo>
                  <a:pt x="0" y="1420"/>
                </a:lnTo>
                <a:lnTo>
                  <a:pt x="0" y="1418"/>
                </a:lnTo>
                <a:lnTo>
                  <a:pt x="0" y="1399"/>
                </a:lnTo>
                <a:lnTo>
                  <a:pt x="0" y="1397"/>
                </a:lnTo>
                <a:lnTo>
                  <a:pt x="2" y="1397"/>
                </a:lnTo>
                <a:lnTo>
                  <a:pt x="2" y="1395"/>
                </a:lnTo>
                <a:lnTo>
                  <a:pt x="5" y="1395"/>
                </a:lnTo>
                <a:lnTo>
                  <a:pt x="7" y="1395"/>
                </a:lnTo>
                <a:lnTo>
                  <a:pt x="7" y="1397"/>
                </a:lnTo>
                <a:lnTo>
                  <a:pt x="7" y="1397"/>
                </a:lnTo>
                <a:lnTo>
                  <a:pt x="7" y="1399"/>
                </a:lnTo>
                <a:lnTo>
                  <a:pt x="7" y="1399"/>
                </a:lnTo>
                <a:close/>
                <a:moveTo>
                  <a:pt x="7" y="1446"/>
                </a:moveTo>
                <a:lnTo>
                  <a:pt x="7" y="1465"/>
                </a:lnTo>
                <a:lnTo>
                  <a:pt x="7" y="1467"/>
                </a:lnTo>
                <a:lnTo>
                  <a:pt x="7" y="1467"/>
                </a:lnTo>
                <a:lnTo>
                  <a:pt x="7" y="1467"/>
                </a:lnTo>
                <a:lnTo>
                  <a:pt x="5" y="1469"/>
                </a:lnTo>
                <a:lnTo>
                  <a:pt x="2" y="1467"/>
                </a:lnTo>
                <a:lnTo>
                  <a:pt x="2" y="1467"/>
                </a:lnTo>
                <a:lnTo>
                  <a:pt x="0" y="1467"/>
                </a:lnTo>
                <a:lnTo>
                  <a:pt x="0" y="1465"/>
                </a:lnTo>
                <a:lnTo>
                  <a:pt x="0" y="1446"/>
                </a:lnTo>
                <a:lnTo>
                  <a:pt x="0" y="1444"/>
                </a:lnTo>
                <a:lnTo>
                  <a:pt x="2" y="1444"/>
                </a:lnTo>
                <a:lnTo>
                  <a:pt x="2" y="1442"/>
                </a:lnTo>
                <a:lnTo>
                  <a:pt x="5" y="1442"/>
                </a:lnTo>
                <a:lnTo>
                  <a:pt x="7" y="1442"/>
                </a:lnTo>
                <a:lnTo>
                  <a:pt x="7" y="1444"/>
                </a:lnTo>
                <a:lnTo>
                  <a:pt x="7" y="1444"/>
                </a:lnTo>
                <a:lnTo>
                  <a:pt x="7" y="1446"/>
                </a:lnTo>
                <a:lnTo>
                  <a:pt x="7" y="1446"/>
                </a:lnTo>
                <a:close/>
                <a:moveTo>
                  <a:pt x="7" y="1493"/>
                </a:moveTo>
                <a:lnTo>
                  <a:pt x="7" y="1512"/>
                </a:lnTo>
                <a:lnTo>
                  <a:pt x="7" y="1514"/>
                </a:lnTo>
                <a:lnTo>
                  <a:pt x="7" y="1514"/>
                </a:lnTo>
                <a:lnTo>
                  <a:pt x="7" y="1514"/>
                </a:lnTo>
                <a:lnTo>
                  <a:pt x="5" y="1514"/>
                </a:lnTo>
                <a:lnTo>
                  <a:pt x="2" y="1514"/>
                </a:lnTo>
                <a:lnTo>
                  <a:pt x="2" y="1514"/>
                </a:lnTo>
                <a:lnTo>
                  <a:pt x="0" y="1514"/>
                </a:lnTo>
                <a:lnTo>
                  <a:pt x="0" y="1512"/>
                </a:lnTo>
                <a:lnTo>
                  <a:pt x="0" y="1493"/>
                </a:lnTo>
                <a:lnTo>
                  <a:pt x="0" y="1490"/>
                </a:lnTo>
                <a:lnTo>
                  <a:pt x="2" y="1488"/>
                </a:lnTo>
                <a:lnTo>
                  <a:pt x="2" y="1488"/>
                </a:lnTo>
                <a:lnTo>
                  <a:pt x="5" y="1488"/>
                </a:lnTo>
                <a:lnTo>
                  <a:pt x="7" y="1488"/>
                </a:lnTo>
                <a:lnTo>
                  <a:pt x="7" y="1488"/>
                </a:lnTo>
                <a:lnTo>
                  <a:pt x="7" y="1490"/>
                </a:lnTo>
                <a:lnTo>
                  <a:pt x="7" y="1493"/>
                </a:lnTo>
                <a:lnTo>
                  <a:pt x="7" y="1493"/>
                </a:lnTo>
                <a:close/>
                <a:moveTo>
                  <a:pt x="7" y="1537"/>
                </a:moveTo>
                <a:lnTo>
                  <a:pt x="7" y="1559"/>
                </a:lnTo>
                <a:lnTo>
                  <a:pt x="7" y="1559"/>
                </a:lnTo>
                <a:lnTo>
                  <a:pt x="7" y="1561"/>
                </a:lnTo>
                <a:lnTo>
                  <a:pt x="7" y="1561"/>
                </a:lnTo>
                <a:lnTo>
                  <a:pt x="5" y="1561"/>
                </a:lnTo>
                <a:lnTo>
                  <a:pt x="2" y="1561"/>
                </a:lnTo>
                <a:lnTo>
                  <a:pt x="2" y="1561"/>
                </a:lnTo>
                <a:lnTo>
                  <a:pt x="0" y="1559"/>
                </a:lnTo>
                <a:lnTo>
                  <a:pt x="0" y="1559"/>
                </a:lnTo>
                <a:lnTo>
                  <a:pt x="0" y="1537"/>
                </a:lnTo>
                <a:lnTo>
                  <a:pt x="0" y="1537"/>
                </a:lnTo>
                <a:lnTo>
                  <a:pt x="2" y="1535"/>
                </a:lnTo>
                <a:lnTo>
                  <a:pt x="2" y="1535"/>
                </a:lnTo>
                <a:lnTo>
                  <a:pt x="5" y="1535"/>
                </a:lnTo>
                <a:lnTo>
                  <a:pt x="7" y="1535"/>
                </a:lnTo>
                <a:lnTo>
                  <a:pt x="7" y="1535"/>
                </a:lnTo>
                <a:lnTo>
                  <a:pt x="7" y="1537"/>
                </a:lnTo>
                <a:lnTo>
                  <a:pt x="7" y="1537"/>
                </a:lnTo>
                <a:lnTo>
                  <a:pt x="7" y="1537"/>
                </a:lnTo>
                <a:close/>
                <a:moveTo>
                  <a:pt x="7" y="1584"/>
                </a:moveTo>
                <a:lnTo>
                  <a:pt x="7" y="1605"/>
                </a:lnTo>
                <a:lnTo>
                  <a:pt x="7" y="1605"/>
                </a:lnTo>
                <a:lnTo>
                  <a:pt x="7" y="1608"/>
                </a:lnTo>
                <a:lnTo>
                  <a:pt x="7" y="1608"/>
                </a:lnTo>
                <a:lnTo>
                  <a:pt x="5" y="1608"/>
                </a:lnTo>
                <a:lnTo>
                  <a:pt x="2" y="1608"/>
                </a:lnTo>
                <a:lnTo>
                  <a:pt x="2" y="1608"/>
                </a:lnTo>
                <a:lnTo>
                  <a:pt x="0" y="1605"/>
                </a:lnTo>
                <a:lnTo>
                  <a:pt x="0" y="1605"/>
                </a:lnTo>
                <a:lnTo>
                  <a:pt x="0" y="1584"/>
                </a:lnTo>
                <a:lnTo>
                  <a:pt x="0" y="1584"/>
                </a:lnTo>
                <a:lnTo>
                  <a:pt x="2" y="1582"/>
                </a:lnTo>
                <a:lnTo>
                  <a:pt x="2" y="1582"/>
                </a:lnTo>
                <a:lnTo>
                  <a:pt x="5" y="1582"/>
                </a:lnTo>
                <a:lnTo>
                  <a:pt x="7" y="1582"/>
                </a:lnTo>
                <a:lnTo>
                  <a:pt x="7" y="1582"/>
                </a:lnTo>
                <a:lnTo>
                  <a:pt x="7" y="1584"/>
                </a:lnTo>
                <a:lnTo>
                  <a:pt x="7" y="1584"/>
                </a:lnTo>
                <a:lnTo>
                  <a:pt x="7" y="1584"/>
                </a:lnTo>
                <a:close/>
                <a:moveTo>
                  <a:pt x="7" y="1631"/>
                </a:moveTo>
                <a:lnTo>
                  <a:pt x="7" y="1652"/>
                </a:lnTo>
                <a:lnTo>
                  <a:pt x="7" y="1652"/>
                </a:lnTo>
                <a:lnTo>
                  <a:pt x="7" y="1654"/>
                </a:lnTo>
                <a:lnTo>
                  <a:pt x="7" y="1654"/>
                </a:lnTo>
                <a:lnTo>
                  <a:pt x="5" y="1654"/>
                </a:lnTo>
                <a:lnTo>
                  <a:pt x="2" y="1654"/>
                </a:lnTo>
                <a:lnTo>
                  <a:pt x="2" y="1654"/>
                </a:lnTo>
                <a:lnTo>
                  <a:pt x="0" y="1652"/>
                </a:lnTo>
                <a:lnTo>
                  <a:pt x="0" y="1652"/>
                </a:lnTo>
                <a:lnTo>
                  <a:pt x="0" y="1631"/>
                </a:lnTo>
                <a:lnTo>
                  <a:pt x="0" y="1631"/>
                </a:lnTo>
                <a:lnTo>
                  <a:pt x="2" y="1629"/>
                </a:lnTo>
                <a:lnTo>
                  <a:pt x="2" y="1629"/>
                </a:lnTo>
                <a:lnTo>
                  <a:pt x="5" y="1629"/>
                </a:lnTo>
                <a:lnTo>
                  <a:pt x="7" y="1629"/>
                </a:lnTo>
                <a:lnTo>
                  <a:pt x="7" y="1629"/>
                </a:lnTo>
                <a:lnTo>
                  <a:pt x="7" y="1631"/>
                </a:lnTo>
                <a:lnTo>
                  <a:pt x="7" y="1631"/>
                </a:lnTo>
                <a:lnTo>
                  <a:pt x="7" y="1631"/>
                </a:lnTo>
                <a:close/>
                <a:moveTo>
                  <a:pt x="7" y="1678"/>
                </a:moveTo>
                <a:lnTo>
                  <a:pt x="7" y="1697"/>
                </a:lnTo>
                <a:lnTo>
                  <a:pt x="7" y="1699"/>
                </a:lnTo>
                <a:lnTo>
                  <a:pt x="7" y="1701"/>
                </a:lnTo>
                <a:lnTo>
                  <a:pt x="7" y="1701"/>
                </a:lnTo>
                <a:lnTo>
                  <a:pt x="5" y="1701"/>
                </a:lnTo>
                <a:lnTo>
                  <a:pt x="2" y="1701"/>
                </a:lnTo>
                <a:lnTo>
                  <a:pt x="2" y="1701"/>
                </a:lnTo>
                <a:lnTo>
                  <a:pt x="0" y="1699"/>
                </a:lnTo>
                <a:lnTo>
                  <a:pt x="0" y="1697"/>
                </a:lnTo>
                <a:lnTo>
                  <a:pt x="0" y="1678"/>
                </a:lnTo>
                <a:lnTo>
                  <a:pt x="0" y="1676"/>
                </a:lnTo>
                <a:lnTo>
                  <a:pt x="2" y="1676"/>
                </a:lnTo>
                <a:lnTo>
                  <a:pt x="2" y="1676"/>
                </a:lnTo>
                <a:lnTo>
                  <a:pt x="5" y="1674"/>
                </a:lnTo>
                <a:lnTo>
                  <a:pt x="7" y="1676"/>
                </a:lnTo>
                <a:lnTo>
                  <a:pt x="7" y="1676"/>
                </a:lnTo>
                <a:lnTo>
                  <a:pt x="7" y="1676"/>
                </a:lnTo>
                <a:lnTo>
                  <a:pt x="7" y="1678"/>
                </a:lnTo>
                <a:lnTo>
                  <a:pt x="7" y="1678"/>
                </a:lnTo>
                <a:close/>
                <a:moveTo>
                  <a:pt x="7" y="1725"/>
                </a:moveTo>
                <a:lnTo>
                  <a:pt x="7" y="1744"/>
                </a:lnTo>
                <a:lnTo>
                  <a:pt x="7" y="1746"/>
                </a:lnTo>
                <a:lnTo>
                  <a:pt x="7" y="1746"/>
                </a:lnTo>
                <a:lnTo>
                  <a:pt x="7" y="1748"/>
                </a:lnTo>
                <a:lnTo>
                  <a:pt x="5" y="1748"/>
                </a:lnTo>
                <a:lnTo>
                  <a:pt x="2" y="1748"/>
                </a:lnTo>
                <a:lnTo>
                  <a:pt x="2" y="1746"/>
                </a:lnTo>
                <a:lnTo>
                  <a:pt x="0" y="1746"/>
                </a:lnTo>
                <a:lnTo>
                  <a:pt x="0" y="1744"/>
                </a:lnTo>
                <a:lnTo>
                  <a:pt x="0" y="1725"/>
                </a:lnTo>
                <a:lnTo>
                  <a:pt x="0" y="1722"/>
                </a:lnTo>
                <a:lnTo>
                  <a:pt x="2" y="1722"/>
                </a:lnTo>
                <a:lnTo>
                  <a:pt x="2" y="1720"/>
                </a:lnTo>
                <a:lnTo>
                  <a:pt x="5" y="1720"/>
                </a:lnTo>
                <a:lnTo>
                  <a:pt x="7" y="1720"/>
                </a:lnTo>
                <a:lnTo>
                  <a:pt x="7" y="1722"/>
                </a:lnTo>
                <a:lnTo>
                  <a:pt x="7" y="1722"/>
                </a:lnTo>
                <a:lnTo>
                  <a:pt x="7" y="1725"/>
                </a:lnTo>
                <a:lnTo>
                  <a:pt x="7" y="1725"/>
                </a:lnTo>
                <a:close/>
                <a:moveTo>
                  <a:pt x="7" y="1771"/>
                </a:moveTo>
                <a:lnTo>
                  <a:pt x="7" y="1791"/>
                </a:lnTo>
                <a:lnTo>
                  <a:pt x="7" y="1793"/>
                </a:lnTo>
                <a:lnTo>
                  <a:pt x="7" y="1793"/>
                </a:lnTo>
                <a:lnTo>
                  <a:pt x="7" y="1795"/>
                </a:lnTo>
                <a:lnTo>
                  <a:pt x="5" y="1795"/>
                </a:lnTo>
                <a:lnTo>
                  <a:pt x="2" y="1795"/>
                </a:lnTo>
                <a:lnTo>
                  <a:pt x="2" y="1793"/>
                </a:lnTo>
                <a:lnTo>
                  <a:pt x="0" y="1793"/>
                </a:lnTo>
                <a:lnTo>
                  <a:pt x="0" y="1791"/>
                </a:lnTo>
                <a:lnTo>
                  <a:pt x="0" y="1771"/>
                </a:lnTo>
                <a:lnTo>
                  <a:pt x="0" y="1769"/>
                </a:lnTo>
                <a:lnTo>
                  <a:pt x="2" y="1769"/>
                </a:lnTo>
                <a:lnTo>
                  <a:pt x="2" y="1767"/>
                </a:lnTo>
                <a:lnTo>
                  <a:pt x="5" y="1767"/>
                </a:lnTo>
                <a:lnTo>
                  <a:pt x="7" y="1767"/>
                </a:lnTo>
                <a:lnTo>
                  <a:pt x="7" y="1769"/>
                </a:lnTo>
                <a:lnTo>
                  <a:pt x="7" y="1769"/>
                </a:lnTo>
                <a:lnTo>
                  <a:pt x="7" y="1771"/>
                </a:lnTo>
                <a:lnTo>
                  <a:pt x="7" y="1771"/>
                </a:lnTo>
                <a:close/>
                <a:moveTo>
                  <a:pt x="7" y="1818"/>
                </a:moveTo>
                <a:lnTo>
                  <a:pt x="7" y="1837"/>
                </a:lnTo>
                <a:lnTo>
                  <a:pt x="7" y="1840"/>
                </a:lnTo>
                <a:lnTo>
                  <a:pt x="7" y="1840"/>
                </a:lnTo>
                <a:lnTo>
                  <a:pt x="7" y="1840"/>
                </a:lnTo>
                <a:lnTo>
                  <a:pt x="5" y="1842"/>
                </a:lnTo>
                <a:lnTo>
                  <a:pt x="2" y="1840"/>
                </a:lnTo>
                <a:lnTo>
                  <a:pt x="2" y="1840"/>
                </a:lnTo>
                <a:lnTo>
                  <a:pt x="0" y="1840"/>
                </a:lnTo>
                <a:lnTo>
                  <a:pt x="0" y="1837"/>
                </a:lnTo>
                <a:lnTo>
                  <a:pt x="0" y="1818"/>
                </a:lnTo>
                <a:lnTo>
                  <a:pt x="0" y="1816"/>
                </a:lnTo>
                <a:lnTo>
                  <a:pt x="2" y="1816"/>
                </a:lnTo>
                <a:lnTo>
                  <a:pt x="2" y="1814"/>
                </a:lnTo>
                <a:lnTo>
                  <a:pt x="5" y="1814"/>
                </a:lnTo>
                <a:lnTo>
                  <a:pt x="7" y="1814"/>
                </a:lnTo>
                <a:lnTo>
                  <a:pt x="7" y="1816"/>
                </a:lnTo>
                <a:lnTo>
                  <a:pt x="7" y="1816"/>
                </a:lnTo>
                <a:lnTo>
                  <a:pt x="7" y="1818"/>
                </a:lnTo>
                <a:lnTo>
                  <a:pt x="7" y="1818"/>
                </a:lnTo>
                <a:close/>
                <a:moveTo>
                  <a:pt x="7" y="1865"/>
                </a:moveTo>
                <a:lnTo>
                  <a:pt x="7" y="1884"/>
                </a:lnTo>
                <a:lnTo>
                  <a:pt x="7" y="1886"/>
                </a:lnTo>
                <a:lnTo>
                  <a:pt x="7" y="1886"/>
                </a:lnTo>
                <a:lnTo>
                  <a:pt x="7" y="1886"/>
                </a:lnTo>
                <a:lnTo>
                  <a:pt x="5" y="1886"/>
                </a:lnTo>
                <a:lnTo>
                  <a:pt x="2" y="1886"/>
                </a:lnTo>
                <a:lnTo>
                  <a:pt x="2" y="1886"/>
                </a:lnTo>
                <a:lnTo>
                  <a:pt x="0" y="1886"/>
                </a:lnTo>
                <a:lnTo>
                  <a:pt x="0" y="1884"/>
                </a:lnTo>
                <a:lnTo>
                  <a:pt x="0" y="1865"/>
                </a:lnTo>
                <a:lnTo>
                  <a:pt x="0" y="1863"/>
                </a:lnTo>
                <a:lnTo>
                  <a:pt x="2" y="1861"/>
                </a:lnTo>
                <a:lnTo>
                  <a:pt x="2" y="1861"/>
                </a:lnTo>
                <a:lnTo>
                  <a:pt x="5" y="1861"/>
                </a:lnTo>
                <a:lnTo>
                  <a:pt x="7" y="1861"/>
                </a:lnTo>
                <a:lnTo>
                  <a:pt x="7" y="1861"/>
                </a:lnTo>
                <a:lnTo>
                  <a:pt x="7" y="1863"/>
                </a:lnTo>
                <a:lnTo>
                  <a:pt x="7" y="1865"/>
                </a:lnTo>
                <a:lnTo>
                  <a:pt x="7" y="1865"/>
                </a:lnTo>
                <a:close/>
                <a:moveTo>
                  <a:pt x="7" y="1910"/>
                </a:moveTo>
                <a:lnTo>
                  <a:pt x="7" y="1918"/>
                </a:lnTo>
                <a:lnTo>
                  <a:pt x="7" y="1918"/>
                </a:lnTo>
                <a:lnTo>
                  <a:pt x="7" y="1920"/>
                </a:lnTo>
                <a:lnTo>
                  <a:pt x="7" y="1920"/>
                </a:lnTo>
                <a:lnTo>
                  <a:pt x="5" y="1920"/>
                </a:lnTo>
                <a:lnTo>
                  <a:pt x="2" y="1920"/>
                </a:lnTo>
                <a:lnTo>
                  <a:pt x="2" y="1920"/>
                </a:lnTo>
                <a:lnTo>
                  <a:pt x="0" y="1918"/>
                </a:lnTo>
                <a:lnTo>
                  <a:pt x="0" y="1918"/>
                </a:lnTo>
                <a:lnTo>
                  <a:pt x="0" y="1910"/>
                </a:lnTo>
                <a:lnTo>
                  <a:pt x="0" y="1910"/>
                </a:lnTo>
                <a:lnTo>
                  <a:pt x="2" y="1908"/>
                </a:lnTo>
                <a:lnTo>
                  <a:pt x="2" y="1908"/>
                </a:lnTo>
                <a:lnTo>
                  <a:pt x="5" y="1908"/>
                </a:lnTo>
                <a:lnTo>
                  <a:pt x="7" y="1908"/>
                </a:lnTo>
                <a:lnTo>
                  <a:pt x="7" y="1908"/>
                </a:lnTo>
                <a:lnTo>
                  <a:pt x="7" y="1910"/>
                </a:lnTo>
                <a:lnTo>
                  <a:pt x="7" y="1910"/>
                </a:lnTo>
                <a:lnTo>
                  <a:pt x="7" y="191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6120" y="2008080"/>
            <a:ext cx="72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upa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76960" y="2008080"/>
            <a:ext cx="107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dava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10160" y="2008080"/>
            <a:ext cx="49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26080" y="1905120"/>
            <a:ext cx="112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avlja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4680" y="1938240"/>
            <a:ext cx="169920" cy="168480"/>
          </a:xfrm>
          <a:custGeom>
            <a:avLst/>
            <a:gdLst/>
            <a:ahLst/>
            <a:rect l="l" t="t" r="r" b="b"/>
            <a:pathLst>
              <a:path w="107" h="106">
                <a:moveTo>
                  <a:pt x="54" y="0"/>
                </a:moveTo>
                <a:lnTo>
                  <a:pt x="47" y="0"/>
                </a:lnTo>
                <a:lnTo>
                  <a:pt x="43" y="0"/>
                </a:lnTo>
                <a:lnTo>
                  <a:pt x="32" y="2"/>
                </a:lnTo>
                <a:lnTo>
                  <a:pt x="24" y="8"/>
                </a:lnTo>
                <a:lnTo>
                  <a:pt x="15" y="15"/>
                </a:lnTo>
                <a:lnTo>
                  <a:pt x="9" y="23"/>
                </a:lnTo>
                <a:lnTo>
                  <a:pt x="5" y="32"/>
                </a:lnTo>
                <a:lnTo>
                  <a:pt x="0" y="40"/>
                </a:lnTo>
                <a:lnTo>
                  <a:pt x="0" y="47"/>
                </a:lnTo>
                <a:lnTo>
                  <a:pt x="0" y="53"/>
                </a:lnTo>
                <a:lnTo>
                  <a:pt x="0" y="57"/>
                </a:lnTo>
                <a:lnTo>
                  <a:pt x="0" y="64"/>
                </a:lnTo>
                <a:lnTo>
                  <a:pt x="5" y="72"/>
                </a:lnTo>
                <a:lnTo>
                  <a:pt x="9" y="83"/>
                </a:lnTo>
                <a:lnTo>
                  <a:pt x="15" y="89"/>
                </a:lnTo>
                <a:lnTo>
                  <a:pt x="24" y="96"/>
                </a:lnTo>
                <a:lnTo>
                  <a:pt x="32" y="102"/>
                </a:lnTo>
                <a:lnTo>
                  <a:pt x="43" y="104"/>
                </a:lnTo>
                <a:lnTo>
                  <a:pt x="47" y="104"/>
                </a:lnTo>
                <a:lnTo>
                  <a:pt x="54" y="106"/>
                </a:lnTo>
                <a:lnTo>
                  <a:pt x="58" y="104"/>
                </a:lnTo>
                <a:lnTo>
                  <a:pt x="64" y="104"/>
                </a:lnTo>
                <a:lnTo>
                  <a:pt x="75" y="102"/>
                </a:lnTo>
                <a:lnTo>
                  <a:pt x="83" y="96"/>
                </a:lnTo>
                <a:lnTo>
                  <a:pt x="92" y="89"/>
                </a:lnTo>
                <a:lnTo>
                  <a:pt x="98" y="83"/>
                </a:lnTo>
                <a:lnTo>
                  <a:pt x="103" y="72"/>
                </a:lnTo>
                <a:lnTo>
                  <a:pt x="105" y="64"/>
                </a:lnTo>
                <a:lnTo>
                  <a:pt x="107" y="57"/>
                </a:lnTo>
                <a:lnTo>
                  <a:pt x="107" y="53"/>
                </a:lnTo>
                <a:lnTo>
                  <a:pt x="107" y="47"/>
                </a:lnTo>
                <a:lnTo>
                  <a:pt x="105" y="40"/>
                </a:lnTo>
                <a:lnTo>
                  <a:pt x="103" y="32"/>
                </a:lnTo>
                <a:lnTo>
                  <a:pt x="98" y="23"/>
                </a:lnTo>
                <a:lnTo>
                  <a:pt x="92" y="15"/>
                </a:lnTo>
                <a:lnTo>
                  <a:pt x="83" y="8"/>
                </a:lnTo>
                <a:lnTo>
                  <a:pt x="75" y="2"/>
                </a:lnTo>
                <a:lnTo>
                  <a:pt x="64" y="0"/>
                </a:lnTo>
                <a:lnTo>
                  <a:pt x="58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44680" y="1938240"/>
            <a:ext cx="169920" cy="168480"/>
          </a:xfrm>
          <a:custGeom>
            <a:avLst/>
            <a:gdLst/>
            <a:ahLst/>
            <a:rect l="l" t="t" r="r" b="b"/>
            <a:pathLst>
              <a:path w="107" h="106">
                <a:moveTo>
                  <a:pt x="54" y="0"/>
                </a:moveTo>
                <a:lnTo>
                  <a:pt x="47" y="0"/>
                </a:lnTo>
                <a:lnTo>
                  <a:pt x="43" y="0"/>
                </a:lnTo>
                <a:lnTo>
                  <a:pt x="32" y="2"/>
                </a:lnTo>
                <a:lnTo>
                  <a:pt x="24" y="8"/>
                </a:lnTo>
                <a:lnTo>
                  <a:pt x="15" y="15"/>
                </a:lnTo>
                <a:lnTo>
                  <a:pt x="9" y="23"/>
                </a:lnTo>
                <a:lnTo>
                  <a:pt x="5" y="32"/>
                </a:lnTo>
                <a:lnTo>
                  <a:pt x="0" y="40"/>
                </a:lnTo>
                <a:lnTo>
                  <a:pt x="0" y="47"/>
                </a:lnTo>
                <a:lnTo>
                  <a:pt x="0" y="53"/>
                </a:lnTo>
                <a:lnTo>
                  <a:pt x="0" y="57"/>
                </a:lnTo>
                <a:lnTo>
                  <a:pt x="0" y="64"/>
                </a:lnTo>
                <a:lnTo>
                  <a:pt x="5" y="72"/>
                </a:lnTo>
                <a:lnTo>
                  <a:pt x="9" y="83"/>
                </a:lnTo>
                <a:lnTo>
                  <a:pt x="15" y="89"/>
                </a:lnTo>
                <a:lnTo>
                  <a:pt x="24" y="96"/>
                </a:lnTo>
                <a:lnTo>
                  <a:pt x="32" y="102"/>
                </a:lnTo>
                <a:lnTo>
                  <a:pt x="43" y="104"/>
                </a:lnTo>
                <a:lnTo>
                  <a:pt x="47" y="104"/>
                </a:lnTo>
                <a:lnTo>
                  <a:pt x="54" y="106"/>
                </a:lnTo>
                <a:lnTo>
                  <a:pt x="58" y="104"/>
                </a:lnTo>
                <a:lnTo>
                  <a:pt x="64" y="104"/>
                </a:lnTo>
                <a:lnTo>
                  <a:pt x="75" y="102"/>
                </a:lnTo>
                <a:lnTo>
                  <a:pt x="83" y="96"/>
                </a:lnTo>
                <a:lnTo>
                  <a:pt x="92" y="89"/>
                </a:lnTo>
                <a:lnTo>
                  <a:pt x="98" y="83"/>
                </a:lnTo>
                <a:lnTo>
                  <a:pt x="103" y="72"/>
                </a:lnTo>
                <a:lnTo>
                  <a:pt x="105" y="64"/>
                </a:lnTo>
                <a:lnTo>
                  <a:pt x="107" y="57"/>
                </a:lnTo>
                <a:lnTo>
                  <a:pt x="107" y="53"/>
                </a:lnTo>
                <a:lnTo>
                  <a:pt x="107" y="47"/>
                </a:lnTo>
                <a:lnTo>
                  <a:pt x="105" y="40"/>
                </a:lnTo>
                <a:lnTo>
                  <a:pt x="103" y="32"/>
                </a:lnTo>
                <a:lnTo>
                  <a:pt x="98" y="23"/>
                </a:lnTo>
                <a:lnTo>
                  <a:pt x="92" y="15"/>
                </a:lnTo>
                <a:lnTo>
                  <a:pt x="83" y="8"/>
                </a:lnTo>
                <a:lnTo>
                  <a:pt x="75" y="2"/>
                </a:lnTo>
                <a:lnTo>
                  <a:pt x="64" y="0"/>
                </a:lnTo>
                <a:lnTo>
                  <a:pt x="58" y="0"/>
                </a:lnTo>
                <a:lnTo>
                  <a:pt x="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86080" y="2100240"/>
            <a:ext cx="83880" cy="514440"/>
          </a:xfrm>
          <a:custGeom>
            <a:avLst/>
            <a:gdLst/>
            <a:ahLst/>
            <a:rect l="l" t="t" r="r" b="b"/>
            <a:pathLst>
              <a:path w="53" h="324">
                <a:moveTo>
                  <a:pt x="30" y="4"/>
                </a:moveTo>
                <a:lnTo>
                  <a:pt x="30" y="279"/>
                </a:lnTo>
                <a:lnTo>
                  <a:pt x="30" y="279"/>
                </a:lnTo>
                <a:lnTo>
                  <a:pt x="30" y="281"/>
                </a:lnTo>
                <a:lnTo>
                  <a:pt x="28" y="281"/>
                </a:lnTo>
                <a:lnTo>
                  <a:pt x="25" y="281"/>
                </a:lnTo>
                <a:lnTo>
                  <a:pt x="23" y="279"/>
                </a:lnTo>
                <a:lnTo>
                  <a:pt x="23" y="279"/>
                </a:lnTo>
                <a:lnTo>
                  <a:pt x="23" y="4"/>
                </a:lnTo>
                <a:lnTo>
                  <a:pt x="23" y="2"/>
                </a:lnTo>
                <a:lnTo>
                  <a:pt x="25" y="0"/>
                </a:lnTo>
                <a:lnTo>
                  <a:pt x="25" y="0"/>
                </a:lnTo>
                <a:lnTo>
                  <a:pt x="28" y="0"/>
                </a:lnTo>
                <a:lnTo>
                  <a:pt x="30" y="0"/>
                </a:lnTo>
                <a:lnTo>
                  <a:pt x="30" y="0"/>
                </a:lnTo>
                <a:lnTo>
                  <a:pt x="30" y="2"/>
                </a:lnTo>
                <a:lnTo>
                  <a:pt x="30" y="4"/>
                </a:lnTo>
                <a:lnTo>
                  <a:pt x="30" y="4"/>
                </a:lnTo>
                <a:close/>
                <a:moveTo>
                  <a:pt x="53" y="270"/>
                </a:moveTo>
                <a:lnTo>
                  <a:pt x="28" y="324"/>
                </a:lnTo>
                <a:lnTo>
                  <a:pt x="0" y="270"/>
                </a:lnTo>
                <a:lnTo>
                  <a:pt x="53" y="27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95640" y="16606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08800" y="200808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057400" y="2438280"/>
            <a:ext cx="609480" cy="2971800"/>
            <a:chOff x="2057400" y="2438280"/>
            <a:chExt cx="609480" cy="2971800"/>
          </a:xfrm>
        </p:grpSpPr>
        <p:sp>
          <p:nvSpPr>
            <p:cNvPr id="403" name=""/>
            <p:cNvSpPr/>
            <p:nvPr/>
          </p:nvSpPr>
          <p:spPr>
            <a:xfrm>
              <a:off x="2057400" y="2438280"/>
              <a:ext cx="609480" cy="297180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  <a:effectLst>
              <a:outerShdw dist="17819" dir="2700000" blurRad="0" rotWithShape="0">
                <a:srgbClr val="4251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71160" y="2647800"/>
              <a:ext cx="44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Verdana"/>
                </a:rPr>
                <a:t>Mapping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90600" y="276552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Verdana"/>
                </a:rPr>
                <a:t>Routing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745080" y="2590920"/>
            <a:ext cx="777600" cy="609480"/>
            <a:chOff x="3745080" y="2590920"/>
            <a:chExt cx="777600" cy="609480"/>
          </a:xfrm>
        </p:grpSpPr>
        <p:sp>
          <p:nvSpPr>
            <p:cNvPr id="407" name=""/>
            <p:cNvSpPr/>
            <p:nvPr/>
          </p:nvSpPr>
          <p:spPr>
            <a:xfrm>
              <a:off x="3745080" y="2590920"/>
              <a:ext cx="777600" cy="609480"/>
            </a:xfrm>
            <a:custGeom>
              <a:avLst/>
              <a:gdLst/>
              <a:ahLst/>
              <a:rect l="l" t="t" r="r" b="b"/>
              <a:pathLst>
                <a:path w="586" h="532">
                  <a:moveTo>
                    <a:pt x="145" y="0"/>
                  </a:moveTo>
                  <a:lnTo>
                    <a:pt x="0" y="266"/>
                  </a:lnTo>
                  <a:lnTo>
                    <a:pt x="145" y="532"/>
                  </a:lnTo>
                  <a:lnTo>
                    <a:pt x="439" y="532"/>
                  </a:lnTo>
                  <a:lnTo>
                    <a:pt x="586" y="266"/>
                  </a:lnTo>
                  <a:lnTo>
                    <a:pt x="439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21040" y="27432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40458c"/>
                  </a:solidFill>
                  <a:latin typeface="Arial"/>
                </a:rPr>
                <a:t>Zahtev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90720" y="2666880"/>
            <a:ext cx="1098360" cy="304920"/>
            <a:chOff x="990720" y="2666880"/>
            <a:chExt cx="1098360" cy="304920"/>
          </a:xfrm>
        </p:grpSpPr>
        <p:sp>
          <p:nvSpPr>
            <p:cNvPr id="410" name=""/>
            <p:cNvSpPr/>
            <p:nvPr/>
          </p:nvSpPr>
          <p:spPr>
            <a:xfrm>
              <a:off x="990720" y="2719440"/>
              <a:ext cx="1098360" cy="123840"/>
            </a:xfrm>
            <a:custGeom>
              <a:avLst/>
              <a:gdLst/>
              <a:ahLst/>
              <a:rect l="l" t="t" r="r" b="b"/>
              <a:pathLst>
                <a:path w="692" h="78">
                  <a:moveTo>
                    <a:pt x="0" y="25"/>
                  </a:moveTo>
                  <a:lnTo>
                    <a:pt x="626" y="25"/>
                  </a:lnTo>
                  <a:lnTo>
                    <a:pt x="626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626" y="44"/>
                  </a:lnTo>
                  <a:lnTo>
                    <a:pt x="626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611" y="0"/>
                  </a:moveTo>
                  <a:lnTo>
                    <a:pt x="692" y="40"/>
                  </a:lnTo>
                  <a:lnTo>
                    <a:pt x="611" y="78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54160" y="2666880"/>
              <a:ext cx="609480" cy="304920"/>
            </a:xfrm>
            <a:prstGeom prst="flowChartPredefinedProcess">
              <a:avLst/>
            </a:prstGeom>
            <a:solidFill>
              <a:srgbClr val="ff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40458c"/>
                  </a:solidFill>
                  <a:latin typeface="AvantGarde"/>
                </a:rPr>
                <a:t>Zahtev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700360" y="2565360"/>
            <a:ext cx="1108080" cy="304560"/>
            <a:chOff x="2700360" y="2565360"/>
            <a:chExt cx="1108080" cy="304560"/>
          </a:xfrm>
        </p:grpSpPr>
        <p:sp>
          <p:nvSpPr>
            <p:cNvPr id="413" name=""/>
            <p:cNvSpPr/>
            <p:nvPr/>
          </p:nvSpPr>
          <p:spPr>
            <a:xfrm>
              <a:off x="2700360" y="2693880"/>
              <a:ext cx="1108080" cy="10008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06920" y="2565360"/>
              <a:ext cx="761760" cy="304560"/>
            </a:xfrm>
            <a:prstGeom prst="roundRect">
              <a:avLst>
                <a:gd name="adj" fmla="val 16667"/>
              </a:avLst>
            </a:prstGeom>
            <a:solidFill>
              <a:srgbClr val="c6ccb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40458c"/>
                  </a:solidFill>
                  <a:latin typeface="AvantGarde"/>
                </a:rPr>
                <a:t>Zahtev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430880" y="2590920"/>
            <a:ext cx="1447560" cy="304560"/>
            <a:chOff x="4430880" y="2590920"/>
            <a:chExt cx="1447560" cy="304560"/>
          </a:xfrm>
        </p:grpSpPr>
        <p:sp>
          <p:nvSpPr>
            <p:cNvPr id="416" name=""/>
            <p:cNvSpPr/>
            <p:nvPr/>
          </p:nvSpPr>
          <p:spPr>
            <a:xfrm>
              <a:off x="4430880" y="2719440"/>
              <a:ext cx="1447560" cy="10008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6920" y="2590920"/>
              <a:ext cx="761760" cy="304560"/>
            </a:xfrm>
            <a:prstGeom prst="roundRect">
              <a:avLst>
                <a:gd name="adj" fmla="val 16667"/>
              </a:avLst>
            </a:prstGeom>
            <a:solidFill>
              <a:srgbClr val="c6ccb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vantGarde"/>
                </a:rPr>
                <a:t>RFQ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85800" y="3429000"/>
            <a:ext cx="1403280" cy="304920"/>
            <a:chOff x="685800" y="3429000"/>
            <a:chExt cx="1403280" cy="304920"/>
          </a:xfrm>
        </p:grpSpPr>
        <p:sp>
          <p:nvSpPr>
            <p:cNvPr id="419" name=""/>
            <p:cNvSpPr/>
            <p:nvPr/>
          </p:nvSpPr>
          <p:spPr>
            <a:xfrm>
              <a:off x="685800" y="3557520"/>
              <a:ext cx="1403280" cy="100080"/>
            </a:xfrm>
            <a:custGeom>
              <a:avLst/>
              <a:gdLst/>
              <a:ahLst/>
              <a:rect l="l" t="t" r="r" b="b"/>
              <a:pathLst>
                <a:path w="692" h="78">
                  <a:moveTo>
                    <a:pt x="0" y="25"/>
                  </a:moveTo>
                  <a:lnTo>
                    <a:pt x="626" y="25"/>
                  </a:lnTo>
                  <a:lnTo>
                    <a:pt x="626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626" y="44"/>
                  </a:lnTo>
                  <a:lnTo>
                    <a:pt x="626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611" y="0"/>
                  </a:moveTo>
                  <a:lnTo>
                    <a:pt x="692" y="40"/>
                  </a:lnTo>
                  <a:lnTo>
                    <a:pt x="611" y="78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080" y="3429000"/>
              <a:ext cx="914400" cy="304920"/>
            </a:xfrm>
            <a:prstGeom prst="flowChartPredefinedProcess">
              <a:avLst/>
            </a:prstGeom>
            <a:solidFill>
              <a:srgbClr val="ff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AvantGarde"/>
                </a:rPr>
                <a:t>Narudzb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637000" y="3557520"/>
            <a:ext cx="4830480" cy="100080"/>
          </a:xfrm>
          <a:custGeom>
            <a:avLst/>
            <a:gdLst/>
            <a:ahLst/>
            <a:rect l="l" t="t" r="r" b="b"/>
            <a:pathLst>
              <a:path w="1968" h="78">
                <a:moveTo>
                  <a:pt x="0" y="25"/>
                </a:moveTo>
                <a:lnTo>
                  <a:pt x="1902" y="25"/>
                </a:lnTo>
                <a:lnTo>
                  <a:pt x="1902" y="34"/>
                </a:lnTo>
                <a:lnTo>
                  <a:pt x="0" y="34"/>
                </a:lnTo>
                <a:lnTo>
                  <a:pt x="0" y="25"/>
                </a:lnTo>
                <a:close/>
                <a:moveTo>
                  <a:pt x="0" y="44"/>
                </a:moveTo>
                <a:lnTo>
                  <a:pt x="1902" y="44"/>
                </a:lnTo>
                <a:lnTo>
                  <a:pt x="1902" y="53"/>
                </a:lnTo>
                <a:lnTo>
                  <a:pt x="0" y="53"/>
                </a:lnTo>
                <a:lnTo>
                  <a:pt x="0" y="44"/>
                </a:lnTo>
                <a:close/>
                <a:moveTo>
                  <a:pt x="1887" y="0"/>
                </a:moveTo>
                <a:lnTo>
                  <a:pt x="1968" y="40"/>
                </a:lnTo>
                <a:lnTo>
                  <a:pt x="1887" y="78"/>
                </a:lnTo>
                <a:lnTo>
                  <a:pt x="1887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19520" y="34290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c6ccb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Ord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66880" y="3048120"/>
            <a:ext cx="1219320" cy="75960"/>
          </a:xfrm>
          <a:custGeom>
            <a:avLst/>
            <a:gdLst/>
            <a:ahLst/>
            <a:rect l="l" t="t" r="r" b="b"/>
            <a:pathLst>
              <a:path w="1968" h="78">
                <a:moveTo>
                  <a:pt x="0" y="25"/>
                </a:moveTo>
                <a:lnTo>
                  <a:pt x="1902" y="25"/>
                </a:lnTo>
                <a:lnTo>
                  <a:pt x="1902" y="34"/>
                </a:lnTo>
                <a:lnTo>
                  <a:pt x="0" y="34"/>
                </a:lnTo>
                <a:lnTo>
                  <a:pt x="0" y="25"/>
                </a:lnTo>
                <a:close/>
                <a:moveTo>
                  <a:pt x="0" y="44"/>
                </a:moveTo>
                <a:lnTo>
                  <a:pt x="1902" y="44"/>
                </a:lnTo>
                <a:lnTo>
                  <a:pt x="1902" y="53"/>
                </a:lnTo>
                <a:lnTo>
                  <a:pt x="0" y="53"/>
                </a:lnTo>
                <a:lnTo>
                  <a:pt x="0" y="44"/>
                </a:lnTo>
                <a:close/>
                <a:moveTo>
                  <a:pt x="1887" y="0"/>
                </a:moveTo>
                <a:lnTo>
                  <a:pt x="1968" y="40"/>
                </a:lnTo>
                <a:lnTo>
                  <a:pt x="1887" y="78"/>
                </a:lnTo>
                <a:lnTo>
                  <a:pt x="1887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29718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c6ccb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vantGarde"/>
              </a:rPr>
              <a:t>Ord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62320" y="30481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358128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2320" y="30481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85800" y="4419720"/>
            <a:ext cx="1403280" cy="304560"/>
            <a:chOff x="685800" y="4419720"/>
            <a:chExt cx="1403280" cy="304560"/>
          </a:xfrm>
        </p:grpSpPr>
        <p:sp>
          <p:nvSpPr>
            <p:cNvPr id="429" name=""/>
            <p:cNvSpPr/>
            <p:nvPr/>
          </p:nvSpPr>
          <p:spPr>
            <a:xfrm rot="10800000">
              <a:off x="685800" y="4548240"/>
              <a:ext cx="1403280" cy="100080"/>
            </a:xfrm>
            <a:custGeom>
              <a:avLst/>
              <a:gdLst/>
              <a:ahLst/>
              <a:rect l="l" t="t" r="r" b="b"/>
              <a:pathLst>
                <a:path w="692" h="78">
                  <a:moveTo>
                    <a:pt x="0" y="25"/>
                  </a:moveTo>
                  <a:lnTo>
                    <a:pt x="626" y="25"/>
                  </a:lnTo>
                  <a:lnTo>
                    <a:pt x="626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626" y="44"/>
                  </a:lnTo>
                  <a:lnTo>
                    <a:pt x="626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611" y="0"/>
                  </a:moveTo>
                  <a:lnTo>
                    <a:pt x="692" y="40"/>
                  </a:lnTo>
                  <a:lnTo>
                    <a:pt x="611" y="78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90720" y="4419720"/>
              <a:ext cx="914400" cy="304560"/>
            </a:xfrm>
            <a:prstGeom prst="flowChartPredefinedProcess">
              <a:avLst/>
            </a:prstGeom>
            <a:solidFill>
              <a:srgbClr val="ff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AvantGarde"/>
                </a:rPr>
                <a:t>Raču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553080" y="2514600"/>
            <a:ext cx="1676520" cy="685800"/>
            <a:chOff x="6553080" y="2514600"/>
            <a:chExt cx="1676520" cy="685800"/>
          </a:xfrm>
        </p:grpSpPr>
        <p:grpSp>
          <p:nvGrpSpPr>
            <p:cNvPr id="432" name=""/>
            <p:cNvGrpSpPr/>
            <p:nvPr/>
          </p:nvGrpSpPr>
          <p:grpSpPr>
            <a:xfrm>
              <a:off x="7391520" y="2590920"/>
              <a:ext cx="838080" cy="609480"/>
              <a:chOff x="7391520" y="2590920"/>
              <a:chExt cx="838080" cy="609480"/>
            </a:xfrm>
          </p:grpSpPr>
          <p:sp>
            <p:nvSpPr>
              <p:cNvPr id="433" name=""/>
              <p:cNvSpPr/>
              <p:nvPr/>
            </p:nvSpPr>
            <p:spPr>
              <a:xfrm>
                <a:off x="7391520" y="2590920"/>
                <a:ext cx="777600" cy="609480"/>
              </a:xfrm>
              <a:custGeom>
                <a:avLst/>
                <a:gdLst/>
                <a:ahLst/>
                <a:rect l="l" t="t" r="r" b="b"/>
                <a:pathLst>
                  <a:path w="586" h="532">
                    <a:moveTo>
                      <a:pt x="145" y="0"/>
                    </a:moveTo>
                    <a:lnTo>
                      <a:pt x="0" y="266"/>
                    </a:lnTo>
                    <a:lnTo>
                      <a:pt x="145" y="532"/>
                    </a:lnTo>
                    <a:lnTo>
                      <a:pt x="439" y="532"/>
                    </a:lnTo>
                    <a:lnTo>
                      <a:pt x="586" y="266"/>
                    </a:lnTo>
                    <a:lnTo>
                      <a:pt x="439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391520" y="27432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40458c"/>
                    </a:solidFill>
                    <a:latin typeface="Arial"/>
                  </a:rPr>
                  <a:t>Računi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553080" y="2514600"/>
              <a:ext cx="990720" cy="304920"/>
              <a:chOff x="6553080" y="2514600"/>
              <a:chExt cx="990720" cy="304920"/>
            </a:xfrm>
          </p:grpSpPr>
          <p:sp>
            <p:nvSpPr>
              <p:cNvPr id="436" name=""/>
              <p:cNvSpPr/>
              <p:nvPr/>
            </p:nvSpPr>
            <p:spPr>
              <a:xfrm>
                <a:off x="6553080" y="2666880"/>
                <a:ext cx="990720" cy="76320"/>
              </a:xfrm>
              <a:custGeom>
                <a:avLst/>
                <a:gdLst/>
                <a:ahLst/>
                <a:rect l="l" t="t" r="r" b="b"/>
                <a:pathLst>
                  <a:path w="1968" h="78">
                    <a:moveTo>
                      <a:pt x="0" y="25"/>
                    </a:moveTo>
                    <a:lnTo>
                      <a:pt x="1902" y="25"/>
                    </a:lnTo>
                    <a:lnTo>
                      <a:pt x="1902" y="34"/>
                    </a:lnTo>
                    <a:lnTo>
                      <a:pt x="0" y="34"/>
                    </a:lnTo>
                    <a:lnTo>
                      <a:pt x="0" y="25"/>
                    </a:lnTo>
                    <a:close/>
                    <a:moveTo>
                      <a:pt x="0" y="44"/>
                    </a:moveTo>
                    <a:lnTo>
                      <a:pt x="1902" y="44"/>
                    </a:lnTo>
                    <a:lnTo>
                      <a:pt x="1902" y="53"/>
                    </a:lnTo>
                    <a:lnTo>
                      <a:pt x="0" y="53"/>
                    </a:lnTo>
                    <a:lnTo>
                      <a:pt x="0" y="44"/>
                    </a:lnTo>
                    <a:close/>
                    <a:moveTo>
                      <a:pt x="1887" y="0"/>
                    </a:moveTo>
                    <a:lnTo>
                      <a:pt x="1968" y="40"/>
                    </a:lnTo>
                    <a:lnTo>
                      <a:pt x="1887" y="78"/>
                    </a:lnTo>
                    <a:lnTo>
                      <a:pt x="18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29400" y="2514600"/>
                <a:ext cx="76212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c6ccb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40458c"/>
                    </a:solidFill>
                    <a:latin typeface="AvantGarde"/>
                  </a:rPr>
                  <a:t>Raču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"/>
          <p:cNvSpPr/>
          <p:nvPr/>
        </p:nvSpPr>
        <p:spPr>
          <a:xfrm>
            <a:off x="1295280" y="5638680"/>
            <a:ext cx="693432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124080" y="3200400"/>
            <a:ext cx="1676520" cy="3352680"/>
            <a:chOff x="3124080" y="3200400"/>
            <a:chExt cx="1676520" cy="3352680"/>
          </a:xfrm>
        </p:grpSpPr>
        <p:sp>
          <p:nvSpPr>
            <p:cNvPr id="440" name=""/>
            <p:cNvSpPr/>
            <p:nvPr/>
          </p:nvSpPr>
          <p:spPr>
            <a:xfrm>
              <a:off x="3124080" y="6172200"/>
              <a:ext cx="1676520" cy="380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vantGarde"/>
                </a:rPr>
                <a:t>SalesTax.co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2590560" y="4647960"/>
              <a:ext cx="2971800" cy="7632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934320" y="3048120"/>
            <a:ext cx="1904760" cy="3504960"/>
            <a:chOff x="6934320" y="3048120"/>
            <a:chExt cx="1904760" cy="3504960"/>
          </a:xfrm>
        </p:grpSpPr>
        <p:sp>
          <p:nvSpPr>
            <p:cNvPr id="443" name=""/>
            <p:cNvSpPr/>
            <p:nvPr/>
          </p:nvSpPr>
          <p:spPr>
            <a:xfrm>
              <a:off x="6934320" y="6172200"/>
              <a:ext cx="1904760" cy="380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vantGarde"/>
                </a:rPr>
                <a:t>CreditCheck.co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6934320" y="4572000"/>
              <a:ext cx="3124080" cy="7632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77320" y="3048120"/>
              <a:ext cx="4572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666520" y="3429000"/>
            <a:ext cx="5639400" cy="1676520"/>
            <a:chOff x="2666520" y="3429000"/>
            <a:chExt cx="5639400" cy="1676520"/>
          </a:xfrm>
        </p:grpSpPr>
        <p:grpSp>
          <p:nvGrpSpPr>
            <p:cNvPr id="447" name=""/>
            <p:cNvGrpSpPr/>
            <p:nvPr/>
          </p:nvGrpSpPr>
          <p:grpSpPr>
            <a:xfrm>
              <a:off x="7391520" y="3429000"/>
              <a:ext cx="777600" cy="609480"/>
              <a:chOff x="7391520" y="3429000"/>
              <a:chExt cx="777600" cy="609480"/>
            </a:xfrm>
          </p:grpSpPr>
          <p:sp>
            <p:nvSpPr>
              <p:cNvPr id="448" name=""/>
              <p:cNvSpPr/>
              <p:nvPr/>
            </p:nvSpPr>
            <p:spPr>
              <a:xfrm>
                <a:off x="7391520" y="3429000"/>
                <a:ext cx="777600" cy="609480"/>
              </a:xfrm>
              <a:custGeom>
                <a:avLst/>
                <a:gdLst/>
                <a:ahLst/>
                <a:rect l="l" t="t" r="r" b="b"/>
                <a:pathLst>
                  <a:path w="586" h="532">
                    <a:moveTo>
                      <a:pt x="145" y="0"/>
                    </a:moveTo>
                    <a:lnTo>
                      <a:pt x="0" y="266"/>
                    </a:lnTo>
                    <a:lnTo>
                      <a:pt x="145" y="532"/>
                    </a:lnTo>
                    <a:lnTo>
                      <a:pt x="439" y="532"/>
                    </a:lnTo>
                    <a:lnTo>
                      <a:pt x="586" y="266"/>
                    </a:lnTo>
                    <a:lnTo>
                      <a:pt x="439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467480" y="3581280"/>
                <a:ext cx="60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0458c"/>
                    </a:solidFill>
                    <a:latin typeface="Arial"/>
                  </a:rPr>
                  <a:t>Orders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7391520" y="4495680"/>
              <a:ext cx="777600" cy="609840"/>
            </a:xfrm>
            <a:custGeom>
              <a:avLst/>
              <a:gdLst/>
              <a:ahLst/>
              <a:rect l="l" t="t" r="r" b="b"/>
              <a:pathLst>
                <a:path w="586" h="532">
                  <a:moveTo>
                    <a:pt x="145" y="0"/>
                  </a:moveTo>
                  <a:lnTo>
                    <a:pt x="0" y="266"/>
                  </a:lnTo>
                  <a:lnTo>
                    <a:pt x="145" y="532"/>
                  </a:lnTo>
                  <a:lnTo>
                    <a:pt x="439" y="532"/>
                  </a:lnTo>
                  <a:lnTo>
                    <a:pt x="586" y="266"/>
                  </a:lnTo>
                  <a:lnTo>
                    <a:pt x="439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67480" y="464832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</a:rPr>
                <a:t>Billin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5400000">
              <a:off x="7505640" y="4228920"/>
              <a:ext cx="457200" cy="7632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0800000">
              <a:off x="2666520" y="4572000"/>
              <a:ext cx="4830840" cy="100080"/>
            </a:xfrm>
            <a:custGeom>
              <a:avLst/>
              <a:gdLst/>
              <a:ahLst/>
              <a:rect l="l" t="t" r="r" b="b"/>
              <a:pathLst>
                <a:path w="1968" h="78">
                  <a:moveTo>
                    <a:pt x="0" y="25"/>
                  </a:moveTo>
                  <a:lnTo>
                    <a:pt x="1902" y="25"/>
                  </a:lnTo>
                  <a:lnTo>
                    <a:pt x="1902" y="34"/>
                  </a:lnTo>
                  <a:lnTo>
                    <a:pt x="0" y="34"/>
                  </a:lnTo>
                  <a:lnTo>
                    <a:pt x="0" y="25"/>
                  </a:lnTo>
                  <a:close/>
                  <a:moveTo>
                    <a:pt x="0" y="44"/>
                  </a:moveTo>
                  <a:lnTo>
                    <a:pt x="1902" y="44"/>
                  </a:lnTo>
                  <a:lnTo>
                    <a:pt x="1902" y="53"/>
                  </a:lnTo>
                  <a:lnTo>
                    <a:pt x="0" y="53"/>
                  </a:lnTo>
                  <a:lnTo>
                    <a:pt x="0" y="44"/>
                  </a:lnTo>
                  <a:close/>
                  <a:moveTo>
                    <a:pt x="1887" y="0"/>
                  </a:moveTo>
                  <a:lnTo>
                    <a:pt x="1968" y="40"/>
                  </a:lnTo>
                  <a:lnTo>
                    <a:pt x="1887" y="78"/>
                  </a:lnTo>
                  <a:lnTo>
                    <a:pt x="188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29400" y="4495680"/>
              <a:ext cx="762120" cy="304920"/>
            </a:xfrm>
            <a:prstGeom prst="roundRect">
              <a:avLst>
                <a:gd name="adj" fmla="val 16667"/>
              </a:avLst>
            </a:prstGeom>
            <a:solidFill>
              <a:srgbClr val="c6ccb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vantGarde"/>
                </a:rPr>
                <a:t>Invoic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43800" y="4114800"/>
              <a:ext cx="762120" cy="304920"/>
            </a:xfrm>
            <a:prstGeom prst="roundRect">
              <a:avLst>
                <a:gd name="adj" fmla="val 16667"/>
              </a:avLst>
            </a:prstGeom>
            <a:solidFill>
              <a:srgbClr val="c6ccb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vantGarde"/>
                </a:rPr>
                <a:t>Sale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vantGarde"/>
                </a:rPr>
                <a:t>Orde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427640" y="2060640"/>
            <a:ext cx="4267080" cy="3657600"/>
            <a:chOff x="4427640" y="2060640"/>
            <a:chExt cx="4267080" cy="3657600"/>
          </a:xfrm>
        </p:grpSpPr>
        <p:sp>
          <p:nvSpPr>
            <p:cNvPr id="457" name=""/>
            <p:cNvSpPr/>
            <p:nvPr/>
          </p:nvSpPr>
          <p:spPr>
            <a:xfrm>
              <a:off x="4427640" y="2060640"/>
              <a:ext cx="1371600" cy="1447920"/>
            </a:xfrm>
            <a:prstGeom prst="irregularSeal1">
              <a:avLst/>
            </a:prstGeom>
            <a:solidFill>
              <a:srgbClr val="00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ff"/>
                  </a:solidFill>
                  <a:latin typeface="Arial"/>
                </a:rPr>
                <a:t>Dogadjaj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89600" y="4041720"/>
              <a:ext cx="1905120" cy="1676520"/>
            </a:xfrm>
            <a:prstGeom prst="irregularSeal1">
              <a:avLst/>
            </a:prstGeom>
            <a:solidFill>
              <a:srgbClr val="00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sr-Latn-CS" sz="1800" spc="-1" strike="noStrike">
                  <a:solidFill>
                    <a:srgbClr val="ffffff"/>
                  </a:solidFill>
                  <a:latin typeface="Arial"/>
                </a:rPr>
                <a:t>ktivnos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590920" y="3429000"/>
            <a:ext cx="1295280" cy="1295280"/>
          </a:xfrm>
          <a:prstGeom prst="flowChartDocument">
            <a:avLst/>
          </a:prstGeom>
          <a:solidFill>
            <a:srgbClr val="00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vantGarde"/>
              </a:rPr>
              <a:t>Entite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ffffff"/>
                </a:solidFill>
                <a:latin typeface="AvantGarde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AvantGarde"/>
              </a:rPr>
              <a:t>Inform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vantGarde"/>
              </a:rPr>
              <a:t>Entity</a:t>
            </a:r>
            <a:r>
              <a:rPr b="1" i="1" lang="sr-Latn-CS" sz="1400" spc="-1" strike="noStrike">
                <a:solidFill>
                  <a:srgbClr val="ffffff"/>
                </a:solidFill>
                <a:latin typeface="AvantGarde"/>
              </a:rPr>
              <a:t>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Kostandin Dimitrijevic</cp:lastModifiedBy>
  <dcterms:modified xsi:type="dcterms:W3CDTF">2007-06-18T11:36:04Z</dcterms:modified>
  <cp:revision>358</cp:revision>
  <dc:subject/>
  <dc:title>Modelovanje poslovnih procesa</dc:title>
</cp:coreProperties>
</file>