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1134-51CC-4DBC-B365-116E191908C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bette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749-63B2-4970-A6A4-8031070D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393-B374-45FB-A9F0-E9608B69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FE1-2226-481E-9160-82771CFC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606-3CAD-4960-97F8-4666A181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410E-689A-4D71-961B-A980054D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5271-F8E3-4682-A454-5B80EC44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679B-D0E2-42A1-A8D3-856B4D7B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0387-C921-4A1F-BAA5-3D5F2456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BD3D-EFC6-4342-8FAD-4B390A76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4AC6-E098-4142-A540-BB37F3BE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F2C2-DF7D-4E3B-AFC3-AC0D5248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2CC-9CB5-417A-B91E-41EF5D20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BBE9-5419-44F3-88A6-B222E0D9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5649-3C04-4B52-866F-BD8359A0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25B4-9FBF-4ABF-AD8F-F696EC0A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116B-CFC9-49D5-87B5-63F4A414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8284-183A-44FF-A3D3-45827F65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45E-5C15-4510-87BF-1DF9895F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8AB-1781-4838-B3CF-900C539F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5B8-C098-4F02-A2F8-82F624A2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7A4-AA89-47A2-8453-18D9CC38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BF0-C535-45F4-9199-3F6CA6D1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421-93DE-4FD5-82D3-83FE4F8F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264-FCCA-49D0-A6EE-3DA13ABB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0B11-3DAF-4E17-9BC1-E9DE954A49E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73CA-FAF9-4D77-9498-A87846A86C2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9.png"/><Relationship Id="rId13" Type="http://schemas.openxmlformats.org/officeDocument/2006/relationships/image" Target="../media/image14.png"/><Relationship Id="rId14" Type="http://schemas.openxmlformats.org/officeDocument/2006/relationships/image" Target="../media/image10.png"/><Relationship Id="rId15" Type="http://schemas.openxmlformats.org/officeDocument/2006/relationships/image" Target="../media/image13.png"/><Relationship Id="rId16" Type="http://schemas.openxmlformats.org/officeDocument/2006/relationships/image" Target="../media/image12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7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30.png"/><Relationship Id="rId8" Type="http://schemas.openxmlformats.org/officeDocument/2006/relationships/image" Target="../media/image16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19.png"/><Relationship Id="rId13" Type="http://schemas.openxmlformats.org/officeDocument/2006/relationships/image" Target="../media/image22.png"/><Relationship Id="rId14" Type="http://schemas.openxmlformats.org/officeDocument/2006/relationships/image" Target="../media/image27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image" Target="../media/image25.png"/><Relationship Id="rId8" Type="http://schemas.openxmlformats.org/officeDocument/2006/relationships/image" Target="../media/image27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2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7.png"/><Relationship Id="rId9" Type="http://schemas.openxmlformats.org/officeDocument/2006/relationships/image" Target="../media/image21.png"/><Relationship Id="rId10" Type="http://schemas.openxmlformats.org/officeDocument/2006/relationships/image" Target="../media/image8.png"/><Relationship Id="rId11" Type="http://schemas.openxmlformats.org/officeDocument/2006/relationships/image" Target="../media/image27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15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40458c"/>
                </a:solidFill>
                <a:latin typeface="Tahoma"/>
              </a:rPr>
              <a:t>Modelovanje poslovnih proces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692360" y="5589720"/>
            <a:ext cx="64008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3213000"/>
            <a:ext cx="84978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usiness Process Execution Language</a:t>
            </a:r>
            <a:br>
              <a:rPr sz="36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BPEL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Kao osnovnu koristi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ervi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tandar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vaki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BPEL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1" lang="sr-Latn-CS" sz="2800" spc="-1" strike="noStrike">
                <a:solidFill>
                  <a:srgbClr val="ecd882"/>
                </a:solidFill>
                <a:latin typeface="Tahoma"/>
              </a:rPr>
              <a:t>predstavlja kao </a:t>
            </a:r>
            <a:r>
              <a:rPr b="1" lang="en-US" sz="2800" spc="-1" strike="noStrike">
                <a:solidFill>
                  <a:srgbClr val="ecd882"/>
                </a:solidFill>
                <a:latin typeface="Tahoma"/>
              </a:rPr>
              <a:t>web servi</a:t>
            </a:r>
            <a:r>
              <a:rPr b="1" lang="sr-Latn-CS" sz="2800" spc="-1" strike="noStrike">
                <a:solidFill>
                  <a:srgbClr val="ecd882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išenjem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WSDL. WSDL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pisuje javne ulazne i izlaze tačke proce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d882"/>
                </a:solidFill>
                <a:latin typeface="Tahoma"/>
              </a:rPr>
              <a:t>Inter</a:t>
            </a:r>
            <a:r>
              <a:rPr b="1" lang="sr-Latn-CS" sz="2800" spc="-1" strike="noStrike">
                <a:solidFill>
                  <a:srgbClr val="ecd882"/>
                </a:solidFill>
                <a:latin typeface="Tahoma"/>
              </a:rPr>
              <a:t>akcija preko </a:t>
            </a:r>
            <a:r>
              <a:rPr b="1" lang="en-US" sz="2800" spc="-1" strike="noStrike">
                <a:solidFill>
                  <a:srgbClr val="ecd882"/>
                </a:solidFill>
                <a:latin typeface="Tahoma"/>
              </a:rPr>
              <a:t>WSDL interf</a:t>
            </a:r>
            <a:r>
              <a:rPr b="1" lang="sr-Latn-CS" sz="2800" spc="-1" strike="noStrike">
                <a:solidFill>
                  <a:srgbClr val="ecd882"/>
                </a:solidFill>
                <a:latin typeface="Tahoma"/>
              </a:rPr>
              <a:t>ejs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a eksternim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web servi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i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d882"/>
                </a:solidFill>
                <a:latin typeface="Tahoma"/>
              </a:rPr>
              <a:t>WSDL </a:t>
            </a:r>
            <a:r>
              <a:rPr b="1" lang="sr-Latn-CS" sz="2800" spc="-1" strike="noStrike">
                <a:solidFill>
                  <a:srgbClr val="ecd882"/>
                </a:solidFill>
                <a:latin typeface="Tahoma"/>
              </a:rPr>
              <a:t>tipovi podataka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iste za opis tokova informacija u okviru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PEL proces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132000" y="1989000"/>
            <a:ext cx="2880000" cy="2352960"/>
          </a:xfrm>
          <a:prstGeom prst="rect">
            <a:avLst/>
          </a:prstGeom>
          <a:solidFill>
            <a:srgbClr val="6f89f7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64000" y="2276640"/>
            <a:ext cx="2016000" cy="1800000"/>
          </a:xfrm>
          <a:prstGeom prst="roundRect">
            <a:avLst>
              <a:gd name="adj" fmla="val 3088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637080" y="2349360"/>
            <a:ext cx="190440" cy="190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589800" y="1989000"/>
            <a:ext cx="1006560" cy="2352960"/>
          </a:xfrm>
          <a:prstGeom prst="rect">
            <a:avLst/>
          </a:prstGeom>
          <a:solidFill>
            <a:srgbClr val="6f89f7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47640" y="1989000"/>
            <a:ext cx="1008360" cy="2352960"/>
          </a:xfrm>
          <a:prstGeom prst="rect">
            <a:avLst/>
          </a:prstGeom>
          <a:solidFill>
            <a:srgbClr val="6f89f7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Cloud"/>
          <p:cNvSpPr/>
          <p:nvPr/>
        </p:nvSpPr>
        <p:spPr>
          <a:xfrm>
            <a:off x="1592280" y="2563920"/>
            <a:ext cx="892080" cy="1152360"/>
          </a:xfrm>
          <a:prstGeom prst="pie">
            <a:avLst/>
          </a:prstGeom>
          <a:solidFill>
            <a:srgbClr val="6f89f7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Cloud"/>
          <p:cNvSpPr/>
          <p:nvPr/>
        </p:nvSpPr>
        <p:spPr>
          <a:xfrm>
            <a:off x="6632640" y="2565360"/>
            <a:ext cx="892080" cy="1152720"/>
          </a:xfrm>
          <a:prstGeom prst="pie">
            <a:avLst/>
          </a:prstGeom>
          <a:solidFill>
            <a:srgbClr val="6f89f7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EL Kompozicija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Web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rvi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6445080" y="2612880"/>
            <a:ext cx="289080" cy="287640"/>
          </a:xfrm>
          <a:prstGeom prst="rect">
            <a:avLst/>
          </a:prstGeom>
          <a:solidFill>
            <a:srgbClr val="cfdbfd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00720" y="2685960"/>
            <a:ext cx="289080" cy="142920"/>
          </a:xfrm>
          <a:prstGeom prst="rightArrow">
            <a:avLst>
              <a:gd name="adj1" fmla="val 50000"/>
              <a:gd name="adj2" fmla="val 50567"/>
            </a:avLst>
          </a:prstGeom>
          <a:solidFill>
            <a:srgbClr val="6f89f7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45080" y="3044880"/>
            <a:ext cx="289080" cy="287280"/>
          </a:xfrm>
          <a:prstGeom prst="rect">
            <a:avLst/>
          </a:prstGeom>
          <a:solidFill>
            <a:srgbClr val="cfdbfd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rot="10800000">
            <a:off x="6299640" y="3115800"/>
            <a:ext cx="289080" cy="142920"/>
          </a:xfrm>
          <a:prstGeom prst="rightArrow">
            <a:avLst>
              <a:gd name="adj1" fmla="val 50000"/>
              <a:gd name="adj2" fmla="val 50567"/>
            </a:avLst>
          </a:prstGeom>
          <a:solidFill>
            <a:srgbClr val="6f89f7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87640" y="2108160"/>
            <a:ext cx="289080" cy="287280"/>
          </a:xfrm>
          <a:prstGeom prst="rect">
            <a:avLst/>
          </a:prstGeom>
          <a:solidFill>
            <a:srgbClr val="cfdbfd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43280" y="2181240"/>
            <a:ext cx="288720" cy="142920"/>
          </a:xfrm>
          <a:prstGeom prst="rightArrow">
            <a:avLst>
              <a:gd name="adj1" fmla="val 50000"/>
              <a:gd name="adj2" fmla="val 50504"/>
            </a:avLst>
          </a:prstGeom>
          <a:solidFill>
            <a:srgbClr val="6f89f7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87640" y="2541600"/>
            <a:ext cx="289080" cy="287280"/>
          </a:xfrm>
          <a:prstGeom prst="rect">
            <a:avLst/>
          </a:prstGeom>
          <a:solidFill>
            <a:srgbClr val="cfdbfd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43280" y="2612880"/>
            <a:ext cx="288720" cy="142920"/>
          </a:xfrm>
          <a:prstGeom prst="rightArrow">
            <a:avLst>
              <a:gd name="adj1" fmla="val 50000"/>
              <a:gd name="adj2" fmla="val 50504"/>
            </a:avLst>
          </a:prstGeom>
          <a:solidFill>
            <a:srgbClr val="6f89f7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11280" y="3981600"/>
            <a:ext cx="289080" cy="287280"/>
          </a:xfrm>
          <a:prstGeom prst="rect">
            <a:avLst/>
          </a:prstGeom>
          <a:solidFill>
            <a:srgbClr val="cfdbfd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556000" y="4052880"/>
            <a:ext cx="288720" cy="142920"/>
          </a:xfrm>
          <a:prstGeom prst="rightArrow">
            <a:avLst>
              <a:gd name="adj1" fmla="val 50000"/>
              <a:gd name="adj2" fmla="val 50504"/>
            </a:avLst>
          </a:prstGeom>
          <a:solidFill>
            <a:srgbClr val="6f89f7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7640" y="2784600"/>
            <a:ext cx="1080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68920" y="3263760"/>
            <a:ext cx="1080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21280" y="3641760"/>
            <a:ext cx="1080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9" idx="0"/>
            <a:endCxn id="298" idx="1"/>
          </p:cNvCxnSpPr>
          <p:nvPr/>
        </p:nvCxnSpPr>
        <p:spPr>
          <a:xfrm>
            <a:off x="3132000" y="2252520"/>
            <a:ext cx="1162440" cy="270720"/>
          </a:xfrm>
          <a:prstGeom prst="curvedConnector5">
            <a:avLst>
              <a:gd name="adj1" fmla="val 50000"/>
              <a:gd name="adj2" fmla="val 49933"/>
              <a:gd name="adj3" fmla="val 50000"/>
            </a:avLst>
          </a:prstGeom>
          <a:ln w="38160">
            <a:solidFill>
              <a:srgbClr val="b2b2b2"/>
            </a:solidFill>
            <a:miter/>
            <a:tailEnd len="sm" type="triangle" w="sm"/>
          </a:ln>
        </p:spPr>
      </p:cxnSp>
      <p:cxnSp>
        <p:nvCxnSpPr>
          <p:cNvPr id="299" name=""/>
          <p:cNvCxnSpPr>
            <a:stCxn id="291" idx="0"/>
            <a:endCxn id="300" idx="1"/>
          </p:cNvCxnSpPr>
          <p:nvPr/>
        </p:nvCxnSpPr>
        <p:spPr>
          <a:xfrm>
            <a:off x="3131640" y="2684160"/>
            <a:ext cx="577080" cy="345240"/>
          </a:xfrm>
          <a:prstGeom prst="curvedConnector5">
            <a:avLst>
              <a:gd name="adj1" fmla="val 49812"/>
              <a:gd name="adj2" fmla="val 50000"/>
              <a:gd name="adj3" fmla="val 49812"/>
            </a:avLst>
          </a:prstGeom>
          <a:ln w="38160">
            <a:solidFill>
              <a:srgbClr val="b2b2b2"/>
            </a:solidFill>
            <a:miter/>
            <a:tailEnd len="sm" type="triangle" w="sm"/>
          </a:ln>
        </p:spPr>
      </p:cxnSp>
      <p:cxnSp>
        <p:nvCxnSpPr>
          <p:cNvPr id="301" name=""/>
          <p:cNvCxnSpPr>
            <a:stCxn id="302" idx="1"/>
            <a:endCxn id="293" idx="0"/>
          </p:cNvCxnSpPr>
          <p:nvPr/>
        </p:nvCxnSpPr>
        <p:spPr>
          <a:xfrm flipV="1" rot="10800000">
            <a:off x="2844000" y="3828960"/>
            <a:ext cx="1151640" cy="295560"/>
          </a:xfrm>
          <a:prstGeom prst="curvedConnector5">
            <a:avLst>
              <a:gd name="adj1" fmla="val 49906"/>
              <a:gd name="adj2" fmla="val 50000"/>
              <a:gd name="adj3" fmla="val 49906"/>
            </a:avLst>
          </a:prstGeom>
          <a:ln w="38160">
            <a:solidFill>
              <a:srgbClr val="b2b2b2"/>
            </a:solidFill>
            <a:miter/>
            <a:tailEnd len="sm" type="triangle" w="sm"/>
          </a:ln>
        </p:spPr>
      </p:cxnSp>
      <p:cxnSp>
        <p:nvCxnSpPr>
          <p:cNvPr id="303" name=""/>
          <p:cNvCxnSpPr>
            <a:stCxn id="304" idx="3"/>
            <a:endCxn id="285" idx="0"/>
          </p:cNvCxnSpPr>
          <p:nvPr/>
        </p:nvCxnSpPr>
        <p:spPr>
          <a:xfrm flipV="1">
            <a:off x="5506560" y="2756880"/>
            <a:ext cx="794520" cy="135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b2b2b2"/>
            </a:solidFill>
            <a:miter/>
            <a:tailEnd len="sm" type="triangle" w="sm"/>
          </a:ln>
        </p:spPr>
      </p:cxnSp>
      <p:cxnSp>
        <p:nvCxnSpPr>
          <p:cNvPr id="305" name=""/>
          <p:cNvCxnSpPr>
            <a:stCxn id="306" idx="3"/>
            <a:endCxn id="287" idx="0"/>
          </p:cNvCxnSpPr>
          <p:nvPr/>
        </p:nvCxnSpPr>
        <p:spPr>
          <a:xfrm flipV="1">
            <a:off x="5219280" y="3187080"/>
            <a:ext cx="1081800" cy="208440"/>
          </a:xfrm>
          <a:prstGeom prst="curvedConnector5">
            <a:avLst>
              <a:gd name="adj1" fmla="val 49900"/>
              <a:gd name="adj2" fmla="val 50000"/>
              <a:gd name="adj3" fmla="val 49900"/>
            </a:avLst>
          </a:prstGeom>
          <a:ln w="38160">
            <a:solidFill>
              <a:srgbClr val="b2b2b2"/>
            </a:solidFill>
            <a:miter/>
            <a:tailEnd len="sm" type="triangle" w="sm"/>
          </a:ln>
        </p:spPr>
      </p:cxnSp>
      <p:cxnSp>
        <p:nvCxnSpPr>
          <p:cNvPr id="307" name=""/>
          <p:cNvCxnSpPr>
            <a:stCxn id="308" idx="2"/>
            <a:endCxn id="300" idx="0"/>
          </p:cNvCxnSpPr>
          <p:nvPr/>
        </p:nvCxnSpPr>
        <p:spPr>
          <a:xfrm rot="5400000">
            <a:off x="4173120" y="2489400"/>
            <a:ext cx="294480" cy="576360"/>
          </a:xfrm>
          <a:prstGeom prst="curvedConnector5">
            <a:avLst>
              <a:gd name="adj1" fmla="val 49694"/>
              <a:gd name="adj2" fmla="val 50000"/>
              <a:gd name="adj3" fmla="val 49694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09" name=""/>
          <p:cNvCxnSpPr>
            <a:stCxn id="300" idx="2"/>
            <a:endCxn id="302" idx="0"/>
          </p:cNvCxnSpPr>
          <p:nvPr/>
        </p:nvCxnSpPr>
        <p:spPr>
          <a:xfrm flipH="1" rot="16200000">
            <a:off x="3880800" y="3285000"/>
            <a:ext cx="591120" cy="288000"/>
          </a:xfrm>
          <a:prstGeom prst="curvedConnector5">
            <a:avLst>
              <a:gd name="adj1" fmla="val 49969"/>
              <a:gd name="adj2" fmla="val 49937"/>
              <a:gd name="adj3" fmla="val 49969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10" name=""/>
          <p:cNvCxnSpPr>
            <a:stCxn id="308" idx="2"/>
            <a:endCxn id="304" idx="0"/>
          </p:cNvCxnSpPr>
          <p:nvPr/>
        </p:nvCxnSpPr>
        <p:spPr>
          <a:xfrm flipH="1" rot="16200000">
            <a:off x="4816440" y="2421360"/>
            <a:ext cx="157680" cy="575640"/>
          </a:xfrm>
          <a:prstGeom prst="curvedConnector5">
            <a:avLst>
              <a:gd name="adj1" fmla="val 49427"/>
              <a:gd name="adj2" fmla="val 50000"/>
              <a:gd name="adj3" fmla="val 49427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11" name=""/>
          <p:cNvCxnSpPr>
            <a:stCxn id="304" idx="2"/>
            <a:endCxn id="306" idx="0"/>
          </p:cNvCxnSpPr>
          <p:nvPr/>
        </p:nvCxnSpPr>
        <p:spPr>
          <a:xfrm rot="5400000">
            <a:off x="4892400" y="3000240"/>
            <a:ext cx="294120" cy="288000"/>
          </a:xfrm>
          <a:prstGeom prst="curvedConnector5">
            <a:avLst>
              <a:gd name="adj1" fmla="val 49632"/>
              <a:gd name="adj2" fmla="val 49937"/>
              <a:gd name="adj3" fmla="val 49632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12" name=""/>
          <p:cNvCxnSpPr>
            <a:stCxn id="306" idx="2"/>
            <a:endCxn id="302" idx="0"/>
          </p:cNvCxnSpPr>
          <p:nvPr/>
        </p:nvCxnSpPr>
        <p:spPr>
          <a:xfrm rot="5400000">
            <a:off x="4494960" y="3323880"/>
            <a:ext cx="224640" cy="577080"/>
          </a:xfrm>
          <a:prstGeom prst="curvedConnector5">
            <a:avLst>
              <a:gd name="adj1" fmla="val 49598"/>
              <a:gd name="adj2" fmla="val 50000"/>
              <a:gd name="adj3" fmla="val 49598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sp>
        <p:nvSpPr>
          <p:cNvPr id="313" name=""/>
          <p:cNvSpPr/>
          <p:nvPr/>
        </p:nvSpPr>
        <p:spPr>
          <a:xfrm>
            <a:off x="1692360" y="5253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ner Link Typ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16400" y="5253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ner Link Typ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25680" y="1557360"/>
            <a:ext cx="24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rv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16000" y="155736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rv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53120" y="1557360"/>
            <a:ext cx="18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rv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2743200" y="458316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248160" y="458316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4532400"/>
            <a:ext cx="180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 WSDL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35280" y="4508640"/>
            <a:ext cx="180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SDL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24760" y="4532400"/>
            <a:ext cx="18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SDL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2787480"/>
            <a:ext cx="647640" cy="20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84720" y="2421000"/>
            <a:ext cx="64764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4294080" y="242712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4884840" y="280368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708360" y="2924280"/>
            <a:ext cx="64764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3718080" y="2930400"/>
            <a:ext cx="190440" cy="190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4572000" y="3290760"/>
            <a:ext cx="64764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4597560" y="3306600"/>
            <a:ext cx="190440" cy="190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995640" y="3724200"/>
            <a:ext cx="64764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4021200" y="374004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EL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oces kao web serv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9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201760" y="2735280"/>
            <a:ext cx="504684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oncepti u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EL4W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1440" y="162864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Partner Link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Bilateralna konverzacija (my Role, Partner Rol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Interfjes zahtevi partne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Podaci i poruk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Varia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Osobin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kup korelisanih podat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ktivnosti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Osnovne aktiv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Struktuirane aktivnosti (control flow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ner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tner link: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tipizirane instance konektor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ner link type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efiniše zahtevane tipove portov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anal preko kojeg se vrši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er-to-peer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ver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zac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3716280" y="4672080"/>
            <a:ext cx="1647720" cy="917640"/>
          </a:xfrm>
          <a:prstGeom prst="flowChartDecision">
            <a:avLst/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Partn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Link Typ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13080" y="4773600"/>
            <a:ext cx="934920" cy="717480"/>
          </a:xfrm>
          <a:prstGeom prst="flowChartProcess">
            <a:avLst/>
          </a:prstGeom>
          <a:solidFill>
            <a:srgbClr val="cfdbfd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Port Type 1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4" idx="1"/>
            <a:endCxn id="335" idx="3"/>
          </p:cNvCxnSpPr>
          <p:nvPr/>
        </p:nvCxnSpPr>
        <p:spPr>
          <a:xfrm flipH="1">
            <a:off x="3357720" y="5130360"/>
            <a:ext cx="358920" cy="2520"/>
          </a:xfrm>
          <a:prstGeom prst="straightConnector1">
            <a:avLst/>
          </a:prstGeom>
          <a:ln w="19080">
            <a:solidFill>
              <a:srgbClr val="3c1a57"/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796000" y="4773600"/>
            <a:ext cx="934920" cy="717480"/>
          </a:xfrm>
          <a:prstGeom prst="flowChartProcess">
            <a:avLst/>
          </a:prstGeom>
          <a:solidFill>
            <a:srgbClr val="cfdbfd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Port Type 2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7" idx="1"/>
            <a:endCxn id="334" idx="3"/>
          </p:cNvCxnSpPr>
          <p:nvPr/>
        </p:nvCxnSpPr>
        <p:spPr>
          <a:xfrm flipH="1" flipV="1">
            <a:off x="5363280" y="5130000"/>
            <a:ext cx="423000" cy="2520"/>
          </a:xfrm>
          <a:prstGeom prst="straightConnector1">
            <a:avLst/>
          </a:prstGeom>
          <a:ln w="19080">
            <a:solidFill>
              <a:srgbClr val="3c1a57"/>
            </a:solidFill>
            <a:miter/>
            <a:headEnd len="med" type="triangle" w="med"/>
          </a:ln>
        </p:spPr>
      </p:cxnSp>
      <p:cxnSp>
        <p:nvCxnSpPr>
          <p:cNvPr id="339" name=""/>
          <p:cNvCxnSpPr>
            <a:stCxn id="340" idx="3"/>
            <a:endCxn id="335" idx="1"/>
          </p:cNvCxnSpPr>
          <p:nvPr/>
        </p:nvCxnSpPr>
        <p:spPr>
          <a:xfrm flipV="1">
            <a:off x="2050560" y="5131800"/>
            <a:ext cx="353160" cy="6840"/>
          </a:xfrm>
          <a:prstGeom prst="straightConnector1">
            <a:avLst/>
          </a:prstGeom>
          <a:ln w="19080">
            <a:solidFill>
              <a:srgbClr val="3c1a57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42" idx="1"/>
            <a:endCxn id="337" idx="3"/>
          </p:cNvCxnSpPr>
          <p:nvPr/>
        </p:nvCxnSpPr>
        <p:spPr>
          <a:xfrm flipH="1" flipV="1">
            <a:off x="6739920" y="5131800"/>
            <a:ext cx="353160" cy="6840"/>
          </a:xfrm>
          <a:prstGeom prst="straightConnector1">
            <a:avLst/>
          </a:prstGeom>
          <a:ln w="19080">
            <a:solidFill>
              <a:srgbClr val="3c1a57"/>
            </a:solidFill>
            <a:miter/>
            <a:tail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611280" y="4616280"/>
            <a:ext cx="1439640" cy="1044720"/>
          </a:xfrm>
          <a:prstGeom prst="roundRect">
            <a:avLst>
              <a:gd name="adj" fmla="val 3088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Proces 1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684360" y="46893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7093080" y="4616280"/>
            <a:ext cx="1439640" cy="1044720"/>
          </a:xfrm>
          <a:prstGeom prst="roundRect">
            <a:avLst>
              <a:gd name="adj" fmla="val 3088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Process 2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7165800" y="4689360"/>
            <a:ext cx="19080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5940360" y="3500280"/>
            <a:ext cx="1443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40360" y="3716280"/>
            <a:ext cx="1443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0000" y="4292640"/>
            <a:ext cx="1443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0000" y="4508640"/>
            <a:ext cx="1443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80360" y="454032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13800" y="4608360"/>
            <a:ext cx="503280" cy="287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ff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80360" y="518796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04080" y="5256360"/>
            <a:ext cx="503280" cy="28728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ff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EL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model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: Variab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5940360" y="378936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Pridružene aktivnosti razmenjuju medjusobno podatk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08720" y="1557360"/>
            <a:ext cx="30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Mehanizam za čuvanje ulaznih i izlaznih vrednosti aktivnost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1280" y="1413000"/>
            <a:ext cx="3429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V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ariable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definisanje prek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WSDL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poruka il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XML Schema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elemenata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/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tipov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35280" y="3441600"/>
            <a:ext cx="100800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. . .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75280" y="3508200"/>
            <a:ext cx="100800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16360" y="4294080"/>
            <a:ext cx="100800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assig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11640" y="5203800"/>
            <a:ext cx="93672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repl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03640" y="4438800"/>
            <a:ext cx="1008000" cy="35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. . .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11640" y="2565360"/>
            <a:ext cx="100800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2"/>
            <a:endCxn id="357" idx="0"/>
          </p:cNvCxnSpPr>
          <p:nvPr/>
        </p:nvCxnSpPr>
        <p:spPr>
          <a:xfrm rot="5400000">
            <a:off x="4169520" y="2894760"/>
            <a:ext cx="518040" cy="57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64" name=""/>
          <p:cNvCxnSpPr>
            <a:stCxn id="362" idx="2"/>
            <a:endCxn id="358" idx="0"/>
          </p:cNvCxnSpPr>
          <p:nvPr/>
        </p:nvCxnSpPr>
        <p:spPr>
          <a:xfrm flipH="1" rot="16200000">
            <a:off x="4855320" y="2784240"/>
            <a:ext cx="584640" cy="864360"/>
          </a:xfrm>
          <a:prstGeom prst="curvedConnector5">
            <a:avLst>
              <a:gd name="adj1" fmla="val 49969"/>
              <a:gd name="adj2" fmla="val 50000"/>
              <a:gd name="adj3" fmla="val 49969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65" name=""/>
          <p:cNvCxnSpPr>
            <a:stCxn id="357" idx="2"/>
            <a:endCxn id="361" idx="0"/>
          </p:cNvCxnSpPr>
          <p:nvPr/>
        </p:nvCxnSpPr>
        <p:spPr>
          <a:xfrm rot="5400000">
            <a:off x="3604680" y="3903480"/>
            <a:ext cx="639000" cy="432720"/>
          </a:xfrm>
          <a:prstGeom prst="curvedConnector5">
            <a:avLst>
              <a:gd name="adj1" fmla="val 50000"/>
              <a:gd name="adj2" fmla="val 49958"/>
              <a:gd name="adj3" fmla="val 50000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66" name=""/>
          <p:cNvCxnSpPr>
            <a:stCxn id="358" idx="2"/>
            <a:endCxn id="359" idx="0"/>
          </p:cNvCxnSpPr>
          <p:nvPr/>
        </p:nvCxnSpPr>
        <p:spPr>
          <a:xfrm rot="5400000">
            <a:off x="5186880" y="3901320"/>
            <a:ext cx="427680" cy="358920"/>
          </a:xfrm>
          <a:prstGeom prst="curvedConnector5">
            <a:avLst>
              <a:gd name="adj1" fmla="val 49789"/>
              <a:gd name="adj2" fmla="val 50000"/>
              <a:gd name="adj3" fmla="val 49789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67" name=""/>
          <p:cNvCxnSpPr>
            <a:stCxn id="359" idx="2"/>
            <a:endCxn id="360" idx="0"/>
          </p:cNvCxnSpPr>
          <p:nvPr/>
        </p:nvCxnSpPr>
        <p:spPr>
          <a:xfrm rot="5400000">
            <a:off x="4674600" y="4657680"/>
            <a:ext cx="551520" cy="542160"/>
          </a:xfrm>
          <a:prstGeom prst="curvedConnector5">
            <a:avLst>
              <a:gd name="adj1" fmla="val 49836"/>
              <a:gd name="adj2" fmla="val 49966"/>
              <a:gd name="adj3" fmla="val 49836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68" name=""/>
          <p:cNvCxnSpPr>
            <a:stCxn id="361" idx="2"/>
            <a:endCxn id="360" idx="0"/>
          </p:cNvCxnSpPr>
          <p:nvPr/>
        </p:nvCxnSpPr>
        <p:spPr>
          <a:xfrm flipH="1" rot="16200000">
            <a:off x="3989880" y="4514400"/>
            <a:ext cx="407160" cy="9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69" name=""/>
          <p:cNvCxnSpPr>
            <a:stCxn id="357" idx="2"/>
            <a:endCxn id="360" idx="0"/>
          </p:cNvCxnSpPr>
          <p:nvPr/>
        </p:nvCxnSpPr>
        <p:spPr>
          <a:xfrm flipH="1" rot="16200000">
            <a:off x="3707640" y="4232160"/>
            <a:ext cx="1404000" cy="54036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sp>
        <p:nvSpPr>
          <p:cNvPr id="370" name=""/>
          <p:cNvSpPr/>
          <p:nvPr/>
        </p:nvSpPr>
        <p:spPr>
          <a:xfrm>
            <a:off x="1042920" y="295740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44720" y="363708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44720" y="428616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487520" y="3038040"/>
            <a:ext cx="504720" cy="252720"/>
            <a:chOff x="1487520" y="3038040"/>
            <a:chExt cx="504720" cy="252720"/>
          </a:xfrm>
        </p:grpSpPr>
        <p:sp>
          <p:nvSpPr>
            <p:cNvPr id="374" name=""/>
            <p:cNvSpPr/>
            <p:nvPr/>
          </p:nvSpPr>
          <p:spPr>
            <a:xfrm>
              <a:off x="1487520" y="3038400"/>
              <a:ext cx="504720" cy="2523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487520" y="3143160"/>
              <a:ext cx="212400" cy="147240"/>
            </a:xfrm>
            <a:prstGeom prst="line">
              <a:avLst/>
            </a:prstGeom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1779840" y="3143160"/>
              <a:ext cx="212400" cy="147240"/>
            </a:xfrm>
            <a:prstGeom prst="line">
              <a:avLst/>
            </a:prstGeom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1487520" y="3037680"/>
              <a:ext cx="504720" cy="147240"/>
            </a:xfrm>
            <a:prstGeom prst="triangle">
              <a:avLst>
                <a:gd name="adj" fmla="val 49889"/>
              </a:avLst>
            </a:prstGeom>
            <a:solidFill>
              <a:srgbClr val="00cc00"/>
            </a:soli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044720" y="4952880"/>
            <a:ext cx="1008000" cy="4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482840" y="5043240"/>
            <a:ext cx="504720" cy="252720"/>
            <a:chOff x="1482840" y="5043240"/>
            <a:chExt cx="504720" cy="252720"/>
          </a:xfrm>
        </p:grpSpPr>
        <p:sp>
          <p:nvSpPr>
            <p:cNvPr id="380" name=""/>
            <p:cNvSpPr/>
            <p:nvPr/>
          </p:nvSpPr>
          <p:spPr>
            <a:xfrm>
              <a:off x="1482840" y="5043600"/>
              <a:ext cx="504720" cy="252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482840" y="5148360"/>
              <a:ext cx="212400" cy="147240"/>
            </a:xfrm>
            <a:prstGeom prst="line">
              <a:avLst/>
            </a:prstGeom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1775160" y="5148360"/>
              <a:ext cx="212400" cy="147240"/>
            </a:xfrm>
            <a:prstGeom prst="line">
              <a:avLst/>
            </a:prstGeom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1482840" y="5042880"/>
              <a:ext cx="504720" cy="147240"/>
            </a:xfrm>
            <a:prstGeom prst="triangle">
              <a:avLst>
                <a:gd name="adj" fmla="val 49889"/>
              </a:avLst>
            </a:prstGeom>
            <a:solidFill>
              <a:srgbClr val="0099cc"/>
            </a:soli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313240" y="336564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62" idx="1"/>
            <a:endCxn id="370" idx="3"/>
          </p:cNvCxnSpPr>
          <p:nvPr/>
        </p:nvCxnSpPr>
        <p:spPr>
          <a:xfrm flipV="1" rot="10800000">
            <a:off x="2050920" y="2743560"/>
            <a:ext cx="2161080" cy="42300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38160">
            <a:solidFill>
              <a:srgbClr val="ff0000"/>
            </a:solidFill>
            <a:prstDash val="dash"/>
            <a:miter/>
            <a:tailEnd len="sm" type="triangle" w="sm"/>
          </a:ln>
        </p:spPr>
      </p:cxnSp>
      <p:cxnSp>
        <p:nvCxnSpPr>
          <p:cNvPr id="386" name=""/>
          <p:cNvCxnSpPr>
            <a:stCxn id="378" idx="3"/>
            <a:endCxn id="360" idx="1"/>
          </p:cNvCxnSpPr>
          <p:nvPr/>
        </p:nvCxnSpPr>
        <p:spPr>
          <a:xfrm>
            <a:off x="2052360" y="5162040"/>
            <a:ext cx="2159640" cy="221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ff0000"/>
            </a:solidFill>
            <a:prstDash val="dash"/>
            <a:miter/>
            <a:tailEnd len="sm" type="triangle" w="sm"/>
          </a:ln>
        </p:spPr>
      </p:cxnSp>
      <p:cxnSp>
        <p:nvCxnSpPr>
          <p:cNvPr id="387" name=""/>
          <p:cNvCxnSpPr>
            <a:stCxn id="371" idx="3"/>
            <a:endCxn id="357" idx="1"/>
          </p:cNvCxnSpPr>
          <p:nvPr/>
        </p:nvCxnSpPr>
        <p:spPr>
          <a:xfrm flipV="1">
            <a:off x="2052720" y="3620880"/>
            <a:ext cx="1583280" cy="226080"/>
          </a:xfrm>
          <a:prstGeom prst="curvedConnector5">
            <a:avLst>
              <a:gd name="adj1" fmla="val 49943"/>
              <a:gd name="adj2" fmla="val 49920"/>
              <a:gd name="adj3" fmla="val 49943"/>
            </a:avLst>
          </a:prstGeom>
          <a:ln w="38160">
            <a:solidFill>
              <a:srgbClr val="ff0000"/>
            </a:solidFill>
            <a:prstDash val="dash"/>
            <a:miter/>
            <a:tailEnd len="sm" type="triangle" w="sm"/>
          </a:ln>
        </p:spPr>
      </p:cxnSp>
      <p:sp>
        <p:nvSpPr>
          <p:cNvPr id="388" name=""/>
          <p:cNvSpPr/>
          <p:nvPr/>
        </p:nvSpPr>
        <p:spPr>
          <a:xfrm>
            <a:off x="7380360" y="243360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7812000" y="2530080"/>
            <a:ext cx="505080" cy="252720"/>
            <a:chOff x="7812000" y="2530080"/>
            <a:chExt cx="505080" cy="252720"/>
          </a:xfrm>
        </p:grpSpPr>
        <p:sp>
          <p:nvSpPr>
            <p:cNvPr id="390" name=""/>
            <p:cNvSpPr/>
            <p:nvPr/>
          </p:nvSpPr>
          <p:spPr>
            <a:xfrm>
              <a:off x="7812000" y="2530440"/>
              <a:ext cx="505080" cy="2523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812000" y="2635200"/>
              <a:ext cx="212760" cy="147240"/>
            </a:xfrm>
            <a:prstGeom prst="line">
              <a:avLst/>
            </a:prstGeom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8104320" y="2635200"/>
              <a:ext cx="212400" cy="147240"/>
            </a:xfrm>
            <a:prstGeom prst="line">
              <a:avLst/>
            </a:prstGeom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7812000" y="2529720"/>
              <a:ext cx="505080" cy="147240"/>
            </a:xfrm>
            <a:prstGeom prst="triangle">
              <a:avLst>
                <a:gd name="adj" fmla="val 49889"/>
              </a:avLst>
            </a:prstGeom>
            <a:solidFill>
              <a:srgbClr val="00cc00"/>
            </a:soli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7380360" y="308124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805880" y="3176280"/>
            <a:ext cx="504720" cy="252720"/>
            <a:chOff x="7805880" y="3176280"/>
            <a:chExt cx="504720" cy="252720"/>
          </a:xfrm>
        </p:grpSpPr>
        <p:sp>
          <p:nvSpPr>
            <p:cNvPr id="396" name=""/>
            <p:cNvSpPr/>
            <p:nvPr/>
          </p:nvSpPr>
          <p:spPr>
            <a:xfrm>
              <a:off x="7805880" y="3176640"/>
              <a:ext cx="504720" cy="252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7805880" y="3281400"/>
              <a:ext cx="212400" cy="147240"/>
            </a:xfrm>
            <a:prstGeom prst="line">
              <a:avLst/>
            </a:prstGeom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8098200" y="3281400"/>
              <a:ext cx="212400" cy="147240"/>
            </a:xfrm>
            <a:prstGeom prst="line">
              <a:avLst/>
            </a:prstGeom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7805880" y="3175920"/>
              <a:ext cx="504720" cy="147240"/>
            </a:xfrm>
            <a:prstGeom prst="triangle">
              <a:avLst>
                <a:gd name="adj" fmla="val 49889"/>
              </a:avLst>
            </a:prstGeom>
            <a:solidFill>
              <a:srgbClr val="0099cc"/>
            </a:soli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cxnSp>
        <p:nvCxnSpPr>
          <p:cNvPr id="400" name=""/>
          <p:cNvCxnSpPr>
            <a:stCxn id="345" idx="3"/>
            <a:endCxn id="388" idx="1"/>
          </p:cNvCxnSpPr>
          <p:nvPr/>
        </p:nvCxnSpPr>
        <p:spPr>
          <a:xfrm flipV="1">
            <a:off x="6084360" y="2642760"/>
            <a:ext cx="1296360" cy="93096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f0000"/>
            </a:solidFill>
            <a:prstDash val="dash"/>
            <a:miter/>
            <a:tailEnd len="sm" type="triangle" w="sm"/>
          </a:ln>
        </p:spPr>
      </p:cxnSp>
      <p:cxnSp>
        <p:nvCxnSpPr>
          <p:cNvPr id="401" name=""/>
          <p:cNvCxnSpPr>
            <a:stCxn id="394" idx="1"/>
            <a:endCxn id="346" idx="3"/>
          </p:cNvCxnSpPr>
          <p:nvPr/>
        </p:nvCxnSpPr>
        <p:spPr>
          <a:xfrm flipV="1" rot="10800000">
            <a:off x="6084000" y="3289680"/>
            <a:ext cx="1296360" cy="49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ff0000"/>
            </a:solidFill>
            <a:prstDash val="dash"/>
            <a:miter/>
            <a:tailEnd len="sm" type="triangle" w="sm"/>
          </a:ln>
        </p:spPr>
      </p:cxnSp>
      <p:cxnSp>
        <p:nvCxnSpPr>
          <p:cNvPr id="402" name=""/>
          <p:cNvCxnSpPr>
            <a:stCxn id="372" idx="3"/>
            <a:endCxn id="361" idx="1"/>
          </p:cNvCxnSpPr>
          <p:nvPr/>
        </p:nvCxnSpPr>
        <p:spPr>
          <a:xfrm>
            <a:off x="2052360" y="4495680"/>
            <a:ext cx="1151640" cy="123120"/>
          </a:xfrm>
          <a:prstGeom prst="curvedConnector5">
            <a:avLst>
              <a:gd name="adj1" fmla="val 49906"/>
              <a:gd name="adj2" fmla="val 49853"/>
              <a:gd name="adj3" fmla="val 49906"/>
            </a:avLst>
          </a:prstGeom>
          <a:ln w="38160">
            <a:solidFill>
              <a:srgbClr val="ff0000"/>
            </a:solidFill>
            <a:prstDash val="dash"/>
            <a:miter/>
            <a:tailEnd len="sm" type="triangle" w="sm"/>
          </a:ln>
        </p:spPr>
      </p:cxnSp>
      <p:cxnSp>
        <p:nvCxnSpPr>
          <p:cNvPr id="403" name=""/>
          <p:cNvCxnSpPr>
            <a:stCxn id="348" idx="3"/>
            <a:endCxn id="351" idx="1"/>
          </p:cNvCxnSpPr>
          <p:nvPr/>
        </p:nvCxnSpPr>
        <p:spPr>
          <a:xfrm>
            <a:off x="5724360" y="4581000"/>
            <a:ext cx="1656720" cy="816840"/>
          </a:xfrm>
          <a:prstGeom prst="curvedConnector5">
            <a:avLst>
              <a:gd name="adj1" fmla="val 49945"/>
              <a:gd name="adj2" fmla="val 50000"/>
              <a:gd name="adj3" fmla="val 49945"/>
            </a:avLst>
          </a:prstGeom>
          <a:ln w="38160">
            <a:solidFill>
              <a:srgbClr val="ff0000"/>
            </a:solidFill>
            <a:prstDash val="dash"/>
            <a:miter/>
            <a:tailEnd len="sm" type="triangle" w="sm"/>
          </a:ln>
        </p:spPr>
      </p:cxnSp>
      <p:cxnSp>
        <p:nvCxnSpPr>
          <p:cNvPr id="404" name=""/>
          <p:cNvCxnSpPr>
            <a:stCxn id="349" idx="1"/>
            <a:endCxn id="347" idx="3"/>
          </p:cNvCxnSpPr>
          <p:nvPr/>
        </p:nvCxnSpPr>
        <p:spPr>
          <a:xfrm rot="10800000">
            <a:off x="5723640" y="4365000"/>
            <a:ext cx="1656720" cy="384840"/>
          </a:xfrm>
          <a:prstGeom prst="curvedConnector5">
            <a:avLst>
              <a:gd name="adj1" fmla="val 49945"/>
              <a:gd name="adj2" fmla="val 50000"/>
              <a:gd name="adj3" fmla="val 49945"/>
            </a:avLst>
          </a:prstGeom>
          <a:ln w="38160">
            <a:solidFill>
              <a:srgbClr val="ff0000"/>
            </a:solidFill>
            <a:prstDash val="dash"/>
            <a:miter/>
            <a:tailEnd len="sm" type="triangle" w="sm"/>
          </a:ln>
        </p:spPr>
      </p:cxnSp>
      <p:sp>
        <p:nvSpPr>
          <p:cNvPr id="405" name=""/>
          <p:cNvSpPr/>
          <p:nvPr/>
        </p:nvSpPr>
        <p:spPr>
          <a:xfrm>
            <a:off x="1476360" y="4356000"/>
            <a:ext cx="503280" cy="28728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49440" y="4427640"/>
            <a:ext cx="142920" cy="1443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144360"/>
              <a:gd name="textAreaBottom" fmla="*/ 137520 h 144360"/>
            </a:gdLst>
            <a:ahLst/>
            <a:rect l="textAreaLeft" t="textAreaTop" r="textAreaRight" b="textAreaBottom"/>
            <a:pathLst>
              <a:path w="21600" h="21817">
                <a:moveTo>
                  <a:pt x="3600" y="0"/>
                </a:moveTo>
                <a:arcTo wR="3600" hR="3600" stAng="16200000" swAng="-5400000"/>
                <a:lnTo>
                  <a:pt x="0" y="18217"/>
                </a:lnTo>
                <a:arcTo wR="3600" hR="3600" stAng="10800000" swAng="-5400000"/>
                <a:lnTo>
                  <a:pt x="18000" y="21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d882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65440" y="4427640"/>
            <a:ext cx="142560" cy="144360"/>
          </a:xfrm>
          <a:custGeom>
            <a:avLst/>
            <a:gdLst>
              <a:gd name="textAreaLeft" fmla="*/ 6840 w 142560"/>
              <a:gd name="textAreaRight" fmla="*/ 135720 w 142560"/>
              <a:gd name="textAreaTop" fmla="*/ 6840 h 144360"/>
              <a:gd name="textAreaBottom" fmla="*/ 137520 h 144360"/>
            </a:gdLst>
            <a:ahLst/>
            <a:rect l="textAreaLeft" t="textAreaTop" r="textAreaRight" b="textAreaBottom"/>
            <a:pathLst>
              <a:path w="21600" h="21872">
                <a:moveTo>
                  <a:pt x="3600" y="0"/>
                </a:moveTo>
                <a:arcTo wR="3600" hR="3600" stAng="16200000" swAng="-5400000"/>
                <a:lnTo>
                  <a:pt x="0" y="18272"/>
                </a:lnTo>
                <a:arcTo wR="3600" hR="3600" stAng="10800000" swAng="-5400000"/>
                <a:lnTo>
                  <a:pt x="18000" y="218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d882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76360" y="3708360"/>
            <a:ext cx="503280" cy="28728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ff"/>
                </a:solidFill>
                <a:latin typeface="Arial"/>
                <a:ea typeface="Arial"/>
              </a:rPr>
              <a:t>4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251240" y="260352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140440" y="35560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3700440" y="349236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3305160" y="449100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4780080" y="434808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4257720" y="525780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1090440" y="302904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8"/>
          <a:stretch/>
        </p:blipFill>
        <p:spPr>
          <a:xfrm>
            <a:off x="1090440" y="369900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9"/>
          <a:stretch/>
        </p:blipFill>
        <p:spPr>
          <a:xfrm>
            <a:off x="1090440" y="4356000"/>
            <a:ext cx="284400" cy="2844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10"/>
          <a:stretch/>
        </p:blipFill>
        <p:spPr>
          <a:xfrm>
            <a:off x="1090440" y="5014800"/>
            <a:ext cx="284400" cy="2844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11"/>
          <a:stretch/>
        </p:blipFill>
        <p:spPr>
          <a:xfrm>
            <a:off x="7427880" y="525132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2"/>
          <a:stretch/>
        </p:blipFill>
        <p:spPr>
          <a:xfrm>
            <a:off x="7427880" y="462132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3"/>
          <a:stretch/>
        </p:blipFill>
        <p:spPr>
          <a:xfrm>
            <a:off x="7427880" y="315756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14"/>
          <a:stretch/>
        </p:blipFill>
        <p:spPr>
          <a:xfrm>
            <a:off x="7427880" y="2505240"/>
            <a:ext cx="284040" cy="28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ar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ijabl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imeri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600200" y="1676520"/>
          <a:ext cx="6934320" cy="5016240"/>
        </p:xfrm>
        <a:graphic>
          <a:graphicData uri="http://schemas.openxmlformats.org/drawingml/2006/table">
            <a:tbl>
              <a:tblPr/>
              <a:tblGrid>
                <a:gridCol w="2095560"/>
                <a:gridCol w="483876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500" spc="-1" strike="noStrike" u="sng">
                          <a:solidFill>
                            <a:srgbClr val="40458c"/>
                          </a:solidFill>
                          <a:uFillTx/>
                          <a:latin typeface="Tahoma"/>
                        </a:rPr>
                        <a:t>Korišenje</a:t>
                      </a:r>
                      <a:endParaRPr b="0" lang="en-US" sz="15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500" spc="-1" strike="noStrike" u="sng">
                          <a:solidFill>
                            <a:srgbClr val="40458c"/>
                          </a:solidFill>
                          <a:uFillTx/>
                          <a:latin typeface="Tahoma"/>
                        </a:rPr>
                        <a:t>XML code</a:t>
                      </a:r>
                      <a:endParaRPr b="0" lang="en-US" sz="15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96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odela konstante</a:t>
                      </a:r>
                      <a:endParaRPr b="0" lang="en-US" sz="15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variable name=“x” type=“xsd:int”/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assign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copy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from&gt;1&lt;/from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to variable=“x”/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/copy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/assign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220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Kopiranje varijable</a:t>
                      </a:r>
                      <a:endParaRPr b="0" lang="en-US" sz="15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variable name=“x” type = “xsd:int”/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variable name=“y” type= “xsd:int”/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assign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copy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from variable=“y”/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to variable=“x”/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/copy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/assign&gt;</a:t>
                      </a:r>
                      <a:endParaRPr b="0" lang="en-US" sz="13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5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Ugradjena</a:t>
                      </a:r>
                      <a:r>
                        <a:rPr b="1" lang="en-U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BPEL fun</a:t>
                      </a:r>
                      <a:r>
                        <a:rPr b="1" lang="sr-Latn-C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kcija</a:t>
                      </a:r>
                      <a:r>
                        <a:rPr b="1" lang="en-U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bpws:getVariableData</a:t>
                      </a:r>
                      <a:r>
                        <a:rPr b="1" lang="en-U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1" lang="sr-Latn-C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e korisit za uzimanje vrednosti iz </a:t>
                      </a:r>
                      <a:r>
                        <a:rPr b="1" lang="en-U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ri</a:t>
                      </a:r>
                      <a:r>
                        <a:rPr b="1" lang="sr-Latn-C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j</a:t>
                      </a:r>
                      <a:r>
                        <a:rPr b="1" lang="en-US" sz="15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ble.</a:t>
                      </a:r>
                      <a:endParaRPr b="0" lang="en-US" sz="15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659640" y="3716280"/>
            <a:ext cx="1439640" cy="1044720"/>
          </a:xfrm>
          <a:prstGeom prst="roundRect">
            <a:avLst>
              <a:gd name="adj" fmla="val 3088"/>
            </a:avLst>
          </a:prstGeom>
          <a:gradFill rotWithShape="0">
            <a:gsLst>
              <a:gs pos="0">
                <a:srgbClr val="c0c0c0"/>
              </a:gs>
              <a:gs pos="100000">
                <a:srgbClr val="3c1a57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23"/>
                </a:solidFill>
                <a:latin typeface="Arial"/>
                <a:ea typeface="Arial"/>
              </a:rPr>
              <a:t>Proces 4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6732720" y="37893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6948360" y="3932280"/>
            <a:ext cx="1440000" cy="1044360"/>
          </a:xfrm>
          <a:prstGeom prst="roundRect">
            <a:avLst>
              <a:gd name="adj" fmla="val 3088"/>
            </a:avLst>
          </a:prstGeom>
          <a:gradFill rotWithShape="0">
            <a:gsLst>
              <a:gs pos="0">
                <a:srgbClr val="c0c0c0"/>
              </a:gs>
              <a:gs pos="100000">
                <a:srgbClr val="ffcc23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Proces 3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7021440" y="40053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788000" y="4076640"/>
            <a:ext cx="1079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Osobine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i korelisani skup podatak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23640" y="1627200"/>
            <a:ext cx="8507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ruke u vremenski dugoj konverzaciji su povezane s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dgovarajućom instancom proce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ipizirane osobine definisane u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SDL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u imenovane i mapirane sa delovim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WSDL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ruka koje se koriste u proces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868320" y="5229360"/>
            <a:ext cx="3272040" cy="215640"/>
          </a:xfrm>
          <a:prstGeom prst="rect">
            <a:avLst/>
          </a:prstGeom>
          <a:solidFill>
            <a:srgbClr val="6f89f7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WSDL </a:t>
            </a: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poruka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94080" y="5229360"/>
            <a:ext cx="565200" cy="215640"/>
          </a:xfrm>
          <a:prstGeom prst="rect">
            <a:avLst/>
          </a:prstGeom>
          <a:solidFill>
            <a:srgbClr val="ffcc23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0815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87680" y="5229360"/>
            <a:ext cx="378000" cy="215640"/>
          </a:xfrm>
          <a:prstGeom prst="rect">
            <a:avLst/>
          </a:prstGeom>
          <a:solidFill>
            <a:srgbClr val="ffcc23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42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6" idx="1"/>
            <a:endCxn id="434" idx="0"/>
          </p:cNvCxnSpPr>
          <p:nvPr/>
        </p:nvCxnSpPr>
        <p:spPr>
          <a:xfrm flipV="1" rot="10800000">
            <a:off x="3675960" y="4880520"/>
            <a:ext cx="1183320" cy="338760"/>
          </a:xfrm>
          <a:prstGeom prst="curvedConnector2">
            <a:avLst/>
          </a:prstGeom>
          <a:ln w="19080">
            <a:solidFill>
              <a:srgbClr val="3c1a57"/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438" idx="1"/>
            <a:endCxn id="433" idx="0"/>
          </p:cNvCxnSpPr>
          <p:nvPr/>
        </p:nvCxnSpPr>
        <p:spPr>
          <a:xfrm flipV="1" rot="10800000">
            <a:off x="2775960" y="4520880"/>
            <a:ext cx="2083320" cy="699120"/>
          </a:xfrm>
          <a:prstGeom prst="curvedConnector2">
            <a:avLst/>
          </a:prstGeom>
          <a:ln w="19080">
            <a:solidFill>
              <a:srgbClr val="3c1a57"/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4859280" y="4411800"/>
            <a:ext cx="936720" cy="21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sifraDobavljaca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59280" y="4772160"/>
            <a:ext cx="936720" cy="21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brojNarduzb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645240" y="4667400"/>
            <a:ext cx="287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866920" y="4667400"/>
            <a:ext cx="79236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5234040" y="415764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7236000" y="4184640"/>
            <a:ext cx="1439640" cy="1044720"/>
          </a:xfrm>
          <a:prstGeom prst="roundRect">
            <a:avLst>
              <a:gd name="adj" fmla="val 3088"/>
            </a:avLst>
          </a:prstGeom>
          <a:gradFill rotWithShape="0">
            <a:gsLst>
              <a:gs pos="0">
                <a:srgbClr val="c0c0c0"/>
              </a:gs>
              <a:gs pos="100000">
                <a:srgbClr val="3c1a57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23"/>
                </a:solidFill>
                <a:latin typeface="Arial"/>
                <a:ea typeface="Arial"/>
              </a:rPr>
              <a:t>Proces 2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7308720" y="4257720"/>
            <a:ext cx="190800" cy="1904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7524720" y="4400640"/>
            <a:ext cx="1440000" cy="1044360"/>
          </a:xfrm>
          <a:prstGeom prst="roundRect">
            <a:avLst>
              <a:gd name="adj" fmla="val 3088"/>
            </a:avLst>
          </a:prstGeom>
          <a:gradFill rotWithShape="0">
            <a:gsLst>
              <a:gs pos="0">
                <a:srgbClr val="c0c0c0"/>
              </a:gs>
              <a:gs pos="100000">
                <a:srgbClr val="3c1a57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23"/>
                </a:solidFill>
                <a:latin typeface="Arial"/>
                <a:ea typeface="Arial"/>
              </a:rPr>
              <a:t>Proces 1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5"/>
          <a:stretch/>
        </p:blipFill>
        <p:spPr>
          <a:xfrm>
            <a:off x="7597800" y="4473720"/>
            <a:ext cx="19044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44040" y="375840"/>
            <a:ext cx="75517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Osnovne aktivnos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1112760" y="1398600"/>
            <a:ext cx="317196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rihvatanje poruka koje stižu (čekanje na odgovora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Slanje poruke kao odgovor na primljenu poruk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okretanje jednostrane ili dvostrane 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request-response 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operacij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Izmena vrednosti varijabli ili 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partner link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ova sa novim podacim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Validacija </a:t>
            </a: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XML 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odataka u variablam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razna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” instru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kcija za poslovni proc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4120" y="1398600"/>
            <a:ext cx="359892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Generisanje greske unutar poslovnog proces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rosledjivanje greške kad obradjivaču grešak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Trenutni prekid izvršavanja instance poslovnog proces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Čekanje neki definisani vremenskom period ili dok taj period ne istekn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okretanje alternative u unutrašnjem opsegu koji se već izvrši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5280" y="1484280"/>
            <a:ext cx="1081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1280" y="2205000"/>
            <a:ext cx="865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pl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8360" y="2919240"/>
            <a:ext cx="1008000" cy="4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04760" y="285264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284720" y="148428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thro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27640" y="2924280"/>
            <a:ext cx="865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exi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27640" y="3645000"/>
            <a:ext cx="865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wai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66560" y="5084640"/>
            <a:ext cx="1008360" cy="4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empt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95640" y="4365720"/>
            <a:ext cx="1297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compens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68360" y="436572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valid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4840" y="44290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6f89f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f89f7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8360" y="364500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assig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2"/>
          <a:stretch/>
        </p:blipFill>
        <p:spPr>
          <a:xfrm>
            <a:off x="466560" y="154944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3"/>
          <a:stretch/>
        </p:blipFill>
        <p:spPr>
          <a:xfrm>
            <a:off x="639720" y="227160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4"/>
          <a:stretch/>
        </p:blipFill>
        <p:spPr>
          <a:xfrm>
            <a:off x="542880" y="299412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5"/>
          <a:stretch/>
        </p:blipFill>
        <p:spPr>
          <a:xfrm>
            <a:off x="539640" y="371952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16"/>
          <a:stretch/>
        </p:blipFill>
        <p:spPr>
          <a:xfrm>
            <a:off x="542880" y="516744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17"/>
          <a:stretch/>
        </p:blipFill>
        <p:spPr>
          <a:xfrm>
            <a:off x="4030560" y="4446720"/>
            <a:ext cx="254160" cy="2538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18"/>
          <a:stretch/>
        </p:blipFill>
        <p:spPr>
          <a:xfrm>
            <a:off x="4503600" y="371808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9"/>
          <a:stretch/>
        </p:blipFill>
        <p:spPr>
          <a:xfrm>
            <a:off x="4503600" y="2995560"/>
            <a:ext cx="284400" cy="2840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4140360" y="2205000"/>
            <a:ext cx="11523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thro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0"/>
          <a:stretch/>
        </p:blipFill>
        <p:spPr>
          <a:xfrm>
            <a:off x="4359240" y="154476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1"/>
          <a:stretch/>
        </p:blipFill>
        <p:spPr>
          <a:xfrm>
            <a:off x="4216320" y="2274840"/>
            <a:ext cx="284400" cy="28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truktuirane aktivnos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1112760" y="1471680"/>
            <a:ext cx="317196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Sadrži aktivnosti koje se paralelno izvršavaj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Selekcija jedne grupe aktivnosti iz skup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Sadrži aktivnosti čije se izvršavanje ponavlja sve dok je zadovoljen dati uslov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Iteracija aktivnosti dok nije zadovoljen dati uslov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003640" y="1471680"/>
            <a:ext cx="367056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Blokiranje i čekanje na odgovarajuću poruk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Sadrži aktivnoste koje se izvršavaju sekvencijalno ili paralelno kontrolisano preko brojač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buSzPct val="11322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Sadrži aktivnosti koje se izvršavaju sekvencijaln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00"/>
              </a:spcBef>
              <a:buSzPct val="11313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SzPct val="113071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ovezivanje aktivnosti sa lokalnim varijablama, obvradjivačima grešaka i obradjivačima dogadjaj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7440" y="2421000"/>
            <a:ext cx="12589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f then el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9640" y="3441600"/>
            <a:ext cx="9367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whil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84720" y="436572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cop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27640" y="1484280"/>
            <a:ext cx="865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pick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40360" y="3429000"/>
            <a:ext cx="11523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equen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1484280"/>
            <a:ext cx="865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flo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08000" y="4367160"/>
            <a:ext cx="13683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peatUnti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11640" y="2422440"/>
            <a:ext cx="1081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forEac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0"/>
          <a:stretch/>
        </p:blipFill>
        <p:spPr>
          <a:xfrm>
            <a:off x="4356000" y="444348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1"/>
          <a:stretch/>
        </p:blipFill>
        <p:spPr>
          <a:xfrm>
            <a:off x="4500720" y="154620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2"/>
          <a:stretch/>
        </p:blipFill>
        <p:spPr>
          <a:xfrm>
            <a:off x="611280" y="35146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3"/>
          <a:stretch/>
        </p:blipFill>
        <p:spPr>
          <a:xfrm>
            <a:off x="4140360" y="350532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4"/>
          <a:stretch/>
        </p:blipFill>
        <p:spPr>
          <a:xfrm>
            <a:off x="235080" y="248112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5"/>
          <a:stretch/>
        </p:blipFill>
        <p:spPr>
          <a:xfrm>
            <a:off x="687240" y="156060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6"/>
          <a:stretch/>
        </p:blipFill>
        <p:spPr>
          <a:xfrm>
            <a:off x="201600" y="443700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27"/>
          <a:stretch/>
        </p:blipFill>
        <p:spPr>
          <a:xfrm>
            <a:off x="4287960" y="2494080"/>
            <a:ext cx="284040" cy="28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Karkaterisitke i zahtevi poslovnih sistem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0458c"/>
                </a:solidFill>
                <a:latin typeface="Tahoma"/>
              </a:rPr>
              <a:t>Danas poslovni sistemi zahtevaju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2600" spc="-1" strike="noStrike">
                <a:solidFill>
                  <a:srgbClr val="ecd882"/>
                </a:solidFill>
                <a:latin typeface="Tahoma"/>
              </a:rPr>
              <a:t>brzu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600" spc="-1" strike="noStrike">
                <a:solidFill>
                  <a:srgbClr val="40458c"/>
                </a:solidFill>
                <a:latin typeface="Tahoma"/>
              </a:rPr>
              <a:t>prilagodljivost potrebama korisinika i uslova tržist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EAI 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B2B 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interkacije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pomoću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web servi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sa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0458c"/>
                </a:solidFill>
                <a:latin typeface="Tahoma"/>
              </a:rPr>
              <a:t>Potrebe za </a:t>
            </a:r>
            <a:r>
              <a:rPr b="1" lang="en-US" sz="2600" spc="-1" strike="noStrike">
                <a:solidFill>
                  <a:srgbClr val="ecd882"/>
                </a:solidFill>
                <a:latin typeface="Tahoma"/>
              </a:rPr>
              <a:t>intern</a:t>
            </a:r>
            <a:r>
              <a:rPr b="1" lang="sr-Latn-CS" sz="2600" spc="-1" strike="noStrike">
                <a:solidFill>
                  <a:srgbClr val="ecd882"/>
                </a:solidFill>
                <a:latin typeface="Tahoma"/>
              </a:rPr>
              <a:t>om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1" lang="en-US" sz="2600" spc="-1" strike="noStrike">
                <a:solidFill>
                  <a:srgbClr val="ecd882"/>
                </a:solidFill>
                <a:latin typeface="Tahoma"/>
              </a:rPr>
              <a:t>extern</a:t>
            </a:r>
            <a:r>
              <a:rPr b="1" lang="sr-Latn-CS" sz="2600" spc="-1" strike="noStrike">
                <a:solidFill>
                  <a:srgbClr val="ecd882"/>
                </a:solidFill>
                <a:latin typeface="Tahoma"/>
              </a:rPr>
              <a:t>om </a:t>
            </a:r>
            <a:r>
              <a:rPr b="0" lang="sr-Latn-CS" sz="2600" spc="-1" strike="noStrike">
                <a:solidFill>
                  <a:srgbClr val="40458c"/>
                </a:solidFill>
                <a:latin typeface="Tahoma"/>
              </a:rPr>
              <a:t>fleksibilnošću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0458c"/>
                </a:solidFill>
                <a:latin typeface="Tahoma"/>
              </a:rPr>
              <a:t>Bez zajedničkog skupa standarda, svaka organizacija svoje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2600" spc="-1" strike="noStrike">
                <a:solidFill>
                  <a:srgbClr val="ecd882"/>
                </a:solidFill>
                <a:latin typeface="Tahoma"/>
              </a:rPr>
              <a:t>specifične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600" spc="-1" strike="noStrike">
                <a:solidFill>
                  <a:srgbClr val="40458c"/>
                </a:solidFill>
                <a:latin typeface="Tahoma"/>
              </a:rPr>
              <a:t>poslovne protokol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Mala fleksibilnost za pravu web servis kolaboraciju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Ugnježdavanje strukturianih aktivnos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611280" y="1413000"/>
            <a:ext cx="48765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sequence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receive .../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flow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sequence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invoke .../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while ... 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assign&gt;...&lt;/assign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/while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/sequence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sequence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receive .../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invoke ... 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/sequence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/flow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reply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&lt;/sequence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88000" y="1484280"/>
            <a:ext cx="3744720" cy="4321080"/>
          </a:xfrm>
          <a:custGeom>
            <a:avLst/>
            <a:gdLst>
              <a:gd name="textAreaLeft" fmla="*/ 32400 w 3744720"/>
              <a:gd name="textAreaRight" fmla="*/ 3712320 w 3744720"/>
              <a:gd name="textAreaTop" fmla="*/ 32400 h 4321080"/>
              <a:gd name="textAreaBottom" fmla="*/ 4288680 h 4321080"/>
            </a:gdLst>
            <a:ahLst/>
            <a:rect l="textAreaLeft" t="textAreaTop" r="textAreaRight" b="textAreaBottom"/>
            <a:pathLst>
              <a:path w="21600" h="24924">
                <a:moveTo>
                  <a:pt x="645" y="0"/>
                </a:moveTo>
                <a:arcTo wR="645" hR="645" stAng="16200000" swAng="-5400000"/>
                <a:lnTo>
                  <a:pt x="0" y="24279"/>
                </a:lnTo>
                <a:arcTo wR="645" hR="645" stAng="10800000" swAng="-5400000"/>
                <a:lnTo>
                  <a:pt x="20955" y="24924"/>
                </a:lnTo>
                <a:arcTo wR="645" hR="645" stAng="5400000" swAng="-5400000"/>
                <a:lnTo>
                  <a:pt x="21600" y="645"/>
                </a:lnTo>
                <a:arcTo wR="645" hR="645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32360" y="1773360"/>
            <a:ext cx="1081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32360" y="5241960"/>
            <a:ext cx="1081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pl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30920" y="2276640"/>
            <a:ext cx="3457440" cy="2881080"/>
          </a:xfrm>
          <a:prstGeom prst="roundRect">
            <a:avLst>
              <a:gd name="adj" fmla="val 4292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76720" y="2781360"/>
            <a:ext cx="1511280" cy="2232000"/>
          </a:xfrm>
          <a:custGeom>
            <a:avLst/>
            <a:gdLst>
              <a:gd name="textAreaLeft" fmla="*/ 25920 w 1511280"/>
              <a:gd name="textAreaRight" fmla="*/ 1485360 w 1511280"/>
              <a:gd name="textAreaTop" fmla="*/ 25920 h 2232000"/>
              <a:gd name="textAreaBottom" fmla="*/ 2206080 h 2232000"/>
            </a:gdLst>
            <a:ahLst/>
            <a:rect l="textAreaLeft" t="textAreaTop" r="textAreaRight" b="textAreaBottom"/>
            <a:pathLst>
              <a:path w="21600" h="31898">
                <a:moveTo>
                  <a:pt x="1272" y="0"/>
                </a:moveTo>
                <a:arcTo wR="1272" hR="1272" stAng="16200000" swAng="-5400000"/>
                <a:lnTo>
                  <a:pt x="0" y="30626"/>
                </a:lnTo>
                <a:arcTo wR="1272" hR="1272" stAng="10800000" swAng="-5400000"/>
                <a:lnTo>
                  <a:pt x="20328" y="31898"/>
                </a:lnTo>
                <a:arcTo wR="1272" hR="1272" stAng="5400000" swAng="-5400000"/>
                <a:lnTo>
                  <a:pt x="21600" y="1272"/>
                </a:lnTo>
                <a:arcTo wR="1272" hR="1272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32720" y="2781360"/>
            <a:ext cx="1511280" cy="2232000"/>
          </a:xfrm>
          <a:custGeom>
            <a:avLst/>
            <a:gdLst>
              <a:gd name="textAreaLeft" fmla="*/ 28440 w 1511280"/>
              <a:gd name="textAreaRight" fmla="*/ 1482840 w 1511280"/>
              <a:gd name="textAreaTop" fmla="*/ 28440 h 2232000"/>
              <a:gd name="textAreaBottom" fmla="*/ 2203560 h 2232000"/>
            </a:gdLst>
            <a:ahLst/>
            <a:rect l="textAreaLeft" t="textAreaTop" r="textAreaRight" b="textAreaBottom"/>
            <a:pathLst>
              <a:path w="21600" h="31898">
                <a:moveTo>
                  <a:pt x="1405" y="0"/>
                </a:moveTo>
                <a:arcTo wR="1405" hR="1405" stAng="16200000" swAng="-5400000"/>
                <a:lnTo>
                  <a:pt x="0" y="30493"/>
                </a:lnTo>
                <a:arcTo wR="1405" hR="1405" stAng="10800000" swAng="-5400000"/>
                <a:lnTo>
                  <a:pt x="20195" y="31898"/>
                </a:lnTo>
                <a:arcTo wR="1405" hR="1405" stAng="5400000" swAng="-5400000"/>
                <a:lnTo>
                  <a:pt x="21600" y="1405"/>
                </a:lnTo>
                <a:arcTo wR="1405" hR="1405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908760" y="3154320"/>
            <a:ext cx="11527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908760" y="3716280"/>
            <a:ext cx="11527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59240" y="3154320"/>
            <a:ext cx="11527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51640" y="3043080"/>
            <a:ext cx="21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259240" y="3827520"/>
            <a:ext cx="1152720" cy="1041480"/>
          </a:xfrm>
          <a:prstGeom prst="roundRect">
            <a:avLst>
              <a:gd name="adj" fmla="val 6782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78400" y="4305240"/>
            <a:ext cx="9367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assig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5013360" y="183996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045040" y="531648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5370480" y="323532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7023240" y="37846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7018200" y="322740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6"/>
          <a:stretch/>
        </p:blipFill>
        <p:spPr>
          <a:xfrm>
            <a:off x="5384880" y="4379760"/>
            <a:ext cx="284040" cy="2844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6100920" y="1281240"/>
            <a:ext cx="1081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equen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7"/>
          <a:stretch/>
        </p:blipFill>
        <p:spPr>
          <a:xfrm>
            <a:off x="6087960" y="1347840"/>
            <a:ext cx="284400" cy="2840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940440" y="2577960"/>
            <a:ext cx="1081080" cy="4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equen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8"/>
          <a:stretch/>
        </p:blipFill>
        <p:spPr>
          <a:xfrm>
            <a:off x="6927840" y="2644920"/>
            <a:ext cx="284040" cy="2840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5291280" y="2577960"/>
            <a:ext cx="1081080" cy="4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equen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9"/>
          <a:stretch/>
        </p:blipFill>
        <p:spPr>
          <a:xfrm>
            <a:off x="5278320" y="2644920"/>
            <a:ext cx="284400" cy="2840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6229440" y="2060640"/>
            <a:ext cx="86364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flo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0"/>
          <a:stretch/>
        </p:blipFill>
        <p:spPr>
          <a:xfrm>
            <a:off x="6303960" y="2133720"/>
            <a:ext cx="284040" cy="28404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5403960" y="3730680"/>
            <a:ext cx="86364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whil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1"/>
          <a:stretch/>
        </p:blipFill>
        <p:spPr>
          <a:xfrm>
            <a:off x="5446800" y="3797280"/>
            <a:ext cx="284040" cy="28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788000" y="1413000"/>
            <a:ext cx="3743280" cy="4392360"/>
          </a:xfrm>
          <a:custGeom>
            <a:avLst/>
            <a:gdLst>
              <a:gd name="textAreaLeft" fmla="*/ 32400 w 3743280"/>
              <a:gd name="textAreaRight" fmla="*/ 3710880 w 3743280"/>
              <a:gd name="textAreaTop" fmla="*/ 32400 h 4392360"/>
              <a:gd name="textAreaBottom" fmla="*/ 4359960 h 4392360"/>
            </a:gdLst>
            <a:ahLst/>
            <a:rect l="textAreaLeft" t="textAreaTop" r="textAreaRight" b="textAreaBottom"/>
            <a:pathLst>
              <a:path w="21600" h="25345">
                <a:moveTo>
                  <a:pt x="645" y="0"/>
                </a:moveTo>
                <a:arcTo wR="645" hR="645" stAng="16200000" swAng="-5400000"/>
                <a:lnTo>
                  <a:pt x="0" y="24700"/>
                </a:lnTo>
                <a:arcTo wR="645" hR="645" stAng="10800000" swAng="-5400000"/>
                <a:lnTo>
                  <a:pt x="20955" y="25345"/>
                </a:lnTo>
                <a:arcTo wR="645" hR="645" stAng="5400000" swAng="-5400000"/>
                <a:lnTo>
                  <a:pt x="21600" y="645"/>
                </a:lnTo>
                <a:arcTo wR="645" hR="645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30920" y="3789360"/>
            <a:ext cx="2520720" cy="1871640"/>
          </a:xfrm>
          <a:prstGeom prst="roundRect">
            <a:avLst>
              <a:gd name="adj" fmla="val 4292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6000" y="3586320"/>
            <a:ext cx="792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. . 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67640" y="2779560"/>
            <a:ext cx="1368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faul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handl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667640" y="1771560"/>
            <a:ext cx="1368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Opseg i Obradjivač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Opseg (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cope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Lo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kalne varijabl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Lo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kalne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partner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sk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link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ov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Lo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kalne skup korelisanih osobina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orrelation sets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Skup aktivnosti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osnovne i strukturian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Obradjivači (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Handlers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Obradjivači dogadjaj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oruke dogadjaji ili vremnski dogadjaji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Obradjivači grešak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Obrada različitih internih izuzetaka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(inter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nih grešaka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ompen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zacioni obradjivač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oništavanje treutnih efekata kompletiranih aktivnosti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Obradjivač prekid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Obrada forsiranog prekida 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(e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ks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tern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e greške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>
            <a:off x="7596360" y="2708280"/>
            <a:ext cx="1368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faul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handler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596360" y="3716280"/>
            <a:ext cx="143964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compensatio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handl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596360" y="4653000"/>
            <a:ext cx="143964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terminatio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handl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596360" y="1700280"/>
            <a:ext cx="136836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even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handler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588000" y="4587840"/>
            <a:ext cx="50508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c1a57"/>
                </a:solidFill>
                <a:latin typeface="Arial"/>
                <a:ea typeface="Arial"/>
              </a:rPr>
              <a:t>. . .</a:t>
            </a: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83280" y="5232240"/>
            <a:ext cx="504720" cy="20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c1a57"/>
                </a:solidFill>
                <a:latin typeface="Arial"/>
                <a:ea typeface="Arial"/>
              </a:rPr>
              <a:t>. . .</a:t>
            </a: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219640" y="4732200"/>
            <a:ext cx="50472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c1a57"/>
                </a:solidFill>
                <a:latin typeface="Arial"/>
                <a:ea typeface="Arial"/>
              </a:rPr>
              <a:t>. . .</a:t>
            </a: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51640" y="4156200"/>
            <a:ext cx="50472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c1a57"/>
                </a:solidFill>
                <a:latin typeface="Arial"/>
                <a:ea typeface="Arial"/>
              </a:rPr>
              <a:t>. . .</a:t>
            </a: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5" idx="2"/>
            <a:endCxn id="534" idx="0"/>
          </p:cNvCxnSpPr>
          <p:nvPr/>
        </p:nvCxnSpPr>
        <p:spPr>
          <a:xfrm rot="5400000">
            <a:off x="5504040" y="4332960"/>
            <a:ext cx="367200" cy="432720"/>
          </a:xfrm>
          <a:prstGeom prst="curvedConnector5">
            <a:avLst>
              <a:gd name="adj1" fmla="val 49754"/>
              <a:gd name="adj2" fmla="val 49958"/>
              <a:gd name="adj3" fmla="val 49754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37" name=""/>
          <p:cNvCxnSpPr>
            <a:stCxn id="535" idx="2"/>
            <a:endCxn id="532" idx="0"/>
          </p:cNvCxnSpPr>
          <p:nvPr/>
        </p:nvCxnSpPr>
        <p:spPr>
          <a:xfrm flipH="1" rot="16200000">
            <a:off x="6260040" y="4008240"/>
            <a:ext cx="222840" cy="937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38" name=""/>
          <p:cNvCxnSpPr>
            <a:stCxn id="532" idx="2"/>
            <a:endCxn id="533" idx="0"/>
          </p:cNvCxnSpPr>
          <p:nvPr/>
        </p:nvCxnSpPr>
        <p:spPr>
          <a:xfrm rot="5400000">
            <a:off x="6369840" y="4762440"/>
            <a:ext cx="435600" cy="505440"/>
          </a:xfrm>
          <a:prstGeom prst="curvedConnector5">
            <a:avLst>
              <a:gd name="adj1" fmla="val 49958"/>
              <a:gd name="adj2" fmla="val 49964"/>
              <a:gd name="adj3" fmla="val 49958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39" name=""/>
          <p:cNvCxnSpPr>
            <a:stCxn id="534" idx="2"/>
            <a:endCxn id="533" idx="0"/>
          </p:cNvCxnSpPr>
          <p:nvPr/>
        </p:nvCxnSpPr>
        <p:spPr>
          <a:xfrm flipH="1" rot="16200000">
            <a:off x="5757480" y="4654800"/>
            <a:ext cx="291240" cy="864360"/>
          </a:xfrm>
          <a:prstGeom prst="curvedConnector5">
            <a:avLst>
              <a:gd name="adj1" fmla="val 49628"/>
              <a:gd name="adj2" fmla="val 50000"/>
              <a:gd name="adj3" fmla="val 49628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sp>
        <p:nvSpPr>
          <p:cNvPr id="540" name=""/>
          <p:cNvSpPr/>
          <p:nvPr/>
        </p:nvSpPr>
        <p:spPr>
          <a:xfrm>
            <a:off x="6157800" y="3009960"/>
            <a:ext cx="1292400" cy="49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84720" y="2936880"/>
            <a:ext cx="1292400" cy="490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correla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set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53080" y="2360520"/>
            <a:ext cx="1150920" cy="490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580000" y="2287440"/>
            <a:ext cx="1150920" cy="490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partn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link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6156360" y="5262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6661080" y="4633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5"/>
          <a:stretch/>
        </p:blipFill>
        <p:spPr>
          <a:xfrm>
            <a:off x="5292720" y="47721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6"/>
          <a:stretch/>
        </p:blipFill>
        <p:spPr>
          <a:xfrm>
            <a:off x="5727600" y="4194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7"/>
          <a:stretch/>
        </p:blipFill>
        <p:spPr>
          <a:xfrm>
            <a:off x="5686560" y="240516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8"/>
          <a:stretch/>
        </p:blipFill>
        <p:spPr>
          <a:xfrm>
            <a:off x="6156360" y="30592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9"/>
          <a:stretch/>
        </p:blipFill>
        <p:spPr>
          <a:xfrm>
            <a:off x="7667640" y="1773360"/>
            <a:ext cx="254160" cy="2538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10"/>
          <a:stretch/>
        </p:blipFill>
        <p:spPr>
          <a:xfrm>
            <a:off x="7667640" y="2816280"/>
            <a:ext cx="254160" cy="2538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11"/>
          <a:stretch/>
        </p:blipFill>
        <p:spPr>
          <a:xfrm>
            <a:off x="7667640" y="3824280"/>
            <a:ext cx="254160" cy="25416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12"/>
          <a:stretch/>
        </p:blipFill>
        <p:spPr>
          <a:xfrm>
            <a:off x="7672320" y="4729320"/>
            <a:ext cx="284400" cy="284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6100920" y="1197000"/>
            <a:ext cx="1081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cop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3"/>
          <a:stretch/>
        </p:blipFill>
        <p:spPr>
          <a:xfrm>
            <a:off x="6227640" y="1268280"/>
            <a:ext cx="284400" cy="2844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14"/>
          <a:stretch/>
        </p:blipFill>
        <p:spPr>
          <a:xfrm>
            <a:off x="5867280" y="3649680"/>
            <a:ext cx="284400" cy="2840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5003640" y="1701720"/>
            <a:ext cx="1081080" cy="490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930920" y="1628640"/>
            <a:ext cx="1081080" cy="490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variabl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5"/>
          <a:stretch/>
        </p:blipFill>
        <p:spPr>
          <a:xfrm>
            <a:off x="4932360" y="1728720"/>
            <a:ext cx="284040" cy="2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Životni ciklus instance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lovni procesi u BPEL prestavljaju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b servi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e koji čuvaju stanje (stateful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da se proces pokrene, kreira se nova instanca proce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reiranje i unistavanje instance procesa je implicit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900000" y="4653000"/>
            <a:ext cx="10065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237440" y="4653000"/>
            <a:ext cx="9349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pl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068720" y="4653000"/>
            <a:ext cx="10065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484360" y="4653000"/>
            <a:ext cx="10065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53080" y="4653000"/>
            <a:ext cx="10065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62" idx="3"/>
            <a:endCxn id="565" idx="1"/>
          </p:cNvCxnSpPr>
          <p:nvPr/>
        </p:nvCxnSpPr>
        <p:spPr>
          <a:xfrm>
            <a:off x="1906200" y="4862160"/>
            <a:ext cx="57852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68" name=""/>
          <p:cNvCxnSpPr>
            <a:stCxn id="565" idx="3"/>
            <a:endCxn id="564" idx="1"/>
          </p:cNvCxnSpPr>
          <p:nvPr/>
        </p:nvCxnSpPr>
        <p:spPr>
          <a:xfrm>
            <a:off x="3490560" y="4862160"/>
            <a:ext cx="57852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69" name=""/>
          <p:cNvCxnSpPr>
            <a:stCxn id="564" idx="3"/>
            <a:endCxn id="566" idx="1"/>
          </p:cNvCxnSpPr>
          <p:nvPr/>
        </p:nvCxnSpPr>
        <p:spPr>
          <a:xfrm>
            <a:off x="5074920" y="4862160"/>
            <a:ext cx="57852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70" name=""/>
          <p:cNvCxnSpPr>
            <a:stCxn id="566" idx="3"/>
            <a:endCxn id="563" idx="1"/>
          </p:cNvCxnSpPr>
          <p:nvPr/>
        </p:nvCxnSpPr>
        <p:spPr>
          <a:xfrm>
            <a:off x="6659280" y="4862160"/>
            <a:ext cx="57852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sp>
        <p:nvSpPr>
          <p:cNvPr id="571" name=""/>
          <p:cNvSpPr/>
          <p:nvPr/>
        </p:nvSpPr>
        <p:spPr>
          <a:xfrm>
            <a:off x="1071720" y="5300640"/>
            <a:ext cx="649080" cy="576360"/>
          </a:xfrm>
          <a:prstGeom prst="star5">
            <a:avLst/>
          </a:prstGeom>
          <a:solidFill>
            <a:srgbClr val="ffff00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451640" y="5373720"/>
            <a:ext cx="576360" cy="50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451640" y="5373720"/>
            <a:ext cx="576360" cy="50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949320" y="472284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7308720" y="471168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2548080" y="472284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4"/>
          <a:stretch/>
        </p:blipFill>
        <p:spPr>
          <a:xfrm>
            <a:off x="4143240" y="473400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5"/>
          <a:stretch/>
        </p:blipFill>
        <p:spPr>
          <a:xfrm>
            <a:off x="5727600" y="4734000"/>
            <a:ext cx="284400" cy="28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556000" y="1557360"/>
            <a:ext cx="4032000" cy="2879640"/>
          </a:xfrm>
          <a:prstGeom prst="roundRect">
            <a:avLst>
              <a:gd name="adj" fmla="val 440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EPL - pri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258920" y="4724280"/>
            <a:ext cx="6648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1. 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Klijent podnosi zahtev za kredit koji sadrži podatke o klijentu i zahtevanom iznosu kredit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2. 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Dva servisa su uključena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: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a) 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isk 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analiza koja definiše stepen rizik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b) 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Odobravanje kredita proverava ime i odobrava’neodobrava zahtev za kredit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3. 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Odgovor se vraća klijent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26160" y="1989000"/>
            <a:ext cx="1006560" cy="2016360"/>
          </a:xfrm>
          <a:prstGeom prst="rect">
            <a:avLst/>
          </a:prstGeom>
          <a:solidFill>
            <a:srgbClr val="6f89f7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81800" y="2205000"/>
            <a:ext cx="289080" cy="287280"/>
          </a:xfrm>
          <a:prstGeom prst="rect">
            <a:avLst/>
          </a:prstGeom>
          <a:solidFill>
            <a:srgbClr val="cfdbfd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37440" y="2278080"/>
            <a:ext cx="288720" cy="142920"/>
          </a:xfrm>
          <a:prstGeom prst="leftRightArrow">
            <a:avLst>
              <a:gd name="adj1" fmla="val 50000"/>
              <a:gd name="adj2" fmla="val 40216"/>
            </a:avLst>
          </a:prstGeom>
          <a:solidFill>
            <a:srgbClr val="6f89f7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1280" y="1989000"/>
            <a:ext cx="1008000" cy="2016360"/>
          </a:xfrm>
          <a:prstGeom prst="rect">
            <a:avLst/>
          </a:prstGeom>
          <a:solidFill>
            <a:srgbClr val="6f89f7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474920" y="2205000"/>
            <a:ext cx="288720" cy="287280"/>
          </a:xfrm>
          <a:prstGeom prst="rect">
            <a:avLst/>
          </a:prstGeom>
          <a:solidFill>
            <a:srgbClr val="cfdbfd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1619280" y="2276640"/>
            <a:ext cx="288720" cy="142560"/>
          </a:xfrm>
          <a:prstGeom prst="leftRightArrow">
            <a:avLst>
              <a:gd name="adj1" fmla="val 50000"/>
              <a:gd name="adj2" fmla="val 40317"/>
            </a:avLst>
          </a:prstGeom>
          <a:solidFill>
            <a:srgbClr val="6f89f7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62200" y="2519280"/>
            <a:ext cx="289080" cy="28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60720" y="251784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068720" y="197496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148360" y="251784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40360" y="3801960"/>
            <a:ext cx="8650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pl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68720" y="3009960"/>
            <a:ext cx="1008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assig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89" idx="1"/>
            <a:endCxn id="587" idx="0"/>
          </p:cNvCxnSpPr>
          <p:nvPr/>
        </p:nvCxnSpPr>
        <p:spPr>
          <a:xfrm rot="10800000">
            <a:off x="1907280" y="2347200"/>
            <a:ext cx="1153440" cy="380160"/>
          </a:xfrm>
          <a:prstGeom prst="curvedConnector5">
            <a:avLst>
              <a:gd name="adj1" fmla="val 49984"/>
              <a:gd name="adj2" fmla="val 49952"/>
              <a:gd name="adj3" fmla="val 49984"/>
            </a:avLst>
          </a:prstGeom>
          <a:ln w="38160">
            <a:solidFill>
              <a:srgbClr val="b2b2b2"/>
            </a:solidFill>
            <a:miter/>
            <a:tailEnd len="sm" type="triangle" w="sm"/>
          </a:ln>
        </p:spPr>
      </p:cxnSp>
      <p:cxnSp>
        <p:nvCxnSpPr>
          <p:cNvPr id="595" name=""/>
          <p:cNvCxnSpPr>
            <a:stCxn id="590" idx="1"/>
            <a:endCxn id="589" idx="0"/>
          </p:cNvCxnSpPr>
          <p:nvPr/>
        </p:nvCxnSpPr>
        <p:spPr>
          <a:xfrm flipV="1" rot="10800000">
            <a:off x="3564720" y="2184120"/>
            <a:ext cx="504000" cy="33408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96" name=""/>
          <p:cNvCxnSpPr>
            <a:stCxn id="590" idx="3"/>
            <a:endCxn id="591" idx="0"/>
          </p:cNvCxnSpPr>
          <p:nvPr/>
        </p:nvCxnSpPr>
        <p:spPr>
          <a:xfrm>
            <a:off x="5076360" y="2184480"/>
            <a:ext cx="577080" cy="33408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97" name=""/>
          <p:cNvCxnSpPr>
            <a:stCxn id="589" idx="3"/>
            <a:endCxn id="591" idx="1"/>
          </p:cNvCxnSpPr>
          <p:nvPr/>
        </p:nvCxnSpPr>
        <p:spPr>
          <a:xfrm>
            <a:off x="4068360" y="2727000"/>
            <a:ext cx="1080360" cy="108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98" name=""/>
          <p:cNvCxnSpPr>
            <a:stCxn id="589" idx="2"/>
            <a:endCxn id="593" idx="1"/>
          </p:cNvCxnSpPr>
          <p:nvPr/>
        </p:nvCxnSpPr>
        <p:spPr>
          <a:xfrm flipH="1" rot="16200000">
            <a:off x="3675600" y="2826000"/>
            <a:ext cx="283320" cy="50400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599" name=""/>
          <p:cNvCxnSpPr>
            <a:stCxn id="591" idx="2"/>
            <a:endCxn id="593" idx="3"/>
          </p:cNvCxnSpPr>
          <p:nvPr/>
        </p:nvCxnSpPr>
        <p:spPr>
          <a:xfrm rot="5400000">
            <a:off x="5222880" y="2789640"/>
            <a:ext cx="283320" cy="57708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600" name=""/>
          <p:cNvCxnSpPr>
            <a:stCxn id="591" idx="2"/>
            <a:endCxn id="592" idx="3"/>
          </p:cNvCxnSpPr>
          <p:nvPr/>
        </p:nvCxnSpPr>
        <p:spPr>
          <a:xfrm rot="5400000">
            <a:off x="4791240" y="3150000"/>
            <a:ext cx="1075320" cy="64836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601" name=""/>
          <p:cNvCxnSpPr>
            <a:stCxn id="593" idx="2"/>
            <a:endCxn id="592" idx="0"/>
          </p:cNvCxnSpPr>
          <p:nvPr/>
        </p:nvCxnSpPr>
        <p:spPr>
          <a:xfrm flipV="1" rot="10800000">
            <a:off x="4572720" y="3428640"/>
            <a:ext cx="1080" cy="37368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602" name=""/>
          <p:cNvCxnSpPr>
            <a:stCxn id="591" idx="3"/>
            <a:endCxn id="584" idx="0"/>
          </p:cNvCxnSpPr>
          <p:nvPr/>
        </p:nvCxnSpPr>
        <p:spPr>
          <a:xfrm flipV="1">
            <a:off x="6156000" y="2349000"/>
            <a:ext cx="1081800" cy="378720"/>
          </a:xfrm>
          <a:prstGeom prst="curvedConnector5">
            <a:avLst>
              <a:gd name="adj1" fmla="val 49900"/>
              <a:gd name="adj2" fmla="val 49952"/>
              <a:gd name="adj3" fmla="val 49900"/>
            </a:avLst>
          </a:prstGeom>
          <a:ln w="38160">
            <a:solidFill>
              <a:srgbClr val="b2b2b2"/>
            </a:solidFill>
            <a:miter/>
            <a:tailEnd len="sm" type="triangle" w="sm"/>
          </a:ln>
        </p:spPr>
      </p:cxnSp>
      <p:sp>
        <p:nvSpPr>
          <p:cNvPr id="603" name=""/>
          <p:cNvSpPr/>
          <p:nvPr/>
        </p:nvSpPr>
        <p:spPr>
          <a:xfrm>
            <a:off x="6709680" y="1706400"/>
            <a:ext cx="16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40458c"/>
                </a:solidFill>
                <a:latin typeface="Arial"/>
                <a:ea typeface="Times New Roman"/>
              </a:rPr>
              <a:t>odobrenjeKredita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  <a:ea typeface="Times New Roman"/>
              </a:rPr>
              <a:t>P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4" name="Cloud"/>
          <p:cNvSpPr/>
          <p:nvPr/>
        </p:nvSpPr>
        <p:spPr>
          <a:xfrm>
            <a:off x="7596360" y="2421000"/>
            <a:ext cx="812520" cy="1152360"/>
          </a:xfrm>
          <a:prstGeom prst="pie">
            <a:avLst/>
          </a:prstGeom>
          <a:solidFill>
            <a:srgbClr val="b2b2b2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loa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pprov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31400" y="170640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  <a:ea typeface="Times New Roman"/>
              </a:rPr>
              <a:t>risk</a:t>
            </a:r>
            <a:r>
              <a:rPr b="1" lang="sr-Latn-CS" sz="1200" spc="-1" strike="noStrike">
                <a:solidFill>
                  <a:srgbClr val="40458c"/>
                </a:solidFill>
                <a:latin typeface="Arial"/>
                <a:ea typeface="Times New Roman"/>
              </a:rPr>
              <a:t>Analiza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  <a:ea typeface="Times New Roman"/>
              </a:rPr>
              <a:t>P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6" name="Cloud"/>
          <p:cNvSpPr/>
          <p:nvPr/>
        </p:nvSpPr>
        <p:spPr>
          <a:xfrm>
            <a:off x="655560" y="2421000"/>
            <a:ext cx="892080" cy="1152360"/>
          </a:xfrm>
          <a:prstGeom prst="pie">
            <a:avLst/>
          </a:prstGeom>
          <a:solidFill>
            <a:srgbClr val="b2b2b2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naliz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843280" y="1916280"/>
            <a:ext cx="1136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iznos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 &lt; 10000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32240" y="1916280"/>
            <a:ext cx="1211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iznos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 &gt;= 10000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35320" y="2492280"/>
            <a:ext cx="941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rizik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 = “</a:t>
            </a: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visok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"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14560" y="3213000"/>
            <a:ext cx="88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ri</a:t>
            </a: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zik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= “</a:t>
            </a: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nizak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"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84720" y="3213000"/>
            <a:ext cx="125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odobren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 = “</a:t>
            </a: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da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"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281560" y="3789360"/>
            <a:ext cx="1306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odobren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 = “</a:t>
            </a:r>
            <a:r>
              <a:rPr b="1" lang="sr-Latn-CS" sz="1000" spc="-1" strike="noStrike">
                <a:solidFill>
                  <a:srgbClr val="3c1a57"/>
                </a:solidFill>
                <a:latin typeface="Arial"/>
                <a:ea typeface="Arial"/>
              </a:rPr>
              <a:t>ne</a:t>
            </a: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"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122720" y="205416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4184640" y="387180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3130560" y="259236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5219640" y="259884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4140360" y="3079800"/>
            <a:ext cx="284040" cy="2840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4137120" y="1341360"/>
            <a:ext cx="8665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flo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6"/>
          <a:stretch/>
        </p:blipFill>
        <p:spPr>
          <a:xfrm>
            <a:off x="4216320" y="1413000"/>
            <a:ext cx="284400" cy="28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611280" y="1557360"/>
            <a:ext cx="7921440" cy="4248000"/>
          </a:xfrm>
          <a:prstGeom prst="roundRect">
            <a:avLst>
              <a:gd name="adj" fmla="val 3088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00000" y="2997360"/>
            <a:ext cx="7417080" cy="1349280"/>
          </a:xfrm>
          <a:prstGeom prst="rightArrow">
            <a:avLst>
              <a:gd name="adj1" fmla="val 34352"/>
              <a:gd name="adj2" fmla="val 78893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273480" y="2220840"/>
            <a:ext cx="1873080" cy="3008520"/>
          </a:xfrm>
          <a:custGeom>
            <a:avLst/>
            <a:gdLst>
              <a:gd name="textAreaLeft" fmla="*/ 77040 w 1873080"/>
              <a:gd name="textAreaRight" fmla="*/ 1796040 w 1873080"/>
              <a:gd name="textAreaTop" fmla="*/ 77040 h 3008520"/>
              <a:gd name="textAreaBottom" fmla="*/ 2931480 h 3008520"/>
            </a:gdLst>
            <a:ahLst/>
            <a:rect l="textAreaLeft" t="textAreaTop" r="textAreaRight" b="textAreaBottom"/>
            <a:pathLst>
              <a:path w="21600" h="34691">
                <a:moveTo>
                  <a:pt x="3035" y="0"/>
                </a:moveTo>
                <a:arcTo wR="3035" hR="3035" stAng="16200000" swAng="-5400000"/>
                <a:lnTo>
                  <a:pt x="0" y="31656"/>
                </a:lnTo>
                <a:arcTo wR="3035" hR="3035" stAng="10800000" swAng="-5400000"/>
                <a:lnTo>
                  <a:pt x="18565" y="34691"/>
                </a:lnTo>
                <a:arcTo wR="3035" hR="3035" stAng="5400000" swAng="-5400000"/>
                <a:lnTo>
                  <a:pt x="21600" y="3035"/>
                </a:lnTo>
                <a:arcTo wR="3035" hR="3035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Arial"/>
              </a:rPr>
              <a:t>if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ff"/>
                </a:solidFill>
                <a:latin typeface="Arial"/>
              </a:rPr>
              <a:t>buyer$$  &lt;  seller$$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042920" y="2220840"/>
            <a:ext cx="1730520" cy="3002040"/>
          </a:xfrm>
          <a:custGeom>
            <a:avLst/>
            <a:gdLst>
              <a:gd name="textAreaLeft" fmla="*/ 22320 w 1730520"/>
              <a:gd name="textAreaRight" fmla="*/ 1708200 w 1730520"/>
              <a:gd name="textAreaTop" fmla="*/ 22320 h 3002040"/>
              <a:gd name="textAreaBottom" fmla="*/ 2979720 h 3002040"/>
            </a:gdLst>
            <a:ahLst/>
            <a:rect l="textAreaLeft" t="textAreaTop" r="textAreaRight" b="textAreaBottom"/>
            <a:pathLst>
              <a:path w="21600" h="37468">
                <a:moveTo>
                  <a:pt x="952" y="0"/>
                </a:moveTo>
                <a:arcTo wR="952" hR="952" stAng="16200000" swAng="-5400000"/>
                <a:lnTo>
                  <a:pt x="0" y="36516"/>
                </a:lnTo>
                <a:arcTo wR="952" hR="952" stAng="10800000" swAng="-5400000"/>
                <a:lnTo>
                  <a:pt x="20648" y="37468"/>
                </a:lnTo>
                <a:arcTo wR="952" hR="952" stAng="5400000" swAng="-5400000"/>
                <a:lnTo>
                  <a:pt x="21600" y="952"/>
                </a:lnTo>
                <a:arcTo wR="952" hR="95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Ugnježdavanje struktuiranih aktivnos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>
            <a:off x="7162920" y="2021040"/>
            <a:ext cx="108108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pl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(buyer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51640" y="2021040"/>
            <a:ext cx="108108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pl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(seller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32000" y="2652840"/>
            <a:ext cx="108108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(buyer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20840" y="4092480"/>
            <a:ext cx="1081080" cy="5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(seller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562200" y="4102200"/>
            <a:ext cx="129564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assig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"success"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62200" y="3189240"/>
            <a:ext cx="1295640" cy="56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assig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c1a57"/>
                </a:solidFill>
                <a:latin typeface="Arial"/>
                <a:ea typeface="Arial"/>
              </a:rPr>
              <a:t>"failure"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403280" y="279396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7236000" y="216360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3"/>
          <a:stretch/>
        </p:blipFill>
        <p:spPr>
          <a:xfrm>
            <a:off x="3633840" y="33148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4"/>
          <a:stretch/>
        </p:blipFill>
        <p:spPr>
          <a:xfrm>
            <a:off x="5726160" y="21700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5"/>
          <a:stretch/>
        </p:blipFill>
        <p:spPr>
          <a:xfrm>
            <a:off x="1403280" y="4255920"/>
            <a:ext cx="284400" cy="2844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6"/>
          <a:stretch/>
        </p:blipFill>
        <p:spPr>
          <a:xfrm>
            <a:off x="3633840" y="4243320"/>
            <a:ext cx="284040" cy="2844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487680" y="2706840"/>
            <a:ext cx="1441440" cy="171360"/>
          </a:xfrm>
          <a:prstGeom prst="rect">
            <a:avLst/>
          </a:prstGeom>
          <a:noFill/>
          <a:ln w="64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995640" y="1341360"/>
            <a:ext cx="11527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equen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7"/>
          <a:stretch/>
        </p:blipFill>
        <p:spPr>
          <a:xfrm>
            <a:off x="4019400" y="1413000"/>
            <a:ext cx="284400" cy="28404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473120" y="2017800"/>
            <a:ext cx="8668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flo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8"/>
          <a:stretch/>
        </p:blipFill>
        <p:spPr>
          <a:xfrm>
            <a:off x="1552680" y="2089080"/>
            <a:ext cx="284040" cy="28440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3559320" y="2021040"/>
            <a:ext cx="12985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f-then-el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9"/>
          <a:stretch/>
        </p:blipFill>
        <p:spPr>
          <a:xfrm>
            <a:off x="3600360" y="2081160"/>
            <a:ext cx="284400" cy="28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Obrada grešak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25"/>
              </a:spcBef>
              <a:buSzPct val="21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40458c"/>
                </a:solidFill>
                <a:latin typeface="Tahoma"/>
              </a:rPr>
              <a:t>Kada se generiše greška, bilo implicitno od strane BPEL engine ili eksplicitno preko </a:t>
            </a:r>
            <a:r>
              <a:rPr b="0" lang="en-US" sz="1700" spc="-1" strike="noStrike">
                <a:solidFill>
                  <a:srgbClr val="3333cc"/>
                </a:solidFill>
                <a:latin typeface="Tahoma"/>
              </a:rPr>
              <a:t>throw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a</a:t>
            </a:r>
            <a:r>
              <a:rPr b="0" lang="sr-Latn-CS" sz="1700" spc="-1" strike="noStrike">
                <a:solidFill>
                  <a:srgbClr val="40458c"/>
                </a:solidFill>
                <a:latin typeface="Tahoma"/>
              </a:rPr>
              <a:t>ktivnosti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Latn-CS" sz="1700" spc="-1" strike="noStrike">
                <a:solidFill>
                  <a:srgbClr val="40458c"/>
                </a:solidFill>
                <a:latin typeface="Tahoma"/>
              </a:rPr>
              <a:t>kontrola toka se prebacuje na obradjivač greške za dati tip greške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25"/>
              </a:spcBef>
              <a:buSzPct val="21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40458c"/>
                </a:solidFill>
                <a:latin typeface="Tahoma"/>
              </a:rPr>
              <a:t>Obradjivač grešaka je </a:t>
            </a:r>
            <a:r>
              <a:rPr b="0" lang="en-US" sz="1700" spc="-1" strike="noStrike">
                <a:solidFill>
                  <a:srgbClr val="3333cc"/>
                </a:solidFill>
                <a:latin typeface="Tahoma"/>
              </a:rPr>
              <a:t>catch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stru</a:t>
            </a:r>
            <a:r>
              <a:rPr b="0" lang="sr-Latn-CS" sz="1700" spc="-1" strike="noStrike">
                <a:solidFill>
                  <a:srgbClr val="40458c"/>
                </a:solidFill>
                <a:latin typeface="Tahoma"/>
              </a:rPr>
              <a:t>ktura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scope name=“s1”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faultHandlers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catch faultName=“x:invalidAccount”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 …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.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/catch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catch faultName=“x:closedAccount”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 ……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/catch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catchAll”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 ……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.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/catchAll”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/faultHandlers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ahoma"/>
              </a:rPr>
              <a:t>&lt;/scope&gt;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Obrada grešaka i kompenza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11280" y="1557360"/>
            <a:ext cx="7489800" cy="4248000"/>
          </a:xfrm>
          <a:prstGeom prst="roundRect">
            <a:avLst>
              <a:gd name="adj" fmla="val 3088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112760" y="2205000"/>
            <a:ext cx="5907240" cy="3095640"/>
          </a:xfrm>
          <a:prstGeom prst="roundRect">
            <a:avLst>
              <a:gd name="adj" fmla="val 4407"/>
            </a:avLst>
          </a:pr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47640" y="2924280"/>
            <a:ext cx="2086200" cy="1944720"/>
          </a:xfrm>
          <a:prstGeom prst="roundRect">
            <a:avLst>
              <a:gd name="adj" fmla="val 2986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11640" y="2924280"/>
            <a:ext cx="2085840" cy="1944720"/>
          </a:xfrm>
          <a:prstGeom prst="roundRect">
            <a:avLst>
              <a:gd name="adj" fmla="val 2986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39960" y="3184560"/>
            <a:ext cx="1317600" cy="1352520"/>
          </a:xfrm>
          <a:custGeom>
            <a:avLst/>
            <a:gdLst>
              <a:gd name="textAreaLeft" fmla="*/ 36720 w 1317600"/>
              <a:gd name="textAreaRight" fmla="*/ 1280880 w 1317600"/>
              <a:gd name="textAreaTop" fmla="*/ 36720 h 1352520"/>
              <a:gd name="textAreaBottom" fmla="*/ 1315800 h 1352520"/>
            </a:gdLst>
            <a:ahLst/>
            <a:rect l="textAreaLeft" t="textAreaTop" r="textAreaRight" b="textAreaBottom"/>
            <a:pathLst>
              <a:path w="21600" h="22172">
                <a:moveTo>
                  <a:pt x="2056" y="0"/>
                </a:moveTo>
                <a:arcTo wR="2056" hR="2056" stAng="16200000" swAng="-5400000"/>
                <a:lnTo>
                  <a:pt x="0" y="20116"/>
                </a:lnTo>
                <a:arcTo wR="2056" hR="2056" stAng="10800000" swAng="-5400000"/>
                <a:lnTo>
                  <a:pt x="19544" y="22172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compensatio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handl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720800" y="3619440"/>
            <a:ext cx="9493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charg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credit card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903400" y="3629160"/>
            <a:ext cx="9493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refund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custom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356000" y="3635280"/>
            <a:ext cx="8636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ship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good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37440" y="1989000"/>
            <a:ext cx="1511280" cy="2298960"/>
          </a:xfrm>
          <a:custGeom>
            <a:avLst/>
            <a:gdLst>
              <a:gd name="textAreaLeft" fmla="*/ 27360 w 1511280"/>
              <a:gd name="textAreaRight" fmla="*/ 1483920 w 1511280"/>
              <a:gd name="textAreaTop" fmla="*/ 27360 h 2298960"/>
              <a:gd name="textAreaBottom" fmla="*/ 2271600 h 2298960"/>
            </a:gdLst>
            <a:ahLst/>
            <a:rect l="textAreaLeft" t="textAreaTop" r="textAreaRight" b="textAreaBottom"/>
            <a:pathLst>
              <a:path w="21600" h="32855">
                <a:moveTo>
                  <a:pt x="1339" y="0"/>
                </a:moveTo>
                <a:arcTo wR="1339" hR="1339" stAng="16200000" swAng="-5400000"/>
                <a:lnTo>
                  <a:pt x="0" y="31516"/>
                </a:lnTo>
                <a:arcTo wR="1339" hR="1339" stAng="10800000" swAng="-5400000"/>
                <a:lnTo>
                  <a:pt x="20261" y="32855"/>
                </a:lnTo>
                <a:arcTo wR="1339" hR="1339" stAng="5400000" swAng="-5400000"/>
                <a:lnTo>
                  <a:pt x="21600" y="1339"/>
                </a:lnTo>
                <a:arcTo wR="1339" hR="133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faul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handl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510320" y="2684520"/>
            <a:ext cx="9493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notif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657" name=""/>
          <p:cNvCxnSpPr>
            <a:stCxn id="654" idx="3"/>
            <a:endCxn id="658" idx="1"/>
          </p:cNvCxnSpPr>
          <p:nvPr/>
        </p:nvCxnSpPr>
        <p:spPr>
          <a:xfrm flipV="1">
            <a:off x="5219640" y="3859920"/>
            <a:ext cx="255960" cy="396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9" name=""/>
          <p:cNvSpPr/>
          <p:nvPr/>
        </p:nvSpPr>
        <p:spPr>
          <a:xfrm flipH="1">
            <a:off x="5072760" y="3284640"/>
            <a:ext cx="290520" cy="36036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389720" y="3429000"/>
            <a:ext cx="1214640" cy="43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compensat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75240" y="3184560"/>
            <a:ext cx="1317600" cy="1352520"/>
          </a:xfrm>
          <a:custGeom>
            <a:avLst/>
            <a:gdLst>
              <a:gd name="textAreaLeft" fmla="*/ 34560 w 1317600"/>
              <a:gd name="textAreaRight" fmla="*/ 1283040 w 1317600"/>
              <a:gd name="textAreaTop" fmla="*/ 34560 h 1352520"/>
              <a:gd name="textAreaBottom" fmla="*/ 1317960 h 1352520"/>
            </a:gdLst>
            <a:ahLst/>
            <a:rect l="textAreaLeft" t="textAreaTop" r="textAreaRight" b="textAreaBottom"/>
            <a:pathLst>
              <a:path w="21600" h="22172">
                <a:moveTo>
                  <a:pt x="1952" y="0"/>
                </a:moveTo>
                <a:arcTo wR="1952" hR="1952" stAng="16200000" swAng="-5400000"/>
                <a:lnTo>
                  <a:pt x="0" y="20220"/>
                </a:lnTo>
                <a:arcTo wR="1952" hR="1952" stAng="10800000" swAng="-5400000"/>
                <a:lnTo>
                  <a:pt x="19648" y="22172"/>
                </a:lnTo>
                <a:arcTo wR="1952" hR="1952" stAng="5400000" swAng="-5400000"/>
                <a:lnTo>
                  <a:pt x="21600" y="1952"/>
                </a:lnTo>
                <a:arcTo wR="1952" hR="195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faul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handl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638680" y="3629160"/>
            <a:ext cx="9493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rethrow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662" name=""/>
          <p:cNvCxnSpPr>
            <a:stCxn id="661" idx="3"/>
            <a:endCxn id="655" idx="1"/>
          </p:cNvCxnSpPr>
          <p:nvPr/>
        </p:nvCxnSpPr>
        <p:spPr>
          <a:xfrm flipV="1">
            <a:off x="6588000" y="3138120"/>
            <a:ext cx="650160" cy="720000"/>
          </a:xfrm>
          <a:prstGeom prst="curvedConnector5">
            <a:avLst>
              <a:gd name="adj1" fmla="val 49861"/>
              <a:gd name="adj2" fmla="val 49974"/>
              <a:gd name="adj3" fmla="val 49861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5532480" y="3246480"/>
            <a:ext cx="253800" cy="25380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2795760" y="3246480"/>
            <a:ext cx="253800" cy="25380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3"/>
          <a:stretch/>
        </p:blipFill>
        <p:spPr>
          <a:xfrm>
            <a:off x="7294680" y="2060640"/>
            <a:ext cx="253800" cy="253800"/>
          </a:xfrm>
          <a:prstGeom prst="rect">
            <a:avLst/>
          </a:prstGeom>
          <a:ln w="0">
            <a:noFill/>
          </a:ln>
        </p:spPr>
      </p:pic>
      <p:cxnSp>
        <p:nvCxnSpPr>
          <p:cNvPr id="666" name=""/>
          <p:cNvCxnSpPr>
            <a:stCxn id="660" idx="2"/>
            <a:endCxn id="651" idx="2"/>
          </p:cNvCxnSpPr>
          <p:nvPr/>
        </p:nvCxnSpPr>
        <p:spPr>
          <a:xfrm rot="5400000">
            <a:off x="5362560" y="1902240"/>
            <a:ext cx="670680" cy="4599720"/>
          </a:xfrm>
          <a:prstGeom prst="curvedConnector5">
            <a:avLst>
              <a:gd name="adj1" fmla="val 134103"/>
              <a:gd name="adj2" fmla="val 50000"/>
              <a:gd name="adj3" fmla="val 134103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667" name="" descr=""/>
          <p:cNvPicPr/>
          <p:nvPr/>
        </p:nvPicPr>
        <p:blipFill>
          <a:blip r:embed="rId4"/>
          <a:stretch/>
        </p:blipFill>
        <p:spPr>
          <a:xfrm>
            <a:off x="1708200" y="371628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5"/>
          <a:stretch/>
        </p:blipFill>
        <p:spPr>
          <a:xfrm>
            <a:off x="2916360" y="371628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6"/>
          <a:stretch/>
        </p:blipFill>
        <p:spPr>
          <a:xfrm>
            <a:off x="4427640" y="371628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7"/>
          <a:stretch/>
        </p:blipFill>
        <p:spPr>
          <a:xfrm>
            <a:off x="7550280" y="27766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8"/>
          <a:stretch/>
        </p:blipFill>
        <p:spPr>
          <a:xfrm>
            <a:off x="7451640" y="3530520"/>
            <a:ext cx="254160" cy="25416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9"/>
          <a:stretch/>
        </p:blipFill>
        <p:spPr>
          <a:xfrm>
            <a:off x="5683320" y="3705120"/>
            <a:ext cx="284040" cy="28440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3992400" y="1341360"/>
            <a:ext cx="11559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Proces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0"/>
          <a:stretch/>
        </p:blipFill>
        <p:spPr>
          <a:xfrm>
            <a:off x="4067280" y="1413000"/>
            <a:ext cx="284040" cy="28404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3780000" y="1989000"/>
            <a:ext cx="792000" cy="4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flo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1"/>
          <a:stretch/>
        </p:blipFill>
        <p:spPr>
          <a:xfrm>
            <a:off x="3851280" y="2052720"/>
            <a:ext cx="284040" cy="28404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4784760" y="2720880"/>
            <a:ext cx="9396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cop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2"/>
          <a:stretch/>
        </p:blipFill>
        <p:spPr>
          <a:xfrm>
            <a:off x="4859280" y="2784600"/>
            <a:ext cx="284400" cy="28404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2090880" y="2722680"/>
            <a:ext cx="9396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cop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3"/>
          <a:stretch/>
        </p:blipFill>
        <p:spPr>
          <a:xfrm>
            <a:off x="2165400" y="2786040"/>
            <a:ext cx="284040" cy="2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609480" y="1557360"/>
            <a:ext cx="2881440" cy="4248000"/>
          </a:xfrm>
          <a:custGeom>
            <a:avLst/>
            <a:gdLst>
              <a:gd name="textAreaLeft" fmla="*/ 37800 w 2881440"/>
              <a:gd name="textAreaRight" fmla="*/ 2843640 w 2881440"/>
              <a:gd name="textAreaTop" fmla="*/ 37800 h 4248000"/>
              <a:gd name="textAreaBottom" fmla="*/ 4210200 h 4248000"/>
            </a:gdLst>
            <a:ahLst/>
            <a:rect l="textAreaLeft" t="textAreaTop" r="textAreaRight" b="textAreaBottom"/>
            <a:pathLst>
              <a:path w="21600" h="31843">
                <a:moveTo>
                  <a:pt x="973" y="0"/>
                </a:moveTo>
                <a:arcTo wR="973" hR="973" stAng="16200000" swAng="-5400000"/>
                <a:lnTo>
                  <a:pt x="0" y="30870"/>
                </a:lnTo>
                <a:arcTo wR="973" hR="973" stAng="10800000" swAng="-5400000"/>
                <a:lnTo>
                  <a:pt x="20627" y="31843"/>
                </a:lnTo>
                <a:arcTo wR="973" hR="973" stAng="5400000" swAng="-5400000"/>
                <a:lnTo>
                  <a:pt x="21600" y="973"/>
                </a:lnTo>
                <a:arcTo wR="973" hR="973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651640" y="1557360"/>
            <a:ext cx="2881080" cy="4248000"/>
          </a:xfrm>
          <a:custGeom>
            <a:avLst/>
            <a:gdLst>
              <a:gd name="textAreaLeft" fmla="*/ 34200 w 2881080"/>
              <a:gd name="textAreaRight" fmla="*/ 2846880 w 2881080"/>
              <a:gd name="textAreaTop" fmla="*/ 34200 h 4248000"/>
              <a:gd name="textAreaBottom" fmla="*/ 4213800 h 4248000"/>
            </a:gdLst>
            <a:ahLst/>
            <a:rect l="textAreaLeft" t="textAreaTop" r="textAreaRight" b="textAreaBottom"/>
            <a:pathLst>
              <a:path w="21600" h="31847">
                <a:moveTo>
                  <a:pt x="878" y="0"/>
                </a:moveTo>
                <a:arcTo wR="878" hR="878" stAng="16200000" swAng="-5400000"/>
                <a:lnTo>
                  <a:pt x="0" y="30969"/>
                </a:lnTo>
                <a:arcTo wR="878" hR="878" stAng="10800000" swAng="-5400000"/>
                <a:lnTo>
                  <a:pt x="20722" y="31847"/>
                </a:lnTo>
                <a:arcTo wR="878" hR="878" stAng="5400000" swAng="-5400000"/>
                <a:lnTo>
                  <a:pt x="21600" y="878"/>
                </a:lnTo>
                <a:arcTo wR="878" hR="878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442200" y="1341360"/>
            <a:ext cx="12985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Process B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6519960" y="1413000"/>
            <a:ext cx="284040" cy="28404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1403280" y="1341360"/>
            <a:ext cx="129852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Process 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1481040" y="1413000"/>
            <a:ext cx="284400" cy="2840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BPEL Partner Link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6515280" y="2571840"/>
            <a:ext cx="11523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ques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515280" y="4881600"/>
            <a:ext cx="115236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callback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690" name=""/>
          <p:cNvCxnSpPr>
            <a:stCxn id="691" idx="3"/>
            <a:endCxn id="692" idx="0"/>
          </p:cNvCxnSpPr>
          <p:nvPr/>
        </p:nvCxnSpPr>
        <p:spPr>
          <a:xfrm>
            <a:off x="2627280" y="2781360"/>
            <a:ext cx="2664720" cy="2160"/>
          </a:xfrm>
          <a:prstGeom prst="curvedConnector5">
            <a:avLst>
              <a:gd name="adj1" fmla="val 49993"/>
              <a:gd name="adj2" fmla="val 40000"/>
              <a:gd name="adj3" fmla="val 4999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93" name=""/>
          <p:cNvCxnSpPr>
            <a:stCxn id="689" idx="1"/>
            <a:endCxn id="694" idx="0"/>
          </p:cNvCxnSpPr>
          <p:nvPr/>
        </p:nvCxnSpPr>
        <p:spPr>
          <a:xfrm flipV="1" rot="10800000">
            <a:off x="3866400" y="5090760"/>
            <a:ext cx="2648880" cy="2160"/>
          </a:xfrm>
          <a:prstGeom prst="curvedConnector5">
            <a:avLst>
              <a:gd name="adj1" fmla="val 49993"/>
              <a:gd name="adj2" fmla="val 40000"/>
              <a:gd name="adj3" fmla="val 4999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5435640" y="2638440"/>
            <a:ext cx="288720" cy="287280"/>
          </a:xfrm>
          <a:prstGeom prst="rect">
            <a:avLst/>
          </a:prstGeom>
          <a:solidFill>
            <a:srgbClr val="99cc00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291280" y="2711520"/>
            <a:ext cx="288720" cy="142920"/>
          </a:xfrm>
          <a:prstGeom prst="rightArrow">
            <a:avLst>
              <a:gd name="adj1" fmla="val 50000"/>
              <a:gd name="adj2" fmla="val 50504"/>
            </a:avLst>
          </a:prstGeom>
          <a:solidFill>
            <a:srgbClr val="009999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417840" y="4948200"/>
            <a:ext cx="289080" cy="287280"/>
          </a:xfrm>
          <a:prstGeom prst="rect">
            <a:avLst/>
          </a:prstGeom>
          <a:solidFill>
            <a:srgbClr val="99cc00"/>
          </a:solidFill>
          <a:ln w="1908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3578400" y="5021280"/>
            <a:ext cx="288720" cy="142920"/>
          </a:xfrm>
          <a:prstGeom prst="rightArrow">
            <a:avLst>
              <a:gd name="adj1" fmla="val 50000"/>
              <a:gd name="adj2" fmla="val 50504"/>
            </a:avLst>
          </a:prstGeom>
          <a:solidFill>
            <a:srgbClr val="009999"/>
          </a:soli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6" idx="1"/>
            <a:endCxn id="698" idx="3"/>
          </p:cNvCxnSpPr>
          <p:nvPr/>
        </p:nvCxnSpPr>
        <p:spPr>
          <a:xfrm rot="10800000">
            <a:off x="2626560" y="5090400"/>
            <a:ext cx="781920" cy="2160"/>
          </a:xfrm>
          <a:prstGeom prst="curvedConnector5">
            <a:avLst>
              <a:gd name="adj1" fmla="val 49378"/>
              <a:gd name="adj2" fmla="val 40000"/>
              <a:gd name="adj3" fmla="val 49378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95" idx="3"/>
            <a:endCxn id="688" idx="1"/>
          </p:cNvCxnSpPr>
          <p:nvPr/>
        </p:nvCxnSpPr>
        <p:spPr>
          <a:xfrm flipV="1">
            <a:off x="5734080" y="2781000"/>
            <a:ext cx="781920" cy="2160"/>
          </a:xfrm>
          <a:prstGeom prst="curvedConnector5">
            <a:avLst>
              <a:gd name="adj1" fmla="val 49378"/>
              <a:gd name="adj2" fmla="val 40000"/>
              <a:gd name="adj3" fmla="val 49378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00" name=""/>
          <p:cNvSpPr/>
          <p:nvPr/>
        </p:nvSpPr>
        <p:spPr>
          <a:xfrm>
            <a:off x="4933800" y="2421000"/>
            <a:ext cx="69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40458c"/>
                </a:solidFill>
                <a:latin typeface="Arial"/>
                <a:ea typeface="Arial"/>
              </a:rPr>
              <a:t>PortType-B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512880" y="5229360"/>
            <a:ext cx="69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40458c"/>
                </a:solidFill>
                <a:latin typeface="Arial"/>
                <a:ea typeface="Arial"/>
              </a:rPr>
              <a:t>PortType-A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471680" y="2571840"/>
            <a:ext cx="11556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invo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servi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4000" y="5516640"/>
            <a:ext cx="1752480" cy="466560"/>
          </a:xfrm>
          <a:prstGeom prst="wedgeEllipseCallout">
            <a:avLst>
              <a:gd name="adj1" fmla="val 42027"/>
              <a:gd name="adj2" fmla="val -84351"/>
            </a:avLst>
          </a:prstGeom>
          <a:solidFill>
            <a:srgbClr val="ff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40458c"/>
                </a:solidFill>
                <a:latin typeface="Arial"/>
                <a:ea typeface="Arial"/>
              </a:rPr>
              <a:t>6. </a:t>
            </a:r>
            <a:r>
              <a:rPr b="0" lang="sr-Latn-CS" sz="800" spc="-1" strike="noStrike">
                <a:solidFill>
                  <a:srgbClr val="40458c"/>
                </a:solidFill>
                <a:latin typeface="Arial"/>
                <a:ea typeface="Arial"/>
              </a:rPr>
              <a:t>Prihvata odgovor od drugih procesa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093080" y="5516640"/>
            <a:ext cx="1752480" cy="504720"/>
          </a:xfrm>
          <a:prstGeom prst="wedgeEllipseCallout">
            <a:avLst>
              <a:gd name="adj1" fmla="val -43023"/>
              <a:gd name="adj2" fmla="val -72953"/>
            </a:avLst>
          </a:prstGeom>
          <a:solidFill>
            <a:srgbClr val="ff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40458c"/>
                </a:solidFill>
                <a:latin typeface="Arial"/>
                <a:ea typeface="Arial"/>
              </a:rPr>
              <a:t>5. </a:t>
            </a:r>
            <a:r>
              <a:rPr b="0" lang="sr-Latn-CS" sz="800" spc="-1" strike="noStrike">
                <a:solidFill>
                  <a:srgbClr val="40458c"/>
                </a:solidFill>
                <a:latin typeface="Arial"/>
                <a:ea typeface="Arial"/>
              </a:rPr>
              <a:t>Pokreće </a:t>
            </a:r>
            <a:r>
              <a:rPr b="0" lang="de-AT" sz="800" spc="-1" strike="noStrike">
                <a:solidFill>
                  <a:srgbClr val="40458c"/>
                </a:solidFill>
                <a:latin typeface="Arial"/>
                <a:ea typeface="Arial"/>
              </a:rPr>
              <a:t>A</a:t>
            </a:r>
            <a:r>
              <a:rPr b="0" lang="sr-Latn-CS" sz="800" spc="-1" strike="noStrike">
                <a:solidFill>
                  <a:srgbClr val="40458c"/>
                </a:solidFill>
                <a:latin typeface="Arial"/>
                <a:ea typeface="Arial"/>
              </a:rPr>
              <a:t> izvršavanje korišćenjem primljenog</a:t>
            </a:r>
            <a:r>
              <a:rPr b="0" lang="de-AT" sz="800" spc="-1" strike="noStrike">
                <a:solidFill>
                  <a:srgbClr val="40458c"/>
                </a:solidFill>
                <a:latin typeface="Arial"/>
                <a:ea typeface="Arial"/>
              </a:rPr>
              <a:t> EPR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471680" y="4881600"/>
            <a:ext cx="11556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1a57"/>
                </a:solidFill>
                <a:latin typeface="Arial"/>
                <a:ea typeface="Arial"/>
              </a:rPr>
              <a:t>respon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1517760" y="494496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6635880" y="263700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5"/>
          <a:stretch/>
        </p:blipFill>
        <p:spPr>
          <a:xfrm>
            <a:off x="1593720" y="264492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6"/>
          <a:stretch/>
        </p:blipFill>
        <p:spPr>
          <a:xfrm>
            <a:off x="6611760" y="4952880"/>
            <a:ext cx="284400" cy="284400"/>
          </a:xfrm>
          <a:prstGeom prst="rect">
            <a:avLst/>
          </a:prstGeom>
          <a:ln w="0">
            <a:noFill/>
          </a:ln>
        </p:spPr>
      </p:pic>
      <p:grpSp>
        <p:nvGrpSpPr>
          <p:cNvPr id="708" name=""/>
          <p:cNvGrpSpPr/>
          <p:nvPr/>
        </p:nvGrpSpPr>
        <p:grpSpPr>
          <a:xfrm>
            <a:off x="2048400" y="2935080"/>
            <a:ext cx="5042880" cy="2004120"/>
            <a:chOff x="2048400" y="2935080"/>
            <a:chExt cx="5042880" cy="2004120"/>
          </a:xfrm>
        </p:grpSpPr>
        <p:cxnSp>
          <p:nvCxnSpPr>
            <p:cNvPr id="709" name=""/>
            <p:cNvCxnSpPr>
              <a:stCxn id="698" idx="0"/>
              <a:endCxn id="710" idx="1"/>
            </p:cNvCxnSpPr>
            <p:nvPr/>
          </p:nvCxnSpPr>
          <p:spPr>
            <a:xfrm flipH="1" flipV="1" rot="5400000">
              <a:off x="1753920" y="4218840"/>
              <a:ext cx="957960" cy="367560"/>
            </a:xfrm>
            <a:prstGeom prst="curvedConnector2">
              <a:avLst/>
            </a:prstGeom>
            <a:ln w="19080">
              <a:solidFill>
                <a:srgbClr val="b7c1eb"/>
              </a:solidFill>
              <a:miter/>
              <a:tailEnd len="med" type="triangle" w="med"/>
            </a:ln>
          </p:spPr>
        </p:cxnSp>
        <p:cxnSp>
          <p:nvCxnSpPr>
            <p:cNvPr id="711" name=""/>
            <p:cNvCxnSpPr>
              <a:stCxn id="691" idx="2"/>
              <a:endCxn id="710" idx="1"/>
            </p:cNvCxnSpPr>
            <p:nvPr/>
          </p:nvCxnSpPr>
          <p:spPr>
            <a:xfrm flipH="1" rot="16200000">
              <a:off x="1765080" y="3273840"/>
              <a:ext cx="934200" cy="367560"/>
            </a:xfrm>
            <a:prstGeom prst="curvedConnector2">
              <a:avLst/>
            </a:prstGeom>
            <a:ln w="19080">
              <a:solidFill>
                <a:srgbClr val="b7c1eb"/>
              </a:solidFill>
              <a:miter/>
              <a:tailEnd len="med" type="triangle" w="med"/>
            </a:ln>
          </p:spPr>
        </p:cxnSp>
        <p:cxnSp>
          <p:nvCxnSpPr>
            <p:cNvPr id="712" name=""/>
            <p:cNvCxnSpPr>
              <a:stCxn id="688" idx="2"/>
              <a:endCxn id="713" idx="3"/>
            </p:cNvCxnSpPr>
            <p:nvPr/>
          </p:nvCxnSpPr>
          <p:spPr>
            <a:xfrm rot="5400000">
              <a:off x="6442200" y="3275640"/>
              <a:ext cx="934200" cy="364320"/>
            </a:xfrm>
            <a:prstGeom prst="curvedConnector2">
              <a:avLst/>
            </a:prstGeom>
            <a:ln w="19080">
              <a:solidFill>
                <a:srgbClr val="b7c1eb"/>
              </a:solidFill>
              <a:miter/>
              <a:tailEnd len="med" type="triangle" w="med"/>
            </a:ln>
          </p:spPr>
        </p:cxnSp>
        <p:cxnSp>
          <p:nvCxnSpPr>
            <p:cNvPr id="714" name=""/>
            <p:cNvCxnSpPr>
              <a:stCxn id="689" idx="0"/>
              <a:endCxn id="713" idx="3"/>
            </p:cNvCxnSpPr>
            <p:nvPr/>
          </p:nvCxnSpPr>
          <p:spPr>
            <a:xfrm flipV="1" rot="16200000">
              <a:off x="6430320" y="4220280"/>
              <a:ext cx="957960" cy="364320"/>
            </a:xfrm>
            <a:prstGeom prst="curvedConnector2">
              <a:avLst/>
            </a:prstGeom>
            <a:ln w="19080">
              <a:solidFill>
                <a:srgbClr val="b7c1eb"/>
              </a:solidFill>
              <a:miter/>
              <a:tailEnd len="med" type="triangle" w="med"/>
            </a:ln>
          </p:spPr>
        </p:cxnSp>
        <p:sp>
          <p:nvSpPr>
            <p:cNvPr id="715" name=""/>
            <p:cNvSpPr/>
            <p:nvPr/>
          </p:nvSpPr>
          <p:spPr>
            <a:xfrm>
              <a:off x="4000680" y="3618000"/>
              <a:ext cx="1130040" cy="612720"/>
            </a:xfrm>
            <a:prstGeom prst="flowChartDecision">
              <a:avLst/>
            </a:prstGeom>
            <a:solidFill>
              <a:srgbClr val="333399"/>
            </a:solidFill>
            <a:ln w="1908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rtner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nk Type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716" name=""/>
            <p:cNvCxnSpPr>
              <a:stCxn id="710" idx="3"/>
              <a:endCxn id="715" idx="1"/>
            </p:cNvCxnSpPr>
            <p:nvPr/>
          </p:nvCxnSpPr>
          <p:spPr>
            <a:xfrm>
              <a:off x="3419280" y="3924000"/>
              <a:ext cx="572040" cy="1080"/>
            </a:xfrm>
            <a:prstGeom prst="curvedConnector2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</p:cxnSp>
        <p:cxnSp>
          <p:nvCxnSpPr>
            <p:cNvPr id="717" name=""/>
            <p:cNvCxnSpPr>
              <a:stCxn id="715" idx="0"/>
              <a:endCxn id="695" idx="2"/>
            </p:cNvCxnSpPr>
            <p:nvPr/>
          </p:nvCxnSpPr>
          <p:spPr>
            <a:xfrm flipH="1" flipV="1" rot="5400000">
              <a:off x="4735800" y="2764440"/>
              <a:ext cx="673920" cy="1015200"/>
            </a:xfrm>
            <a:prstGeom prst="curvedConnector5">
              <a:avLst>
                <a:gd name="adj1" fmla="val 49973"/>
                <a:gd name="adj2" fmla="val 49982"/>
                <a:gd name="adj3" fmla="val 49973"/>
              </a:avLst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</p:cxnSp>
        <p:cxnSp>
          <p:nvCxnSpPr>
            <p:cNvPr id="718" name=""/>
            <p:cNvCxnSpPr>
              <a:stCxn id="715" idx="2"/>
              <a:endCxn id="696" idx="0"/>
            </p:cNvCxnSpPr>
            <p:nvPr/>
          </p:nvCxnSpPr>
          <p:spPr>
            <a:xfrm rot="5400000">
              <a:off x="3713760" y="4088160"/>
              <a:ext cx="699120" cy="1003680"/>
            </a:xfrm>
            <a:prstGeom prst="curvedConnector5">
              <a:avLst>
                <a:gd name="adj1" fmla="val 49974"/>
                <a:gd name="adj2" fmla="val 49982"/>
                <a:gd name="adj3" fmla="val 49974"/>
              </a:avLst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</p:cxnSp>
        <p:sp>
          <p:nvSpPr>
            <p:cNvPr id="719" name=""/>
            <p:cNvSpPr/>
            <p:nvPr/>
          </p:nvSpPr>
          <p:spPr>
            <a:xfrm>
              <a:off x="3781440" y="465480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A-role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10040" y="306864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B-role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727600" y="3714840"/>
              <a:ext cx="100008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c1a57"/>
                  </a:solidFill>
                  <a:latin typeface="Arial"/>
                  <a:ea typeface="Arial"/>
                </a:rPr>
                <a:t>partne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c1a57"/>
                  </a:solidFill>
                  <a:latin typeface="Arial"/>
                  <a:ea typeface="Arial"/>
                </a:rPr>
                <a:t>link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16320" y="3714840"/>
              <a:ext cx="100332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c1a57"/>
                  </a:solidFill>
                  <a:latin typeface="Arial"/>
                  <a:ea typeface="Arial"/>
                </a:rPr>
                <a:t>partne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c1a57"/>
                  </a:solidFill>
                  <a:latin typeface="Arial"/>
                  <a:ea typeface="Arial"/>
                </a:rPr>
                <a:t>link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721" name=""/>
            <p:cNvCxnSpPr>
              <a:stCxn id="713" idx="1"/>
              <a:endCxn id="715" idx="3"/>
            </p:cNvCxnSpPr>
            <p:nvPr/>
          </p:nvCxnSpPr>
          <p:spPr>
            <a:xfrm rot="10800000">
              <a:off x="5139720" y="3923640"/>
              <a:ext cx="587880" cy="1080"/>
            </a:xfrm>
            <a:prstGeom prst="curvedConnector2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</p:cxnSp>
        <p:pic>
          <p:nvPicPr>
            <p:cNvPr id="722" name="" descr=""/>
            <p:cNvPicPr/>
            <p:nvPr/>
          </p:nvPicPr>
          <p:blipFill>
            <a:blip r:embed="rId7"/>
            <a:stretch/>
          </p:blipFill>
          <p:spPr>
            <a:xfrm>
              <a:off x="5776920" y="3780000"/>
              <a:ext cx="28404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8"/>
            <a:stretch/>
          </p:blipFill>
          <p:spPr>
            <a:xfrm>
              <a:off x="2467080" y="3792600"/>
              <a:ext cx="284040" cy="28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4" name=""/>
          <p:cNvGrpSpPr/>
          <p:nvPr/>
        </p:nvGrpSpPr>
        <p:grpSpPr>
          <a:xfrm>
            <a:off x="4788000" y="1773360"/>
            <a:ext cx="3612600" cy="2361600"/>
            <a:chOff x="4788000" y="1773360"/>
            <a:chExt cx="3612600" cy="2361600"/>
          </a:xfrm>
        </p:grpSpPr>
        <p:sp>
          <p:nvSpPr>
            <p:cNvPr id="725" name=""/>
            <p:cNvSpPr/>
            <p:nvPr/>
          </p:nvSpPr>
          <p:spPr>
            <a:xfrm>
              <a:off x="7537320" y="3715920"/>
              <a:ext cx="86328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7897680" y="3835080"/>
              <a:ext cx="380520" cy="199800"/>
              <a:chOff x="7897680" y="3835080"/>
              <a:chExt cx="380520" cy="199800"/>
            </a:xfrm>
          </p:grpSpPr>
          <p:sp>
            <p:nvSpPr>
              <p:cNvPr id="727" name=""/>
              <p:cNvSpPr/>
              <p:nvPr/>
            </p:nvSpPr>
            <p:spPr>
              <a:xfrm>
                <a:off x="7897680" y="3835080"/>
                <a:ext cx="380520" cy="1998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3c1a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7897680" y="3918240"/>
                <a:ext cx="160200" cy="116640"/>
              </a:xfrm>
              <a:prstGeom prst="line">
                <a:avLst/>
              </a:prstGeom>
              <a:ln w="9360">
                <a:solidFill>
                  <a:srgbClr val="3c1a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 flipV="1">
                <a:off x="8117640" y="3918240"/>
                <a:ext cx="160200" cy="116640"/>
              </a:xfrm>
              <a:prstGeom prst="line">
                <a:avLst/>
              </a:prstGeom>
              <a:ln w="9360">
                <a:solidFill>
                  <a:srgbClr val="3c1a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7897680" y="3835080"/>
                <a:ext cx="380520" cy="116640"/>
              </a:xfrm>
              <a:prstGeom prst="triangle">
                <a:avLst>
                  <a:gd name="adj" fmla="val 49889"/>
                </a:avLst>
              </a:prstGeom>
              <a:solidFill>
                <a:srgbClr val="00ff00"/>
              </a:solidFill>
              <a:ln w="9360">
                <a:solidFill>
                  <a:srgbClr val="3c1a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4788000" y="1773360"/>
              <a:ext cx="1752480" cy="576000"/>
            </a:xfrm>
            <a:prstGeom prst="wedgeEllipseCallout">
              <a:avLst>
                <a:gd name="adj1" fmla="val 48189"/>
                <a:gd name="adj2" fmla="val 89944"/>
              </a:avLst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3. </a:t>
              </a:r>
              <a:r>
                <a:rPr b="0" lang="sr-Latn-CS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Prihvata varijablu od procesa A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732" name="" descr=""/>
            <p:cNvPicPr/>
            <p:nvPr/>
          </p:nvPicPr>
          <p:blipFill>
            <a:blip r:embed="rId9"/>
            <a:stretch/>
          </p:blipFill>
          <p:spPr>
            <a:xfrm>
              <a:off x="7537320" y="3787560"/>
              <a:ext cx="283680" cy="28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"/>
          <p:cNvGrpSpPr/>
          <p:nvPr/>
        </p:nvGrpSpPr>
        <p:grpSpPr>
          <a:xfrm>
            <a:off x="108000" y="1339920"/>
            <a:ext cx="2521080" cy="2795040"/>
            <a:chOff x="108000" y="1339920"/>
            <a:chExt cx="2521080" cy="2795040"/>
          </a:xfrm>
        </p:grpSpPr>
        <p:sp>
          <p:nvSpPr>
            <p:cNvPr id="734" name=""/>
            <p:cNvSpPr/>
            <p:nvPr/>
          </p:nvSpPr>
          <p:spPr>
            <a:xfrm>
              <a:off x="755640" y="3715920"/>
              <a:ext cx="86364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1116000" y="3830400"/>
              <a:ext cx="380880" cy="199800"/>
              <a:chOff x="1116000" y="3830400"/>
              <a:chExt cx="380880" cy="199800"/>
            </a:xfrm>
          </p:grpSpPr>
          <p:sp>
            <p:nvSpPr>
              <p:cNvPr id="736" name=""/>
              <p:cNvSpPr/>
              <p:nvPr/>
            </p:nvSpPr>
            <p:spPr>
              <a:xfrm>
                <a:off x="1116000" y="3830400"/>
                <a:ext cx="380880" cy="1998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3c1a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1116000" y="3913920"/>
                <a:ext cx="160200" cy="115560"/>
              </a:xfrm>
              <a:prstGeom prst="line">
                <a:avLst/>
              </a:prstGeom>
              <a:ln w="9360">
                <a:solidFill>
                  <a:srgbClr val="3c1a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 flipV="1">
                <a:off x="1336320" y="3913920"/>
                <a:ext cx="160200" cy="115560"/>
              </a:xfrm>
              <a:prstGeom prst="line">
                <a:avLst/>
              </a:prstGeom>
              <a:ln w="9360">
                <a:solidFill>
                  <a:srgbClr val="3c1a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1116000" y="3832560"/>
                <a:ext cx="380880" cy="117000"/>
              </a:xfrm>
              <a:prstGeom prst="triangle">
                <a:avLst>
                  <a:gd name="adj" fmla="val 49889"/>
                </a:avLst>
              </a:prstGeom>
              <a:solidFill>
                <a:srgbClr val="00ff00"/>
              </a:solidFill>
              <a:ln w="9360">
                <a:solidFill>
                  <a:srgbClr val="3c1a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740" name=""/>
            <p:cNvCxnSpPr>
              <a:stCxn id="741" idx="2"/>
              <a:endCxn id="691" idx="0"/>
            </p:cNvCxnSpPr>
            <p:nvPr/>
          </p:nvCxnSpPr>
          <p:spPr>
            <a:xfrm rot="5400000">
              <a:off x="1933920" y="2449800"/>
              <a:ext cx="236880" cy="7200"/>
            </a:xfrm>
            <a:prstGeom prst="curvedConnector5">
              <a:avLst>
                <a:gd name="adj1" fmla="val 49619"/>
                <a:gd name="adj2" fmla="val 47368"/>
                <a:gd name="adj3" fmla="val 49619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741" name=""/>
            <p:cNvSpPr/>
            <p:nvPr/>
          </p:nvSpPr>
          <p:spPr>
            <a:xfrm>
              <a:off x="1482840" y="1915920"/>
              <a:ext cx="1146240" cy="41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c1a57"/>
                  </a:solidFill>
                  <a:latin typeface="Arial"/>
                  <a:ea typeface="Arial"/>
                </a:rPr>
                <a:t>assig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c1a57"/>
                  </a:solidFill>
                  <a:latin typeface="Arial"/>
                  <a:ea typeface="Arial"/>
                </a:rPr>
                <a:t>EP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8000" y="1339920"/>
              <a:ext cx="1752480" cy="576000"/>
            </a:xfrm>
            <a:prstGeom prst="wedgeEllipseCallout">
              <a:avLst>
                <a:gd name="adj1" fmla="val 25814"/>
                <a:gd name="adj2" fmla="val 81680"/>
              </a:avLst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1. </a:t>
              </a:r>
              <a:r>
                <a:rPr b="0" lang="sr-Latn-CS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Pridružuje varijabli vrednost </a:t>
              </a:r>
              <a:r>
                <a:rPr b="0" lang="de-AT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EPR </a:t>
              </a:r>
              <a:r>
                <a:rPr b="0" lang="sr-Latn-CS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iz </a:t>
              </a:r>
              <a:r>
                <a:rPr b="0" lang="de-AT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partnerLink (myRole)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743" name="" descr=""/>
            <p:cNvPicPr/>
            <p:nvPr/>
          </p:nvPicPr>
          <p:blipFill>
            <a:blip r:embed="rId10"/>
            <a:stretch/>
          </p:blipFill>
          <p:spPr>
            <a:xfrm>
              <a:off x="1612800" y="1987200"/>
              <a:ext cx="28440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" descr=""/>
            <p:cNvPicPr/>
            <p:nvPr/>
          </p:nvPicPr>
          <p:blipFill>
            <a:blip r:embed="rId11"/>
            <a:stretch/>
          </p:blipFill>
          <p:spPr>
            <a:xfrm>
              <a:off x="758880" y="3777840"/>
              <a:ext cx="284040" cy="2840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45" name=""/>
          <p:cNvCxnSpPr>
            <a:stCxn id="710" idx="0"/>
            <a:endCxn id="741" idx="3"/>
          </p:cNvCxnSpPr>
          <p:nvPr/>
        </p:nvCxnSpPr>
        <p:spPr>
          <a:xfrm flipV="1" rot="16200000">
            <a:off x="1978560" y="2775240"/>
            <a:ext cx="1589760" cy="289440"/>
          </a:xfrm>
          <a:prstGeom prst="curvedConnector2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746" name=""/>
          <p:cNvCxnSpPr>
            <a:stCxn id="734" idx="1"/>
            <a:endCxn id="691" idx="1"/>
          </p:cNvCxnSpPr>
          <p:nvPr/>
        </p:nvCxnSpPr>
        <p:spPr>
          <a:xfrm flipH="1" rot="10800000">
            <a:off x="754560" y="2780640"/>
            <a:ext cx="716760" cy="1145160"/>
          </a:xfrm>
          <a:prstGeom prst="curvedConnector5">
            <a:avLst>
              <a:gd name="adj1" fmla="val -31909"/>
              <a:gd name="adj2" fmla="val 50000"/>
              <a:gd name="adj3" fmla="val -31909"/>
            </a:avLst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747" name=""/>
          <p:cNvCxnSpPr>
            <a:stCxn id="688" idx="3"/>
            <a:endCxn id="725" idx="3"/>
          </p:cNvCxnSpPr>
          <p:nvPr/>
        </p:nvCxnSpPr>
        <p:spPr>
          <a:xfrm>
            <a:off x="7667280" y="2781000"/>
            <a:ext cx="734040" cy="1145160"/>
          </a:xfrm>
          <a:prstGeom prst="curvedConnector5">
            <a:avLst>
              <a:gd name="adj1" fmla="val 131157"/>
              <a:gd name="adj2" fmla="val 50000"/>
              <a:gd name="adj3" fmla="val 131157"/>
            </a:avLst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748" name=""/>
          <p:cNvCxnSpPr>
            <a:stCxn id="749" idx="1"/>
            <a:endCxn id="713" idx="0"/>
          </p:cNvCxnSpPr>
          <p:nvPr/>
        </p:nvCxnSpPr>
        <p:spPr>
          <a:xfrm flipV="1" rot="10800000">
            <a:off x="6226920" y="3422160"/>
            <a:ext cx="285120" cy="293040"/>
          </a:xfrm>
          <a:prstGeom prst="curvedConnector2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750" name=""/>
          <p:cNvCxnSpPr>
            <a:stCxn id="741" idx="1"/>
            <a:endCxn id="734" idx="0"/>
          </p:cNvCxnSpPr>
          <p:nvPr/>
        </p:nvCxnSpPr>
        <p:spPr>
          <a:xfrm flipV="1" rot="10800000">
            <a:off x="1186560" y="2125440"/>
            <a:ext cx="296280" cy="1591200"/>
          </a:xfrm>
          <a:prstGeom prst="curvedConnector2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751" name=""/>
          <p:cNvCxnSpPr>
            <a:stCxn id="725" idx="0"/>
            <a:endCxn id="749" idx="3"/>
          </p:cNvCxnSpPr>
          <p:nvPr/>
        </p:nvCxnSpPr>
        <p:spPr>
          <a:xfrm flipV="1" rot="16200000">
            <a:off x="7671240" y="3417840"/>
            <a:ext cx="294480" cy="302400"/>
          </a:xfrm>
          <a:prstGeom prst="curvedConnector2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752" name=""/>
          <p:cNvSpPr/>
          <p:nvPr/>
        </p:nvSpPr>
        <p:spPr>
          <a:xfrm>
            <a:off x="2890800" y="2036880"/>
            <a:ext cx="1752480" cy="600120"/>
          </a:xfrm>
          <a:prstGeom prst="wedgeEllipseCallout">
            <a:avLst>
              <a:gd name="adj1" fmla="val -60324"/>
              <a:gd name="adj2" fmla="val 58467"/>
            </a:avLst>
          </a:prstGeom>
          <a:solidFill>
            <a:srgbClr val="ff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40458c"/>
                </a:solidFill>
                <a:latin typeface="Arial"/>
                <a:ea typeface="Arial"/>
              </a:rPr>
              <a:t>2. </a:t>
            </a:r>
            <a:r>
              <a:rPr b="0" lang="sr-Latn-CS" sz="800" spc="-1" strike="noStrike">
                <a:solidFill>
                  <a:srgbClr val="40458c"/>
                </a:solidFill>
                <a:latin typeface="Arial"/>
                <a:ea typeface="Arial"/>
              </a:rPr>
              <a:t>Prenosi varijablu do</a:t>
            </a:r>
            <a:r>
              <a:rPr b="0" lang="de-AT" sz="800" spc="-1" strike="noStrike">
                <a:solidFill>
                  <a:srgbClr val="40458c"/>
                </a:solidFill>
                <a:latin typeface="Arial"/>
                <a:ea typeface="Arial"/>
              </a:rPr>
              <a:t> proces</a:t>
            </a:r>
            <a:r>
              <a:rPr b="0" lang="sr-Latn-CS" sz="800" spc="-1" strike="noStrike">
                <a:solidFill>
                  <a:srgbClr val="40458c"/>
                </a:solidFill>
                <a:latin typeface="Arial"/>
                <a:ea typeface="Arial"/>
              </a:rPr>
              <a:t>a</a:t>
            </a:r>
            <a:r>
              <a:rPr b="0" lang="de-AT" sz="800" spc="-1" strike="noStrike">
                <a:solidFill>
                  <a:srgbClr val="40458c"/>
                </a:solidFill>
                <a:latin typeface="Arial"/>
                <a:ea typeface="Arial"/>
              </a:rPr>
              <a:t> B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753" name=""/>
          <p:cNvCxnSpPr>
            <a:stCxn id="688" idx="2"/>
            <a:endCxn id="689" idx="0"/>
          </p:cNvCxnSpPr>
          <p:nvPr/>
        </p:nvCxnSpPr>
        <p:spPr>
          <a:xfrm flipV="1" rot="10800000">
            <a:off x="7090560" y="2990520"/>
            <a:ext cx="1080" cy="189144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54" name=""/>
          <p:cNvCxnSpPr>
            <a:stCxn id="691" idx="2"/>
            <a:endCxn id="698" idx="0"/>
          </p:cNvCxnSpPr>
          <p:nvPr/>
        </p:nvCxnSpPr>
        <p:spPr>
          <a:xfrm flipV="1" rot="10800000">
            <a:off x="2048760" y="2990520"/>
            <a:ext cx="1080" cy="189144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755" name=""/>
          <p:cNvGrpSpPr/>
          <p:nvPr/>
        </p:nvGrpSpPr>
        <p:grpSpPr>
          <a:xfrm>
            <a:off x="6512040" y="1916280"/>
            <a:ext cx="2549520" cy="2965680"/>
            <a:chOff x="6512040" y="1916280"/>
            <a:chExt cx="2549520" cy="2965680"/>
          </a:xfrm>
        </p:grpSpPr>
        <p:cxnSp>
          <p:nvCxnSpPr>
            <p:cNvPr id="756" name=""/>
            <p:cNvCxnSpPr>
              <a:stCxn id="749" idx="2"/>
              <a:endCxn id="689" idx="0"/>
            </p:cNvCxnSpPr>
            <p:nvPr/>
          </p:nvCxnSpPr>
          <p:spPr>
            <a:xfrm flipH="1" rot="16200000">
              <a:off x="6465960" y="4255920"/>
              <a:ext cx="1249920" cy="2160"/>
            </a:xfrm>
            <a:prstGeom prst="curvedConnector5">
              <a:avLst>
                <a:gd name="adj1" fmla="val 49927"/>
                <a:gd name="adj2" fmla="val 40000"/>
                <a:gd name="adj3" fmla="val 49927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757" name=""/>
            <p:cNvCxnSpPr>
              <a:stCxn id="688" idx="2"/>
              <a:endCxn id="749" idx="0"/>
            </p:cNvCxnSpPr>
            <p:nvPr/>
          </p:nvCxnSpPr>
          <p:spPr>
            <a:xfrm rot="5400000">
              <a:off x="6978600" y="3101400"/>
              <a:ext cx="223200" cy="2160"/>
            </a:xfrm>
            <a:prstGeom prst="curvedConnector5">
              <a:avLst>
                <a:gd name="adj1" fmla="val 49919"/>
                <a:gd name="adj2" fmla="val 40000"/>
                <a:gd name="adj3" fmla="val 49919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749" name=""/>
            <p:cNvSpPr/>
            <p:nvPr/>
          </p:nvSpPr>
          <p:spPr>
            <a:xfrm>
              <a:off x="6512040" y="3213360"/>
              <a:ext cx="115560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c1a57"/>
                  </a:solidFill>
                  <a:latin typeface="Arial"/>
                  <a:ea typeface="Arial"/>
                </a:rPr>
                <a:t>assig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c1a57"/>
                  </a:solidFill>
                  <a:latin typeface="Arial"/>
                  <a:ea typeface="Arial"/>
                </a:rPr>
                <a:t>EP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758" name="" descr=""/>
            <p:cNvPicPr/>
            <p:nvPr/>
          </p:nvPicPr>
          <p:blipFill>
            <a:blip r:embed="rId12"/>
            <a:stretch/>
          </p:blipFill>
          <p:spPr>
            <a:xfrm>
              <a:off x="6638760" y="3284640"/>
              <a:ext cx="284400" cy="2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7308720" y="1916280"/>
              <a:ext cx="1752840" cy="609480"/>
            </a:xfrm>
            <a:prstGeom prst="wedgeEllipseCallout">
              <a:avLst>
                <a:gd name="adj1" fmla="val -30254"/>
                <a:gd name="adj2" fmla="val 155731"/>
              </a:avLst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4. </a:t>
              </a:r>
              <a:r>
                <a:rPr b="0" lang="sr-Latn-CS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Pridružuje </a:t>
              </a:r>
              <a:r>
                <a:rPr b="0" lang="de-AT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EPR </a:t>
              </a:r>
              <a:r>
                <a:rPr b="0" lang="sr-Latn-CS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 iz varijable u</a:t>
              </a:r>
              <a:r>
                <a:rPr b="0" lang="de-AT" sz="800" spc="-1" strike="noStrike">
                  <a:solidFill>
                    <a:srgbClr val="40458c"/>
                  </a:solidFill>
                  <a:latin typeface="Arial"/>
                  <a:ea typeface="Arial"/>
                </a:rPr>
                <a:t> partnerLink (partnerRole)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5940360" y="1557360"/>
            <a:ext cx="2737080" cy="4248000"/>
          </a:xfrm>
          <a:custGeom>
            <a:avLst/>
            <a:gdLst>
              <a:gd name="textAreaLeft" fmla="*/ 24480 w 2737080"/>
              <a:gd name="textAreaRight" fmla="*/ 2712600 w 2737080"/>
              <a:gd name="textAreaTop" fmla="*/ 24480 h 4248000"/>
              <a:gd name="textAreaBottom" fmla="*/ 4223520 h 4248000"/>
            </a:gdLst>
            <a:ahLst/>
            <a:rect l="textAreaLeft" t="textAreaTop" r="textAreaRight" b="textAreaBottom"/>
            <a:pathLst>
              <a:path w="21600" h="33522">
                <a:moveTo>
                  <a:pt x="667" y="0"/>
                </a:moveTo>
                <a:arcTo wR="667" hR="667" stAng="16200000" swAng="-5400000"/>
                <a:lnTo>
                  <a:pt x="0" y="32855"/>
                </a:lnTo>
                <a:arcTo wR="667" hR="667" stAng="10800000" swAng="-5400000"/>
                <a:lnTo>
                  <a:pt x="20933" y="33522"/>
                </a:lnTo>
                <a:arcTo wR="667" hR="667" stAng="5400000" swAng="-5400000"/>
                <a:lnTo>
                  <a:pt x="21600" y="667"/>
                </a:lnTo>
                <a:arcTo wR="667" hR="667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348000" y="1557360"/>
            <a:ext cx="2448000" cy="4248000"/>
          </a:xfrm>
          <a:custGeom>
            <a:avLst/>
            <a:gdLst>
              <a:gd name="textAreaLeft" fmla="*/ 21960 w 2448000"/>
              <a:gd name="textAreaRight" fmla="*/ 2426040 w 2448000"/>
              <a:gd name="textAreaTop" fmla="*/ 21960 h 4248000"/>
              <a:gd name="textAreaBottom" fmla="*/ 4226040 h 4248000"/>
            </a:gdLst>
            <a:ahLst/>
            <a:rect l="textAreaLeft" t="textAreaTop" r="textAreaRight" b="textAreaBottom"/>
            <a:pathLst>
              <a:path w="21600" h="37480">
                <a:moveTo>
                  <a:pt x="667" y="0"/>
                </a:moveTo>
                <a:arcTo wR="667" hR="667" stAng="16200000" swAng="-5400000"/>
                <a:lnTo>
                  <a:pt x="0" y="36813"/>
                </a:lnTo>
                <a:arcTo wR="667" hR="667" stAng="10800000" swAng="-5400000"/>
                <a:lnTo>
                  <a:pt x="20933" y="37480"/>
                </a:lnTo>
                <a:arcTo wR="667" hR="667" stAng="5400000" swAng="-5400000"/>
                <a:lnTo>
                  <a:pt x="21600" y="667"/>
                </a:lnTo>
                <a:arcTo wR="667" hR="667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66560" y="1557360"/>
            <a:ext cx="2737080" cy="4248000"/>
          </a:xfrm>
          <a:custGeom>
            <a:avLst/>
            <a:gdLst>
              <a:gd name="textAreaLeft" fmla="*/ 24480 w 2737080"/>
              <a:gd name="textAreaRight" fmla="*/ 2712600 w 2737080"/>
              <a:gd name="textAreaTop" fmla="*/ 24480 h 4248000"/>
              <a:gd name="textAreaBottom" fmla="*/ 4223520 h 4248000"/>
            </a:gdLst>
            <a:ahLst/>
            <a:rect l="textAreaLeft" t="textAreaTop" r="textAreaRight" b="textAreaBottom"/>
            <a:pathLst>
              <a:path w="21600" h="33522">
                <a:moveTo>
                  <a:pt x="667" y="0"/>
                </a:moveTo>
                <a:arcTo wR="667" hR="667" stAng="16200000" swAng="-5400000"/>
                <a:lnTo>
                  <a:pt x="0" y="32855"/>
                </a:lnTo>
                <a:arcTo wR="667" hR="667" stAng="10800000" swAng="-5400000"/>
                <a:lnTo>
                  <a:pt x="20933" y="33522"/>
                </a:lnTo>
                <a:arcTo wR="667" hR="667" stAng="5400000" swAng="-5400000"/>
                <a:lnTo>
                  <a:pt x="21600" y="667"/>
                </a:lnTo>
                <a:arcTo wR="667" hR="667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00000" y="0"/>
            <a:ext cx="7201080" cy="961920"/>
          </a:xfrm>
          <a:prstGeom prst="rect">
            <a:avLst/>
          </a:prstGeom>
          <a:solidFill>
            <a:srgbClr val="3c1a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Rezervacija putovanja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65" idx="2"/>
            <a:endCxn id="766" idx="0"/>
          </p:cNvCxnSpPr>
          <p:nvPr/>
        </p:nvCxnSpPr>
        <p:spPr>
          <a:xfrm flipH="1" rot="16200000">
            <a:off x="4094640" y="3022920"/>
            <a:ext cx="9565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767" name=""/>
          <p:cNvCxnSpPr>
            <a:stCxn id="768" idx="2"/>
            <a:endCxn id="769" idx="0"/>
          </p:cNvCxnSpPr>
          <p:nvPr/>
        </p:nvCxnSpPr>
        <p:spPr>
          <a:xfrm flipH="1" rot="16200000">
            <a:off x="6500520" y="3353040"/>
            <a:ext cx="161676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148520" cy="961920"/>
          </a:xfrm>
          <a:prstGeom prst="rect">
            <a:avLst/>
          </a:prstGeom>
          <a:solidFill>
            <a:srgbClr val="3c1a57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ogled na izvršavanje proce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5" name=""/>
          <p:cNvSpPr/>
          <p:nvPr/>
        </p:nvSpPr>
        <p:spPr>
          <a:xfrm>
            <a:off x="3924360" y="2127240"/>
            <a:ext cx="12952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ge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itinerar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61080" y="2127240"/>
            <a:ext cx="129564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ge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ord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25800" y="3502080"/>
            <a:ext cx="129564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ord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ticket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25800" y="4162320"/>
            <a:ext cx="129564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confirmatio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662880" y="4162320"/>
            <a:ext cx="12952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confirm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fligh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661080" y="4881600"/>
            <a:ext cx="129564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send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ticket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925800" y="4881600"/>
            <a:ext cx="129564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send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confirmatio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92320" y="2813040"/>
            <a:ext cx="129204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submi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to agen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74880" y="4143240"/>
            <a:ext cx="1224000" cy="4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ticket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71680" y="4143240"/>
            <a:ext cx="1223640" cy="4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receiv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c1a57"/>
                </a:solidFill>
                <a:latin typeface="Arial"/>
                <a:ea typeface="Arial"/>
              </a:rPr>
              <a:t>confirmatio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66" idx="2"/>
            <a:endCxn id="771" idx="0"/>
          </p:cNvCxnSpPr>
          <p:nvPr/>
        </p:nvCxnSpPr>
        <p:spPr>
          <a:xfrm flipV="1" rot="10800000">
            <a:off x="4572720" y="3920760"/>
            <a:ext cx="1080" cy="24192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778" name=""/>
          <p:cNvCxnSpPr>
            <a:stCxn id="771" idx="2"/>
            <a:endCxn id="773" idx="0"/>
          </p:cNvCxnSpPr>
          <p:nvPr/>
        </p:nvCxnSpPr>
        <p:spPr>
          <a:xfrm flipV="1" rot="10800000">
            <a:off x="4572720" y="4581360"/>
            <a:ext cx="1080" cy="30060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779" name=""/>
          <p:cNvCxnSpPr>
            <a:stCxn id="769" idx="2"/>
            <a:endCxn id="772" idx="0"/>
          </p:cNvCxnSpPr>
          <p:nvPr/>
        </p:nvCxnSpPr>
        <p:spPr>
          <a:xfrm rot="5400000">
            <a:off x="7158960" y="4730400"/>
            <a:ext cx="300600" cy="2520"/>
          </a:xfrm>
          <a:prstGeom prst="curvedConnector5">
            <a:avLst>
              <a:gd name="adj1" fmla="val 49760"/>
              <a:gd name="adj2" fmla="val 50000"/>
              <a:gd name="adj3" fmla="val 49760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780" name=""/>
          <p:cNvCxnSpPr>
            <a:stCxn id="774" idx="2"/>
            <a:endCxn id="776" idx="0"/>
          </p:cNvCxnSpPr>
          <p:nvPr/>
        </p:nvCxnSpPr>
        <p:spPr>
          <a:xfrm rot="5400000">
            <a:off x="1055160" y="3360600"/>
            <a:ext cx="911880" cy="654480"/>
          </a:xfrm>
          <a:prstGeom prst="curvedConnector5">
            <a:avLst>
              <a:gd name="adj1" fmla="val 50000"/>
              <a:gd name="adj2" fmla="val 49972"/>
              <a:gd name="adj3" fmla="val 50000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781" name=""/>
          <p:cNvCxnSpPr>
            <a:stCxn id="774" idx="2"/>
            <a:endCxn id="775" idx="0"/>
          </p:cNvCxnSpPr>
          <p:nvPr/>
        </p:nvCxnSpPr>
        <p:spPr>
          <a:xfrm flipH="1" rot="16200000">
            <a:off x="1707120" y="3362400"/>
            <a:ext cx="911880" cy="650160"/>
          </a:xfrm>
          <a:prstGeom prst="curvedConnector5">
            <a:avLst>
              <a:gd name="adj1" fmla="val 50000"/>
              <a:gd name="adj2" fmla="val 49972"/>
              <a:gd name="adj3" fmla="val 50000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782" name=""/>
          <p:cNvCxnSpPr>
            <a:stCxn id="774" idx="3"/>
            <a:endCxn id="765" idx="1"/>
          </p:cNvCxnSpPr>
          <p:nvPr/>
        </p:nvCxnSpPr>
        <p:spPr>
          <a:xfrm flipV="1">
            <a:off x="2484360" y="2336040"/>
            <a:ext cx="1440360" cy="686520"/>
          </a:xfrm>
          <a:prstGeom prst="curvedConnector5">
            <a:avLst>
              <a:gd name="adj1" fmla="val 49950"/>
              <a:gd name="adj2" fmla="val 50000"/>
              <a:gd name="adj3" fmla="val 49950"/>
            </a:avLst>
          </a:prstGeom>
          <a:ln w="38160">
            <a:solidFill>
              <a:srgbClr val="0000ff"/>
            </a:solidFill>
            <a:prstDash val="dash"/>
            <a:miter/>
            <a:tailEnd len="sm" type="triangle" w="sm"/>
          </a:ln>
        </p:spPr>
      </p:cxnSp>
      <p:cxnSp>
        <p:nvCxnSpPr>
          <p:cNvPr id="783" name=""/>
          <p:cNvCxnSpPr>
            <a:stCxn id="766" idx="3"/>
            <a:endCxn id="768" idx="1"/>
          </p:cNvCxnSpPr>
          <p:nvPr/>
        </p:nvCxnSpPr>
        <p:spPr>
          <a:xfrm flipV="1">
            <a:off x="5221080" y="2336040"/>
            <a:ext cx="1440360" cy="1375560"/>
          </a:xfrm>
          <a:prstGeom prst="curvedConnector5">
            <a:avLst>
              <a:gd name="adj1" fmla="val 49925"/>
              <a:gd name="adj2" fmla="val 50000"/>
              <a:gd name="adj3" fmla="val 49925"/>
            </a:avLst>
          </a:prstGeom>
          <a:ln w="38160">
            <a:solidFill>
              <a:srgbClr val="0000ff"/>
            </a:solidFill>
            <a:prstDash val="dash"/>
            <a:miter/>
            <a:tailEnd len="sm" type="triangle" w="sm"/>
          </a:ln>
        </p:spPr>
      </p:cxnSp>
      <p:cxnSp>
        <p:nvCxnSpPr>
          <p:cNvPr id="784" name=""/>
          <p:cNvCxnSpPr>
            <a:stCxn id="772" idx="2"/>
            <a:endCxn id="775" idx="2"/>
          </p:cNvCxnSpPr>
          <p:nvPr/>
        </p:nvCxnSpPr>
        <p:spPr>
          <a:xfrm flipV="1" rot="16200000">
            <a:off x="4528800" y="2520360"/>
            <a:ext cx="738720" cy="4821840"/>
          </a:xfrm>
          <a:prstGeom prst="curvedConnector5">
            <a:avLst>
              <a:gd name="adj1" fmla="val -30960"/>
              <a:gd name="adj2" fmla="val 49996"/>
              <a:gd name="adj3" fmla="val -30960"/>
            </a:avLst>
          </a:prstGeom>
          <a:ln w="38160">
            <a:solidFill>
              <a:srgbClr val="0000ff"/>
            </a:solidFill>
            <a:prstDash val="dash"/>
            <a:miter/>
            <a:tailEnd len="sm" type="triangle" w="sm"/>
          </a:ln>
        </p:spPr>
      </p:cxnSp>
      <p:cxnSp>
        <p:nvCxnSpPr>
          <p:cNvPr id="785" name=""/>
          <p:cNvCxnSpPr>
            <a:stCxn id="773" idx="1"/>
            <a:endCxn id="776" idx="2"/>
          </p:cNvCxnSpPr>
          <p:nvPr/>
        </p:nvCxnSpPr>
        <p:spPr>
          <a:xfrm rot="10800000">
            <a:off x="1183680" y="4561920"/>
            <a:ext cx="2741760" cy="529200"/>
          </a:xfrm>
          <a:prstGeom prst="curvedConnector2">
            <a:avLst/>
          </a:prstGeom>
          <a:ln w="38160">
            <a:solidFill>
              <a:srgbClr val="0000ff"/>
            </a:solidFill>
            <a:prstDash val="dash"/>
            <a:miter/>
            <a:tailEnd len="sm" type="triangle" w="sm"/>
          </a:ln>
        </p:spPr>
      </p:cxnSp>
      <p:cxnSp>
        <p:nvCxnSpPr>
          <p:cNvPr id="786" name=""/>
          <p:cNvCxnSpPr>
            <a:stCxn id="769" idx="1"/>
            <a:endCxn id="771" idx="3"/>
          </p:cNvCxnSpPr>
          <p:nvPr/>
        </p:nvCxnSpPr>
        <p:spPr>
          <a:xfrm rot="10800000">
            <a:off x="5220720" y="4371120"/>
            <a:ext cx="1442160" cy="1080"/>
          </a:xfrm>
          <a:prstGeom prst="curvedConnector2">
            <a:avLst/>
          </a:prstGeom>
          <a:ln w="38160">
            <a:solidFill>
              <a:srgbClr val="0000ff"/>
            </a:solidFill>
            <a:prstDash val="dash"/>
            <a:miter/>
            <a:tailEnd len="sm" type="triangle" w="sm"/>
          </a:ln>
        </p:spPr>
      </p:cxn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58920" y="288936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4014720" y="357660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4014720" y="4944960"/>
            <a:ext cx="284400" cy="28440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4"/>
          <a:stretch/>
        </p:blipFill>
        <p:spPr>
          <a:xfrm>
            <a:off x="6732720" y="494172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5"/>
          <a:stretch/>
        </p:blipFill>
        <p:spPr>
          <a:xfrm>
            <a:off x="6732720" y="4245120"/>
            <a:ext cx="284040" cy="284040"/>
          </a:xfrm>
          <a:prstGeom prst="rect">
            <a:avLst/>
          </a:prstGeom>
          <a:ln w="0">
            <a:noFill/>
          </a:ln>
        </p:spPr>
      </p:pic>
      <p:grpSp>
        <p:nvGrpSpPr>
          <p:cNvPr id="792" name=""/>
          <p:cNvGrpSpPr/>
          <p:nvPr/>
        </p:nvGrpSpPr>
        <p:grpSpPr>
          <a:xfrm>
            <a:off x="1190520" y="2127240"/>
            <a:ext cx="6766200" cy="2035440"/>
            <a:chOff x="1190520" y="2127240"/>
            <a:chExt cx="6766200" cy="2035440"/>
          </a:xfrm>
        </p:grpSpPr>
        <p:sp>
          <p:nvSpPr>
            <p:cNvPr id="793" name=""/>
            <p:cNvSpPr/>
            <p:nvPr/>
          </p:nvSpPr>
          <p:spPr>
            <a:xfrm>
              <a:off x="3925800" y="2819520"/>
              <a:ext cx="129564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c1a57"/>
                  </a:solidFill>
                  <a:latin typeface="Arial"/>
                  <a:ea typeface="Arial"/>
                </a:rPr>
                <a:t>selec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c1a57"/>
                  </a:solidFill>
                  <a:latin typeface="Arial"/>
                  <a:ea typeface="Arial"/>
                </a:rPr>
                <a:t>airlin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61080" y="2819520"/>
              <a:ext cx="129564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c1a57"/>
                  </a:solidFill>
                  <a:latin typeface="Arial"/>
                  <a:ea typeface="Arial"/>
                </a:rPr>
                <a:t>reserv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c1a57"/>
                  </a:solidFill>
                  <a:latin typeface="Arial"/>
                  <a:ea typeface="Arial"/>
                </a:rPr>
                <a:t>seat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661080" y="3502080"/>
              <a:ext cx="129564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c1a57"/>
                  </a:solidFill>
                  <a:latin typeface="Arial"/>
                  <a:ea typeface="Arial"/>
                </a:rPr>
                <a:t>charg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c1a57"/>
                  </a:solidFill>
                  <a:latin typeface="Arial"/>
                  <a:ea typeface="Arial"/>
                </a:rPr>
                <a:t>credit card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90520" y="2127240"/>
              <a:ext cx="129240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3c1a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c1a57"/>
                  </a:solidFill>
                  <a:latin typeface="Arial"/>
                  <a:ea typeface="Arial"/>
                </a:rPr>
                <a:t>plan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c1a57"/>
                  </a:solidFill>
                  <a:latin typeface="Arial"/>
                  <a:ea typeface="Arial"/>
                </a:rPr>
                <a:t>trip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797" name=""/>
            <p:cNvCxnSpPr>
              <a:stCxn id="765" idx="2"/>
              <a:endCxn id="793" idx="0"/>
            </p:cNvCxnSpPr>
            <p:nvPr/>
          </p:nvCxnSpPr>
          <p:spPr>
            <a:xfrm flipH="1" rot="16200000">
              <a:off x="4435920" y="2681640"/>
              <a:ext cx="27396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38160">
              <a:solidFill>
                <a:srgbClr val="0000ff"/>
              </a:solidFill>
              <a:miter/>
              <a:tailEnd len="sm" type="triangle" w="sm"/>
            </a:ln>
          </p:spPr>
        </p:cxnSp>
        <p:cxnSp>
          <p:nvCxnSpPr>
            <p:cNvPr id="798" name=""/>
            <p:cNvCxnSpPr>
              <a:stCxn id="793" idx="2"/>
              <a:endCxn id="766" idx="0"/>
            </p:cNvCxnSpPr>
            <p:nvPr/>
          </p:nvCxnSpPr>
          <p:spPr>
            <a:xfrm flipV="1" rot="10800000">
              <a:off x="4572720" y="3238200"/>
              <a:ext cx="1080" cy="264240"/>
            </a:xfrm>
            <a:prstGeom prst="curvedConnector2">
              <a:avLst/>
            </a:prstGeom>
            <a:ln w="38160">
              <a:solidFill>
                <a:srgbClr val="0000ff"/>
              </a:solidFill>
              <a:miter/>
              <a:tailEnd len="sm" type="triangle" w="sm"/>
            </a:ln>
          </p:spPr>
        </p:cxnSp>
        <p:cxnSp>
          <p:nvCxnSpPr>
            <p:cNvPr id="799" name=""/>
            <p:cNvCxnSpPr>
              <a:stCxn id="768" idx="2"/>
              <a:endCxn id="794" idx="0"/>
            </p:cNvCxnSpPr>
            <p:nvPr/>
          </p:nvCxnSpPr>
          <p:spPr>
            <a:xfrm flipV="1" rot="10800000">
              <a:off x="7308000" y="2545920"/>
              <a:ext cx="1080" cy="273960"/>
            </a:xfrm>
            <a:prstGeom prst="curvedConnector2">
              <a:avLst/>
            </a:prstGeom>
            <a:ln w="38160">
              <a:solidFill>
                <a:srgbClr val="0000ff"/>
              </a:solidFill>
              <a:miter/>
              <a:tailEnd len="sm" type="triangle" w="sm"/>
            </a:ln>
          </p:spPr>
        </p:cxnSp>
        <p:cxnSp>
          <p:nvCxnSpPr>
            <p:cNvPr id="800" name=""/>
            <p:cNvCxnSpPr>
              <a:stCxn id="794" idx="2"/>
              <a:endCxn id="795" idx="0"/>
            </p:cNvCxnSpPr>
            <p:nvPr/>
          </p:nvCxnSpPr>
          <p:spPr>
            <a:xfrm flipV="1" rot="10800000">
              <a:off x="7308000" y="3238200"/>
              <a:ext cx="1080" cy="264240"/>
            </a:xfrm>
            <a:prstGeom prst="curvedConnector2">
              <a:avLst/>
            </a:prstGeom>
            <a:ln w="38160">
              <a:solidFill>
                <a:srgbClr val="0000ff"/>
              </a:solidFill>
              <a:miter/>
              <a:tailEnd len="sm" type="triangle" w="sm"/>
            </a:ln>
          </p:spPr>
        </p:cxnSp>
        <p:cxnSp>
          <p:nvCxnSpPr>
            <p:cNvPr id="801" name=""/>
            <p:cNvCxnSpPr>
              <a:stCxn id="795" idx="2"/>
              <a:endCxn id="769" idx="0"/>
            </p:cNvCxnSpPr>
            <p:nvPr/>
          </p:nvCxnSpPr>
          <p:spPr>
            <a:xfrm flipH="1" rot="16200000">
              <a:off x="7188120" y="4040640"/>
              <a:ext cx="241920" cy="2520"/>
            </a:xfrm>
            <a:prstGeom prst="curvedConnector5">
              <a:avLst>
                <a:gd name="adj1" fmla="val 49925"/>
                <a:gd name="adj2" fmla="val 50000"/>
                <a:gd name="adj3" fmla="val 49925"/>
              </a:avLst>
            </a:prstGeom>
            <a:ln w="38160">
              <a:solidFill>
                <a:srgbClr val="0000ff"/>
              </a:solidFill>
              <a:miter/>
              <a:tailEnd len="sm" type="triangle" w="sm"/>
            </a:ln>
          </p:spPr>
        </p:cxnSp>
        <p:cxnSp>
          <p:nvCxnSpPr>
            <p:cNvPr id="802" name=""/>
            <p:cNvCxnSpPr>
              <a:stCxn id="796" idx="2"/>
              <a:endCxn id="774" idx="0"/>
            </p:cNvCxnSpPr>
            <p:nvPr/>
          </p:nvCxnSpPr>
          <p:spPr>
            <a:xfrm flipH="1" rot="16200000">
              <a:off x="1704240" y="2678040"/>
              <a:ext cx="267120" cy="2160"/>
            </a:xfrm>
            <a:prstGeom prst="curvedConnector5">
              <a:avLst>
                <a:gd name="adj1" fmla="val 49932"/>
                <a:gd name="adj2" fmla="val 40000"/>
                <a:gd name="adj3" fmla="val 49932"/>
              </a:avLst>
            </a:prstGeom>
            <a:ln w="38160">
              <a:solidFill>
                <a:srgbClr val="0000ff"/>
              </a:solidFill>
              <a:miter/>
              <a:tailEnd len="sm" type="triangle" w="sm"/>
            </a:ln>
          </p:spPr>
        </p:cxnSp>
        <p:pic>
          <p:nvPicPr>
            <p:cNvPr id="803" name="" descr=""/>
            <p:cNvPicPr/>
            <p:nvPr/>
          </p:nvPicPr>
          <p:blipFill>
            <a:blip r:embed="rId6"/>
            <a:stretch/>
          </p:blipFill>
          <p:spPr>
            <a:xfrm>
              <a:off x="4019400" y="2884320"/>
              <a:ext cx="28440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" descr=""/>
            <p:cNvPicPr/>
            <p:nvPr/>
          </p:nvPicPr>
          <p:blipFill>
            <a:blip r:embed="rId7"/>
            <a:stretch/>
          </p:blipFill>
          <p:spPr>
            <a:xfrm>
              <a:off x="6732720" y="3581280"/>
              <a:ext cx="28404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" descr=""/>
            <p:cNvPicPr/>
            <p:nvPr/>
          </p:nvPicPr>
          <p:blipFill>
            <a:blip r:embed="rId8"/>
            <a:stretch/>
          </p:blipFill>
          <p:spPr>
            <a:xfrm>
              <a:off x="6732720" y="2892600"/>
              <a:ext cx="28404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9"/>
            <a:stretch/>
          </p:blipFill>
          <p:spPr>
            <a:xfrm>
              <a:off x="1258920" y="2205000"/>
              <a:ext cx="284040" cy="28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7" name="" descr=""/>
          <p:cNvPicPr/>
          <p:nvPr/>
        </p:nvPicPr>
        <p:blipFill>
          <a:blip r:embed="rId10"/>
          <a:stretch/>
        </p:blipFill>
        <p:spPr>
          <a:xfrm>
            <a:off x="576360" y="422424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11"/>
          <a:stretch/>
        </p:blipFill>
        <p:spPr>
          <a:xfrm>
            <a:off x="1947960" y="422100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12"/>
          <a:stretch/>
        </p:blipFill>
        <p:spPr>
          <a:xfrm>
            <a:off x="3995640" y="4221000"/>
            <a:ext cx="284400" cy="28440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13"/>
          <a:stretch/>
        </p:blipFill>
        <p:spPr>
          <a:xfrm>
            <a:off x="4014720" y="220824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14"/>
          <a:stretch/>
        </p:blipFill>
        <p:spPr>
          <a:xfrm>
            <a:off x="6732720" y="2205000"/>
            <a:ext cx="284040" cy="28404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3848040" y="1341360"/>
            <a:ext cx="14446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Agent Proces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15"/>
          <a:stretch/>
        </p:blipFill>
        <p:spPr>
          <a:xfrm>
            <a:off x="3927600" y="1415880"/>
            <a:ext cx="284040" cy="28440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6583320" y="1341360"/>
            <a:ext cx="14446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Airline Proces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6"/>
          <a:stretch/>
        </p:blipFill>
        <p:spPr>
          <a:xfrm>
            <a:off x="6659640" y="1415880"/>
            <a:ext cx="284040" cy="28440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1049400" y="1341360"/>
            <a:ext cx="15778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3c1a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1a57"/>
                </a:solidFill>
                <a:latin typeface="Arial"/>
                <a:ea typeface="Arial"/>
              </a:rPr>
              <a:t>Traveler Proces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7"/>
          <a:stretch/>
        </p:blipFill>
        <p:spPr>
          <a:xfrm>
            <a:off x="1119240" y="1415880"/>
            <a:ext cx="284040" cy="2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S-BP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nteroprebilan i prenosiv model poslovnih proce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le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sibilna integracij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b servis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SDL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pstraktni interfjesi se kombinuju da bi definisali kompozicij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tra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ktni partneri mogu biti povezani sa aktuelnim servisima u vreme izvšavanj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Proces može izabrati protokol za komunikaicju sa servisom u vreme izvršavanj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rv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i čija definicija podataka nije odgovarajuća mogu biti korišćeni u kompozicij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Transformacija podataka može biti data zajedno sa definicijom proces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omozicija W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b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rvi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n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cij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bezbedjuje </a:t>
            </a:r>
            <a:r>
              <a:rPr b="1" lang="en-US" sz="2400" spc="-1" strike="noStrike">
                <a:solidFill>
                  <a:srgbClr val="ecd882"/>
                </a:solidFill>
                <a:latin typeface="Tahoma"/>
              </a:rPr>
              <a:t>o</a:t>
            </a:r>
            <a:r>
              <a:rPr b="1" lang="sr-Latn-CS" sz="2400" spc="-1" strike="noStrike">
                <a:solidFill>
                  <a:srgbClr val="ecd882"/>
                </a:solidFill>
                <a:latin typeface="Tahoma"/>
              </a:rPr>
              <a:t>tvore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sr-Latn-CS" sz="2400" spc="-1" strike="noStrike">
                <a:solidFill>
                  <a:srgbClr val="ecd882"/>
                </a:solidFill>
                <a:latin typeface="Tahoma"/>
              </a:rPr>
              <a:t>baziran na strandardu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istup povezivanju web servisa da bi se kreirali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slovni procesi </a:t>
            </a:r>
            <a:r>
              <a:rPr b="1" lang="sr-Latn-CS" sz="2400" spc="-1" strike="noStrike">
                <a:solidFill>
                  <a:srgbClr val="ecd882"/>
                </a:solidFill>
                <a:latin typeface="Tahoma"/>
              </a:rPr>
              <a:t>višeg nivo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Standard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su definisani da bi </a:t>
            </a:r>
            <a:r>
              <a:rPr b="1" lang="sr-Latn-CS" sz="2200" spc="-1" strike="noStrike">
                <a:solidFill>
                  <a:srgbClr val="ecd882"/>
                </a:solidFill>
                <a:latin typeface="Tahoma"/>
              </a:rPr>
              <a:t>smanjili složenost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pri k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ompo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ziciji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web servi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sa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kako bi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2200" spc="-1" strike="noStrike">
                <a:solidFill>
                  <a:srgbClr val="ecd882"/>
                </a:solidFill>
                <a:latin typeface="Tahoma"/>
              </a:rPr>
              <a:t>smanjili vreme i troškove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2200" spc="-1" strike="noStrike">
                <a:solidFill>
                  <a:srgbClr val="ecd882"/>
                </a:solidFill>
                <a:latin typeface="Tahoma"/>
              </a:rPr>
              <a:t>povećali ukupnu efikasnost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psolovanju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S-BPEL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alati (engine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771200"/>
            <a:ext cx="8686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ctive Endpoints ActiveWebflow Server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ctiveBPEL Engine (open sour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exee BPEL Execution Engine (open source)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pe Clear Orchestrator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veSight PXE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BM WebSphere Business Integration – Server Foundation 5.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BM WebSphere Process Server 6.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penLink Virtuoso Universal Server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penStorm ChoreoServer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racle BPEL Process Manager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rasoft BPEL Maestro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eBeyond eInsight BPM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wister (open source)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EL –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ocesni mode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Obezbedjuje podršku za dva procesna model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ecd882"/>
                </a:solidFill>
                <a:latin typeface="Tahoma"/>
              </a:rPr>
              <a:t>Izvrš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del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 ponašanja učesnika u specifičnoj poslovnoj interkacij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ecd882"/>
                </a:solidFill>
                <a:latin typeface="Tahoma"/>
              </a:rPr>
              <a:t>privat</a:t>
            </a:r>
            <a:r>
              <a:rPr b="1" lang="sr-Latn-CS" sz="2400" spc="-1" strike="noStrike">
                <a:solidFill>
                  <a:srgbClr val="ecd882"/>
                </a:solidFill>
                <a:latin typeface="Tahoma"/>
              </a:rPr>
              <a:t>ni</a:t>
            </a:r>
            <a:r>
              <a:rPr b="1" lang="en-US" sz="2400" spc="-1" strike="noStrike">
                <a:solidFill>
                  <a:srgbClr val="ecd882"/>
                </a:solidFill>
                <a:latin typeface="Tahoma"/>
              </a:rPr>
              <a:t> workflow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d882"/>
                </a:solidFill>
                <a:latin typeface="Tahoma"/>
              </a:rPr>
              <a:t>A</a:t>
            </a:r>
            <a:r>
              <a:rPr b="1" lang="sr-Latn-CS" sz="2800" spc="-1" strike="noStrike">
                <a:solidFill>
                  <a:srgbClr val="ecd882"/>
                </a:solidFill>
                <a:latin typeface="Tahoma"/>
              </a:rPr>
              <a:t>pstarkt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slovni protokoli u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PEL, specif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ciraju javn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ecd882"/>
                </a:solidFill>
                <a:latin typeface="Tahoma"/>
              </a:rPr>
              <a:t>razmene poruka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zmedju aktera (organizacij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EL –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Objektni m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23872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PEL 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prim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Osigruavajuće društvo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    &lt;process name="InsuranceClaim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       targetNamespace="http://acm.org/samples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       suppressJoinFailure="yes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       xmlns:tns=http://acm.org/samples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       xmlns=http://schemas.xmlsoap.org/ws/2003/03/business-process/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       xmlns:xsd=http://www.w3.org/2001/XMLSchema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       xmlns:addressing=http://schemas.xmlsoap.org/ws/2003/03/addressing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       xmlns:bpws="http://schemas.xmlsoap.org/ws/2003/03/business-process/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       &lt;!--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          Partners in the process: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2            client - app that can initiate and kill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3            worklist - service that manages manual activities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4      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5       &lt;partnerLink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6          &lt;!--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7          &lt;partnerLink name="client" partnerLinkType="tns:InsuranceClaim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8             myRole="InsuranceClaimProvider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9          &lt;partnerLink name="worklist" partnerLinkType="task:TaskManager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0             partnerRole="TaskManager" myRole="TaskManagerRequester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1       &lt;/partnerLink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2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3       &lt;!-- Process-level variables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4       &lt;variable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5          &lt;variable name="status" type="xsd:string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6          &lt;variable name="initiateMsg" messageType="tns:InsuranceClaimMsg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7          &lt;variable name="killEv" messageType="tns:InsuranceClaimMsg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8          &lt;variable name="taskResponse" messageType="task:taskMessage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29       &lt;/variable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0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1       &lt;!-- Message correlation to be performed on the ClaimID field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2       &lt;correlationSet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3          &lt;correlationSet name="claim" properties="tns:claimID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4       &lt;/correlationSet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5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2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6       &lt;!-- Catch any errors and fix manually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7       &lt;faultHandler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8          &lt;catchAll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39             &lt;empty name="PlaceholderForManualFix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0          &lt;/catchAll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1       &lt;/faultHandler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2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3       &lt;!-- Globally receive a kill event (correlated with the claim ID from the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4            original initate) and terminate the process.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5       &lt;eventHandler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6          &lt;onMessage partnerLink="client" portType="tns:InsuranceClaim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7             operation="kill" variable="killEv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8             &lt;correlation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49                &lt;correlation set="claim" initiate="no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0             &lt;/correlation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1             &lt;sequenc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2                &lt;empty/&gt;&lt;!-- Do something, like notify internal systems of kill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3                &lt;terminate name="killClaim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4             &lt;/sequenc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5          &lt;/onMessag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6       &lt;/eventHandler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7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8       &lt;sequenc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59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0          &lt;!-- We start with a receive activity: get the initiate message. Will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1             correlate on claim set defined earlie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2         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3          &lt;receive partnerLink="client" portType="tns:InsuranceClaim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4             operation="initiate" variable="initiateMsg" createInstance="yes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5             name="initiateEvent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6             &lt;correlation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7                &lt;correlation set="claim" initiate="yes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8             &lt;/correlation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69          &lt;/receiv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9" name=""/>
          <p:cNvSpPr/>
          <p:nvPr/>
        </p:nvSpPr>
        <p:spPr>
          <a:xfrm>
            <a:off x="826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PEL 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prim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Osigruavajuće društvo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1          &lt;!-- Let an agent evaluate it. Call worklist partner to do this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2          &lt;invoke name="evalClaim" partnerLink="worklist"  portType="task:TaskManager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3            operation="evalClaim" inputVariable="initiateMsg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4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5          &lt;!-- Get either the response or a timeout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6          &lt;pick name="analyzePick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7             &lt;onMessage partnerLink="worklist" portType="task:TaskManagerCallback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8                operation="onTaskResult" variable="taskResponse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79                &lt;!-- From response extract status and set to variable 'status'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0                &lt;assign name="setStatus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1                   &lt;copy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2                      &lt;from variable="taskResponse" part="payload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3                         query="/tns:taskMessage/tns:result=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4                      &lt;to variable="status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5                   &lt;/copy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6                &lt;/assign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7             &lt;/onMessag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8             &lt;!-- Timeout! 10 days have passed. Escalate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89             &lt;onAlarm for="PT10D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0                &lt;sequenc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1                   &lt;!-- Call partner service to escalate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2                   &lt;invoke name="evalClaim" partnerLink="worklist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3                      portType="task:TaskManager" operation="escalateClaim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4                      inputVariable="initiateMsg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5                   &lt;!-- Get the escalation response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6                   &lt;receive name="receiveTaskResult" partnerLink="worklist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7                      portType="task:TaskManagerCallback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98                      operation="onTaskResult" variable="taskResponse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PEL 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prim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Osigruavajuće društvo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1                      &lt;copy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2                         &lt;from variable="taskResponse" part="payload"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3                            query="/tns:taskMessage/tns:result=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4                         &lt;to variable="status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5                      &lt;/copy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6                   &lt;/assign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7                &lt;/sequenc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8             &lt;/onAlarm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09          &lt;/pick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0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1          &lt;!-- Look at result of claim process and act accordingly: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2               'rejected' and 'accepted' are good. Anything else, throw a fault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3          &lt;switch name-"resultEval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4             &lt;case condition="bpws:getVariableData('status')='rejected'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5                &lt;empty&gt; &lt;!-- perform rejection actions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6             &lt;/cas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7             &lt;case condition="bpws:getVariableData('status')='accepted'"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8                &lt;empty&gt; &lt;!-- perform acceptance actions --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19             &lt;/cas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20             &lt;otherwis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21                &lt;throw name="illegalStatus" faultName="illegalStatus"/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22             &lt;/otherwis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23          &lt;/switch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24       &lt;/sequence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125    &lt;/process&gt;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PEL 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prim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Osigruavajuće društvo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oširenja BPEL-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9882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PEL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-SPE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Sub-Process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Extension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24000" y="4941360"/>
            <a:ext cx="669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264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Proširenje BPEL sa podprocesim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Pokretanje nekog poslovnog procesa kao podprocesa unutar durgog tako da životni ciklus zavisi od nadredjenog procesa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Definisanje poslovnog procesa u kontekstu drugog tako da se omogućava pristup podacima iz nadredjnog procesa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Mogućnost pokretanje podprocesa koji se izvšrava unutar drugog 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BPEL </a:t>
            </a: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engine-a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2124000" y="2060640"/>
            <a:ext cx="500688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PEL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4Peopl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68360" y="558936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Proširenje BPEL koje uključuje u poslovne procese specijalne implementacije aktivnosti koje možemo nazvati ljudske aktivnostima (aktivnosti koji se izvršavaju od stane ljudi). Ljudske aktivnosti nazivaju se poslovi (tasks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Definisanje korisnika kao inicijatora proces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619272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ompozicija web servi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43000" y="2666880"/>
          <a:ext cx="3352680" cy="26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66880"/>
                    <a:ext cx="3352680" cy="26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5486400" y="2895480"/>
          <a:ext cx="1836720" cy="229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895480"/>
                    <a:ext cx="1836720" cy="22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838080" y="1676520"/>
          <a:ext cx="6931080" cy="441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676520"/>
                    <a:ext cx="6931080" cy="44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PEL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4People</a:t>
            </a:r>
            <a:br>
              <a:rPr sz="3600"/>
            </a:b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Modeli interakcije poslova i aktivnost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396720" y="1989000"/>
            <a:ext cx="874728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"/>
          <p:cNvGrpSpPr/>
          <p:nvPr/>
        </p:nvGrpSpPr>
        <p:grpSpPr>
          <a:xfrm>
            <a:off x="152280" y="1628640"/>
            <a:ext cx="8991720" cy="4800600"/>
            <a:chOff x="152280" y="1628640"/>
            <a:chExt cx="8991720" cy="4800600"/>
          </a:xfrm>
        </p:grpSpPr>
        <p:sp>
          <p:nvSpPr>
            <p:cNvPr id="845" name="Cloud"/>
            <p:cNvSpPr/>
            <p:nvPr/>
          </p:nvSpPr>
          <p:spPr>
            <a:xfrm>
              <a:off x="152280" y="1628640"/>
              <a:ext cx="8991720" cy="48006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666880" y="2314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078000" y="3654360"/>
            <a:ext cx="2332080" cy="1224000"/>
            <a:chOff x="3078000" y="3654360"/>
            <a:chExt cx="2332080" cy="1224000"/>
          </a:xfrm>
        </p:grpSpPr>
        <p:grpSp>
          <p:nvGrpSpPr>
            <p:cNvPr id="848" name=""/>
            <p:cNvGrpSpPr/>
            <p:nvPr/>
          </p:nvGrpSpPr>
          <p:grpSpPr>
            <a:xfrm>
              <a:off x="3078000" y="3654360"/>
              <a:ext cx="2243160" cy="1224000"/>
              <a:chOff x="3078000" y="3654360"/>
              <a:chExt cx="2243160" cy="1224000"/>
            </a:xfrm>
          </p:grpSpPr>
          <p:sp>
            <p:nvSpPr>
              <p:cNvPr id="849" name=""/>
              <p:cNvSpPr/>
              <p:nvPr/>
            </p:nvSpPr>
            <p:spPr>
              <a:xfrm>
                <a:off x="3078000" y="3654360"/>
                <a:ext cx="2243160" cy="12240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21496200">
                <a:off x="3143160" y="4088880"/>
                <a:ext cx="214560" cy="198720"/>
              </a:xfrm>
              <a:prstGeom prst="ellipse">
                <a:avLst/>
              </a:prstGeom>
              <a:gradFill rotWithShape="0">
                <a:gsLst>
                  <a:gs pos="0">
                    <a:srgbClr val="ecd882"/>
                  </a:gs>
                  <a:gs pos="100000">
                    <a:srgbClr val="6c633b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21496200">
                <a:off x="5038560" y="4209840"/>
                <a:ext cx="214560" cy="199800"/>
              </a:xfrm>
              <a:prstGeom prst="ellipse">
                <a:avLst/>
              </a:prstGeom>
              <a:gradFill rotWithShape="0">
                <a:gsLst>
                  <a:gs pos="0">
                    <a:srgbClr val="ecd882"/>
                  </a:gs>
                  <a:gs pos="100000">
                    <a:srgbClr val="6c633b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21496200">
                <a:off x="3800520" y="4401720"/>
                <a:ext cx="216000" cy="19836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754617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21496200">
                <a:off x="4498920" y="3854160"/>
                <a:ext cx="216000" cy="198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21496200">
                <a:off x="3781440" y="3871440"/>
                <a:ext cx="214200" cy="196920"/>
              </a:xfrm>
              <a:prstGeom prst="ellipse">
                <a:avLst/>
              </a:prstGeom>
              <a:gradFill rotWithShape="0">
                <a:gsLst>
                  <a:gs pos="0">
                    <a:srgbClr val="ecd882"/>
                  </a:gs>
                  <a:gs pos="100000">
                    <a:srgbClr val="6c633b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3356640" y="4006800"/>
                <a:ext cx="427320" cy="14472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3997440" y="3988080"/>
                <a:ext cx="503280" cy="1512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4032720" y="4382280"/>
                <a:ext cx="1011960" cy="16992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717080" y="3981600"/>
                <a:ext cx="338760" cy="27576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9880" y="4216680"/>
                <a:ext cx="439920" cy="25200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3429000" y="403848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f7013c"/>
                  </a:solidFill>
                  <a:latin typeface="Comic Sans MS"/>
                  <a:ea typeface="Times New Roman"/>
                </a:rPr>
                <a:t>Poslovni proc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gracija aplikacija preko BPEL4W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990720" y="1343160"/>
            <a:ext cx="7797600" cy="4985640"/>
            <a:chOff x="990720" y="1343160"/>
            <a:chExt cx="7797600" cy="4985640"/>
          </a:xfrm>
        </p:grpSpPr>
        <p:grpSp>
          <p:nvGrpSpPr>
            <p:cNvPr id="863" name=""/>
            <p:cNvGrpSpPr/>
            <p:nvPr/>
          </p:nvGrpSpPr>
          <p:grpSpPr>
            <a:xfrm>
              <a:off x="990720" y="1343160"/>
              <a:ext cx="7110360" cy="4985640"/>
              <a:chOff x="990720" y="1343160"/>
              <a:chExt cx="7110360" cy="4985640"/>
            </a:xfrm>
          </p:grpSpPr>
          <p:sp>
            <p:nvSpPr>
              <p:cNvPr id="864" name=""/>
              <p:cNvSpPr/>
              <p:nvPr/>
            </p:nvSpPr>
            <p:spPr>
              <a:xfrm>
                <a:off x="1515960" y="2905200"/>
                <a:ext cx="6585120" cy="3022560"/>
              </a:xfrm>
              <a:prstGeom prst="ellipse">
                <a:avLst/>
              </a:prstGeom>
              <a:noFill/>
              <a:ln w="38160">
                <a:solidFill>
                  <a:srgbClr val="96969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865" name=""/>
              <p:cNvGrpSpPr/>
              <p:nvPr/>
            </p:nvGrpSpPr>
            <p:grpSpPr>
              <a:xfrm>
                <a:off x="5634000" y="5181480"/>
                <a:ext cx="1757160" cy="1147320"/>
                <a:chOff x="5634000" y="5181480"/>
                <a:chExt cx="1757160" cy="1147320"/>
              </a:xfrm>
            </p:grpSpPr>
            <p:pic>
              <p:nvPicPr>
                <p:cNvPr id="866" name="" descr=""/>
                <p:cNvPicPr/>
                <p:nvPr/>
              </p:nvPicPr>
              <p:blipFill>
                <a:blip r:embed="rId1"/>
                <a:srcRect l="13837" t="7748" r="6851" b="10425"/>
                <a:stretch/>
              </p:blipFill>
              <p:spPr>
                <a:xfrm>
                  <a:off x="5634000" y="5181480"/>
                  <a:ext cx="108504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7" name=""/>
                <p:cNvSpPr/>
                <p:nvPr/>
              </p:nvSpPr>
              <p:spPr>
                <a:xfrm>
                  <a:off x="6431400" y="5572080"/>
                  <a:ext cx="718200" cy="616320"/>
                </a:xfrm>
                <a:prstGeom prst="can">
                  <a:avLst>
                    <a:gd name="adj" fmla="val 20120"/>
                  </a:avLst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1c1c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675480" y="5709240"/>
                  <a:ext cx="715680" cy="619560"/>
                </a:xfrm>
                <a:prstGeom prst="can">
                  <a:avLst>
                    <a:gd name="adj" fmla="val 20120"/>
                  </a:avLst>
                </a:prstGeom>
                <a:gradFill rotWithShape="0">
                  <a:gsLst>
                    <a:gs pos="0">
                      <a:srgbClr val="0a0a0a"/>
                    </a:gs>
                    <a:gs pos="50000">
                      <a:srgbClr val="b2b2b2"/>
                    </a:gs>
                    <a:gs pos="100000">
                      <a:srgbClr val="0a0a0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9" name=""/>
              <p:cNvGrpSpPr/>
              <p:nvPr/>
            </p:nvGrpSpPr>
            <p:grpSpPr>
              <a:xfrm>
                <a:off x="4527720" y="1343160"/>
                <a:ext cx="835920" cy="1580400"/>
                <a:chOff x="4527720" y="1343160"/>
                <a:chExt cx="835920" cy="158040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4527720" y="1343160"/>
                  <a:ext cx="835920" cy="150984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4546080" y="2853000"/>
                  <a:ext cx="804240" cy="7056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4570200" y="1343160"/>
                  <a:ext cx="1800" cy="1509840"/>
                </a:xfrm>
                <a:prstGeom prst="line">
                  <a:avLst/>
                </a:prstGeom>
                <a:ln w="1440">
                  <a:solidFill>
                    <a:srgbClr val="3232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577760" y="1354320"/>
                  <a:ext cx="737280" cy="1494000"/>
                </a:xfrm>
                <a:custGeom>
                  <a:avLst/>
                  <a:gdLst/>
                  <a:ahLst/>
                  <a:rect l="l" t="t" r="r" b="b"/>
                  <a:pathLst>
                    <a:path w="789" h="1302">
                      <a:moveTo>
                        <a:pt x="0" y="1302"/>
                      </a:moveTo>
                      <a:lnTo>
                        <a:pt x="0" y="0"/>
                      </a:lnTo>
                      <a:lnTo>
                        <a:pt x="789" y="0"/>
                      </a:ln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4529160" y="1347840"/>
                  <a:ext cx="33840" cy="1495800"/>
                </a:xfrm>
                <a:custGeom>
                  <a:avLst/>
                  <a:gdLst/>
                  <a:ahLst/>
                  <a:rect l="l" t="t" r="r" b="b"/>
                  <a:pathLst>
                    <a:path w="35" h="1303">
                      <a:moveTo>
                        <a:pt x="0" y="1303"/>
                      </a:moveTo>
                      <a:lnTo>
                        <a:pt x="0" y="0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321160" y="1347840"/>
                  <a:ext cx="37080" cy="1495800"/>
                </a:xfrm>
                <a:custGeom>
                  <a:avLst/>
                  <a:gdLst/>
                  <a:ahLst/>
                  <a:rect l="l" t="t" r="r" b="b"/>
                  <a:pathLst>
                    <a:path w="40" h="1303">
                      <a:moveTo>
                        <a:pt x="0" y="0"/>
                      </a:moveTo>
                      <a:lnTo>
                        <a:pt x="40" y="0"/>
                      </a:lnTo>
                      <a:lnTo>
                        <a:pt x="40" y="1303"/>
                      </a:ln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322600" y="1343160"/>
                  <a:ext cx="1800" cy="1516680"/>
                </a:xfrm>
                <a:prstGeom prst="line">
                  <a:avLst/>
                </a:prstGeom>
                <a:ln w="1440">
                  <a:solidFill>
                    <a:srgbClr val="3232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598280" y="1450800"/>
                  <a:ext cx="147600" cy="328320"/>
                </a:xfrm>
                <a:prstGeom prst="rect">
                  <a:avLst/>
                </a:pr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4613400" y="1467000"/>
                  <a:ext cx="117000" cy="29592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4619160" y="1671480"/>
                  <a:ext cx="106200" cy="8460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5a5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4619160" y="1476360"/>
                  <a:ext cx="48600" cy="18756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4687920" y="1481040"/>
                  <a:ext cx="31680" cy="164880"/>
                </a:xfrm>
                <a:prstGeom prst="rect">
                  <a:avLst/>
                </a:prstGeom>
                <a:solidFill>
                  <a:srgbClr val="464646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628160" y="1526760"/>
                  <a:ext cx="27720" cy="123840"/>
                </a:xfrm>
                <a:prstGeom prst="rect">
                  <a:avLst/>
                </a:prstGeom>
                <a:solidFill>
                  <a:srgbClr val="808080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629960" y="1526760"/>
                  <a:ext cx="25920" cy="8640"/>
                </a:xfrm>
                <a:prstGeom prst="rect">
                  <a:avLst/>
                </a:prstGeom>
                <a:solidFill>
                  <a:srgbClr val="464646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667760" y="1476360"/>
                  <a:ext cx="5400" cy="187560"/>
                </a:xfrm>
                <a:prstGeom prst="rect">
                  <a:avLst/>
                </a:prstGeom>
                <a:solidFill>
                  <a:srgbClr val="464646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4680360" y="1481040"/>
                  <a:ext cx="15120" cy="16488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645080" y="1682640"/>
                  <a:ext cx="14760" cy="6840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4628160" y="1689480"/>
                  <a:ext cx="10800" cy="11160"/>
                </a:xfrm>
                <a:prstGeom prst="ellipse">
                  <a:avLst/>
                </a:prstGeom>
                <a:solidFill>
                  <a:srgbClr val="464646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4628160" y="1721880"/>
                  <a:ext cx="10800" cy="11160"/>
                </a:xfrm>
                <a:prstGeom prst="ellipse">
                  <a:avLst/>
                </a:prstGeom>
                <a:solidFill>
                  <a:srgbClr val="464646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598280" y="1448640"/>
                  <a:ext cx="149400" cy="334800"/>
                </a:xfrm>
                <a:custGeom>
                  <a:avLst/>
                  <a:gdLst/>
                  <a:ahLst/>
                  <a:rect l="l" t="t" r="r" b="b"/>
                  <a:pathLst>
                    <a:path w="161" h="292">
                      <a:moveTo>
                        <a:pt x="160" y="0"/>
                      </a:moveTo>
                      <a:lnTo>
                        <a:pt x="161" y="292"/>
                      </a:lnTo>
                      <a:lnTo>
                        <a:pt x="0" y="292"/>
                      </a:lnTo>
                    </a:path>
                  </a:pathLst>
                </a:custGeom>
                <a:noFill/>
                <a:ln w="1440">
                  <a:solidFill>
                    <a:srgbClr val="4646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695480" y="1682640"/>
                  <a:ext cx="12960" cy="2736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786920" y="1462320"/>
                  <a:ext cx="503640" cy="31212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788720" y="1515240"/>
                  <a:ext cx="498600" cy="864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788720" y="1579320"/>
                  <a:ext cx="500400" cy="936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4788720" y="1645920"/>
                  <a:ext cx="500400" cy="936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4788720" y="1710360"/>
                  <a:ext cx="500400" cy="864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81500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4839120" y="146232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4861440" y="146232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4885560" y="146232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491040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4934520" y="146232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495684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4980960" y="146232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500544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502956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505224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076360" y="146232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10084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512496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514728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517356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195520" y="146232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5220360" y="146232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244480" y="146232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268600" y="146232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4786920" y="1992600"/>
                  <a:ext cx="503640" cy="31428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788720" y="2047680"/>
                  <a:ext cx="498600" cy="1116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4788720" y="2111760"/>
                  <a:ext cx="500400" cy="936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788720" y="2178360"/>
                  <a:ext cx="500400" cy="936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788720" y="2242800"/>
                  <a:ext cx="500400" cy="864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81500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839120" y="1992600"/>
                  <a:ext cx="180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861440" y="1992600"/>
                  <a:ext cx="180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885560" y="1992600"/>
                  <a:ext cx="180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91040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934520" y="1992600"/>
                  <a:ext cx="180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5684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980960" y="1992600"/>
                  <a:ext cx="180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500544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02956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505224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5076360" y="1992600"/>
                  <a:ext cx="180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10084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512496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514728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517356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195520" y="1992600"/>
                  <a:ext cx="180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5220360" y="1992600"/>
                  <a:ext cx="144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244480" y="1992600"/>
                  <a:ext cx="180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5268600" y="1992600"/>
                  <a:ext cx="1800" cy="3142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6920" y="2502000"/>
                  <a:ext cx="503640" cy="31428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788720" y="2557080"/>
                  <a:ext cx="498600" cy="1116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788720" y="2623680"/>
                  <a:ext cx="500400" cy="648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788720" y="2687760"/>
                  <a:ext cx="500400" cy="1116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788720" y="2752200"/>
                  <a:ext cx="500400" cy="1116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81500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839120" y="250416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861440" y="250416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885560" y="250416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91040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934520" y="250416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5684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80960" y="250416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500544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2956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5224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76360" y="250416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10084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12496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14728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17356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195520" y="250416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220360" y="2504160"/>
                  <a:ext cx="144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244480" y="250416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268600" y="2504160"/>
                  <a:ext cx="1800" cy="31212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4598280" y="1838880"/>
                  <a:ext cx="130680" cy="3420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4598280" y="1838880"/>
                  <a:ext cx="132480" cy="36360"/>
                </a:xfrm>
                <a:custGeom>
                  <a:avLst/>
                  <a:gdLst/>
                  <a:ahLst/>
                  <a:rect l="l" t="t" r="r" b="b"/>
                  <a:pathLst>
                    <a:path w="142" h="33">
                      <a:moveTo>
                        <a:pt x="0" y="33"/>
                      </a:moveTo>
                      <a:lnTo>
                        <a:pt x="142" y="33"/>
                      </a:lnTo>
                      <a:lnTo>
                        <a:pt x="142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4598280" y="1902960"/>
                  <a:ext cx="186480" cy="4824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4598280" y="1902960"/>
                  <a:ext cx="188640" cy="50400"/>
                </a:xfrm>
                <a:custGeom>
                  <a:avLst/>
                  <a:gdLst/>
                  <a:ahLst/>
                  <a:rect l="l" t="t" r="r" b="b"/>
                  <a:pathLst>
                    <a:path w="202" h="44">
                      <a:moveTo>
                        <a:pt x="0" y="44"/>
                      </a:moveTo>
                      <a:lnTo>
                        <a:pt x="202" y="44"/>
                      </a:lnTo>
                      <a:lnTo>
                        <a:pt x="202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0" name=""/>
              <p:cNvGrpSpPr/>
              <p:nvPr/>
            </p:nvGrpSpPr>
            <p:grpSpPr>
              <a:xfrm>
                <a:off x="990720" y="4925880"/>
                <a:ext cx="1167840" cy="1107360"/>
                <a:chOff x="990720" y="4925880"/>
                <a:chExt cx="1167840" cy="110736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990720" y="5829840"/>
                  <a:ext cx="1167840" cy="163800"/>
                </a:xfrm>
                <a:custGeom>
                  <a:avLst/>
                  <a:gdLst/>
                  <a:ahLst/>
                  <a:rect l="l" t="t" r="r" b="b"/>
                  <a:pathLst>
                    <a:path w="873" h="118">
                      <a:moveTo>
                        <a:pt x="28" y="2"/>
                      </a:moveTo>
                      <a:lnTo>
                        <a:pt x="25" y="14"/>
                      </a:lnTo>
                      <a:lnTo>
                        <a:pt x="0" y="115"/>
                      </a:lnTo>
                      <a:lnTo>
                        <a:pt x="2" y="118"/>
                      </a:lnTo>
                      <a:lnTo>
                        <a:pt x="873" y="113"/>
                      </a:lnTo>
                      <a:lnTo>
                        <a:pt x="872" y="108"/>
                      </a:lnTo>
                      <a:lnTo>
                        <a:pt x="844" y="8"/>
                      </a:lnTo>
                      <a:lnTo>
                        <a:pt x="838" y="2"/>
                      </a:lnTo>
                      <a:lnTo>
                        <a:pt x="821" y="0"/>
                      </a:lnTo>
                      <a:lnTo>
                        <a:pt x="28" y="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1749240" y="5843880"/>
                  <a:ext cx="133200" cy="119160"/>
                </a:xfrm>
                <a:custGeom>
                  <a:avLst/>
                  <a:gdLst/>
                  <a:ahLst/>
                  <a:rect l="l" t="t" r="r" b="b"/>
                  <a:pathLst>
                    <a:path w="100" h="86">
                      <a:moveTo>
                        <a:pt x="87" y="0"/>
                      </a:moveTo>
                      <a:lnTo>
                        <a:pt x="95" y="50"/>
                      </a:lnTo>
                      <a:lnTo>
                        <a:pt x="69" y="49"/>
                      </a:lnTo>
                      <a:lnTo>
                        <a:pt x="72" y="61"/>
                      </a:lnTo>
                      <a:lnTo>
                        <a:pt x="97" y="62"/>
                      </a:lnTo>
                      <a:lnTo>
                        <a:pt x="100" y="86"/>
                      </a:lnTo>
                      <a:lnTo>
                        <a:pt x="6" y="86"/>
                      </a:lnTo>
                      <a:lnTo>
                        <a:pt x="5" y="61"/>
                      </a:lnTo>
                      <a:lnTo>
                        <a:pt x="27" y="61"/>
                      </a:lnTo>
                      <a:lnTo>
                        <a:pt x="27" y="50"/>
                      </a:lnTo>
                      <a:lnTo>
                        <a:pt x="4" y="50"/>
                      </a:lnTo>
                      <a:lnTo>
                        <a:pt x="0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46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1912320" y="5847120"/>
                  <a:ext cx="151920" cy="19800"/>
                </a:xfrm>
                <a:custGeom>
                  <a:avLst/>
                  <a:gdLst/>
                  <a:ahLst/>
                  <a:rect l="l" t="t" r="r" b="b"/>
                  <a:pathLst>
                    <a:path w="115" h="14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115" y="14"/>
                      </a:lnTo>
                      <a:lnTo>
                        <a:pt x="1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1917720" y="5875200"/>
                  <a:ext cx="183960" cy="84240"/>
                </a:xfrm>
                <a:custGeom>
                  <a:avLst/>
                  <a:gdLst/>
                  <a:ahLst/>
                  <a:rect l="l" t="t" r="r" b="b"/>
                  <a:pathLst>
                    <a:path w="138" h="58">
                      <a:moveTo>
                        <a:pt x="0" y="0"/>
                      </a:moveTo>
                      <a:lnTo>
                        <a:pt x="116" y="0"/>
                      </a:lnTo>
                      <a:lnTo>
                        <a:pt x="138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1067400" y="5841360"/>
                  <a:ext cx="633960" cy="121680"/>
                </a:xfrm>
                <a:custGeom>
                  <a:avLst/>
                  <a:gdLst/>
                  <a:ahLst/>
                  <a:rect l="l" t="t" r="r" b="b"/>
                  <a:pathLst>
                    <a:path w="476" h="87">
                      <a:moveTo>
                        <a:pt x="9" y="0"/>
                      </a:moveTo>
                      <a:lnTo>
                        <a:pt x="8" y="17"/>
                      </a:lnTo>
                      <a:lnTo>
                        <a:pt x="31" y="17"/>
                      </a:lnTo>
                      <a:lnTo>
                        <a:pt x="28" y="44"/>
                      </a:lnTo>
                      <a:lnTo>
                        <a:pt x="4" y="46"/>
                      </a:lnTo>
                      <a:lnTo>
                        <a:pt x="0" y="72"/>
                      </a:lnTo>
                      <a:lnTo>
                        <a:pt x="23" y="73"/>
                      </a:lnTo>
                      <a:lnTo>
                        <a:pt x="22" y="87"/>
                      </a:lnTo>
                      <a:lnTo>
                        <a:pt x="384" y="87"/>
                      </a:lnTo>
                      <a:lnTo>
                        <a:pt x="386" y="80"/>
                      </a:lnTo>
                      <a:lnTo>
                        <a:pt x="458" y="80"/>
                      </a:lnTo>
                      <a:lnTo>
                        <a:pt x="457" y="67"/>
                      </a:lnTo>
                      <a:lnTo>
                        <a:pt x="475" y="67"/>
                      </a:lnTo>
                      <a:lnTo>
                        <a:pt x="475" y="29"/>
                      </a:lnTo>
                      <a:lnTo>
                        <a:pt x="458" y="29"/>
                      </a:lnTo>
                      <a:lnTo>
                        <a:pt x="458" y="19"/>
                      </a:lnTo>
                      <a:lnTo>
                        <a:pt x="476" y="19"/>
                      </a:lnTo>
                      <a:lnTo>
                        <a:pt x="476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990720" y="5987880"/>
                  <a:ext cx="1164600" cy="45360"/>
                </a:xfrm>
                <a:custGeom>
                  <a:avLst/>
                  <a:gdLst/>
                  <a:ahLst/>
                  <a:rect l="l" t="t" r="r" b="b"/>
                  <a:pathLst>
                    <a:path w="872" h="34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19"/>
                      </a:lnTo>
                      <a:lnTo>
                        <a:pt x="8" y="34"/>
                      </a:lnTo>
                      <a:lnTo>
                        <a:pt x="862" y="34"/>
                      </a:lnTo>
                      <a:lnTo>
                        <a:pt x="871" y="17"/>
                      </a:lnTo>
                      <a:lnTo>
                        <a:pt x="8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303200" y="5621040"/>
                  <a:ext cx="533880" cy="158040"/>
                </a:xfrm>
                <a:custGeom>
                  <a:avLst/>
                  <a:gdLst/>
                  <a:ahLst/>
                  <a:rect l="l" t="t" r="r" b="b"/>
                  <a:pathLst>
                    <a:path w="400" h="112">
                      <a:moveTo>
                        <a:pt x="353" y="0"/>
                      </a:moveTo>
                      <a:lnTo>
                        <a:pt x="30" y="0"/>
                      </a:lnTo>
                      <a:lnTo>
                        <a:pt x="0" y="112"/>
                      </a:lnTo>
                      <a:lnTo>
                        <a:pt x="400" y="107"/>
                      </a:lnTo>
                      <a:lnTo>
                        <a:pt x="354" y="1"/>
                      </a:lnTo>
                      <a:lnTo>
                        <a:pt x="353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1406880" y="5590080"/>
                  <a:ext cx="317880" cy="115200"/>
                </a:xfrm>
                <a:custGeom>
                  <a:avLst/>
                  <a:gdLst/>
                  <a:ahLst/>
                  <a:rect l="l" t="t" r="r" b="b"/>
                  <a:pathLst>
                    <a:path w="239" h="83">
                      <a:moveTo>
                        <a:pt x="236" y="40"/>
                      </a:moveTo>
                      <a:lnTo>
                        <a:pt x="188" y="70"/>
                      </a:lnTo>
                      <a:lnTo>
                        <a:pt x="123" y="83"/>
                      </a:lnTo>
                      <a:lnTo>
                        <a:pt x="58" y="74"/>
                      </a:lnTo>
                      <a:lnTo>
                        <a:pt x="4" y="43"/>
                      </a:lnTo>
                      <a:lnTo>
                        <a:pt x="0" y="26"/>
                      </a:lnTo>
                      <a:lnTo>
                        <a:pt x="25" y="13"/>
                      </a:lnTo>
                      <a:lnTo>
                        <a:pt x="119" y="0"/>
                      </a:lnTo>
                      <a:lnTo>
                        <a:pt x="144" y="0"/>
                      </a:lnTo>
                      <a:lnTo>
                        <a:pt x="170" y="2"/>
                      </a:lnTo>
                      <a:lnTo>
                        <a:pt x="213" y="8"/>
                      </a:lnTo>
                      <a:lnTo>
                        <a:pt x="239" y="20"/>
                      </a:lnTo>
                      <a:lnTo>
                        <a:pt x="236" y="40"/>
                      </a:lnTo>
                      <a:close/>
                    </a:path>
                  </a:pathLst>
                </a:custGeom>
                <a:solidFill>
                  <a:srgbClr val="6e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385640" y="5572800"/>
                  <a:ext cx="350280" cy="98640"/>
                </a:xfrm>
                <a:custGeom>
                  <a:avLst/>
                  <a:gdLst/>
                  <a:ahLst/>
                  <a:rect l="l" t="t" r="r" b="b"/>
                  <a:pathLst>
                    <a:path w="261" h="71">
                      <a:moveTo>
                        <a:pt x="259" y="35"/>
                      </a:moveTo>
                      <a:lnTo>
                        <a:pt x="205" y="60"/>
                      </a:lnTo>
                      <a:lnTo>
                        <a:pt x="134" y="71"/>
                      </a:lnTo>
                      <a:lnTo>
                        <a:pt x="63" y="63"/>
                      </a:lnTo>
                      <a:lnTo>
                        <a:pt x="4" y="37"/>
                      </a:lnTo>
                      <a:lnTo>
                        <a:pt x="0" y="22"/>
                      </a:lnTo>
                      <a:lnTo>
                        <a:pt x="26" y="11"/>
                      </a:lnTo>
                      <a:lnTo>
                        <a:pt x="130" y="0"/>
                      </a:lnTo>
                      <a:lnTo>
                        <a:pt x="156" y="0"/>
                      </a:lnTo>
                      <a:lnTo>
                        <a:pt x="185" y="1"/>
                      </a:lnTo>
                      <a:lnTo>
                        <a:pt x="234" y="8"/>
                      </a:lnTo>
                      <a:lnTo>
                        <a:pt x="261" y="18"/>
                      </a:lnTo>
                      <a:lnTo>
                        <a:pt x="259" y="3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1297800" y="5770800"/>
                  <a:ext cx="547560" cy="39600"/>
                </a:xfrm>
                <a:custGeom>
                  <a:avLst/>
                  <a:gdLst/>
                  <a:ahLst/>
                  <a:rect l="l" t="t" r="r" b="b"/>
                  <a:pathLst>
                    <a:path w="410" h="29">
                      <a:moveTo>
                        <a:pt x="7" y="0"/>
                      </a:moveTo>
                      <a:lnTo>
                        <a:pt x="1" y="16"/>
                      </a:lnTo>
                      <a:lnTo>
                        <a:pt x="0" y="23"/>
                      </a:lnTo>
                      <a:lnTo>
                        <a:pt x="3" y="29"/>
                      </a:lnTo>
                      <a:lnTo>
                        <a:pt x="407" y="29"/>
                      </a:lnTo>
                      <a:lnTo>
                        <a:pt x="410" y="18"/>
                      </a:lnTo>
                      <a:lnTo>
                        <a:pt x="404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1297800" y="5790600"/>
                  <a:ext cx="547560" cy="19800"/>
                </a:xfrm>
                <a:custGeom>
                  <a:avLst/>
                  <a:gdLst/>
                  <a:ahLst/>
                  <a:rect l="l" t="t" r="r" b="b"/>
                  <a:pathLst>
                    <a:path w="410" h="13">
                      <a:moveTo>
                        <a:pt x="1" y="0"/>
                      </a:moveTo>
                      <a:lnTo>
                        <a:pt x="0" y="7"/>
                      </a:lnTo>
                      <a:lnTo>
                        <a:pt x="3" y="13"/>
                      </a:lnTo>
                      <a:lnTo>
                        <a:pt x="407" y="13"/>
                      </a:lnTo>
                      <a:lnTo>
                        <a:pt x="41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e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1190520" y="4925880"/>
                  <a:ext cx="740520" cy="672480"/>
                </a:xfrm>
                <a:custGeom>
                  <a:avLst/>
                  <a:gdLst/>
                  <a:ahLst/>
                  <a:rect l="l" t="t" r="r" b="b"/>
                  <a:pathLst>
                    <a:path w="555" h="476">
                      <a:moveTo>
                        <a:pt x="0" y="447"/>
                      </a:moveTo>
                      <a:lnTo>
                        <a:pt x="5" y="467"/>
                      </a:lnTo>
                      <a:lnTo>
                        <a:pt x="23" y="476"/>
                      </a:lnTo>
                      <a:lnTo>
                        <a:pt x="526" y="476"/>
                      </a:lnTo>
                      <a:lnTo>
                        <a:pt x="546" y="472"/>
                      </a:lnTo>
                      <a:lnTo>
                        <a:pt x="555" y="453"/>
                      </a:lnTo>
                      <a:lnTo>
                        <a:pt x="555" y="26"/>
                      </a:lnTo>
                      <a:lnTo>
                        <a:pt x="550" y="8"/>
                      </a:lnTo>
                      <a:lnTo>
                        <a:pt x="530" y="3"/>
                      </a:lnTo>
                      <a:lnTo>
                        <a:pt x="27" y="0"/>
                      </a:lnTo>
                      <a:lnTo>
                        <a:pt x="7" y="4"/>
                      </a:lnTo>
                      <a:lnTo>
                        <a:pt x="0" y="22"/>
                      </a:lnTo>
                      <a:lnTo>
                        <a:pt x="0" y="44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1840320" y="4991040"/>
                  <a:ext cx="45360" cy="522720"/>
                </a:xfrm>
                <a:custGeom>
                  <a:avLst/>
                  <a:gdLst/>
                  <a:ahLst/>
                  <a:rect l="l" t="t" r="r" b="b"/>
                  <a:pathLst>
                    <a:path w="34" h="369">
                      <a:moveTo>
                        <a:pt x="33" y="14"/>
                      </a:moveTo>
                      <a:lnTo>
                        <a:pt x="20" y="0"/>
                      </a:lnTo>
                      <a:lnTo>
                        <a:pt x="0" y="21"/>
                      </a:lnTo>
                      <a:lnTo>
                        <a:pt x="16" y="34"/>
                      </a:lnTo>
                      <a:lnTo>
                        <a:pt x="16" y="351"/>
                      </a:lnTo>
                      <a:lnTo>
                        <a:pt x="34" y="369"/>
                      </a:lnTo>
                      <a:lnTo>
                        <a:pt x="33" y="14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1249200" y="4991040"/>
                  <a:ext cx="45360" cy="541800"/>
                </a:xfrm>
                <a:custGeom>
                  <a:avLst/>
                  <a:gdLst/>
                  <a:ahLst/>
                  <a:rect l="l" t="t" r="r" b="b"/>
                  <a:pathLst>
                    <a:path w="32" h="382">
                      <a:moveTo>
                        <a:pt x="0" y="369"/>
                      </a:moveTo>
                      <a:lnTo>
                        <a:pt x="13" y="382"/>
                      </a:lnTo>
                      <a:lnTo>
                        <a:pt x="32" y="363"/>
                      </a:lnTo>
                      <a:lnTo>
                        <a:pt x="17" y="349"/>
                      </a:lnTo>
                      <a:lnTo>
                        <a:pt x="17" y="189"/>
                      </a:lnTo>
                      <a:lnTo>
                        <a:pt x="17" y="34"/>
                      </a:lnTo>
                      <a:lnTo>
                        <a:pt x="31" y="21"/>
                      </a:lnTo>
                      <a:lnTo>
                        <a:pt x="14" y="0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369"/>
                      </a:lnTo>
                      <a:close/>
                    </a:path>
                  </a:pathLst>
                </a:custGeom>
                <a:solidFill>
                  <a:srgbClr val="6e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1268280" y="4991040"/>
                  <a:ext cx="604080" cy="30600"/>
                </a:xfrm>
                <a:custGeom>
                  <a:avLst/>
                  <a:gdLst/>
                  <a:ahLst/>
                  <a:rect l="l" t="t" r="r" b="b"/>
                  <a:pathLst>
                    <a:path w="451" h="21">
                      <a:moveTo>
                        <a:pt x="0" y="0"/>
                      </a:moveTo>
                      <a:lnTo>
                        <a:pt x="18" y="21"/>
                      </a:lnTo>
                      <a:lnTo>
                        <a:pt x="432" y="21"/>
                      </a:lnTo>
                      <a:lnTo>
                        <a:pt x="45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1268280" y="5488200"/>
                  <a:ext cx="622800" cy="44640"/>
                </a:xfrm>
                <a:custGeom>
                  <a:avLst/>
                  <a:gdLst/>
                  <a:ahLst/>
                  <a:rect l="l" t="t" r="r" b="b"/>
                  <a:pathLst>
                    <a:path w="466" h="31">
                      <a:moveTo>
                        <a:pt x="450" y="31"/>
                      </a:moveTo>
                      <a:lnTo>
                        <a:pt x="466" y="18"/>
                      </a:lnTo>
                      <a:lnTo>
                        <a:pt x="448" y="0"/>
                      </a:lnTo>
                      <a:lnTo>
                        <a:pt x="432" y="12"/>
                      </a:lnTo>
                      <a:lnTo>
                        <a:pt x="18" y="12"/>
                      </a:lnTo>
                      <a:lnTo>
                        <a:pt x="0" y="31"/>
                      </a:lnTo>
                      <a:lnTo>
                        <a:pt x="450" y="31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1273680" y="5021640"/>
                  <a:ext cx="587880" cy="480240"/>
                </a:xfrm>
                <a:custGeom>
                  <a:avLst/>
                  <a:gdLst/>
                  <a:ahLst/>
                  <a:rect l="l" t="t" r="r" b="b"/>
                  <a:pathLst>
                    <a:path w="440" h="340">
                      <a:moveTo>
                        <a:pt x="0" y="319"/>
                      </a:moveTo>
                      <a:lnTo>
                        <a:pt x="3" y="334"/>
                      </a:lnTo>
                      <a:lnTo>
                        <a:pt x="17" y="340"/>
                      </a:lnTo>
                      <a:lnTo>
                        <a:pt x="415" y="340"/>
                      </a:lnTo>
                      <a:lnTo>
                        <a:pt x="432" y="337"/>
                      </a:lnTo>
                      <a:lnTo>
                        <a:pt x="440" y="324"/>
                      </a:lnTo>
                      <a:lnTo>
                        <a:pt x="440" y="19"/>
                      </a:lnTo>
                      <a:lnTo>
                        <a:pt x="435" y="5"/>
                      </a:lnTo>
                      <a:lnTo>
                        <a:pt x="419" y="0"/>
                      </a:lnTo>
                      <a:lnTo>
                        <a:pt x="21" y="0"/>
                      </a:lnTo>
                      <a:lnTo>
                        <a:pt x="6" y="3"/>
                      </a:lnTo>
                      <a:lnTo>
                        <a:pt x="0" y="16"/>
                      </a:lnTo>
                      <a:lnTo>
                        <a:pt x="0" y="319"/>
                      </a:lnTo>
                      <a:close/>
                    </a:path>
                  </a:pathLst>
                </a:custGeom>
                <a:solidFill>
                  <a:srgbClr val="46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7056360" y="2055960"/>
                <a:ext cx="836280" cy="1577520"/>
                <a:chOff x="7056360" y="2055960"/>
                <a:chExt cx="836280" cy="157752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7056360" y="2055960"/>
                  <a:ext cx="836280" cy="150696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074720" y="3562920"/>
                  <a:ext cx="804600" cy="7056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098840" y="2055960"/>
                  <a:ext cx="1800" cy="1506960"/>
                </a:xfrm>
                <a:prstGeom prst="line">
                  <a:avLst/>
                </a:prstGeom>
                <a:ln w="1440">
                  <a:solidFill>
                    <a:srgbClr val="3232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106760" y="2067120"/>
                  <a:ext cx="737640" cy="1490760"/>
                </a:xfrm>
                <a:custGeom>
                  <a:avLst/>
                  <a:gdLst/>
                  <a:ahLst/>
                  <a:rect l="l" t="t" r="r" b="b"/>
                  <a:pathLst>
                    <a:path w="789" h="1302">
                      <a:moveTo>
                        <a:pt x="0" y="1302"/>
                      </a:moveTo>
                      <a:lnTo>
                        <a:pt x="0" y="0"/>
                      </a:lnTo>
                      <a:lnTo>
                        <a:pt x="789" y="0"/>
                      </a:lnTo>
                    </a:path>
                  </a:pathLst>
                </a:custGeom>
                <a:solidFill>
                  <a:srgbClr val="b2b2b2"/>
                </a:solidFill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057800" y="2060280"/>
                  <a:ext cx="33840" cy="1492920"/>
                </a:xfrm>
                <a:custGeom>
                  <a:avLst/>
                  <a:gdLst/>
                  <a:ahLst/>
                  <a:rect l="l" t="t" r="r" b="b"/>
                  <a:pathLst>
                    <a:path w="35" h="1303">
                      <a:moveTo>
                        <a:pt x="0" y="1303"/>
                      </a:moveTo>
                      <a:lnTo>
                        <a:pt x="0" y="0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b2b2b2"/>
                </a:solidFill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849800" y="2060280"/>
                  <a:ext cx="37080" cy="1492920"/>
                </a:xfrm>
                <a:custGeom>
                  <a:avLst/>
                  <a:gdLst/>
                  <a:ahLst/>
                  <a:rect l="l" t="t" r="r" b="b"/>
                  <a:pathLst>
                    <a:path w="40" h="1303">
                      <a:moveTo>
                        <a:pt x="0" y="0"/>
                      </a:moveTo>
                      <a:lnTo>
                        <a:pt x="40" y="0"/>
                      </a:lnTo>
                      <a:lnTo>
                        <a:pt x="40" y="1303"/>
                      </a:lnTo>
                    </a:path>
                  </a:pathLst>
                </a:custGeom>
                <a:solidFill>
                  <a:srgbClr val="b2b2b2"/>
                </a:solidFill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851600" y="2055960"/>
                  <a:ext cx="1800" cy="1513800"/>
                </a:xfrm>
                <a:prstGeom prst="line">
                  <a:avLst/>
                </a:prstGeom>
                <a:ln w="1440">
                  <a:solidFill>
                    <a:srgbClr val="3232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126920" y="2163240"/>
                  <a:ext cx="147600" cy="3276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142040" y="2179440"/>
                  <a:ext cx="117000" cy="2952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147800" y="2383560"/>
                  <a:ext cx="106200" cy="846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5a5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147800" y="2188800"/>
                  <a:ext cx="48600" cy="1872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216560" y="2193480"/>
                  <a:ext cx="31680" cy="16452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157160" y="2239200"/>
                  <a:ext cx="27720" cy="12348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158600" y="2239200"/>
                  <a:ext cx="25920" cy="864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196400" y="2188800"/>
                  <a:ext cx="5400" cy="1872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209000" y="2193480"/>
                  <a:ext cx="15120" cy="16452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174080" y="2395080"/>
                  <a:ext cx="14760" cy="684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157160" y="2401560"/>
                  <a:ext cx="10800" cy="11160"/>
                </a:xfrm>
                <a:prstGeom prst="ellipse">
                  <a:avLst/>
                </a:prstGeom>
                <a:solidFill>
                  <a:srgbClr val="b2b2b2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157160" y="2433960"/>
                  <a:ext cx="10800" cy="11160"/>
                </a:xfrm>
                <a:prstGeom prst="ellipse">
                  <a:avLst/>
                </a:prstGeom>
                <a:solidFill>
                  <a:srgbClr val="b2b2b2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126920" y="2161080"/>
                  <a:ext cx="149400" cy="334440"/>
                </a:xfrm>
                <a:custGeom>
                  <a:avLst/>
                  <a:gdLst/>
                  <a:ahLst/>
                  <a:rect l="l" t="t" r="r" b="b"/>
                  <a:pathLst>
                    <a:path w="161" h="292">
                      <a:moveTo>
                        <a:pt x="160" y="0"/>
                      </a:moveTo>
                      <a:lnTo>
                        <a:pt x="161" y="292"/>
                      </a:lnTo>
                      <a:lnTo>
                        <a:pt x="0" y="292"/>
                      </a:lnTo>
                    </a:path>
                  </a:pathLst>
                </a:custGeom>
                <a:solidFill>
                  <a:srgbClr val="b2b2b2"/>
                </a:solidFill>
                <a:ln w="1440">
                  <a:solidFill>
                    <a:srgbClr val="4646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224480" y="2395080"/>
                  <a:ext cx="12960" cy="2736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315920" y="2174760"/>
                  <a:ext cx="504000" cy="3114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317360" y="2227680"/>
                  <a:ext cx="498960" cy="864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317360" y="2291400"/>
                  <a:ext cx="500400" cy="90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317360" y="2358000"/>
                  <a:ext cx="500400" cy="90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317360" y="2422440"/>
                  <a:ext cx="500400" cy="864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34364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367760" y="217476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390440" y="217476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414560" y="217476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43904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463160" y="217476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48584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509960" y="217476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53444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55856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58088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605000" y="217476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62984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65396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767628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70256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724520" y="217476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7749000" y="217476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7773480" y="217476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7797600" y="217476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7315920" y="2703960"/>
                  <a:ext cx="504000" cy="31356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7317360" y="2759040"/>
                  <a:ext cx="498960" cy="1116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17360" y="2822760"/>
                  <a:ext cx="500400" cy="90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7317360" y="2889360"/>
                  <a:ext cx="500400" cy="90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7317360" y="2953800"/>
                  <a:ext cx="500400" cy="864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734364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7367760" y="2703960"/>
                  <a:ext cx="180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390440" y="2703960"/>
                  <a:ext cx="180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414560" y="2703960"/>
                  <a:ext cx="180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743904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463160" y="2703960"/>
                  <a:ext cx="180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48584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7509960" y="2703960"/>
                  <a:ext cx="180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753444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55856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58088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7605000" y="2703960"/>
                  <a:ext cx="180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62984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65396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767628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70256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724520" y="2703960"/>
                  <a:ext cx="180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749000" y="2703960"/>
                  <a:ext cx="144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7773480" y="2703960"/>
                  <a:ext cx="180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797600" y="2703960"/>
                  <a:ext cx="1800" cy="31356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7315920" y="3212280"/>
                  <a:ext cx="504000" cy="31356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317360" y="3267360"/>
                  <a:ext cx="498960" cy="1116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7317360" y="3333960"/>
                  <a:ext cx="500400" cy="648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7317360" y="3397680"/>
                  <a:ext cx="500400" cy="1116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7317360" y="3462120"/>
                  <a:ext cx="500400" cy="1116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34364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7367760" y="321444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390440" y="321444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7414560" y="321444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743904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7463160" y="321444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748584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7509960" y="321444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53444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55856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758088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7605000" y="321444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762984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765396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767628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770256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7724520" y="321444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7749000" y="3214440"/>
                  <a:ext cx="144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773480" y="321444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7797600" y="3214440"/>
                  <a:ext cx="1800" cy="31140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126920" y="2550600"/>
                  <a:ext cx="130680" cy="3420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126920" y="2550600"/>
                  <a:ext cx="132480" cy="36000"/>
                </a:xfrm>
                <a:custGeom>
                  <a:avLst/>
                  <a:gdLst/>
                  <a:ahLst/>
                  <a:rect l="l" t="t" r="r" b="b"/>
                  <a:pathLst>
                    <a:path w="142" h="33">
                      <a:moveTo>
                        <a:pt x="0" y="33"/>
                      </a:moveTo>
                      <a:lnTo>
                        <a:pt x="142" y="33"/>
                      </a:lnTo>
                      <a:lnTo>
                        <a:pt x="142" y="0"/>
                      </a:lnTo>
                    </a:path>
                  </a:pathLst>
                </a:custGeom>
                <a:solidFill>
                  <a:srgbClr val="b2b2b2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126920" y="2614680"/>
                  <a:ext cx="186480" cy="48240"/>
                </a:xfrm>
                <a:prstGeom prst="rect">
                  <a:avLst/>
                </a:prstGeom>
                <a:solidFill>
                  <a:srgbClr val="b2b2b2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126920" y="2614680"/>
                  <a:ext cx="188640" cy="50040"/>
                </a:xfrm>
                <a:custGeom>
                  <a:avLst/>
                  <a:gdLst/>
                  <a:ahLst/>
                  <a:rect l="l" t="t" r="r" b="b"/>
                  <a:pathLst>
                    <a:path w="202" h="44">
                      <a:moveTo>
                        <a:pt x="0" y="44"/>
                      </a:moveTo>
                      <a:lnTo>
                        <a:pt x="202" y="44"/>
                      </a:lnTo>
                      <a:lnTo>
                        <a:pt x="202" y="0"/>
                      </a:lnTo>
                    </a:path>
                  </a:pathLst>
                </a:custGeom>
                <a:solidFill>
                  <a:srgbClr val="b2b2b2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9" name=""/>
            <p:cNvSpPr/>
            <p:nvPr/>
          </p:nvSpPr>
          <p:spPr>
            <a:xfrm>
              <a:off x="7972560" y="2158920"/>
              <a:ext cx="81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Comic Sans MS"/>
                  <a:ea typeface="Times New Roman"/>
                </a:rPr>
                <a:t>WA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457960" y="1411200"/>
              <a:ext cx="81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Comic Sans MS"/>
                  <a:ea typeface="Times New Roman"/>
                </a:rPr>
                <a:t>.net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705720" y="5073480"/>
              <a:ext cx="81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Comic Sans MS"/>
                  <a:ea typeface="Times New Roman"/>
                </a:rPr>
                <a:t>CIC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3429000" y="3178080"/>
            <a:ext cx="3186000" cy="2665440"/>
            <a:chOff x="3429000" y="3178080"/>
            <a:chExt cx="3186000" cy="2665440"/>
          </a:xfrm>
        </p:grpSpPr>
        <p:sp>
          <p:nvSpPr>
            <p:cNvPr id="1093" name=""/>
            <p:cNvSpPr/>
            <p:nvPr/>
          </p:nvSpPr>
          <p:spPr>
            <a:xfrm>
              <a:off x="3898800" y="3314880"/>
              <a:ext cx="1000080" cy="496800"/>
            </a:xfrm>
            <a:custGeom>
              <a:avLst/>
              <a:gdLst/>
              <a:ahLst/>
              <a:rect l="l" t="t" r="r" b="b"/>
              <a:pathLst>
                <a:path w="707" h="351">
                  <a:moveTo>
                    <a:pt x="0" y="351"/>
                  </a:moveTo>
                  <a:cubicBezTo>
                    <a:pt x="87" y="332"/>
                    <a:pt x="404" y="292"/>
                    <a:pt x="522" y="234"/>
                  </a:cubicBezTo>
                  <a:cubicBezTo>
                    <a:pt x="640" y="176"/>
                    <a:pt x="669" y="49"/>
                    <a:pt x="707" y="0"/>
                  </a:cubicBezTo>
                </a:path>
              </a:pathLst>
            </a:custGeom>
            <a:noFill/>
            <a:ln w="25560">
              <a:solidFill>
                <a:srgbClr val="0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740120" y="3543480"/>
              <a:ext cx="1874880" cy="412560"/>
            </a:xfrm>
            <a:custGeom>
              <a:avLst/>
              <a:gdLst/>
              <a:ahLst/>
              <a:rect l="l" t="t" r="r" b="b"/>
              <a:pathLst>
                <a:path w="1181" h="260">
                  <a:moveTo>
                    <a:pt x="0" y="209"/>
                  </a:moveTo>
                  <a:cubicBezTo>
                    <a:pt x="45" y="213"/>
                    <a:pt x="138" y="260"/>
                    <a:pt x="273" y="233"/>
                  </a:cubicBezTo>
                  <a:cubicBezTo>
                    <a:pt x="407" y="206"/>
                    <a:pt x="659" y="88"/>
                    <a:pt x="810" y="49"/>
                  </a:cubicBezTo>
                  <a:cubicBezTo>
                    <a:pt x="961" y="10"/>
                    <a:pt x="1104" y="10"/>
                    <a:pt x="1181" y="0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894120" y="4668840"/>
              <a:ext cx="1492200" cy="1174680"/>
            </a:xfrm>
            <a:custGeom>
              <a:avLst/>
              <a:gdLst/>
              <a:ahLst/>
              <a:rect l="l" t="t" r="r" b="b"/>
              <a:pathLst>
                <a:path w="940" h="740">
                  <a:moveTo>
                    <a:pt x="940" y="740"/>
                  </a:moveTo>
                  <a:cubicBezTo>
                    <a:pt x="841" y="707"/>
                    <a:pt x="493" y="612"/>
                    <a:pt x="346" y="542"/>
                  </a:cubicBezTo>
                  <a:cubicBezTo>
                    <a:pt x="199" y="472"/>
                    <a:pt x="116" y="407"/>
                    <a:pt x="58" y="317"/>
                  </a:cubicBezTo>
                  <a:cubicBezTo>
                    <a:pt x="0" y="227"/>
                    <a:pt x="12" y="66"/>
                    <a:pt x="0" y="0"/>
                  </a:cubicBezTo>
                </a:path>
              </a:pathLst>
            </a:custGeom>
            <a:noFill/>
            <a:ln w="255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29000" y="3178080"/>
              <a:ext cx="13492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0" anchor="t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7013c"/>
                  </a:solidFill>
                  <a:latin typeface="Comic Sans MS"/>
                  <a:ea typeface="Times New Roman"/>
                </a:rPr>
                <a:t>SOAP,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7013c"/>
                  </a:solidFill>
                  <a:latin typeface="Comic Sans MS"/>
                  <a:ea typeface="Times New Roman"/>
                </a:rPr>
                <a:t>Transa</a:t>
              </a:r>
              <a:r>
                <a:rPr b="1" lang="sr-Latn-CS" sz="1400" spc="-1" strike="noStrike">
                  <a:solidFill>
                    <a:srgbClr val="f7013c"/>
                  </a:solidFill>
                  <a:latin typeface="Comic Sans MS"/>
                  <a:ea typeface="Times New Roman"/>
                </a:rPr>
                <a:t>kcij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19640" y="342900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  <a:ea typeface="Times New Roman"/>
                </a:rPr>
                <a:t>RMI IIO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809880" y="51354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  <a:ea typeface="Times New Roman"/>
                </a:rPr>
                <a:t>MQSeri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29360" y="4457880"/>
              <a:ext cx="728640" cy="671400"/>
            </a:xfrm>
            <a:custGeom>
              <a:avLst/>
              <a:gdLst/>
              <a:ahLst/>
              <a:rect l="l" t="t" r="r" b="b"/>
              <a:pathLst>
                <a:path w="459" h="423">
                  <a:moveTo>
                    <a:pt x="0" y="0"/>
                  </a:moveTo>
                  <a:cubicBezTo>
                    <a:pt x="39" y="30"/>
                    <a:pt x="158" y="110"/>
                    <a:pt x="234" y="180"/>
                  </a:cubicBezTo>
                  <a:cubicBezTo>
                    <a:pt x="310" y="250"/>
                    <a:pt x="412" y="373"/>
                    <a:pt x="459" y="423"/>
                  </a:cubicBezTo>
                </a:path>
              </a:pathLst>
            </a:custGeom>
            <a:noFill/>
            <a:ln w="25560">
              <a:solidFill>
                <a:srgbClr val="cc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105520" y="467820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  <a:ea typeface="Times New Roman"/>
                </a:rPr>
                <a:t>MQSeri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1476360" y="2924280"/>
            <a:ext cx="1752480" cy="1143000"/>
            <a:chOff x="1476360" y="2924280"/>
            <a:chExt cx="1752480" cy="1143000"/>
          </a:xfrm>
        </p:grpSpPr>
        <p:sp>
          <p:nvSpPr>
            <p:cNvPr id="1102" name=""/>
            <p:cNvSpPr/>
            <p:nvPr/>
          </p:nvSpPr>
          <p:spPr>
            <a:xfrm>
              <a:off x="1476360" y="2924280"/>
              <a:ext cx="1752480" cy="1143000"/>
            </a:xfrm>
            <a:prstGeom prst="ellipse">
              <a:avLst/>
            </a:prstGeom>
            <a:solidFill>
              <a:srgbClr val="9fc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838160" y="3168720"/>
              <a:ext cx="121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f7faf"/>
                  </a:solidFill>
                  <a:latin typeface="Comic Sans MS"/>
                  <a:ea typeface="Times New Roman"/>
                </a:rPr>
                <a:t>Proces </a:t>
              </a:r>
              <a:r>
                <a:rPr b="1" lang="sr-Latn-CS" sz="1400" spc="-1" strike="noStrike">
                  <a:solidFill>
                    <a:srgbClr val="ef7faf"/>
                  </a:solidFill>
                  <a:latin typeface="Comic Sans MS"/>
                  <a:ea typeface="Times New Roman"/>
                </a:rPr>
                <a:t>posrednik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04" name=""/>
          <p:cNvGrpSpPr/>
          <p:nvPr/>
        </p:nvGrpSpPr>
        <p:grpSpPr>
          <a:xfrm>
            <a:off x="2868480" y="4186080"/>
            <a:ext cx="3787920" cy="276480"/>
            <a:chOff x="2868480" y="4186080"/>
            <a:chExt cx="3787920" cy="276480"/>
          </a:xfrm>
        </p:grpSpPr>
        <p:sp>
          <p:nvSpPr>
            <p:cNvPr id="1105" name=""/>
            <p:cNvSpPr/>
            <p:nvPr/>
          </p:nvSpPr>
          <p:spPr>
            <a:xfrm>
              <a:off x="5332320" y="4197240"/>
              <a:ext cx="193680" cy="204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868480" y="4191120"/>
              <a:ext cx="255600" cy="203040"/>
            </a:xfrm>
            <a:prstGeom prst="leftRightArrow">
              <a:avLst>
                <a:gd name="adj1" fmla="val 50000"/>
                <a:gd name="adj2" fmla="val 25061"/>
              </a:avLst>
            </a:prstGeom>
            <a:solidFill>
              <a:srgbClr val="9933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00440" y="4186080"/>
              <a:ext cx="11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7013c"/>
                  </a:solidFill>
                  <a:latin typeface="Comic Sans MS"/>
                  <a:ea typeface="Times New Roman"/>
                </a:rPr>
                <a:t>Opis proces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1993680" y="4423320"/>
            <a:ext cx="1359000" cy="1068840"/>
            <a:chOff x="1993680" y="4423320"/>
            <a:chExt cx="1359000" cy="1068840"/>
          </a:xfrm>
        </p:grpSpPr>
        <p:sp>
          <p:nvSpPr>
            <p:cNvPr id="1109" name=""/>
            <p:cNvSpPr/>
            <p:nvPr/>
          </p:nvSpPr>
          <p:spPr>
            <a:xfrm rot="18900000">
              <a:off x="2048040" y="4579920"/>
              <a:ext cx="612720" cy="407880"/>
            </a:xfrm>
            <a:custGeom>
              <a:avLst/>
              <a:gdLst>
                <a:gd name="textAreaLeft" fmla="*/ 95760 w 612720"/>
                <a:gd name="textAreaRight" fmla="*/ 536400 w 612720"/>
                <a:gd name="textAreaTop" fmla="*/ 101880 h 407880"/>
                <a:gd name="textAreaBottom" fmla="*/ 306000 h 40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214720" y="4971960"/>
              <a:ext cx="1137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ef7faf"/>
                  </a:solidFill>
                  <a:latin typeface="Comic Sans MS"/>
                  <a:ea typeface="Times New Roman"/>
                </a:rPr>
                <a:t>Pristupni kanali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4844520" y="3086280"/>
            <a:ext cx="2775600" cy="3006720"/>
            <a:chOff x="4844520" y="3086280"/>
            <a:chExt cx="2775600" cy="3006720"/>
          </a:xfrm>
        </p:grpSpPr>
        <p:sp>
          <p:nvSpPr>
            <p:cNvPr id="1112" name=""/>
            <p:cNvSpPr/>
            <p:nvPr/>
          </p:nvSpPr>
          <p:spPr>
            <a:xfrm rot="5400000">
              <a:off x="4775400" y="3155040"/>
              <a:ext cx="342720" cy="204840"/>
            </a:xfrm>
            <a:prstGeom prst="leftRightArrow">
              <a:avLst>
                <a:gd name="adj1" fmla="val 50000"/>
                <a:gd name="adj2" fmla="val 33307"/>
              </a:avLst>
            </a:prstGeom>
            <a:solidFill>
              <a:srgbClr val="9933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675480" y="3540240"/>
              <a:ext cx="258840" cy="206280"/>
            </a:xfrm>
            <a:prstGeom prst="leftRightArrow">
              <a:avLst>
                <a:gd name="adj1" fmla="val 50000"/>
                <a:gd name="adj2" fmla="val 24979"/>
              </a:avLst>
            </a:prstGeom>
            <a:solidFill>
              <a:srgbClr val="9933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rot="16200000">
              <a:off x="5869800" y="5211000"/>
              <a:ext cx="196560" cy="2077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486400" y="31132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7013c"/>
                  </a:solidFill>
                  <a:latin typeface="Comic Sans MS"/>
                  <a:ea typeface="Times New Roman"/>
                </a:rPr>
                <a:t>Opis servis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438880" y="5888160"/>
              <a:ext cx="193680" cy="204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019920" y="491184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ef7faf"/>
                  </a:solidFill>
                  <a:latin typeface="Comic Sans MS"/>
                  <a:ea typeface="Times New Roman"/>
                </a:rPr>
                <a:t>Tradicionalna integracij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Zaključa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PEL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e fokusira na kreiranje poslovnih proce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pisuje </a:t>
            </a:r>
            <a:r>
              <a:rPr b="1" lang="sr-Latn-CS" sz="2400" spc="-1" strike="noStrike">
                <a:solidFill>
                  <a:srgbClr val="ecd882"/>
                </a:solidFill>
                <a:latin typeface="Tahoma"/>
              </a:rPr>
              <a:t>kontrolnu logiku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za koordinaciju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b serv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a u okviru nekog poslovnog proces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Baziran na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X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d882"/>
                </a:solidFill>
                <a:latin typeface="Tahoma"/>
              </a:rPr>
              <a:t>Interpret</a:t>
            </a:r>
            <a:r>
              <a:rPr b="1" lang="sr-Latn-CS" sz="2400" spc="-1" strike="noStrike">
                <a:solidFill>
                  <a:srgbClr val="ecd882"/>
                </a:solidFill>
                <a:latin typeface="Tahoma"/>
              </a:rPr>
              <a:t>ira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e i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ecd882"/>
                </a:solidFill>
                <a:latin typeface="Tahoma"/>
              </a:rPr>
              <a:t>izvršav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d stran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BPEL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engine-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dard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d882"/>
                </a:solidFill>
                <a:latin typeface="Tahoma"/>
              </a:rPr>
              <a:t>BPEL4W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a.k.a. BPEL) – Business Process Execution Language for Web Servi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BM and Microsof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d882"/>
                </a:solidFill>
                <a:latin typeface="Tahoma"/>
              </a:rPr>
              <a:t>WSC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 Web Services Choreography Interf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un, SAP, BEA, and Intali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d882"/>
                </a:solidFill>
                <a:latin typeface="Tahoma"/>
              </a:rPr>
              <a:t>BPML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 Business Process Management Langua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PMI.org (chartered by Intarlio, Sterling Commerce, Sun, CSC, and other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1440" y="90936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Standardi za kompoziciju servisa u</a:t>
            </a:r>
            <a:br>
              <a:rPr sz="3600"/>
            </a:b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odnosu na dva modela procesa (apstraktni i izvršni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3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565360" y="2505240"/>
            <a:ext cx="43894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Istrorija razvoja standar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5" name="" descr="Timeline of different specifications"/>
          <p:cNvPicPr/>
          <p:nvPr/>
        </p:nvPicPr>
        <p:blipFill>
          <a:blip r:embed="rId1"/>
          <a:stretch/>
        </p:blipFill>
        <p:spPr>
          <a:xfrm>
            <a:off x="1523880" y="2057400"/>
            <a:ext cx="6782040" cy="28656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966400" y="5943600"/>
            <a:ext cx="318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Verdana"/>
              </a:rPr>
              <a:t>Source: http://www.radikalfx.com/bpel/usage.html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BPEL </a:t>
            </a:r>
            <a:br>
              <a:rPr sz="4000"/>
            </a:b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procesi i interkcije su stogo tipiziran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73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PEL se gradi pomocu WSDL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opisa servis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Strogo tipizira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Interkacija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PEL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procesa preko skupa tipiziranih kanala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Partner link = 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par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WSDL port typ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PEL 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tokovi su usko povezani sa specifičnim interfjesima i tipovima poruk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PEL podr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žava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tradi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cionalne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WfMS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osobine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tatically analyzabl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Transakcije, pouzdanost, monitoring izvršavanja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itd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Odgovara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(SOA) 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modelu aplikacija za itnegraciju aplikacija preko dobro definisanih intefejsa servis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PEL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je proširen za podršku interkacije sa ljudima kao akterim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PEL4People: servi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si koje izvršavaju ljud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010280" y="1981080"/>
            <a:ext cx="1752840" cy="3635640"/>
          </a:xfrm>
          <a:custGeom>
            <a:avLst/>
            <a:gdLst/>
            <a:ahLst/>
            <a:rect l="l" t="t" r="r" b="b"/>
            <a:pathLst>
              <a:path w="1194" h="2274">
                <a:moveTo>
                  <a:pt x="18" y="275"/>
                </a:moveTo>
                <a:cubicBezTo>
                  <a:pt x="71" y="236"/>
                  <a:pt x="195" y="64"/>
                  <a:pt x="336" y="32"/>
                </a:cubicBezTo>
                <a:cubicBezTo>
                  <a:pt x="477" y="0"/>
                  <a:pt x="728" y="0"/>
                  <a:pt x="864" y="80"/>
                </a:cubicBezTo>
                <a:cubicBezTo>
                  <a:pt x="1000" y="160"/>
                  <a:pt x="1110" y="282"/>
                  <a:pt x="1152" y="512"/>
                </a:cubicBezTo>
                <a:cubicBezTo>
                  <a:pt x="1194" y="742"/>
                  <a:pt x="1143" y="1212"/>
                  <a:pt x="1116" y="1463"/>
                </a:cubicBezTo>
                <a:cubicBezTo>
                  <a:pt x="1089" y="1714"/>
                  <a:pt x="1072" y="1886"/>
                  <a:pt x="990" y="2021"/>
                </a:cubicBezTo>
                <a:cubicBezTo>
                  <a:pt x="908" y="2156"/>
                  <a:pt x="757" y="2274"/>
                  <a:pt x="621" y="2273"/>
                </a:cubicBezTo>
                <a:cubicBezTo>
                  <a:pt x="485" y="2272"/>
                  <a:pt x="274" y="2129"/>
                  <a:pt x="171" y="2012"/>
                </a:cubicBezTo>
                <a:cubicBezTo>
                  <a:pt x="68" y="1895"/>
                  <a:pt x="36" y="1660"/>
                  <a:pt x="0" y="1568"/>
                </a:cubicBezTo>
              </a:path>
            </a:pathLst>
          </a:custGeom>
          <a:solidFill>
            <a:srgbClr val="c0c0c0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134920" y="2720160"/>
            <a:ext cx="232200" cy="598680"/>
          </a:xfrm>
          <a:prstGeom prst="line">
            <a:avLst/>
          </a:prstGeom>
          <a:ln w="38160">
            <a:solidFill>
              <a:srgbClr val="b7c1e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202240" y="4627440"/>
            <a:ext cx="204840" cy="308160"/>
          </a:xfrm>
          <a:prstGeom prst="line">
            <a:avLst/>
          </a:prstGeom>
          <a:ln w="38160">
            <a:solidFill>
              <a:srgbClr val="b7c1e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79000" y="3619440"/>
            <a:ext cx="21600" cy="704880"/>
          </a:xfrm>
          <a:prstGeom prst="line">
            <a:avLst/>
          </a:prstGeom>
          <a:ln w="38160">
            <a:solidFill>
              <a:srgbClr val="b7c1e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617960" y="2724120"/>
            <a:ext cx="411480" cy="617760"/>
          </a:xfrm>
          <a:prstGeom prst="line">
            <a:avLst/>
          </a:prstGeom>
          <a:ln w="38160">
            <a:solidFill>
              <a:srgbClr val="b7c1e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5880" y="3642120"/>
            <a:ext cx="469080" cy="1296000"/>
          </a:xfrm>
          <a:prstGeom prst="line">
            <a:avLst/>
          </a:prstGeom>
          <a:ln w="38160">
            <a:solidFill>
              <a:srgbClr val="b7c1e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4419720"/>
            <a:ext cx="762120" cy="609480"/>
          </a:xfrm>
          <a:prstGeom prst="line">
            <a:avLst/>
          </a:prstGeom>
          <a:ln w="381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5296200">
            <a:off x="7926480" y="2410560"/>
            <a:ext cx="301680" cy="322200"/>
          </a:xfrm>
          <a:prstGeom prst="ellipse">
            <a:avLst/>
          </a:prstGeom>
          <a:gradFill rotWithShape="0">
            <a:gsLst>
              <a:gs pos="0">
                <a:srgbClr val="ecd882"/>
              </a:gs>
              <a:gs pos="100000">
                <a:srgbClr val="6c633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296200">
            <a:off x="8002800" y="4926600"/>
            <a:ext cx="301680" cy="3222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296200">
            <a:off x="8306280" y="4314240"/>
            <a:ext cx="303120" cy="320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296200">
            <a:off x="8276760" y="3306600"/>
            <a:ext cx="301680" cy="320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296200">
            <a:off x="7415640" y="3302640"/>
            <a:ext cx="301680" cy="322560"/>
          </a:xfrm>
          <a:prstGeom prst="ellipse">
            <a:avLst/>
          </a:prstGeom>
          <a:gradFill rotWithShape="0">
            <a:gsLst>
              <a:gs pos="0">
                <a:srgbClr val="ecd882"/>
              </a:gs>
              <a:gs pos="100000">
                <a:srgbClr val="6c633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238520" y="3581280"/>
            <a:ext cx="228600" cy="838440"/>
          </a:xfrm>
          <a:prstGeom prst="line">
            <a:avLst/>
          </a:prstGeom>
          <a:ln w="381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5296200">
            <a:off x="7107480" y="4226760"/>
            <a:ext cx="301320" cy="3222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81680" y="2819520"/>
            <a:ext cx="228600" cy="1447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3733920"/>
            <a:ext cx="152640" cy="152280"/>
          </a:xfrm>
          <a:custGeom>
            <a:avLst/>
            <a:gdLst>
              <a:gd name="textAreaLeft" fmla="*/ 0 w 152640"/>
              <a:gd name="textAreaRight" fmla="*/ 153000 w 1526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5960" y="2546280"/>
            <a:ext cx="1212840" cy="2706840"/>
          </a:xfrm>
          <a:custGeom>
            <a:avLst/>
            <a:gdLst/>
            <a:ahLst/>
            <a:rect l="l" t="t" r="r" b="b"/>
            <a:pathLst>
              <a:path w="764" h="1705">
                <a:moveTo>
                  <a:pt x="718" y="177"/>
                </a:moveTo>
                <a:cubicBezTo>
                  <a:pt x="714" y="174"/>
                  <a:pt x="764" y="170"/>
                  <a:pt x="692" y="162"/>
                </a:cubicBezTo>
                <a:cubicBezTo>
                  <a:pt x="620" y="154"/>
                  <a:pt x="396" y="0"/>
                  <a:pt x="286" y="129"/>
                </a:cubicBezTo>
                <a:cubicBezTo>
                  <a:pt x="176" y="258"/>
                  <a:pt x="62" y="714"/>
                  <a:pt x="31" y="939"/>
                </a:cubicBezTo>
                <a:cubicBezTo>
                  <a:pt x="0" y="1164"/>
                  <a:pt x="10" y="1352"/>
                  <a:pt x="103" y="1479"/>
                </a:cubicBezTo>
                <a:cubicBezTo>
                  <a:pt x="196" y="1606"/>
                  <a:pt x="487" y="1705"/>
                  <a:pt x="589" y="1704"/>
                </a:cubicBezTo>
                <a:cubicBezTo>
                  <a:pt x="691" y="1703"/>
                  <a:pt x="691" y="1521"/>
                  <a:pt x="718" y="1473"/>
                </a:cubicBezTo>
                <a:cubicBezTo>
                  <a:pt x="718" y="1473"/>
                  <a:pt x="718" y="177"/>
                  <a:pt x="718" y="177"/>
                </a:cubicBez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67520" y="3214800"/>
            <a:ext cx="614160" cy="595080"/>
          </a:xfrm>
          <a:custGeom>
            <a:avLst/>
            <a:gdLst/>
            <a:ahLst/>
            <a:rect l="l" t="t" r="r" b="b"/>
            <a:pathLst>
              <a:path w="396" h="171">
                <a:moveTo>
                  <a:pt x="0" y="0"/>
                </a:moveTo>
                <a:cubicBezTo>
                  <a:pt x="28" y="12"/>
                  <a:pt x="114" y="43"/>
                  <a:pt x="180" y="72"/>
                </a:cubicBezTo>
                <a:cubicBezTo>
                  <a:pt x="246" y="101"/>
                  <a:pt x="351" y="151"/>
                  <a:pt x="396" y="171"/>
                </a:cubicBezTo>
              </a:path>
            </a:pathLst>
          </a:custGeom>
          <a:noFill/>
          <a:ln w="255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3581280"/>
            <a:ext cx="228600" cy="12956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167520" y="3013920"/>
            <a:ext cx="614160" cy="338040"/>
          </a:xfrm>
          <a:custGeom>
            <a:avLst/>
            <a:gdLst/>
            <a:ahLst/>
            <a:rect l="l" t="t" r="r" b="b"/>
            <a:pathLst>
              <a:path w="378" h="156">
                <a:moveTo>
                  <a:pt x="0" y="156"/>
                </a:moveTo>
                <a:cubicBezTo>
                  <a:pt x="27" y="133"/>
                  <a:pt x="99" y="42"/>
                  <a:pt x="162" y="21"/>
                </a:cubicBezTo>
                <a:cubicBezTo>
                  <a:pt x="225" y="0"/>
                  <a:pt x="333" y="28"/>
                  <a:pt x="378" y="30"/>
                </a:cubicBezTo>
              </a:path>
            </a:pathLst>
          </a:custGeom>
          <a:noFill/>
          <a:ln w="255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3200400"/>
            <a:ext cx="152640" cy="152280"/>
          </a:xfrm>
          <a:custGeom>
            <a:avLst/>
            <a:gdLst>
              <a:gd name="textAreaLeft" fmla="*/ 0 w 152640"/>
              <a:gd name="textAreaRight" fmla="*/ 153000 w 1526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0800000">
            <a:off x="6248160" y="457164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24382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Service B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81720" y="4614840"/>
            <a:ext cx="1600200" cy="495360"/>
          </a:xfrm>
          <a:custGeom>
            <a:avLst/>
            <a:gdLst/>
            <a:ahLst/>
            <a:rect l="l" t="t" r="r" b="b"/>
            <a:pathLst>
              <a:path w="1008" h="312">
                <a:moveTo>
                  <a:pt x="0" y="8"/>
                </a:moveTo>
                <a:cubicBezTo>
                  <a:pt x="93" y="14"/>
                  <a:pt x="417" y="0"/>
                  <a:pt x="558" y="44"/>
                </a:cubicBezTo>
                <a:cubicBezTo>
                  <a:pt x="699" y="88"/>
                  <a:pt x="771" y="228"/>
                  <a:pt x="846" y="270"/>
                </a:cubicBezTo>
                <a:cubicBezTo>
                  <a:pt x="921" y="312"/>
                  <a:pt x="981" y="293"/>
                  <a:pt x="1008" y="297"/>
                </a:cubicBezTo>
              </a:path>
            </a:pathLst>
          </a:custGeom>
          <a:noFill/>
          <a:ln w="25560">
            <a:solidFill>
              <a:srgbClr val="0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2590920"/>
            <a:ext cx="961920" cy="676080"/>
          </a:xfrm>
          <a:custGeom>
            <a:avLst/>
            <a:gdLst/>
            <a:ahLst/>
            <a:rect l="l" t="t" r="r" b="b"/>
            <a:pathLst>
              <a:path w="606" h="132">
                <a:moveTo>
                  <a:pt x="0" y="132"/>
                </a:moveTo>
                <a:cubicBezTo>
                  <a:pt x="58" y="125"/>
                  <a:pt x="250" y="109"/>
                  <a:pt x="351" y="87"/>
                </a:cubicBezTo>
                <a:cubicBezTo>
                  <a:pt x="452" y="65"/>
                  <a:pt x="553" y="18"/>
                  <a:pt x="606" y="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3457440"/>
            <a:ext cx="476280" cy="352440"/>
          </a:xfrm>
          <a:custGeom>
            <a:avLst/>
            <a:gdLst/>
            <a:ahLst/>
            <a:rect l="l" t="t" r="r" b="b"/>
            <a:pathLst>
              <a:path w="300" h="32">
                <a:moveTo>
                  <a:pt x="0" y="30"/>
                </a:moveTo>
                <a:cubicBezTo>
                  <a:pt x="20" y="30"/>
                  <a:pt x="70" y="32"/>
                  <a:pt x="120" y="27"/>
                </a:cubicBezTo>
                <a:cubicBezTo>
                  <a:pt x="170" y="22"/>
                  <a:pt x="263" y="6"/>
                  <a:pt x="300" y="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272200" y="5501880"/>
            <a:ext cx="2728800" cy="534600"/>
            <a:chOff x="5272200" y="5501880"/>
            <a:chExt cx="2728800" cy="534600"/>
          </a:xfrm>
        </p:grpSpPr>
        <p:sp>
          <p:nvSpPr>
            <p:cNvPr id="266" name=""/>
            <p:cNvSpPr/>
            <p:nvPr/>
          </p:nvSpPr>
          <p:spPr>
            <a:xfrm>
              <a:off x="5272200" y="5729400"/>
              <a:ext cx="27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Partner Link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6567120" y="5196960"/>
              <a:ext cx="152280" cy="7617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638680" y="4876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d882"/>
                </a:solidFill>
                <a:latin typeface="Tahoma"/>
                <a:ea typeface="Times New Roman"/>
              </a:rPr>
              <a:t>B’s WSDL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9920" y="198108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cd882"/>
                </a:solidFill>
                <a:latin typeface="Tahoma"/>
                <a:ea typeface="Times New Roman"/>
              </a:rPr>
              <a:t>Process WSDL</a:t>
            </a:r>
            <a:r>
              <a:rPr b="0" lang="en-US" sz="1400" spc="-1" strike="noStrike">
                <a:solidFill>
                  <a:srgbClr val="ecd882"/>
                </a:solidFill>
                <a:latin typeface="Tahoma"/>
                <a:ea typeface="Times New Roman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924680" y="243828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396252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EL4W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31360" indent="-531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Baziran na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XM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1360" indent="-5313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Opisuje </a:t>
            </a:r>
            <a:r>
              <a:rPr b="1" lang="sr-Latn-CS" sz="3200" spc="-1" strike="noStrike">
                <a:solidFill>
                  <a:srgbClr val="ecd882"/>
                </a:solidFill>
                <a:latin typeface="Tahoma"/>
              </a:rPr>
              <a:t>kontrolnu logiku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za koordinaciju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servi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a u okviru nekog poslovnog proce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1360" indent="-5313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d882"/>
                </a:solidFill>
                <a:latin typeface="Tahoma"/>
              </a:rPr>
              <a:t>Interpret</a:t>
            </a:r>
            <a:r>
              <a:rPr b="1" lang="sr-Latn-CS" sz="3200" spc="-1" strike="noStrike">
                <a:solidFill>
                  <a:srgbClr val="ecd882"/>
                </a:solidFill>
                <a:latin typeface="Tahoma"/>
              </a:rPr>
              <a:t>ira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e i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3200" spc="-1" strike="noStrike">
                <a:solidFill>
                  <a:srgbClr val="ecd882"/>
                </a:solidFill>
                <a:latin typeface="Tahoma"/>
              </a:rPr>
              <a:t>izvršav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od stran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BPEL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engine-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9:25:03Z</dcterms:created>
  <dc:creator>Nenad Anicic</dc:creator>
  <dc:description/>
  <dc:language>en-US</dc:language>
  <cp:lastModifiedBy>Nenad</cp:lastModifiedBy>
  <dcterms:modified xsi:type="dcterms:W3CDTF">2007-05-22T08:02:16Z</dcterms:modified>
  <cp:revision>391</cp:revision>
  <dc:subject/>
  <dc:title>Modelovanje poslovnih procesa</dc:title>
</cp:coreProperties>
</file>