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9ED-0865-4D95-ACD2-7A97D3E8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15F-F578-4385-B5CA-4C135519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AEB-C1FC-48F5-B30D-FBF55787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855-E894-4369-A11F-93A5CFF9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FEA6-1D78-4074-89F9-6B9CDAED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AD63-A693-4851-81EF-6060EB0A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0A9B-65D1-46F8-A0C5-69C22C7E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779F-BBD0-4968-80D0-3361482B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7915-0FDE-49D7-92C7-4DCAC810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1BB9-2EBC-4F75-B884-BE3F201E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582A-66A3-4BC2-8F15-E1BF700F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4F3-7B75-4691-8208-B5D9433F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9FCE-1B5E-412C-BFE6-CCC111D4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0321-9FE8-4A7E-92DD-0300D524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248F-563B-4512-828C-06E47741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58A8-D1B9-4DDB-9DD5-D7B97D6C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FE7A-6A7E-4728-8C93-7617AA29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986-F0DB-412B-8673-2E58A9E8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5DD-3836-4ADB-A583-D3B7F73E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E38-2070-45D3-A782-8E1EF14C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716-4DD9-4123-A640-6F6078D7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2A5-85E4-4837-B72C-9895506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417-D5F4-4472-B4C7-9C8110F3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FAE-9F32-439E-B491-3053EE1E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47E4-DCE1-4723-B6FF-A0DC42F0655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CE57-C608-4A87-9AC4-B69E01ED2C7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istemi za upravljanje poslovnim procesim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n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Ne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kov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WfMC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– Stanja instance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WfMC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– Stanja aktivnos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1532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Arial"/>
                <a:ea typeface="Arial"/>
              </a:rPr>
              <a:t>Integracija </a:t>
            </a:r>
            <a:r>
              <a:rPr b="0" lang="sr-Latn-CS" sz="4400" spc="-1" strike="noStrike">
                <a:solidFill>
                  <a:srgbClr val="660066"/>
                </a:solidFill>
                <a:latin typeface="Arial"/>
              </a:rPr>
              <a:t>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lančani proces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gnježde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podproces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Ravnoprav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Peer-to-pee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aralel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3643200" cy="1076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3667320" cy="1114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038480" y="4267080"/>
            <a:ext cx="2210040" cy="9446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3809880" y="5502240"/>
            <a:ext cx="42674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roblemi i izazov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labo struktuirani poslovni proc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ohodna fleksibilnost za poluformalno i slabo struktuirane proce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tojeće tehnike previše “krute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Integracija poslovnih proc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Arial"/>
                <a:ea typeface="Arial"/>
              </a:rPr>
              <a:t>Integracija </a:t>
            </a:r>
            <a:r>
              <a:rPr b="0" lang="sr-Latn-CS" sz="4400" spc="-1" strike="noStrike">
                <a:solidFill>
                  <a:srgbClr val="660066"/>
                </a:solidFill>
                <a:latin typeface="Arial"/>
              </a:rPr>
              <a:t>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ragnizacioni-ekonomski aspe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ntegracija procesa različitih poslovnih partne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drška za “outsourcing” proces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Tehničko-tehnološki aspe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eterogena SW infrastruktu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inamičko otkrivanje i povezivan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etodološki aspe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delovanje i specifikaci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azličiti modeli – ontološki probl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Trendov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1920" y="1557360"/>
            <a:ext cx="88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pravljanje znanjem u organizaciji (Knowledge Management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tandardizacija poslovanja na Web-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www.ebXML.org, www.bpmi.org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ttp://www-106.ibm.com/developerworks/webservices/library/ws-bpel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edstavljanje znanja na web-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emantic Web standard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472040" indent="-21024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ttp://www.w3.org/2001/sw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vod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– 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pojmovi i istorij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  <a:ea typeface="Arial"/>
              </a:rPr>
              <a:t>Automatizacija kancelarijsk</a:t>
            </a:r>
            <a:r>
              <a:rPr b="0" lang="sr-Latn-CS" sz="2800" spc="-1" strike="noStrike">
                <a:solidFill>
                  <a:srgbClr val="40458c"/>
                </a:solidFill>
                <a:latin typeface="Arial"/>
              </a:rPr>
              <a:t>og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  <a:ea typeface="Arial"/>
              </a:rPr>
              <a:t> poslova</a:t>
            </a:r>
            <a:r>
              <a:rPr b="0" lang="sr-Latn-CS" sz="2800" spc="-1" strike="noStrike">
                <a:solidFill>
                  <a:srgbClr val="40458c"/>
                </a:solidFill>
                <a:latin typeface="Arial"/>
              </a:rPr>
              <a:t>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Od 1975-198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  <a:ea typeface="Arial"/>
              </a:rPr>
              <a:t>Automatizacija </a:t>
            </a:r>
            <a:r>
              <a:rPr b="0" lang="sr-Latn-CS" sz="2800" spc="-1" strike="noStrike">
                <a:solidFill>
                  <a:srgbClr val="40458c"/>
                </a:solidFill>
                <a:latin typeface="Arial"/>
              </a:rPr>
              <a:t>poslovnih procesa (PP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Od 1985 – 2000 Workflow sistem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Unutar jedne organizaci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Od 2000 – danas   kolaboracija na Web-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Između udaljenih org. jedinica i različitih poslovnih partne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Integracija poslovnih procesa (kroz tzv. outsourcing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Osnova za e-Business, e-Governement, e-Commer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Arial"/>
              </a:rPr>
              <a:t>Osnova za buduću tzv. digitalnu ekonomij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972200" cy="4390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Automatizacija poslovnih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- radni tok (eng. Workflow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5516640"/>
            <a:ext cx="5977080" cy="1081080"/>
          </a:xfrm>
          <a:prstGeom prst="rect">
            <a:avLst/>
          </a:prstGeom>
          <a:noFill/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75880" y="551664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lasični 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Nedostatci klasičnih 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ntegracija poslovnih procesa preko baze podatak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blem zajedničkog funkcionisanja (eng. interoperability) kod poslovnih procesa koji su geografski distribuirani i koriste različita tehnološka reše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 postoji automatizacija radnog toka (workflow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risnici sami moraju da “znaju” koju aplikaciju kada da pokren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 postoji podrška za upravljanje poslovnim procesi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ukovodioci nemaju automatizovanu podršku za upravljan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ezultati i efekti rada izvršilaca su samo posredno vidljivi preko efekata aplikacija koje koris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  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oftverska infrastruk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Klasifikacija sistem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ati za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ncelarijsko poslovanje (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utomatizacij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radno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mest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: obrada teksta, email, kalendar, ..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istemi za skeniranje i arhiviranje (Imaging and archiving system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istemi za pretraživanje (Digital Libraries and 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Korporativni DMS  (Enterprise DM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istemi za grupni rad (Groupware System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istemi za rad sa geografskim kartama i mapama (G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istemi za upravljanje poslovnim procesima (Workflow System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snovne karakterisitike WfM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volucija u razvoj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ocument based workf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otus Notes, FileNet, Documentum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essage based workf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S Exchan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ctivity based workf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taffware, </a:t>
            </a:r>
            <a:r>
              <a:rPr b="0" lang="sr-Latn-CS" sz="2400" spc="-1" strike="noStrike">
                <a:solidFill>
                  <a:srgbClr val="40458c"/>
                </a:solidFill>
                <a:latin typeface="Verdana"/>
              </a:rPr>
              <a:t>IBM </a:t>
            </a:r>
            <a:r>
              <a:rPr b="0" lang="en-GB" sz="2400" spc="-1" strike="noStrike">
                <a:solidFill>
                  <a:srgbClr val="40458c"/>
                </a:solidFill>
                <a:latin typeface="Verdana"/>
              </a:rPr>
              <a:t>MQSeries</a:t>
            </a:r>
            <a:r>
              <a:rPr b="0" lang="sr-Latn-CS" sz="2400" spc="-1" strike="noStrike">
                <a:solidFill>
                  <a:srgbClr val="40458c"/>
                </a:solidFill>
                <a:latin typeface="Verdana"/>
              </a:rPr>
              <a:t>, Oracle Workfl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Workflow management Coalition (WfMC) standar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Activity based workflow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- WfMC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0866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G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enerička arhitektura – WfMC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24816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WfMC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standardni interfejs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924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09:49:09Z</dcterms:created>
  <dc:creator>Sinisa Neskovic</dc:creator>
  <dc:description/>
  <dc:language>en-US</dc:language>
  <cp:lastModifiedBy>sinisa</cp:lastModifiedBy>
  <dcterms:modified xsi:type="dcterms:W3CDTF">2007-05-21T09:38:20Z</dcterms:modified>
  <cp:revision>273</cp:revision>
  <dc:subject/>
  <dc:title>Položaj i uloga DMS u IS državnih organa</dc:title>
</cp:coreProperties>
</file>