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E129-7176-4905-9C65-CE3F4E11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63636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723-D1BB-4254-9507-87E5E042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2DBA-E094-4D06-9ED5-C8BB2ECE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00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16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00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16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C4A-2E77-40AB-A3BB-8A48B271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7ED7-DD4C-402F-99A5-926141DA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4B75-2B8E-42D3-8D7A-8752FE9A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A863-F42E-4A74-AE7E-46C89717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14D6-78D0-43EB-A436-41EC1C8E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4B66-0403-49E9-83BE-E2FFFBB8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F771-1EE6-4CF0-90F1-0A448CD9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D9E9-EAC8-4259-8712-F31EA851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D6A-FDDE-4873-94AC-E6698FB4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3116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D554-C125-4FFF-8AD7-54E1D360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4AC6-4E9A-4320-9057-D4A4B8CE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363636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3511-F3E2-46C9-B3B6-14BB6A38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116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AED9-292A-4F60-B63A-DEA68207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600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216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600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216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946E-2A54-4E66-A30B-24D6ECA9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35BC-BCEB-4B36-89F2-423FB4F4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318-BCC9-4D4F-8E6D-6A264780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FF8-D817-4074-967F-EC237347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3DB-7D7B-4308-AD6E-6DFB4A4B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6CA-8564-4666-9B05-E8F530F2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CBB-7E66-426B-AE33-E05C62D2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FB9-F0F7-4509-9BF6-B7EDB2C0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318960" indent="-318960">
              <a:lnSpc>
                <a:spcPct val="125000"/>
              </a:lnSpc>
              <a:spcBef>
                <a:spcPts val="7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  <a:p>
            <a:pPr lvl="1" marL="690840" indent="-265680">
              <a:lnSpc>
                <a:spcPct val="125000"/>
              </a:lnSpc>
              <a:spcBef>
                <a:spcPts val="7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  <a:p>
            <a:pPr lvl="2" marL="1062720" indent="-212400">
              <a:lnSpc>
                <a:spcPct val="125000"/>
              </a:lnSpc>
              <a:spcBef>
                <a:spcPts val="7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  <a:p>
            <a:pPr lvl="3" marL="1487880" indent="-212400">
              <a:lnSpc>
                <a:spcPct val="125000"/>
              </a:lnSpc>
              <a:spcBef>
                <a:spcPts val="7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  <a:p>
            <a:pPr lvl="4" marL="1913040" indent="-212400">
              <a:lnSpc>
                <a:spcPct val="125000"/>
              </a:lnSpc>
              <a:spcBef>
                <a:spcPts val="7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  <a:p>
            <a:pPr lvl="5" marL="1913040" indent="-21240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  <a:p>
            <a:pPr lvl="6" marL="1913040" indent="-21240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4767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" y="6476760"/>
            <a:ext cx="678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767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ADD3-17FF-4B95-A886-C7F14C0608A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819160" y="6400440"/>
            <a:ext cx="3429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4320" y="64004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90C6-EB9C-4594-9ADD-7AD5767C2FA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rebuchet MS"/>
            </a:endParaRPr>
          </a:p>
          <a:p>
            <a:pPr lvl="1" marL="457200" indent="0"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rebuchet MS"/>
              </a:rPr>
              <a:t>Second Outline Level</a:t>
            </a:r>
            <a:endParaRPr b="1" lang="en-US" sz="2800" spc="-1" strike="noStrike">
              <a:solidFill>
                <a:srgbClr val="505050"/>
              </a:solidFill>
              <a:latin typeface="Trebuchet MS"/>
            </a:endParaRPr>
          </a:p>
          <a:p>
            <a:pPr lvl="2" marL="914400" algn="ctr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lvl="3" marL="1371600" algn="ctr">
              <a:lnSpc>
                <a:spcPct val="125000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5050"/>
                </a:solidFill>
                <a:latin typeface="Trebuchet MS"/>
              </a:rPr>
              <a:t>Fourth Outline Level</a:t>
            </a: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  <a:p>
            <a:pPr lvl="4" marL="1828800" algn="ctr">
              <a:lnSpc>
                <a:spcPct val="125000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5050"/>
                </a:solidFill>
                <a:latin typeface="Trebuchet MS"/>
              </a:rPr>
              <a:t>Fifth Outline Level</a:t>
            </a: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5050"/>
                </a:solidFill>
                <a:latin typeface="Trebuchet MS"/>
              </a:rPr>
              <a:t>Sixth Outline Level</a:t>
            </a: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5050"/>
                </a:solidFill>
                <a:latin typeface="Trebuchet MS"/>
              </a:rPr>
              <a:t>Seventh Outline Level</a:t>
            </a: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7391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Trebuchet MS"/>
              </a:rPr>
              <a:t>UML 2.0 </a:t>
            </a:r>
            <a:r>
              <a:rPr b="0" lang="sr-Latn-CS" sz="3600" spc="-1" strike="noStrike">
                <a:solidFill>
                  <a:srgbClr val="e3ebf1"/>
                </a:solidFill>
                <a:latin typeface="Trebuchet MS"/>
              </a:rPr>
              <a:t>Dijagrami aktivnosti</a:t>
            </a:r>
            <a:endParaRPr b="0" lang="en-US" sz="36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57146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rebuchet MS"/>
              </a:rPr>
              <a:t>Beograd, 200</a:t>
            </a:r>
            <a:r>
              <a:rPr b="0" lang="en-US" sz="2400" spc="-1" strike="noStrike">
                <a:solidFill>
                  <a:srgbClr val="eaeaea"/>
                </a:solidFill>
                <a:latin typeface="Trebuchet MS"/>
              </a:rPr>
              <a:t>7</a:t>
            </a:r>
            <a:r>
              <a:rPr b="0" lang="sr-Latn-CS" sz="2400" spc="-1" strike="noStrike">
                <a:solidFill>
                  <a:srgbClr val="eaeaea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280"/>
            <a:ext cx="739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rebuchet MS"/>
              </a:rPr>
              <a:t>Laboratorija za informacione sisteme, F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Podprocesi (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Subactivities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84680" y="762120"/>
          <a:ext cx="4459320" cy="582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4680" y="762120"/>
                    <a:ext cx="445932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3581280"/>
            <a:ext cx="1371600" cy="2286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352680" y="4266720"/>
            <a:ext cx="1447920" cy="17528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3429000"/>
          <a:ext cx="3479760" cy="270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429000"/>
                    <a:ext cx="347976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072-4F71-4DD3-9A0B-B41D96C1DA85}" type="slidenum">
              <a:t>10</a:t>
            </a:fld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Particije (Partitions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267000" y="790560"/>
          <a:ext cx="5877000" cy="553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7000" y="790560"/>
                    <a:ext cx="5877000" cy="55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1066680"/>
            <a:ext cx="33526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322200" indent="-322200">
              <a:lnSpc>
                <a:spcPts val="4000"/>
              </a:lnSpc>
              <a:spcBef>
                <a:spcPts val="550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505050"/>
                </a:solidFill>
                <a:latin typeface="Trebuchet MS"/>
              </a:rPr>
              <a:t>Particije</a:t>
            </a:r>
            <a:r>
              <a:rPr b="0" lang="sr-Latn-CS" sz="2200" spc="-1" strike="noStrike">
                <a:solidFill>
                  <a:srgbClr val="505050"/>
                </a:solidFill>
                <a:latin typeface="Trebuchet MS"/>
              </a:rPr>
              <a:t> predstavljaju uloge (izvršioce) u modelu odvijanja  poslovnog procesa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C3D-5178-4107-9DEE-021C0A11DCF5}" type="slidenum">
              <a:t>11</a:t>
            </a:fld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Particije (Partitions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914400"/>
            <a:ext cx="79246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05050"/>
                </a:solidFill>
                <a:latin typeface="Trebuchet MS"/>
              </a:rPr>
              <a:t>Uloga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 (izvršilac) može predstavljati poslovnog partnera, organizacioni deo, radno mesto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Uključivanje organizacionog aspekt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Od verzije UML 2.0 moguće je konstruisati dvodimenzionalni grid (particije po kolonama i redovim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Moguće je particije deliti na podparticije i tako prikazati hijerarhiju particij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8BD-D9DF-4D67-AEC4-0A6E504F2B90}" type="slidenum">
              <a:t>12</a:t>
            </a:fld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Particije (Partitions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461960" y="792000"/>
          <a:ext cx="6218280" cy="553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960" y="792000"/>
                    <a:ext cx="6218280" cy="55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FE1F-E1EE-406C-A852-4EFA222201DE}" type="slidenum">
              <a:t>13</a:t>
            </a:fld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Tokovi (Flows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000080" y="1066680"/>
          <a:ext cx="7143840" cy="75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1066680"/>
                    <a:ext cx="71438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205740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505050"/>
                </a:solidFill>
                <a:latin typeface="Trebuchet MS"/>
              </a:rPr>
              <a:t>Kontrolni tok</a:t>
            </a:r>
            <a:r>
              <a:rPr b="0" lang="sr-Latn-CS" sz="2200" spc="-1" strike="noStrike">
                <a:solidFill>
                  <a:srgbClr val="505050"/>
                </a:solidFill>
                <a:latin typeface="Trebuchet MS"/>
              </a:rPr>
              <a:t> (Control flow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487692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505050"/>
                </a:solidFill>
                <a:latin typeface="Trebuchet MS"/>
              </a:rPr>
              <a:t>Tok objekta</a:t>
            </a:r>
            <a:r>
              <a:rPr b="0" lang="sr-Latn-CS" sz="2200" spc="-1" strike="noStrike">
                <a:solidFill>
                  <a:srgbClr val="505050"/>
                </a:solidFill>
                <a:latin typeface="Trebuchet MS"/>
              </a:rPr>
              <a:t> (Object flow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000080" y="3657600"/>
          <a:ext cx="7143840" cy="75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3657600"/>
                    <a:ext cx="71438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43B-D197-4970-A0AC-CFE167C511F9}" type="slidenum">
              <a:t>14</a:t>
            </a:fld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Kraj toka (Flow final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42900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505050"/>
                </a:solidFill>
                <a:latin typeface="Trebuchet MS"/>
              </a:rPr>
              <a:t>Kraj toka</a:t>
            </a:r>
            <a:r>
              <a:rPr b="0" lang="sr-Latn-CS" sz="2200" spc="-1" strike="noStrike">
                <a:solidFill>
                  <a:srgbClr val="505050"/>
                </a:solidFill>
                <a:latin typeface="Trebuchet MS"/>
              </a:rPr>
              <a:t> (Flow final) – služi za označavanje kraja jednog toka ili jedne niti, dok neka druga grana ili nit imaju završetak celog procesa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847880" y="1143000"/>
          <a:ext cx="5448240" cy="189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47880" y="1143000"/>
                    <a:ext cx="5448240" cy="18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D862-66C3-477B-9615-A2FCDD03E09F}" type="slidenum">
              <a:t>15</a:t>
            </a:fld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Konektori (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Connectors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0080" y="1752480"/>
          <a:ext cx="7143840" cy="75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1752480"/>
                    <a:ext cx="71438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762120" y="3429000"/>
            <a:ext cx="79246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505050"/>
                </a:solidFill>
                <a:latin typeface="Trebuchet MS"/>
              </a:rPr>
              <a:t>Konektori</a:t>
            </a:r>
            <a:r>
              <a:rPr b="0" lang="sr-Latn-CS" sz="2200" spc="-1" strike="noStrike">
                <a:solidFill>
                  <a:srgbClr val="505050"/>
                </a:solidFill>
                <a:latin typeface="Trebuchet MS"/>
              </a:rPr>
              <a:t> (</a:t>
            </a:r>
            <a:r>
              <a:rPr b="0" lang="en-US" sz="2200" spc="-1" strike="noStrike">
                <a:solidFill>
                  <a:srgbClr val="505050"/>
                </a:solidFill>
                <a:latin typeface="Trebuchet MS"/>
              </a:rPr>
              <a:t>Connectors</a:t>
            </a:r>
            <a:r>
              <a:rPr b="0" lang="sr-Latn-CS" sz="2200" spc="-1" strike="noStrike">
                <a:solidFill>
                  <a:srgbClr val="505050"/>
                </a:solidFill>
                <a:latin typeface="Trebuchet MS"/>
              </a:rPr>
              <a:t>) služe kao pomoćno sredstvo da se ogroman dijagram aktivnosti podeli na više delova. Tačka prekida prvog dela se označi sa imenovanim konektorom a onda se isti simbol koristi kao početna tačka narednog dela dijagrama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DD3-0E57-4D72-A727-68D0AE917C90}" type="slidenum">
              <a:t>16</a:t>
            </a:fld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Objekat (Object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00080" y="914400"/>
          <a:ext cx="7143840" cy="75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914400"/>
                    <a:ext cx="71438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90512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Objekat (Object) – predstavlja dokument koji se prosleđuje od jedne do druge aktivnost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54864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322200" indent="-32220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Skladište (Datastore) – skladište podataka (dokumenat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5400" y="3657600"/>
          <a:ext cx="7151760" cy="167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5400" y="3657600"/>
                    <a:ext cx="715176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8003-C03C-4E53-809F-3208E56A0BD9}" type="slidenum">
              <a:t>17</a:t>
            </a:fld>
          </a:p>
        </p:txBody>
      </p:sp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Događaji - Signali (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Signals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Napred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914400"/>
            <a:ext cx="81532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Slanje signala (send signal)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Prijem signala (receive signal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Vremenski okidač (time signal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Slanje signala sa priključenim objektom (send object)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8CB-3857-4D2C-9CBA-72A9B893BA3F}" type="slidenum">
              <a:t>18</a:t>
            </a:fld>
          </a:p>
        </p:txBody>
      </p: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Događaji - Signali (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Signals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371600" y="2249640"/>
          <a:ext cx="2124000" cy="235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249640"/>
                    <a:ext cx="2124000" cy="23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Napred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715000" y="2286000"/>
          <a:ext cx="2170080" cy="270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2286000"/>
                    <a:ext cx="21700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BDC-DFEC-47D6-AD92-513DDB1AA6A0}" type="slidenum">
              <a:t>19</a:t>
            </a:fld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Sadržaj izlaganja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79246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UML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Dijagrami aktivnosti - istorijat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Osnovni koncepti UML 2.0 dijagrama aktivnosti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Napredni koncepti UML 2.0 dijagrama aktivnosti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Primeri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1DD-AB40-4EB6-82D5-7D59527BD968}" type="slidenum">
              <a:t>2</a:t>
            </a:fld>
          </a:p>
        </p:txBody>
      </p:sp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Događaji - Signali (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Signals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)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 primer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Napred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39760" y="2604960"/>
            <a:ext cx="1968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590920"/>
            <a:ext cx="205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reiranje kvotaci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stock exchange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01600" y="3722760"/>
            <a:ext cx="1941480" cy="48564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45080" y="37465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nje kvotaci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78200" y="31510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40240" y="3747960"/>
            <a:ext cx="0" cy="105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65560" y="3124080"/>
            <a:ext cx="14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3124080"/>
            <a:ext cx="41580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213080" y="3557520"/>
            <a:ext cx="3938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86560" y="3151080"/>
            <a:ext cx="0" cy="8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13080" y="403848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19720" y="3151080"/>
            <a:ext cx="1258920" cy="82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34040" y="32511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jizen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akci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29080" y="5157720"/>
            <a:ext cx="727200" cy="444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4429080" y="4712760"/>
            <a:ext cx="727200" cy="444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43760" y="4662360"/>
            <a:ext cx="1258920" cy="82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4762440"/>
            <a:ext cx="15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nistavan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nu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27280" y="39132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895200" y="3544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95560" y="3544920"/>
            <a:ext cx="1296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27280" y="4535640"/>
            <a:ext cx="36828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08520" y="456084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921120" y="5132520"/>
            <a:ext cx="85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73600" y="3532320"/>
            <a:ext cx="5209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22920" y="5145120"/>
            <a:ext cx="12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97760" y="4116240"/>
            <a:ext cx="308160" cy="303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077320" y="4179960"/>
            <a:ext cx="152280" cy="16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8124840" y="358272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137440" y="4408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7388280" y="501804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7464240" y="3583080"/>
            <a:ext cx="67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19320" y="395136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9760" y="393876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9760" y="429408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31320" y="483876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slanje signal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622520" y="4268520"/>
            <a:ext cx="330120" cy="54612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99720" y="236232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prijem signal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06920" y="2744640"/>
            <a:ext cx="291960" cy="36828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37320" y="52070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Vremenski sign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013280" y="5181480"/>
            <a:ext cx="787320" cy="17784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08160" y="579132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nakon 15 minuta]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16765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1080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43400" y="3200400"/>
            <a:ext cx="1295280" cy="76212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60" y="0"/>
                </a:lnTo>
                <a:lnTo>
                  <a:pt x="21600" y="10800"/>
                </a:lnTo>
                <a:lnTo>
                  <a:pt x="15060" y="21600"/>
                </a:lnTo>
                <a:lnTo>
                  <a:pt x="0" y="21600"/>
                </a:lnTo>
                <a:lnTo>
                  <a:pt x="654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3200400"/>
            <a:ext cx="457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3200400"/>
            <a:ext cx="14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hvatan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votaci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6E3-4960-42DD-B306-46004844D5AF}" type="slidenum">
              <a:t>20</a:t>
            </a:fld>
          </a:p>
        </p:txBody>
      </p:sp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Ekspanzioni region (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Expansion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 region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Napred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2000" y="838080"/>
            <a:ext cx="8153280" cy="29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Koriste se za opis interacije nad nekom kolekcij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ts val="4000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050"/>
                </a:solidFill>
                <a:latin typeface="Trebuchet MS"/>
              </a:rPr>
              <a:t>interne akcije se izvrsavaju jednom za svaki element kolekci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ts val="4000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050"/>
                </a:solidFill>
                <a:latin typeface="Trebuchet MS"/>
              </a:rPr>
              <a:t>Interne akcije mogu biti sekvencijalne ili paralelne (sto se prikazuje preko stereotipa &lt;&lt;concurrent&gt;&gt;) il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085760" y="2965320"/>
            <a:ext cx="2301840" cy="615960"/>
            <a:chOff x="1085760" y="2965320"/>
            <a:chExt cx="2301840" cy="615960"/>
          </a:xfrm>
        </p:grpSpPr>
        <p:sp>
          <p:nvSpPr>
            <p:cNvPr id="237" name=""/>
            <p:cNvSpPr/>
            <p:nvPr/>
          </p:nvSpPr>
          <p:spPr>
            <a:xfrm>
              <a:off x="1120680" y="300060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kazivanje termin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85760" y="2965320"/>
              <a:ext cx="2298960" cy="59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20680" y="3000600"/>
              <a:ext cx="226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efinisanje grupa za seminarske radove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19000" y="4518000"/>
            <a:ext cx="2301840" cy="406440"/>
            <a:chOff x="819000" y="4518000"/>
            <a:chExt cx="2301840" cy="406440"/>
          </a:xfrm>
        </p:grpSpPr>
        <p:sp>
          <p:nvSpPr>
            <p:cNvPr id="241" name=""/>
            <p:cNvSpPr/>
            <p:nvPr/>
          </p:nvSpPr>
          <p:spPr>
            <a:xfrm>
              <a:off x="853920" y="454212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kazivanje termin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9000" y="4518000"/>
              <a:ext cx="2298960" cy="406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53920" y="4542120"/>
              <a:ext cx="22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zrada seminarskog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362400" y="4518000"/>
            <a:ext cx="2368080" cy="464760"/>
            <a:chOff x="3362400" y="4518000"/>
            <a:chExt cx="2368080" cy="464760"/>
          </a:xfrm>
        </p:grpSpPr>
        <p:sp>
          <p:nvSpPr>
            <p:cNvPr id="245" name=""/>
            <p:cNvSpPr/>
            <p:nvPr/>
          </p:nvSpPr>
          <p:spPr>
            <a:xfrm>
              <a:off x="3398040" y="4545360"/>
              <a:ext cx="233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kazivanje termin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62400" y="4518000"/>
              <a:ext cx="2365200" cy="464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98040" y="4545360"/>
              <a:ext cx="23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Odbrana seminarskog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496200" y="5518080"/>
            <a:ext cx="2530080" cy="699840"/>
            <a:chOff x="6496200" y="5518080"/>
            <a:chExt cx="2530080" cy="699840"/>
          </a:xfrm>
        </p:grpSpPr>
        <p:sp>
          <p:nvSpPr>
            <p:cNvPr id="249" name=""/>
            <p:cNvSpPr/>
            <p:nvPr/>
          </p:nvSpPr>
          <p:spPr>
            <a:xfrm>
              <a:off x="6534360" y="5559480"/>
              <a:ext cx="249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kazivanje termin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96200" y="5518080"/>
              <a:ext cx="2527200" cy="699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34360" y="5559480"/>
              <a:ext cx="249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ormiranje liste odbranjenih radov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774720" y="4137120"/>
            <a:ext cx="114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&lt;&lt;concurrent&gt;&gt;</a:t>
            </a:r>
            <a:endParaRPr b="0" lang="en-US" sz="9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5160" y="4070520"/>
            <a:ext cx="5266080" cy="153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914480" y="3933720"/>
            <a:ext cx="428400" cy="123840"/>
            <a:chOff x="1914480" y="3933720"/>
            <a:chExt cx="428400" cy="123840"/>
          </a:xfrm>
        </p:grpSpPr>
        <p:sp>
          <p:nvSpPr>
            <p:cNvPr id="255" name=""/>
            <p:cNvSpPr/>
            <p:nvPr/>
          </p:nvSpPr>
          <p:spPr>
            <a:xfrm>
              <a:off x="1914480" y="3933720"/>
              <a:ext cx="114120" cy="123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25720" y="3933720"/>
              <a:ext cx="114120" cy="123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27240" y="3933720"/>
              <a:ext cx="114120" cy="123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28760" y="3933720"/>
              <a:ext cx="114120" cy="123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952960" y="4572000"/>
            <a:ext cx="123840" cy="428400"/>
            <a:chOff x="5952960" y="4572000"/>
            <a:chExt cx="123840" cy="428400"/>
          </a:xfrm>
        </p:grpSpPr>
        <p:sp>
          <p:nvSpPr>
            <p:cNvPr id="260" name=""/>
            <p:cNvSpPr/>
            <p:nvPr/>
          </p:nvSpPr>
          <p:spPr>
            <a:xfrm rot="16200000">
              <a:off x="5957640" y="4881240"/>
              <a:ext cx="114120" cy="123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5957640" y="4770000"/>
              <a:ext cx="114120" cy="123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6200000">
              <a:off x="5957640" y="4668480"/>
              <a:ext cx="114120" cy="123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6200000">
              <a:off x="5957640" y="4566960"/>
              <a:ext cx="114120" cy="123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 flipH="1">
            <a:off x="2123640" y="3524400"/>
            <a:ext cx="1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990440" y="4057560"/>
            <a:ext cx="15228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4743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4791240"/>
            <a:ext cx="2286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3840" y="378792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Spisak grup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76800" y="4791240"/>
            <a:ext cx="171468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046-E426-44F1-B3F1-B0314F88571F}" type="slidenum">
              <a:t>21</a:t>
            </a:fld>
          </a:p>
        </p:txBody>
      </p:sp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Parametri (Pins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Napred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1080" y="1266840"/>
            <a:ext cx="896292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322200" indent="-322200">
              <a:lnSpc>
                <a:spcPts val="4000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050"/>
                </a:solidFill>
                <a:latin typeface="Trebuchet MS"/>
              </a:rPr>
              <a:t>Koncept pina se koristi za definisanje ulaznih I izlaznih parametara akci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ts val="4000"/>
              </a:lnSpc>
              <a:spcBef>
                <a:spcPts val="45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05050"/>
                </a:solidFill>
                <a:latin typeface="Trebuchet MS"/>
              </a:rPr>
              <a:t>Akcije mogu imati parametre (kao metode operacije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ts val="4000"/>
              </a:lnSpc>
              <a:spcBef>
                <a:spcPts val="45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05050"/>
                </a:solidFill>
                <a:latin typeface="Trebuchet MS"/>
              </a:rPr>
              <a:t>Izlazi iz neke akcije moraju odgovarati ulazima sledece akci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ts val="4000"/>
              </a:lnSpc>
              <a:spcBef>
                <a:spcPts val="45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05050"/>
                </a:solidFill>
                <a:latin typeface="Trebuchet MS"/>
              </a:rPr>
              <a:t>Ukoliko je izlazni parametar razlicit od ulaznog paramtera mora se prikazati preko transformaci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3289320"/>
            <a:ext cx="2298600" cy="406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68840" y="331308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kazivanje termin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75040" y="3695760"/>
            <a:ext cx="177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2273400" y="3517920"/>
            <a:ext cx="596880" cy="2844720"/>
          </a:xfrm>
          <a:prstGeom prst="foldedCorner">
            <a:avLst>
              <a:gd name="adj" fmla="val 2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 rot="10800000">
            <a:off x="1095480" y="46144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&lt;transformation&gt;&gt;           Termin.Poruk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6616800" y="3581280"/>
            <a:ext cx="596880" cy="2844720"/>
          </a:xfrm>
          <a:prstGeom prst="foldedCorner">
            <a:avLst>
              <a:gd name="adj" fmla="val 2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 rot="10800000">
            <a:off x="5576400" y="4674240"/>
            <a:ext cx="22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&lt;transformation&gt;&gt;           Termin.Stud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5829480"/>
            <a:ext cx="2298600" cy="406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92520" y="585324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avesti stud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54760" y="5651640"/>
            <a:ext cx="1774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92640" y="5651640"/>
            <a:ext cx="177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81560" y="4838760"/>
            <a:ext cx="0" cy="8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56280" y="4851360"/>
            <a:ext cx="0" cy="8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68960" y="485136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63960" y="3860640"/>
            <a:ext cx="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00680" y="501660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143680" y="499104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56520" y="3745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rm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71880" y="39988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Pin za parameta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028840" y="3848040"/>
            <a:ext cx="762120" cy="27936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59560" y="5726160"/>
            <a:ext cx="17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Izraz za tranformaci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7023240" y="5358960"/>
            <a:ext cx="622080" cy="36828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31360" y="5408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ruk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05960" y="54086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40E-8DAE-4B91-85F0-863FB0443CE0}" type="slidenum">
              <a:t>22</a:t>
            </a:fld>
          </a:p>
        </p:txBody>
      </p:sp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Region mogućeg prekida (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Interruptible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region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Napred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985680" y="1519200"/>
          <a:ext cx="7172640" cy="38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5680" y="1519200"/>
                    <a:ext cx="717264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E1DF-46CA-454C-8BA0-B76D2F53DA95}" type="slidenum">
              <a:t>23</a:t>
            </a:fld>
          </a:p>
        </p:txBody>
      </p:sp>
    </p:spTree>
  </p:cSld>
  <p:transition spd="slow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Primer 1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bf1"/>
                </a:solidFill>
                <a:latin typeface="Trebuchet MS"/>
              </a:rPr>
              <a:t>Automat za napitk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235240" y="804960"/>
          <a:ext cx="4672080" cy="57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35240" y="804960"/>
                    <a:ext cx="4672080" cy="57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A65-64F8-4C7B-890D-82F5A08344B0}" type="slidenum">
              <a:t>24</a:t>
            </a:fld>
          </a:p>
        </p:txBody>
      </p:sp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Primer 2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6400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Priprema i obrada sednica Vla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0" y="871560"/>
          <a:ext cx="8975880" cy="514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71560"/>
                    <a:ext cx="897588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E15-DCE5-48D7-A5D8-B464341BB79C}" type="slidenum">
              <a:t>25</a:t>
            </a:fld>
          </a:p>
        </p:txBody>
      </p:sp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Primer 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3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Primer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914400"/>
            <a:ext cx="79246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Primer Koji prikazuje Exception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9EF-5488-427A-AE8D-6320A9258285}" type="slidenum">
              <a:t>26</a:t>
            </a:fld>
          </a:p>
        </p:txBody>
      </p:sp>
    </p:spTree>
  </p:cSld>
  <p:transition spd="slow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 rot="10800000">
            <a:off x="4714560" y="1054080"/>
            <a:ext cx="406440" cy="6415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6065000">
            <a:off x="4620240" y="1173240"/>
            <a:ext cx="631800" cy="4240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67960" y="-360"/>
            <a:ext cx="7970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Dijagram aktivnosti – Pregled elemenata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3581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Initial node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Activity final node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Action 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Decision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</a:rPr>
              <a:t>Merge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Fork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Join 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Flow/edge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Action decomposition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316" name=""/>
          <p:cNvSpPr/>
          <p:nvPr/>
        </p:nvSpPr>
        <p:spPr>
          <a:xfrm>
            <a:off x="495360" y="1447920"/>
            <a:ext cx="241200" cy="231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6280" y="1863720"/>
            <a:ext cx="279360" cy="268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6120" y="1936800"/>
            <a:ext cx="13320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0280" y="2349360"/>
            <a:ext cx="851040" cy="452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6120" y="2357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3680" y="2921040"/>
            <a:ext cx="419040" cy="3254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6600" y="40258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9200" y="457200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1520" y="5118120"/>
            <a:ext cx="74916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2920" y="3390840"/>
            <a:ext cx="457200" cy="3682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7360" y="5308560"/>
            <a:ext cx="1117800" cy="77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2120" y="531648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31840" y="5765760"/>
            <a:ext cx="0" cy="25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1840" y="576576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87520" y="5765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2280" y="5587920"/>
            <a:ext cx="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19520" y="1866960"/>
            <a:ext cx="1567080" cy="485640"/>
          </a:xfrm>
          <a:custGeom>
            <a:avLst/>
            <a:gdLst>
              <a:gd name="textAreaLeft" fmla="*/ 0 w 1567080"/>
              <a:gd name="textAreaRight" fmla="*/ 1567440 w 156708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2" y="0"/>
                </a:lnTo>
                <a:lnTo>
                  <a:pt x="21600" y="10800"/>
                </a:lnTo>
                <a:lnTo>
                  <a:pt x="141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43560" y="1930320"/>
            <a:ext cx="14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nd sign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03760" y="1028880"/>
            <a:ext cx="12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95840" y="102888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729320" y="1409760"/>
            <a:ext cx="19512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954760" y="1030320"/>
            <a:ext cx="1440" cy="67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75200" y="1050840"/>
            <a:ext cx="952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pt sign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89520" y="2890800"/>
            <a:ext cx="638280" cy="279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0800000">
            <a:off x="4889160" y="2585520"/>
            <a:ext cx="63828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29320" y="1704960"/>
            <a:ext cx="1230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72120" y="3522600"/>
            <a:ext cx="2919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5105160" y="3223800"/>
            <a:ext cx="469800" cy="1860480"/>
          </a:xfrm>
          <a:prstGeom prst="foldedCorner">
            <a:avLst>
              <a:gd name="adj" fmla="val 2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 rot="10800000">
            <a:off x="4333680" y="395964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lt;&lt;transformation&gt;&gt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24360" y="442116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03560" y="44323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76800" y="4925880"/>
            <a:ext cx="482760" cy="4701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763880" y="543888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500720" y="5413320"/>
            <a:ext cx="3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83920" y="549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81560" y="1133640"/>
            <a:ext cx="3943440" cy="65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Accept (Receive) sign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400"/>
              </a:spcBef>
              <a:buClr>
                <a:srgbClr val="505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Send sign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24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Time or event sign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2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Pi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</a:rPr>
              <a:t>Transformatio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(Expansion) reg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Flow fin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050"/>
                </a:solidFill>
                <a:latin typeface="Trebuchet MS"/>
                <a:ea typeface="宋体"/>
              </a:rPr>
              <a:t>Join Specific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343400" y="762120"/>
            <a:ext cx="0" cy="5562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EC6-6654-48D0-B5AC-8496D059B68B}" type="slidenum">
              <a:t>27</a:t>
            </a:fld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UML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79246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UML (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Unified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 M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odeling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 L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anguage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)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OMG (Object Managemrnt Group) – organizacija zadužena za brigu o standardizaciji UML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UML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– de facto 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standardni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 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jezik za modelovanje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Sadrži skup dijagrama za opis strukture i dinamike svih vrsta sistema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Najviše se koristi u razvoju informacionih sistema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43080" indent="-34308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Aktuelna verzija – UML 2.0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472-A456-40C6-8106-E1DA76E906F5}" type="slidenum">
              <a:t>3</a:t>
            </a:fld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UML 2.0 dijagrami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5409720"/>
            <a:ext cx="73152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7000"/>
          </a:bodyPr>
          <a:p>
            <a:pPr marL="160920" indent="-160920">
              <a:lnSpc>
                <a:spcPts val="4000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505050"/>
                </a:solidFill>
                <a:latin typeface="Trebuchet MS"/>
              </a:rPr>
              <a:t>UML</a:t>
            </a:r>
            <a:r>
              <a:rPr b="0" lang="en-US" sz="2000" spc="-1" strike="noStrike">
                <a:solidFill>
                  <a:srgbClr val="505050"/>
                </a:solidFill>
                <a:latin typeface="Trebuchet MS"/>
              </a:rPr>
              <a:t> 2.0 </a:t>
            </a:r>
            <a:r>
              <a:rPr b="0" lang="sr-Latn-CS" sz="2000" spc="-1" strike="noStrike">
                <a:solidFill>
                  <a:srgbClr val="505050"/>
                </a:solidFill>
                <a:latin typeface="Trebuchet MS"/>
              </a:rPr>
              <a:t>definiše 13 vrsta dijagrama</a:t>
            </a: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00080" y="914400"/>
          <a:ext cx="8943840" cy="355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80" y="914400"/>
                    <a:ext cx="894384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062-FFC7-4C0B-B904-8384E8FA8167}" type="slidenum">
              <a:t>4</a:t>
            </a:fld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UML 2.0 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Dijagrami aktivnosti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79246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DA se koristi na najrazlicitijim nivoima projektovanja softvera i to za opis: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lvl="1" marL="743040" indent="-285840">
              <a:lnSpc>
                <a:spcPts val="2999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050"/>
                </a:solidFill>
                <a:latin typeface="Trebuchet MS"/>
              </a:rPr>
              <a:t>Poslovnih procesa</a:t>
            </a: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  <a:p>
            <a:pPr lvl="1" marL="743040" indent="-285840">
              <a:lnSpc>
                <a:spcPts val="2999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050"/>
                </a:solidFill>
                <a:latin typeface="Trebuchet MS"/>
              </a:rPr>
              <a:t>Workflow-a</a:t>
            </a: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  <a:p>
            <a:pPr lvl="1" marL="743040" indent="-285840">
              <a:lnSpc>
                <a:spcPts val="2999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050"/>
                </a:solidFill>
                <a:latin typeface="Trebuchet MS"/>
              </a:rPr>
              <a:t>Slozenih use-case tokova</a:t>
            </a: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  <a:p>
            <a:pPr lvl="1" marL="743040" indent="-285840">
              <a:lnSpc>
                <a:spcPts val="2999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050"/>
                </a:solidFill>
                <a:latin typeface="Trebuchet MS"/>
              </a:rPr>
              <a:t>Proceduralne logike</a:t>
            </a: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  <a:p>
            <a:pPr lvl="1" marL="743040" indent="-285840">
              <a:lnSpc>
                <a:spcPts val="2999"/>
              </a:lnSpc>
              <a:spcBef>
                <a:spcPts val="499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050"/>
                </a:solidFill>
                <a:latin typeface="Trebuchet MS"/>
              </a:rPr>
              <a:t>Algoritama</a:t>
            </a: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  <a:p>
            <a:pPr lvl="1" marL="743040"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564-543C-44F2-BAF1-8653A1581D79}" type="slidenum">
              <a:t>5</a:t>
            </a:fld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UML 2.0 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Dijagrami aktivnosti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79246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7000"/>
          </a:bodyPr>
          <a:p>
            <a:pPr marL="332640" indent="-332640">
              <a:lnSpc>
                <a:spcPts val="2999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U 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prethodnim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 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verzijama,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 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Dijagrami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 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aktivnosti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 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(DA) su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 bi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li</a:t>
            </a:r>
            <a:r>
              <a:rPr b="0" lang="en-US" sz="2400" spc="-1" strike="noStrike">
                <a:solidFill>
                  <a:srgbClr val="505050"/>
                </a:solidFill>
                <a:latin typeface="Trebuchet MS"/>
              </a:rPr>
              <a:t> </a:t>
            </a: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zasnovani na konceptima dijagrama prelaza stanja (teorija konačnih automata) a od verzije UML 2.0 zasnovani su na teoriji Petrijevih mreža.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32640" indent="-33264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Token – koncept preko kojeg se prati izvršenje dijagrama aktivnosti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  <a:p>
            <a:pPr marL="332640" indent="-332640">
              <a:lnSpc>
                <a:spcPts val="4000"/>
              </a:lnSpc>
              <a:spcBef>
                <a:spcPts val="601"/>
              </a:spcBef>
              <a:buClr>
                <a:srgbClr val="50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05050"/>
                </a:solidFill>
                <a:latin typeface="Trebuchet MS"/>
              </a:rPr>
              <a:t>Dijagrami aktivnosti predstavljaju tehniku za opis proceduralne logike i poslovnih procesa. Sa tog aspekta su slični staroj tehnici flowchart ali glavna razlika je što DA podržava modelovanje paralelnog izvršavanja aktivnosti.</a:t>
            </a:r>
            <a:endParaRPr b="1" lang="en-US" sz="2400" spc="-1" strike="noStrike">
              <a:solidFill>
                <a:srgbClr val="505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5B4D-65E2-433C-85AD-E0F70B3966A5}" type="slidenum">
              <a:t>6</a:t>
            </a:fld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Osnovni grafički simboli DA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33720" y="760320"/>
          <a:ext cx="5045040" cy="571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760320"/>
                    <a:ext cx="5045040" cy="57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203120" y="175248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Fork (račvanje niti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1981080"/>
            <a:ext cx="1523880" cy="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257440" y="914400"/>
            <a:ext cx="762120" cy="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762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Initial Node (inicijalni čvor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00480" y="2933640"/>
            <a:ext cx="1257120" cy="34308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52280" y="26812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Decision (odlučivanje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809880" y="5105160"/>
            <a:ext cx="990720" cy="22860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6800" y="519588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Join (spajanje-sinhronizacija niti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4648320"/>
            <a:ext cx="838080" cy="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72000" y="4357800"/>
            <a:ext cx="29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Merge (spajanje OR grana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333760" y="6172200"/>
            <a:ext cx="1066680" cy="76320"/>
          </a:xfrm>
          <a:prstGeom prst="line">
            <a:avLst/>
          </a:prstGeom>
          <a:ln w="9360">
            <a:solidFill>
              <a:srgbClr val="ccff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07120" y="594360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Acitvity Final (kraj procesa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794640" y="1981080"/>
            <a:ext cx="241200" cy="43200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92760" y="1600200"/>
            <a:ext cx="19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Action (aktivnost ili akcija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3443400"/>
            <a:ext cx="19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ff"/>
                </a:solidFill>
                <a:latin typeface="Arial"/>
              </a:rPr>
              <a:t>Flow (tok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400800" y="3657600"/>
            <a:ext cx="990720" cy="0"/>
          </a:xfrm>
          <a:prstGeom prst="line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E19D-B64A-4E90-9710-EBD16667EA18}" type="slidenum">
              <a:t>7</a:t>
            </a:fld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Odlučivanje – OR grananje (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Decision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0" y="1676520"/>
          <a:ext cx="4390920" cy="314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676520"/>
                    <a:ext cx="439092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8600" y="1676520"/>
          <a:ext cx="4170240" cy="3141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1676520"/>
                    <a:ext cx="417024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CAA-EA7A-45EA-B249-7F1AD718EC93}" type="slidenum">
              <a:t>8</a:t>
            </a:fld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Račvanje – AND grananje (</a:t>
            </a:r>
            <a:r>
              <a:rPr b="0" lang="en-US" sz="3200" spc="-1" strike="noStrike">
                <a:solidFill>
                  <a:srgbClr val="e3ebf1"/>
                </a:solidFill>
                <a:latin typeface="Trebuchet MS"/>
              </a:rPr>
              <a:t>Fork</a:t>
            </a:r>
            <a:r>
              <a:rPr b="0" lang="sr-Latn-CS" sz="3200" spc="-1" strike="noStrike">
                <a:solidFill>
                  <a:srgbClr val="e3ebf1"/>
                </a:solidFill>
                <a:latin typeface="Trebuchet MS"/>
              </a:rPr>
              <a:t>)</a:t>
            </a:r>
            <a:endParaRPr b="0" lang="en-US" sz="3200" spc="-1" strike="noStrike">
              <a:solidFill>
                <a:srgbClr val="e3ebf1"/>
              </a:solidFill>
              <a:latin typeface="Trebuchet MS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071800" y="914400"/>
          <a:ext cx="4998960" cy="232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1800" y="914400"/>
                    <a:ext cx="499896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3ebf1"/>
                </a:solidFill>
                <a:latin typeface="Trebuchet MS"/>
              </a:rPr>
              <a:t>Osnovni koncepti UML 2.0 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077920" y="3886200"/>
          <a:ext cx="4988160" cy="231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77920" y="3886200"/>
                    <a:ext cx="498816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850F-A057-4218-B03C-3235ED8BE620}" type="slidenum">
              <a:t>9</a:t>
            </a:fld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10:55:13Z</dcterms:created>
  <dc:creator>Slađan Babarogić</dc:creator>
  <dc:description/>
  <cp:keywords>UML 2.0 Dijagrami aktivnosti</cp:keywords>
  <dc:language>en-US</dc:language>
  <cp:lastModifiedBy>sinisa</cp:lastModifiedBy>
  <dcterms:modified xsi:type="dcterms:W3CDTF">2007-03-06T10:05:38Z</dcterms:modified>
  <cp:revision>219</cp:revision>
  <dc:subject/>
  <dc:title>Dijagrami aktivnosti UML 2.0</dc:title>
</cp:coreProperties>
</file>