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E13-D923-4D9F-BDA3-FF76F2F5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4A3-871C-434C-A77C-8B82E2A0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399-159D-42FC-9DAF-EBC72D2A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291-E70C-4E60-AC98-5AB41206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009C-D968-44F0-8EBC-E695C62D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D519-EF9B-4F55-A947-75B1FBA6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5627-FC9D-49E6-8537-1FD40294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AE67-85CF-4635-A5BB-322428F3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BF72-C565-42D1-A849-63B6EE2B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B597-5D9E-4D7E-AF79-3AD101EE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B530-72FD-4128-88E0-D3BB8831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617-516B-471A-A186-227512A9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3996-53E8-4E68-99C4-9D11B407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87C3-9C26-4A50-A85C-0A050A49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B98C-7D9B-43BA-B380-1A8DB4C6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5D5D-40BD-4A0D-88B2-7F3FD611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1558-2C28-44FE-817F-CDB22C2A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91F4-87B4-458A-8750-DF35B2AD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2ED-6102-42DE-8479-2D0326C8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D1B-82E8-420E-A32A-608F045B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DCE-EF89-4579-B0A5-BA13D165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88D-B668-47A9-96ED-54ADC4C8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7985-F0D4-4770-BC3E-496F7F32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E71-4C08-4C8A-992E-C7425BB0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A063-BBBE-4FB1-AA36-DB598EEF722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4C8E-1090-4927-B865-5D1C57DCB20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39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odelovanje poslovnih procesa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- Osnovni koncepti -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ni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ša Neškovi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adrža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regled osnovnih koncepa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Aktivnosti, tok aktivnosti i događaj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Ulazi i izlaz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Izvršioc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odproc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Nivo definicija i nivo instanc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Veze između osnovnih koncepa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regled osnovnih koncep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7752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Aktivnosti i događaj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2760" y="3429000"/>
            <a:ext cx="8661240" cy="26431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i (funkcije, transformacije ulaza u izlaze) – šta se radi u pojedinim fazama (koracima) proc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ok aktivnosti (redosled obavljanj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ogađaji okidaju aktiv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tivnosti generišu događa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Ulazi i izlazi iz aktivnos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ktivnosti obrađuju ulaze i generišu izlaz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zlaz iz jedne su ulazi u druge aktivnos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55640" y="3141720"/>
          <a:ext cx="7494480" cy="34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141720"/>
                    <a:ext cx="749448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Izvršioci aktivnos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052640"/>
            <a:ext cx="7910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Radnici, radna mesta i org. jedinice su zaduženi za obavljanje aktivnos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ktivnosti mogu biti automatizova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Specijalni slučaj  su potpuno automatske aktivnosti (bez ljudske intervencij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11280" y="3500280"/>
          <a:ext cx="8169120" cy="311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500280"/>
                    <a:ext cx="8169120" cy="31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dproce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8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ktivnosti mogu biti složene – procesi za sebe na nižem nivou apstrakci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6000" y="2924280"/>
          <a:ext cx="712800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924280"/>
                    <a:ext cx="71280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ivo definicija i instanc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Definicije su nivo opisa – nivo </a:t>
            </a:r>
            <a:r>
              <a:rPr b="1" lang="sr-Latn-CS" sz="2800" spc="-1" strike="noStrike">
                <a:solidFill>
                  <a:srgbClr val="40458c"/>
                </a:solidFill>
                <a:latin typeface="Tahoma"/>
              </a:rPr>
              <a:t>mode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pis aktivnosti i njihovog mogućeg to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pis tipova događa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efinicije tipova ulaza i izla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pis izvršilaca (radna mest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Instance su na nivou izvršav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nkretna nit (tok) izvršavanja aktiv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nkretne pojave ulaza i izla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nkretni izvršioci (radnic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Veze između osnovnih koncepat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68360" y="1700280"/>
          <a:ext cx="8281800" cy="43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81800" cy="43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Sinisa Neskovic</dc:creator>
  <dc:description/>
  <dc:language>en-US</dc:language>
  <cp:lastModifiedBy>sinisa</cp:lastModifiedBy>
  <dcterms:modified xsi:type="dcterms:W3CDTF">2007-06-05T12:44:57Z</dcterms:modified>
  <cp:revision>116</cp:revision>
  <dc:subject/>
  <dc:title>Strukture podataka</dc:title>
</cp:coreProperties>
</file>