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320-72EB-49CE-9FC9-513E33FC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46F-1EFB-4822-BD81-6A1D44EC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150-3BFC-42F2-8335-9BF777DF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A70-5A96-4F8F-94EC-EB1AB3DB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3B3C-EE3E-4EB9-9D05-15C88C06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7EC9-A09F-4DCC-B01D-141BA99E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11B1-DEB6-4BFE-AF87-D2192CB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359-3916-4999-AE71-B2616887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7DD0-C956-4803-A59E-5A3FF3C7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13F7-D866-4B77-983A-ACCB6C90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9201-4891-4A28-8043-04358EDF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F7E-91DC-4821-9267-AF00A679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5C2B-8C22-4EBD-87AB-618957F1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1DBF-A542-4EE0-B27E-07AFD191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D6A9-E037-4892-857E-134CE94C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244F-9736-423A-8978-01700B32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8961-D6D8-4C76-9FD3-6BE9AAFD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CB2-0377-4DF9-A817-8452B9D4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1EE-6F1A-4E26-B2E1-617FF0A8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05C-A235-4D41-900E-22557447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B67-7F7E-4810-BC2E-83D9EAFE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9B1-FE8C-470C-82F2-68324462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F62-FF48-4235-95CD-D34D2434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6B3-B24A-4801-9DF6-CB04BE17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6095-6720-45F2-8614-C5BD7AAC179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C14C-F8C2-4386-B7FA-61C72F5063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Modelovanje poslovnih proces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692360" y="558972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nad Aniči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3213000"/>
            <a:ext cx="80661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pecifikacija poslovnih procesa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8680" y="1628280"/>
            <a:ext cx="7770600" cy="49690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artica nije prihvatljiva: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artica se vra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ć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korisniku sa zvu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č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im signalo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korektna tajna </a:t>
            </a:r>
            <a:r>
              <a:rPr b="1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fra: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dgovaraju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ć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poruka se prikazuje na ekranu i daje se 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sa korisniku da je ponovo unese. Dozvoljava se tri poku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ja, a zatim se vra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ć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kartica korisn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ekid: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orisnik mo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ž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 u svakom trenutku da prekine transakciju. Poni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i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ć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 se svi dotada</a:t>
            </a:r>
            <a:r>
              <a:rPr b="0" i="1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ji efekti i vratiti kartica korisn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396720" y="3333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ODIZANJE NOVCA: alternativna scenarij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Times New Roman"/>
              </a:rPr>
              <a:t>V</a:t>
            </a: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eze u dijagramu</a:t>
            </a:r>
            <a:r>
              <a:rPr b="1" lang="en-US" sz="3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slučajeva korišćenja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31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ASOCIJACIJA-</a:t>
            </a: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 prikazana veza izme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đ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u aktera I slu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č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aja kori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ć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enj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GENERALIZACIJA- 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 veza op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tijeg i specifi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č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nijeg slu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č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aja kori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ć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enja koji nasle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đ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uje opis op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tijeg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&lt;&lt;extend&gt;&gt; -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 stereotip veze zavisnosti koja referencira(ubacuje) mogu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ć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e dodatno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"pona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anje" opisano u posebnom  apstraktnom SK, u osnovni SK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&lt;&lt;include&gt;&gt;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 -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 stereotip veze zavisnosti koja eksplicitno ubacuje  dodatno"pona</a:t>
            </a:r>
            <a:r>
              <a:rPr b="0" lang="sr-Latn-CS" sz="2300" spc="-1" strike="noStrike">
                <a:solidFill>
                  <a:srgbClr val="40458c"/>
                </a:solidFill>
                <a:latin typeface="Times New Roman"/>
              </a:rPr>
              <a:t>š</a:t>
            </a:r>
            <a:r>
              <a:rPr b="0" lang="en-US" sz="2300" spc="-1" strike="noStrike">
                <a:solidFill>
                  <a:srgbClr val="40458c"/>
                </a:solidFill>
                <a:latin typeface="Times New Roman"/>
              </a:rPr>
              <a:t>anje" opisano u posebnom  apstraktnom SK, u osnovni SK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763640" y="1484280"/>
          <a:ext cx="5715000" cy="55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484280"/>
                    <a:ext cx="5715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457200" y="0"/>
            <a:ext cx="8305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LUSTRACIJE VEZE &lt;&lt;include&gt;&gt;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snovni SK  eksplicitno uklju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je pon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je opisano sa apstraktnim SK.  Slu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 da se izbegne v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š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ruko opisivanje istog pon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j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828800" y="1500120"/>
          <a:ext cx="56674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00120"/>
                    <a:ext cx="56674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09480" y="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PRIMER VEZE &lt;&lt;extend&gt;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snovni SK implicitno pro{iruje pona{anje opisano u apstraktnom SK. Pro{irenje se vr{i  u tzv"ta~kama pro{irenja"("uklju~i statistiku", za dati prime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2124000" y="914400"/>
          <a:ext cx="565776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914400"/>
                    <a:ext cx="56577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521080" y="45720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PRIMER GENERALIZACIJE S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640080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de god se koristi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K nadtip, mo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 se koristiti i SK podt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4479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3480" y="1612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ada dva aktera imaju sl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ne uloge u odnosu na sistem oni mogu naslediti zajedn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og apstraktnog aktera.   Ako se isti slu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j kor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nja mo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 pove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zat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sa razl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tim akterima, pogodno je definisati apstraktnog aktera i opisati samo jedan slu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j kor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nja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814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843280" y="3357720"/>
          <a:ext cx="335268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357720"/>
                    <a:ext cx="335268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838080" y="304920"/>
            <a:ext cx="812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Apstraktni akte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258920" y="2052720"/>
          <a:ext cx="6384960" cy="42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52720"/>
                    <a:ext cx="638496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11280" y="549360"/>
            <a:ext cx="812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Opis scenarija preko </a:t>
            </a:r>
            <a:br>
              <a:rPr sz="3000"/>
            </a:b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sistemskog dijagrama sekvenci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09680" y="1397160"/>
          <a:ext cx="54104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410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627280" y="1828800"/>
          <a:ext cx="5138640" cy="43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1828800"/>
                    <a:ext cx="513864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826920" y="6093000"/>
            <a:ext cx="80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Kolaboracija "Sistem za automatske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ransakcije sa novcem" implemntira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realizuje) SK "Podizanje"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304920"/>
            <a:ext cx="812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Kolaboracija i slučaj korišćenj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413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Kolaboracija je asocijacija elemenata koji u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e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</a:rPr>
              <a:t>đ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usobnoj saradnji realizuju neki zahtev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1476360" y="1413000"/>
          <a:ext cx="6226200" cy="50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13000"/>
                    <a:ext cx="6226200" cy="50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838080" y="304920"/>
            <a:ext cx="812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660066"/>
                </a:solidFill>
                <a:latin typeface="Times New Roman"/>
              </a:rPr>
              <a:t>Odnos SSA i slučajeva korišćenj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Detaljna specifikacija 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slovnog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4000" y="1905120"/>
            <a:ext cx="81356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rkestracija (Orchestration) – proces se posmatra kao program tj. Definiše se  redosled operacija koje traba da budu izvrše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reografija (Choreography) – posmatra proces preko skupa poruka koje se razmenjuju izmedju učesnika (definisan redosled poruka koje se razmenjuj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laboracija (Collaboration) – proces se posmata kao kolaboraciju između poslovnih partnera koja obuhvata ne samo razmenu poslovnih poruka već i uspostavljanje veza kao što su ugovaranje i obavez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Nivoi specifikacija poslovnog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ML dijagrami za specifikaciju poslovnih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rkestraci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Koreografi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im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reograf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4000" y="1904760"/>
            <a:ext cx="792612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kvenca opera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terfejsi -  definisanje poruka koje se razmenjuj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irektna zavisnost aktivnosti - Poznati  učesnici u interkacij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476360" y="5013360"/>
            <a:ext cx="1655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4869000"/>
            <a:ext cx="165600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5877000"/>
            <a:ext cx="1655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132000" y="5157360"/>
            <a:ext cx="1224000" cy="716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5445000"/>
            <a:ext cx="1297080" cy="5050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rkestra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adrži proces “engine” centralni proces koj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kreće operaci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adrži složena pravi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ekvencu operaci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nkurentnu obradu operaci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inhornizaciju operaci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4437000"/>
            <a:ext cx="1944720" cy="1008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ng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92360" y="5877000"/>
            <a:ext cx="1655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987640" y="5445000"/>
            <a:ext cx="1008000" cy="5050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95640" y="5877000"/>
            <a:ext cx="165600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nost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43640" y="5877000"/>
            <a:ext cx="1655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nost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5445000"/>
            <a:ext cx="71280" cy="4320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08720" y="5300640"/>
            <a:ext cx="1727280" cy="576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labora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000" y="1904760"/>
            <a:ext cx="792612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B2B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ear-to-pe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munikacija isključivo preko poru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o koreografija ali uključu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munikaijcu preko Interne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Usaglašavanje razmene sa partner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Usaglašavanje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mant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čkog modela poslovnih poru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5373720"/>
            <a:ext cx="165600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08720" y="5300640"/>
            <a:ext cx="165564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6000" y="5661000"/>
            <a:ext cx="11523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5373720"/>
            <a:ext cx="936720" cy="504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0458c"/>
                </a:solidFill>
                <a:latin typeface="Tahoma"/>
              </a:rPr>
              <a:t>Message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3280" y="5589720"/>
            <a:ext cx="865440" cy="712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pecifikacija interakcija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slovnih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IMER: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Klasifikaciona dekompozic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042920" y="1625760"/>
          <a:ext cx="7058160" cy="47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5760"/>
                    <a:ext cx="7058160" cy="47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imer dijagrama slušejava korišće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3640" y="191628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Naručiv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14600" y="2924280"/>
            <a:ext cx="1357200" cy="1099440"/>
            <a:chOff x="714600" y="2924280"/>
            <a:chExt cx="1357200" cy="1099440"/>
          </a:xfrm>
        </p:grpSpPr>
        <p:grpSp>
          <p:nvGrpSpPr>
            <p:cNvPr id="304" name=""/>
            <p:cNvGrpSpPr/>
            <p:nvPr/>
          </p:nvGrpSpPr>
          <p:grpSpPr>
            <a:xfrm>
              <a:off x="1187280" y="2924280"/>
              <a:ext cx="433080" cy="792360"/>
              <a:chOff x="1187280" y="2924280"/>
              <a:chExt cx="433080" cy="792360"/>
            </a:xfrm>
          </p:grpSpPr>
          <p:sp>
            <p:nvSpPr>
              <p:cNvPr id="305" name=""/>
              <p:cNvSpPr/>
              <p:nvPr/>
            </p:nvSpPr>
            <p:spPr>
              <a:xfrm>
                <a:off x="1404720" y="314028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1188720" y="342756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04720" y="342756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87280" y="328320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33080" y="292428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714600" y="371664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Komercijalist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435640" y="299736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rij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50864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Donoše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dluk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76720" y="429264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lać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8360" y="321300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Ugovar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8000" y="2421000"/>
            <a:ext cx="1440000" cy="1295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97760" y="4392720"/>
            <a:ext cx="893880" cy="1099440"/>
            <a:chOff x="797760" y="4392720"/>
            <a:chExt cx="893880" cy="1099440"/>
          </a:xfrm>
        </p:grpSpPr>
        <p:grpSp>
          <p:nvGrpSpPr>
            <p:cNvPr id="317" name=""/>
            <p:cNvGrpSpPr/>
            <p:nvPr/>
          </p:nvGrpSpPr>
          <p:grpSpPr>
            <a:xfrm>
              <a:off x="1258560" y="4392720"/>
              <a:ext cx="433080" cy="792360"/>
              <a:chOff x="1258560" y="4392720"/>
              <a:chExt cx="433080" cy="792360"/>
            </a:xfrm>
          </p:grpSpPr>
          <p:sp>
            <p:nvSpPr>
              <p:cNvPr id="318" name=""/>
              <p:cNvSpPr/>
              <p:nvPr/>
            </p:nvSpPr>
            <p:spPr>
              <a:xfrm>
                <a:off x="1476000" y="460872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1260000" y="489600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76000" y="489600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258560" y="475164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04360" y="439272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797760" y="518508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Direk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 flipV="1">
            <a:off x="1908000" y="3644640"/>
            <a:ext cx="1800360" cy="215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757560" y="1700280"/>
            <a:ext cx="1175760" cy="1099440"/>
            <a:chOff x="6757560" y="1700280"/>
            <a:chExt cx="1175760" cy="1099440"/>
          </a:xfrm>
        </p:grpSpPr>
        <p:grpSp>
          <p:nvGrpSpPr>
            <p:cNvPr id="326" name=""/>
            <p:cNvGrpSpPr/>
            <p:nvPr/>
          </p:nvGrpSpPr>
          <p:grpSpPr>
            <a:xfrm>
              <a:off x="7137360" y="1700280"/>
              <a:ext cx="433080" cy="792360"/>
              <a:chOff x="7137360" y="1700280"/>
              <a:chExt cx="433080" cy="792360"/>
            </a:xfrm>
          </p:grpSpPr>
          <p:sp>
            <p:nvSpPr>
              <p:cNvPr id="327" name=""/>
              <p:cNvSpPr/>
              <p:nvPr/>
            </p:nvSpPr>
            <p:spPr>
              <a:xfrm>
                <a:off x="7354800" y="191628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38800" y="220356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54800" y="220356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37360" y="205920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83160" y="170028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757560" y="2492640"/>
              <a:ext cx="117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Magacion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V="1">
            <a:off x="6443640" y="2781360"/>
            <a:ext cx="649440" cy="287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92360" y="4869000"/>
            <a:ext cx="792000" cy="71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372360" y="4292640"/>
            <a:ext cx="936360" cy="288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131600" y="3789360"/>
            <a:ext cx="1299240" cy="1099440"/>
            <a:chOff x="7131600" y="3789360"/>
            <a:chExt cx="1299240" cy="1099440"/>
          </a:xfrm>
        </p:grpSpPr>
        <p:grpSp>
          <p:nvGrpSpPr>
            <p:cNvPr id="337" name=""/>
            <p:cNvGrpSpPr/>
            <p:nvPr/>
          </p:nvGrpSpPr>
          <p:grpSpPr>
            <a:xfrm>
              <a:off x="7569000" y="3789360"/>
              <a:ext cx="433080" cy="792360"/>
              <a:chOff x="7569000" y="3789360"/>
              <a:chExt cx="433080" cy="792360"/>
            </a:xfrm>
          </p:grpSpPr>
          <p:sp>
            <p:nvSpPr>
              <p:cNvPr id="338" name=""/>
              <p:cNvSpPr/>
              <p:nvPr/>
            </p:nvSpPr>
            <p:spPr>
              <a:xfrm>
                <a:off x="7786440" y="400536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7570440" y="429264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86440" y="429264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569000" y="414828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714800" y="378936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7131600" y="458172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Fin.Operativ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imer kolaboraci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71640" y="3284640"/>
            <a:ext cx="136872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Naručiv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14600" y="3643200"/>
            <a:ext cx="1357200" cy="1099440"/>
            <a:chOff x="714600" y="3643200"/>
            <a:chExt cx="1357200" cy="1099440"/>
          </a:xfrm>
        </p:grpSpPr>
        <p:grpSp>
          <p:nvGrpSpPr>
            <p:cNvPr id="348" name=""/>
            <p:cNvGrpSpPr/>
            <p:nvPr/>
          </p:nvGrpSpPr>
          <p:grpSpPr>
            <a:xfrm>
              <a:off x="1187280" y="3643200"/>
              <a:ext cx="433080" cy="792360"/>
              <a:chOff x="1187280" y="3643200"/>
              <a:chExt cx="433080" cy="792360"/>
            </a:xfrm>
          </p:grpSpPr>
          <p:sp>
            <p:nvSpPr>
              <p:cNvPr id="349" name=""/>
              <p:cNvSpPr/>
              <p:nvPr/>
            </p:nvSpPr>
            <p:spPr>
              <a:xfrm>
                <a:off x="1404720" y="385920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1188720" y="414648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04720" y="414648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87280" y="400212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3080" y="364320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714600" y="44355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Komercijalist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724360" y="4363920"/>
            <a:ext cx="136872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rij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27280" y="594828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Donoše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odluk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48360" y="580392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Plać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56000" y="2276640"/>
            <a:ext cx="1511280" cy="7920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Nabavk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ugovaranj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908000" y="3642840"/>
            <a:ext cx="863640" cy="792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97760" y="5111640"/>
            <a:ext cx="893880" cy="1099440"/>
            <a:chOff x="797760" y="5111640"/>
            <a:chExt cx="893880" cy="1099440"/>
          </a:xfrm>
        </p:grpSpPr>
        <p:grpSp>
          <p:nvGrpSpPr>
            <p:cNvPr id="361" name=""/>
            <p:cNvGrpSpPr/>
            <p:nvPr/>
          </p:nvGrpSpPr>
          <p:grpSpPr>
            <a:xfrm>
              <a:off x="1258560" y="5111640"/>
              <a:ext cx="433080" cy="792360"/>
              <a:chOff x="1258560" y="5111640"/>
              <a:chExt cx="433080" cy="792360"/>
            </a:xfrm>
          </p:grpSpPr>
          <p:sp>
            <p:nvSpPr>
              <p:cNvPr id="362" name=""/>
              <p:cNvSpPr/>
              <p:nvPr/>
            </p:nvSpPr>
            <p:spPr>
              <a:xfrm>
                <a:off x="1476000" y="532764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260000" y="561492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76000" y="561492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58560" y="547056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04360" y="511164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797760" y="590400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Direk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908000" y="4579920"/>
            <a:ext cx="1224000" cy="431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57560" y="2419200"/>
            <a:ext cx="1175760" cy="1099440"/>
            <a:chOff x="6757560" y="2419200"/>
            <a:chExt cx="1175760" cy="1099440"/>
          </a:xfrm>
        </p:grpSpPr>
        <p:grpSp>
          <p:nvGrpSpPr>
            <p:cNvPr id="370" name=""/>
            <p:cNvGrpSpPr/>
            <p:nvPr/>
          </p:nvGrpSpPr>
          <p:grpSpPr>
            <a:xfrm>
              <a:off x="7137360" y="2419200"/>
              <a:ext cx="433080" cy="792360"/>
              <a:chOff x="7137360" y="2419200"/>
              <a:chExt cx="433080" cy="792360"/>
            </a:xfrm>
          </p:grpSpPr>
          <p:sp>
            <p:nvSpPr>
              <p:cNvPr id="371" name=""/>
              <p:cNvSpPr/>
              <p:nvPr/>
            </p:nvSpPr>
            <p:spPr>
              <a:xfrm>
                <a:off x="7354800" y="263520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138800" y="292248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54800" y="292248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137360" y="277812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283160" y="241920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6757560" y="3211560"/>
              <a:ext cx="117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Magacion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6300720" y="3500280"/>
            <a:ext cx="792360" cy="935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5659560"/>
            <a:ext cx="934920" cy="504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00720" y="5371920"/>
            <a:ext cx="1079640" cy="431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131600" y="4508640"/>
            <a:ext cx="1299240" cy="1099440"/>
            <a:chOff x="7131600" y="4508640"/>
            <a:chExt cx="1299240" cy="1099440"/>
          </a:xfrm>
        </p:grpSpPr>
        <p:grpSp>
          <p:nvGrpSpPr>
            <p:cNvPr id="381" name=""/>
            <p:cNvGrpSpPr/>
            <p:nvPr/>
          </p:nvGrpSpPr>
          <p:grpSpPr>
            <a:xfrm>
              <a:off x="7569000" y="4508640"/>
              <a:ext cx="433080" cy="792360"/>
              <a:chOff x="7569000" y="4508640"/>
              <a:chExt cx="433080" cy="792360"/>
            </a:xfrm>
          </p:grpSpPr>
          <p:sp>
            <p:nvSpPr>
              <p:cNvPr id="382" name=""/>
              <p:cNvSpPr/>
              <p:nvPr/>
            </p:nvSpPr>
            <p:spPr>
              <a:xfrm>
                <a:off x="7786440" y="4724640"/>
                <a:ext cx="0" cy="2872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570440" y="5011920"/>
                <a:ext cx="21600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86440" y="5011920"/>
                <a:ext cx="215640" cy="28908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69000" y="4867560"/>
                <a:ext cx="433080" cy="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714800" y="4508640"/>
                <a:ext cx="142920" cy="216000"/>
              </a:xfrm>
              <a:prstGeom prst="ellipse">
                <a:avLst/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7131600" y="530100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40458c"/>
                  </a:solidFill>
                  <a:latin typeface="Tahoma"/>
                </a:rPr>
                <a:t>Fin.Operativ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700360" y="4508640"/>
            <a:ext cx="1368360" cy="7207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Ugovaranj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563640" y="2779560"/>
            <a:ext cx="863640" cy="50508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850920" y="3068640"/>
            <a:ext cx="1081080" cy="158436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995280" y="3068640"/>
            <a:ext cx="1081080" cy="316692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80000" y="2995560"/>
            <a:ext cx="504720" cy="136836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19640" y="3068640"/>
            <a:ext cx="73080" cy="287964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3560" y="544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40458c"/>
                </a:solidFill>
                <a:latin typeface="Tahoma"/>
              </a:rPr>
              <a:t>&lt;&lt;includ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41560" y="486900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40458c"/>
                </a:solidFill>
                <a:latin typeface="Tahoma"/>
              </a:rPr>
              <a:t>&lt;&lt;includ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60840" y="357192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40458c"/>
                </a:solidFill>
                <a:latin typeface="Tahoma"/>
              </a:rPr>
              <a:t>&lt;&lt;includ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60480" y="407664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40458c"/>
                </a:solidFill>
                <a:latin typeface="Tahoma"/>
              </a:rPr>
              <a:t>&lt;&lt;includ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17560" y="2995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40458c"/>
                </a:solidFill>
                <a:latin typeface="Tahoma"/>
              </a:rPr>
              <a:t>&lt;&lt;include&gt;&gt;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660066"/>
                </a:solidFill>
                <a:latin typeface="HelveticaPlain"/>
              </a:rPr>
              <a:t>Statički opis dokumenta za procesa Naručivanja</a:t>
            </a:r>
            <a:br>
              <a:rPr sz="2800"/>
            </a:br>
            <a:r>
              <a:rPr b="0" lang="sr-Latn-CS" sz="2800" spc="-1" strike="noStrike">
                <a:solidFill>
                  <a:srgbClr val="660066"/>
                </a:solidFill>
                <a:latin typeface="HelveticaPlain"/>
              </a:rPr>
              <a:t>prikazan preko UML </a:t>
            </a:r>
            <a:r>
              <a:rPr b="0" lang="en-US" sz="2800" spc="-1" strike="noStrike">
                <a:solidFill>
                  <a:srgbClr val="660066"/>
                </a:solidFill>
                <a:latin typeface="HelveticaPlain"/>
              </a:rPr>
              <a:t>Dijagram</a:t>
            </a:r>
            <a:r>
              <a:rPr b="0" lang="sr-Latn-CS" sz="2800" spc="-1" strike="noStrike">
                <a:solidFill>
                  <a:srgbClr val="660066"/>
                </a:solidFill>
                <a:latin typeface="HelveticaPlain"/>
              </a:rPr>
              <a:t>a</a:t>
            </a:r>
            <a:r>
              <a:rPr b="0" lang="en-US" sz="2800" spc="-1" strike="noStrike">
                <a:solidFill>
                  <a:srgbClr val="660066"/>
                </a:solidFill>
                <a:latin typeface="HelveticaPlain"/>
              </a:rPr>
              <a:t> klas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507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i koji se koriste na razli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č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tim nivoma apstrakcij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8404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ivoi specifikacije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Gruba specifikacija (ko su akteri ili partneri i teksutalni opi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7680" indent="-438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ložene procese (kolaboracije) mogu se dekomponovati (</a:t>
            </a: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ne u smislu klasifikacije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taljna specifikacija –(dva aspekta)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7680" indent="-438840"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inamički - aspekt ponaš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43440" indent="-365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reografija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43440" indent="-365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rkestraci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77680" indent="-438840"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atički – aspekt strukture poslovnih dokumen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pecifikacije poslovnih procesa 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eko UML-a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40458c"/>
                </a:solidFill>
                <a:latin typeface="Tahoma"/>
              </a:rPr>
              <a:t>Gruba specifikacij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iagram slučajeva korišće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Detaljna specifikaci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inamički aspe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ijagram aktivnosti, Dijagram sekvenc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tatički aspe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ijagram klasa, Dijagram objek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87160" y="176328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Sa tačke gledista analize sistema i definisanja poslovnog modela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“slu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 kori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nja” </a:t>
            </a:r>
            <a:r>
              <a:rPr b="1" lang="sr-Latn-C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se definiše kao specifikacija interkacije između sistema i jednog ili više aktera i sistema zajedno sa opisom akcija sistem u ovoj interkaciji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odel slu</a:t>
            </a:r>
            <a:r>
              <a:rPr b="1" lang="sr-Latn-C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č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eva kori</a:t>
            </a:r>
            <a:r>
              <a:rPr b="1" lang="sr-Latn-C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šć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nja je graf sa dve vrste </a:t>
            </a:r>
            <a:r>
              <a:rPr b="1" lang="sr-Latn-C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č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orov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č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orovima koji predstavljaju slu</a:t>
            </a:r>
            <a:r>
              <a:rPr b="1" lang="sr-Latn-C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č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jeve kori</a:t>
            </a:r>
            <a:r>
              <a:rPr b="1" lang="sr-Latn-C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šć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n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č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orovima koje predstavljaju akter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kter je bilo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a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o stupa u interakciju sa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sistemom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kter je objekat van sistema  koji predstavlja tip (vrstu) korisnika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kter mo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ž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e biti korisnik (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ovek) ili neki drugi sistem. </a:t>
            </a:r>
            <a:r>
              <a:rPr b="0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(</a:t>
            </a: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reba praviti razliku izme|u korisnika i aktera.  Korisnik je </a:t>
            </a:r>
            <a:r>
              <a:rPr b="0" i="1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ovek koji koristi sistem,  dok je akter specifi</a:t>
            </a:r>
            <a:r>
              <a:rPr b="0" i="1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na uloga koju korisnik ima u komunikaciji sa sistemom</a:t>
            </a:r>
            <a:r>
              <a:rPr b="0" i="1" lang="sr-Latn-C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159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Model slučajeva korišće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2171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476360" y="1209600"/>
          <a:ext cx="60958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209600"/>
                    <a:ext cx="60958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2765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533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42102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irektna komunikacija izme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đ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u dva aktera i dva konkretna (oni sa kojima komuniciraju akteri) slu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ja kori</a:t>
            </a:r>
            <a:r>
              <a:rPr b="0" lang="sr-Latn-C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ć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nja se ne mo`e predstaviti na modelu (grafu). Me|utim, kako }e kasnije biti prikazano, mogu}e je definisati asocijaciju izme|u klasa slu~ajeva kori{}enja i klasa aktera (apstraktni akteri i apstrakti slu~ajevi kori{}enja), da bi se jednostavnije prikazao  neki slo`eni  model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pšti model slučajeva korišćenj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757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27160" y="1677960"/>
          <a:ext cx="63244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677960"/>
                    <a:ext cx="63244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235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333360"/>
            <a:ext cx="8353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rimer dijagrama slučajeva korišćenj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440" y="1484280"/>
            <a:ext cx="8278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vaki sl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 kor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nja treba da bude detaljno opisan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epor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uje se da se u prvoj fazi koristi struktuirani verbalni opis, jer je on neophodan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k i ako se da neki formalni opis (dijagrami kolaboracije, dijagram promene stanja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Uob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eno je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a se posebno daje opis normalnog toka dog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đ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a u sl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a kor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nja, a posebno mog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 izuzeci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Jedan sl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 kor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š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nja pretstavlja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skup sekvenci doga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đ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Jedna sekvenca dog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đ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ja  se naziva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cenario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ostoji osnovni scenario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i  skup mogu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h izuzetaka i alternativnih funkcionisanj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90560" y="333360"/>
            <a:ext cx="8353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Opis slučaja korišćenja - SCENARI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8680" y="1628280"/>
            <a:ext cx="7770600" cy="49690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rovera kartice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omitent ubacuje karticu u automat. Automat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ta karticu i proverava da li je prihvatljiva. Ako je prihvatljiva, zahteva se od komitenta da unese “tajnu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ru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roveravanje </a:t>
            </a:r>
            <a:r>
              <a:rPr b="1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re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omitent unosi tajnu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ru. Ako je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ra korektna zahteva se da korisnik izabere transakciju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os  tipa transakcije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omitent bira “podizanje novca” i automat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lje 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aru banke tajnu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ru da bi se dobili  brojevi komitentovih 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a. Dobijaju se komitentovi  brojevi  ra~una i prikazuju  na ekranu automa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odizanja novca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omitent bira 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 i unosi iznos koji podi`e.Automat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lje 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aru banke zahtev za podizanje datog iznosa sa datog 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una. Priprema se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ampanje izve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aja  za komiten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Kraj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Automat vra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ć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 karticu karticu komitentu. Izdaje se izve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aj komitent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33360"/>
            <a:ext cx="8353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PODIZANJE NOVCA: osnovni scenari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Nenad Anicic</dc:creator>
  <dc:description/>
  <dc:language>en-US</dc:language>
  <cp:lastModifiedBy>Kostandin Dimitrijevic</cp:lastModifiedBy>
  <dcterms:modified xsi:type="dcterms:W3CDTF">2007-06-18T11:07:36Z</dcterms:modified>
  <cp:revision>263</cp:revision>
  <dc:subject/>
  <dc:title>Modelovanje poslovnih procesa</dc:title>
</cp:coreProperties>
</file>