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FD5C-D9EC-4C3D-869F-CAA7DB1DA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2C77-0865-4EF2-BB2E-4815B6595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7846-038A-4DBA-83D5-0BA46C6CC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EFCB-59F4-4DE2-B4A7-388E11E38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83322-5AE1-41BD-BBCF-C9C7B96C0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F3808-91AC-4791-BC93-03FD423F2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3DBFE-4D2A-43C3-A123-E72E734A3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AC976-7D62-4BF6-AF8E-838FD4A34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F8262-0318-4DF8-96E6-2A395969B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3C62F-0DB9-4DD9-B7EB-490C609E7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B95F5-8247-41DF-A611-67E4E0C1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0691-1288-4DAC-9912-DC668528D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952AE-801A-40ED-ABCF-FA3034889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50168-EA6A-4C5A-8B61-094CA32F2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19F15-450A-4005-9762-0C6C1F241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43F98-0CFC-41F4-861B-D9A195F53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EB882-765C-497D-994A-1FC74C952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D148-2E13-4489-8A4F-D9628744F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C2EE-FEEC-4542-AEED-632F993AF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2949-F37D-44BD-8EC2-31CA3F55D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E947-0308-41CE-AE23-2300AA7BB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B763-5651-42AF-912D-73FE8EAA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387C-626E-4574-968B-59EEF149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7F5B-A87B-4892-9644-BA7B4556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FBBF7-B727-453A-8B36-691AC48B0B9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10056-E850-4ECF-9A3C-DD8A56A2C06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6920" y="1773000"/>
            <a:ext cx="739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Modelovanje poslovnih procesa</a:t>
            </a:r>
            <a:br>
              <a:rPr sz="4000"/>
            </a:b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- Osnove  metodologije -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403280" y="328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Siniša Nešković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900000" y="2602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Fakultet organizacionih nauk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Katedra za informacione sistem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223848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1050840" y="974880"/>
          <a:ext cx="6891480" cy="562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0840" y="974880"/>
                    <a:ext cx="6891480" cy="56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"/>
          <p:cNvSpPr/>
          <p:nvPr/>
        </p:nvSpPr>
        <p:spPr>
          <a:xfrm>
            <a:off x="3448800" y="66600"/>
            <a:ext cx="195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NABAVKA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100240" y="160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593640" y="895320"/>
          <a:ext cx="7805880" cy="575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895320"/>
                    <a:ext cx="7805880" cy="575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3890160" y="177840"/>
            <a:ext cx="177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PRODAJA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324000" y="1773360"/>
          <a:ext cx="4752720" cy="29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773360"/>
                    <a:ext cx="4752720" cy="29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>
            <a:off x="826920" y="304920"/>
            <a:ext cx="8317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40458c"/>
                </a:solidFill>
                <a:latin typeface="Times New Roman"/>
              </a:rPr>
              <a:t>ODNOS P</a:t>
            </a:r>
            <a:r>
              <a:rPr b="1" lang="en-US" sz="3200" spc="-1" strike="noStrike">
                <a:solidFill>
                  <a:srgbClr val="40458c"/>
                </a:solidFill>
                <a:latin typeface="Times New Roman"/>
              </a:rPr>
              <a:t>OSLOVNIH PROCESA I POSLOVNIH FUNKCIJA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5219640" y="1773360"/>
          <a:ext cx="3568680" cy="321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19640" y="1773360"/>
                    <a:ext cx="3568680" cy="32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Klasifikaciona dekompozicij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Hijerarhijska dekompozicija koja služi za klasifikaciju poslovnih proces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Slična funkcionalnoj dekompoziciji, ali sa bitnim razlikam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Viši nivoi klasifikacione hijerarhije nisu “izvršni” (ne obavljaju se)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Poslovni procesi su na dnu hijerarhij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Klasifikaciona dekompozicij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539640" y="1484280"/>
          <a:ext cx="7632720" cy="509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484280"/>
                    <a:ext cx="7632720" cy="509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Klasifikaciona dekompozicij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2692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Procesi mogu biti prost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Elementarne aktivnosti – fundamentalne funkcije sistem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Npr. Naručivanje, Prijem robe, Plaćanj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Procesi mogu biti složen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Obuhvataju procese koji su iz drugih klasifikacionih oblast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Npr. “Nabavka ugovaranjem” se sastoji od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28520" indent="-20556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Prijema robe – skladišno poslovanja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28520" indent="-20556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Plaćanje – finansijsko poslovanj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Klasifikaciona dekompozicij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468360" y="2349360"/>
          <a:ext cx="8281800" cy="346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349360"/>
                    <a:ext cx="8281800" cy="346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Postupak dekomponovanj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9280" y="1905120"/>
            <a:ext cx="8280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Kako napraviti hijerarhijsku dekompoziciju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Potrebno je imati metodološki postupak kojim se izvodi hijerarhijska dekompozicij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Metodološki postupc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Porter-ov lanac vrednost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Open-EDI standar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Životni ciklus objekta, proizvoda ili uslug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Porter-ov lanac vrednosti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39280" y="1905120"/>
            <a:ext cx="8280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Lanac vrednosti je niz aktivnosti  koje generišu neku vrednost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Porter je definisao jedan generički lanac vrednosti koji se sastoji iz skupa  </a:t>
            </a:r>
            <a:r>
              <a:rPr b="0" i="1" lang="sr-Latn-CS" sz="2800" spc="-1" strike="noStrike">
                <a:solidFill>
                  <a:srgbClr val="40458c"/>
                </a:solidFill>
                <a:latin typeface="Tahoma"/>
              </a:rPr>
              <a:t>primarnih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 i </a:t>
            </a:r>
            <a:r>
              <a:rPr b="0" i="1" lang="sr-Latn-CS" sz="2800" spc="-1" strike="noStrike">
                <a:solidFill>
                  <a:srgbClr val="40458c"/>
                </a:solidFill>
                <a:latin typeface="Tahoma"/>
              </a:rPr>
              <a:t>sekundarnih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 aktivnosti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Porter-ov lanac vrednosti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-554400">
              <a:lnSpc>
                <a:spcPct val="8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Primarne aktivnosti su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01440" indent="-48528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40458c"/>
                </a:solidFill>
                <a:latin typeface="Tahoma"/>
              </a:rPr>
              <a:t>Ulazna  logistika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(Inbound Logistics) uključuje veze sa dobavljačima, kao i aktivnosti prijema, skladištenja i raspoređivanja ulaza (distribucija materijala u proizvodnju, na primer)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01440" indent="-48528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40458c"/>
                </a:solidFill>
                <a:latin typeface="Tahoma"/>
              </a:rPr>
              <a:t>Operacije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(Operations) podrazumeva transformaciju ulaza u izlaz (izlazne proizvode i uslug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01440" indent="-48528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40458c"/>
                </a:solidFill>
                <a:latin typeface="Tahoma"/>
              </a:rPr>
              <a:t>Izlazna  logistika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( Outbound Logistics),  skladištenje i distribucija izlaza (gotovih proizvoda, na primer)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01440" indent="-48528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40458c"/>
                </a:solidFill>
                <a:latin typeface="Tahoma"/>
              </a:rPr>
              <a:t>Marketing i prodaja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(Marketing and Sales), informisanje kupaca o proizvodima i servisima, pridobijanje kupaca za kupovinu i podrška kupcima pri kupovini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01440" indent="-48528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40458c"/>
                </a:solidFill>
                <a:latin typeface="Tahoma"/>
              </a:rPr>
              <a:t>Servis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 (Service),  aktivnosti koje garantuju da će proizvod ili usluga funkcionisati  dobro kod kupca  i posle kupovine.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Sadržaj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Problem modelovanja poslovnih proces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Hijerarhijska dekompozicij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Funkcionalna dekompozicij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Odnos poslovnih funkcija i proces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Klasifikaciona dekompozicija proces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Postupak dekomponovanj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Izvori informacija za postupak dekomponovanja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Porter-ov lanac vrednosti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Sekundarne aktivnosti su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70560" indent="-52272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40458c"/>
                </a:solidFill>
                <a:latin typeface="Tahoma"/>
              </a:rPr>
              <a:t>Nabavka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(Procurement), pribavljanje ulaza i resursa  za organizaciju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70560" indent="-52272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40458c"/>
                </a:solidFill>
                <a:latin typeface="Tahoma"/>
              </a:rPr>
              <a:t>Upravljanje kadrovskim resursima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(Human Resource management), zapošljavanje, trening, raspoređivanje, otpuštanje, i drugo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70560" indent="-52272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40458c"/>
                </a:solidFill>
                <a:latin typeface="Tahoma"/>
              </a:rPr>
              <a:t>Tehnološki razvoj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(Technological Development), razvoj opreme, hardvera, softvera, procedura, tehničkog znanja  za bavljenje osnovnih delatnosti organizacij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70560" indent="-52272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40458c"/>
                </a:solidFill>
                <a:latin typeface="Tahoma"/>
              </a:rPr>
              <a:t>Infrastruktura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(Infrastructure), aktivnosti koje podržavaju potrebe organizacije: organizovanje, pravni poslovi, finansije, planiranje, obezbeđivanje kvaliteta,  odnosi sa državnom upravom i slično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Open EDI standar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2803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499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Kolaboracija partnera prolaze kroz sledeće standardne faze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960840" indent="-51732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40458c"/>
                </a:solidFill>
                <a:latin typeface="Tahoma"/>
              </a:rPr>
              <a:t>Planiranje. 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Partneri u kolaboraciji (kupac i prodavac)  odlučuju koje će aktivnosti obaviti  za kupovinu, odnosno prodaju dobara i usluga i slično. </a:t>
            </a:r>
            <a:r>
              <a:rPr b="0" i="1" lang="sr-Latn-CS" sz="20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960840" indent="-51732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40458c"/>
                </a:solidFill>
                <a:latin typeface="Tahoma"/>
              </a:rPr>
              <a:t>Identifikacija. 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Akctivnosti razmene podataka između partnera da bi se uspostavila jedan-prema-jedan veza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960840" indent="-51732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40458c"/>
                </a:solidFill>
                <a:latin typeface="Tahoma"/>
              </a:rPr>
              <a:t>Pregovaranje.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  Razumevanje, međusobna saglasnost  o kolaboraciji. Aktivnosti  u kojima partneri daju  informacije o rezultatima prethodnih faza: vrste roba i usluga koje se kupuju odnosno prodaju, cenama, količinama, načinu finansiranja i slično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960840" indent="-51732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40458c"/>
                </a:solidFill>
                <a:latin typeface="Tahoma"/>
              </a:rPr>
              <a:t>Ostvarivanje (Aktualizacija).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 Izvršavanje onoga što je dogovoreno u prethodnoj fazi. Realizacija dogovorenih transakcija.</a:t>
            </a:r>
            <a:r>
              <a:rPr b="0" i="1" lang="sr-Latn-CS" sz="20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960840" indent="-51732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40458c"/>
                </a:solidFill>
                <a:latin typeface="Tahoma"/>
              </a:rPr>
              <a:t>Postaktuelizacija. 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 Informisanje o rezultatima obavljenih transakcija, aktivnosti garancije, isplata kreditnih rata, žalbe kupca  i slično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Životni ciklus objekt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Objekti prolaze kroz osnovni životni ciklu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40458c"/>
                </a:solidFill>
                <a:latin typeface="Tahoma"/>
              </a:rPr>
              <a:t>Pripremu rađanj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40458c"/>
                </a:solidFill>
                <a:latin typeface="Tahoma"/>
              </a:rPr>
              <a:t>Rađanje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40458c"/>
                </a:solidFill>
                <a:latin typeface="Tahoma"/>
              </a:rPr>
              <a:t>Razvoj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40458c"/>
                </a:solidFill>
                <a:latin typeface="Tahoma"/>
              </a:rPr>
              <a:t>Nestana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Objekti mogu bit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Proizvodi i uslug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Resursi (Kadar, Novac, Materijal, ...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Strateški dokumenti, odluke, planov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Životni ciklus objekt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Na najvišem nivou dekompozicije se svi procesi mogu podeliti na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Procesi osnovne delatnosti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Proizvodi i uslug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Dekompozicija do pojedinih vrsta proizvoda i uslug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Procesi upravljanja resursima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Resursi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Dekompozicija do pojedinih vrsta resurs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Procesi upravljanja i organizovanj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Strateški dokumenti, odluke, planovi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Dekompozicija do pojedinih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660066"/>
                </a:solidFill>
                <a:latin typeface="Tahoma"/>
              </a:rPr>
              <a:t>Životni ciklus objekta, proizvoda ili uslug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Primer životnog ciklusa Proizvoda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40458c"/>
                </a:solidFill>
                <a:latin typeface="Tahoma"/>
              </a:rPr>
              <a:t>Planiranje proizvodnje (Priprema rađanja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40458c"/>
                </a:solidFill>
                <a:latin typeface="Tahoma"/>
              </a:rPr>
              <a:t>Nabavka (Priprema rađanja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40458c"/>
                </a:solidFill>
                <a:latin typeface="Tahoma"/>
              </a:rPr>
              <a:t>Lansiranje proizvodnje (Rađanje)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40458c"/>
                </a:solidFill>
                <a:latin typeface="Tahoma"/>
              </a:rPr>
              <a:t>Proizvodnja (Razvoj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40458c"/>
                </a:solidFill>
                <a:latin typeface="Tahoma"/>
              </a:rPr>
              <a:t>Prodaja (Nestanak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660066"/>
                </a:solidFill>
                <a:latin typeface="Tahoma"/>
              </a:rPr>
              <a:t>Životni ciklus objekta, proizvoda ili uslug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Primer životnog ciklusa resursa Kadar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40458c"/>
                </a:solidFill>
                <a:latin typeface="Tahoma"/>
              </a:rPr>
              <a:t>Raspisivanje konkursa (Priprema rađanja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40458c"/>
                </a:solidFill>
                <a:latin typeface="Tahoma"/>
              </a:rPr>
              <a:t>Prijem u radni odnos (Rađanje)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40458c"/>
                </a:solidFill>
                <a:latin typeface="Tahoma"/>
              </a:rPr>
              <a:t>Praćenje radnog odnosa (Razvoj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40458c"/>
                </a:solidFill>
                <a:latin typeface="Tahoma"/>
              </a:rPr>
              <a:t>Prestanak radnog odnosa (Nestanak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Izvori informacija za postupak dekomponovanja 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Domenski ekspert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Eksperti za pojedine oblasti poslovanj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Standard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Međunarodni standardi za pojedine oblasti poslovanj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Bankarsko poslovanje, Avio prevoznici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Telecom operatori, ..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Informacioni (ERP) sistemi velikih prouzvođač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SAP, IBM, Orac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Postupak dekomponovanja- rekapitulacij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Klasifikovanje procesa po funkcionalnim oblastima poslovanja radi savladavanja složenost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Koristi se i termin “Mapa poslovanja” (Business Maps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Postupci dekomponovanj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Porter-ov lanac vrednosti i Open EDI su zasnovani (izvedeni) iz životnih ciklusa objeka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Potrebno je kombinovati sva tri pristup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Izvori informacij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Potrebno je kombinovati izvor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Problem modelovanja poslovnih proces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Kako identifikovati i opisati proces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Nabrojati sv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Utvrditi granice procesa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Specificirati (opisati) karakteristike (statika) i način odvijanja (dinamika) proces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Osnovni problem je složenos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Veliki broj procesa u organizacij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Metodologij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Postupak (proces!) kako se identifikuju i opisuju proces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Zasniva se na nekom od teorijskih pristupa i formalizam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Problem savladavanja složenost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3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Hijerarhijska dekompozicij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Metod savladavanja složenosti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Apstrakcija agregacije-dekompozicij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Koncept na jednom nivou apstrakcije se posmatra kao jedinstvena celin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Na nižem nivou apstrakcije se posmatra kao složen koncept koji se sastoji od delova (komponenti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Uzastopnom primenom se dobija hijerarhijska sastavnic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Postoje različite vrste dekompozicij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Npr. funkcionalna dekompozicija i objektna dekompozicij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Različiti pristupi (metodologije) koriste različite vrsta dekompozicij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Funkcionalna dekompozicij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Za savladavanje složenosti poslovnih sistema, tj. prilikom analize i opisivanja poslovnih funkcija se koristi funkcionalna dekompozicij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Struktura sistema analiza (SSA) je jedna metoda koja se zasniva na funkcionalnoj dekompozicij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623960" y="31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685800" y="304920"/>
          <a:ext cx="5896080" cy="62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04920"/>
                    <a:ext cx="5896080" cy="62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"/>
          <p:cNvSpPr/>
          <p:nvPr/>
        </p:nvSpPr>
        <p:spPr>
          <a:xfrm>
            <a:off x="6100560" y="2895480"/>
            <a:ext cx="261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IJERARHIJSK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DEKOMPOZICIJ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FUNKCIJ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623960" y="23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685800" y="1905120"/>
          <a:ext cx="7126200" cy="31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05120"/>
                    <a:ext cx="7126200" cy="31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"/>
          <p:cNvSpPr/>
          <p:nvPr/>
        </p:nvSpPr>
        <p:spPr>
          <a:xfrm>
            <a:off x="1711440" y="282600"/>
            <a:ext cx="540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HIJERARHIJSKI DIJAGRAM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TRUKTURE FUNKCIJA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900080" y="254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668160" y="1582560"/>
          <a:ext cx="8099640" cy="26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1582560"/>
                    <a:ext cx="8099640" cy="26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>
            <a:off x="2750400" y="254160"/>
            <a:ext cx="345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"MALA TRGOVINA"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828800" y="14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517680" y="976320"/>
          <a:ext cx="7422840" cy="540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976320"/>
                    <a:ext cx="7422840" cy="54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>
            <a:off x="1795680" y="254160"/>
            <a:ext cx="502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PRVI  NIVO  DEKOMPOZICIJ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8T19:25:03Z</dcterms:created>
  <dc:creator>Sinisa Neskovic</dc:creator>
  <dc:description/>
  <dc:language>en-US</dc:language>
  <cp:lastModifiedBy>sinisa</cp:lastModifiedBy>
  <dcterms:modified xsi:type="dcterms:W3CDTF">2007-03-26T17:46:35Z</dcterms:modified>
  <cp:revision>235</cp:revision>
  <dc:subject/>
  <dc:title>Strukture podataka</dc:title>
</cp:coreProperties>
</file>