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319-3E34-4270-859A-39C0E387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BCE-69AA-43E6-9BEC-AA9505BA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CBB-E6B1-4BD4-A26F-5C4B12A5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7A6-6E0A-4E39-A53C-C29FEC21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233E-4B41-4DAE-B21A-09000A40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24BB-3FEA-4B99-8D64-46281E9C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F272-81CC-4D6F-952F-6E102428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0A69-8FDB-4547-858B-9982D5F7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ABDC-D8CE-412E-AF1B-AA4DB2B9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48F0-6C53-4C0D-AB03-3BD9EF71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0504-9688-44AB-9E1D-BCA3BD8D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782-31AB-4A01-BD19-E18765F9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9584-A86A-423B-9408-62A53F91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0BBF-EC0F-4E75-831E-8D59773F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88EC-20AD-47E6-936B-BB0100FF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0541-012A-41B3-A230-BE3ECE8F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5D98-D758-4083-8395-7B16ED9E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75C-88EF-4C41-80AA-3D247CB6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7B9-31E0-4523-BDCD-BBCEA7DF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5E5-5601-4FBF-A270-44AB1D31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7DB-31A3-42DE-8158-51E74DB4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E90-263A-44A7-B482-639CD4D6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B33-B10F-445F-9EF2-9776D5D3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C63-7760-4B6D-8FC7-4EEFB710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7589-EEB8-4EBF-8D6E-7CA5B787768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BDBC-B45F-4EC0-8201-58C4874C1A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oleObject" Target="../embeddings/oleObject1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40458c"/>
                </a:solidFill>
                <a:latin typeface="Tahoma"/>
              </a:rPr>
              <a:t>Modelovanje poslovnih proces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692360" y="5589720"/>
            <a:ext cx="64008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3213000"/>
            <a:ext cx="8497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ransformacija modela</a:t>
            </a:r>
            <a:br>
              <a:rPr sz="40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UMM protokol poslovne kolaboracij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68360" y="1397160"/>
            <a:ext cx="84247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MM poslovna transak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11280" y="1473120"/>
            <a:ext cx="806436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UMM poslovna transakcija i podaci za razmenu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539640" y="1535040"/>
            <a:ext cx="82854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Transformacija model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5508720" y="2567160"/>
            <a:ext cx="914400" cy="574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BPM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76720" y="2565360"/>
            <a:ext cx="914400" cy="574560"/>
          </a:xfrm>
          <a:prstGeom prst="rect">
            <a:avLst/>
          </a:prstGeom>
          <a:noFill/>
          <a:ln w="9360">
            <a:solidFill>
              <a:srgbClr val="c6180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1806"/>
                </a:solidFill>
                <a:latin typeface="Tahoma"/>
              </a:rPr>
              <a:t>UM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16000" y="3860640"/>
            <a:ext cx="6912000" cy="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43280" y="1916280"/>
            <a:ext cx="31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40458c"/>
                </a:solidFill>
                <a:latin typeface="Tahoma"/>
              </a:rPr>
              <a:t>Platformski nezavis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62440" y="39337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FS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26080" y="3429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Tahoma"/>
              </a:rPr>
              <a:t>BO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43280" y="508464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58c804"/>
                </a:solidFill>
                <a:latin typeface="Tahoma"/>
              </a:rPr>
              <a:t>Platformski specifič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88000" y="4221000"/>
            <a:ext cx="914400" cy="57492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BP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65600" y="4149720"/>
            <a:ext cx="914400" cy="574560"/>
          </a:xfrm>
          <a:prstGeom prst="rect">
            <a:avLst/>
          </a:prstGeom>
          <a:noFill/>
          <a:ln w="9360">
            <a:solidFill>
              <a:srgbClr val="c6180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61806"/>
                </a:solidFill>
                <a:latin typeface="Tahoma"/>
              </a:rPr>
              <a:t>ebXML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1806"/>
                </a:solidFill>
                <a:latin typeface="Tahoma"/>
              </a:rPr>
              <a:t>[BPSS]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43640" y="4221000"/>
            <a:ext cx="1008000" cy="57492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WS-CD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010400">
            <a:off x="4019400" y="3004920"/>
            <a:ext cx="481320" cy="1576080"/>
          </a:xfrm>
          <a:custGeom>
            <a:avLst/>
            <a:gdLst>
              <a:gd name="textAreaLeft" fmla="*/ 64440 w 481320"/>
              <a:gd name="textAreaRight" fmla="*/ 416880 w 481320"/>
              <a:gd name="textAreaTop" fmla="*/ 322560 h 1576080"/>
              <a:gd name="textAreaBottom" fmla="*/ 1151280 h 157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40" stAng="-5400000" swAng="5400000"/>
                <a:lnTo>
                  <a:pt x="21600" y="11358"/>
                </a:lnTo>
                <a:arcTo wR="21600" hR="8840" stAng="0" swAng="2950507"/>
                <a:lnTo>
                  <a:pt x="7200" y="21094"/>
                </a:lnTo>
                <a:lnTo>
                  <a:pt x="0" y="18938"/>
                </a:lnTo>
                <a:lnTo>
                  <a:pt x="7200" y="15770"/>
                </a:lnTo>
                <a:lnTo>
                  <a:pt x="7200" y="17173"/>
                </a:lnTo>
                <a:arcTo wR="21600" hR="8840" stAng="2950507" swAng="-2748301"/>
                <a:lnTo>
                  <a:pt x="21380" y="10099"/>
                </a:lnTo>
                <a:arcTo wR="21600" hR="8840" stAng="-202206" swAng="-5197794"/>
                <a:close/>
              </a:path>
              <a:path fill="darkenLess" w="21600" h="21600">
                <a:moveTo>
                  <a:pt x="0" y="0"/>
                </a:moveTo>
                <a:arcTo wR="21600" hR="8840" stAng="-5400000" swAng="5400000"/>
                <a:lnTo>
                  <a:pt x="21600" y="11358"/>
                </a:lnTo>
                <a:arcTo wR="21600" hR="8840" stAng="0" swAng="-202206"/>
                <a:lnTo>
                  <a:pt x="21380" y="10099"/>
                </a:lnTo>
                <a:arcTo wR="21600" hR="8840" stAng="-202206" swAng="-5197794"/>
                <a:close/>
              </a:path>
            </a:pathLst>
          </a:custGeom>
          <a:solidFill>
            <a:srgbClr val="c6180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ebXML specifikaci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6167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ebXML BPSS – poslovna kolaborac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97000" y="981000"/>
            <a:ext cx="563076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eslikavanje UMM poslovne kolaboracije u ebXML BPS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20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ebXML BPSS – poslovna transakc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826920" y="965160"/>
            <a:ext cx="73803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eslikavanje UMM poslovne transakcije u ebXML BPS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628560" y="1413000"/>
            <a:ext cx="790416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Transformacija model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2567160"/>
            <a:ext cx="914400" cy="574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BPM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76720" y="2565360"/>
            <a:ext cx="914400" cy="574560"/>
          </a:xfrm>
          <a:prstGeom prst="rect">
            <a:avLst/>
          </a:prstGeom>
          <a:noFill/>
          <a:ln w="9360">
            <a:solidFill>
              <a:srgbClr val="c6180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1806"/>
                </a:solidFill>
                <a:latin typeface="Tahoma"/>
              </a:rPr>
              <a:t>UM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16000" y="3860640"/>
            <a:ext cx="6912000" cy="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1916280"/>
            <a:ext cx="31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40458c"/>
                </a:solidFill>
                <a:latin typeface="Tahoma"/>
              </a:rPr>
              <a:t>Platformski nezavis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62440" y="39337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FS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26080" y="3429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Tahoma"/>
              </a:rPr>
              <a:t>BO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43280" y="508464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58c804"/>
                </a:solidFill>
                <a:latin typeface="Tahoma"/>
              </a:rPr>
              <a:t>Platformski specifič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16360" y="4149720"/>
            <a:ext cx="914400" cy="57456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ebXML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c804"/>
                </a:solidFill>
                <a:latin typeface="Tahoma"/>
              </a:rPr>
              <a:t>[BPSS]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0" y="4149720"/>
            <a:ext cx="914400" cy="574560"/>
          </a:xfrm>
          <a:prstGeom prst="rect">
            <a:avLst/>
          </a:prstGeom>
          <a:noFill/>
          <a:ln w="9360">
            <a:solidFill>
              <a:srgbClr val="c6180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1806"/>
                </a:solidFill>
                <a:latin typeface="Tahoma"/>
              </a:rPr>
              <a:t>BP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16720" y="4149720"/>
            <a:ext cx="1008000" cy="57456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WS-CD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9706400">
            <a:off x="4571640" y="2636640"/>
            <a:ext cx="480960" cy="1576080"/>
          </a:xfrm>
          <a:custGeom>
            <a:avLst/>
            <a:gdLst>
              <a:gd name="textAreaLeft" fmla="*/ 64440 w 480960"/>
              <a:gd name="textAreaRight" fmla="*/ 416520 w 480960"/>
              <a:gd name="textAreaTop" fmla="*/ 322560 h 1576080"/>
              <a:gd name="textAreaBottom" fmla="*/ 1151280 h 157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40" stAng="-5400000" swAng="5400000"/>
                <a:lnTo>
                  <a:pt x="21600" y="11358"/>
                </a:lnTo>
                <a:arcTo wR="21600" hR="8840" stAng="0" swAng="2950507"/>
                <a:lnTo>
                  <a:pt x="7200" y="21094"/>
                </a:lnTo>
                <a:lnTo>
                  <a:pt x="0" y="18938"/>
                </a:lnTo>
                <a:lnTo>
                  <a:pt x="7200" y="15770"/>
                </a:lnTo>
                <a:lnTo>
                  <a:pt x="7200" y="17173"/>
                </a:lnTo>
                <a:arcTo wR="21600" hR="8840" stAng="2950507" swAng="-2748301"/>
                <a:lnTo>
                  <a:pt x="21380" y="10099"/>
                </a:lnTo>
                <a:arcTo wR="21600" hR="8840" stAng="-202206" swAng="-5197794"/>
                <a:close/>
              </a:path>
              <a:path fill="darkenLess" w="21600" h="21600">
                <a:moveTo>
                  <a:pt x="0" y="0"/>
                </a:moveTo>
                <a:arcTo wR="21600" hR="8840" stAng="-5400000" swAng="5400000"/>
                <a:lnTo>
                  <a:pt x="21600" y="11358"/>
                </a:lnTo>
                <a:arcTo wR="21600" hR="8840" stAng="0" swAng="-202206"/>
                <a:lnTo>
                  <a:pt x="21380" y="10099"/>
                </a:lnTo>
                <a:arcTo wR="21600" hR="8840" stAng="-202206" swAng="-5197794"/>
                <a:close/>
              </a:path>
            </a:pathLst>
          </a:custGeom>
          <a:solidFill>
            <a:srgbClr val="c6180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45216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MG  Model Driven Architecture (MDA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sko nivo – platformski nezavisni mode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hnoloski mode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likav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pecif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č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andar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andard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del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izvode tehnoločki specifične standardne mod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4946760" y="2274840"/>
            <a:ext cx="34495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BPEL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ime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132000" y="271440"/>
            <a:ext cx="5521320" cy="65865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971640" y="1700280"/>
            <a:ext cx="1800000" cy="433440"/>
          </a:xfrm>
          <a:prstGeom prst="wedgeRoundRectCallout">
            <a:avLst>
              <a:gd name="adj1" fmla="val 144708"/>
              <a:gd name="adj2" fmla="val -355495"/>
              <a:gd name="adj3" fmla="val 16667"/>
            </a:avLst>
          </a:prstGeom>
          <a:noFill/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Čuvanje podataka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(na primer poruka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26920" y="2421000"/>
            <a:ext cx="2016360" cy="431640"/>
          </a:xfrm>
          <a:prstGeom prst="wedgeRoundRectCallout">
            <a:avLst>
              <a:gd name="adj1" fmla="val 193148"/>
              <a:gd name="adj2" fmla="val -168384"/>
              <a:gd name="adj3" fmla="val 16667"/>
            </a:avLst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Pokretanje operacij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Web servisa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00000" y="3429000"/>
            <a:ext cx="2016360" cy="431640"/>
          </a:xfrm>
          <a:prstGeom prst="wedgeRoundRectCallout">
            <a:avLst>
              <a:gd name="adj1" fmla="val 198268"/>
              <a:gd name="adj2" fmla="val -361763"/>
              <a:gd name="adj3" fmla="val 16667"/>
            </a:avLst>
          </a:prstGeom>
          <a:noFill/>
          <a:ln w="9360">
            <a:solidFill>
              <a:srgbClr val="c61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Prihvatanje poruke od operacije web servis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71640" y="4149720"/>
            <a:ext cx="2016000" cy="431640"/>
          </a:xfrm>
          <a:prstGeom prst="wedgeRoundRectCallout">
            <a:avLst>
              <a:gd name="adj1" fmla="val 188111"/>
              <a:gd name="adj2" fmla="val -47425"/>
              <a:gd name="adj3" fmla="val 16667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Definiše petlju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(iteraciju aktivnosti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71640" y="4797360"/>
            <a:ext cx="2016000" cy="432000"/>
          </a:xfrm>
          <a:prstGeom prst="wedgeRoundRectCallout">
            <a:avLst>
              <a:gd name="adj1" fmla="val 196537"/>
              <a:gd name="adj2" fmla="val 56615"/>
              <a:gd name="adj3" fmla="val 16667"/>
            </a:avLst>
          </a:prstGeom>
          <a:noFill/>
          <a:ln w="9360">
            <a:solidFill>
              <a:srgbClr val="2e9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Drefiniše sekvencu aktivnost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42920" y="5950080"/>
            <a:ext cx="2016360" cy="647640"/>
          </a:xfrm>
          <a:prstGeom prst="wedgeRoundRectCallout">
            <a:avLst>
              <a:gd name="adj1" fmla="val 179134"/>
              <a:gd name="adj2" fmla="val 37009"/>
              <a:gd name="adj3" fmla="val 16667"/>
            </a:avLst>
          </a:prstGeom>
          <a:noFill/>
          <a:ln w="9360">
            <a:solidFill>
              <a:srgbClr val="8249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Čekanje na pojavljivanje dogadjaj iz datog skupa dogadjaj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UMM -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&gt; BPEL</a:t>
            </a:r>
            <a:br>
              <a:rPr sz="4000"/>
            </a:b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Preslikavanje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kolaboracij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865080" y="1382760"/>
            <a:ext cx="593892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UMM poslovna kolaboracij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ransformisana u BPEL </a:t>
            </a: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(pojednostavljeni prikaz)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UMM -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&gt; BPEL</a:t>
            </a:r>
            <a:br>
              <a:rPr sz="4000"/>
            </a:b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Preslikavanje poslovnih transakcij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395280" y="1306440"/>
            <a:ext cx="84708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UMM poslovna transkacij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ransformisana u BPEL </a:t>
            </a: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(pojednostavljen</a:t>
            </a:r>
            <a:r>
              <a:rPr b="0" lang="sr-Latn-CS" sz="1600" spc="-1" strike="noStrike">
                <a:solidFill>
                  <a:srgbClr val="660066"/>
                </a:solidFill>
                <a:latin typeface="Tahoma"/>
              </a:rPr>
              <a:t>i prikaz</a:t>
            </a: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611280" y="1363680"/>
            <a:ext cx="81374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Transformacija model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3203640" y="2565360"/>
            <a:ext cx="914400" cy="574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Tahoma"/>
              </a:rPr>
              <a:t>UM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2637000"/>
            <a:ext cx="914400" cy="574560"/>
          </a:xfrm>
          <a:prstGeom prst="rect">
            <a:avLst/>
          </a:prstGeom>
          <a:noFill/>
          <a:ln w="9360">
            <a:solidFill>
              <a:srgbClr val="c6180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61806"/>
                </a:solidFill>
                <a:latin typeface="Tahoma"/>
              </a:rPr>
              <a:t>BPM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116000" y="3860640"/>
            <a:ext cx="6912000" cy="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43280" y="1916280"/>
            <a:ext cx="31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40458c"/>
                </a:solidFill>
                <a:latin typeface="Tahoma"/>
              </a:rPr>
              <a:t>Platformski nezavis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62440" y="39337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FS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26080" y="3429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Tahoma"/>
              </a:rPr>
              <a:t>BO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43280" y="508464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58c804"/>
                </a:solidFill>
                <a:latin typeface="Tahoma"/>
              </a:rPr>
              <a:t>Platformski specifič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16360" y="4149720"/>
            <a:ext cx="914400" cy="57456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ebXML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c804"/>
                </a:solidFill>
                <a:latin typeface="Tahoma"/>
              </a:rPr>
              <a:t>[BPSS]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4149720"/>
            <a:ext cx="914400" cy="574560"/>
          </a:xfrm>
          <a:prstGeom prst="rect">
            <a:avLst/>
          </a:prstGeom>
          <a:noFill/>
          <a:ln w="9360">
            <a:solidFill>
              <a:srgbClr val="c6180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1806"/>
                </a:solidFill>
                <a:latin typeface="Tahoma"/>
              </a:rPr>
              <a:t>BP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16720" y="4149720"/>
            <a:ext cx="1008000" cy="57456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WS-CD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948800">
            <a:off x="5795640" y="3213000"/>
            <a:ext cx="480960" cy="1576440"/>
          </a:xfrm>
          <a:custGeom>
            <a:avLst/>
            <a:gdLst>
              <a:gd name="textAreaLeft" fmla="*/ 64440 w 480960"/>
              <a:gd name="textAreaRight" fmla="*/ 416520 w 480960"/>
              <a:gd name="textAreaTop" fmla="*/ 322560 h 1576440"/>
              <a:gd name="textAreaBottom" fmla="*/ 11516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40" stAng="-5400000" swAng="5400000"/>
                <a:lnTo>
                  <a:pt x="21600" y="11358"/>
                </a:lnTo>
                <a:arcTo wR="21600" hR="8840" stAng="0" swAng="2950507"/>
                <a:lnTo>
                  <a:pt x="7200" y="21094"/>
                </a:lnTo>
                <a:lnTo>
                  <a:pt x="0" y="18938"/>
                </a:lnTo>
                <a:lnTo>
                  <a:pt x="7200" y="15770"/>
                </a:lnTo>
                <a:lnTo>
                  <a:pt x="7200" y="17173"/>
                </a:lnTo>
                <a:arcTo wR="21600" hR="8840" stAng="2950507" swAng="-2748301"/>
                <a:lnTo>
                  <a:pt x="21380" y="10099"/>
                </a:lnTo>
                <a:arcTo wR="21600" hR="8840" stAng="-202206" swAng="-5197794"/>
                <a:close/>
              </a:path>
              <a:path fill="darkenLess" w="21600" h="21600">
                <a:moveTo>
                  <a:pt x="0" y="0"/>
                </a:moveTo>
                <a:arcTo wR="21600" hR="8840" stAng="-5400000" swAng="5400000"/>
                <a:lnTo>
                  <a:pt x="21600" y="11358"/>
                </a:lnTo>
                <a:arcTo wR="21600" hR="8840" stAng="0" swAng="-202206"/>
                <a:lnTo>
                  <a:pt x="21380" y="10099"/>
                </a:lnTo>
                <a:arcTo wR="21600" hR="8840" stAng="-202206" swAng="-5197794"/>
                <a:close/>
              </a:path>
            </a:pathLst>
          </a:custGeom>
          <a:solidFill>
            <a:srgbClr val="c6180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eslikavanje BPMN u BPE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8748720" cy="34988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515736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likavanje internih procesa je direktno (preko anotacij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likavanje kolaborativnih procesa nije podrzano u trenutnoj verzij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finisano je I preslikavanje u ebXML BPS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pecifična softverska rešenja BizTalk i WWF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icrosoft BizTalk serv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softverski proizvod koji se fokusira na integraciju poslovnih procesa preko orkestraci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Omogućava dva scenarija integracije:  1) EAI – enterprise application Integratio i 2) B2B – business-to-business integr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ovezuje različite aplikacije koje se izvršavaju na različitim plaformama i implementirane različitim tehnologijam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Adapteri za komunikaciju sa ostalim sistemim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održava BPEL samo kao mehanizam razmene opisa procesa, tj. nije izvrša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Implementacija poslovnog procesa iz 3 koraka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76520" indent="-30492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Definisanje šema poruka (BizTalk Editor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76520" indent="-30492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Mapiranje šema poruka (BizTalk Mapper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76520" indent="-30492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Definisanje poslovne logike (Orchestration Designer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Window Workflow Fond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Implemntacija poslovnih procesa koja zahteva učešče korisnika (objedinjuje system i human workflow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roces se izvršava na klij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izTalk 2006 eng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14204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Window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Workflow Fondation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-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WWF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4920" y="1915920"/>
            <a:ext cx="4968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mponent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Base Activity Library: nazavisne aktivnosti i osnova za izgradnju specifični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Runtime Engine: Izvršavanje i upravljanje stanjem workflow-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Runtime Services: Omogućavaju fleksibilnost i komunikacij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Visual Designer: grafička konstrukcija proces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829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2049480"/>
            <a:ext cx="2971800" cy="2606760"/>
          </a:xfrm>
          <a:prstGeom prst="rect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Modeli i preslikavanja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876312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cif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 Provisio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X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301920" y="22305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46520" y="3726000"/>
            <a:ext cx="2012760" cy="609480"/>
          </a:xfrm>
          <a:prstGeom prst="leftRightArrow">
            <a:avLst>
              <a:gd name="adj1" fmla="val 58333"/>
              <a:gd name="adj2" fmla="val 6821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preslikavanj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40280" y="552132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64240" y="534672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16280" y="610380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0" y="625320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66040" y="3449520"/>
            <a:ext cx="30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latformski specifi</a:t>
            </a: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čn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mode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>
            <a:hlinkClick r:id="rId5" action="ppaction://hlinksldjump"/>
          </p:cNvPr>
          <p:cNvSpPr/>
          <p:nvPr/>
        </p:nvSpPr>
        <p:spPr>
          <a:xfrm>
            <a:off x="1093680" y="2125800"/>
            <a:ext cx="175284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Platform</a:t>
            </a:r>
            <a:r>
              <a:rPr b="0" lang="sr-Latn-CS" sz="1200" spc="-1" strike="noStrike">
                <a:solidFill>
                  <a:srgbClr val="40458c"/>
                </a:solidFill>
                <a:latin typeface="Arial"/>
              </a:rPr>
              <a:t>sk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0458c"/>
                </a:solidFill>
                <a:latin typeface="Arial"/>
              </a:rPr>
              <a:t>Nezavista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72880" y="4960800"/>
            <a:ext cx="2133360" cy="1523880"/>
            <a:chOff x="272880" y="4960800"/>
            <a:chExt cx="2133360" cy="1523880"/>
          </a:xfrm>
        </p:grpSpPr>
        <p:sp>
          <p:nvSpPr>
            <p:cNvPr id="227" name=""/>
            <p:cNvSpPr/>
            <p:nvPr/>
          </p:nvSpPr>
          <p:spPr>
            <a:xfrm>
              <a:off x="272880" y="4960800"/>
              <a:ext cx="1828800" cy="1218960"/>
            </a:xfrm>
            <a:prstGeom prst="can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5160" y="5113080"/>
              <a:ext cx="1828800" cy="1219320"/>
            </a:xfrm>
            <a:prstGeom prst="can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7440" y="5265360"/>
              <a:ext cx="1828800" cy="1219320"/>
            </a:xfrm>
            <a:prstGeom prst="can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40458c"/>
                  </a:solidFill>
                  <a:latin typeface="Arial"/>
                </a:rPr>
                <a:t>Rečnik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40458c"/>
                  </a:solidFill>
                  <a:latin typeface="Arial"/>
                </a:rPr>
                <a:t>verzija model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806400" y="4656240"/>
            <a:ext cx="6858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170000" y="2354400"/>
            <a:ext cx="649080" cy="314280"/>
            <a:chOff x="1170000" y="2354400"/>
            <a:chExt cx="649080" cy="314280"/>
          </a:xfrm>
        </p:grpSpPr>
        <p:grpSp>
          <p:nvGrpSpPr>
            <p:cNvPr id="232" name=""/>
            <p:cNvGrpSpPr/>
            <p:nvPr/>
          </p:nvGrpSpPr>
          <p:grpSpPr>
            <a:xfrm>
              <a:off x="1170000" y="2354400"/>
              <a:ext cx="247320" cy="314280"/>
              <a:chOff x="1170000" y="2354400"/>
              <a:chExt cx="247320" cy="314280"/>
            </a:xfrm>
          </p:grpSpPr>
          <p:sp>
            <p:nvSpPr>
              <p:cNvPr id="233" name=""/>
              <p:cNvSpPr/>
              <p:nvPr/>
            </p:nvSpPr>
            <p:spPr>
              <a:xfrm>
                <a:off x="1345320" y="2607120"/>
                <a:ext cx="22680" cy="54360"/>
              </a:xfrm>
              <a:prstGeom prst="ellipse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48920" y="2615040"/>
                <a:ext cx="15840" cy="385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57200" y="2553840"/>
                <a:ext cx="3960" cy="5292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flipV="1">
                <a:off x="1353600" y="2584440"/>
                <a:ext cx="3240" cy="223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295640" y="2354400"/>
                <a:ext cx="2160" cy="3142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18240" y="2397240"/>
                <a:ext cx="16920" cy="385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26520" y="2435760"/>
                <a:ext cx="4320" cy="388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1222200" y="2452320"/>
                <a:ext cx="3960" cy="223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90160" y="2476800"/>
                <a:ext cx="95040" cy="64800"/>
              </a:xfrm>
              <a:custGeom>
                <a:avLst/>
                <a:gdLst/>
                <a:ahLst/>
                <a:rect l="l" t="t" r="r" b="b"/>
                <a:pathLst>
                  <a:path w="636" h="170">
                    <a:moveTo>
                      <a:pt x="74" y="0"/>
                    </a:moveTo>
                    <a:lnTo>
                      <a:pt x="40" y="16"/>
                    </a:lnTo>
                    <a:lnTo>
                      <a:pt x="23" y="37"/>
                    </a:lnTo>
                    <a:lnTo>
                      <a:pt x="6" y="64"/>
                    </a:lnTo>
                    <a:lnTo>
                      <a:pt x="0" y="85"/>
                    </a:lnTo>
                    <a:lnTo>
                      <a:pt x="6" y="112"/>
                    </a:lnTo>
                    <a:lnTo>
                      <a:pt x="23" y="133"/>
                    </a:lnTo>
                    <a:lnTo>
                      <a:pt x="40" y="154"/>
                    </a:lnTo>
                    <a:lnTo>
                      <a:pt x="74" y="170"/>
                    </a:lnTo>
                    <a:lnTo>
                      <a:pt x="562" y="170"/>
                    </a:lnTo>
                    <a:lnTo>
                      <a:pt x="590" y="154"/>
                    </a:lnTo>
                    <a:lnTo>
                      <a:pt x="613" y="133"/>
                    </a:lnTo>
                    <a:lnTo>
                      <a:pt x="630" y="112"/>
                    </a:lnTo>
                    <a:lnTo>
                      <a:pt x="636" y="85"/>
                    </a:lnTo>
                    <a:lnTo>
                      <a:pt x="630" y="64"/>
                    </a:lnTo>
                    <a:lnTo>
                      <a:pt x="613" y="37"/>
                    </a:lnTo>
                    <a:lnTo>
                      <a:pt x="590" y="16"/>
                    </a:lnTo>
                    <a:lnTo>
                      <a:pt x="56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26520" y="2435760"/>
                <a:ext cx="4320" cy="388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1222200" y="2452320"/>
                <a:ext cx="3960" cy="223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83400" y="2511000"/>
                <a:ext cx="39600" cy="1008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1314000" y="2503080"/>
                <a:ext cx="9360" cy="79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26520" y="2435760"/>
                <a:ext cx="4320" cy="388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flipV="1">
                <a:off x="1222200" y="2452320"/>
                <a:ext cx="3960" cy="223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22640" y="2486880"/>
                <a:ext cx="94680" cy="64800"/>
              </a:xfrm>
              <a:custGeom>
                <a:avLst/>
                <a:gdLst/>
                <a:ahLst/>
                <a:rect l="l" t="t" r="r" b="b"/>
                <a:pathLst>
                  <a:path w="635" h="170">
                    <a:moveTo>
                      <a:pt x="74" y="0"/>
                    </a:moveTo>
                    <a:lnTo>
                      <a:pt x="46" y="21"/>
                    </a:lnTo>
                    <a:lnTo>
                      <a:pt x="23" y="37"/>
                    </a:lnTo>
                    <a:lnTo>
                      <a:pt x="6" y="63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3" y="133"/>
                    </a:lnTo>
                    <a:lnTo>
                      <a:pt x="46" y="149"/>
                    </a:lnTo>
                    <a:lnTo>
                      <a:pt x="74" y="170"/>
                    </a:lnTo>
                    <a:lnTo>
                      <a:pt x="562" y="170"/>
                    </a:lnTo>
                    <a:lnTo>
                      <a:pt x="590" y="149"/>
                    </a:lnTo>
                    <a:lnTo>
                      <a:pt x="613" y="133"/>
                    </a:lnTo>
                    <a:lnTo>
                      <a:pt x="630" y="106"/>
                    </a:lnTo>
                    <a:lnTo>
                      <a:pt x="635" y="85"/>
                    </a:lnTo>
                    <a:lnTo>
                      <a:pt x="630" y="63"/>
                    </a:lnTo>
                    <a:lnTo>
                      <a:pt x="613" y="37"/>
                    </a:lnTo>
                    <a:lnTo>
                      <a:pt x="590" y="21"/>
                    </a:lnTo>
                    <a:lnTo>
                      <a:pt x="56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83400" y="2511000"/>
                <a:ext cx="39600" cy="1008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1314000" y="2503080"/>
                <a:ext cx="9360" cy="79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57200" y="2553840"/>
                <a:ext cx="3960" cy="5292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353600" y="2584440"/>
                <a:ext cx="3240" cy="223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57200" y="2553840"/>
                <a:ext cx="3960" cy="5292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1353600" y="2584440"/>
                <a:ext cx="3240" cy="223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83400" y="2511000"/>
                <a:ext cx="39600" cy="1008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1314000" y="2503080"/>
                <a:ext cx="9360" cy="79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170000" y="2354400"/>
                <a:ext cx="12816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455480" y="2361600"/>
              <a:ext cx="363600" cy="306720"/>
              <a:chOff x="1455480" y="2361600"/>
              <a:chExt cx="363600" cy="306720"/>
            </a:xfrm>
          </p:grpSpPr>
          <p:sp>
            <p:nvSpPr>
              <p:cNvPr id="259" name=""/>
              <p:cNvSpPr/>
              <p:nvPr/>
            </p:nvSpPr>
            <p:spPr>
              <a:xfrm>
                <a:off x="1469160" y="2567880"/>
                <a:ext cx="137880" cy="1004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69160" y="2620440"/>
                <a:ext cx="137880" cy="4752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469160" y="2640960"/>
                <a:ext cx="137880" cy="2736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675800" y="2595600"/>
                <a:ext cx="29520" cy="4536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07400" y="2618280"/>
                <a:ext cx="66240" cy="3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55480" y="2361600"/>
                <a:ext cx="148320" cy="1004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455480" y="2413800"/>
                <a:ext cx="148320" cy="4788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455480" y="2434320"/>
                <a:ext cx="148320" cy="2736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1530720" y="2462040"/>
                <a:ext cx="5040" cy="1029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519920" y="2462040"/>
                <a:ext cx="24120" cy="50400"/>
              </a:xfrm>
              <a:custGeom>
                <a:avLst/>
                <a:gdLst/>
                <a:ahLst/>
                <a:rect l="l" t="t" r="r" b="b"/>
                <a:pathLst>
                  <a:path w="79" h="107">
                    <a:moveTo>
                      <a:pt x="34" y="0"/>
                    </a:moveTo>
                    <a:lnTo>
                      <a:pt x="79" y="101"/>
                    </a:lnTo>
                    <a:lnTo>
                      <a:pt x="0" y="10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68600" y="2361600"/>
                <a:ext cx="150480" cy="1004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68600" y="2413800"/>
                <a:ext cx="150480" cy="4788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668600" y="2434320"/>
                <a:ext cx="150480" cy="2736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35480" y="241164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0" y="0"/>
                    </a:moveTo>
                    <a:lnTo>
                      <a:pt x="19" y="0"/>
                    </a:lnTo>
                    <a:lnTo>
                      <a:pt x="8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1649160" y="2399400"/>
                <a:ext cx="19080" cy="122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1603440" y="2411640"/>
                <a:ext cx="31320" cy="3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4782960" y="3672000"/>
            <a:ext cx="941400" cy="693720"/>
            <a:chOff x="4782960" y="3672000"/>
            <a:chExt cx="941400" cy="693720"/>
          </a:xfrm>
        </p:grpSpPr>
        <p:sp>
          <p:nvSpPr>
            <p:cNvPr id="276" name=""/>
            <p:cNvSpPr/>
            <p:nvPr/>
          </p:nvSpPr>
          <p:spPr>
            <a:xfrm>
              <a:off x="5009400" y="3813480"/>
              <a:ext cx="485280" cy="4251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82960" y="4224240"/>
              <a:ext cx="278640" cy="141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14160" y="3672000"/>
              <a:ext cx="278640" cy="1414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45720" y="4224240"/>
              <a:ext cx="278640" cy="1414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827600" y="1790640"/>
            <a:ext cx="1991160" cy="1171080"/>
            <a:chOff x="4827600" y="1790640"/>
            <a:chExt cx="1991160" cy="1171080"/>
          </a:xfrm>
        </p:grpSpPr>
        <p:grpSp>
          <p:nvGrpSpPr>
            <p:cNvPr id="281" name=""/>
            <p:cNvGrpSpPr/>
            <p:nvPr/>
          </p:nvGrpSpPr>
          <p:grpSpPr>
            <a:xfrm>
              <a:off x="4827600" y="1790640"/>
              <a:ext cx="758880" cy="1171080"/>
              <a:chOff x="4827600" y="1790640"/>
              <a:chExt cx="758880" cy="1171080"/>
            </a:xfrm>
          </p:grpSpPr>
          <p:sp>
            <p:nvSpPr>
              <p:cNvPr id="282" name=""/>
              <p:cNvSpPr/>
              <p:nvPr/>
            </p:nvSpPr>
            <p:spPr>
              <a:xfrm>
                <a:off x="5365800" y="2732040"/>
                <a:ext cx="69840" cy="203400"/>
              </a:xfrm>
              <a:prstGeom prst="ellipse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376240" y="2761920"/>
                <a:ext cx="49320" cy="1440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02520" y="2534040"/>
                <a:ext cx="12600" cy="19800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391720" y="2647800"/>
                <a:ext cx="10440" cy="83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5213160" y="1790640"/>
                <a:ext cx="7200" cy="11710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5560" y="1950120"/>
                <a:ext cx="52200" cy="1436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01480" y="2093760"/>
                <a:ext cx="12960" cy="145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4988520" y="2154960"/>
                <a:ext cx="12600" cy="83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89880" y="2246400"/>
                <a:ext cx="291600" cy="242280"/>
              </a:xfrm>
              <a:custGeom>
                <a:avLst/>
                <a:gdLst/>
                <a:ahLst/>
                <a:rect l="l" t="t" r="r" b="b"/>
                <a:pathLst>
                  <a:path w="636" h="170">
                    <a:moveTo>
                      <a:pt x="74" y="0"/>
                    </a:moveTo>
                    <a:lnTo>
                      <a:pt x="40" y="16"/>
                    </a:lnTo>
                    <a:lnTo>
                      <a:pt x="23" y="37"/>
                    </a:lnTo>
                    <a:lnTo>
                      <a:pt x="6" y="64"/>
                    </a:lnTo>
                    <a:lnTo>
                      <a:pt x="0" y="85"/>
                    </a:lnTo>
                    <a:lnTo>
                      <a:pt x="6" y="112"/>
                    </a:lnTo>
                    <a:lnTo>
                      <a:pt x="23" y="133"/>
                    </a:lnTo>
                    <a:lnTo>
                      <a:pt x="40" y="154"/>
                    </a:lnTo>
                    <a:lnTo>
                      <a:pt x="74" y="170"/>
                    </a:lnTo>
                    <a:lnTo>
                      <a:pt x="562" y="170"/>
                    </a:lnTo>
                    <a:lnTo>
                      <a:pt x="590" y="154"/>
                    </a:lnTo>
                    <a:lnTo>
                      <a:pt x="613" y="133"/>
                    </a:lnTo>
                    <a:lnTo>
                      <a:pt x="630" y="112"/>
                    </a:lnTo>
                    <a:lnTo>
                      <a:pt x="636" y="85"/>
                    </a:lnTo>
                    <a:lnTo>
                      <a:pt x="630" y="64"/>
                    </a:lnTo>
                    <a:lnTo>
                      <a:pt x="613" y="37"/>
                    </a:lnTo>
                    <a:lnTo>
                      <a:pt x="590" y="16"/>
                    </a:lnTo>
                    <a:lnTo>
                      <a:pt x="56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001480" y="2093760"/>
                <a:ext cx="12960" cy="145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4988520" y="2154960"/>
                <a:ext cx="12600" cy="83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76080" y="2374560"/>
                <a:ext cx="122400" cy="3816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5269680" y="2344320"/>
                <a:ext cx="28800" cy="29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001480" y="2093760"/>
                <a:ext cx="12960" cy="145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>
                <a:off x="4988520" y="2154960"/>
                <a:ext cx="12600" cy="83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95600" y="2284920"/>
                <a:ext cx="290880" cy="242280"/>
              </a:xfrm>
              <a:custGeom>
                <a:avLst/>
                <a:gdLst/>
                <a:ahLst/>
                <a:rect l="l" t="t" r="r" b="b"/>
                <a:pathLst>
                  <a:path w="635" h="170">
                    <a:moveTo>
                      <a:pt x="74" y="0"/>
                    </a:moveTo>
                    <a:lnTo>
                      <a:pt x="46" y="21"/>
                    </a:lnTo>
                    <a:lnTo>
                      <a:pt x="23" y="37"/>
                    </a:lnTo>
                    <a:lnTo>
                      <a:pt x="6" y="63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3" y="133"/>
                    </a:lnTo>
                    <a:lnTo>
                      <a:pt x="46" y="149"/>
                    </a:lnTo>
                    <a:lnTo>
                      <a:pt x="74" y="170"/>
                    </a:lnTo>
                    <a:lnTo>
                      <a:pt x="562" y="170"/>
                    </a:lnTo>
                    <a:lnTo>
                      <a:pt x="590" y="149"/>
                    </a:lnTo>
                    <a:lnTo>
                      <a:pt x="613" y="133"/>
                    </a:lnTo>
                    <a:lnTo>
                      <a:pt x="630" y="106"/>
                    </a:lnTo>
                    <a:lnTo>
                      <a:pt x="635" y="85"/>
                    </a:lnTo>
                    <a:lnTo>
                      <a:pt x="630" y="63"/>
                    </a:lnTo>
                    <a:lnTo>
                      <a:pt x="613" y="37"/>
                    </a:lnTo>
                    <a:lnTo>
                      <a:pt x="590" y="21"/>
                    </a:lnTo>
                    <a:lnTo>
                      <a:pt x="56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176080" y="2374560"/>
                <a:ext cx="122400" cy="3816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5269680" y="2344320"/>
                <a:ext cx="28800" cy="29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2520" y="2534040"/>
                <a:ext cx="12600" cy="19800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5391720" y="2647800"/>
                <a:ext cx="10440" cy="83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02520" y="2534040"/>
                <a:ext cx="12600" cy="19800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5391720" y="2647800"/>
                <a:ext cx="10440" cy="83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176080" y="2374560"/>
                <a:ext cx="122400" cy="3816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5269680" y="2344320"/>
                <a:ext cx="28800" cy="298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27600" y="1790640"/>
                <a:ext cx="39276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5703480" y="1818360"/>
              <a:ext cx="1115280" cy="1142640"/>
              <a:chOff x="5703480" y="1818360"/>
              <a:chExt cx="1115280" cy="1142640"/>
            </a:xfrm>
          </p:grpSpPr>
          <p:sp>
            <p:nvSpPr>
              <p:cNvPr id="308" name=""/>
              <p:cNvSpPr/>
              <p:nvPr/>
            </p:nvSpPr>
            <p:spPr>
              <a:xfrm>
                <a:off x="5745600" y="2586960"/>
                <a:ext cx="423720" cy="374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45600" y="2783160"/>
                <a:ext cx="423720" cy="1778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45600" y="2858760"/>
                <a:ext cx="423720" cy="1022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79560" y="2689560"/>
                <a:ext cx="90360" cy="16920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69680" y="2774160"/>
                <a:ext cx="204120" cy="14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03480" y="1818360"/>
                <a:ext cx="455400" cy="374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03480" y="2013840"/>
                <a:ext cx="455400" cy="17820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703480" y="2089800"/>
                <a:ext cx="455400" cy="1022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5933880" y="2192040"/>
                <a:ext cx="15840" cy="3841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901840" y="2192400"/>
                <a:ext cx="74520" cy="188280"/>
              </a:xfrm>
              <a:custGeom>
                <a:avLst/>
                <a:gdLst/>
                <a:ahLst/>
                <a:rect l="l" t="t" r="r" b="b"/>
                <a:pathLst>
                  <a:path w="79" h="107">
                    <a:moveTo>
                      <a:pt x="34" y="0"/>
                    </a:moveTo>
                    <a:lnTo>
                      <a:pt x="79" y="101"/>
                    </a:lnTo>
                    <a:lnTo>
                      <a:pt x="0" y="10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57600" y="1818360"/>
                <a:ext cx="461160" cy="374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57600" y="2013840"/>
                <a:ext cx="461160" cy="17820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57600" y="2089800"/>
                <a:ext cx="461160" cy="1022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55360" y="2004840"/>
                <a:ext cx="101880" cy="4752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0" y="0"/>
                    </a:moveTo>
                    <a:lnTo>
                      <a:pt x="19" y="0"/>
                    </a:lnTo>
                    <a:lnTo>
                      <a:pt x="8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6298920" y="1958760"/>
                <a:ext cx="58320" cy="457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6158880" y="2004840"/>
                <a:ext cx="96480" cy="180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2846520" y="1820880"/>
            <a:ext cx="1904760" cy="1371600"/>
          </a:xfrm>
          <a:prstGeom prst="leftArrow">
            <a:avLst>
              <a:gd name="adj1" fmla="val 50000"/>
              <a:gd name="adj2" fmla="val 34718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Poslovn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d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515960" y="2938320"/>
          <a:ext cx="919440" cy="655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15960" y="2938320"/>
                    <a:ext cx="91944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5821560" y="4267080"/>
            <a:ext cx="1920600" cy="210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BP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WS-CD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ebXM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Specifičn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osettaNe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OA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ilj M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z pomoć UML modela viskog nivoa, definisanih precizno preko profil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a specifičnim preslikavanjima u tehnološko okružen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Da bi se kreirali delovi izvršnog siste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tomat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ki razvoj preko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M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344520" y="1692360"/>
            <a:ext cx="3779640" cy="384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f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a prime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DO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UM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4559400" y="4897440"/>
            <a:ext cx="1736640" cy="1689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mework &amp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rastru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k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na prim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XML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6200" y="3718080"/>
            <a:ext cx="1857240" cy="1579320"/>
          </a:xfrm>
          <a:prstGeom prst="rightArrowCallout">
            <a:avLst>
              <a:gd name="adj1" fmla="val 25002"/>
              <a:gd name="adj2" fmla="val 25000"/>
              <a:gd name="adj3" fmla="val 19600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rastr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r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eslikavan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na prim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XML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62280" y="5283360"/>
            <a:ext cx="2697120" cy="9032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30320" y="5594040"/>
            <a:ext cx="228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Preslikavanje se definiše na nivou infrastruktu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46280" y="3778200"/>
            <a:ext cx="1927440" cy="1540080"/>
          </a:xfrm>
          <a:prstGeom prst="rightArrowCallout">
            <a:avLst>
              <a:gd name="adj1" fmla="val 25002"/>
              <a:gd name="adj2" fmla="val 25000"/>
              <a:gd name="adj3" fmla="val 20859"/>
              <a:gd name="adj4" fmla="val 6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Alat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za kreiranje 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ciju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4619520" y="3533760"/>
            <a:ext cx="1594080" cy="168912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lov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komponen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86040" y="3002040"/>
            <a:ext cx="833400" cy="75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60640" y="1925640"/>
            <a:ext cx="1869840" cy="1359000"/>
          </a:xfrm>
          <a:prstGeom prst="flowChartDocumen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dizaj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238880" y="2895480"/>
            <a:ext cx="1371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anual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ding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1" name=""/>
          <p:cNvSpPr/>
          <p:nvPr/>
        </p:nvSpPr>
        <p:spPr>
          <a:xfrm>
            <a:off x="6877080" y="24210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b2b2b2">
              <a:alpha val="50000"/>
            </a:srgbClr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ezavisnost tehnolog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905120" y="2133720"/>
            <a:ext cx="3733560" cy="1447560"/>
            <a:chOff x="1905120" y="2133720"/>
            <a:chExt cx="3733560" cy="1447560"/>
          </a:xfrm>
        </p:grpSpPr>
        <p:sp>
          <p:nvSpPr>
            <p:cNvPr id="344" name=""/>
            <p:cNvSpPr/>
            <p:nvPr/>
          </p:nvSpPr>
          <p:spPr>
            <a:xfrm>
              <a:off x="2514600" y="2133720"/>
              <a:ext cx="3124080" cy="144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usines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Logic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05120" y="2666880"/>
              <a:ext cx="990360" cy="381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ebXm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057400" y="2286000"/>
            <a:ext cx="3733560" cy="1447560"/>
            <a:chOff x="2057400" y="2286000"/>
            <a:chExt cx="3733560" cy="1447560"/>
          </a:xfrm>
        </p:grpSpPr>
        <p:sp>
          <p:nvSpPr>
            <p:cNvPr id="347" name=""/>
            <p:cNvSpPr/>
            <p:nvPr/>
          </p:nvSpPr>
          <p:spPr>
            <a:xfrm>
              <a:off x="2666880" y="2286000"/>
              <a:ext cx="3124080" cy="144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usines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Logic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7400" y="2819160"/>
              <a:ext cx="990360" cy="381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izTal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209680" y="2438280"/>
            <a:ext cx="3733920" cy="1447920"/>
            <a:chOff x="2209680" y="2438280"/>
            <a:chExt cx="3733920" cy="1447920"/>
          </a:xfrm>
        </p:grpSpPr>
        <p:sp>
          <p:nvSpPr>
            <p:cNvPr id="350" name=""/>
            <p:cNvSpPr/>
            <p:nvPr/>
          </p:nvSpPr>
          <p:spPr>
            <a:xfrm>
              <a:off x="2819520" y="2438280"/>
              <a:ext cx="3124080" cy="1447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usines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Logic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09680" y="2971800"/>
              <a:ext cx="1295640" cy="3808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RosetaNe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362320" y="2590920"/>
            <a:ext cx="3733560" cy="1447560"/>
            <a:chOff x="2362320" y="2590920"/>
            <a:chExt cx="3733560" cy="1447560"/>
          </a:xfrm>
        </p:grpSpPr>
        <p:sp>
          <p:nvSpPr>
            <p:cNvPr id="353" name=""/>
            <p:cNvSpPr/>
            <p:nvPr/>
          </p:nvSpPr>
          <p:spPr>
            <a:xfrm>
              <a:off x="2971800" y="2590920"/>
              <a:ext cx="3124080" cy="144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40458c"/>
                  </a:solidFill>
                  <a:latin typeface="Times New Roman"/>
                </a:rPr>
                <a:t>Logičk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40458c"/>
                  </a:solidFill>
                  <a:latin typeface="Times New Roman"/>
                </a:rPr>
                <a:t>poslovn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40458c"/>
                  </a:solidFill>
                  <a:latin typeface="Times New Roman"/>
                </a:rPr>
                <a:t>komponen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62320" y="3124080"/>
              <a:ext cx="990360" cy="381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Ejb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0" y="4114800"/>
            <a:ext cx="9144000" cy="2590920"/>
            <a:chOff x="0" y="4114800"/>
            <a:chExt cx="9144000" cy="2590920"/>
          </a:xfrm>
        </p:grpSpPr>
        <p:sp>
          <p:nvSpPr>
            <p:cNvPr id="356" name=""/>
            <p:cNvSpPr/>
            <p:nvPr/>
          </p:nvSpPr>
          <p:spPr>
            <a:xfrm>
              <a:off x="0" y="4114800"/>
              <a:ext cx="2286000" cy="25909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dapter</a:t>
              </a:r>
              <a:r>
                <a:rPr b="0" lang="sr-Latn-CS" sz="2400" spc="-1" strike="noStrike">
                  <a:solidFill>
                    <a:srgbClr val="40458c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7200" y="6172200"/>
              <a:ext cx="129528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EJB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76720" y="4876920"/>
              <a:ext cx="2590560" cy="144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Tahoma"/>
                </a:rPr>
                <a:t>Logičk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Tahoma"/>
                </a:rPr>
                <a:t>poslovn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Tahoma"/>
                </a:rPr>
                <a:t>komponent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200" y="4572000"/>
              <a:ext cx="132732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ebXm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7200" y="5105520"/>
              <a:ext cx="132732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BizTal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200" y="5638680"/>
              <a:ext cx="132732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Rosetane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52480" y="4724280"/>
              <a:ext cx="99072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2480" y="5257800"/>
              <a:ext cx="106704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752480" y="5562360"/>
              <a:ext cx="99072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52480" y="5562720"/>
              <a:ext cx="1067040" cy="7617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5410080"/>
              <a:ext cx="914400" cy="381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58000" y="4114800"/>
              <a:ext cx="2286000" cy="25909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Adapter</a:t>
              </a:r>
              <a:r>
                <a:rPr b="0" lang="sr-Latn-CS" sz="2400" spc="-1" strike="noStrike">
                  <a:solidFill>
                    <a:srgbClr val="40458c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6172200"/>
              <a:ext cx="129528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CIC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15200" y="4572000"/>
              <a:ext cx="132732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EJB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15200" y="5105520"/>
              <a:ext cx="1327320" cy="3808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Q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15200" y="5638680"/>
              <a:ext cx="132732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Corb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66880" y="5410080"/>
              <a:ext cx="914400" cy="381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477120" y="4723920"/>
              <a:ext cx="83808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477120" y="5333760"/>
              <a:ext cx="83808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77120" y="5562720"/>
              <a:ext cx="83808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77120" y="5562720"/>
              <a:ext cx="838080" cy="7617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0" y="1665360"/>
          <a:ext cx="91908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5360"/>
                    <a:ext cx="9190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d modela do izvršnog ko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0" y="1170000"/>
            <a:ext cx="1331640" cy="861120"/>
            <a:chOff x="0" y="1170000"/>
            <a:chExt cx="1331640" cy="861120"/>
          </a:xfrm>
        </p:grpSpPr>
        <p:grpSp>
          <p:nvGrpSpPr>
            <p:cNvPr id="381" name=""/>
            <p:cNvGrpSpPr/>
            <p:nvPr/>
          </p:nvGrpSpPr>
          <p:grpSpPr>
            <a:xfrm>
              <a:off x="0" y="1170000"/>
              <a:ext cx="507240" cy="861120"/>
              <a:chOff x="0" y="1170000"/>
              <a:chExt cx="507240" cy="861120"/>
            </a:xfrm>
          </p:grpSpPr>
          <p:sp>
            <p:nvSpPr>
              <p:cNvPr id="382" name=""/>
              <p:cNvSpPr/>
              <p:nvPr/>
            </p:nvSpPr>
            <p:spPr>
              <a:xfrm>
                <a:off x="360000" y="1862280"/>
                <a:ext cx="46800" cy="149400"/>
              </a:xfrm>
              <a:prstGeom prst="ellipse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66840" y="1884240"/>
                <a:ext cx="32760" cy="1058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4480" y="1716840"/>
                <a:ext cx="8280" cy="1454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flipV="1">
                <a:off x="376920" y="1800360"/>
                <a:ext cx="6840" cy="61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57400" y="1170000"/>
                <a:ext cx="4680" cy="8611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9000" y="1287360"/>
                <a:ext cx="34920" cy="1054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16280" y="1392840"/>
                <a:ext cx="8640" cy="106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flipV="1">
                <a:off x="107280" y="1437840"/>
                <a:ext cx="8280" cy="61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400" y="1505160"/>
                <a:ext cx="194760" cy="177840"/>
              </a:xfrm>
              <a:custGeom>
                <a:avLst/>
                <a:gdLst/>
                <a:ahLst/>
                <a:rect l="l" t="t" r="r" b="b"/>
                <a:pathLst>
                  <a:path w="636" h="170">
                    <a:moveTo>
                      <a:pt x="74" y="0"/>
                    </a:moveTo>
                    <a:lnTo>
                      <a:pt x="40" y="16"/>
                    </a:lnTo>
                    <a:lnTo>
                      <a:pt x="23" y="37"/>
                    </a:lnTo>
                    <a:lnTo>
                      <a:pt x="6" y="64"/>
                    </a:lnTo>
                    <a:lnTo>
                      <a:pt x="0" y="85"/>
                    </a:lnTo>
                    <a:lnTo>
                      <a:pt x="6" y="112"/>
                    </a:lnTo>
                    <a:lnTo>
                      <a:pt x="23" y="133"/>
                    </a:lnTo>
                    <a:lnTo>
                      <a:pt x="40" y="154"/>
                    </a:lnTo>
                    <a:lnTo>
                      <a:pt x="74" y="170"/>
                    </a:lnTo>
                    <a:lnTo>
                      <a:pt x="562" y="170"/>
                    </a:lnTo>
                    <a:lnTo>
                      <a:pt x="590" y="154"/>
                    </a:lnTo>
                    <a:lnTo>
                      <a:pt x="613" y="133"/>
                    </a:lnTo>
                    <a:lnTo>
                      <a:pt x="630" y="112"/>
                    </a:lnTo>
                    <a:lnTo>
                      <a:pt x="636" y="85"/>
                    </a:lnTo>
                    <a:lnTo>
                      <a:pt x="630" y="64"/>
                    </a:lnTo>
                    <a:lnTo>
                      <a:pt x="613" y="37"/>
                    </a:lnTo>
                    <a:lnTo>
                      <a:pt x="590" y="16"/>
                    </a:lnTo>
                    <a:lnTo>
                      <a:pt x="56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6280" y="1392840"/>
                <a:ext cx="8640" cy="106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107280" y="1437840"/>
                <a:ext cx="8280" cy="61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32920" y="1599480"/>
                <a:ext cx="81720" cy="2808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 flipV="1">
                <a:off x="295200" y="1576800"/>
                <a:ext cx="19080" cy="219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6280" y="1392840"/>
                <a:ext cx="8640" cy="106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0" y="19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flipV="1">
                <a:off x="107280" y="1437840"/>
                <a:ext cx="8280" cy="61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2840" y="1533240"/>
                <a:ext cx="194400" cy="177840"/>
              </a:xfrm>
              <a:custGeom>
                <a:avLst/>
                <a:gdLst/>
                <a:ahLst/>
                <a:rect l="l" t="t" r="r" b="b"/>
                <a:pathLst>
                  <a:path w="635" h="170">
                    <a:moveTo>
                      <a:pt x="74" y="0"/>
                    </a:moveTo>
                    <a:lnTo>
                      <a:pt x="46" y="21"/>
                    </a:lnTo>
                    <a:lnTo>
                      <a:pt x="23" y="37"/>
                    </a:lnTo>
                    <a:lnTo>
                      <a:pt x="6" y="63"/>
                    </a:lnTo>
                    <a:lnTo>
                      <a:pt x="0" y="85"/>
                    </a:lnTo>
                    <a:lnTo>
                      <a:pt x="6" y="106"/>
                    </a:lnTo>
                    <a:lnTo>
                      <a:pt x="23" y="133"/>
                    </a:lnTo>
                    <a:lnTo>
                      <a:pt x="46" y="149"/>
                    </a:lnTo>
                    <a:lnTo>
                      <a:pt x="74" y="170"/>
                    </a:lnTo>
                    <a:lnTo>
                      <a:pt x="562" y="170"/>
                    </a:lnTo>
                    <a:lnTo>
                      <a:pt x="590" y="149"/>
                    </a:lnTo>
                    <a:lnTo>
                      <a:pt x="613" y="133"/>
                    </a:lnTo>
                    <a:lnTo>
                      <a:pt x="630" y="106"/>
                    </a:lnTo>
                    <a:lnTo>
                      <a:pt x="635" y="85"/>
                    </a:lnTo>
                    <a:lnTo>
                      <a:pt x="630" y="63"/>
                    </a:lnTo>
                    <a:lnTo>
                      <a:pt x="613" y="37"/>
                    </a:lnTo>
                    <a:lnTo>
                      <a:pt x="590" y="21"/>
                    </a:lnTo>
                    <a:lnTo>
                      <a:pt x="56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2920" y="1599480"/>
                <a:ext cx="81720" cy="2808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295200" y="1576800"/>
                <a:ext cx="19080" cy="219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84480" y="1716840"/>
                <a:ext cx="8280" cy="1454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376920" y="1800360"/>
                <a:ext cx="6840" cy="61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4480" y="1716840"/>
                <a:ext cx="8280" cy="1454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0" y="0"/>
                    </a:moveTo>
                    <a:lnTo>
                      <a:pt x="0" y="26"/>
                    </a:lnTo>
                    <a:lnTo>
                      <a:pt x="5" y="1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376920" y="1800360"/>
                <a:ext cx="6840" cy="61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32920" y="1599480"/>
                <a:ext cx="81720" cy="2808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0"/>
                    </a:moveTo>
                    <a:lnTo>
                      <a:pt x="47" y="0"/>
                    </a:lnTo>
                    <a:lnTo>
                      <a:pt x="36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295200" y="1576800"/>
                <a:ext cx="19080" cy="219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1170000"/>
                <a:ext cx="262800" cy="117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85720" y="1190520"/>
              <a:ext cx="745920" cy="840240"/>
              <a:chOff x="585720" y="1190520"/>
              <a:chExt cx="745920" cy="840240"/>
            </a:xfrm>
          </p:grpSpPr>
          <p:sp>
            <p:nvSpPr>
              <p:cNvPr id="408" name=""/>
              <p:cNvSpPr/>
              <p:nvPr/>
            </p:nvSpPr>
            <p:spPr>
              <a:xfrm>
                <a:off x="613800" y="1755720"/>
                <a:ext cx="28332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3800" y="1900080"/>
                <a:ext cx="283320" cy="13068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3800" y="1955520"/>
                <a:ext cx="283320" cy="752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037520" y="1831320"/>
                <a:ext cx="60480" cy="12420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7480" y="1893600"/>
                <a:ext cx="136440" cy="10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5720" y="1190520"/>
                <a:ext cx="3045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5720" y="1334160"/>
                <a:ext cx="304560" cy="1310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5720" y="1389960"/>
                <a:ext cx="304560" cy="752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flipV="1">
                <a:off x="739440" y="1465200"/>
                <a:ext cx="10440" cy="28260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8200" y="1465560"/>
                <a:ext cx="49680" cy="138240"/>
              </a:xfrm>
              <a:custGeom>
                <a:avLst/>
                <a:gdLst/>
                <a:ahLst/>
                <a:rect l="l" t="t" r="r" b="b"/>
                <a:pathLst>
                  <a:path w="79" h="107">
                    <a:moveTo>
                      <a:pt x="34" y="0"/>
                    </a:moveTo>
                    <a:lnTo>
                      <a:pt x="79" y="101"/>
                    </a:lnTo>
                    <a:lnTo>
                      <a:pt x="0" y="10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23120" y="1190520"/>
                <a:ext cx="30852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023120" y="1334160"/>
                <a:ext cx="308520" cy="1310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23120" y="1389960"/>
                <a:ext cx="308520" cy="752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954720" y="1327680"/>
                <a:ext cx="68040" cy="3492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0" y="0"/>
                    </a:moveTo>
                    <a:lnTo>
                      <a:pt x="19" y="0"/>
                    </a:lnTo>
                    <a:lnTo>
                      <a:pt x="8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983880" y="1293480"/>
                <a:ext cx="38880" cy="334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889920" y="1327680"/>
                <a:ext cx="64440" cy="14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" name=""/>
          <p:cNvSpPr/>
          <p:nvPr/>
        </p:nvSpPr>
        <p:spPr>
          <a:xfrm>
            <a:off x="468360" y="2060640"/>
            <a:ext cx="1297080" cy="457200"/>
          </a:xfrm>
          <a:prstGeom prst="rightArrow">
            <a:avLst>
              <a:gd name="adj1" fmla="val 85204"/>
              <a:gd name="adj2" fmla="val 95749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reslikav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1828800"/>
            <a:ext cx="990720" cy="9144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Izvorn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ko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2316600">
            <a:off x="-380880" y="4267080"/>
            <a:ext cx="6324480" cy="685800"/>
          </a:xfrm>
          <a:prstGeom prst="rightArrow">
            <a:avLst>
              <a:gd name="adj1" fmla="val 50000"/>
              <a:gd name="adj2" fmla="val 230551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utomat</a:t>
            </a: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strki razvoj platformski specifičnih proces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71800" y="2743200"/>
            <a:ext cx="990720" cy="9144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objeka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3581280"/>
            <a:ext cx="1295280" cy="9144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odu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57800" y="4648320"/>
            <a:ext cx="1752480" cy="9144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aplikacij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81680" y="5715000"/>
            <a:ext cx="1905120" cy="9144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Izvršn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siste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2971800"/>
            <a:ext cx="1447920" cy="457200"/>
          </a:xfrm>
          <a:prstGeom prst="rightArrow">
            <a:avLst>
              <a:gd name="adj1" fmla="val 85204"/>
              <a:gd name="adj2" fmla="val 106884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komajlir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90920" y="3809880"/>
            <a:ext cx="1447560" cy="457200"/>
          </a:xfrm>
          <a:prstGeom prst="rightArrow">
            <a:avLst>
              <a:gd name="adj1" fmla="val 85204"/>
              <a:gd name="adj2" fmla="val 106857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akov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4876920"/>
            <a:ext cx="1447920" cy="457200"/>
          </a:xfrm>
          <a:prstGeom prst="rightArrow">
            <a:avLst>
              <a:gd name="adj1" fmla="val 85204"/>
              <a:gd name="adj2" fmla="val 106884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spaj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4120" y="5943600"/>
            <a:ext cx="1447560" cy="457200"/>
          </a:xfrm>
          <a:prstGeom prst="rightArrow">
            <a:avLst>
              <a:gd name="adj1" fmla="val 85204"/>
              <a:gd name="adj2" fmla="val 106857"/>
            </a:avLst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ostavlj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3581280"/>
            <a:ext cx="18288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Dobavljač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Specifičnne činjeni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35" idx="2"/>
            <a:endCxn id="430" idx="0"/>
          </p:cNvCxnSpPr>
          <p:nvPr/>
        </p:nvCxnSpPr>
        <p:spPr>
          <a:xfrm flipH="1">
            <a:off x="7733880" y="4267080"/>
            <a:ext cx="267120" cy="1448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435" idx="2"/>
            <a:endCxn id="429" idx="0"/>
          </p:cNvCxnSpPr>
          <p:nvPr/>
        </p:nvCxnSpPr>
        <p:spPr>
          <a:xfrm flipH="1">
            <a:off x="6133680" y="4266720"/>
            <a:ext cx="1867680" cy="3819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3505320" y="1676520"/>
            <a:ext cx="1447560" cy="60948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izme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8" idx="1"/>
            <a:endCxn id="425" idx="3"/>
          </p:cNvCxnSpPr>
          <p:nvPr/>
        </p:nvCxnSpPr>
        <p:spPr>
          <a:xfrm flipH="1">
            <a:off x="2742480" y="1980720"/>
            <a:ext cx="762840" cy="305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152280" y="4800600"/>
            <a:ext cx="1981440" cy="91440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Parametri z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Upravljanj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proceso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600200" y="4267080"/>
            <a:ext cx="457200" cy="5335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143000" y="3733560"/>
            <a:ext cx="228600" cy="1066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85800" y="3123720"/>
            <a:ext cx="0" cy="16765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33720" y="5029200"/>
            <a:ext cx="9144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5410080"/>
            <a:ext cx="160020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3680" y="5638680"/>
            <a:ext cx="267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onfigur</a:t>
            </a: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aciona map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Izbor ala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Lociranje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resurs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3760" y="1905120"/>
            <a:ext cx="243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Platforski specifičn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kora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poda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ednosti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azdvaja domenske specifičnosti od plaformskih detal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amnjuje složen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Zadržava semantiku domenskog mode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ovećava stabilnost i životni v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Generiše izabrano plaforsko okružen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manjuje vreme razvo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Brz iterativan razvo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azdvojenost poslovnih i inžinjerskih zahte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većava kvalit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Zasnovan na industrijskim standardi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657840" y="5931000"/>
            <a:ext cx="2486160" cy="807480"/>
            <a:chOff x="6657840" y="5931000"/>
            <a:chExt cx="2486160" cy="807480"/>
          </a:xfrm>
        </p:grpSpPr>
        <p:sp>
          <p:nvSpPr>
            <p:cNvPr id="451" name=""/>
            <p:cNvSpPr/>
            <p:nvPr/>
          </p:nvSpPr>
          <p:spPr>
            <a:xfrm>
              <a:off x="8569080" y="5931000"/>
              <a:ext cx="574920" cy="806400"/>
            </a:xfrm>
            <a:custGeom>
              <a:avLst/>
              <a:gdLst/>
              <a:ahLst/>
              <a:rect l="l" t="t" r="r" b="b"/>
              <a:pathLst>
                <a:path w="724" h="1018">
                  <a:moveTo>
                    <a:pt x="0" y="277"/>
                  </a:moveTo>
                  <a:lnTo>
                    <a:pt x="430" y="1018"/>
                  </a:lnTo>
                  <a:lnTo>
                    <a:pt x="724" y="638"/>
                  </a:lnTo>
                  <a:lnTo>
                    <a:pt x="208" y="0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bf5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2640" y="5931000"/>
              <a:ext cx="1741680" cy="217440"/>
            </a:xfrm>
            <a:custGeom>
              <a:avLst/>
              <a:gdLst/>
              <a:ahLst/>
              <a:rect l="l" t="t" r="r" b="b"/>
              <a:pathLst>
                <a:path w="2193" h="276">
                  <a:moveTo>
                    <a:pt x="0" y="276"/>
                  </a:moveTo>
                  <a:lnTo>
                    <a:pt x="1985" y="276"/>
                  </a:lnTo>
                  <a:lnTo>
                    <a:pt x="2193" y="0"/>
                  </a:lnTo>
                  <a:lnTo>
                    <a:pt x="55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5f009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57840" y="6148440"/>
              <a:ext cx="2251080" cy="590040"/>
            </a:xfrm>
            <a:custGeom>
              <a:avLst/>
              <a:gdLst/>
              <a:ahLst/>
              <a:rect l="l" t="t" r="r" b="b"/>
              <a:pathLst>
                <a:path w="2837" h="743">
                  <a:moveTo>
                    <a:pt x="0" y="743"/>
                  </a:moveTo>
                  <a:lnTo>
                    <a:pt x="2837" y="743"/>
                  </a:lnTo>
                  <a:lnTo>
                    <a:pt x="2407" y="0"/>
                  </a:lnTo>
                  <a:lnTo>
                    <a:pt x="422" y="0"/>
                  </a:lnTo>
                  <a:lnTo>
                    <a:pt x="0" y="743"/>
                  </a:lnTo>
                  <a:close/>
                </a:path>
              </a:pathLst>
            </a:custGeom>
            <a:solidFill>
              <a:srgbClr val="9f3fd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7050240" y="5343480"/>
            <a:ext cx="1621800" cy="706320"/>
            <a:chOff x="7050240" y="5343480"/>
            <a:chExt cx="1621800" cy="706320"/>
          </a:xfrm>
        </p:grpSpPr>
        <p:sp>
          <p:nvSpPr>
            <p:cNvPr id="455" name=""/>
            <p:cNvSpPr/>
            <p:nvPr/>
          </p:nvSpPr>
          <p:spPr>
            <a:xfrm>
              <a:off x="8177040" y="5344920"/>
              <a:ext cx="495000" cy="704880"/>
            </a:xfrm>
            <a:custGeom>
              <a:avLst/>
              <a:gdLst/>
              <a:ahLst/>
              <a:rect l="l" t="t" r="r" b="b"/>
              <a:pathLst>
                <a:path w="623" h="889">
                  <a:moveTo>
                    <a:pt x="426" y="889"/>
                  </a:moveTo>
                  <a:lnTo>
                    <a:pt x="623" y="634"/>
                  </a:lnTo>
                  <a:lnTo>
                    <a:pt x="108" y="0"/>
                  </a:lnTo>
                  <a:lnTo>
                    <a:pt x="0" y="134"/>
                  </a:lnTo>
                  <a:lnTo>
                    <a:pt x="426" y="889"/>
                  </a:lnTo>
                  <a:close/>
                </a:path>
              </a:pathLst>
            </a:custGeom>
            <a:solidFill>
              <a:srgbClr val="ff9f7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92960" y="5343480"/>
              <a:ext cx="867960" cy="106200"/>
            </a:xfrm>
            <a:custGeom>
              <a:avLst/>
              <a:gdLst/>
              <a:ahLst/>
              <a:rect l="l" t="t" r="r" b="b"/>
              <a:pathLst>
                <a:path w="1094" h="134">
                  <a:moveTo>
                    <a:pt x="0" y="134"/>
                  </a:moveTo>
                  <a:lnTo>
                    <a:pt x="986" y="134"/>
                  </a:lnTo>
                  <a:lnTo>
                    <a:pt x="1094" y="0"/>
                  </a:lnTo>
                  <a:lnTo>
                    <a:pt x="341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bf3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50240" y="5449680"/>
              <a:ext cx="1464840" cy="600120"/>
            </a:xfrm>
            <a:custGeom>
              <a:avLst/>
              <a:gdLst/>
              <a:ahLst/>
              <a:rect l="l" t="t" r="r" b="b"/>
              <a:pathLst>
                <a:path w="1845" h="757">
                  <a:moveTo>
                    <a:pt x="0" y="757"/>
                  </a:moveTo>
                  <a:lnTo>
                    <a:pt x="1845" y="757"/>
                  </a:lnTo>
                  <a:lnTo>
                    <a:pt x="1417" y="0"/>
                  </a:lnTo>
                  <a:lnTo>
                    <a:pt x="429" y="0"/>
                  </a:lnTo>
                  <a:lnTo>
                    <a:pt x="0" y="757"/>
                  </a:lnTo>
                  <a:close/>
                </a:path>
              </a:pathLst>
            </a:custGeom>
            <a:solidFill>
              <a:srgbClr val="ff5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7442280" y="4759200"/>
            <a:ext cx="756720" cy="598320"/>
            <a:chOff x="7442280" y="4759200"/>
            <a:chExt cx="756720" cy="598320"/>
          </a:xfrm>
        </p:grpSpPr>
        <p:sp>
          <p:nvSpPr>
            <p:cNvPr id="459" name=""/>
            <p:cNvSpPr/>
            <p:nvPr/>
          </p:nvSpPr>
          <p:spPr>
            <a:xfrm>
              <a:off x="7781760" y="4759200"/>
              <a:ext cx="417240" cy="598320"/>
            </a:xfrm>
            <a:custGeom>
              <a:avLst/>
              <a:gdLst/>
              <a:ahLst/>
              <a:rect l="l" t="t" r="r" b="b"/>
              <a:pathLst>
                <a:path w="526" h="753">
                  <a:moveTo>
                    <a:pt x="427" y="753"/>
                  </a:moveTo>
                  <a:lnTo>
                    <a:pt x="526" y="636"/>
                  </a:lnTo>
                  <a:lnTo>
                    <a:pt x="0" y="0"/>
                  </a:lnTo>
                  <a:lnTo>
                    <a:pt x="427" y="753"/>
                  </a:lnTo>
                  <a:close/>
                </a:path>
              </a:pathLst>
            </a:custGeom>
            <a:solidFill>
              <a:srgbClr val="ffbf1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42280" y="4759200"/>
              <a:ext cx="679320" cy="598320"/>
            </a:xfrm>
            <a:custGeom>
              <a:avLst/>
              <a:gdLst/>
              <a:ahLst/>
              <a:rect l="l" t="t" r="r" b="b"/>
              <a:pathLst>
                <a:path w="855" h="753">
                  <a:moveTo>
                    <a:pt x="0" y="753"/>
                  </a:moveTo>
                  <a:lnTo>
                    <a:pt x="855" y="753"/>
                  </a:lnTo>
                  <a:lnTo>
                    <a:pt x="428" y="0"/>
                  </a:lnTo>
                  <a:lnTo>
                    <a:pt x="0" y="753"/>
                  </a:lnTo>
                  <a:close/>
                </a:path>
              </a:pathLst>
            </a:custGeom>
            <a:solidFill>
              <a:srgbClr val="ff9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7137720" y="5430960"/>
            <a:ext cx="13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Specifikac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me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43720" y="62686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D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70640" y="510912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9900"/>
                </a:solidFill>
                <a:latin typeface="Arial"/>
              </a:rPr>
              <a:t>Korisnic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MPP metodologije i tehnologij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5508720" y="2567160"/>
            <a:ext cx="914400" cy="574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BPM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2565360"/>
            <a:ext cx="914400" cy="574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1806"/>
                </a:solidFill>
                <a:latin typeface="Tahoma"/>
              </a:rPr>
              <a:t>UM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16000" y="3860640"/>
            <a:ext cx="6912000" cy="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43280" y="1916280"/>
            <a:ext cx="31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40458c"/>
                </a:solidFill>
                <a:latin typeface="Tahoma"/>
              </a:rPr>
              <a:t>Platformski nezavis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62440" y="39337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FS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26080" y="3429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Tahoma"/>
              </a:rPr>
              <a:t>BOV spe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43280" y="508464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58c804"/>
                </a:solidFill>
                <a:latin typeface="Tahoma"/>
              </a:rPr>
              <a:t>Platformski specifični model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788000" y="4221000"/>
            <a:ext cx="914400" cy="57492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BP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65600" y="4222800"/>
            <a:ext cx="914400" cy="57456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58c804"/>
                </a:solidFill>
                <a:latin typeface="Tahoma"/>
              </a:rPr>
              <a:t>ebXML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[BPSS]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43640" y="4221000"/>
            <a:ext cx="1008000" cy="574920"/>
          </a:xfrm>
          <a:prstGeom prst="rect">
            <a:avLst/>
          </a:prstGeom>
          <a:noFill/>
          <a:ln w="9360">
            <a:solidFill>
              <a:srgbClr val="58c8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c804"/>
                </a:solidFill>
                <a:latin typeface="Tahoma"/>
              </a:rPr>
              <a:t>WS-CD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Nenad Anicic</dc:creator>
  <dc:description/>
  <dc:language>en-US</dc:language>
  <cp:lastModifiedBy>Kostandin Dimitrijevic</cp:lastModifiedBy>
  <dcterms:modified xsi:type="dcterms:W3CDTF">2007-06-18T11:01:55Z</dcterms:modified>
  <cp:revision>438</cp:revision>
  <dc:subject/>
  <dc:title>Modelovanje poslovnih procesa</dc:title>
</cp:coreProperties>
</file>