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658-2620-44C1-BC51-6894263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684-F4E8-4763-B3C2-54F65F3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F66-F2DD-4646-935C-705642CA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8EE-FA41-4530-B742-DAC1F3D1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194B-6A7D-415C-A503-749C00ED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6719-B285-4CB3-ADFC-A1FB3B99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DDF-A18C-44F7-9725-DB7A3529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798-A101-4713-B8D2-601F474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BDA-ECC4-44A1-B195-DD1C9BF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920-3A16-4331-80F2-6E20ED6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A21-3889-4B9B-9509-F8CB1A5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33A-96EB-45F1-8E02-4AA17E9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1584-3BFF-4F1E-A4FD-F734938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7847-413D-4975-8E97-9C1A131B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85C-98B3-4843-A605-DFF4BC6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ED60-5E49-4E5C-8F1E-DC4E3AD3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70F-D0BB-4CD9-8322-03D9192C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691-D36A-4645-B935-4773DFA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E79-09F0-4EB2-B0AB-6C1027A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22F-FB52-4DDF-99B6-8CC1F3A6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2CA-9BEE-4386-B930-3ACCA67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FB2-F95D-47DA-8B6E-5885CE8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2E9-4C3B-4542-8E36-CF6DD7D3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BB8-B4A1-4F57-9847-456DEEC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D74-9CC6-453A-9B56-CCE6407DABCE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34D-4162-484A-BCF4-78080AE4C369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orkflow Patter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5790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Beograd, 2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Laboratorija za informacione sisteme, 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ultiple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34920" y="182880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82880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A92-876E-4A01-91D8-51806BC36C21}" type="slidenum">
              <a:t>10</a:t>
            </a:fld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iscriminato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34920" y="190512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90512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265-67DA-47B2-97CC-EDC81C985CF0}" type="slidenum">
              <a:t>11</a:t>
            </a:fld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 out of M joi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000160"/>
          <a:ext cx="7859880" cy="28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0160"/>
                    <a:ext cx="78598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B87-066F-4448-96E3-A7ACD2770A37}" type="slidenum">
              <a:t>12</a:t>
            </a:fld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ynchronizing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4920" y="1905120"/>
          <a:ext cx="7274160" cy="25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1905120"/>
                    <a:ext cx="72741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487-D45D-47C4-8D9B-9E7A58E67578}" type="slidenum">
              <a:t>13</a:t>
            </a:fld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rbitrary cycl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17520" y="1676520"/>
          <a:ext cx="8507520" cy="30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7520" y="1676520"/>
                    <a:ext cx="850752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C32-9209-49DE-A9F6-9B2C6E532747}" type="slidenum">
              <a:t>14</a:t>
            </a:fld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mplicit termin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981080"/>
          <a:ext cx="7081560" cy="19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81080"/>
                    <a:ext cx="70815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46C-D6BA-4A6D-B14F-E6DBB68F3CB2}" type="slidenum">
              <a:t>15</a:t>
            </a:fld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with a priori design time knowled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92240" y="2114640"/>
          <a:ext cx="470700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2114640"/>
                    <a:ext cx="47070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97C-02CD-463E-9470-3F6864820F97}" type="slidenum">
              <a:t>16</a:t>
            </a:fld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 with a priori runtime knowled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89040" y="2036880"/>
          <a:ext cx="5859360" cy="22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2036880"/>
                    <a:ext cx="585936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037-01D7-45E2-B4CE-0AFEF2690106}" type="slidenum">
              <a:t>17</a:t>
            </a:fld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with no a priori knowled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1440" y="990720"/>
          <a:ext cx="8059680" cy="38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990720"/>
                    <a:ext cx="80596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E6C-2652-427E-A702-C57A7E3F614C}" type="slidenum">
              <a:t>18</a:t>
            </a:fld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 requiring synchron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 involving multiple in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89040" y="1952640"/>
          <a:ext cx="5865840" cy="24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1952640"/>
                    <a:ext cx="586584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FE8-48FB-437B-B5E5-BDD516802352}" type="slidenum">
              <a:t>19</a:t>
            </a:fld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d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ržaj izlag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Uvodna razmatranja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tructural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atterns involving multiple instanc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tate-based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ancellation pattern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Zaključak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689-7281-434F-BD7C-CC6A7E3CDA9A}" type="slidenum">
              <a:t>2</a:t>
            </a:fld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erred cho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66680" y="1752480"/>
          <a:ext cx="647064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752480"/>
                    <a:ext cx="647064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3CC-CBF5-4FC1-9704-7D4FFC188AAD}" type="slidenum">
              <a:t>20</a:t>
            </a:fld>
          </a:p>
        </p:txBody>
      </p:sp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leaved parallel rou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2057400"/>
          <a:ext cx="9144000" cy="20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91440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8E8-0C55-417F-9267-01CBEAAADA3F}" type="slidenum">
              <a:t>21</a:t>
            </a:fld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lest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-base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2360" y="1905120"/>
          <a:ext cx="8637480" cy="22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905120"/>
                    <a:ext cx="86374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C70-5D23-491E-986E-1F75C1236C41}" type="slidenum">
              <a:t>22</a:t>
            </a:fld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ncel activ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cell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568520"/>
          <a:ext cx="6939000" cy="37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68520"/>
                    <a:ext cx="693900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629-E094-4A54-A406-1F0F1AAC4DC3}" type="slidenum">
              <a:t>23</a:t>
            </a:fld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ncel ca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cell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1066680"/>
          <a:ext cx="7172280" cy="381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17228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465-2F77-4871-AF72-014A5B5A43DF}" type="slidenum">
              <a:t>24</a:t>
            </a:fld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Uvodna razmat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Van der Aalst i istraživačke grupe u Holandiji i Australiji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ephen A. White, IBM Corp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F11-68B1-4B6A-A0D2-D34D2D03ACD5}" type="slidenum">
              <a:t>3</a:t>
            </a:fld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5480" y="2571840"/>
          <a:ext cx="74930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2571840"/>
                    <a:ext cx="74930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B82-53DE-44B1-B3EB-15D88FD08B7A}" type="slidenum">
              <a:t>4</a:t>
            </a:fld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rallel spli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24080" y="1752480"/>
          <a:ext cx="4695840" cy="25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4080" y="1752480"/>
                    <a:ext cx="4695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A48-C57C-45EC-8051-D25D8C869293}" type="slidenum">
              <a:t>5</a:t>
            </a:fld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316240" y="1828800"/>
          <a:ext cx="451008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6240" y="1828800"/>
                    <a:ext cx="45100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24E-E42B-44C2-A36E-195360058CE4}" type="slidenum">
              <a:t>6</a:t>
            </a:fld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xclusive choi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92240" y="1838160"/>
          <a:ext cx="470700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1838160"/>
                    <a:ext cx="4707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4A8-E9BF-4ED1-B84A-C27E9134D090}" type="slidenum">
              <a:t>7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mple mer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ic contro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20680" y="2462040"/>
          <a:ext cx="6902640" cy="19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462040"/>
                    <a:ext cx="6902640" cy="19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20E-01C6-480E-ABC9-5FFAC9A2CAA6}" type="slidenum">
              <a:t>8</a:t>
            </a:fld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ultiple choi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00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ced branching and synchronizatio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304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WP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92240" y="1838160"/>
          <a:ext cx="4707000" cy="25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2240" y="1838160"/>
                    <a:ext cx="4707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5FF-FA19-481C-8FCA-5AFB4833E62F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0:55:13Z</dcterms:created>
  <dc:creator>Slađan Babarogić</dc:creator>
  <dc:description/>
  <cp:keywords>Workflow patterns</cp:keywords>
  <dc:language>en-US</dc:language>
  <cp:lastModifiedBy>sladjan</cp:lastModifiedBy>
  <dcterms:modified xsi:type="dcterms:W3CDTF">2007-03-21T12:38:13Z</dcterms:modified>
  <cp:revision>122</cp:revision>
  <dc:subject/>
  <dc:title>Workflow patterns</dc:title>
</cp:coreProperties>
</file>