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BB8-D322-48AF-9E01-8ED44FF3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A57-18EE-4840-9D90-0CC3CF8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F7D-14D1-470E-97B1-4834DE9C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2B7-DE43-4D54-AC04-8C1A3959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42DD-64F1-42BB-BB02-D1A21B30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A75E-6466-4AB7-A825-111582EA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AA7B-A980-4DAD-AF1B-D1C8121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28F6-C4A2-4145-9EDE-4560EA2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F956-A801-4578-B7DF-41A748C1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FD2A-7161-427F-BDCB-BAFA66E1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B743-5C54-479C-AD11-1292D83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AF4-37CC-4A37-AD61-4E5459B3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1179-A248-4058-967B-938384E6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36B1-FB27-400C-9306-A681B33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382F-CB26-4BCE-BDE3-9C9C631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A42A-9C53-4C63-A15D-A6AAB2D5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EE56-41A0-49A6-A4BE-672164CA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641-44BA-46FC-924D-A5A12349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634-8347-46E3-B954-6186E99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5D4-45AE-4E87-9DBD-3513AFF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06D-DE86-4FF8-9BE3-B49C536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AA1-6F2A-4465-9DA5-335AA99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DFD-2C52-47D7-B188-D4B9641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708-CA02-49A5-98D4-FF84DE4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71A7-8108-4B97-8088-F2AD3C158A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BD6F-D58D-4E38-B6CE-A4B7FD0F79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3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ovanje poslovnih procesa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- Uvod -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i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ša Neškovi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6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kultet organizacionih nau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atedra za informacione siste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načaj modelov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deli poslovnih procesa omogućavaju da se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lovni proces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formalno (jasno, precizno i nedvosmisleno) definiš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Jasno identifikovani poslovi preduzeć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ormalno zapisano znanje o načinu obavljanja poslova u preduzeć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ormalno definisani modeli poslovnih procesa imaju brojne pred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Značaj modelov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 transfer znan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buka radnika za obavljanje po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ransfer z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nanja između pojedinih organizacionih entite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tandardi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zacija obavljanja poslo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a analiza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tkrivanje nekonzistentnosti i redudans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ređenje različitih altern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e poboljašanje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jednostavljivanje i ušteda, povećavanje efikasnosti poslovanj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ovećanje kvaliteta proizvoda i uslug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ća automatizacij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Formalni modeli se kasnije mogu prevesti u izvršne na računa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va faza razvoja informacionog siste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Однос према осталим менаџмент дисциплинам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1198440"/>
            <a:ext cx="82090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venport, Thomas (1993), Process Innovation: Reengineering work through information technology, Harvard Business School Press, Bost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mmer, Michael and Champy, James (1993), Reengineering the Corporation: A Manifesto for Business Revolution, Harper Busines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ohansson, Henry J. et.al. (1993), Business Process Reengineering: BreakPoint Strategies for Market Dominance, John Wiley &amp; Son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ummler &amp; Brache (1995), Improving Performance: How to manage the white space on the organizational chart, Jossey-Bass, San Francisc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Sadrža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Organizacioni sistem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jam poslovnih procesa (P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Pojam modelovanja P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40458c"/>
                </a:solidFill>
                <a:latin typeface="Tahoma"/>
              </a:rPr>
              <a:t>Značaj modelovanja P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Organizacioni sistem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Celokupno poslovanje nekog organizacionog sistema (npr. preduzeća) se obavlja kroz poslov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 je skup povezanih aktivnosti kojima se ostvaruju neki ciljevi ili zahtevi korisni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Ciljevi organizacionog sistema se ostvaruju kroz poslov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prof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prod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manjenje troškova proizvodn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kvaliteta proizvoda/uslu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većanje učešća na tržiš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Zahtevi (potrebe) korisnika se ostvaruju kroz poslovne proce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Korisnici predstavljaju okru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ženje sist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slovni partneri:  kupci, dobavljači, banke, 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Državne institucije (npr. poreska upra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lasnici (akcionar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ukovodio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 je skup povezanih aktivnosti koje stvaraju neku vrednost preko transformacije nekih ulaza u neki vrednije izlaz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lazi i izlazi mogu biti proizvodi i/ili  informa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Aktivnosti (tj. transformacije ulaza u izlaze) se obavljaju od strane ljudi i maši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toje različite vrste poslovnih proce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novna delatnos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roizvodnja, prodaja, nabavka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rocesi podršk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Održavanje mašina, Obuka radnika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pravljački proce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Planiranje, Odlučivanje, Kontrola,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ojam poslovnih proce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oslovni procesi (PP) su nastali kao rezultat projektovanja organiza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rganizaciona struk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stematizacija radnih mes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Reinženjering P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oboljšanje i pojednostavljenje postojećih PP kako bi poslovanje bilo efikasni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pravljanje promena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Uvođenje poboljšanih P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Upravljanje sistemom kvalite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stvaruje se preko poslovnih proc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Modelovanj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i su uprošćena predstava realnog sve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aketa aviona, plan zgrade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Šema baze podata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i se iskazuju u nekom jeziku (jezik modelovan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ekstualna notacija (modeli u tekstualnom oblik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Grafička notacija (modeli u vidu dijagra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eformalni i formalni mode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ko su sintaksa i semantika jezika formalno definisani, onda su modeli iskazani na tom jeziku formal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odelovanje </a:t>
            </a: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poslovnih proce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ovanje PP je aktivnost u kojoj se predstavljaju (specificiraju) poslovni procesi nekog preduzeć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ogu se odnositi na postojeće ili buduće (poboljšane) poslovne proce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Modeli tipično definiš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 su korisnici (spoljni akter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Šta su ulazi i izlaz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ačin odvajanja poslova (tok izvršavanj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o ih obavlja (unutrašnji akter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9:25:03Z</dcterms:created>
  <dc:creator>Sinisa Neskovic</dc:creator>
  <dc:description/>
  <dc:language>en-US</dc:language>
  <cp:lastModifiedBy>sinisa</cp:lastModifiedBy>
  <dcterms:modified xsi:type="dcterms:W3CDTF">2007-06-05T12:40:21Z</dcterms:modified>
  <cp:revision>90</cp:revision>
  <dc:subject/>
  <dc:title>Strukture podataka</dc:title>
</cp:coreProperties>
</file>