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49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33.png" ContentType="image/png"/>
  <Override PartName="/ppt/media/image3.png" ContentType="image/png"/>
  <Override PartName="/ppt/media/image6.wmf" ContentType="image/x-wmf"/>
  <Override PartName="/ppt/media/image18.wmf" ContentType="image/x-wmf"/>
  <Override PartName="/ppt/media/image17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60.png" ContentType="image/png"/>
  <Override PartName="/ppt/media/image62.png" ContentType="image/png"/>
  <Override PartName="/ppt/media/image26.wmf" ContentType="image/x-wmf"/>
  <Override PartName="/ppt/media/image1.png" ContentType="image/png"/>
  <Override PartName="/ppt/media/image31.png" ContentType="image/png"/>
  <Override PartName="/ppt/media/image61.png" ContentType="image/png"/>
  <Override PartName="/ppt/media/image65.png" ContentType="image/png"/>
  <Override PartName="/ppt/media/image22.wmf" ContentType="image/x-wmf"/>
  <Override PartName="/ppt/media/image25.wmf" ContentType="image/x-wmf"/>
  <Override PartName="/ppt/media/image21.wmf" ContentType="image/x-wmf"/>
  <Override PartName="/ppt/media/image64.png" ContentType="image/png"/>
  <Override PartName="/ppt/media/image15.wmf" ContentType="image/x-wmf"/>
  <Override PartName="/ppt/media/image58.png" ContentType="image/png"/>
  <Override PartName="/ppt/media/image28.wmf" ContentType="image/x-wmf"/>
  <Override PartName="/ppt/media/image27.wmf" ContentType="image/x-wmf"/>
  <Override PartName="/ppt/media/image23.wmf" ContentType="image/x-wmf"/>
  <Override PartName="/ppt/media/image66.png" ContentType="image/png"/>
  <Override PartName="/ppt/media/image57.png" ContentType="image/png"/>
  <Override PartName="/ppt/media/image14.wmf" ContentType="image/x-wmf"/>
  <Override PartName="/ppt/media/image29.png" ContentType="image/png"/>
  <Override PartName="/ppt/media/image54.png" ContentType="image/png"/>
  <Override PartName="/ppt/media/image11.wmf" ContentType="image/x-wmf"/>
  <Override PartName="/ppt/media/image50.png" ContentType="image/png"/>
  <Override PartName="/ppt/media/image19.wmf" ContentType="image/x-wmf"/>
  <Override PartName="/ppt/media/image7.wmf" ContentType="image/x-wmf"/>
  <Override PartName="/ppt/media/image4.png" ContentType="image/png"/>
  <Override PartName="/ppt/media/image3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40.png" ContentType="image/png"/>
  <Override PartName="/ppt/media/image5.png" ContentType="image/png"/>
  <Override PartName="/ppt/media/image3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9.wmf" ContentType="image/x-wmf"/>
  <Override PartName="/ppt/media/image41.png" ContentType="image/png"/>
  <Override PartName="/ppt/media/image2.png" ContentType="image/png"/>
  <Override PartName="/ppt/media/image32.png" ContentType="image/png"/>
  <Override PartName="/ppt/media/image53.png" ContentType="image/png"/>
  <Override PartName="/ppt/media/image10.wmf" ContentType="image/x-wmf"/>
  <Override PartName="/ppt/media/image30.wmf" ContentType="image/x-wmf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56.xml.rels" ContentType="application/vnd.openxmlformats-package.relationships+xml"/>
  <Override PartName="/ppt/slides/_rels/slide132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50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138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E3F-BE1E-473E-8E89-AA3B87A1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A43-701E-4936-901D-C5A8D461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536-FC10-42D5-9A91-8DC5E347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581-FABD-4FAD-B2C9-9B940BE3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55CF-FF72-4BAE-A785-9889A581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0895-48EA-4404-8D53-162FF18D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119A-2718-437D-BADA-43257ED5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0CF0-FAA3-4578-A4AA-A2E7DAC6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5728-4F26-4681-88E8-6D8250E0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C38D-C1F0-4395-BF66-06EE4279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3EFA-1880-493E-A4ED-AB64BE96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E9D-3FF5-4260-A16B-83BFD00F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85D4-7EDF-4305-9835-D085C776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0025-3689-4165-AADB-D1BC74DB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E812-EE00-4524-ADD7-04D751E5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0D9D-8E5D-4B2A-9FC2-CCDC9490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DD64-F333-4C5C-A213-0D0996E7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16E-E6D7-4E6D-801F-5D1F5AAD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D57-0A6F-41F7-9F95-8CDAF941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6D21-4C4E-4953-857C-BB6F4998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8CD-1BF3-4947-BAEF-A4CAB015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DE0-399D-4F15-B467-F1ABED82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9F8-DFF5-422C-BD63-1D25BA9D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6FD-1809-409E-8BCC-7D51C750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1585-C839-48CE-BB79-51C797AE2A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C432-7AC1-4800-9E5D-C42F246277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0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55164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Upoznajte se </a:t>
            </a:r>
            <a:br>
              <a:rPr sz="5400"/>
            </a:b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sa MS ACCESS</a:t>
            </a:r>
            <a:r>
              <a:rPr b="0" lang="en-US" sz="5400" spc="-1" strike="noStrike">
                <a:solidFill>
                  <a:srgbClr val="330066"/>
                </a:solidFill>
                <a:latin typeface="Arial"/>
              </a:rPr>
              <a:t>-om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Uz Access 2000 isporučuje se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Microsoft Database Engi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poznat i kao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SQL Server 7.0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varijanta za jednokorisnički ra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e j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omogu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klijent/server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aplikaci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koje se mogu prebaciti na jači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SQL Server 7.0 Enterprise Edition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Access koristi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Jet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mašinu baze podataka pomoć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j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moguće praviti aplikacije za nekoliko radnih stanica i sa n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više 10mb podatak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7DD-DCB8-4E71-8B6D-D48EC2415B31}" type="slidenum">
              <a:t>10</a:t>
            </a:fld>
          </a:p>
        </p:txBody>
      </p:sp>
    </p:spTree>
  </p:cSld>
  <p:transition>
    <p:fad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Kreiranje upita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71640" y="2997000"/>
            <a:ext cx="62481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ry By Example (QB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QBE (Query By Example)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a bi se kreirao upit potrebno je uraditi sledeć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prozoru baze podataka treba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pritisnuti dugme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Queries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a toolbar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iknuti na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dugme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eirati upit kori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jem dijalog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Que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U okviru za dijalog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ew Query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mogu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e odabrati pet opcija od kojih su dve najčešće korišćen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esign View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mogu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prelazak u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QBE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(specijalna aplikacija u Accessu namenjena za jednostavnije kreiranje upit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imple Query Wizar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mogu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biranje tabela 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jihovih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polja koj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se kori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i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u konkretnom upitu u samo nekoliko korak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517-2791-4E83-8BAF-B1B1F2B10163}" type="slidenum">
              <a:t>101</a:t>
            </a:fld>
          </a:p>
        </p:txBody>
      </p:sp>
    </p:spTree>
  </p:cSld>
  <p:transition>
    <p:fade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zgled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dijaloga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Qu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58327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202-A3AA-4976-8180-B76D941876A4}" type="slidenum">
              <a:t>102</a:t>
            </a:fld>
          </a:p>
        </p:txBody>
      </p:sp>
    </p:spTree>
  </p:cSld>
  <p:transition>
    <p:fad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eiranje upita kor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jem opcije Design 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Prvo što se pojavljuje po izboru opcije </a:t>
            </a:r>
            <a:r>
              <a:rPr b="1" lang="sl-SI" sz="1700" spc="-1" strike="noStrike">
                <a:solidFill>
                  <a:srgbClr val="000000"/>
                </a:solidFill>
                <a:latin typeface="Arial"/>
              </a:rPr>
              <a:t>Design View</a:t>
            </a: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 je dijalog </a:t>
            </a:r>
            <a:r>
              <a:rPr b="1" lang="sl-SI" sz="1700" spc="-1" strike="noStrike">
                <a:solidFill>
                  <a:srgbClr val="000000"/>
                </a:solidFill>
                <a:latin typeface="Arial"/>
              </a:rPr>
              <a:t>Show Table </a:t>
            </a: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oji prikazuje sve tabele i upite u bazi podatak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Izbor određene tabele ili više njih, vrši se klikom na taster </a:t>
            </a:r>
            <a:r>
              <a:rPr b="1" lang="sl-SI" sz="17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6870600" cy="32101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 flipH="1">
            <a:off x="5292720" y="2349360"/>
            <a:ext cx="2448000" cy="1150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7D0-D834-40D9-9EA9-B87AE0D1262C}" type="slidenum">
              <a:t>103</a:t>
            </a:fld>
          </a:p>
        </p:txBody>
      </p:sp>
    </p:spTree>
  </p:cSld>
  <p:transition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82036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Kada pritisnete tater </a:t>
            </a: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naćićete se u QBE (</a:t>
            </a: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Query By Exampl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prozor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rozor se sastoji od dva del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 gornj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laze tabele koje ste u prethodnom dijalogu izabra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onji prozor sastoji se od nekoliko redova korisnih za sastavljanje upi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Field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- U ovaj red se upisuju ili dodaju imena p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Table -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 ovom redu se prikazuju imena tabela iz kojih potiču pol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ort -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 ovom redu se zadaje način sortiranja podataka iz u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how -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Ovo polje je za potvrđivanje i određuje da li će polje biti       prikazano ili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Criteria -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 ovaj red se upisuje prvi red uslova za izdvajanje zapi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- Ovo je prvi sledeći red u koji se mogu uneti dodatni uslovi za izdvajanje zap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087-F37E-45A0-BC76-F6277D45F8C0}" type="slidenum">
              <a:t>104</a:t>
            </a:fld>
          </a:p>
        </p:txBody>
      </p:sp>
    </p:spTree>
  </p:cSld>
  <p:transition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688000" cy="41608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5516640"/>
            <a:ext cx="70581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bi obeležio koje tabele su povezane Access koristi lin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inija koja spaja dve tabele je spoljna linija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27D-F53C-420D-A163-79873FF90FC6}" type="slidenum">
              <a:t>105</a:t>
            </a:fld>
          </a:p>
        </p:txBody>
      </p:sp>
    </p:spTree>
  </p:cSld>
  <p:transition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Da bi se dodale nove tabele potrebno je pomeriti pokazivač miša u gornje okno i pritisnuti desni taster priliko čega će se otvoriti meni u kojem treba odabrati opciju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Show table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Izbor tabele se vr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 duplim klikom na njeno im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Tabela se može najjednostavnije obrisati selektovanjem tabele klikom ili na nju ili na neko njeno polje, i pritiskom tastera </a:t>
            </a:r>
            <a:r>
              <a:rPr b="1" lang="pt-PT" sz="25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3B9-E4FC-4536-8E90-E74982888427}" type="slidenum">
              <a:t>106</a:t>
            </a:fld>
          </a:p>
        </p:txBody>
      </p:sp>
    </p:spTree>
  </p:cSld>
  <p:transition>
    <p:fade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Nakon izbora tabela koje će učestvovati u upitu, neophodno je izabrati polja iz datih tabela i dodati ih u red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Field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donjeg prozora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able Query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a.</a:t>
            </a: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olja se mogu izdvajati jedno po jedno, može se vršiti odabir više polja istovremeno, ili jednostavno izabrati sva polja. Za to se mogu koristiti tastatura ili miš.</a:t>
            </a: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rethodno selektovana polja prenose se u red za izbor polja ili se biraju sa padajuće liste u redovima Field, odnosno Table.</a:t>
            </a: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Za selektovanje više polja istovremeno koriste se funkcijski tasteri Ctrl i Shi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761-A29E-40E3-86AE-4EBB312DBD20}" type="slidenum">
              <a:t>107</a:t>
            </a:fld>
          </a:p>
        </p:txBody>
      </p:sp>
    </p:spTree>
  </p:cSld>
  <p:transition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im pojedinačnog dodavanja polja, u QBE okno mogu se umetnuti i sva polja tabele istovremen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nudi dve metode izbora svih polj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lačenjem svih polja kao grup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ranjem referentne oznake za sva polja-zvezdice (*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koliko se upit sastoji od polja dve ili više tabela postupak je isit, dodamo željena polja iz prve tabele, potom iz druge 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jednostavniji način je odab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gru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olja i pre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ih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nadole u QBE okn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7AE-785D-4AB4-A7F8-1C855F77BFCF}" type="slidenum">
              <a:t>108</a:t>
            </a:fld>
          </a:p>
        </p:txBody>
      </p:sp>
    </p:spTree>
  </p:cSld>
  <p:transition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QBE (Query By Example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Za zadavanje uslova koje slogovi moraju da ispunjavaju koristi se red </a:t>
            </a: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Uslovi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za polja 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tekstualnog tip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daju se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upi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anjem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prime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vrednosti podatka koj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treb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d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nalaz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u tom polju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Može se koristiti i negacija Not ispred nekog teksta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 tom slu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ju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ć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ektovan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sv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logovi koji ne sadrže tu vredno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slov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 za numerička ili datumska polj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daju se k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jem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operato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za upoređivanje, kao što su veće (&gt;), manje (&lt;), jednako (=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B7A-12F6-45C8-8B12-B83FF7266DFD}" type="slidenum">
              <a:t>109</a:t>
            </a:fld>
          </a:p>
        </p:txBody>
      </p:sp>
    </p:spTree>
  </p:cSld>
  <p:transition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cess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veliki broj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ugrađ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funkci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kcije za rad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sa objektima baze podatak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tematičke funkci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slovne funkci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inansijske funkci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unkcije za rad sa datumima i vremeni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unkcije za rad sa tekstualnim nizovim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unkcije se mogu koristiti u obrascima, izveštajima i/ili upitima da bi se izračunali izrazi razl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kompleksnosti.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825-94A0-429F-8A8B-AA5705860092}" type="slidenum">
              <a:t>11</a:t>
            </a:fld>
          </a:p>
        </p:txBody>
      </p:sp>
    </p:spTree>
  </p:cSld>
  <p:transition>
    <p:fad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Način prikaza upi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24000" y="1719360"/>
            <a:ext cx="8640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Design Vie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- standardni QBE prikaz up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Table Vie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- prikazuje se sadržaj dinamičkog skupa u tabelarnom oblik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SQL Vie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kazuje izgled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SQL koman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kojom je realizovan upit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eke upite moguće je kreirati jedino pomoću SQL-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691-FBE1-4614-9A00-D563A7B21B44}" type="slidenum">
              <a:t>110</a:t>
            </a:fld>
          </a:p>
        </p:txBody>
      </p:sp>
    </p:spTree>
  </p:cSld>
  <p:transition>
    <p:fade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Tabelarni prikaz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zultata upita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(Table View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395280" y="2351160"/>
            <a:ext cx="7993080" cy="289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C0A-8203-4445-BBBD-E2F374B31E63}" type="slidenum">
              <a:t>111</a:t>
            </a:fld>
          </a:p>
        </p:txBody>
      </p:sp>
    </p:spTree>
  </p:cSld>
  <p:transition>
    <p:fad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SQL prikaz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pita (SQL View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081160" y="3384720"/>
            <a:ext cx="4981680" cy="1079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8136000" cy="180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842-8DB6-4974-A217-04D8FBE9F547}" type="slidenum">
              <a:t>112</a:t>
            </a:fld>
          </a:p>
        </p:txBody>
      </p:sp>
    </p:spTree>
  </p:cSld>
  <p:transition>
    <p:fade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Dijalog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Join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6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abele neće automatski biti povezane ukoliko to nije učinjeno na nivou baze podataka, ili ako je isključena opcija </a:t>
            </a: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AutoJoin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bi se povezale dve tabele potrebno je u oknu </a:t>
            </a: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Table/Query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dabrati polje prve tabele, koje treba da bude u spoju, i prevući ga na tabelu i odgovarajuće polje, koje treba da bude drugi deo spo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87A-A252-4DB3-9833-E6D720B2CBA8}" type="slidenum">
              <a:t>113</a:t>
            </a:fld>
          </a:p>
        </p:txBody>
      </p:sp>
    </p:spTree>
  </p:cSld>
  <p:transition>
    <p:fade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Dijalog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Join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6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ena vrste spoja vrši se odabirom spoljne linije i duplim pritiskom na nju, prilikom čega će se pojaviti okvir za dijalog </a:t>
            </a: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Join Propert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kvir za dijalog </a:t>
            </a: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Join Properties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podeljen je na dva del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etiri padajuće lis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ri dugmeta za opcij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E50-C1AC-4E13-A62F-05EDCEB58F07}" type="slidenum">
              <a:t>114</a:t>
            </a:fld>
          </a:p>
        </p:txBody>
      </p:sp>
    </p:spTree>
  </p:cSld>
  <p:transition>
    <p:fade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Dijalog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Join Propert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cije dijalo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oin Proper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3808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Only Include Rows Where the joined f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lds from both tables are equal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ključiti iz obe tabele sam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logov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u kojima je sadržaj spojnih polja jedna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4308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 opcija nalaže Access-u da iz obe tabele izdvoji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pise u kojima spojna polja sadrže iste vredno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4308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su jednakovredni ili unutrašnji spoje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3808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nclude ALL Record For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i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me prve tabe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and only those records fro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me druge tabe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where the joined fields are equal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zno je uključivanje svih zapisa iz prve tabele i samo onih zapisa iz druge tabele u kojima je sadržaj spojnih polja jednak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4308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e kao prva koristi tabela, Artikal, a kao druga tabela Sta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ataloga, biće prikazani svi artikli (čak i oni kojih nema u katalogu) i samo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tav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taloga ko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maju odgovarajući artik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4308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su desni spoljni spoje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004-1E7F-470B-8324-D70E8CEF0691}" type="slidenum">
              <a:t>115</a:t>
            </a:fld>
          </a:p>
        </p:txBody>
      </p:sp>
    </p:spTree>
  </p:cSld>
  <p:transition>
    <p:fade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Dijalog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Join Proper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cije dijalo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oin Proper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astava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nclude ALL records for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 druge tabe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nd only those records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 prve tabe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where the joined fields are equal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ključiti sve zapise iz druge tabele i samo one zapise iz prve tabele u kojima je sadržaj spojnih polja jednak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499"/>
              </a:spcBef>
              <a:buClr>
                <a:srgbClr val="cccc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se kao prva koristi tabela, St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ataloga, a kao druga tab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ika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biće prikazani s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vke katalog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samo 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rtikl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nalaze na tim stavkam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575"/>
              </a:spcBef>
              <a:buClr>
                <a:srgbClr val="cccc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o s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poljni spojevi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29C-76D4-404E-A5AE-EEF668FEF8F6}" type="slidenum">
              <a:t>116</a:t>
            </a:fld>
          </a:p>
        </p:txBody>
      </p:sp>
    </p:spTree>
  </p:cSld>
  <p:transition>
    <p:fad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Izgled</a:t>
            </a:r>
            <a:r>
              <a:rPr b="0" lang="sr-C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dijalog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Join Proper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rcRect l="872" t="0" r="0" b="1956"/>
          <a:stretch/>
        </p:blipFill>
        <p:spPr>
          <a:xfrm>
            <a:off x="755640" y="1854360"/>
            <a:ext cx="6985080" cy="39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0B1-0042-42B2-8BE5-F33B93276EA0}" type="slidenum">
              <a:t>117</a:t>
            </a:fld>
          </a:p>
        </p:txBody>
      </p:sp>
    </p:spTree>
  </p:cSld>
  <p:transition>
    <p:fade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sanje uslo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omogućuje rad samo sa pojedinim delovima tabele, tj. samo sa slogovima koji ispunjavaju određene usl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lovi se postavljaju u kolonama odgovarajućih polja u red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 pravljenje upita koji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izdvojiti slogove koji ispunjavaju istovremeno više uslova vezanih za različita polja, potrebno je za svako polje zadati uslov i sve te uslove staviti u jedan isti red (koji ih povezuje logičkim i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 slučaju upita koji bi trebalo da vrše izdvajanja slogova koji ispunjavaju bilo koji od navedenih uslova, uslovi za svako polje se smeštaju jedan ispod drugog ili povezuju operatoro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708-23E5-4EB6-B8EE-BB61B40A09FD}" type="slidenum">
              <a:t>118</a:t>
            </a:fld>
          </a:p>
        </p:txBody>
      </p:sp>
    </p:spTree>
  </p:cSld>
  <p:transition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Operatori, funkcije, izrazi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Za one koji ne žele da programiraju obezbeđeni su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makroi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kroi omogućuju obavljanje uobičajenih poslova bez intervencije korisn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ostoji oko pedeset makro akcija koje omogućuju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rad sa podacima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avljenje menija i okvira za dijalog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otvaranje obrazaca i izvešta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automatizaciju bilo kog posl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513-0C50-4634-8230-9E10CE912B1F}" type="slidenum">
              <a:t>12</a:t>
            </a:fld>
          </a:p>
        </p:txBody>
      </p:sp>
    </p:spTree>
  </p:cSld>
  <p:transition>
    <p:fade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Operatori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14716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peratori su pored funk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izraza osnovni delovi Access-ovih operacija.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oriste se u operacijama kao što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stavljanje standardnih (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vred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davanje uslova prilikom unosa vrednosti u tabe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rišćenje uslova u upitim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stavljanje izračunatih polja na obrasce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odavanje objekata za sumarne operacije na izveštaje.</a:t>
            </a:r>
            <a:r>
              <a:rPr b="0" lang="sl-SI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DC6-8325-4EFB-AF72-6EFDBBDC5332}" type="slidenum">
              <a:t>120</a:t>
            </a:fld>
          </a:p>
        </p:txBody>
      </p:sp>
    </p:spTree>
  </p:cSld>
  <p:transition>
    <p:fade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Operatori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147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peratori omogu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zvršavanje računskih operacij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poređenje vrednost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ajanje znakovnih nizov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astavljanje složenih relacionih izraza.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Korišćenjem operatora nalaže se Access-u da izvrši određene operacije nad jednim ili više oper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70D-BF44-4A1D-A72E-6B6AF019C3E7}" type="slidenum">
              <a:t>121</a:t>
            </a:fld>
          </a:p>
        </p:txBody>
      </p:sp>
    </p:spTree>
  </p:cSld>
  <p:transition>
    <p:fade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gled operato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395280" y="2421000"/>
          <a:ext cx="856944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21000"/>
                    <a:ext cx="85694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767-42DA-4F29-934F-0B56E889D6C8}" type="slidenum">
              <a:t>122</a:t>
            </a:fld>
          </a:p>
        </p:txBody>
      </p:sp>
    </p:spTree>
  </p:cSld>
  <p:transition>
    <p:fade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kci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Funkcije predstavljaju već napisane kratke programe koji po definiciji uvek daju povratne vrednost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vratne vrednosti funkcij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se dobijaj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enom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dređen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računsk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operacija, poređenjima il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kim drugim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računavanjima koje funkcija obavlj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U Access je ograđen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stotine standardnih funkcija koje se koriste u tabelama, upitima, obrascima i izveštaji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3A0-4A21-4A36-A8B4-912C70235AA6}" type="slidenum">
              <a:t>123</a:t>
            </a:fld>
          </a:p>
        </p:txBody>
      </p:sp>
    </p:spTree>
  </p:cSld>
  <p:transition>
    <p:fade/>
  </p:transition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snovne vrste funkci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unkcije za rad sa datumima i vremen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Now ( 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je tekući datum i vreme: 3.4.02  12:22:3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Time ( 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je tekuće vreme: 12:22: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Date ( 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je tekući dat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pr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3.4.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inansijske funkcije (SQL)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Avg ( 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računava pros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Sum ( 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računava ukupan zbi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304-7E3D-4BE2-9B20-94FE5AF5656E}" type="slidenum">
              <a:t>124</a:t>
            </a:fld>
          </a:p>
        </p:txBody>
      </p:sp>
    </p:spTree>
  </p:cSld>
  <p:transition>
    <p:fade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snovne vrste funkci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Matematičke funk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nt ( 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aje celobrojni deo ulazne vrednos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tj.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zaokružuje na prvu manju vred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Fix ( 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aje celobrojni deo negativne vrednos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qr ( )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i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zračunava kvadratni koren ulazne vrednos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unkcije za rad sa znakovnim nizovima-stringov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Left ( 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je zadati broj znakova sa početka ni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Right ( 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je zadati broj znakova od kraja ni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Len ( 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je dužinu (broj znakova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nakovnog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i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case ( 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pretvara slova ulaznog niza u ma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E85-A17D-4020-8E79-81F9BA478C08}" type="slidenum">
              <a:t>125</a:t>
            </a:fld>
          </a:p>
        </p:txBody>
      </p:sp>
    </p:spTree>
  </p:cSld>
  <p:transition>
    <p:fade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raz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 postavljanje određenog uslova ili izračunavanje vrednosti određenog polja koriste se izraz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raz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mogu biti jednostavni ili složen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razi m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gu da sadrže razne kombinacije operatora, imena objekata, funkcija i konstant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CEC-C8DF-42B1-BD47-1F2BA815C9F5}" type="slidenum">
              <a:t>126</a:t>
            </a:fld>
          </a:p>
        </p:txBody>
      </p:sp>
    </p:spTree>
  </p:cSld>
  <p:transition>
    <p:fade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zrazi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zrazi se mogu sastojati iz sledeći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at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Operator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(+,-,&lt;,&gt;,=,*,And,Or,Not,Like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pokazuju koja će vrsta akcije biti izvršena nad jednim ili nad više elemenata izra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mena objekat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edstavljaju postojeće objek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unkcij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- mogu se koristiti ugrađene Access-ove funkcije ili samostalno kreira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iteral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- vrednosti koje se unose u izraz, mogu da budu brojevi, znakovni nizovi ili datumi. Access ih koristi u istom obliku u kom su unešeni, bez izme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onstant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Nul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Tru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Fals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5A8-96E0-4C0D-AD7B-514BDF91E045}" type="slidenum">
              <a:t>127</a:t>
            </a:fld>
          </a:p>
        </p:txBody>
      </p:sp>
    </p:spTree>
  </p:cSld>
  <p:transition>
    <p:fade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6782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d sa obrascima (Forms)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ad sa obrascim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eiranje i korišćenje obrazac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rolnih objekat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njihove osob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eiranje Kontrolne Table (SwitchBoard)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70B-D555-4D7F-9A55-4CF55B824846}" type="slidenum">
              <a:t>129</a:t>
            </a:fld>
          </a:p>
        </p:txBody>
      </p:sp>
    </p:spTree>
  </p:cSld>
  <p:transition>
    <p:fade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ccess može da radi samo sa jednom bazom podataka u datom trenutk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nutar jedne baze podataka mogu da postoje stotine tabela, obrazaca, upita, izveštaja, stranica, makroa, i modul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720-FD68-4DA7-A123-0846D6FB7A84}" type="slidenum">
              <a:t>13</a:t>
            </a:fld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ad sa obrasci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loga obraza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je dvojak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ikaz podata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os isti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Obrasci se koriste za efektno prikazivanje sadržaja tabela i upit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ilikom unosa obrasci omogu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ju proveru unetih podataka, a i samom oper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u olakšavaju unos jer omogu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a se isti obav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na najprirodniji nač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2D4-209C-4AE5-9EB4-2DA34B93A5D5}" type="slidenum">
              <a:t>130</a:t>
            </a:fld>
          </a:p>
        </p:txBody>
      </p:sp>
    </p:spTree>
  </p:cSld>
  <p:transition>
    <p:fade/>
  </p:transition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i korišćenje obrazac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brazac omogu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prikazivanje sadržaja jednog ili više zapisa, čak i svih njihovih polja istovremeno.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brasci su korisni za prikaz podataka u formatiranom obliku, kao i za unošenje, ažuriranje i brisanje podata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Access-u postoji šest osnovnih vrsta obraza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razac sa poljima raspoređenim u ko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Tabelarni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az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Tabelarni prik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Glavni/Podob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razac za izvedene tab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ij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65E-079E-49A5-B7C4-0352ED76C914}" type="slidenum">
              <a:t>131</a:t>
            </a:fld>
          </a:p>
        </p:txBody>
      </p:sp>
    </p:spTree>
  </p:cSld>
  <p:transition>
    <p:fade/>
  </p:transition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obraza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642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rasci se kreiraju koriš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jem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w 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jalog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jalo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w 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 aktivira izborom opcij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 listi objekata, a zatim klikom na ikonicu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olbar-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jlakši način z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reiranj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jednostavnih obrazaca je da s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dijalogu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w Form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jedne od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AutoForm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cija; tako se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ože za tren oka napraviti obrazac.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32C-9FC8-4226-8345-CE264916888A}" type="slidenum">
              <a:t>132</a:t>
            </a:fld>
          </a:p>
        </p:txBody>
      </p:sp>
    </p:spTree>
  </p:cSld>
  <p:transition>
    <p:fade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obraza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ešto složeniji način za pravljenje obrazaca je korišćenjem čarobnjaka za obrasce (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orm Wizards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 Wizard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postavlja niz pitanja u vezi sa željenim obrascem, a zatim ga sam automatski prav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o kreirani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obrasci se retko koriste u finalnoj verziji, ali predstavljaju dobru polaznu osnovu za pravljenje složenijih form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orm Wizar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mogu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gled (preview) svih unetih izmen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ko bi se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sagle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utica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jenog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izbora na konačan rezulta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FA0-B6A0-4323-A80D-FFBB07EBC60E}" type="slidenum">
              <a:t>133</a:t>
            </a:fld>
          </a:p>
        </p:txBody>
      </p:sp>
    </p:spTree>
  </p:cSld>
  <p:transition>
    <p:fade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zgled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dijaloga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Form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048360" cy="46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7C3-5D1B-48BF-B9D3-DF86680007D7}" type="slidenum">
              <a:t>134</a:t>
            </a:fld>
          </a:p>
        </p:txBody>
      </p:sp>
    </p:spTree>
  </p:cSld>
  <p:transition>
    <p:fade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obraza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stale opcije za kreiranje obrazaca koje se nude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 okviru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NewFor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jaloga su: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esign Vie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kazuje se potpuno prazan obrazac od kojeg se kreće u prozoru za oblikovanje obraza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Chart Wizard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namenjen z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 pravljenje obrasca sa dijagra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ivotTable Wiz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amenjen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ormiran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Excel-ove izvedene tabe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F2C-B8B5-49A1-9E87-B3E99A956626}" type="slidenum">
              <a:t>135</a:t>
            </a:fld>
          </a:p>
        </p:txBody>
      </p:sp>
    </p:spTree>
  </p:cSld>
  <p:transition>
    <p:fade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obraza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 obrazac se primenjuju iste tehnike za manipulisanje zapisima koje se koriste u tabelarnom prikazu.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Jedina razlika je š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e kod obrazaca prika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jedan po jedan zapi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ako su za štampanje prvenstveno namenjeni izveštaji, m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se odštampati i jedan ili više zapisa koje obrazac prikazuje, tačno onako kako oni izgledaju na ekran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jednostavniji način za štampanje obrazaca je pomoću opcije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li pritiskom na dugme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 paleti sa alatkam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-341280" y="45000"/>
            <a:ext cx="8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-341280" y="45000"/>
            <a:ext cx="8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341280" y="45000"/>
            <a:ext cx="8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2ED-FD6D-4F95-B065-845772D00514}" type="slidenum">
              <a:t>136</a:t>
            </a:fld>
          </a:p>
        </p:txBody>
      </p:sp>
    </p:spTree>
  </p:cSld>
  <p:transition>
    <p:fade/>
  </p:transition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ntrolni objekt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su svi objekti koji mogu da se postave na obrazac ili izveštaj.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 kontrolne objekte spadaj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tp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(labele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l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o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k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zračunata pol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lik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rafiko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ugmad za opci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EE2-3546-421E-BB43-3FC5DC5BA052}" type="slidenum">
              <a:t>137</a:t>
            </a:fld>
          </a:p>
        </p:txBody>
      </p:sp>
    </p:spTree>
  </p:cSld>
  <p:transition>
    <p:fade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ne objekt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se mogu unositi vrednosti ili se pomoću njih mogu prikazivati određeni pod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jednom obrascu ili izveštaju može da bude veliki broj raznih vrsta kontrolnih objek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d njih mogu da se prave pomoću kutije sa alatkama – Toolbox-a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77E-1FBB-4C10-9021-4230F4B4D80A}" type="slidenum">
              <a:t>138</a:t>
            </a:fld>
          </a:p>
        </p:txBody>
      </p:sp>
    </p:spTree>
  </p:cSld>
  <p:transition>
    <p:fade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gled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Toolbox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-a u Access-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5329440" cy="244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330-8D83-447C-8A80-94E511E7E2CB}" type="slidenum">
              <a:t>139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novni pojmov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e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za podata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242-5909-43E4-824D-1F713421E220}" type="slidenum">
              <a:t>14</a:t>
            </a:fld>
          </a:p>
        </p:txBody>
      </p:sp>
    </p:spTree>
  </p:cSld>
  <p:transition>
    <p:fade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Oni mogu biti vezani za konkretan sadr</a:t>
            </a:r>
            <a:r>
              <a:rPr b="0" lang="hr-HR" sz="29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aj u tabeli ili delimi</a:t>
            </a:r>
            <a:r>
              <a:rPr b="0" lang="hr-HR" sz="29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hr-HR" sz="2900" spc="-1" strike="noStrike">
                <a:solidFill>
                  <a:srgbClr val="000000"/>
                </a:solidFill>
                <a:latin typeface="Arial"/>
              </a:rPr>
              <a:t> ¨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nezavisni</a:t>
            </a:r>
            <a:r>
              <a:rPr b="0" lang="hr-HR" sz="2900" spc="-1" strike="noStrike">
                <a:solidFill>
                  <a:srgbClr val="000000"/>
                </a:solidFill>
                <a:latin typeface="Arial"/>
              </a:rPr>
              <a:t>¨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Po tom pitanju razlikuju 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vezani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nevezani 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izračunati kontrolni objekti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C03-1CB7-49BC-9B88-0AED511F8C2F}" type="slidenum">
              <a:t>140</a:t>
            </a:fld>
          </a:p>
        </p:txBody>
      </p:sp>
    </p:spTree>
  </p:cSld>
  <p:transition>
    <p:fade/>
  </p:transition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zani 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Vezani su za konkretan sadržaj polja u tabelam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Kada se unese vrednost 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an vezan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kontrolni objekat Access automatski ažurira sadržaj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govaraj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lja tabele u tekućem zapis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D88-23F5-438E-9553-0C04A8FD8A6B}" type="slidenum">
              <a:t>141</a:t>
            </a:fld>
          </a:p>
        </p:txBody>
      </p:sp>
    </p:spTree>
  </p:cSld>
  <p:transition>
    <p:fade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vezani 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0716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evezani kontrolni objekt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državaju vrednost koja se unosi, ali ne ažuriraju polja tabele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oriste se z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ikazivanje teks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sleđivanje vrednosti makroi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čuvanje OLE objekata koji nisu smešteni u tabelu nego na sam obrazac ili izveštaj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znati su kao promenljive ili memorijske promenljive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EDB-63F9-411D-AD1A-7A0BF3904CF3}" type="slidenum">
              <a:t>142</a:t>
            </a:fld>
          </a:p>
        </p:txBody>
      </p:sp>
    </p:spTree>
  </p:cSld>
  <p:transition>
    <p:fade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ra</a:t>
            </a:r>
            <a:r>
              <a:rPr b="1" lang="sl-SI" sz="39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ati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zračunati kontrolni objek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snivaju na izrazima kao što su funkcije ili proračuni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ni su i nevezani jer ne ažuriraju polja tabe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ju veliku primenu u povećanju preglednosti i brzoj obradi podataka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B70-27C6-402A-8715-1F7ADE50F6F7}" type="slidenum">
              <a:t>143</a:t>
            </a:fld>
          </a:p>
        </p:txBody>
      </p:sp>
    </p:spTree>
  </p:cSld>
  <p:transition>
    <p:fade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Primer kontrolnih objekat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324000" y="1341360"/>
            <a:ext cx="7977240" cy="5211360"/>
            <a:chOff x="324000" y="1341360"/>
            <a:chExt cx="7977240" cy="5211360"/>
          </a:xfrm>
        </p:grpSpPr>
        <p:pic>
          <p:nvPicPr>
            <p:cNvPr id="530" name="" descr=""/>
            <p:cNvPicPr/>
            <p:nvPr/>
          </p:nvPicPr>
          <p:blipFill>
            <a:blip r:embed="rId1"/>
            <a:stretch/>
          </p:blipFill>
          <p:spPr>
            <a:xfrm>
              <a:off x="900000" y="2133720"/>
              <a:ext cx="6624720" cy="3603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1" name=""/>
            <p:cNvGrpSpPr/>
            <p:nvPr/>
          </p:nvGrpSpPr>
          <p:grpSpPr>
            <a:xfrm>
              <a:off x="324000" y="1557360"/>
              <a:ext cx="1728720" cy="1942920"/>
              <a:chOff x="324000" y="1557360"/>
              <a:chExt cx="1728720" cy="1942920"/>
            </a:xfrm>
          </p:grpSpPr>
          <p:sp>
            <p:nvSpPr>
              <p:cNvPr id="532" name=""/>
              <p:cNvSpPr/>
              <p:nvPr/>
            </p:nvSpPr>
            <p:spPr>
              <a:xfrm>
                <a:off x="324000" y="1557360"/>
                <a:ext cx="172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abe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971640" y="1989000"/>
                <a:ext cx="21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55640" y="1989000"/>
                <a:ext cx="287280" cy="93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9640" y="1989000"/>
                <a:ext cx="503280" cy="151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4716000" y="1341360"/>
              <a:ext cx="3585240" cy="1511280"/>
              <a:chOff x="4716000" y="1341360"/>
              <a:chExt cx="3585240" cy="1511280"/>
            </a:xfrm>
          </p:grpSpPr>
          <p:sp>
            <p:nvSpPr>
              <p:cNvPr id="537" name=""/>
              <p:cNvSpPr/>
              <p:nvPr/>
            </p:nvSpPr>
            <p:spPr>
              <a:xfrm>
                <a:off x="4716000" y="1341360"/>
                <a:ext cx="358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olja za unos vrednost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4932360" y="1773360"/>
                <a:ext cx="71928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219280" y="1773360"/>
                <a:ext cx="865080" cy="10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788000" y="4869000"/>
              <a:ext cx="3384360" cy="1683720"/>
              <a:chOff x="4788000" y="4869000"/>
              <a:chExt cx="3384360" cy="1683720"/>
            </a:xfrm>
          </p:grpSpPr>
          <p:sp>
            <p:nvSpPr>
              <p:cNvPr id="541" name=""/>
              <p:cNvSpPr/>
              <p:nvPr/>
            </p:nvSpPr>
            <p:spPr>
              <a:xfrm>
                <a:off x="5219640" y="6093000"/>
                <a:ext cx="295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ugmad za opcij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>
                <a:off x="4788000" y="4869000"/>
                <a:ext cx="1079280" cy="129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>
                <a:off x="6084360" y="4941720"/>
                <a:ext cx="358920" cy="115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E61-C261-46DA-B98C-EF81A0D77499}" type="slidenum">
              <a:t>144</a:t>
            </a:fld>
          </a:p>
        </p:txBody>
      </p:sp>
    </p:spTree>
  </p:cSld>
  <p:transition>
    <p:fade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snovne kontrolne objekte predstavljaju dva najčešće korišćen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ntrolna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bjekta i u obrascima i u izveštajim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ilikom dizajniranja putem 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AutoForm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AutoReport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Access skoro uvek kreira samo objekte ova dva tip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U ovu grupu spadaju objekti tip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Natpis) - prikazuje zadati tekst u obliku natp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Text Box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polje za tekst) - podaci se upisuju, menjaju ili brišu u poljima za tek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D34-A8C0-4B31-A0CF-692667BCCC80}" type="slidenum">
              <a:t>145</a:t>
            </a:fld>
          </a:p>
        </p:txBody>
      </p:sp>
    </p:spTree>
  </p:cSld>
  <p:transition>
    <p:fade/>
  </p:transition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kt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te u kombinaciji sa drugim kontrolnim objektima treba se pridržavati sledećih pravi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84360" y="3141720"/>
          <a:ext cx="7993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141720"/>
                    <a:ext cx="7993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045-B885-45B4-8FAA-FF4149FB7464}" type="slidenum">
              <a:t>146</a:t>
            </a:fld>
          </a:p>
        </p:txBody>
      </p:sp>
    </p:spTree>
  </p:cSld>
  <p:transition>
    <p:fade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600" spc="-1" strike="noStrike">
                <a:solidFill>
                  <a:srgbClr val="330066"/>
                </a:solidFill>
                <a:latin typeface="Arial"/>
              </a:rPr>
              <a:t>ženi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trol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Složeniji kontrolni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objekti služe za unošenje podataka i obezbeđivanje ispravnosti i nalaze se u opcijama 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More Controls 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Toolbox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-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Neki od njih s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Check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Option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ggle bu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Command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List box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54B-27D8-42A3-9C2F-53201B4E6000}" type="slidenum">
              <a:t>147</a:t>
            </a:fld>
          </a:p>
        </p:txBody>
      </p:sp>
    </p:spTree>
  </p:cSld>
  <p:transition>
    <p:fade/>
  </p:transition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Primer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ženih</a:t>
            </a: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kontrol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69800" y="1982880"/>
            <a:ext cx="8204400" cy="388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19F-2644-4426-8A7C-96B1CEB01052}" type="slidenum">
              <a:t>148</a:t>
            </a:fld>
          </a:p>
        </p:txBody>
      </p:sp>
    </p:spTree>
  </p:cSld>
  <p:transition>
    <p:fade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ženi 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ggle Butt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prekidač, preklopni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ključivo se koristi uz polja koja sadrže logički tip podataka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es/N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o je dugme sa dva stanja, izbočeno ili pritisnuto na kome se umesto teksta obično nalaze slike ili ikone koje označavaju pojedina stanja dugmet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075-F216-4C54-B408-550203BBF53E}" type="slidenum">
              <a:t>149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ele u Access-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abela je skladište za sirove podatk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abelarni prikaz je podeljen n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edove, zvane zapisi ili slogovi (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record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 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lo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vane polja (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field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a preseku zapisa (u redovima) i polja (u kolonama) nalazi se vrednost (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tvarni podata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040-1A80-43B6-8949-6584883CAA04}" type="slidenum">
              <a:t>15</a:t>
            </a:fld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ženi 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0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tion Butt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ugme opcij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znato i kao radio dugm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 oblik kružića unutar kojeg se mo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ž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laziti tačk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koliko se unutar kružića nalazi tačka to znači da je opcija uključena ili da važ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B99-0F1A-4B41-803C-7FC56E8B5646}" type="slidenum">
              <a:t>150</a:t>
            </a:fld>
          </a:p>
        </p:txBody>
      </p:sp>
    </p:spTree>
  </p:cSld>
  <p:transition>
    <p:fade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ženi 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 bo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olje za potvrđivanj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 dva stanja: uključeno i isključe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da se unutar kvadrat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alazi znak potvrde, to znači da je opcija uključena, a ako je kvadrat  prazan opcija je isključen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Combo box 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(padajuća lista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mogućuje izbor jedne od ponuđenih vrednosti, ali dozvoljavaju i unos novi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unos je moguće izvršiti na dva načina: procesom selektovanja ili direktnim unošenjem podatak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ve liste zauzimaju manje prostora na obrascu, a otvaraju se samo u toku procesa unošenja podatak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28B-7659-4B36-B6BB-0F4DD5A9C7E4}" type="slidenum">
              <a:t>151</a:t>
            </a:fld>
          </a:p>
        </p:txBody>
      </p:sp>
    </p:spTree>
  </p:cSld>
  <p:transition>
    <p:fade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600" spc="-1" strike="noStrike">
                <a:solidFill>
                  <a:srgbClr val="330066"/>
                </a:solidFill>
                <a:latin typeface="Arial"/>
              </a:rPr>
              <a:t>ženi kontrolni objekti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</a:rPr>
              <a:t>Option grou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Koriste se za biranje samo jedne od mogućn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Sadrže nekoliko preklopnika, dugmadi opcija ili polja za potvrđivanje koja deluju u sprez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U svakom trenutku samo jedno od dugmadi može da bude pritisnuto, osim kada grupu čine polja za potvrđivanj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eporučljivo je da grupa sadrži najviše četiri do pet članova, a za veći broj koriste se padajuće lis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6CC-0677-4B22-BAB7-E4F3E276F42D}" type="slidenum">
              <a:t>152</a:t>
            </a:fld>
          </a:p>
        </p:txBody>
      </p:sp>
    </p:spTree>
  </p:cSld>
  <p:transition>
    <p:fade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ženi 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</a:rPr>
              <a:t>List box 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(list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ikazuje listu unapred zadatih vrednosti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je moguće unošenje novih vrednosti.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ikazuje podatke na ekranu na sličan načina kao padajući meni (combo box), s tom razlikom što je lista uvek otvoren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Određena stavka liste može da se selektuje kada se na nju postavi pokazivač miša i pritisne En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Kada se izabere jedna od stavki njena vrednost se prosleđuje polju za koje je lista vezan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77C-A120-4467-92F6-BBB210851CAD}" type="slidenum">
              <a:t>153</a:t>
            </a:fld>
          </a:p>
        </p:txBody>
      </p:sp>
    </p:spTree>
  </p:cSld>
  <p:transition>
    <p:fade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o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ženi 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Command Button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komandno dug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tiskom na ovo dugme poziva se makro ili pokreće izvršavan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kog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grama radi 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zimanja određene ak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ubform/Subreport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podobrazac/podizvešta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kazuje drugi obrazac ili izveštaj unutar glavnog obrasca ili izvešt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ab Control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grupa kartica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že da prikaže više kartica okvira za dijalog čime se omogu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ovećanje preglednosti i uš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rostora na ekr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469-449A-4B6A-AEA3-7BDD9AB7BCB5}" type="slidenum">
              <a:t>154</a:t>
            </a:fld>
          </a:p>
        </p:txBody>
      </p:sp>
    </p:spTree>
  </p:cSld>
  <p:transition>
    <p:fade/>
  </p:transition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Primeri slo</a:t>
            </a:r>
            <a:r>
              <a:rPr b="1" lang="pt-PT" sz="3200" spc="-1" strike="noStrike">
                <a:solidFill>
                  <a:srgbClr val="330066"/>
                </a:solidFill>
                <a:latin typeface="Arial"/>
              </a:rPr>
              <a:t>ženih kontrolnih objekat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68360" y="1628640"/>
            <a:ext cx="8209080" cy="1373400"/>
            <a:chOff x="468360" y="1628640"/>
            <a:chExt cx="8209080" cy="1373400"/>
          </a:xfrm>
        </p:grpSpPr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590544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7093080" y="213372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st Bo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443640" y="234936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68360" y="3141720"/>
            <a:ext cx="8531280" cy="3208320"/>
            <a:chOff x="468360" y="3141720"/>
            <a:chExt cx="8531280" cy="3208320"/>
          </a:xfrm>
        </p:grpSpPr>
        <p:pic>
          <p:nvPicPr>
            <p:cNvPr id="572" name="" descr=""/>
            <p:cNvPicPr/>
            <p:nvPr/>
          </p:nvPicPr>
          <p:blipFill>
            <a:blip r:embed="rId2"/>
            <a:stretch/>
          </p:blipFill>
          <p:spPr>
            <a:xfrm>
              <a:off x="468360" y="3789360"/>
              <a:ext cx="5904000" cy="256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3" name=""/>
            <p:cNvGrpSpPr/>
            <p:nvPr/>
          </p:nvGrpSpPr>
          <p:grpSpPr>
            <a:xfrm>
              <a:off x="4642920" y="3284640"/>
              <a:ext cx="4356720" cy="865080"/>
              <a:chOff x="4642920" y="3284640"/>
              <a:chExt cx="4356720" cy="865080"/>
            </a:xfrm>
          </p:grpSpPr>
          <p:sp>
            <p:nvSpPr>
              <p:cNvPr id="574" name=""/>
              <p:cNvSpPr/>
              <p:nvPr/>
            </p:nvSpPr>
            <p:spPr>
              <a:xfrm>
                <a:off x="6372360" y="3284640"/>
                <a:ext cx="262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Command Butt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5796000" y="3645000"/>
                <a:ext cx="100800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4642920" y="3573360"/>
                <a:ext cx="172908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468360" y="3141720"/>
              <a:ext cx="1942920" cy="647640"/>
              <a:chOff x="468360" y="3141720"/>
              <a:chExt cx="1942920" cy="647640"/>
            </a:xfrm>
          </p:grpSpPr>
          <p:sp>
            <p:nvSpPr>
              <p:cNvPr id="578" name=""/>
              <p:cNvSpPr/>
              <p:nvPr/>
            </p:nvSpPr>
            <p:spPr>
              <a:xfrm>
                <a:off x="468360" y="3141720"/>
                <a:ext cx="194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ombo Bo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403280" y="3500280"/>
                <a:ext cx="36036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E8E-5F0D-49CC-9A48-0F8F29A85F54}" type="slidenum">
              <a:t>155</a:t>
            </a:fld>
          </a:p>
        </p:txBody>
      </p:sp>
    </p:spTree>
  </p:cSld>
  <p:transition>
    <p:fade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datni</a:t>
            </a: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 kontrolni objekt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sebnu grupu kontrolnih obekata č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rafički kontrolni objekti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jekti za rad sa slika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kti za rad s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vučnim zapisim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kti za rad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LE objektima.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211-2CC7-4D7B-893F-43FE3D8F77A5}" type="slidenum">
              <a:t>156</a:t>
            </a:fld>
          </a:p>
        </p:txBody>
      </p:sp>
    </p:spTree>
  </p:cSld>
  <p:transition>
    <p:fade/>
  </p:transition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Dodatni</a:t>
            </a:r>
            <a:r>
              <a:rPr b="1" lang="pt-PT" sz="3600" spc="-1" strike="noStrike">
                <a:solidFill>
                  <a:srgbClr val="330066"/>
                </a:solidFill>
                <a:latin typeface="Arial"/>
              </a:rPr>
              <a:t> kontrolni objekti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 ovu grupu kontrolnih objekat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spadaju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mag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sli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ikazuje bit mapiranu sliku pri čemu troši veoma malo resursa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nbound object fram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okvir za nevezani ob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drži OLE objekat ili ugrađenu sliku koja nije vezana za polje tab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že da sadrži dijagram, sliku, zvučni ili video zapi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ound object fram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okvir za vezani ob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drži OLE objekat ili ugrađenu sliku koja je vezana za polje tab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linija zadate debljine i bo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češć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risti za razdvajanje grupe objekat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pravougaon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jegov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oja i veličina može da se zada, može da bude popunjen ili praz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isti se za isticanje pojedinih delova obrazaca ili izveštaj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ge break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prelom st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bično se koristi u izveštajima za bezuslovan prelazak 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edn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stranu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AF5-7B93-4B7E-8DDB-9B4980E9CEC5}" type="slidenum">
              <a:t>157</a:t>
            </a:fld>
          </a:p>
        </p:txBody>
      </p:sp>
    </p:spTree>
  </p:cSld>
  <p:transition>
    <p:fade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Kreiranje kontrolnih objeka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0560" y="1719360"/>
            <a:ext cx="8713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stoje dva nači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kreiranje kontrolni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bj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itiskom na dugme u kutiji sa alatk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oolbox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dodavanjem novog nevezanog kontrolnog objekta na ekr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evlačenjem polja iz prozora sa listom polja da bi se dodao vezani kontrolni objekat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rozor sa listom polja prikazuje polja tabele ili upita na osnovu kog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ra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obrazac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Lista polja se prikazuj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ko nije automatski uklju</a:t>
            </a:r>
            <a:r>
              <a:rPr b="0" lang="pt-PT" sz="2100" spc="-1" strike="noStrike">
                <a:solidFill>
                  <a:srgbClr val="000000"/>
                </a:solidFill>
                <a:latin typeface="Arial"/>
              </a:rPr>
              <a:t>čen) iz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om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opcije </a:t>
            </a: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Field List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 okviru glavnog menija </a:t>
            </a: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View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F79-BBDC-48E1-9F5C-2BB3664E7CAC}" type="slidenum">
              <a:t>158</a:t>
            </a:fld>
          </a:p>
        </p:txBody>
      </p:sp>
    </p:spTree>
  </p:cSld>
  <p:transition>
    <p:fade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kontrolnih objek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stavljanjem kontrolnog objekta u prozor za oblikovanje obrasca m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 da se radi sa nji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da se izabere kontrolni objeka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njegovim uglovima i u sredini stranica pojavlju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tiri ili osam r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ca za pomer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lika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3816360" cy="18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350-3FE5-48FF-9D78-6B9EEF0A1D10}" type="slidenum">
              <a:t>159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za podataka u Access-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aza podataka (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 je računarski izraz z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lekciju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podataka koji se odnose na određen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en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/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ili pripadaju određenoj aplikacij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aze podataka pomažu da se podaci organizuju u logičke celine radi jednostav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jeg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pristupa 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os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e celine su tabe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D6E-8C53-4C82-9015-EB8DDCEEBCA4}" type="slidenum">
              <a:t>16</a:t>
            </a:fld>
          </a:p>
        </p:txBody>
      </p:sp>
    </p:spTree>
  </p:cSld>
  <p:transition>
    <p:fade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kontrolnih objek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 u gornjem levom uglu koja je oblika kvadra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 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je 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d ostalh, sl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 pomeranje objek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 ostale sl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za pod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je vel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 objek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 kontrolnih objekata m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da se menja povl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m jedne od manjih r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mog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 po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je ili smanjenje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ine i visi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likom modelovanja obrasca ili iz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ja aktivirana je alatk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Object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lica ili pokazi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ja se koristi za biranje kontrolnog objek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ovremeni izbor v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kontrolnih objekata v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e kor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m tastera Shift prilikom njihovog selektov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67B-2AB6-4D75-965B-AC067FE04596}" type="slidenum">
              <a:t>160</a:t>
            </a:fld>
          </a:p>
        </p:txBody>
      </p:sp>
    </p:spTree>
  </p:cSld>
  <p:transition>
    <p:fade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ravnavanje grupe objek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pcija meni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služi za poravnjavan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nekoliko kontrolnih objekat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oravnava leve ivice grupe izabranih objekata sa levom ivico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jv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u levo pozicioniranog objekta iz grup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ogno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opcij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vr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se poravnjavanj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pomoću opcija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Bottom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i to sa desnom, gornjom i donjom ivicom objekata, respektiv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poravnava gornje leve uglove grupe izabranih objekata sa najbližom tačkom mrež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203640" y="5084640"/>
            <a:ext cx="237168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BE6-F4DD-4FC0-B5E5-7CFDDB8AABB7}" type="slidenum">
              <a:t>161</a:t>
            </a:fld>
          </a:p>
        </p:txBody>
      </p:sp>
    </p:spTree>
  </p:cSld>
  <p:transition>
    <p:fade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ravnavanje grupe objek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 bi se izvr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lo poravanavanje grupe objekata potrebno je prvo selektovati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jenu grup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ktovanje se vr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tako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e sve vreme dok se biraju objekti (klikom na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jeni objekat) dr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pritisnut taste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C10-1F9D-48AD-A561-B6B6FEC5CD0B}" type="slidenum">
              <a:t>162</a:t>
            </a:fld>
          </a:p>
        </p:txBody>
      </p:sp>
    </p:spTree>
  </p:cSld>
  <p:transition>
    <p:fade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Pode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šavanje veličine objek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zbor opcije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Format-Siz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nudi nekoliko mogućnosti za podešavanje veličine objek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to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 osnov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vrednosti podatak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reže (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l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rugih objekat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Grupisanjem kontrolnih objekata može da se bira i formatira više njih istovremen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Za formiranje grupe bira se jedan po jedan pritiskom miša i držanjem pri tom tastera Shif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ošto se izaberu željeni objekti u meniju se bira opcija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Format-Group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55B-AD88-4089-98C8-3D2A91FC360C}" type="slidenum">
              <a:t>163</a:t>
            </a:fld>
          </a:p>
        </p:txBody>
      </p:sp>
    </p:spTree>
  </p:cSld>
  <p:transition>
    <p:fade/>
  </p:transition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Pode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šavanje veličine objek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1619280" y="2168640"/>
            <a:ext cx="5761080" cy="23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94A-F46F-493B-8BC3-D7FF0E6A9824}" type="slidenum">
              <a:t>164</a:t>
            </a:fld>
          </a:p>
        </p:txBody>
      </p:sp>
    </p:spTree>
  </p:cSld>
  <p:transition>
    <p:fade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Pode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šavanje veličine objek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cije za pode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anje veli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e objeka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 Fit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podešava visinu i širinu objekta prema njihovom sadr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ju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 tako da se vidi ceo sadr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 Grid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menja dimenzije izabranih objekata tako da se njihovi uglovi poklope sa najbližim tačkama mrež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 Tallest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podešava visinu izabranih objekata tako da svi imaju istu visinu  i to jednaku visini najvišeg među nji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Shortest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podešava visinu izabranih objekata tako da svi imaju istu visinu jednaku visini najnižeg među nji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Widest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podešava širinu izabranih objekata tako da svi imaju istu širinu kao i najširi među nj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Narrowest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podešava širinu izabranih objekata tako da svi imaju istu širinu kao i najuži među nji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09A-A902-453A-9A7D-C2B1207F5D35}" type="slidenum">
              <a:t>165</a:t>
            </a:fld>
          </a:p>
        </p:txBody>
      </p:sp>
    </p:spTree>
  </p:cSld>
  <p:transition>
    <p:fade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Svojst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747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Svojstva (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) su obeležja kontrolnih objekata, polja ili baze podataka koja imaju imena i čije vrednosti određuju karakteristike i ponašanje kontrolnog objekta, polja ili objekta baze podatak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vojstvo može da odredi vizuelne karakteristike objekta, njegovo funkcionalno ponašanje kao i informacije vezane za sadržaj koji će se u njemu nalazit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ena i vrednosti svojstava se prikazuju na listu koji se zove i prozor svojstav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gu se sagledavati sve osobine istovremeno (kartica All), ili određena grupa što je praktičn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eva kolona sadrži imena svojstava, a u desnu se upisuju vrednosti svojsta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B9E-A93F-454B-B438-E50CAD022A33}" type="slidenum">
              <a:t>166</a:t>
            </a:fld>
          </a:p>
        </p:txBody>
      </p:sp>
    </p:spTree>
  </p:cSld>
  <p:transition>
    <p:fade/>
  </p:transition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vojstva</a:t>
            </a:r>
            <a:r>
              <a:rPr b="1" lang="sr-Latn-C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ktiviranje prozora sa svojstvima izvršava se klikom na desni taster miša nad kontrolnim objektom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ja se svojstv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 definisati i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izborom opcije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4537080" cy="400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535-0E68-4264-A30B-5B6D7ACDAC8F}" type="slidenum">
              <a:t>167</a:t>
            </a:fld>
          </a:p>
        </p:txBody>
      </p:sp>
    </p:spTree>
  </p:cSld>
  <p:transition>
    <p:fade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vojst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Svojstva iz grupe 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Format </a:t>
            </a: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utiču na izgled objekt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Tu spadaju: font, veličina, boja, specijalni efekti, ivice 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Ova stvojstva određuju način na koji će biti prikazan sadržaj objekta kao i za koje će polje tabele/upita objekat biti veza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U grupi 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Event  </a:t>
            </a: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su svojstva koja su u vezi sa određenim događajima, kao što s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pritisak na taster miš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dodavanje novog zapis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pritisak na taster na koji bi trebalo definisati odziv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 svojstva utiču na ostale karakteristike objekta (ime ili tekst opisa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1A1-3A83-4968-B57D-CC28E7FAF352}" type="slidenum">
              <a:t>168</a:t>
            </a:fld>
          </a:p>
        </p:txBody>
      </p:sp>
    </p:spTree>
  </p:cSld>
  <p:transition>
    <p:fade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vojst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Spisak svojstava za obrasce je dug ali su najčešće korišćene opcij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Caption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za izmenu teksta u naslovnoj liniji pri radu sa obrascem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Default View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za određivanje načina prikaza kada se aktivira obrazac; ova opcija obuhvata dve podopcij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Single Form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(jedan zapis po stran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Continuous Form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(onoliko zapisa po strani koliko može da stan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Allow Edits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dozvoljava ili sprečava izmenu podatak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Allow Delitions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Allow Additions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dozvoljava ili sprečava brisanje postojećih i dodavanje novih slogov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Record Selectors 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definiše prikazivanja vertikalne palete birača zapis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CF4-B6A8-4B32-B783-530D0358D987}" type="slidenum">
              <a:t>169</a:t>
            </a:fld>
          </a:p>
        </p:txBody>
      </p:sp>
    </p:spTree>
  </p:cSld>
  <p:transition>
    <p:fade/>
  </p:transition>
  <p:timing>
    <p:tnLst>
      <p:par>
        <p:cTn id="1734" dur="indefinite" restart="never" nodeType="tmRoot">
          <p:childTnLst>
            <p:seq>
              <p:cTn id="1735" dur="indefinite" nodeType="mainSeq">
                <p:childTnLst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za podataka u Access-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aza podataka sadrži jednu ili više tabel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Većin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za podatak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u Access-u s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više međusobno povezanih tabel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efikasn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vanja i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rikaza pod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ad sa više tabela pojednostavljuje unošenje podataka i pravljenje izveštaja tako što umanjuje broj suvišnih podatak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EE3-C3AE-47D8-8D62-E385F43EBE65}" type="slidenum">
              <a:t>17</a:t>
            </a:fld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vojst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ajčešće korišćena svojstava za obrasce (nastavak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Border Style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finiše stil okvira obrasca i nudi opcije da obrazac b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None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bez okvir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Thin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tanak okvir koji ne omogućuje menjanje veličine prozor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izable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standardna vrednost) 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ijalog tipa (debeo okvir za dijalog sa naslovnom linijom koja se ne menja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Picture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opcija sadrži ime datoteke sa rasterskom slikom koja služi kao pozadina obrasc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Picture Type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adrži dve podop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Embeded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slika se ugrađuje u obrazac kao deo baze podatak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Linked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slika se povezuje sa obrascem i pamti se lokacija gde se nalaz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Record Sourse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koja definiše izbor podataka koji se prikazuje u obrascu (tabela ili upi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748-A21B-4EFC-A230-34B5ABDD5AFD}" type="slidenum">
              <a:t>170</a:t>
            </a:fld>
          </a:p>
        </p:txBody>
      </p:sp>
    </p:spTree>
  </p:cSld>
  <p:transition>
    <p:fade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Zaglavlje obras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 obrazac se može ugraditi više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rsta zaglavlj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Header)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 podnož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Footer):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Form Head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glavlj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rasca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e pojavljuje na vrhu svake strane prikaza i štampanog obrasc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Page Heade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zaglavlje strane) se javlja samo na štampanom obrascu-posle zaglavlj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Page Foote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podnožje strane) se javlja samo na štampanom obrascu-ispred podnožj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Form Foote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podnožje obrasca) se pojavljuje u dnu svake strane prikaza i štampanog obras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1BC-792F-46AC-939B-6B3512EEA0A6}" type="slidenum">
              <a:t>171</a:t>
            </a:fld>
          </a:p>
        </p:txBody>
      </p:sp>
    </p:spTree>
  </p:cSld>
  <p:transition>
    <p:fade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Zaglavlje obras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 bi se napravilo zaglavlje i u njega uneo odgovarajući tekst potrebno 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voriti odgovarajući obraza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abrati opciju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m Header/Foot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 prikaz zaglavlja i podnožja obrasca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izabrati natpis koji se prebacuje u 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Form Header </a:t>
            </a: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ili u njega uneti novi teks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podesiti veličinu zaglavlja i podnož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7F0-DDC9-4467-9DFD-3218370B7C60}" type="slidenum">
              <a:t>172</a:t>
            </a:fld>
          </a:p>
        </p:txBody>
      </p:sp>
    </p:spTree>
  </p:cSld>
  <p:transition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500" spc="-1" strike="noStrike">
                <a:solidFill>
                  <a:srgbClr val="330066"/>
                </a:solidFill>
                <a:latin typeface="Arial"/>
              </a:rPr>
              <a:t>Kontrolna Tabla (Switchboard)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23640" y="171936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Kada pravite aplikaciju u Access-u koju će koristiti neki drugi korisnik, potrebno je napraviti forme, ali i obezbediti mehanizam za jednostavno kretanje kroz for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Access obezbedjuje jedan takav mehanizam u formi Kontrolne table (</a:t>
            </a:r>
            <a:r>
              <a:rPr b="1" lang="sv-SE" sz="3000" spc="-1" strike="noStrike">
                <a:solidFill>
                  <a:srgbClr val="000000"/>
                </a:solidFill>
                <a:latin typeface="Arial"/>
              </a:rPr>
              <a:t>Switchboard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likacija se pokreće prikazivanjem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witchboard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-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Switchboard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može da se kreće kroz ostale forme, 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o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omogući korisniku lakši rad sa aplikacij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C3A-0BF7-4845-9DC0-0984C9100227}" type="slidenum">
              <a:t>173</a:t>
            </a:fld>
          </a:p>
        </p:txBody>
      </p:sp>
    </p:spTree>
  </p:cSld>
  <p:transition>
    <p:fade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500" spc="-1" strike="noStrike">
                <a:solidFill>
                  <a:srgbClr val="330066"/>
                </a:solidFill>
                <a:latin typeface="Arial"/>
              </a:rPr>
              <a:t>Kreiranje Kontrolne table (Switchbo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lakši način da se kreir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witchboard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je korišćenjem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Switchboard Wizard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-a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možete uraditi na sledeći nač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zaberit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ols | Database Utilities | Switchboard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oliko niste kreiral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itchboa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za aplikaciju, pojaviće se poruk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itchboard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, koji traži da ga kreirate.Izaberit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kazaće vam s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itchboard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jalog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imetićete da je Access automatski kreira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n Switchboa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F81-8B77-459B-8385-A5C416AE7FCA}" type="slidenum">
              <a:t>174</a:t>
            </a:fld>
          </a:p>
        </p:txBody>
      </p:sp>
    </p:spTree>
  </p:cSld>
  <p:transition>
    <p:fade/>
  </p:transition>
  <p:timing>
    <p:tnLst>
      <p:par>
        <p:cTn id="1832" dur="indefinite" restart="never" nodeType="tmRoot">
          <p:childTnLst>
            <p:seq>
              <p:cTn id="1833" dur="indefinite" nodeType="mainSeq">
                <p:childTnLst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itchboard Manager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6769080" cy="404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F20-FBF0-499F-8957-06BB68C56E91}" type="slidenum">
              <a:t>175</a:t>
            </a:fld>
          </a:p>
        </p:txBody>
      </p:sp>
    </p:spTree>
  </p:cSld>
  <p:transition>
    <p:fade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330066"/>
                </a:solidFill>
                <a:latin typeface="Arial"/>
              </a:rPr>
              <a:t>Kreiranje Kontrolne Table (Switchboard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dajte dodatn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boa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e, tako što će te pritisnuti n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ojaviće s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e 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ja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971640" y="3502080"/>
            <a:ext cx="6913440" cy="20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1F1-A5E1-4E30-A095-7DD8D5B8B54D}" type="slidenum">
              <a:t>176</a:t>
            </a:fld>
          </a:p>
        </p:txBody>
      </p:sp>
    </p:spTree>
  </p:cSld>
  <p:transition>
    <p:fade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500" spc="-1" strike="noStrike">
                <a:solidFill>
                  <a:srgbClr val="330066"/>
                </a:solidFill>
                <a:latin typeface="Arial"/>
              </a:rPr>
              <a:t>Kreiranje Kontrolne Table (Switchboard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 bi ste dodali forme koje ste kreirali, izaberi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boa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kome pripada data forma i pritisni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5832360" cy="35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FF9-AE13-4D21-A859-C47C9A037D45}" type="slidenum">
              <a:t>177</a:t>
            </a:fld>
          </a:p>
        </p:txBody>
      </p:sp>
    </p:spTree>
  </p:cSld>
  <p:transition>
    <p:fade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500" spc="-1" strike="noStrike">
                <a:solidFill>
                  <a:srgbClr val="330066"/>
                </a:solidFill>
                <a:latin typeface="Arial"/>
              </a:rPr>
              <a:t>Kreiranje Kontrolne Table (Switchboard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ešavanje autostart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Switchboa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ite na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Tools | Star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esite naziv aplikacije u polj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ication 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Izaberite formu koju želite da prikaž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Potvrdite sa O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0D2-F800-42A5-9F1D-949BEE8AD7F9}" type="slidenum">
              <a:t>178</a:t>
            </a:fld>
          </a:p>
        </p:txBody>
      </p:sp>
    </p:spTree>
  </p:cSld>
  <p:transition>
    <p:fade/>
  </p:transition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jalog Startup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95280" y="1596960"/>
            <a:ext cx="8353440" cy="453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FCB-FF8D-47C0-B440-313580C9616D}" type="slidenum">
              <a:t>179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Prozor baze podataka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u Access-u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272360" cy="521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64F-0B26-4E23-BE79-69822454E74F}" type="slidenum">
              <a:t>18</a:t>
            </a:fld>
          </a:p>
        </p:txBody>
      </p:sp>
    </p:spTree>
  </p:cSld>
  <p:transition>
    <p:fade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vljenje izveštaj</a:t>
            </a:r>
            <a:r>
              <a:rPr b="1" lang="sr-Latn-CS" sz="4800" spc="-1" strike="noStrike">
                <a:solidFill>
                  <a:srgbClr val="330066"/>
                </a:solidFill>
                <a:latin typeface="Arial"/>
              </a:rPr>
              <a:t>a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39280" y="3049560"/>
            <a:ext cx="669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veštaj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ljenje izveštaja pomoću čarobnj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vešta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Poslednji korak u projektovanju ba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podata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uz pomoć Access-a, je pravljenje izveštaj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lič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obrasima, koriste se za prikaz podatak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l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 za razliku od obrazac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izveštaji se n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kazuju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na monitoru već na papir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akle izveštaji su specijalizovani oblik prikazivan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odata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iz upita i tabela prilagođen štamp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jima se mogu prikazati sumarni podaci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zultati statisti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e obrade podataka ili predstaviti podaci u grafi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m obliku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CFD-6555-4645-98EA-C3E168268AC0}" type="slidenum">
              <a:t>181</a:t>
            </a:fld>
          </a:p>
        </p:txBody>
      </p:sp>
    </p:spTree>
  </p:cSld>
  <p:transition>
    <p:fade/>
  </p:transition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vešta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savremenom poslovnom svetu koriste se sle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vrste izv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j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belarni izveštaj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podaci se štampaju u redovima i kolonama, grupisani su i izračunavaju se ukupni zbirovi, kao varijante mogu se dobiti među zbirov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Stubični izveštaji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- liče na obrasce i mogu da izračunavaju ukupne zbirove, sadrže dijagra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Izveštaji za štampanje cirkularnih pisam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Izveštaji za štampanje nalepnica sa adresama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- ova vrsta izveštaja omogućuje štampanje poštanskih adresa u više stupaca ili izveštaja sa hijerarhijskim prikazom podata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A0E-00E9-4E62-B131-484093A0C1BB}" type="slidenum">
              <a:t>182</a:t>
            </a:fld>
          </a:p>
        </p:txBody>
      </p:sp>
    </p:spTree>
  </p:cSld>
  <p:transition>
    <p:fade/>
  </p:transition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zgled izveštaj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755640" y="1401840"/>
            <a:ext cx="7632720" cy="49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E38-7FA6-49F7-B9B9-25D08036CCC9}" type="slidenum">
              <a:t>183</a:t>
            </a:fld>
          </a:p>
        </p:txBody>
      </p:sp>
    </p:spTree>
  </p:cSld>
  <p:transition>
    <p:fade/>
  </p:transition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vešta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jčešće u izveštajima nisu dovoljni samo jednostavni tabelarni prikazi, već i grupisanja, sortiranja, izdvajan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laniranje izveštaja počine mnogo pre nego što se napravi izveštaj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FC1-C9DD-4215-9293-E52C0DD09936}" type="slidenum">
              <a:t>184</a:t>
            </a:fld>
          </a:p>
        </p:txBody>
      </p:sp>
    </p:spTree>
  </p:cSld>
  <p:transition>
    <p:fade/>
  </p:transition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vešta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 dobro dizajnirane i osmišljene izveštaje potrebno je pratiti sledeća pravil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Definisanje izgleda izveštaj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pravi se skica izveštaja na papiru na koji se okvirno raspoređuje prostor gde će biti smešteni podaci, zaglavlja i totali. Već u ovom koraku je neophodno odrediti načine na koje će se vršiti eventualna grupisanja i sortiran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Pridruživanje podatak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– raspoređivanje konkretnih podataka (polja iz tabele ili upita) koji će se nalaziti u izveštaju. Kao izvor podataka obično se koriste sadržaji tabela ili specijalno napravljeni upi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82E-D206-49B4-B306-F0BF9C84423B}" type="slidenum">
              <a:t>185</a:t>
            </a:fld>
          </a:p>
        </p:txBody>
      </p:sp>
    </p:spTree>
  </p:cSld>
  <p:transition>
    <p:fade/>
  </p:transition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zvešta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vila z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 dobro dizajnirane i osmišljene izveštaj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astavak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astavljanje izveštaja u Access prozoru za oblikovanje izveštaj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nakon sastavljanj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cepta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zveštaja potrebno je to i tehničk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eirat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korišćenjem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Report Writer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regledanj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štampanje sadržaja izveštaj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na kraju se preporučuje probno štampanje, radi provere i lakšeg uočavanja eventualnih grešak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Posebna pažnja mora se voditi o dimenizijama papira, jer se često dešavaju problemi sa marginama, neophodna je provera opcije 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Page Setup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da bi se otklonile eventualne grešk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EA6-E174-4BC5-9BD7-5DE775184B04}" type="slidenum">
              <a:t>186</a:t>
            </a:fld>
          </a:p>
        </p:txBody>
      </p:sp>
    </p:spTree>
  </p:cSld>
  <p:transition>
    <p:fade/>
  </p:transition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 Accessu je moguće napraviti svak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pomenutih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zveštaj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Čarobnja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 izveštaje pojednostavljuju postupak razmeštanja polja tako što najpre vizuelno postavljaju niz pitanja o željenom izveštaju, a onda ga automatski prave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veštaji se prave klikom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konic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zatim n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ciju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Nakon toga starovaće se prozor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koji vam omogu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da n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razl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ih načina pravite izveštaje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42A-AE21-45FE-B6C0-C769B950F6DD}" type="slidenum">
              <a:t>187</a:t>
            </a:fld>
          </a:p>
        </p:txBody>
      </p:sp>
    </p:spTree>
  </p:cSld>
  <p:transition>
    <p:fade/>
  </p:transition>
  <p:timing>
    <p:tnLst>
      <p:par>
        <p:cTn id="1976" dur="indefinite" restart="never" nodeType="tmRoot">
          <p:childTnLst>
            <p:seq>
              <p:cTn id="1977" dur="indefinite" nodeType="mainSeq">
                <p:childTnLst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zgled dijaloga New Report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5543640" cy="434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2BD-B19E-4337-99CD-76A38A73CF0A}" type="slidenum">
              <a:t>188</a:t>
            </a:fld>
          </a:p>
        </p:txBody>
      </p:sp>
    </p:spTree>
  </p:cSld>
  <p:transition>
    <p:fade/>
  </p:transition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izvešta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cije dijalog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New Repor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Design Vie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prikazuje prazan prostor za oblikovanje izveštaja kao polaznu osnov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Report Wizar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okreće čarobnjaka za izradu izveštaja koji pravi izveštaj  postavljajući brojna pitanj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Auto Report: Columnar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automatski sastavlja stubični izveštaj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Auto Report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belar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automatski sastavlj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elarn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izveštaj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Chart Wizar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pokreće čarobnjaka koji pomaže u pravljenju poslovnog dijagram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a dijagramim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Label Wizar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koji pokreće čarobnjaka koji pomaže u pripremi poštanske nalepn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207-41C2-43D1-A795-5E6E6AB7EA6F}" type="slidenum">
              <a:t>189</a:t>
            </a:fld>
          </a:p>
        </p:txBody>
      </p:sp>
    </p:spTree>
  </p:cSld>
  <p:transition>
    <p:fade/>
  </p:transition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0066"/>
                </a:solidFill>
                <a:latin typeface="Arial"/>
              </a:rPr>
              <a:t>Prozor baze podataka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u Access-u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 levoj strani prozora nalazi se meni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eni  sadrži sedam dugmadi pomoću kojih može da se izabere neki od sedam vrsta objekat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Tabele, Stranice, Upiti, Makroi, Obrasci, Moduli, Izvešta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 desnoj strani prikazuj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spisak imena objekata koji je izabran na levoj stra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d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se napravi novi objekat, njegovo ime s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suje u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listu proz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baze podataka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 gornjem delu prozora se nalazi paleta sa alatkam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883-CE9E-47D1-A53E-97754C2AC9B5}" type="slidenum">
              <a:t>19</a:t>
            </a:fld>
          </a:p>
        </p:txBody>
      </p:sp>
    </p:spTree>
  </p:cSld>
  <p:transition>
    <p:fade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2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2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robnjaka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Report Wizard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vaki izveštaj koji pravimo zasniva se na podacima iz tabele ili upita.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zbor tabele ili upita čija će se polja nalaziti na izveštaju vrši se u podnožju početnog dijaloga za pravljenje izveštaja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ew Report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akon izbor tabele/upita na sledećem ekranu je potrebno izabrati polja koja će učestvovati u stvaranju izveštaju.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voljno je selektovati polje, pritisnuti strelicu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i automatski to polje će se naći u susednom przozor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lje možete i izbaciti pritiskom na strelicu u suprotnom sme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&lt;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ikom 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lazimo na sledeći prozo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BC5-D7B8-4399-89DD-2B2D31FA5BC8}" type="slidenum">
              <a:t>190</a:t>
            </a:fld>
          </a:p>
        </p:txBody>
      </p:sp>
    </p:spTree>
  </p:cSld>
  <p:transition>
    <p:fade/>
  </p:transition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543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0066"/>
                </a:solidFill>
                <a:latin typeface="Arial"/>
              </a:rPr>
              <a:t>Izgled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prvog ekrana </a:t>
            </a:r>
            <a:r>
              <a:rPr b="1" lang="sr-Latn-CS" sz="3200" spc="-1" strike="noStrike">
                <a:solidFill>
                  <a:srgbClr val="330066"/>
                </a:solidFill>
                <a:latin typeface="Arial"/>
              </a:rPr>
              <a:t>dijaloga </a:t>
            </a:r>
            <a:br>
              <a:rPr sz="3200"/>
            </a:br>
            <a:r>
              <a:rPr b="1" lang="sr-Latn-CS" sz="3200" spc="-1" strike="noStrike">
                <a:solidFill>
                  <a:srgbClr val="330066"/>
                </a:solidFill>
                <a:latin typeface="Arial"/>
              </a:rPr>
              <a:t>Report Wizard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476360" y="1515960"/>
            <a:ext cx="6191280" cy="469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B7D0-C0C5-4086-96E1-ACF43C162F2D}" type="slidenum">
              <a:t>191</a:t>
            </a:fld>
          </a:p>
        </p:txBody>
      </p:sp>
    </p:spTree>
  </p:cSld>
  <p:transition>
    <p:fade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robnjaka (Report Wiz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U sledećem ekranu dijaloga zadaju se instrukcije po kom polju ili poljima se grupišu podac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Wizard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omogućuje da se na izveštaju definišu od nula do četiri polja za grupis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redosled polja za grupisanje mo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e da se menja pomoću dugmadi za prioritet (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),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dodeljeni prioritet određuje nivoe u hijerarhiji grup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1E2-F9F8-44B1-8B33-E7F50CBF4A19}" type="slidenum">
              <a:t>192</a:t>
            </a:fld>
          </a:p>
        </p:txBody>
      </p:sp>
    </p:spTree>
  </p:cSld>
  <p:transition>
    <p:fade/>
  </p:transition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zgled dijaloga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port Wizard / Group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904000" cy="4465800"/>
          </a:xfrm>
          <a:prstGeom prst="rect">
            <a:avLst/>
          </a:prstGeom>
          <a:ln w="0">
            <a:noFill/>
          </a:ln>
        </p:spPr>
      </p:pic>
      <p:grpSp>
        <p:nvGrpSpPr>
          <p:cNvPr id="661" name=""/>
          <p:cNvGrpSpPr/>
          <p:nvPr/>
        </p:nvGrpSpPr>
        <p:grpSpPr>
          <a:xfrm>
            <a:off x="3995640" y="2421000"/>
            <a:ext cx="4392720" cy="1838880"/>
            <a:chOff x="3995640" y="2421000"/>
            <a:chExt cx="4392720" cy="1838880"/>
          </a:xfrm>
        </p:grpSpPr>
        <p:sp>
          <p:nvSpPr>
            <p:cNvPr id="662" name=""/>
            <p:cNvSpPr/>
            <p:nvPr/>
          </p:nvSpPr>
          <p:spPr>
            <a:xfrm>
              <a:off x="6948360" y="3068640"/>
              <a:ext cx="144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upisanje zadato poljem BrRac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3995640" y="2421000"/>
              <a:ext cx="29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715-EEC5-42AC-AA33-498B56E0EDEA}" type="slidenum">
              <a:t>193</a:t>
            </a:fld>
          </a:p>
        </p:txBody>
      </p:sp>
    </p:spTree>
  </p:cSld>
  <p:transition>
    <p:fade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robnjaka (Report Wiz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gm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rouping Op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jaloga sa prethodne slik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mogu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da se detaljnije izvrši grupisa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 zavisnosti od tipa polja izabranog za grupisanje, lista nudi različite načine grupisanja npr. znakovni, numerički, datums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ritiskom na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, dobijate naredni ekran dijaloga u okviru koga se zadaje 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rtiranja polja u izv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ju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4FA-0282-4C6A-A995-6C2513B46233}" type="slidenum">
              <a:t>194</a:t>
            </a:fld>
          </a:p>
        </p:txBody>
      </p:sp>
    </p:spTree>
  </p:cSld>
  <p:transition>
    <p:fade/>
  </p:transition>
  <p:timing>
    <p:tnLst>
      <p:par>
        <p:cTn id="2082" dur="indefinite" restart="never" nodeType="tmRoot">
          <p:childTnLst>
            <p:seq>
              <p:cTn id="2083" dur="indefinite" nodeType="mainSeq">
                <p:childTnLst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robnjaka (Report Wiz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ko je bar jedno od polja izabranih za prikaz u izve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ju numeri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, u okviru ekrana za sortiranje pojavljuje se dugm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ummary Options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likom na ovo dugme prelazi se na dijalog u kome se mo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zahtevat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iranj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računavanje prosečne vrednosti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redjivanje najmanjeg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 najvećeg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zapisa u grup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ko se izabere opcij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tail and Summary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veštaj će prikazivati sve podatke dok opcij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ummary Only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 izveštaju prikazuje samo sumarne podatk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koliko se potvrdi polj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lculate percent of total for su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zpod zbira grupe na izveštaju pojaviće se procenat koji predstavlja učešće zbira grupe u ukupnom zbiru izveštaj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E10-80DB-4C5F-81EE-028A43158FAE}" type="slidenum">
              <a:t>195</a:t>
            </a:fld>
          </a:p>
        </p:txBody>
      </p:sp>
    </p:spTree>
  </p:cSld>
  <p:transition>
    <p:fade/>
  </p:transition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zgled dijaloga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port Wizard / Summary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pt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545080" cy="489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C11-96AB-4B26-9F8C-E5C15FCC89F8}" type="slidenum">
              <a:t>196</a:t>
            </a:fld>
          </a:p>
        </p:txBody>
      </p:sp>
    </p:spTree>
  </p:cSld>
  <p:transition>
    <p:fade/>
  </p:transition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robnjaka (Report Wiz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d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va dijaloga ut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na izgled izv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ja.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vi od njih omogućava da se zada razmeštaj podatak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upa opcij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di šest mogućih načina koji opisuju Access-u da li treba d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navlja zaglavlje stubaca ili n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vuče u desno niže nivoe grupisanj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 doda linije ili okvire između redova podataka u odeljku za detalj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što se izabere određena opcija slika na levoj strani se menja da bi se videlo delovanje opcij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214-1048-4175-80E7-C953341C6FB2}" type="slidenum">
              <a:t>197</a:t>
            </a:fld>
          </a:p>
        </p:txBody>
      </p:sp>
    </p:spTree>
  </p:cSld>
  <p:transition>
    <p:fade/>
  </p:transition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zgled dijaloga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port Wizard / Layout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335640" cy="478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C39-D6E0-4FB6-B181-9839999BABB5}" type="slidenum">
              <a:t>198</a:t>
            </a:fld>
          </a:p>
        </p:txBody>
      </p:sp>
    </p:spTree>
  </p:cSld>
  <p:transition>
    <p:fade/>
  </p:transition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robnjaka (Report Wiz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Pritiskom na </a:t>
            </a:r>
            <a:r>
              <a:rPr b="1" lang="pt-PT" sz="30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 dobijate drugi dijalog kojim se zadaje izgled izveštaja, konkretno bira se stil izvešta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aki stil nudi drugačije pozadinsko senčenje, veličinu fonta i druge karakteristike formatiran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ko se izabere opcija slika sa leve strane pokazuje njeno delovanj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CDB-301B-4C51-B60E-9C3649705C8A}" type="slidenum">
              <a:t>199</a:t>
            </a:fld>
          </a:p>
        </p:txBody>
      </p:sp>
    </p:spTree>
  </p:cSld>
  <p:transition>
    <p:fade/>
  </p:transition>
  <p:timing>
    <p:tnLst>
      <p:par>
        <p:cTn id="2102" dur="indefinite" restart="never" nodeType="tmRoot">
          <p:childTnLst>
            <p:seq>
              <p:cTn id="2103" dur="indefinite" nodeType="mainSeq">
                <p:childTnLst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O</a:t>
            </a:r>
            <a:r>
              <a:rPr b="0" lang="sr-Latn-CS" sz="3500" spc="-1" strike="noStrike">
                <a:solidFill>
                  <a:srgbClr val="330066"/>
                </a:solidFill>
                <a:latin typeface="Arial"/>
              </a:rPr>
              <a:t>v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a</a:t>
            </a: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sr-Latn-CS" sz="35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rezentacija</a:t>
            </a: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upozna</a:t>
            </a:r>
            <a:r>
              <a:rPr b="0" lang="sr-Latn-CS" sz="3500" spc="-1" strike="noStrike">
                <a:solidFill>
                  <a:srgbClr val="330066"/>
                </a:solidFill>
                <a:latin typeface="Arial"/>
              </a:rPr>
              <a:t>će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 vas sa</a:t>
            </a: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novnim karakteristikama Access-a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adnim okr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ženj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novnim elementima ACCESS-a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a se sve može uradit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Access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8FC-0B90-4C88-8AF9-DB7AF71538DA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0066"/>
                </a:solidFill>
                <a:latin typeface="Arial"/>
              </a:rPr>
              <a:t>Rad sa tabelam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jektovanje tabe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avljenje nove baze podata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racije nad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abel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54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zgled dijaloga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port Wizard / Styl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1258920" y="1362240"/>
            <a:ext cx="6408720" cy="48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35E-5CAC-4FD3-BA17-587EC925FF53}" type="slidenum">
              <a:t>200</a:t>
            </a:fld>
          </a:p>
        </p:txBody>
      </p:sp>
    </p:spTree>
  </p:cSld>
  <p:transition>
    <p:fade/>
  </p:transition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reiranje izveštaja kori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ćenjem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robnjaka (Report Wizar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gm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x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uži za prelazak na poslednji ekran dijaloga čarobnjak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port Wizar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staje samo da ukucate naslov izveštaj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 se prikazuje u izveštaju samo jednom, a ne na početku svake stra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arobnjak sam nudi ime tabele, ali ponuđeni naslov može da se prome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tim se bira jedna od opcija u donjem delu okvira za dijalog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iew the re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elazak u reži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 P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 koga se može pregledati izveštaj i štampa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y the report's desig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elazak u reži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kome uz pomo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Wri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može da se menja struktura izvešt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g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ži da bi čarobnjak završio svoj posao i prikazao izveštaj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58F-0DD9-4303-97DF-4B772D01015B}" type="slidenum">
              <a:t>201</a:t>
            </a:fld>
          </a:p>
        </p:txBody>
      </p:sp>
    </p:spTree>
  </p:cSld>
  <p:transition>
    <p:fade/>
  </p:transition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mpanje izve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ada se zav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 proces kreiranja izv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ja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edino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preostaje jest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mpanje istog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s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se izvr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i na sled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na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tiskom na dug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menij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tiskom na dugme Print u prozoru za pregledanje iz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tiskom na dug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prozoru baze podata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 prethodno istakne ime iz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uktura izv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ja mo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da se snimi na disk u svakom trenutku izborom opcija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ada se izv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j snima na disk po prvi put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avlja se okvir za dijalog u kome se zadaje ime izv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ja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kvir za dijalog sam nudi ime koj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arobnjak podrazumeva za izv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taj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a to je </a:t>
            </a: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3C1-0C1A-4E66-A070-8B1B7BA0B86A}" type="slidenum">
              <a:t>202</a:t>
            </a:fld>
          </a:p>
        </p:txBody>
      </p:sp>
    </p:spTree>
  </p:cSld>
  <p:transition>
    <p:fade/>
  </p:transition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55164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Upoznajte se </a:t>
            </a:r>
            <a:br>
              <a:rPr sz="5400"/>
            </a:b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sa MS ACCESS</a:t>
            </a:r>
            <a:r>
              <a:rPr b="0" lang="en-US" sz="5400" spc="-1" strike="noStrike">
                <a:solidFill>
                  <a:srgbClr val="330066"/>
                </a:solidFill>
                <a:latin typeface="Arial"/>
              </a:rPr>
              <a:t>-om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4" dur="indefinite" restart="never" nodeType="tmRoot">
          <p:childTnLst>
            <p:seq>
              <p:cTn id="2165" dur="indefinite" nodeType="mainSeq">
                <p:childTnLst>
                  <p:par>
                    <p:cTn id="2166" fill="hold">
                      <p:stCondLst>
                        <p:cond delay="0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Rad sa tabela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vom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u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učićete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Kako se projektuje tabe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ko se p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ra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ba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podata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novne operacije nad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tabel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3B1-EE3F-4EB9-80AA-14266C9A34F8}" type="slidenum">
              <a:t>21</a:t>
            </a:fld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jektovanje tabel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ajpre je potrebn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sat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koji podaci će se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vat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u baz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kon toga, p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trebno j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upis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i podatke u logičke celine, iz kojih će nastati tab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 kraju, potrebno je definisati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vez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(relaci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 ko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r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povezivanje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abela koje dele i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odn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atke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3FB-FF1D-49BE-A467-113BEF94AF47}" type="slidenum">
              <a:t>22</a:t>
            </a:fld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jektovanje tabel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vako polje u tabeli mora da ima 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vako polje treba da bude određenog tip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Tip polja se mora biti u skladu sa podacima koji će se čuvati u tom polju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435-AC1C-4769-9AEB-98188997B85E}" type="slidenum">
              <a:t>23</a:t>
            </a:fld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jektovanje tabel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Tipovi podataka u Access-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/TimeDat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/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E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734-0E37-4A8E-9A09-5C8D18D9FAEC}" type="slidenum">
              <a:t>24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avljenje baze podatak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 startovanju MS Access-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ni ekra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ikazu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l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 opcije za rad u Access-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a bi se napravila napravila nova baza neophodn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 meniju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zabrati opciju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New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i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kliknuti na opciju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lank data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 desnoj strani po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nog ekrana Access-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228-FC19-4B76-AD3D-A32E24CF3ADF}" type="slidenum">
              <a:t>25</a:t>
            </a:fld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zgled po</a:t>
            </a:r>
            <a:r>
              <a:rPr b="1" lang="sl-SI" sz="3600" spc="-1" strike="noStrike">
                <a:solidFill>
                  <a:srgbClr val="330066"/>
                </a:solidFill>
                <a:latin typeface="Arial"/>
              </a:rPr>
              <a:t>č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tnog ekrana Access-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8360" y="996840"/>
            <a:ext cx="7559640" cy="559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C78-2A16-40D5-8760-8A6D91AE5819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Nakon pravljenja nove baze ili otvaranja već postojeće, sledeći korak je formiranje tab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trebno je u okvir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ija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 Objects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zabr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stav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Tab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E21-2180-4853-AD54-A0E6275DCD2F}" type="slidenum">
              <a:t>27</a:t>
            </a:fld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bela se može kreirati na tri načina: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išćenjem opcij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rišćenjem čarobnjaka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zar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eiranje tabele unosom podataka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12B-F1F8-48F9-95DD-A62893D2A7EC}" type="slidenum">
              <a:t>28</a:t>
            </a:fld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a pravljenje nove tabele iza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 opciju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Design Vie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ja 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luži za definisanj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trukture tabe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va opcij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stoji se od dv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nel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el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a polj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namenjen 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unosu imena i tipova podataka pojedinačnih polja i (opciono) teksta koji dodatno opisuje polje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el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a svojstva pol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namenjen definisanju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 svojstava (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) za svako pojedinačno pol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E20-8493-4550-9C83-64E4CE0E04BC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vod u Acces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ccess je sistem za upravljanje bazama podataka (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base management system DBMS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risti 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venstven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os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ladištenje i prika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i za automatizaciju poslova koji se često pon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likuje 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ok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produktivnost programa za upravljanje bazom podatak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DBMS)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lako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korišćenj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vojstven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plikacijama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349-1AEF-45AA-A87B-71C5C1873EF4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sign View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34544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EA7-63E1-4D09-8CF0-8FE366736052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vo polje se dodaje upisivanjem imena i tipa podataka polja u prazan re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el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a polj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View-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eželjeno polje možete izbrisati pritiskom na birač reda, a zatim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, ili iz menija 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Edit / Delete Row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om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redosl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olj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mo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jednostav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j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avit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remeštanj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olja unutar strukture tabe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j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obeležavanjem polja i odvlačenjem polja na novo mesto (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rag &amp; Drop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FEF-A6A9-4DC4-9488-EEA72EA04037}" type="slidenum">
              <a:t>31</a:t>
            </a:fld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ako polje mora biti određenog tip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p određuj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up operacija koje se mogu izvršavati nad poljem 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up vrednosti koje polje može da uzm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BE3-C78A-4B94-B8F3-DCB2BFA8158E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kon dodavanja svih polja u tabelu i podešavanja njihovih svojstva naredni korak je zadavanje primarnog ključ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aka tabela mora imati primaran ključ, odnosno, jedno ili više polja koja jedinstveno identifikuju svaki zapis tab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korisnik ne defin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 primarni ključ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ga sam sam postavl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578-5322-4945-9F39-A4D006C998FD}" type="slidenum">
              <a:t>33</a:t>
            </a:fld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tab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tupak kreiranja primarnog ključa podrazumeva sledeć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eleži se polje koje će služiti kao primarni ključ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tisne se desni taster miša i izabere opcija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257-FB52-4106-998E-8BC2E3D8BA09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Povezivanje tab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ze u modeliranju podatak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MOV - Elektronska prodavnic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ođenje PMOV u relacioni model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povi vez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postavljanje veza između tabel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184-3171-47EC-AF02-826EC54BFA82}" type="slidenum">
              <a:t>35</a:t>
            </a:fld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Povezivanje tab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vom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u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učićete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Šta su vez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ji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tipovi vez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oj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Kako uspostaviti veze među tabel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29B-3609-45BA-A23B-6B44F4611239}" type="slidenum">
              <a:t>36</a:t>
            </a:fld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Povezivanje tab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Osnovni uslov za uspostavljanje veze između dve tabele je da polj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ko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kojih se uspostavlja veza sadrž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datk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i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g tip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Veza se uspostavlja tako što se povezuju ključna polj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v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tabele, odnosno primarni ključ jedne tabele i spoljni ključ druge tabele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A71-1B3C-4A3F-ADAF-A2F8E80BC3A6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0066"/>
                </a:solidFill>
                <a:latin typeface="Arial"/>
              </a:rPr>
              <a:t>Veze u </a:t>
            </a:r>
            <a:r>
              <a:rPr b="0" lang="en-US" sz="40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0" lang="sr-CS" sz="4000" spc="-1" strike="noStrike">
                <a:solidFill>
                  <a:srgbClr val="330066"/>
                </a:solidFill>
                <a:latin typeface="Arial"/>
              </a:rPr>
              <a:t>odeliranj</a:t>
            </a:r>
            <a:r>
              <a:rPr b="0" lang="en-US" sz="4000" spc="-1" strike="noStrike">
                <a:solidFill>
                  <a:srgbClr val="330066"/>
                </a:solidFill>
                <a:latin typeface="Arial"/>
              </a:rPr>
              <a:t>u</a:t>
            </a:r>
            <a:r>
              <a:rPr b="0" lang="sr-CS" sz="4000" spc="-1" strike="noStrike">
                <a:solidFill>
                  <a:srgbClr val="330066"/>
                </a:solidFill>
                <a:latin typeface="Arial"/>
              </a:rPr>
              <a:t> podatak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OV - 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lektronska prodav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0066"/>
                </a:solidFill>
                <a:latin typeface="Arial"/>
              </a:rPr>
              <a:t>NABAVKA: </a:t>
            </a:r>
            <a:br>
              <a:rPr sz="3600"/>
            </a:br>
            <a:r>
              <a:rPr b="0" lang="pl-PL" sz="3600" spc="-1" strike="noStrike">
                <a:solidFill>
                  <a:srgbClr val="330066"/>
                </a:solidFill>
                <a:latin typeface="Arial"/>
              </a:rPr>
              <a:t>Podmodel za tok Naru</a:t>
            </a:r>
            <a:r>
              <a:rPr b="0" lang="sr-Latn-CS" sz="3600" spc="-1" strike="noStrike">
                <a:solidFill>
                  <a:srgbClr val="330066"/>
                </a:solidFill>
                <a:latin typeface="Arial"/>
              </a:rPr>
              <a:t>džbenica</a:t>
            </a:r>
            <a:br>
              <a:rPr sz="2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16120" y="2139840"/>
          <a:ext cx="571176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139840"/>
                    <a:ext cx="571176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EE7-1D42-41C4-AC9A-DF4A287AE5A8}" type="slidenum">
              <a:t>39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vod u Ac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cc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og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puno upravljanje relacionom bazom podat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belama je moguće pridružiti pravila koja proveravaju ispravnost i validnost podataka 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e s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prečava unos neispravni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t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ako polje tabele može imati svoj format i podrazumevanu vrednost što znatno povećava produktivn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6E8-EA51-4715-AF56-662972B8CF00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54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0066"/>
                </a:solidFill>
                <a:latin typeface="Arial"/>
              </a:rPr>
              <a:t>NABAVKA: </a:t>
            </a:r>
            <a:br>
              <a:rPr sz="3600"/>
            </a:br>
            <a:r>
              <a:rPr b="0" lang="pl-PL" sz="3600" spc="-1" strike="noStrike">
                <a:solidFill>
                  <a:srgbClr val="330066"/>
                </a:solidFill>
                <a:latin typeface="Arial"/>
              </a:rPr>
              <a:t>Podmodel za tok Naručivanj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46200" y="1719360"/>
          <a:ext cx="6050160" cy="44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719360"/>
                    <a:ext cx="605016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D40-2B70-4B47-8BC9-A4882DDB272B}" type="slidenum">
              <a:t>40</a:t>
            </a:fld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NABAVKA: </a:t>
            </a:r>
            <a:br>
              <a:rPr sz="3600"/>
            </a:b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Podmodel za tok Prije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32000" y="2332080"/>
          <a:ext cx="6478560" cy="31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332080"/>
                    <a:ext cx="6478560" cy="31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674-D62A-4D5E-8A6A-1190553997C1}" type="slidenum">
              <a:t>41</a:t>
            </a:fld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0066"/>
                </a:solidFill>
                <a:latin typeface="Arial"/>
              </a:rPr>
              <a:t>NABAVKA: </a:t>
            </a:r>
            <a:br>
              <a:rPr sz="3600"/>
            </a:br>
            <a:r>
              <a:rPr b="0" lang="pl-PL" sz="3600" spc="-1" strike="noStrike">
                <a:solidFill>
                  <a:srgbClr val="330066"/>
                </a:solidFill>
                <a:latin typeface="Arial"/>
              </a:rPr>
              <a:t>Podmodel za tok Faktura i Upla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106720" y="2136600"/>
          <a:ext cx="493056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136600"/>
                    <a:ext cx="493056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E1A-06EB-4F11-9CD5-957F661929BD}" type="slidenum">
              <a:t>42</a:t>
            </a:fld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INTEGRISANI MODEL NABAVK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154160" y="1994040"/>
          <a:ext cx="6835680" cy="38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994040"/>
                    <a:ext cx="6835680" cy="38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DCE-5EFE-4BA9-9F8A-401720E68DE7}" type="slidenum">
              <a:t>43</a:t>
            </a:fld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1224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0066"/>
                </a:solidFill>
                <a:latin typeface="Arial"/>
              </a:rPr>
              <a:t>PRODAJA: </a:t>
            </a:r>
            <a:br>
              <a:rPr sz="3200"/>
            </a:br>
            <a:r>
              <a:rPr b="0" lang="pl-PL" sz="3200" spc="-1" strike="noStrike">
                <a:solidFill>
                  <a:srgbClr val="330066"/>
                </a:solidFill>
                <a:latin typeface="Arial"/>
              </a:rPr>
              <a:t>Podmodel za funkciju Obrada Porudžbin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306440" y="2001960"/>
          <a:ext cx="652932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6440" y="2001960"/>
                    <a:ext cx="65293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901-498B-4C60-B884-B2B4DE9ADFBF}" type="slidenum">
              <a:t>44</a:t>
            </a:fld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PRODAJA: </a:t>
            </a:r>
            <a:br>
              <a:rPr sz="3200"/>
            </a:b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Podmodel za funkciju Otprema</a:t>
            </a:r>
            <a:r>
              <a:rPr b="1" lang="sr-Latn-CS" sz="2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785960"/>
          <a:ext cx="7920000" cy="41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85960"/>
                    <a:ext cx="792000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32C-16D9-4E37-9409-EE323E4B961B}" type="slidenum">
              <a:t>45</a:t>
            </a:fld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0066"/>
                </a:solidFill>
                <a:latin typeface="Arial"/>
              </a:rPr>
              <a:t>PRODAJA: </a:t>
            </a:r>
            <a:br>
              <a:rPr sz="3200"/>
            </a:br>
            <a:r>
              <a:rPr b="0" lang="pl-PL" sz="3200" spc="-1" strike="noStrike">
                <a:solidFill>
                  <a:srgbClr val="330066"/>
                </a:solidFill>
                <a:latin typeface="Arial"/>
              </a:rPr>
              <a:t>Podmodel za funkciju Naplat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42920" y="1749600"/>
          <a:ext cx="7632720" cy="42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49600"/>
                    <a:ext cx="76327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B2E-B51C-4A24-84DF-77F741B16273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INTEGRISANI MODEL PRODAJ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258920" y="1665360"/>
          <a:ext cx="662616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665360"/>
                    <a:ext cx="6626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10E-4556-46E0-A33C-F3B749AEA48E}" type="slidenum">
              <a:t>47</a:t>
            </a:fld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69260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revođenje PMOV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u relacioni mode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Osnovni koncepti relacionog model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marni ključ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relacije je atribut (prost ključ) ili skup atributa relacije (složeni ključ) koji jedinstveno indentifikuje n-torku u relaciji (jednu vrstu u tabeli)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arni ključ u prikazu relacije se podvlač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Spoljni ključ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je atribut (ili skup atributa) u relaciji R1 koji u njoj nije primarni ključ, već je primarni ključ relacije R2. Preko spoljinih ključeva se uspostavlja veza između relac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9C7-63DD-4395-BAFD-6E0FBB74B7BD}" type="slidenum">
              <a:t>49</a:t>
            </a:fld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vod u Acces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Omogućen je uvoz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import)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i izvoz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xport)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podataka iz mnogih aplikacij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dBas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oxPro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Btriev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tekstualni ASCII forma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podataka u HTML forma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155-9518-4F0B-BE39-FFF684DB6B5B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Osnovni koncepti relacionog model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vaki entitet iz PMOV-a postaje relacija.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tributi entiteta postaju atributi relaci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imarni ključ dobijene relacije j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Za jake entitete, atribut identifika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Za slabe entitete, atribut identifikator nadređenog entiteta i atribut ili skup atributa koji jedinstveno određuje slab entit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Za podtip, indentifikator nadtip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Za agregaciju, skup identifikatora koje prema agregaciji imaju preslikavanje sa gornjom granicom kardinalnosti M, ili identifikator jedne od komponenti koji prima agregaciji ima preslikavanje sa gornjom granicom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EB5-51B3-4A76-A2A7-F233B005A1FA}" type="slidenum">
              <a:t>50</a:t>
            </a:fld>
          </a:p>
        </p:txBody>
      </p:sp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0066"/>
                </a:solidFill>
                <a:latin typeface="Arial"/>
              </a:rPr>
              <a:t>Pravila za prevođenje PMOV u relacioni mode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vila za entit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vila za binarne ve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vila za unarne ve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FEB-5DCF-4D69-B73D-ABAE79943962}" type="slidenum">
              <a:t>51</a:t>
            </a:fld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1. Pravila za objekte (entitete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Pravilo 1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vaki objekat iz MOV postaje entit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me tipa entiteta postaje ime šeme rel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ributi objekta su atributi entit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Pravilo 1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vaki “slab objekat” takođe postaje šema relacije. Ime tipa objekta postaje ime šeme rel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dentifikator nadređenog objekta postaje jedno od obeležja šeme relacije koja odgovara “slabom” ob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dentifikator slabog objekta čini identifikator nadređenog objekta i obeležja “slabog”objekta koja jedinstveno identifikuje pojavljivanje “slabog” objek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539-64E9-473C-8D45-C53552AD50C3}" type="slidenum">
              <a:t>52</a:t>
            </a:fld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598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0066"/>
                </a:solidFill>
                <a:latin typeface="Arial"/>
              </a:rPr>
              <a:t>Pravilo 1.2 – Prime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476360" y="1050840"/>
          <a:ext cx="5904000" cy="34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050840"/>
                    <a:ext cx="590400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lovniPartn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NazivPoslP, AdresaPoslP, Delat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rudzbenic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BrojNa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atumNar, SifraPos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tavkaNarudzbenic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BrojNar, Rb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rtika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Artikl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VrstaArtikla, NazivArtikla, Opis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C4C-61AC-4BE6-9F76-BDFA94A5AB5A}" type="slidenum">
              <a:t>53</a:t>
            </a:fld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1. Pravila za objekte (entitete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Pravilo 1.3 (Nadt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Objekat nadtip (generalizovani tip objekta) postaje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ema rel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me nadtipa postaje ime šeme rel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Obeležja nadtipa su obležja šeme rel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dentifikator nadtipa postaje ključ šeme rel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ravilo 1.4 (Podt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Objekat podtip posstaje šema rel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me podtipa posttaje ime šeme relac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dentifikator nadtipa postaje ključ (identifikatora) podtip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AF8-F5E7-4E44-AB7E-1609DBC2F0B2}" type="slidenum">
              <a:t>54</a:t>
            </a:fld>
          </a:p>
        </p:txBody>
      </p:sp>
    </p:spTree>
  </p:cSld>
  <p:transition>
    <p:fad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Pravila 1.3, 1.4 – Prim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32000" y="1114560"/>
          <a:ext cx="5904000" cy="39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14560"/>
                    <a:ext cx="590400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5157360"/>
            <a:ext cx="850752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lovniPartn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NazivPoslP, AdresaPoslP, Delat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upac 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ol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avljac 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KontaktOsoba, 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123640" y="5516640"/>
            <a:ext cx="57492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35280" y="5516640"/>
            <a:ext cx="194472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62A-F7A8-478D-9D77-DF4ABB121F63}" type="slidenum">
              <a:t>55</a:t>
            </a:fld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2. Pravila za binarne ve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e sa kardinalnošć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cc3300"/>
                </a:solidFill>
                <a:latin typeface="Arial"/>
              </a:rPr>
              <a:t>(1,1) : (1,1), (0,1) : (1,1), (0,1) : (0,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e sa kardinalnošć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600" spc="-1" strike="noStrike">
                <a:solidFill>
                  <a:srgbClr val="cc3300"/>
                </a:solidFill>
                <a:latin typeface="Arial"/>
              </a:rPr>
              <a:t>(1,1) : (0,М)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sl-SI" sz="2600" spc="-1" strike="noStrike">
                <a:solidFill>
                  <a:srgbClr val="cc3300"/>
                </a:solidFill>
                <a:latin typeface="Arial"/>
              </a:rPr>
              <a:t> (1,1) : (1,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e sa kardinalnošću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cc3300"/>
                </a:solidFill>
                <a:latin typeface="Arial"/>
              </a:rPr>
              <a:t>(0,1) : (0,М)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sr-CS" sz="2600" spc="-1" strike="noStrike">
                <a:solidFill>
                  <a:srgbClr val="cc3300"/>
                </a:solidFill>
                <a:latin typeface="Arial"/>
              </a:rPr>
              <a:t> (0,1) : (1,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e sa kardinalnošću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cc3300"/>
                </a:solidFill>
                <a:latin typeface="Arial"/>
              </a:rPr>
              <a:t>(0,М) : (0.М), (1,М) : (0,М)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sr-CS" sz="2600" spc="-1" strike="noStrike">
                <a:solidFill>
                  <a:srgbClr val="cc3300"/>
                </a:solidFill>
                <a:latin typeface="Arial"/>
              </a:rPr>
              <a:t> (1,М) : (1,М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F58-2E6C-45B5-925A-96BAD75DC0CD}" type="slidenum">
              <a:t>56</a:t>
            </a:fld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330066"/>
                </a:solidFill>
                <a:latin typeface="Arial"/>
              </a:rPr>
              <a:t>Veza sa kardinalnošću (1,1) – (1,1)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Oba objekta koja u njoj učestvuju prevodimo u jednu šemu relacije, čija su obeležja sva obeležja jednog i drugog objek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Kandidati za ključ u ovoj šemi relacije su identifikatori oba objekta koja su u vez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478-B914-4846-8713-74147B6770F2}" type="slidenum">
              <a:t>57</a:t>
            </a:fld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Veza sa kardinalnošću (0,1) – (1,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vaki objekat u vezi prevodimo u posebnu šemu rela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entifikator objekta koj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 DG = 0,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ub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je se 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ribu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ruge šeme rela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Veza se predstavlja spoljnim ključem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E49-301A-41A7-9755-814AF4622339}" type="slidenum">
              <a:t>58</a:t>
            </a:fld>
          </a:p>
        </p:txBody>
      </p:sp>
    </p:spTree>
  </p:cSld>
  <p:transition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Veza sa kardinalnošću (0,1) – (1,1)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11280" y="2492280"/>
          <a:ext cx="792144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492280"/>
                    <a:ext cx="792144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422064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cc3300"/>
                </a:solidFill>
                <a:latin typeface="Arial"/>
              </a:rPr>
              <a:t>Otpremnic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BrojOtpr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 DatumOt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cc3300"/>
                </a:solidFill>
                <a:latin typeface="Arial"/>
              </a:rPr>
              <a:t>Prijemnic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BrojPrijemnic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 DatumPrijem, BrOt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CA0-AFDB-4F49-B525-706CD316FCDF}" type="slidenum">
              <a:t>59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vod u Acces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kacije razvijene u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ccess 2000 mog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k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t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za rad na Interne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bo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govara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opcije omogu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se prebacivanje tabela, upita, izveštaja i prika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i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 tabelarnom obliku u HTML form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oću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ata Acess Pa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stranice za pristup podacima) mogu se pr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loženi ob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njeni postavljanju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Inter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koji su povezani sa podacima u konkretnoj mrež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1A6-0AE1-4981-8B67-B82E65F6399A}" type="slidenum">
              <a:t>6</a:t>
            </a:fld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Veze sa kardinalnošću (0,1) – (0,1)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Kreiraju se tri šeme relaci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 jedna za svaki objekat i jedna za vez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beležja u šemi relacije koja odgovara vezi su identifikatori objekata koji su u vezi i oba su kandidati za ključ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FC2-CDC5-48AF-AF72-DD89D3567903}" type="slidenum">
              <a:t>60</a:t>
            </a:fld>
          </a:p>
        </p:txBody>
      </p:sp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330066"/>
                </a:solidFill>
                <a:latin typeface="Arial"/>
              </a:rPr>
              <a:t>Veza sa kardinalnošću (0,1) – (0,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68360" y="2133720"/>
          <a:ext cx="8353440" cy="12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353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24000" y="4005360"/>
          <a:ext cx="8640720" cy="151128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didat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v-SE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fraKandidata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mePrezime, Stru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kurs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v-SE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fraKandidata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SifraRadni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ni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fraRadnika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sR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didat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v-SE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fraKandidata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mePrezime, Stru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kurs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v-SE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fraRadnika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SifraKandida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ni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fraRadnika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sR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E78-DC5C-49E7-A0E9-53814A0A11EE}" type="slidenum">
              <a:t>61</a:t>
            </a:fld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330066"/>
                </a:solidFill>
                <a:latin typeface="Arial"/>
              </a:rPr>
              <a:t>Veza sa kardinalnošću (1,1) – (0,M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e postaju posebne šeme rel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dentifikator objekta sa strane za koju je gornja granica kardinaliteta presikavanja GG=M postaje obeležje šeme relacije koje odgovara objektu sa strane za koju je GG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68360" y="3789360"/>
          <a:ext cx="828036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789360"/>
                    <a:ext cx="828036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476360" y="5516640"/>
            <a:ext cx="61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es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Mes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k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fraMes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BDE-16E0-40F9-A9F3-AFD7C6309B01}" type="slidenum">
              <a:t>62</a:t>
            </a:fld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330066"/>
                </a:solidFill>
                <a:latin typeface="Arial"/>
              </a:rPr>
              <a:t>Veza sa kardinalnošću (1,1) – (1,M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e postaju posebne šeme rel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dentifikator objekta sa strane za koju je gornja granica kardinaliteta presikavanja GG=M postaje obeležje šeme relacije koje odgovara objektu sa strane za koju je GG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95280" y="3573360"/>
          <a:ext cx="8496360" cy="14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573360"/>
                    <a:ext cx="849636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763640" y="544500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njig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Knji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zdan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zdanj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dinaIzdanj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fraKnjig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749-A259-4B88-BB49-1348859E1F5F}" type="slidenum">
              <a:t>63</a:t>
            </a:fld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330066"/>
                </a:solidFill>
                <a:latin typeface="Arial"/>
              </a:rPr>
              <a:t>Veza sa kardinalnošću (0,1) – (0,M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staje posebna šema rela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eležja ove šeme relacije su identifikatori objekata koji su u vezi, a ključ šeme relacije je identifikator objekta za koji je GG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24000" y="3645000"/>
          <a:ext cx="866772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645000"/>
                    <a:ext cx="86677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42920" y="537372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ed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redm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Op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o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Udzbenik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SifraPredme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dzbe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Udzbeni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z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418-4BB7-488E-893F-C753AD827027}" type="slidenum">
              <a:t>64</a:t>
            </a:fld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330066"/>
                </a:solidFill>
                <a:latin typeface="Arial"/>
              </a:rPr>
              <a:t>Veza sa kardinalnošću (0,1)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pl-PL" sz="35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pl-PL" sz="3500" spc="-1" strike="noStrike">
                <a:solidFill>
                  <a:srgbClr val="330066"/>
                </a:solidFill>
                <a:latin typeface="Arial"/>
              </a:rPr>
              <a:t>(1,M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sta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seb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š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relac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ležja ove šeme relacije su identifikatori objekata k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u u vezi, a ključ šeme relacije je identifikator objekta za koji je GG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3645000"/>
          <a:ext cx="8523360" cy="12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645000"/>
                    <a:ext cx="852336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6920" y="5373720"/>
            <a:ext cx="45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ed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redm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Op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a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Predme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SifraNastav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astav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Nastavni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7C1-7853-446C-8429-80C9D8502632}" type="slidenum">
              <a:t>65</a:t>
            </a:fld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330066"/>
                </a:solidFill>
                <a:latin typeface="Arial"/>
              </a:rPr>
              <a:t>Veza sa kardinalnošću </a:t>
            </a: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0" lang="sr-Latn-CS" sz="3500" spc="-1" strike="noStrike">
                <a:solidFill>
                  <a:srgbClr val="330066"/>
                </a:solidFill>
                <a:latin typeface="Arial"/>
              </a:rPr>
              <a:t>0</a:t>
            </a: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0" lang="sr-Latn-CS" sz="35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) – 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(0</a:t>
            </a: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0" lang="pl-PL" sz="35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sta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sebne š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relac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ležja ove šeme relacije su identifikatori objekata k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u u vezi, a ključ šeme relacije je složeni ključ koji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astoji od identifikatora objekata koji su u ve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79280" y="3645000"/>
          <a:ext cx="88203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645000"/>
                    <a:ext cx="88203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5300640"/>
            <a:ext cx="53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Radn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ePrezime, Stru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aIstori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Radnika, SifraOR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r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z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B3B-390E-4F2E-A057-0FA13EF7FD32}" type="slidenum">
              <a:t>66</a:t>
            </a:fld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Agregirani objekti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gregirani objekat (mešoviti tip objekat-veza, gerund) se posmatra na isti način kao i odgovarajuća v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koliko veza poseduje obelež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ta postaju obležja šeme relacije veze kada se veza prevodi u posebnu šemu relacije ili se uključuje u onu šemu relacije u koju se upisuje spoljni ključ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684360" y="4079880"/>
          <a:ext cx="72990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079880"/>
                    <a:ext cx="72990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5445000"/>
            <a:ext cx="60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ziv, Op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rgUgovo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Org, SifraUgovo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go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Ugovor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4FE-7BFA-4023-AD15-A993CD0DB775}" type="slidenum">
              <a:t>67</a:t>
            </a:fld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3. Unarne ve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revođenje unarih veza (unarom nazivamo vezi između dva objekata istog tipa) u relacioni model podataka zavisi od kardinalnosti tipa veze i izvodi se kao i za druge tipove ranije opisanih binarnih vez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Napomenimo da kod unarne veze tipa (1:1) parcijalnost samo na jednoj strani veze, odnosno totalnost samo na jednoj strani veze, ne bi imala smis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Naime, time bi se istom tipu objekta istovremeno dopuštalo i poricanje opciono učestvovanje u vez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E23-73BD-4ABE-AD88-D704A78AE2E3}" type="slidenum">
              <a:t>68</a:t>
            </a:fld>
          </a:p>
        </p:txBody>
      </p:sp>
    </p:spTree>
  </p:cSld>
  <p:transition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Unarne veze 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(0,1) – (0,1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 prev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ju unarnih veza s obzirom da bi spoljnii klju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č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i relacije imao isto ime kao i primarni klju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č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r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jegovo preimenovanj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87280" y="3213000"/>
          <a:ext cx="684072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13000"/>
                    <a:ext cx="684072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5445000"/>
            <a:ext cx="575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so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JMB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e, Prezim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ra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JMB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JMBGBracniDru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2F2-E40B-4959-A360-92EB4C2C190C}" type="slidenum">
              <a:t>69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345440" cy="517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44C-61FC-4EBC-8235-A6CBCF614B93}" type="slidenum">
              <a:t>7</a:t>
            </a:fld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Unarne veze 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(0,1) – (0,M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Jedan radnik može da rukovodi sa više radnika i može imati jednog nadređenog rukovodi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vaki radnik ne mora imati nadređenog rukovodioca i svaki radnik ne mora biti rukovodilac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116000" y="3573360"/>
          <a:ext cx="6769080" cy="16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573360"/>
                    <a:ext cx="676908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00000" y="573408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Radnik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e, Prezim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ukovod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Radnik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SifraRadnikaRukovod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8A4-3376-47F2-8B93-AB4732019AFF}" type="slidenum">
              <a:t>70</a:t>
            </a:fld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Unarne veze 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(0,M) – (0,M)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Jedan artikal može da se sastoji iz više sastavnih del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vaki artikal ne mora imati sastavni 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187280" y="2924280"/>
          <a:ext cx="65534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55344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26920" y="515772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rtik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Artik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ziv, Op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asta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Artikla , SifraArtiklaUSastav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808-09F7-4120-A8D1-A423E7EE9BAF}" type="slidenum">
              <a:t>71</a:t>
            </a:fld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6782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ovezivanje tabela u Access-u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330066"/>
                </a:solidFill>
                <a:latin typeface="Arial"/>
              </a:rPr>
              <a:t>Tipovi veza u Access-u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Veza tipa 1: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Veza tipa 1:n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Veza tipa n: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714-8EB9-4FB8-9192-6F2EC90F0538}" type="slidenum">
              <a:t>73</a:t>
            </a:fld>
          </a:p>
        </p:txBody>
      </p:sp>
    </p:spTree>
  </p:cSld>
  <p:transition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0066"/>
                </a:solidFill>
                <a:latin typeface="Arial"/>
              </a:rPr>
              <a:t>Veza tipa 1:1</a:t>
            </a:r>
            <a:r>
              <a:rPr b="1" lang="sv-SE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1471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ko se koristi u sistemima za upravljanje bazama podatak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imere veza tip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nalazimo u većini aplikacija za fak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isa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68360" y="2492280"/>
          <a:ext cx="806436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0643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1403280" y="4149720"/>
            <a:ext cx="648180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6AA-97E9-418F-94DA-A806391CBDFA}" type="slidenum">
              <a:t>74</a:t>
            </a:fld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0066"/>
                </a:solidFill>
                <a:latin typeface="Arial"/>
              </a:rPr>
              <a:t>Veza tipa 1: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147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mogućuje povezivanje jednog zapisa iz jedne tabele sa više zapisa u drugoj tabel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imer vez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og tipa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e svaki dokument koji ima v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e stavk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340000" y="3141720"/>
          <a:ext cx="475308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141720"/>
                    <a:ext cx="475308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8EF-97DE-4CBB-83DE-F93549A09CD6}" type="slidenum">
              <a:t>75</a:t>
            </a:fld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900" spc="-1" strike="noStrike">
                <a:solidFill>
                  <a:srgbClr val="330066"/>
                </a:solidFill>
                <a:latin typeface="Arial"/>
              </a:rPr>
              <a:t>Veza tipa 1: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95280" y="2165400"/>
            <a:ext cx="7921800" cy="321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9FB-22C6-40D8-9BA1-667AC3BD3D99}" type="slidenum">
              <a:t>76</a:t>
            </a:fld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0066"/>
                </a:solidFill>
                <a:latin typeface="Arial"/>
              </a:rPr>
              <a:t>Veza tipa n: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915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za tipa ¨više prema više¨ se može zamisliti kao par dvosmernih veza tipa 1:n između dve tabe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6481800" cy="8175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7991280" cy="208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DD3-365C-4D34-BE40-C44EF2C053A3}" type="slidenum">
              <a:t>77</a:t>
            </a:fld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vezivanje tabela u Access-u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Postojanje veze između tabela se definiše u posebnom prozor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nog okruzenja -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elationship Builder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n se aktivira odabirom stavke menija Too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Relationships ili pritiskom dugmeta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elationships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na paleti sa alatka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Pojavljuje se glavni prozor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koji je na početku praz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abele se dodaju pritiskom na desni taster miša koji prouzrokuje otvaranje pop-up menija i odabiro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cije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how Table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u meniju.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419640" y="4508640"/>
            <a:ext cx="2808000" cy="1716120"/>
            <a:chOff x="3419640" y="4508640"/>
            <a:chExt cx="2808000" cy="171612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3419640" y="4869000"/>
              <a:ext cx="216036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 flipH="1">
              <a:off x="4932360" y="4508640"/>
              <a:ext cx="129528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543-0FDF-4A4E-9DEC-6C7292B30A10}" type="slidenum">
              <a:t>78</a:t>
            </a:fld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vezivanje tabela u Access-u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kviru dijalog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Tabl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birate tabele koje želite da se pojave u prozoru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Relationship Builde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lektovanjem i klikom na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tabela se pojavljuje u prozo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697-96E5-44DC-99D4-0F612A3A1159}" type="slidenum">
              <a:t>79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Korisnicima su na raspolaganj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čarobnjaci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izards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brasci (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Forms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veštaji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or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fikoni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ar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ntrolni objekti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FB1-2042-4D7B-8FDE-C5EA2CDE5A57}" type="slidenum">
              <a:t>8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0066"/>
                </a:solidFill>
                <a:latin typeface="Arial"/>
              </a:rPr>
              <a:t>Izgled</a:t>
            </a:r>
            <a:r>
              <a:rPr b="0" lang="sr-CS" sz="3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330066"/>
                </a:solidFill>
                <a:latin typeface="Arial"/>
              </a:rPr>
              <a:t>dijaloga Show Tab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688000" cy="455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905-5474-4DD2-A45A-84955469D1CC}" type="slidenum">
              <a:t>80</a:t>
            </a:fld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vezivanje tabela u Access-u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Nakon što su postavljene željene tabele u </a:t>
            </a: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Relationships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prozoru, na redu je uspostavljanje vez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Za uspostavljanje veza između tabela potrebno je odabrati u jednoj tabeli polje koje će služiti kao povezujuće i prevući ga na odgovarajuće polje u tabeli sa kojom je potrebno uspostaviti vez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A39-D7F5-49B6-99D7-B3F51DACF122}" type="slidenum">
              <a:t>81</a:t>
            </a:fld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vezivanje tabela u Access-u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: potrebno je uspostaviti vezu 1:n izm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tabela Katalog i StavkaKatalo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iknuti n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polje SifraPoslP u tabeli Katalog. Držeći pritisnut taster pomerit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so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u prozor tabele StavkaKatalog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vući ikonu za biranje polja na SifraPoslP u tabeli StavkaKataloga što će prouzrokovati otvaranje dijal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Edit Relationshi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opc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što ć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postavit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novu vezu. Zatim će Access sam zatvoriti dijalog i povući liniju između tabela Katalog i StavkaKatalog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416-E991-418E-BA0C-0EF450CFDB34}" type="slidenum">
              <a:t>82</a:t>
            </a:fld>
          </a:p>
        </p:txBody>
      </p:sp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Izgled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dijaloga Edit Relationships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187280" y="1468440"/>
            <a:ext cx="6480360" cy="45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EB4-4D6F-4EEE-A525-1733CF9BB4B5}" type="slidenum">
              <a:t>83</a:t>
            </a:fld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ovezivanje tabela u Access-u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07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jalog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Edit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pokazuje koja je tabela primarna u vezi, da li je obezbeđen referencijalni integritet, vrstu ve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udi više opcija z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kaciju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vezu izm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 selektovanih tabe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Selektovanjem opcije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Enforce Referential Integrity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zahteva se po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vanje pravila referencijalnog integrit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ktovanje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pcije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Cascade Update Related Fields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(lančano ažuriranje povezanih polja) govori Access-u da je dozvoljena promena sadržaja povezujućeg pol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Selektovanjem opcije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Cascade Delete Related Records 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zahteva se od Access-a da pri brisanju jednog sloga primarne tabele izbr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e sve sa njim povezane slogove sekundarne tabe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78F-BC57-48AD-9583-382B58557331}" type="slidenum">
              <a:t>84</a:t>
            </a:fld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jalog Join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ugme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Join Type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jaloga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dit Relationships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dređuje način na koji će biti napravljen upit zasnovan na ovoj relac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egovim aktiviranjem prikazuje se dijalo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050920" y="3716280"/>
            <a:ext cx="5472360" cy="239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AA2-8AE9-4612-8C9D-44C28D05ADED}" type="slidenum">
              <a:t>85</a:t>
            </a:fld>
          </a:p>
        </p:txBody>
      </p:sp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Veze između tab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826920" y="3716280"/>
          <a:ext cx="3600720" cy="2446560"/>
        </p:xfrm>
        <a:graphic>
          <a:graphicData uri="http://schemas.openxmlformats.org/drawingml/2006/table">
            <a:tbl>
              <a:tblPr/>
              <a:tblGrid>
                <a:gridCol w="1008360"/>
                <a:gridCol w="647640"/>
                <a:gridCol w="865080"/>
                <a:gridCol w="1079640"/>
              </a:tblGrid>
              <a:tr h="291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vka Narudžbe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jN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lič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fra</a:t>
                      </a:r>
                      <a:r>
                        <a:rPr b="0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k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 flipH="1">
            <a:off x="250920" y="2349360"/>
            <a:ext cx="720720" cy="2664000"/>
          </a:xfrm>
          <a:custGeom>
            <a:avLst/>
            <a:gdLst>
              <a:gd name="textAreaLeft" fmla="*/ 96480 w 720720"/>
              <a:gd name="textAreaRight" fmla="*/ 624240 w 720720"/>
              <a:gd name="textAreaTop" fmla="*/ 466200 h 2664000"/>
              <a:gd name="textAreaBottom" fmla="*/ 193140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16360" y="1844640"/>
          <a:ext cx="3672000" cy="2336760"/>
        </p:xfrm>
        <a:graphic>
          <a:graphicData uri="http://schemas.openxmlformats.org/drawingml/2006/table">
            <a:tbl>
              <a:tblPr/>
              <a:tblGrid>
                <a:gridCol w="1079640"/>
                <a:gridCol w="720720"/>
                <a:gridCol w="934920"/>
                <a:gridCol w="936720"/>
              </a:tblGrid>
              <a:tr h="303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k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fraArti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zi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dž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bna pa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va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kovanje 10 kom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nfl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eb S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1042920" y="1844640"/>
          <a:ext cx="3097440" cy="1354320"/>
        </p:xfrm>
        <a:graphic>
          <a:graphicData uri="http://schemas.openxmlformats.org/drawingml/2006/table">
            <a:tbl>
              <a:tblPr/>
              <a:tblGrid>
                <a:gridCol w="865080"/>
                <a:gridCol w="1151280"/>
                <a:gridCol w="1081080"/>
              </a:tblGrid>
              <a:tr h="29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rud</a:t>
                      </a: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jN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N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fraPos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4.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 rot="2074200">
            <a:off x="4787640" y="4365720"/>
            <a:ext cx="936360" cy="1915920"/>
          </a:xfrm>
          <a:custGeom>
            <a:avLst/>
            <a:gdLst>
              <a:gd name="textAreaLeft" fmla="*/ 125280 w 936360"/>
              <a:gd name="textAreaRight" fmla="*/ 811080 w 936360"/>
              <a:gd name="textAreaTop" fmla="*/ 335160 h 1915920"/>
              <a:gd name="textAreaBottom" fmla="*/ 138924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071-DBD2-48FF-AE54-01501E286651}" type="slidenum">
              <a:t>86</a:t>
            </a:fld>
          </a:p>
        </p:txBody>
      </p:sp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 tab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latka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Table Analyzer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nalizira tabelu i kontroliše da li je ona u potpunosti normalizovan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aje predloge za razdvajanje podataka u međusobno povezane tabe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ogu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ćuj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efini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primar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i sekundar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ključe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ogu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ćuje proveru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a li postoje pogrešno popunjeni slični podac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z pomoć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latk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automatski raspoređuje ulazne podatke u više tabela i predlaže ispravke sadržaja podata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257-0C74-4DF6-9A2B-5BDD17AFAFF3}" type="slidenum">
              <a:t>87</a:t>
            </a:fld>
          </a:p>
        </p:txBody>
      </p:sp>
    </p:spTree>
  </p:cSld>
  <p:transition>
    <p:fade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6919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Upiti nad bazom podatak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Upiti nad bazom podatak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 ovom delu upoznaće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rste upita, mogućnosti upit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BE (Query By Example) prozor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e, funkcije, izraz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C5B-DBBF-4F04-9D1F-65EEA02C0C33}" type="slidenum">
              <a:t>89</a:t>
            </a:fld>
          </a:p>
        </p:txBody>
      </p:sp>
    </p:spTree>
  </p:cSld>
  <p:transition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 r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dno okružen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spostavljanje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relaci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vez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 između pojedinih tabe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u Acess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oguć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tvariti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grafičkim putem u okviru prozora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08000" y="3141720"/>
            <a:ext cx="5545440" cy="337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1CF-7D73-43ED-886C-880D2D3EAAD3}" type="slidenum">
              <a:t>9</a:t>
            </a:fld>
          </a:p>
        </p:txBody>
      </p:sp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Upiti nad bazom podatak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 pronalaženje odgovarajućih podata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bazi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gu se koristiti tabele, ali je to često veoma zamoran posa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esto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tog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iste s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upiti pomoću kojih se željen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c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mog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ć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av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jem odgovarajućih usl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zultat upita mogu biti podaci iz jedne ili više tab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a bi 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avil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složeni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zniju selekci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podat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neophodno je dobro poznavanje operatora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njiho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korišćen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ccess nudi relacione, logičke, matematičke, znakovne i ostale operat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kao i korišćenje funkcija.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959-2076-49FB-AA2F-2C069FBDC73D}" type="slidenum">
              <a:t>90</a:t>
            </a:fld>
          </a:p>
        </p:txBody>
      </p:sp>
    </p:spTree>
  </p:cSld>
  <p:transition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rste upi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ta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D1F-A4C5-4110-9E52-AEA3F33E11FC}" type="slidenum">
              <a:t>91</a:t>
            </a:fld>
          </a:p>
        </p:txBody>
      </p:sp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pit Sel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931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ajčešća vrsta upi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stavlja upit za izdvajanje podata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isti se z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pronala</a:t>
            </a: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i izdvaj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pod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iz jedne ili više tabela 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jihovo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prikaz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vanje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i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dinamičk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sku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čiji se sadržaj može pregledati, analizirati i ažurirat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2E8-47A2-4929-9645-2DCBA0269261}" type="slidenum">
              <a:t>92</a:t>
            </a:fld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pit Tot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stavlja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poseb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verzi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upita za izdvajanje podatak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zbirni up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Zbirni upiti omogu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ju izračunavanje suma ili  zbirnih vrednosti u upitima za izdvajanje podata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Po zadavanju ove vrste upita Access dodaje red Total u okno QBE (</a:t>
            </a: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Query By Example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9D3-F05C-46B0-8518-B4D0BCEDBA49}" type="slidenum">
              <a:t>93</a:t>
            </a:fld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pit A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aj tip upita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omogu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pravljenje nove tabele (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Make Tables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ažuriranje podataka u postojećim tabelam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Za razliku o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upita kod koga se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izmene mogu praviti samo u jednom po jednom zapis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akcioni upiti omogu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ju ažuriranje više zapisa u istoj operacij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992-E9A6-4D0B-AC42-0DB0F862DA1B}" type="slidenum">
              <a:t>94</a:t>
            </a:fld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pit Crosstab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rikazuju zbirne podatke u tabelarnom oblik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isani prikaz je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pu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og koji daje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gram za tabelarne proračune, s tim što su zaglavlja redova i kolona zasnovana na poljima iz tabele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jedinačne ćelije u rezultirajućem dinamičkom skupu su tabelar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645-4460-4547-8887-0BA7E65D9CAF}" type="slidenum">
              <a:t>95</a:t>
            </a:fld>
          </a:p>
        </p:txBody>
      </p:sp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Mogu</a:t>
            </a:r>
            <a:r>
              <a:rPr b="0" lang="sr-Latn-CS" sz="3600" spc="-1" strike="noStrike">
                <a:solidFill>
                  <a:srgbClr val="330066"/>
                </a:solidFill>
                <a:latin typeface="Arial"/>
              </a:rPr>
              <a:t>ć</a:t>
            </a: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nosti upita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z pomoć upita možemo izdvajati podatke iz jedne ili više tabela ukoliko ih povezuju kolone sa istim podaci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Kada se koristi više tabela istovremeno, Access prikazuje podatke iz njih u jednom kombinovanom tabelarnom prika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 kreiranju upita o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ogu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o 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iranje polj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guće je z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ja koja su potrebna za skup rezultata up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iranje zapi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j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i će zapisi biti izdvojeni u skup rezultata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Rezultati upita mogu se prikazati sortir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po određenom redosled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C7B-3CE9-433B-A808-6B36BBD21EA8}" type="slidenum">
              <a:t>96</a:t>
            </a:fld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Mogu</a:t>
            </a:r>
            <a:r>
              <a:rPr b="0" lang="sr-Latn-CS" sz="3600" spc="-1" strike="noStrike">
                <a:solidFill>
                  <a:srgbClr val="330066"/>
                </a:solidFill>
                <a:latin typeface="Arial"/>
              </a:rPr>
              <a:t>ć</a:t>
            </a: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nosti upi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nekad je potrebno da se u bazi podataka kreira nova tabela koja će sadržati podatke koji se dobijaju kao rezultat upita. Ova vrsta upita pravi novu tabelu na osnovu podataka iz dinamičkog skup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inamički skup, nastao kao rezultat upita može da ima upravo ona polja ili podatke koji su potrebni na izveštaju ili na obrasc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ada se izveštaj ili obrazac zasniva na upitu, svaki put kada se odštampa izveštaj ili otvori obrazac, upit će izdvojiti najsvežije podatke iz tabel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185-1577-4290-A349-B9C29B2F5829}" type="slidenum">
              <a:t>97</a:t>
            </a:fld>
          </a:p>
        </p:txBody>
      </p:sp>
    </p:spTree>
  </p:cSld>
  <p:transition>
    <p:fad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Mogu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ć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nosti upita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Upite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koristiti za pravljenje dijagrama, tj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na osnovu podataka dobijenih upitom može se napraviti dijagram, koji će se kasnije koristiti na obrascu ili izveštaju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Mogu se praviti i upiti koji se zasnivaju na skupu zapisa izdvojeni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prethodim upito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eoma korisno za ad hoc upite, u kojima može biti potrebno ponavljanj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rethodnog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 upita sa malo izmenjenim uslovim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1FC-C295-41E6-A627-BB49153D9335}" type="slidenum">
              <a:t>98</a:t>
            </a:fld>
          </a:p>
        </p:txBody>
      </p:sp>
    </p:spTree>
  </p:cSld>
  <p:transition>
    <p:fade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Mogu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ć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nosti upita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ekundarni upit (podupit) može da se koristi za izmenu uslova, dok primarni upit i njegovi podaci ostaju nepromenjen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ccess-ovi upiti mogu da izdvajaju podatke iz široke lepeze izvor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gu se postavljat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iti nad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odacima koji se nalaze u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Bas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Paradox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Btrieve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Microsoft SQL Server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bazama podatak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DE0-07ED-4124-B28C-FFB9A71543D5}" type="slidenum">
              <a:t>9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0:00:04Z</dcterms:created>
  <dc:creator>Milan Dimitrijevic</dc:creator>
  <dc:description/>
  <dc:language>en-US</dc:language>
  <cp:lastModifiedBy>jelena</cp:lastModifiedBy>
  <dcterms:modified xsi:type="dcterms:W3CDTF">2004-04-26T13:21:56Z</dcterms:modified>
  <cp:revision>158</cp:revision>
  <dc:subject/>
  <dc:title>Upoznajte se sa ACCESSOM</dc:title>
</cp:coreProperties>
</file>