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D1C-7E6B-4A51-83C2-33CEF42A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1AD-C574-4B11-A48C-782FACA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B4C-999A-435A-B0CD-0749DDA0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E53-88F5-4488-9098-725A0FC7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B22-043D-4A0E-B061-3C7F9153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D89-9194-42ED-AD06-4D5FB1D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6037-E297-469B-8200-95D8D66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00A-3793-46B3-BAA5-1A15F14C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4F2B-BF78-4292-B314-F903A934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FD1A-E2A8-41EC-9986-457A78F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0A64-D4BA-4844-B48F-90FF028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792-A3D9-40D9-A1AB-1A19E2D3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3120-CC26-48F7-8250-532A39B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BEC7-FEE2-42E1-9715-F830497B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C222-6355-49E3-8F3D-98A2611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E956-61B0-4B61-B844-078348E4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DAAA-783F-42DE-8DA8-E5D0C00D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1DC-02A4-454F-B3EC-8B1ABC12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D33-020D-4C87-8EA6-FDFACB3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0FA-218A-4BA2-9BD4-1EA0188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D75-EF92-452A-98FB-97A3D74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85B-3B5C-422C-B70F-B3DC023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9AD-F283-4C71-BAE6-10B6A6E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30A-B6DD-47B0-8E8D-A4540A2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F55-7386-4311-8C3B-EEE6A895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498-E29E-4799-889C-7D90BFB0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адржа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ТСКИ ДЕ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дел очекив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057400"/>
            <a:ext cx="22860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057400"/>
            <a:ext cx="23623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АВЉАЊЕ ПО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057400"/>
            <a:ext cx="167616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276720"/>
            <a:ext cx="243864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ПОР – ОБАВЉАЊЕ ПО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276720"/>
            <a:ext cx="3124080" cy="965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БАВЉАЊЕ ПОСЛА - НА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3276720"/>
            <a:ext cx="167652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РЕД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ГР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495680"/>
            <a:ext cx="228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је вероватноћ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а ћу обавити поса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колико улож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еопходан напо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4956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је су ш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а добијем нагр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која је за мене вредн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колико успеш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завршим поса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495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та је за мене важ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341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53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отивациони механизам - Вру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600200"/>
            <a:ext cx="1828800" cy="838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бир прошл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куст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048120"/>
            <a:ext cx="129528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ЧЕКИВ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572000"/>
            <a:ext cx="12952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ДОСТУП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971800"/>
            <a:ext cx="1219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ОТИ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4648320"/>
            <a:ext cx="121896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ЦИЉЕ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886200"/>
            <a:ext cx="152424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895480"/>
            <a:ext cx="1828800" cy="1067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СМЕР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А ЦИЉ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1676520" cy="1067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ВО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ИРЕКТ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О ЦИЉ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74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858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8584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3526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1" idx="3"/>
            <a:endCxn id="152" idx="3"/>
          </p:cNvCxnSpPr>
          <p:nvPr/>
        </p:nvCxnSpPr>
        <p:spPr>
          <a:xfrm flipH="1">
            <a:off x="8533800" y="3428640"/>
            <a:ext cx="76680" cy="160092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5" name=""/>
          <p:cNvCxnSpPr>
            <a:stCxn id="152" idx="1"/>
            <a:endCxn id="151" idx="1"/>
          </p:cNvCxnSpPr>
          <p:nvPr/>
        </p:nvCxnSpPr>
        <p:spPr>
          <a:xfrm rot="10800000">
            <a:off x="6781680" y="3428280"/>
            <a:ext cx="76680" cy="160092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6" name=""/>
          <p:cNvSpPr/>
          <p:nvPr/>
        </p:nvSpPr>
        <p:spPr>
          <a:xfrm flipV="1">
            <a:off x="533412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36196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1600200"/>
            <a:ext cx="2209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209680"/>
            <a:ext cx="2210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2096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14479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атна сп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тиви су покретачи који изазивају активност човека и имају своју специфичну и тренутну “јачину” (сна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Циљеви су очекиване награде и налазе се ван осо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чекивање – опажена вероватноћа задовољавања одређене потребе од стране особе, заснована на њеном искуству (збир прошлих искустава), субјективне процене повезаности неког понашања и циља одређене привла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ступност – опажена ограничења у средини (колико доступним опажамо циљеве који могу да нам задовоље потреб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Активности усмерене ка циљу = циљне активности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ности усмерене ка циљу  -мотивисано понашање усмерено ка циљу (нпр.мотив – глад = понашање – куповина хран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43040" y="17524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Циљне активности – односе се на сам циљ (нпр. Мотив – глад = понашање – конзумирање хран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077320" y="3049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152600" y="-647640"/>
            <a:ext cx="685800" cy="7467480"/>
          </a:xfrm>
          <a:custGeom>
            <a:avLst/>
            <a:gdLst>
              <a:gd name="textAreaLeft" fmla="*/ 0 w 685800"/>
              <a:gd name="textAreaRight" fmla="*/ 247680 w 685800"/>
              <a:gd name="textAreaTop" fmla="*/ 194760 h 7467480"/>
              <a:gd name="textAreaBottom" fmla="*/ 7272720 h 746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343400"/>
            <a:ext cx="4876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екат на снагу потр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1911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18148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д активности усмерених ка циљу јачина потребе се повећава са започињањем активнос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ве док не постигнемо циљ или не наиђемо на озбиљну препр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д циљне активности, када започнемо са активношћу, снага потребе почиње да о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2005., стр. 109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ксплицирати своје мотиве и циљеве покушати уклопити у неку од вредносних оријент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едити теорије мотивације с обзиром на аспект садржај процес, емотивни/когнитивни проц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бјаснити и прокоментарисати сличности и разлике између појмова: мотивација за рад/задовољство послом, мотивација за рад/продуктивност, задовољство послом/продуктив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ушати објаснити суштину 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Clleland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ве кривуље односа јачине мотивације и вероватноће постизања циља (слајд, 117) и размислити о импликациј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мислити упитник којим би се могла испитати структура мотивације за рад (имајући у виду чиниоце мотивациј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1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отивација за рад: проблем, теоријски оквири и практичне импликације; разграничење сродних појм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11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Личност и груп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групна динамика и групни феномени; особеност тимског рада; личност и организациј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09.12.Руковођење – психолошки проблеми руковођења; савремени теоријски приступи руковођењу; решавање конкретних руководећих проблем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цес комуникације и комуникационе вештин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нфликти и њихово превазилажење, упознавање свог стила реаговања у конфликту; симулација конфликта; стрес и начини превазилажења стр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30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одбрана семинарских рад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01.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брана истраживачких рад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7.01.: провера знањ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локвиј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АЦИЈА ЗА РА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, механизми, сродни појмови, чиниоци и мотивациони принци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1000" y="7621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1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а је у основи нашег понашања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ако понашање је функција особе и сред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ше понашање је усмерено ка неком циљу, мотивисано неком жељом = сврсисходно 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Људи се разликују не само по њиховој способности да обаве одређени посао, већ и по жељи да то учине – мотивиса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тивација на почетку, задовољство/незадовољство на крају обављеног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Мотивациона стања су резултат вишеструких интеракција различитих променљивих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иолошке и физиолошк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свесни фак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руштвени вредносни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ена вредност циљ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фична очек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фекти конфликтних интеракција међу контрадикторним мот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221304"/>
                </a:solidFill>
                <a:latin typeface="Times New Roman"/>
              </a:rPr>
              <a:t>Однос “спољашњег” и “унутрашњег”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600200"/>
            <a:ext cx="739116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505320"/>
            <a:ext cx="1752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т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3429000"/>
            <a:ext cx="281916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тив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581280"/>
            <a:ext cx="1828800" cy="838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иљ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029200"/>
            <a:ext cx="670536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нашање – репертоар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600200" y="2438280"/>
            <a:ext cx="2743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43828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А ЈЕ МОТИВАЦИЈА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тивација је сложени психички процес и механизам покретања, усмеравања на одређене објекте и регулисања свсисходне активности ч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дражај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мерење           одржавање                  ци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ационе теорије садржа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752480"/>
          <a:ext cx="7620120" cy="4388040"/>
        </p:xfrm>
        <a:graphic>
          <a:graphicData uri="http://schemas.openxmlformats.org/drawingml/2006/table">
            <a:tbl>
              <a:tblPr/>
              <a:tblGrid>
                <a:gridCol w="1960560"/>
                <a:gridCol w="1679760"/>
                <a:gridCol w="2494080"/>
                <a:gridCol w="1485720"/>
              </a:tblGrid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ја хијерархије 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дерф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рцберг – двофакторска теорија мотив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Clel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ктуелиз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ојне потр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 за постигнућ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говор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ржај по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едовање/лични разв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за цење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ад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апре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 моћ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јалне потребе – потреба за припада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е за повезаношћ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гијенски фак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лијативни мо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виз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људски одно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(титул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за сигурношћ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зистенцијалне потребе – потребе за постоја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компан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урност по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шке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221304"/>
                </a:solidFill>
                <a:latin typeface="Times New Roman"/>
              </a:rPr>
              <a:t>McClleland-</a:t>
            </a:r>
            <a:r>
              <a:rPr b="1" lang="sr-CS" sz="2800" spc="-1" strike="noStrike">
                <a:solidFill>
                  <a:srgbClr val="221304"/>
                </a:solidFill>
                <a:latin typeface="Times New Roman"/>
              </a:rPr>
              <a:t>ова кривуља односа јачине мотивације и вероватноће успеха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5334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990360" y="2209320"/>
            <a:ext cx="5331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га мо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5486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роватноћа постизања ци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029200"/>
            <a:ext cx="53352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13372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098880"/>
            <a:ext cx="5562720" cy="2082600"/>
          </a:xfrm>
          <a:custGeom>
            <a:avLst/>
            <a:gdLst/>
            <a:ahLst/>
            <a:rect l="l" t="t" r="r" b="b"/>
            <a:pathLst>
              <a:path w="3504" h="1312">
                <a:moveTo>
                  <a:pt x="0" y="1312"/>
                </a:moveTo>
                <a:cubicBezTo>
                  <a:pt x="548" y="672"/>
                  <a:pt x="1096" y="32"/>
                  <a:pt x="1680" y="16"/>
                </a:cubicBezTo>
                <a:cubicBezTo>
                  <a:pt x="2264" y="0"/>
                  <a:pt x="2884" y="608"/>
                  <a:pt x="3504" y="1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1240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Kabinet 306</cp:lastModifiedBy>
  <dcterms:modified xsi:type="dcterms:W3CDTF">2005-12-07T14:50:17Z</dcterms:modified>
  <cp:revision>169</cp:revision>
  <dc:subject/>
  <dc:title>ПСИХОЛОГИЈА ОРГАНИЗАЦИЈЕ - ВЕЖБЕ - </dc:title>
</cp:coreProperties>
</file>