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F83-6D8E-4495-A354-F336F2ED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ABE-53F3-4949-AF38-F04CBB99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127-F949-41B0-BA94-8D272005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E6E-7334-4B68-84C7-51E5E37F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9860-1509-4ECD-A7B7-E9B62CC3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B67D-BD42-4036-839D-4F4708F9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2F73-27B9-4022-B277-78DC890D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496A-A7AE-4D89-94BF-A436C654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6CDE-1D9F-4CED-B9B2-5316B950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1014-B528-4233-B5FA-7E8144BE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C1C9-E998-4EC2-A603-01B80A78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DA6-8C51-44FD-A49D-90543F8D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8975-EE3C-4293-8730-D1D0829A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3A61-A8DD-4ED6-A625-3B911168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6F38-6062-4BA6-8C87-421C211D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4F9F-4BFB-4D20-8EFE-77365C25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05AC-42C7-4ADA-B431-E3985102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48F-DD99-4236-A4BF-7A79A3D0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AB3-77F7-49E1-8810-FD0234B3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0F8-A67D-4748-B388-78EBAC15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3ED-3731-4A8C-931A-DA7D7B5A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D63-0D25-43D1-A913-4C3D3F16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C31-623E-45FA-8FEB-A677A86B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0E2-CEEB-4019-ADA5-911164EA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83F2-B175-47A9-B8A0-3D5C912EE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69DF-0E91-4C33-A757-720803C07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СТРЕС У ОРГАНИЗАЦИЈ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Последице неприлагођавања увећаном стресу: Симптоми трауме и реакције на стр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живљавање трауматских догађаја кроз периодично и наметљиво присећање на њ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кушај потискивања трауматског доживљаја из све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туђеност од других, осиромашење  емоционалног жив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Симптоми појачаног одупирања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саница или прекидан с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дражљивост и чести изливи бе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шкоће концентр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дужена буд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увеличавање страшних доживља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социјално понаш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оцијално-економске последице стрес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рес “болест ХХ века”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Извештај Уједињених нација, 1993.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просечном дану 1 милион људи изостаје са посла због ст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75%-90% пацијената са овим симптом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цењује се да појава стреса америчку индустрију кошта годишње 200 – 300 билиона дол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60-80% несрећа на послу последица ст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Управљање стресом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рганизационе 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фесионална селекција – боља професионална и организациона адапт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ациона култура и међуљудски односи у предузећ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постављање споне између предузећа и породица запослен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Поступци и технике избегавања, релаксације и опорава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(Барбара Ри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Генералне препоруке за избегавање стрес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ставити приорит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тврдити на шта се може утиц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истанцирати се од брига, задатака и стресова на које с ене може утиц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ровести методе приоритета – прво обавити најважн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ати поверења у сопствене способ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двојити време за одм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а сваким дахом ослободит се свих стрес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лободити се перфекционистичких размишљања и нереалних захте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средсредити се на оно што је ва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ати на уму да се после релаксације ослобађамо ст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Краткорочно смањење стреса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ражити “тајм ау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даљити се од пробл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шетати се 5-6 мину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сти мирно и дисати полако и дубо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тићи на кратко на неко мирно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речити негативне ми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 преузимати на себе стрес других љу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поменити своје погле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говарати са неким поверљив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ало одспав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место само узимати, нешто и д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едитирати или молити 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инисање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Стрес је психофизичко стањ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у које човек запа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у отежаним приликама и ситуација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еље: фазе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а алармне реак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а отп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а исцрпљ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олест стр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Врсте стреса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према емоционалном значењу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устре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стре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Извори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1447920"/>
          <a:ext cx="76964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76964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Извори стреса у организациј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рода посл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тежина посла и прековремени рад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лога у организацији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конфликтна нејасна радна улог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говорност на послу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стресогенија одговорност за људе него за материјална добр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носи на раду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дноси између различитих нивоа у хијерархиј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ретање у организациј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(најстресније напредовање до “границе своје неспособности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сихолошка клима организациј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Психолошка клима организације:</a:t>
            </a: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 стресогене карактеристике организације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скудне могућности партиципације запослених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длучивање у уском кругу повлашћени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останак осећаја запослених да припадају фир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 информисања не функциониш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те су уместо поузданих информација присутне полуинформације и гласин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 комуницирања је недефинисан и препуштен личним контакт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доследно и непредвидљиво вођење пословне политике фир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Извори стреса ван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одичне прил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ште друштвене и економске прил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рактеристике личности (“Тип А” и “Тип В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оследице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46680" y="2251080"/>
            <a:ext cx="146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19810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1523880"/>
            <a:ext cx="2286000" cy="4572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ипотала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1905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ртикотропни 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514600"/>
            <a:ext cx="1828800" cy="7621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ипоф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200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дренокортикотропни хор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3886200"/>
            <a:ext cx="2133720" cy="609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дбубреж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4876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дреналин и норадрена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5257800"/>
            <a:ext cx="4267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ктивирање резерви шећера =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ктивирање групе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брзавање рада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1905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409720" y="2209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200400" y="3048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35268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ва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3:28:03Z</dcterms:created>
  <dc:creator>Ivana</dc:creator>
  <dc:description/>
  <dc:language>en-US</dc:language>
  <cp:lastModifiedBy>Ivana</cp:lastModifiedBy>
  <dcterms:modified xsi:type="dcterms:W3CDTF">2005-12-29T11:17:33Z</dcterms:modified>
  <cp:revision>21</cp:revision>
  <dc:subject/>
  <dc:title>СТРЕС У ОРГАНИЗАЦИЈИ</dc:title>
</cp:coreProperties>
</file>