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D84-8451-4010-9D89-FE498815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B5A-EC64-489D-B9EC-7251304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F83-29D1-4C8F-94AC-4D954072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F67-8560-45F4-BCA9-90D0482E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A7F7-2C7E-4C7C-96CA-2EDE45E7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98C-83FA-4331-A195-2D7A43B0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A98A-3294-4433-869A-5DB7A25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6435-2F40-49A3-961C-EBA2C54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2609-1124-4398-9AFD-A32E4D97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AC41-0E7D-4E24-BD24-D5B36FD5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78A4-EB7F-4375-8C81-F8C7508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8D8-8DE7-449A-83D2-2C37B02F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F9C-1D7A-46B0-A436-7C278BA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DA23-7633-42C3-B0B2-5ADFA01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AAD-3BC2-479D-ACEE-283C6B77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929E-738B-4702-BFC5-F968C1F4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66CF-3B8E-4001-AC6E-CE1ED40C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E7C-64D4-4653-8AE9-029ED5F4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FF2-1E22-4AAE-9788-6845BC32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CAD-2C36-409D-ACAA-852DDA6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7C9-BC70-4301-979A-B7A8B68B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9FA-C88C-4CD9-8367-F844DD1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A5F-E70D-4975-95F9-1ACCF47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32A-6D08-4558-B934-0F060D4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746-992B-4072-9C70-3208835B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31D-F85F-4E04-B8CF-900C7B03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НФЛИК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ликти и њихово превазилажење; упознавање свог стила реаговања у конфликту; симулација конфлик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тите се ситуације када сте били у конфликту, како сте реаговали, који је био исход Ваше реак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е о начину на који Ви реагујете у конфликт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јући у виду да ниједан начин реаговања у конфликту није у свакој ситуацији прикладан, размислите о предностима и недостацима сваког од њих и на основу тога попуните схему бр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е о ситуацијама када треба реаговати на понуђење начине и на основу тога попуните схему бр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ујте са пријатељима радиониц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Схема бр. 1.: Предности и недостаци стилова реаговања у конфликту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1752480"/>
          <a:ext cx="7620120" cy="424512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1295280"/>
                <a:gridCol w="1676520"/>
                <a:gridCol w="1371600"/>
                <a:gridCol w="10666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миче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ег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ођ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роми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ад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7524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905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тило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065240" y="2592000"/>
            <a:ext cx="1277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066680" y="4267080"/>
            <a:ext cx="546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дост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Схема бр. 2.: конфликтне ситуације које одговарају појединим стиловима решавања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66680" y="1752480"/>
          <a:ext cx="7620120" cy="4419360"/>
        </p:xfrm>
        <a:graphic>
          <a:graphicData uri="http://schemas.openxmlformats.org/drawingml/2006/table">
            <a:tbl>
              <a:tblPr/>
              <a:tblGrid>
                <a:gridCol w="1828800"/>
                <a:gridCol w="5791320"/>
              </a:tblGrid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мич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ега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ођа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ром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ад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Радионица: симулација конфлик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19320" y="350496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адатак: покушајте да одиграте дату ситуацију и да нађете решење за проблем (у року од 30 мин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ти предлог решењ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говорити на питањ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та овде видите као пробл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је је природе конфликт с обзиром на узро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21304"/>
                </a:solidFill>
                <a:uFillTx/>
                <a:latin typeface="Times New Roman"/>
              </a:rPr>
              <a:t>Сценарио: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 особу 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Колегиница и ја заједно радимо исраживачки рад за предмет Психологија организације. Остало нам је још две недеље да завршимо цео рад, али ми даље од дефинисања проблема нисмо одмакли. У почетку је све ишло добро, договорили смо се око теме за тили час и требало је да се видимо и почнемо да осмишљавамо нацрт у следећу среду. Када је дошла следећа среда колегиница се пола сата пре састанка јавила да неће никако стићи да дође и да ћемо се чути да се договоримо за неки други дан. Мислила сам да имамо времена и да то није битно, нити толико хитно. Међутим, како су се те ситуације понављале из недеље у недељу, почела сам да сама осмишљавам нацрт и на крају се испоставило да ћу урадити готово цео рад сама, барем највећи део рада. То ме је мало наљутило и рекла сам колегиници да ми то смета. Она ми је одговорила да тренутно има приватне проблеме и да ме моли да је разумем.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21304"/>
                </a:solidFill>
                <a:uFillTx/>
                <a:latin typeface="Times New Roman"/>
              </a:rPr>
              <a:t>Сценарио: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 особу 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Колегиница и ја заједно радимо исраживачки рад за предмет Психологија организације. Остало нам је још две недеље да завршимо цео рад, али ми даље од дефинисања проблема нисмо одмакли. У почетку је све ишло добро, договорили смо се око теме за тили час и требало је да се видимо и почнемо да осмишљавамо нацрт у следећу среду. Међутим, у међувремену посвађала сам се са дечком са којим сам у вези већ годину дана и то ме је окупирало и одузело ми много времена. Стога нисам стигла да дођем по договору и обавестила сам о томе колегиницу. Тако сложена ситуација као што је мој, да га тако назовем љубавни проблем, није се наравно могао решити сам од себе, нити га је могуће лако решити. С друге стран, битно ми је да завршимо то започето истраживање и све што тражим од колегинице то је мало разумевања за моје приватне проблеме јер да је ситуација обратна ја бих је потпуно разумела. Међутим, у разговору са њом наслутила сам да нешто није у реду и да је она веома нестрпљива, готово љута на ме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итања за посматраче: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ли дошло до ескалације конфликта, или се конфликт смиривао како је време пролазил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 је како реаговао на пробле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 ли бисте конфликт који се пред Вама одиграо оценили као конструктиван или као деструктиван и заш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 ли је дошло до решења и на који начин (стилови решавања конфликта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дредити стил реаговања у конфликт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752480"/>
          <a:ext cx="7620120" cy="4419360"/>
        </p:xfrm>
        <a:graphic>
          <a:graphicData uri="http://schemas.openxmlformats.org/drawingml/2006/table">
            <a:tbl>
              <a:tblPr/>
              <a:tblGrid>
                <a:gridCol w="1676520"/>
                <a:gridCol w="5943600"/>
              </a:tblGrid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 КОНФЛИКТНОГ РЕАГОВА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а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а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241 – 2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датна: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јановић Р., Психологија међуљудских односа, Центар за примењену психологију, Друштва психолога Србије, Београд, 1998., стр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3 -2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ecchio, T.R., Organizational behavior, The Dryden Press, Orlando, 1995., str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66 – 4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tchell, C.R., Psihološke dimenzije konflikta, u: Popadić, D., Kovač-Cerović, T., Plut, D., Socijalni konflikti, Most, Beograd, 1996., str. 53-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ece, L.B., Brandt, R., Human Relations: Principles and Practices, Honghton Mifflin Company, Boston, 199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нфлик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коби међу људима који имај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протне интересе или вред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на тај начин међусобно угрожавају задовољење неких значај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о језгро конфликта: Фрустрација основ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114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038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УЗРОЦИ КОНФЛИКА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 ИНТЕРЕСА/КОНФЛИКТ ВРЕ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Два схватања о узроцима конфлик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И ВРЕДНОСТИ - узрок конфликта у предрасудама (у психолошким карактеристикама носилаца конфликт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И ИНТЕРЕСА - Узрок конфликта у реалном сукобу интер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Шерифов експеримент</a:t>
            </a: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(теорија реалистичких конфликата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зорак: 24 просеч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ча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еле ра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нглосаксонског порек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 протестантских пород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редња кла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981080"/>
            <a:ext cx="3048120" cy="381240"/>
          </a:xfrm>
          <a:prstGeom prst="wedgeRoundRectCallout">
            <a:avLst>
              <a:gd name="adj1" fmla="val -115050"/>
              <a:gd name="adj2" fmla="val 695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по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2895480"/>
            <a:ext cx="2209680" cy="685800"/>
          </a:xfrm>
          <a:prstGeom prst="wedgeRoundRectCallout">
            <a:avLst>
              <a:gd name="adj1" fmla="val -69972"/>
              <a:gd name="adj2" fmla="val 2916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порек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2666880"/>
            <a:ext cx="533520" cy="1524240"/>
          </a:xfrm>
          <a:custGeom>
            <a:avLst/>
            <a:gdLst>
              <a:gd name="textAreaLeft" fmla="*/ 0 w 533520"/>
              <a:gd name="textAreaRight" fmla="*/ 192600 w 5335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98"/>
                </a:lnTo>
                <a:cubicBezTo>
                  <a:pt x="10800" y="9698"/>
                  <a:pt x="16200" y="10598"/>
                  <a:pt x="21600" y="10598"/>
                </a:cubicBezTo>
                <a:cubicBezTo>
                  <a:pt x="16200" y="10598"/>
                  <a:pt x="10800" y="11498"/>
                  <a:pt x="10800" y="1239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191120"/>
            <a:ext cx="1904760" cy="609480"/>
          </a:xfrm>
          <a:prstGeom prst="wedgeRoundRectCallout">
            <a:avLst>
              <a:gd name="adj1" fmla="val -81833"/>
              <a:gd name="adj2" fmla="val 74481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вероиспове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5181480"/>
            <a:ext cx="2743200" cy="990720"/>
          </a:xfrm>
          <a:prstGeom prst="wedgeRoundRectCallout">
            <a:avLst>
              <a:gd name="adj1" fmla="val -115856"/>
              <a:gd name="adj2" fmla="val 1794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социоекономском стату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азе експеримен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фаз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деца спонтано према интересовањима формирају групе за друже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фаз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 вештачки формиране групе раздвајањем оних који би се међусобом дружили + формирање групног идентит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фаз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увођење такмичења између гр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86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јава конфликта између груп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кушај решавања конфли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е пријатне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 непријате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ворити атмосферу сарадње постављајући им заједнички надређени ци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психолошке стратегије редукције стреса у ситуацији конфликт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лективно опаж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лективно памћ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упна идентифик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илови управљања конфликтим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19051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рига за друг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809520" y="1980720"/>
            <a:ext cx="485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рига за се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пром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акми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лачење, избег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828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лагођ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1981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рад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44:50Z</dcterms:created>
  <dc:creator>Ivana</dc:creator>
  <dc:description/>
  <dc:language>en-US</dc:language>
  <cp:lastModifiedBy>Ivana</cp:lastModifiedBy>
  <dcterms:modified xsi:type="dcterms:W3CDTF">2005-12-26T13:22:09Z</dcterms:modified>
  <cp:revision>38</cp:revision>
  <dc:subject/>
  <dc:title>Slide 1</dc:title>
</cp:coreProperties>
</file>