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D4E-30C9-466B-AE5B-9296D1DA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F81-BA74-46BB-8BC4-CCC994DB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22C-4FD5-4393-A3E8-5C419337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DB7-73D5-4CBB-ABF2-8D1A79FE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3F8A-40B3-4736-926B-3D7E62C3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00E9-CAF7-4069-837C-EFF0D992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DF07-D2B1-42C8-8160-B51E8FBE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591E-1845-445C-A5A2-8B1D7A68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B45D-5F61-485E-996E-FA7590D4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7D35-7925-47AF-ADC6-E20E82B4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F863-07C3-4369-89BF-EC7528C8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52A-9A28-40DA-8E81-E0ACBFEC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B6BC-3A07-42E1-B4C2-97011332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AFE3-5DA9-445F-A0E6-4FE71B4C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C3D5-95B0-470A-B57E-CA03EF86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9EAB-4695-42BE-A897-BCC958A9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781E-9237-403F-9983-F20857FF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031-9C51-45D4-976E-717D9D09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D3F-AFDF-4441-9EE8-5D212F3D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C0B-1A04-4316-B72D-692EAD53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9A4-057F-4B28-89DE-23B83FBE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727-8731-4BC4-BC59-E5FDB619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BDC-7736-4548-888B-1AEE7DB6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582-9191-4B83-9B8B-B70CA6F6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2EA-8925-4908-9803-6E046B005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A1A1-0012-4B4D-9BA1-690F795D1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ПСИХОЛОШКИ ПРОБЛЕМИ РУКОВОЂЕ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ВРЕМЕНИ ТЕОРИЈСКИ ПРИСТУПИ РУКОВОЂЕЊУ; РЕШАВАЊЕ КОНКРЕТНИХ РУКОВОДЕЋИХ ПРОБЛ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Врум-Јетонов модел одлучива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828800"/>
            <a:ext cx="4952880" cy="4267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тепен у ком је значајно квалитетно одлучи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тепен у ком вођа поседује довољно информ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донесе квалитетну одлу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3.   Степен до ког је проблем структуи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4.   Степен у ком је прихватање или учешћ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дређених битно за примену одлу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5.   Претпостављена вероватноћа да би вођ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аутократско руковођење било прихваћ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6.  Степен у ком су подређени мотивисани 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еже организационим циљев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7. Степен у ком би се подређени вероват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упротставили преферираним решењ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1828800"/>
            <a:ext cx="2895480" cy="441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утократски стил (А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утократски стил (А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нсултативни стил (С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нсултативни стил (С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Групно одлучивање 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G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67652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одалитети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1523880"/>
            <a:ext cx="23619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ил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уков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Херси- Бланшардов моде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772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тил руковођења и врста моћи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197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 за вежбањ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читати: Михаиловић, Д., Психологија организације, ФОН, 2005., стр. 200 – 2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пунити схему на слајду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пунити схему на слајду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говорити на питања на слајду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221304"/>
                </a:solidFill>
                <a:latin typeface="Times New Roman"/>
              </a:rPr>
              <a:t>Задатак 2: Стилови руковођења</a:t>
            </a:r>
            <a:br>
              <a:rPr sz="2400"/>
            </a:b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- предности и недостаци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1676520"/>
          <a:ext cx="7620120" cy="4503600"/>
        </p:xfrm>
        <a:graphic>
          <a:graphicData uri="http://schemas.openxmlformats.org/drawingml/2006/table">
            <a:tbl>
              <a:tblPr/>
              <a:tblGrid>
                <a:gridCol w="1981440"/>
                <a:gridCol w="2743200"/>
                <a:gridCol w="289548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тократ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мократски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ултатив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isez-fai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221304"/>
                </a:solidFill>
                <a:latin typeface="Times New Roman"/>
              </a:rPr>
              <a:t>Задатак 3:</a:t>
            </a: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221304"/>
                </a:solidFill>
                <a:latin typeface="Times New Roman"/>
              </a:rPr>
              <a:t>Стилови руковођења</a:t>
            </a: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Осмислите адекватну ситуацију за понуђене стилове руковођења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2209680"/>
          <a:ext cx="7620120" cy="3657240"/>
        </p:xfrm>
        <a:graphic>
          <a:graphicData uri="http://schemas.openxmlformats.org/drawingml/2006/table">
            <a:tbl>
              <a:tblPr/>
              <a:tblGrid>
                <a:gridCol w="1981440"/>
                <a:gridCol w="5638680"/>
              </a:tblGrid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ијентисан на љу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ијентисан на задат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221304"/>
                </a:solidFill>
                <a:latin typeface="Times New Roman"/>
              </a:rPr>
              <a:t>Задатак 4:</a:t>
            </a: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221304"/>
                </a:solidFill>
                <a:latin typeface="Times New Roman"/>
              </a:rPr>
              <a:t>Стилови руковођења</a:t>
            </a: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Понудите адекватан стил доношења одлуке с обзиром на ситуацију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ратешки је битно да подређени партиципирају у имплементацији одлу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колико руководилац нема довољно информација да донесе одлуку која није нарочито важна за опстанак груп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колико само руководилац има информације и знање неопходно за доношење и имплементацију одлу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колико је одлука од виталног значаја и неопходно ју је донети што пр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авезна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хаиловић, Д., Психологија организације, ФОН, 2005., стр. 200 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датна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јановић, Р., Психологија међуљудских односа, Центар за примењену психологију, Друштва психолога Србије, Београд, 1998., стр. 156 – 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Hersey, P., Blanchard, K. H., Johnson, D. E., Management of Organizational Behavior: Leading Human Resources, Eighth edition, Prentice-Hall, New Jersey, 20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Bitel, L., Liderstvo: stilovi i tehnike upravljanja, Clio, Beograd, 199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Tomson, R., Veština rukovođenja, Clio, Beograd, 2000.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новне функције руковође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ланир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овањ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прављањ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тро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уководеће функције у психолошком светлу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ођење – личност или ст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лучивање – основни механизам руковође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ланирање – концептуалне вешт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рганизовање и координис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ешавање проблема – сложена функ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ровска функција – систематско управљање људским ресурс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отивација – као мотивисање и као мотивиса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муникација – као кључна вешти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нтрола и евалуација запослених и процеса 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звој теоријске мисли о руковођењу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 великих људи”; “теорије личности вође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 стил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 личности и ст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туациони приступи руковође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Теорије личности /теорије стил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рођене диспозиције личности/научено понаш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гласак на селекцији/нагласак на образова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ључ успеха руководиоца”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рте личности и стил рада су међусобно зависне карактеристике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једнички доприносе добром или лошем руковође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72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итуациони приступи руковођењу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иеделров контингенцијски модел руковође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90720" y="1905120"/>
          <a:ext cx="7696080" cy="4343040"/>
        </p:xfrm>
        <a:graphic>
          <a:graphicData uri="http://schemas.openxmlformats.org/drawingml/2006/table">
            <a:tbl>
              <a:tblPr/>
              <a:tblGrid>
                <a:gridCol w="1218960"/>
                <a:gridCol w="1859040"/>
                <a:gridCol w="1540080"/>
                <a:gridCol w="1538280"/>
                <a:gridCol w="153972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с вођа - чл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а зада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ај в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говарајући стил руковође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ј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ј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с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ј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с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с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ј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с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Хаусов пут-циљ моде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590920"/>
            <a:ext cx="2057400" cy="11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длике запосле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треб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4076640"/>
            <a:ext cx="2057400" cy="11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длике по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руктуирано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структуира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438280"/>
            <a:ext cx="2057400" cy="35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илови вођ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ијентисано ка постигнућ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иректив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ртиципатив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државајућ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43880" y="2933640"/>
            <a:ext cx="1371600" cy="23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Ефикасност вођ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исока продуктивност рад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исоко задовољство пос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162240"/>
            <a:ext cx="343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4533840"/>
            <a:ext cx="343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962520"/>
            <a:ext cx="800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5:27:34Z</dcterms:created>
  <dc:creator>Ivana</dc:creator>
  <dc:description/>
  <dc:language>en-US</dc:language>
  <cp:lastModifiedBy>Ivana</cp:lastModifiedBy>
  <dcterms:modified xsi:type="dcterms:W3CDTF">2005-12-12T17:09:46Z</dcterms:modified>
  <cp:revision>21</cp:revision>
  <dc:subject/>
  <dc:title>ПСИХОЛОШКИ ПРОБЛЕМИ РУКОВОЂЕЊА</dc:title>
</cp:coreProperties>
</file>