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285-8C2E-407E-BB4F-E2692CF0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1A3-381A-42B1-8AA3-7BD62BCA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253-2076-41F9-8698-9409CFC2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663-7686-4C43-8145-36D5077C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BA11-B27E-4DE0-9462-6A581BB2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C0EC-878D-4580-8070-7F8D56E3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20A5-F4CB-42D2-92FB-8D2F42E3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021F-0793-406E-901B-A81D06F6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2CE6-8616-475D-AFA3-24A30A8F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95C2-1750-4D97-ACE9-2E8E9784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0100-ABAB-486B-A683-FF01FFA4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BD5-70CF-4E1E-8696-358D6B00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06A8-4B75-47DC-B505-17E1811B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C9E7-3D89-432E-9815-B967ACD3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7005-D2DB-4A27-9CE7-AE0ED524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4B7E-29E3-4EF5-AB01-53B37F17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4C6E-0A86-48F2-9095-82FB25D6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F11-B094-48CC-8410-540ADDB7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407-18C1-4D0E-93A5-A489F02C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E49-E7FA-48DC-BD8A-C4D3F202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EF8-A0A7-4492-965B-A5F3569B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E6F-A613-4DD0-B4E2-ECDDE550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DC0-C8CE-4DAE-95D0-32E1DC85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CCB-6CE3-4D65-8830-E9161063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7E07-E39C-4FB8-BC05-568E71919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BADD-AA09-4950-8F9D-DAD8D66E8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КОМУНИКАЦИЈА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муникациони процеси и комуникационе вештине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АСЕРТИВНОС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74678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амопродорно, борбено понашање које се испољава  у одлучној и активној одбрани сопствених права и потреба и  активном стремљењу ка циљу,  на социјално прихватљив и  за друге неповређујућ начин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Општи стилови комуникациј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асив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Жртва ситуације”, спољашња контрола, избегавање конфликата = Пораз/побе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гресив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осиоци” моћи и контроле ситуације = победа/пор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асивно-агресив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ристе индиректне стратегије избегавања =пораз/пор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сертив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штовање својих и туђих потреба = победа/побе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ример:</a:t>
            </a:r>
            <a:br>
              <a:rPr sz="40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- ситуација комуницирања потребе да се не пуши -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гресив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губи се. Стварно си кретен што ме изазиваш том цигаретом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асив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ништа не приговара и осећа се лоше због тог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сертив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</a:rPr>
              <a:t>покушавам да оставим пушење. Молим Вас да имате разумевања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24280" y="2133720"/>
            <a:ext cx="4114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Губитак контроле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овећана тенз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Губитак самопоштовањ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Смањено самопоуздањ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Осећате се добро. Тражите оно што желите да добијете. Испоштовали сте и своја и туђа осећања. Друга особа је укључена у то и разуме да Вам је тренутно тешк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збегли сте потенцијално опасан окидач (кривицу или бес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447920"/>
            <a:ext cx="3200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тил комуницирањ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15000" y="1523880"/>
            <a:ext cx="25909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зулта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848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кривене” порук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сертивност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“ово је оно што ја мислим и осећам; занима ме шта ти мислиш и осећаш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асивност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”моја осећања и мишљење није битно, битно је само оно што ти осећаш и мислиш; само си ти важан, ја сам нико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гресивност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“ово је оно што ја мислим и само је то битно; ти си глуп што не мислиш исто као ја; то је оно што ја хоћу, оно што ти хоћеш није битно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221304"/>
                </a:solidFill>
                <a:latin typeface="Times New Roman"/>
              </a:rPr>
              <a:t>Елементи и процес асертивног комуницирањ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мпатија – рећи нешто што одражава да сте разумели осећања друге осо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+ поштов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зношење проблема – изрећи начин на који Ви видите ситуацију (проблем) и негативно осећ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творено рећи оно што Ви желите (оекујете), своје циљеве и жељену промену понаша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Формула асертивне комуникације”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949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Желео бих 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(или разумем, видим да...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ли, када ти __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а се осећам ___________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начило би ми уколико би ти ___________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6172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Приметила сам да кад год треба да изађемо негде, ти се спремиш пре мене и почнеш да ме пожурујеш да се и ја што пре спремим иако имамо још времена до полас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3694b6"/>
                </a:solidFill>
                <a:latin typeface="Times New Roman"/>
              </a:rPr>
              <a:t>Разумем да се унервозиш јер си ти спреман а ја још нисам,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али </a:t>
            </a:r>
            <a:r>
              <a:rPr b="1" i="1" lang="sr-CS" sz="1800" spc="-1" strike="noStrike">
                <a:solidFill>
                  <a:srgbClr val="666699"/>
                </a:solidFill>
                <a:latin typeface="Times New Roman"/>
              </a:rPr>
              <a:t>што ме више пожурујеш ја бивам све неспретнија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666699"/>
                </a:solidFill>
                <a:latin typeface="Times New Roman"/>
              </a:rPr>
              <a:t>и треба ми чак и више времена да се спремим. Увек се заврши тако што будемо љути један на другог и пре него што игде кренемо и тиме покваримо цело вече.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a1bd69"/>
                </a:solidFill>
                <a:latin typeface="Times New Roman"/>
              </a:rPr>
              <a:t>Хајде да се договоримо да од сада унапред одредимо тачно време кад ћемо кренути, и уколико се ти спремиш пре мене, молила бих те да једноставно одеш у другу собу и одгледаш нешто на ТВ док се и ја не спремим?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Уколико ипак дођеш да ме пожурујеш ја ћу те у миру подсетити на време и наш договор. На тај начин ћемо обоје уживати много више у заједничким изласцима. “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1219320"/>
            <a:ext cx="2057400" cy="914400"/>
          </a:xfrm>
          <a:prstGeom prst="wedgeRoundRectCallout">
            <a:avLst>
              <a:gd name="adj1" fmla="val -39662"/>
              <a:gd name="adj2" fmla="val 85763"/>
              <a:gd name="adj3" fmla="val 16667"/>
            </a:avLst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познавање осећањ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38880" y="2514600"/>
            <a:ext cx="1905120" cy="990720"/>
          </a:xfrm>
          <a:prstGeom prst="wedgeRoundRectCallout">
            <a:avLst>
              <a:gd name="adj1" fmla="val -69000"/>
              <a:gd name="adj2" fmla="val 68587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очавање пробл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62920" y="3733920"/>
            <a:ext cx="1981080" cy="1371600"/>
          </a:xfrm>
          <a:prstGeom prst="wedgeRoundRectCallout">
            <a:avLst>
              <a:gd name="adj1" fmla="val -68268"/>
              <a:gd name="adj2" fmla="val 3553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јашњавање о својим потребама (нуђење решењ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Ја говор”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авити се проблемом а не оптужб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4572000"/>
            <a:ext cx="6934320" cy="8380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Желела бих да завршим своју причу без прекидања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2971800"/>
            <a:ext cx="68580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век ме прекидаш док причам!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505320" y="2514600"/>
            <a:ext cx="182880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2514600"/>
            <a:ext cx="160020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 anchorCtr="1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696080" y="4952880"/>
          <a:ext cx="8384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4952880"/>
                    <a:ext cx="8384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Невреднујући судови – неосуђујуће тврдњ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водити неутралне чињенице без осуђива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8381880" y="3733920"/>
          <a:ext cx="60984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3733920"/>
                    <a:ext cx="6098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1143000" y="3048120"/>
            <a:ext cx="35812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о што си урадио ниш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 ваља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3200400"/>
            <a:ext cx="373392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ба да исправи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ешке у куцању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мениш стил писања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4876920"/>
            <a:ext cx="381024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ћеш ваљда на улицу ТАК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учен?!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4724280"/>
            <a:ext cx="365760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си ли приметио 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ш флеке на мајици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523520" y="2819520"/>
            <a:ext cx="175284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2743200"/>
            <a:ext cx="121932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4572000"/>
            <a:ext cx="205740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523520" y="4495680"/>
            <a:ext cx="160020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305920" y="541008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541008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реузети одговорност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сказати своје мишљење, осећања и ставове и преузети одговорност за њ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8229600" y="3657600"/>
          <a:ext cx="6094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3657600"/>
                    <a:ext cx="609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295280" y="3048120"/>
            <a:ext cx="2514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нервирао ме је!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2971800"/>
            <a:ext cx="358128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нервирам с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д не одрж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ећање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4876920"/>
            <a:ext cx="266688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Једино разум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што с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оже учинити..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4648320"/>
            <a:ext cx="3352680" cy="12189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Верује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је најбољи начи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се то уради..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294920" y="2666880"/>
            <a:ext cx="167652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2743200"/>
            <a:ext cx="106668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599840" y="4495680"/>
            <a:ext cx="121932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00200" y="4419720"/>
            <a:ext cx="137160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8077320" y="5562720"/>
          <a:ext cx="53316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77320" y="5562720"/>
                    <a:ext cx="5331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Комуникација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муникација је проце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змене информација и значењ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међу учесни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утем смислених и разумљив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мб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636120"/>
            <a:ext cx="76201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Јасни захтеви; предлог решења</a:t>
            </a:r>
            <a:br>
              <a:rPr sz="3600"/>
            </a:b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+</a:t>
            </a:r>
            <a:br>
              <a:rPr sz="3600"/>
            </a:b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конкретност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Формулисати јасне, директне захте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 изазивати негативан одгов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3429000"/>
            <a:ext cx="28954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ли б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мао нешто против...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3352680"/>
            <a:ext cx="3429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Зашто ти не би...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09680" y="4876920"/>
            <a:ext cx="4648320" cy="10666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ли би хтео...молим те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77120" y="5562720"/>
          <a:ext cx="7617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5562720"/>
                    <a:ext cx="761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 flipH="1">
            <a:off x="1600200" y="3124080"/>
            <a:ext cx="175248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3200400"/>
            <a:ext cx="160020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714640" y="3124080"/>
            <a:ext cx="167652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3124080"/>
            <a:ext cx="167652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итања и задаци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читати: Михаиловић, Д., Психологија у организацији, ФОН, Београд, 2005., стр. 261 – 2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змислити о свом стилу комуницирања. Какви су исходи тих комуникациј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пунити тест комуникационих вешт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змислити о својим комуникационим вештина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авез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ихаиловић, Д., Психологија у организацији, ФОН, Београд, 2005., стр. 261 – 2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одатна: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ојановић Р., Психологија међуљудских односа, Центар за примењену психологију, Друштва психолога Србије, Београд, 1998., стр. 187-1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ecchio, T.R., Organizational behavior, The Dryden Press, Orlando, 1995., str. 536 – 5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ергер, Ј., Трећи родитељ, Центар за примењену психологију Друштва психолога Србије, Београд, 2000., стр. 140 - 1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Комуникациони филтер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304920" y="2438280"/>
            <a:ext cx="761760" cy="28195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ИЉАЛА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2514600"/>
            <a:ext cx="685800" cy="2895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МАЛА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000680" y="3467160"/>
            <a:ext cx="1295280" cy="4572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РУ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1844640"/>
            <a:ext cx="2895840" cy="4143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ФИЛТЕР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ОШИЉАО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еман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 емоциј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тавов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 очекивања од уло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 демографски (статус, пол, образовни ниво, старост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рекло, јези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 паралингвистички знац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 невербална комуникациј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 личне карактерист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 опажањ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итуационе варијабл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(удаљеност, недостатак времена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 Комуникационе вештин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70480" y="2028960"/>
            <a:ext cx="2478240" cy="39909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ФИЛТЕР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ПРИМАО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 семан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емоциј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ставов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очекивања од уло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демографски (статус, пол, образовни ниво, старост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орекло, јези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паралингвистички знац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невербална комуникациј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личне карактерист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опажањ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ситуационе варијабл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удаљеност, недостатак времена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Комуникационе вештин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85800" y="62485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534520" y="5486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8580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8580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16765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104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Трансакциони модел комуник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4343400"/>
            <a:ext cx="1600200" cy="16002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иљала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4343400"/>
            <a:ext cx="1447560" cy="15238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мала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4952880"/>
            <a:ext cx="2286000" cy="60984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350532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8760" y="3581280"/>
            <a:ext cx="4546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ру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1981080"/>
            <a:ext cx="609480" cy="1143000"/>
          </a:xfrm>
          <a:prstGeom prst="downArrow">
            <a:avLst>
              <a:gd name="adj1" fmla="val 50000"/>
              <a:gd name="adj2" fmla="val 4688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имбо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478400">
            <a:off x="1047600" y="1706400"/>
            <a:ext cx="2599560" cy="613800"/>
          </a:xfrm>
          <a:prstGeom prst="rightArrow">
            <a:avLst>
              <a:gd name="adj1" fmla="val 50000"/>
              <a:gd name="adj2" fmla="val 10588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енкодирање/декодирањ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4034400">
            <a:off x="5808600" y="768600"/>
            <a:ext cx="786240" cy="2500920"/>
          </a:xfrm>
          <a:prstGeom prst="downArrow">
            <a:avLst>
              <a:gd name="adj1" fmla="val 50000"/>
              <a:gd name="adj2" fmla="val 7952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екодирање/енкодирањ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5943600"/>
            <a:ext cx="762120" cy="609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383480" y="2730960"/>
            <a:ext cx="615960" cy="1249560"/>
          </a:xfrm>
          <a:prstGeom prst="cloudCallout">
            <a:avLst>
              <a:gd name="adj1" fmla="val 7939"/>
              <a:gd name="adj2" fmla="val 16082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3048120"/>
            <a:ext cx="1828800" cy="7617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01000" y="4648320"/>
            <a:ext cx="1143000" cy="914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8672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2343240"/>
            <a:ext cx="77216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Комуникација као трансакција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познавање комуникације (трансакције) према моделу трансакционе анализ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198108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505320"/>
            <a:ext cx="1219320" cy="12189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510552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1981080"/>
            <a:ext cx="114300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3429000"/>
            <a:ext cx="121932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5105520"/>
            <a:ext cx="129564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190512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335268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5029200"/>
            <a:ext cx="1219320" cy="10666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1981080"/>
            <a:ext cx="121932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3505320"/>
            <a:ext cx="1219320" cy="1295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5105520"/>
            <a:ext cx="1143000" cy="10666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Комплементарне трансакциј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7360" y="342792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олико је сати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33720" y="4114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49640" y="43804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943600" y="2819520"/>
            <a:ext cx="13716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019920" y="2971800"/>
            <a:ext cx="137160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7270200">
            <a:off x="6057360" y="308556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олиш ли ме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8175800">
            <a:off x="5734440" y="4482360"/>
            <a:ext cx="195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равно да те воли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198108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505320"/>
            <a:ext cx="1219320" cy="12189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510552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1981080"/>
            <a:ext cx="114300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3429000"/>
            <a:ext cx="121932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5105520"/>
            <a:ext cx="129564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190512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35268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029200"/>
            <a:ext cx="1219320" cy="10666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1981080"/>
            <a:ext cx="121932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38880" y="3505320"/>
            <a:ext cx="1219320" cy="1295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8880" y="5105520"/>
            <a:ext cx="1143000" cy="10666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Укрштене трансакциј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7360" y="342792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олико је сати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943600" y="2819520"/>
            <a:ext cx="13716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7270200">
            <a:off x="6057360" y="308556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олиш ли ме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88440" y="43423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та је то љубав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981080" y="2590920"/>
            <a:ext cx="106704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7434800">
            <a:off x="1506600" y="481140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пи већ једном тај сат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248160" y="3962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198108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3505320"/>
            <a:ext cx="1219320" cy="12189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510552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1981080"/>
            <a:ext cx="114300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429000"/>
            <a:ext cx="121932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5105520"/>
            <a:ext cx="129564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190512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335268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029200"/>
            <a:ext cx="1219320" cy="10666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1981080"/>
            <a:ext cx="121932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3505320"/>
            <a:ext cx="1219320" cy="1295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5105520"/>
            <a:ext cx="1143000" cy="10666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кривене трансакциј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3240" y="319932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Распродаја је само дана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113800">
            <a:off x="2285280" y="434232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пи одмах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5867280" y="3123720"/>
            <a:ext cx="1943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мам добре плоче код кућ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82760" y="4483440"/>
            <a:ext cx="16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божавам музик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42670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1981080" y="4495320"/>
            <a:ext cx="10670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2269200">
            <a:off x="1586520" y="495144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пићу одм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408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гао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1522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упле (двосмислен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248160" y="4114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5334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171840" y="5638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55520" y="4914000"/>
            <a:ext cx="245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Хајде да се мало забавим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10160" y="594252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аж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КТИВНО СЛУШ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НОШЕЊЕ ПОРУ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ЗУМЕВАЊЕ ПРОЦЕСА, АКТЕРА И КОНТЕК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ТРОЛА ЕМО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СЕРТИВ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762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221304"/>
                </a:solidFill>
                <a:latin typeface="Times New Roman"/>
              </a:rPr>
              <a:t>ВЕШТИНЕ УСПЕШНЕ КОМУНИКАЦ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7:44:50Z</dcterms:created>
  <dc:creator>Ivana</dc:creator>
  <dc:description/>
  <dc:language>en-US</dc:language>
  <cp:lastModifiedBy>Ivana</cp:lastModifiedBy>
  <dcterms:modified xsi:type="dcterms:W3CDTF">2005-12-12T18:49:20Z</dcterms:modified>
  <cp:revision>21</cp:revision>
  <dc:subject/>
  <dc:title>Slide 1</dc:title>
</cp:coreProperties>
</file>