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18F-19FF-4CFB-B674-69E2216E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447-C206-4DB4-A402-8A1121A8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D5E-AB96-4323-B64B-506F5308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94C-3F1A-46CA-BB1B-A34DBC2B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B59-69A0-4544-91E1-0E1FD11C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247-B7BD-40C9-82E4-0F65B7F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FD3B-50AA-4047-9927-ADC806C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9FB0-79AA-4B1D-BA3E-2EE96517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A73F-2EC1-4A82-ADA9-741D553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9E4-7E06-4A9C-9D12-74A59AF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A835-CCA2-4C5A-8D7E-1B78897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23B-8E64-4662-8745-3B3A8E5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AEF-9144-4A0D-AF26-AAF8786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D26-449D-40DF-9DD0-0842ED5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4F63-A88A-46EB-BBD6-30D80D27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29F6-D370-4696-92C6-80A468CB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6663-9EF7-4052-AD3F-410E04B9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5E8-4A7F-44E4-90B9-DCA7C07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6CE-01F2-4BD7-AF19-C8EFB984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D53-8332-4EA3-A2C7-BA337EAB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BA2-D49B-4639-BEA9-FF0C003F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717-A1AE-41A0-A647-781939FE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160-D62D-411F-B00B-1944986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A13-4E46-44B0-BB4D-5899185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039-2EBD-4985-BBA0-F5E09FE6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F525-CE0C-43C3-B01D-5A862BB2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звори, ефекти и мерење кохезив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600200"/>
          <a:ext cx="7696080" cy="481824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В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КАТ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а база чла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ља да се остане у гру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га групе да задржи члан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ктеристике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ентификација са гр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ћ утицања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кивање ч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лагање за зад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шће чланова у извршавању за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оређивање са другим могућим члан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вајање групних циљ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ћање сигурности ч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јалност према чланов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икасност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Групни феномени:</a:t>
            </a:r>
            <a:br>
              <a:rPr sz="32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Групна структур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според, организованост, трај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уктура груп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четири схват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пози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улога везаних за пози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међусобн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 ранговања чланова према неком критериј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41008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зиције чланова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них структу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ална: аспек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уктура моћ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уникациона струк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циометријска (афективна структу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атусна струк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зе развоја малих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фазе у развијању личних односа чланова груп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– развијање структуре -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зајамно повези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ављање конфликата у груп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јање јединства групе – групна кохезивнос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период преважилажења сукоба и отпора и утврђивање улога и групних норм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постављање функционалног односа између у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Стабилизација улога, а група постаје инструмент за остварење циљева због којих постој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Фазе у развитку понашања чланова груп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ријентација на информисање о зада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ротстављање захтевима у вези са задат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ена важних информација о задатку и њихова интерпре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период преважилажења сукоба и отпора и утврђивање улога и групних нор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ављање активности којима се задаци успешно остварују и проблеми решава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87360" y="801720"/>
            <a:ext cx="16621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438280"/>
            <a:ext cx="474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6040" y="3911760"/>
            <a:ext cx="13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kao jedan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35200" y="2997000"/>
            <a:ext cx="712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66920" y="1041480"/>
            <a:ext cx="14256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438280"/>
            <a:ext cx="59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7320" y="3798720"/>
            <a:ext cx="1187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udruživanje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752640" y="2882520"/>
            <a:ext cx="593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3480" y="2997360"/>
            <a:ext cx="593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516120" y="3111480"/>
            <a:ext cx="355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97320" y="322560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38760" y="3568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621400" y="356868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21400" y="34542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01880" y="345456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02240" y="33400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82720" y="334008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83080" y="3225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64280" y="322596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144760" y="3683160"/>
            <a:ext cx="4762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264280" y="3454560"/>
            <a:ext cx="47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857560" y="3111480"/>
            <a:ext cx="237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621400" y="3225960"/>
            <a:ext cx="3556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88280" y="2654280"/>
            <a:ext cx="1306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2514600"/>
            <a:ext cx="474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8280" y="2997360"/>
            <a:ext cx="130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43600" y="3340080"/>
            <a:ext cx="594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724440" y="3340080"/>
            <a:ext cx="593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05280" y="3568680"/>
            <a:ext cx="83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62760" y="3225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760" y="1697040"/>
            <a:ext cx="180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28760" y="16970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28760" y="16970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28760" y="1697040"/>
            <a:ext cx="1496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600200"/>
          <a:ext cx="7543800" cy="4790880"/>
        </p:xfrm>
        <a:graphic>
          <a:graphicData uri="http://schemas.openxmlformats.org/drawingml/2006/table">
            <a:tbl>
              <a:tblPr/>
              <a:tblGrid>
                <a:gridCol w="1925640"/>
                <a:gridCol w="2000520"/>
                <a:gridCol w="1692000"/>
                <a:gridCol w="192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i voljni ili pouzd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ali ne voljni ili nesigu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su u stanju ali voljni ili pouzd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su u stanju niti su voljni ili su nesigu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»OLUJA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»funkcionalni strukturisani samoupravljački timovi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hezivni t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imska neusklađ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zvesan »haos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uh zajedničkog sinergetskog delo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stepeno prilagođa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za uzajamno poštovanje i utic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treba za ciljem i usmeravan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010280" y="3657600"/>
            <a:ext cx="13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prikupljanje delova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362320"/>
            <a:ext cx="474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развоја тима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у организацији, ФОН, Београд, 2005., стр. 164-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мислити испитивање феномена групне кохезивности користећи понуђену табелу: “Извори, ефекти и мерење кохезивности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ушати конкретан пример групе или тима провући кроз понуђене фазе тимског ра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 приказне чланке обраћајући пажњу на нацрте истраживања (поступак) и добијене резул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коментарисати добијене резултате у контексту разлика између феномена групе и тимског рада (фактори групе/ти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коментарисати паралеле између теоријских концепција Белбина и Кирт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164-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оруче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от, Н., Психологија група, ИП Завет, Београд, 199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ланци за прика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isher, G.S., Hunter, A.T., Macrosson, W.D.K.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Team or Group? Manager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` Perceptions of the Difference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al of Managerial Psychology, Vol. 12., no. 4., 1997., pp. 232-24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her, G., Macrosson, W.D.K., Wong, J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gnitive Style and Team Role P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ournal of Managerial Psychology, Vol. 13., No. 8., 1998., p. 544-55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АЛА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једи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у чини ограничени број појединаца међу којима влад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билизовани систем односа и одређене норме понаш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мерене ка остварењ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х циље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И ОРГАНИЗАЦ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1: 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ационална координација активности одређеног броја људи рад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стизања неке заједничке намере или циљ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роз поделу посла и функци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 преко хијерархије ауторитета и одговорности”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Шејн, 1970)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. 2: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есни сист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ајамно повеза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х груп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разован ради постиз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еђеног циљ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Креч, Крачвилд, Балаки, 1978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ретпоставк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једнички ци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ела задат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ординациј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ијерархија аутор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новне одлике организ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женост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ел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ординација функциј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изовање однос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лозофска питања</a:t>
            </a:r>
            <a:br>
              <a:rPr sz="4000"/>
            </a:br>
            <a:r>
              <a:rPr b="0" lang="sr-CS" sz="1800" spc="-1" strike="noStrike">
                <a:solidFill>
                  <a:srgbClr val="221304"/>
                </a:solidFill>
                <a:latin typeface="Times New Roman"/>
              </a:rPr>
              <a:t>- спољашња детерминација понашања?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920" y="2236320"/>
            <a:ext cx="7238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а природ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фикас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ичко здрављ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нтеракција личности и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сагласност развојних тенденција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реле личности и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хтева формалне орган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рганизација и личност имају различите интере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Због тога је неминован суко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 неопходна промена одно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0240" y="2376000"/>
            <a:ext cx="38862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ек тежи задовољењу егзистенцијалних потре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ална сигурност појединца зависи од успешности пословања орган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рганизација и људска природа су у скла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523880"/>
            <a:ext cx="34290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сту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 становишт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1523880"/>
            <a:ext cx="396216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сту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 становишта орган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cGregor –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а 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јзначајнија потреба за материјалном сигурношћ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овек је пасиван и ле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послу га треба усмеравати, присиљавати и кажњ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начајније су више човекове потребе – тежи самоиницијативи и креа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је лењ и не избегава одговор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еба остварити интеграцију циљева организације и поједин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219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1219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оставке теорије 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Z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јапански менаџмент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епт доживотног запосл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но напред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специјализована кариј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ртиципација у доношењу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ективна одговор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плицитна (неформална) контр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листички приступ запослен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учи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итања и задац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у организацији, ФОН, Београд, 2005., стр. 181-1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дговорити на “филозофска питања”: људске природе, ефикасности и менталног здравља у контексту наших организ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мислити начин за испитивање поставк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cGregor-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XY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орије у конкретној организац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ложити мере које би могле да помогну имплементаци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орије на наше организ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Битне одл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ђусобна непосредна интеракција поједин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свесни једн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ју себе као део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181-1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поруче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Црте личности 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које утичу на групну климу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рперсонална оријентациј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оперативнос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цијална сензитивност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оцијална емпат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минантност/завис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интерперсонална атракциј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лизина и учесталост контак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став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чка привла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активности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циљев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самог чланств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трументално чл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371600"/>
            <a:ext cx="29718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труктуира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1371600"/>
            <a:ext cx="29718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уктуира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819520"/>
            <a:ext cx="198144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038480"/>
            <a:ext cx="198108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5334120"/>
            <a:ext cx="205740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циј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2971800"/>
            <a:ext cx="190512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038480"/>
            <a:ext cx="213336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5334120"/>
            <a:ext cx="236232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штве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362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286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арне/секундар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ерент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е/неформал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ластите/туђ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арна група – основна обележ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интензивних интерперсоналних односа између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е емотивне везаности међу њ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а осећања везаности за груп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а интеракција свих са с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нзиван утицај фрупе на понашање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сти контакти лицем у лиц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Групни феномени:</a:t>
            </a:r>
            <a:br>
              <a:rPr sz="32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Групна кохез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зултанта свих снага које делују на чланове да остану у групи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7:30:17Z</dcterms:created>
  <dc:creator>Ivana</dc:creator>
  <dc:description/>
  <dc:language>en-US</dc:language>
  <cp:lastModifiedBy>Ivana</cp:lastModifiedBy>
  <dcterms:modified xsi:type="dcterms:W3CDTF">2005-12-12T18:35:19Z</dcterms:modified>
  <cp:revision>31</cp:revision>
  <dc:subject/>
  <dc:title>Slide 1</dc:title>
</cp:coreProperties>
</file>