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168B-6BC3-44F5-8C08-B532A7845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ED16-F238-4F86-AB77-3D51D7ACC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FED8-C257-4B15-ACF7-7B7686143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C32A-C963-416B-A0C5-3E1270513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CA259-AA02-4241-A613-20DF2A7B0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473FD-6FCA-4A84-8D73-F7D206F4F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59552-8EB6-4794-840F-A222B6289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398B6-48B9-49C3-8F40-B367340F5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4EFD9-BF98-4018-9C9F-3678E3D5C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9A724-A03E-4E95-8D43-9EC1FE9FE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A8A59-4421-40D1-BCD8-C205717B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D4A1-502A-46CC-95A6-921B6A29A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573CE-454C-4283-9889-4BC451B7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FC997-CB6C-4D3B-95D7-A88C34943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DF7A0-69FC-4F65-A676-2E78CE81E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BE297-7295-46CC-A602-9D545BB2F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51DD3-B8DF-479B-B864-CA16B55D6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A446-3C92-48DF-B31D-8ECC666B1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D23E-C93F-4234-99BE-96C291CDE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0D76-07A1-4E30-9EA7-F9FDEAE81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4E4A-1555-4FED-9F3D-CB3121D63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9CE2-09C3-4F18-8CC3-54F42258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FEA9-84D1-4B7A-ACB5-8D24CCEC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527C-4995-4D1E-B1DD-4C22D4063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F3293-0394-4EA3-A52C-4EAE2AB35F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95257-6AEC-4C10-8AF0-465221432C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ПРОЦЕС КОМУНИЦИРАЊА У ОРГАНИЗАЦИЈИ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ТЕШКОЋЕ У ПРОЦЕСУ КОМУНИЦИРАЊА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320" y="2133720"/>
            <a:ext cx="76201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рганизационе препрек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Тешкоће везане за формулацију пору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Тешкоће везане за психолошке профиле учесни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Тешкоће организационе природе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Услед неодређености организационе структур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Непрецизираних улога и одговор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Недовољног познавања (недовољно информација) оних са којима се комуници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221304"/>
                </a:solidFill>
                <a:latin typeface="Times New Roman"/>
              </a:rPr>
              <a:t>Отклањање организационих тешкоћа: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обољшање организационе структур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одређивањем канала комуникациј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рецизирањем дужности и одговорности учесн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мањењем броја канала на потребан обим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sr-CS" sz="3200" spc="-1" strike="noStrike">
                <a:solidFill>
                  <a:srgbClr val="221304"/>
                </a:solidFill>
                <a:latin typeface="Times New Roman"/>
              </a:rPr>
              <a:t>Проблеми формулације поруке се отклањају: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66320" y="205704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оруке саопштавати јасним речим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аопштавати битне ствар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ључна места поновит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Развити технике активног слушањ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221304"/>
                </a:solidFill>
                <a:latin typeface="Times New Roman"/>
              </a:rPr>
              <a:t>Тешкоће везане за психолошке одлике учесника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ПАРАНОИДНЕ ОСОБ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Информације јасне, износити чињенице, не изражавати своје мишљењ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ДЕПРЕСИВНЕ ОСОБ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Поновити информацију, покажите разумевање, охрабрити их; открите шта очекују; објасните разлог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ЕГОЦЕНТРИЧНЕ ОСОБ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Не критикујте га, одајте му признање, усмерите комуникацију на конкретне послов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АНКСИОЗНЕ ОСОБ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Умирите га, покажите добронамерност, утврдите шта жели, показати заинтересованос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АГРЕСИВНЕ ОСОБ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Не излажите га јавној критици, не објашњавајте његово понашање, применити стратегију: «Ако не можеш ти, то ће већ неко други урадити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221304"/>
                </a:solidFill>
                <a:latin typeface="Times New Roman"/>
              </a:rPr>
              <a:t>Елементарни принципи у раду са тешким особама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Не улазите у вербалне дуел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Не упадати у ре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Не доносити пребрзе закључк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Не окривљавати саговорн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Не обећавати оно што не может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Дефиниција појм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Комуникација је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пренос информација и значењ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од једне до друге особе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преко разумљивих симбол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Схема процеса комуницирањ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36232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пошиљала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562720" y="35812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пору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10080" y="48769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примала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181480" y="57150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повратна информациј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0120" y="2438280"/>
            <a:ext cx="99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Нова порука или акциј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00600" y="1600200"/>
            <a:ext cx="3657600" cy="45720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Двосмерна комуникациј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1600200"/>
            <a:ext cx="3657600" cy="45720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Једносмерна комуникациј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23623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пошиљала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5740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пору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28800" y="50292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примала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438280" y="2666880"/>
            <a:ext cx="152640" cy="990720"/>
          </a:xfrm>
          <a:prstGeom prst="downArrow">
            <a:avLst>
              <a:gd name="adj1" fmla="val 50000"/>
              <a:gd name="adj2" fmla="val 16226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38280" y="4038480"/>
            <a:ext cx="152640" cy="990720"/>
          </a:xfrm>
          <a:prstGeom prst="downArrow">
            <a:avLst>
              <a:gd name="adj1" fmla="val 50000"/>
              <a:gd name="adj2" fmla="val 16226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43600" y="2743200"/>
            <a:ext cx="152280" cy="838080"/>
          </a:xfrm>
          <a:prstGeom prst="downArrow">
            <a:avLst>
              <a:gd name="adj1" fmla="val 50000"/>
              <a:gd name="adj2" fmla="val 1375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43600" y="4038480"/>
            <a:ext cx="152280" cy="762120"/>
          </a:xfrm>
          <a:prstGeom prst="downArrow">
            <a:avLst>
              <a:gd name="adj1" fmla="val 50000"/>
              <a:gd name="adj2" fmla="val 12511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43600" y="5257800"/>
            <a:ext cx="152280" cy="533520"/>
          </a:xfrm>
          <a:prstGeom prst="downArrow">
            <a:avLst>
              <a:gd name="adj1" fmla="val 50000"/>
              <a:gd name="adj2" fmla="val 875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5029200"/>
            <a:ext cx="914400" cy="152280"/>
          </a:xfrm>
          <a:prstGeom prst="leftArrow">
            <a:avLst>
              <a:gd name="adj1" fmla="val 50000"/>
              <a:gd name="adj2" fmla="val 15011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19720" y="2666880"/>
            <a:ext cx="152280" cy="2210040"/>
          </a:xfrm>
          <a:prstGeom prst="upArrow">
            <a:avLst>
              <a:gd name="adj1" fmla="val 50000"/>
              <a:gd name="adj2" fmla="val 36282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95680" y="2438280"/>
            <a:ext cx="838440" cy="152640"/>
          </a:xfrm>
          <a:prstGeom prst="rightArrow">
            <a:avLst>
              <a:gd name="adj1" fmla="val 50000"/>
              <a:gd name="adj2" fmla="val 13732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81680" y="2514600"/>
            <a:ext cx="838440" cy="152280"/>
          </a:xfrm>
          <a:prstGeom prst="rightArrow">
            <a:avLst>
              <a:gd name="adj1" fmla="val 50000"/>
              <a:gd name="adj2" fmla="val 13764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001000" y="3657600"/>
            <a:ext cx="152280" cy="1523880"/>
          </a:xfrm>
          <a:prstGeom prst="downArrow">
            <a:avLst>
              <a:gd name="adj1" fmla="val 50000"/>
              <a:gd name="adj2" fmla="val 25017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629400" y="5029200"/>
            <a:ext cx="1295280" cy="152280"/>
          </a:xfrm>
          <a:prstGeom prst="leftArrow">
            <a:avLst>
              <a:gd name="adj1" fmla="val 50000"/>
              <a:gd name="adj2" fmla="val 21264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2260200">
            <a:off x="4389120" y="5525640"/>
            <a:ext cx="990720" cy="206640"/>
          </a:xfrm>
          <a:prstGeom prst="leftArrow">
            <a:avLst>
              <a:gd name="adj1" fmla="val 50000"/>
              <a:gd name="adj2" fmla="val 11986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Елементи процеса комуницирања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ошиљалац (енкодер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ималац (декодер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орука (информациј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анал (медијатор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овратна информација (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feedbac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пажање (перцепциј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Комуникациони канали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Вертикал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На дол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На гор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Хоризонтал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Принципи ефикасне повратне информације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Мора бити битна за предмет информисањ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а буде прецизнија и специфичнија од полазне информациј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онцизнија и претежно дескриптив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Ртреба да следи иницијалну информациј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Енкодер и декодер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2514600" cy="44960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НКОД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ВЕШТИНА КОМУНИЦИРАЊ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ТАВОВИ И ИСКУСТВ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МЕНТАЛНЕ СПОСОБ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66680" y="21337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505320" y="1752480"/>
            <a:ext cx="990360" cy="449604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3504960" y="1752480"/>
            <a:ext cx="99036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05320" y="4038480"/>
            <a:ext cx="990360" cy="221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66120" y="2438280"/>
            <a:ext cx="485280" cy="32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П Е Р Ц Е П Ц И Ј 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00800" y="1676520"/>
            <a:ext cx="2438280" cy="44956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ЕКОД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ВЕШТИНА КОМУНИЦИРАЊ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ТАВОВИ 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ИСКУСТВ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МЕНТАЛНЕ СПОСОБ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19920" y="2133720"/>
            <a:ext cx="281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1676520"/>
            <a:ext cx="990720" cy="44956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10080" y="1676520"/>
            <a:ext cx="99072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5410080" y="3962520"/>
            <a:ext cx="99072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10800000">
            <a:off x="5409720" y="2438280"/>
            <a:ext cx="485280" cy="32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П Е Р Ц Е П Ц И Ј 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95680" y="1905120"/>
            <a:ext cx="906480" cy="10666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Порук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вербал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495680" y="3352680"/>
            <a:ext cx="906480" cy="1219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Канали: формалн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95680" y="4952880"/>
            <a:ext cx="914400" cy="10670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Повратна вез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вербал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495680" y="1752480"/>
            <a:ext cx="914400" cy="152640"/>
          </a:xfrm>
          <a:prstGeom prst="rightArrow">
            <a:avLst>
              <a:gd name="adj1" fmla="val 50000"/>
              <a:gd name="adj2" fmla="val 14976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495680" y="3048120"/>
            <a:ext cx="990720" cy="152280"/>
          </a:xfrm>
          <a:prstGeom prst="rightArrow">
            <a:avLst>
              <a:gd name="adj1" fmla="val 50000"/>
              <a:gd name="adj2" fmla="val 16264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495680" y="4724280"/>
            <a:ext cx="914400" cy="152640"/>
          </a:xfrm>
          <a:prstGeom prst="leftArrow">
            <a:avLst>
              <a:gd name="adj1" fmla="val 50000"/>
              <a:gd name="adj2" fmla="val 149764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95680" y="6095880"/>
            <a:ext cx="914400" cy="152640"/>
          </a:xfrm>
          <a:prstGeom prst="leftArrow">
            <a:avLst>
              <a:gd name="adj1" fmla="val 50000"/>
              <a:gd name="adj2" fmla="val 149764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Врсте комуникације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3733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Формалн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реносе се утврђеним каналима (формалним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Стабилн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Непроменљив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Унапред утврђе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Деперсонализовани процес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Хијерархијска условљенос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952880" y="1752120"/>
            <a:ext cx="3733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Неформалне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реносе се изван формалних кана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Допуна устаљеног система комуницирањ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Настају спонта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Задовољавају личне потреб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Мање постоја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Мање поуздан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Мање потпу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Типови комуникације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95480" y="2209680"/>
            <a:ext cx="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3429000"/>
            <a:ext cx="365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                F              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3880" y="365760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3200040" y="365760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23880" y="4724280"/>
            <a:ext cx="2819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                    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981080" y="3962520"/>
            <a:ext cx="83844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2971800" y="3962520"/>
            <a:ext cx="91440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76520" y="55627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ТИП “ЗВЕЗДА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952880" y="3505320"/>
            <a:ext cx="365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410080" y="4648320"/>
            <a:ext cx="2819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                    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00600" y="1600200"/>
            <a:ext cx="0" cy="495288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86400" y="55627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ТИП “КРУГ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5334120" y="2133720"/>
            <a:ext cx="1295280" cy="13716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010280" y="2133720"/>
            <a:ext cx="1219320" cy="13716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5486400" y="3733920"/>
            <a:ext cx="26668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5714640" y="2209680"/>
            <a:ext cx="1066680" cy="25146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0" y="2209680"/>
            <a:ext cx="990720" cy="24386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8076960" y="3962520"/>
            <a:ext cx="228600" cy="685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181480" y="4038480"/>
            <a:ext cx="304920" cy="685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5790960" y="4952880"/>
            <a:ext cx="20574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714640" y="3886200"/>
            <a:ext cx="2438280" cy="9907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5333760" y="3886200"/>
            <a:ext cx="2514600" cy="9144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6T13:26:43Z</dcterms:created>
  <dc:creator>Ivana</dc:creator>
  <dc:description/>
  <dc:language>en-US</dc:language>
  <cp:lastModifiedBy>Ivana</cp:lastModifiedBy>
  <dcterms:modified xsi:type="dcterms:W3CDTF">2005-12-26T14:26:30Z</dcterms:modified>
  <cp:revision>12</cp:revision>
  <dc:subject/>
  <dc:title>КОМУНИКАЦИЈЕ У ОРГАНИЗАЦИЈИ</dc:title>
</cp:coreProperties>
</file>