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E20-86BC-40D8-AF55-2810AB14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A52-36A8-436A-A981-CA32398F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8B3-A55D-485F-B452-C7DD6A0E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36A-ED35-417B-B426-F91AA47A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A8C4-481C-4E04-BDAE-FDAE818A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5AEE-EB16-450F-8209-6ED1AE7C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9B0D-7669-40DB-89BE-A518C007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6A4A-842C-4E53-8890-A8F4B8A3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AD48-1819-4C93-A71B-D1E83594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8ED2-FDFC-4777-A529-E671F17F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1599-8F9D-4FD6-862B-DEA20384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7D8-3DF0-4B1B-9281-13098BBF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C6B2-24E4-4B50-9FF3-7F8BCAE8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0181-BC1F-4A88-93D5-346134E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2939-E775-4EBE-91D1-62400022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F04F-9D1A-4858-9644-9CC0F271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EE3C-27B6-444E-9D11-CE67A98D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55D-C208-4597-9B41-D731FAAB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37F-3CCE-4A60-B0BD-1BC07967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911-2854-4E1C-A6B8-326ED621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7AF-3233-4EB9-89DC-315AFC92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71B-3E60-457B-BC81-88C0D4F1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725-662E-448E-BAA2-2268975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9B2-61C1-4C48-AEE2-C9F2BC3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F175-2992-41F5-A8BE-6FC5AE922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2E50-FCA7-4758-B159-CF7D83BB8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КОНФЛИКТИ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фликти у организацији; тумачење; врсте, типови, носиоци, узроци и поступци решавања и управљањ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оступци решавања конфликата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упак надређених циљ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вођење арбит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вијање интерперсоналних веш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мпроми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оступци управљања конфликтима: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Интервен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фронт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влаче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сиља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блажа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мпроми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Општи поступак решавања и управљања конфликтим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финисање конфли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нфлик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коби међу људима који имај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протне интересе или вред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на тај начин међусобно угрожавају задовољење неких значајних потре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о језгро конфликта: Фрустрација основних потре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1148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40384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умачење конфлика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луралистичко гледиш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ледиште са становишта међуљудских одн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ледиште са аспекта менталне хигије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ва супртостваљена гледиш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Гледиште међуљудских одно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није пожељан и треба га избегава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није неизбеж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настаје из блокаде комуникације и недостатка разумевања и отворености између различитих стр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редина игра главну улогу у обликовању понашања, те агресивност потиче из околности у среднини које се могу мења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Човек је у бити добар: поверење, сарадња и доброта су основне одлике људске природ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луралистичко гледиш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је пожељан и треба га поспешивати; мора се усмеравати да не измакне контро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је неизбеж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настаје: из борбе за добра којих нема довољно, а у мањој мери из урођених агресивних и компетитивних импул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лога средине у настајању конфликата је прецењена; постоје и многе генетичке и физиолошке основе агрес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Човака, ако и није у бити рђав, пак покрећу агресивни егоистички и компетитивни инстинк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Узроци конфликата у организациј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124080"/>
            <a:ext cx="213336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м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3276720"/>
            <a:ext cx="2362320" cy="1218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кунд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971440" y="1676520"/>
            <a:ext cx="1600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1676520"/>
            <a:ext cx="1676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Бојановић: Класификација узрочника конфликата у организацији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ационо-технолошки и економски услови 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еђуљудски односи у организацији и радној груп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руктуре личности које стварају услове за конфлик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сагласности међу члановима групе о значајним ставовима, интересима и вредност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конфлика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666880"/>
            <a:ext cx="220968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флик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2819520"/>
            <a:ext cx="213372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флик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4191120"/>
            <a:ext cx="2438280" cy="14475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флик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ес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90920" y="1371600"/>
            <a:ext cx="2133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1371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13716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ипови конфли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200400"/>
            <a:ext cx="236196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струк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3276720"/>
            <a:ext cx="2210040" cy="1218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струк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040" y="1600200"/>
            <a:ext cx="15238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6002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Конфликти према носиоцима конфлика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514600"/>
            <a:ext cx="251460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рапсихи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4419720"/>
            <a:ext cx="228600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рагруп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495680"/>
            <a:ext cx="2209680" cy="10670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груп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2590920"/>
            <a:ext cx="266724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персо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38280" y="1600200"/>
            <a:ext cx="22860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600200"/>
            <a:ext cx="21337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05320" y="1676520"/>
            <a:ext cx="121896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1676520"/>
            <a:ext cx="114300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10:35Z</dcterms:created>
  <dc:creator>Ivana</dc:creator>
  <dc:description/>
  <dc:language>en-US</dc:language>
  <cp:lastModifiedBy>Ivana</cp:lastModifiedBy>
  <dcterms:modified xsi:type="dcterms:W3CDTF">2005-12-12T17:43:46Z</dcterms:modified>
  <cp:revision>13</cp:revision>
  <dc:subject/>
  <dc:title>КОНФЛИКТИ </dc:title>
</cp:coreProperties>
</file>