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447-1C0C-47F1-BD19-29F2618F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19A-94CD-41D0-8588-A8E89E3A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BB9-99A2-4979-BE20-AD717642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A2C-50AB-412B-8231-477C6A60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EA1-99B9-486D-9C90-3329F5FE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1DD-E763-41D8-973E-8010B68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36A-A00A-4263-B5C5-417BA22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6FE4-53CF-44B9-9282-68ABD3E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D55A-F528-4EE7-9949-D20AC96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EBB-DB31-4944-BBDF-A2F4245E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898D-7C6F-42E8-9E90-5B16DCD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340-8280-4B72-8792-4D3C6578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842-C94D-44AA-BC03-88CD246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65D-BFE5-45F4-B351-3AA4C49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0F3-3440-4D99-A95B-C12CB86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4EDE-ACF5-415F-859F-8B5B4742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B13-E76D-4291-A0B3-687A24A6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CE5-67DF-4D94-96F1-10DAC838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449-DD88-4F73-9FDA-D8BA7AF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3EF-6222-487E-875F-3BD5067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7C9-611A-48E7-BB06-78CEDD1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6C0-09AB-4950-9C4C-64826AAC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47A-9D31-4501-B2DD-075BD00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12D-AA9D-4CB7-8482-DF6FEA7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AF81-ABBC-4C7E-849E-89E3CA40E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7160-5484-4DE8-BC29-A7E4A348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и начини превазилажења стр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рес на рад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М</a:t>
            </a:r>
            <a:r>
              <a:rPr b="0" lang="sr-Latn-CS" sz="3200" spc="-1" strike="noStrike">
                <a:solidFill>
                  <a:srgbClr val="221304"/>
                </a:solidFill>
                <a:latin typeface="Times New Roman"/>
              </a:rPr>
              <a:t>cGrath-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ов модел: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Затворена системска реакција</a:t>
            </a:r>
            <a:br>
              <a:rPr sz="40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905120"/>
            <a:ext cx="259092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И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НАШ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105520"/>
            <a:ext cx="259092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пажање ситу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952880"/>
            <a:ext cx="2362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збор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2895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86200" y="2362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300400" y="371664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495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с одлуч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6400800" y="3048120"/>
            <a:ext cx="546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аг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ласификација извора стреса на рад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2133720"/>
            <a:ext cx="1892160" cy="1855800"/>
          </a:xfrm>
          <a:prstGeom prst="ellipse">
            <a:avLst/>
          </a:prstGeom>
          <a:solidFill>
            <a:srgbClr val="00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Физи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к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352680"/>
            <a:ext cx="1892160" cy="1855800"/>
          </a:xfrm>
          <a:prstGeom prst="ellipse">
            <a:avLst/>
          </a:prstGeom>
          <a:solidFill>
            <a:srgbClr val="ff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оцијал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к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429000"/>
            <a:ext cx="1892520" cy="1855800"/>
          </a:xfrm>
          <a:prstGeom prst="ellipse">
            <a:avLst/>
          </a:prstGeom>
          <a:solidFill>
            <a:srgbClr val="a1bd69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Лич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ни зад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495320" y="44956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на у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19360" y="274320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952880" y="2895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1337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еукупно понашање на 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ханизми превладавања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чин на који особа разрешава адаптивне задатке у кри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а ли ће догађај имати патогено дејство зависи од тог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процењује као непожељ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је очек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је под контролом особе која га доживљ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ве врсте стратег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иректне ак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бекство или борба) – покушај да се ситуација про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лијативни модел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 покушај да се олакша ситуација, да се особа на неки начин прилагоди новонасталој ситуацији (физиолошке, интрапсихичке и социјалне метод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евет типова превладавања (Мус)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проце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гичка анализа и ментална припр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гнитивно редефинис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гнитивно порицање или избега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пробл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жење информација и подрш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узимање акција које су усмерене на пробл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познавање алтернативних реш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емо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фективна регул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и изли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игнација, резигнирано прихват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организације, ФОН, Београд, 2005., стр. 274-29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оже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лајковић, Ј., Животне кризе и њихово превазилажење, 199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ајнбергер, И., Чизмић, С., Психологија и савремена техника, Завод за уџбенике и наставна средства, Београд, 1991., стр. 181-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ергер, Ј., Психолошки потпорни систем, Модел базичних ослонаца личности, Прометеј, Београд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олин, Џ.С., Волин, С., Резилијентна личност, Просвета, Београд, 199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ступи стрес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реак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стимулаци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рес је међусобно деловање личности и сред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затворена системска организ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реакциј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Сељеово физиолошко тумачењ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неспецифич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физиолошка) реакциј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 организм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било који захтев који му се поставља, једна неспецифич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ниформна реакци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стројавања заштитиних механиз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стимулациј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модел опруг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оно што се дешава са човек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 не оно што се дешава у човек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је низ узрока а не симпт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међусобно деловање личности и средин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сновано на идеји о постојању индивидуалних разлика у реаговању на ст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мељи се на моделу узајамног деловања, интеракције човека и окружења, на активној улози личности у ситуацији која рађа ст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реаговању на стрес је могуће објаснити различитом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огнитивном проценом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грожавајуће (стресне) ситуације, односно проценом претњ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Три врсте когнитивних процена претњ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ар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ундар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новна процена прет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Примарна: шта се дешава и какав то значај има за мене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релевантна/позитивна/негативна по ме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1600200"/>
            <a:ext cx="259092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мена 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95480" y="1981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574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971800"/>
            <a:ext cx="3657600" cy="5335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претација ситу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8862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убитак, повреда/претња/из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2900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572000"/>
            <a:ext cx="251460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моционалн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пресивност, осећање беспомоћности/анксиозност/нада и мобилизација енер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123720" y="51814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51814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екундарна: Шта треба урадити?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најприкладнија метода -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160020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600200"/>
            <a:ext cx="1905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971800"/>
            <a:ext cx="3200400" cy="1371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ан присту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лањање препр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ли промена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3048120"/>
            <a:ext cx="297180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сиван присту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моционал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ји ре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редински фактори који утичу на секундарну процену претњ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кација прет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алтернативних реш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а ограничења и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нага 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ми одб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тивациона стру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2:55Z</dcterms:created>
  <dc:creator>Ivana</dc:creator>
  <dc:description/>
  <dc:language>en-US</dc:language>
  <cp:lastModifiedBy>Ivana</cp:lastModifiedBy>
  <dcterms:modified xsi:type="dcterms:W3CDTF">2005-12-29T17:34:01Z</dcterms:modified>
  <cp:revision>15</cp:revision>
  <dc:subject/>
  <dc:title>СТРЕС У ОРГАНИЗАЦИЈИ</dc:title>
</cp:coreProperties>
</file>