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4BB-F35E-4280-A82C-06CFD008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59E-7C6F-4B9C-8553-EF0E791C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0FD-CEA6-44E2-BEB1-00913977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DA2-76B1-42B4-80A9-BB5EED9C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EDAB-3E0E-4726-A126-8F8B6F1C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62ED-5241-407C-A516-9BC60CAD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038B-A254-430A-A449-3B62BB4D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FD4D-5903-4553-A1F3-6E42753B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F812-A382-4AEF-927E-A42EB9FE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E58C-86B8-4A5D-AAF1-1301232E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3E76-09C9-48A2-971D-4BDD1901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679-593A-4459-A42F-DE455631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94E7-059F-4D37-83EE-8C1BAF2E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E16F-B1E2-4122-8AE3-26AB64CB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04DD-103C-407C-BCD7-4C70DAA3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7E9D-4A41-4FCF-B870-EDBE1749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B039-575E-402D-A3EC-85F9B73C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9A1-D0E0-4F2B-9BB2-B08DB9A8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15A-07E3-4E10-B2C5-E44EBF71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465-92C0-4C18-A22E-4AE3EC8F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2EF-C54E-4635-AB4E-528F7C24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5B0-6FF4-468F-841C-7430930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D89-2320-46EC-ABF2-DD85D3D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108-DBEE-4E30-8083-56C175C5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AEBD-D38B-4D2C-9E9D-869997A3BBF1}" type="slidenum"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B5EF-7F40-4AEA-A170-7D1BDD933EDF}" type="slidenum"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3366"/>
                </a:solidFill>
                <a:latin typeface="Arial"/>
                <a:ea typeface="Arial"/>
              </a:rPr>
              <a:t>Prisutnost medija u svakodnevnom životu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66"/>
                </a:solidFill>
                <a:latin typeface="Arial"/>
              </a:rPr>
              <a:t>Stojanović Maj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66"/>
                </a:solidFill>
                <a:latin typeface="Arial"/>
              </a:rPr>
              <a:t>Tomić Iva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476360" y="2252520"/>
          <a:ext cx="7199280" cy="45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252520"/>
                    <a:ext cx="71992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e dnevne novine najčešće čita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ji magazin najčešće čita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26920" y="2124000"/>
          <a:ext cx="7490160" cy="47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24000"/>
                    <a:ext cx="749016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403280" y="2386080"/>
          <a:ext cx="7272360" cy="434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86080"/>
                    <a:ext cx="727236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Da li pratite domaće ili strane kanal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116000" y="2276640"/>
          <a:ext cx="6840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76640"/>
                    <a:ext cx="6840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ji TV kanal najčešće prati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187280" y="2316240"/>
          <a:ext cx="712980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16240"/>
                    <a:ext cx="71298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u emisiju sa tog kanala najviše gleda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042920" y="2276640"/>
          <a:ext cx="7058160" cy="47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70581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u informativnu informativnu emisiju najčešće prati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92360" y="2230560"/>
          <a:ext cx="5832360" cy="47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30560"/>
                    <a:ext cx="583236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i zabavni program najviše prati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i zabavni program najviše prati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32000" y="2205000"/>
          <a:ext cx="633564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05000"/>
                    <a:ext cx="63356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826920" y="2565360"/>
          <a:ext cx="7921800" cy="40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9218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 txBox="1"/>
          <p:nvPr/>
        </p:nvSpPr>
        <p:spPr>
          <a:xfrm>
            <a:off x="129132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Pratite li obrazovni program i emisije iz kultur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52400" y="2419200"/>
          <a:ext cx="8377200" cy="35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2419200"/>
                    <a:ext cx="837720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ratite li sportski progra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Mediji su prisutni u svakodnevnom životu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Štampa (dnevna, nedeljna, mesečna.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eleviz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9132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6666"/>
                </a:solidFill>
                <a:latin typeface="Arial"/>
              </a:rPr>
              <a:t>Procenite zadovoljstvo ponuđenih programa naših TV kanala s obzirom na vaša interesovanja ocenom 1-5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3280" y="2359080"/>
          <a:ext cx="6769080" cy="421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59080"/>
                    <a:ext cx="676908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Zaključc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11 do 1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16 do 18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19 do 2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26 do 4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46 go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Definisanje uticaja med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Granice stvar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Vreme uz 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doli i heroj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ocijalni status porod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Moguće rešenje 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dukacija auto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dukacija pojedi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dukacija med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acionalna strategija obrazov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Anketirane starosne gru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11 do 1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16 do 18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19 do 2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26 do 4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46 go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itanja iz anke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a li slušate radi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u radio stanicu najčešće sluš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e dnevne novine najčešće čit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i magazin najčešće čit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a li češće pratite domaće ili strane kana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i TV kanal najčešće prati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u emisiju sa tog kanala najviše gled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itanja iz anke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u informativnu emisiju najčešće prati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i zabavni program najviše prati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atite li obrazovni program i emisije iz kultur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atite li sportski progra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ocenite zadovoljstvo ponuđenih programa naših TV kanala s obzirom na vaša interesovanja ocenom od 1 – 5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Da li slušate radi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0000" y="2475000"/>
          <a:ext cx="7272360" cy="40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75000"/>
                    <a:ext cx="727236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952560" y="2781360"/>
          <a:ext cx="7694640" cy="299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781360"/>
                    <a:ext cx="769464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 txBox="1"/>
          <p:nvPr/>
        </p:nvSpPr>
        <p:spPr>
          <a:xfrm>
            <a:off x="827640" y="692640"/>
            <a:ext cx="8243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ju radio stanicu najčešće sluša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21:45:21Z</dcterms:created>
  <dc:creator>Korisnik</dc:creator>
  <dc:description/>
  <dc:language>en-US</dc:language>
  <cp:lastModifiedBy>Korisnik</cp:lastModifiedBy>
  <dcterms:modified xsi:type="dcterms:W3CDTF">2006-01-13T00:08:08Z</dcterms:modified>
  <cp:revision>3</cp:revision>
  <dc:subject/>
  <dc:title>Prisutnost medija u svakodnevnom životu</dc:title>
</cp:coreProperties>
</file>