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F10-4092-4722-A24E-C422254F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14A-DF35-4371-9DA4-B9CAEA17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962-6ABA-4F94-983B-10A381AD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2FD-4037-4BB5-A948-06D46D20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F5E5-4AD8-4317-83F8-340B5A2C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98C0-1874-4BD6-A164-68D7D562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B711-0F63-47EB-9719-52D6C9F3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704D-A14E-462A-89B6-4D13013E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6077-E0EC-4ADC-A601-CB9D4880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61EC-7D22-4148-BF96-7900F7E8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032D-26FF-484D-8037-BB68E510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FD8-640A-4685-BF48-09F95B87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0A19-A01C-4E4B-BA49-613DFCD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A24D-D083-40E7-96A8-6136545B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5BDA-ED51-431D-ABF4-C6B3DD43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6CD4-C194-47D3-B22C-ED77BF49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7D59-8061-4857-8803-6E7ED01A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B7D-DF89-482C-8F23-57D4E529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BFF-6374-4BB1-B5A1-62685E68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CDE-FC27-4B6E-89AB-EF689EB3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7AD-E6EA-42A8-8C82-424573B7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B0B-A422-4D62-A91E-D6E82B71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C66-5C96-4D71-A042-8F124A25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739-A1A7-4FCE-84F4-FBF8BE96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9AC3-47A4-4A55-B485-B269C1E6D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8E3C-33D2-46F6-926D-BFD13BAF7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ЧНОСТ И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новне претпоставке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једнички ци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дела задата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ординација а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трола а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Хијерархија ауторит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1: Организација је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рационална координација активности одређеног броја људи рад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остизања неке заједничке намере или циљ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кроз поделу посла и функциј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и преко хијерархије ауторитета и одговорности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Шејн, 1970)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. 2:</a:t>
            </a: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рганизација је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интересни систе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узајамно повезани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сихолошких груп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образован ради постизањ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одређеног циља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Креч, Крачвилд, Балаки, 1978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17521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Интеракција личности и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114800"/>
            <a:ext cx="2971800" cy="15238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сту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 становиш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01200" y="4413960"/>
            <a:ext cx="2119320" cy="1077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сту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 становиш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рганиз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514600" y="3276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276720"/>
            <a:ext cx="1981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илозофска питања</a:t>
            </a:r>
            <a:br>
              <a:rPr sz="4000"/>
            </a:br>
            <a:r>
              <a:rPr b="0" lang="sr-CS" sz="1800" spc="-1" strike="noStrike">
                <a:solidFill>
                  <a:srgbClr val="221304"/>
                </a:solidFill>
                <a:latin typeface="Times New Roman"/>
              </a:rPr>
              <a:t>- спољашња детерминација понашања?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2236320"/>
            <a:ext cx="723888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Људска природ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фикаснос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ичко здрављ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иступ са становишта личност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ја и личност имају различите интере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бог тога је неминован суко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неопходна промена одн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8160" y="716040"/>
            <a:ext cx="747864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Арџирис 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утицај формалне организације на запослене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2057400"/>
            <a:ext cx="73152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ционал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ференцијација радних задат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јерархија у руковође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нственост управљ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Несагласност развојних тенденција 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зреле личности и 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захтева формалне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Захтеви формалне организације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трола понаш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висност, пасивност и подређе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раткорочна перспек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потреба површних и изолованих 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 под околностима које доводе до психолошког неуспех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221304"/>
                </a:solidFill>
                <a:latin typeface="Times New Roman"/>
              </a:rPr>
              <a:t>Отпор</a:t>
            </a: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 захтевима формалне организације бива већи уколико: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 запослени зрелије лич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ормална организација чвршћ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послени ниже на хијерархијској лествиц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ао аутоматизованиј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ала социјална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граничени број поједин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 међусобној интеракциј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и свесних једни друг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ажају себе као део гру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оследиц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она неефикас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рустр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флик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не реак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успе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раткорочна перспек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едложене 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мањење зависности, подређености и субмисивности запослен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ширивање и богаћење по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мократизација система руковођ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809880" y="27428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7428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McGregor – 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еорија </a:t>
            </a: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X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јзначајнија потреба за материјалном сигурношћ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Човек је пасиван и ле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 послу га треба усмеравати, присиљавати и кажњав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начајније су више човекове потребе – тежи самоиницијативи и креати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ије лењ и не избегава одговор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реба остварити интеграцију циљева организације и поједин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2193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cc0000"/>
                </a:solidFill>
                <a:uFillTx/>
                <a:latin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48720" y="12193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cc0000"/>
                </a:solidFill>
                <a:uFillTx/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новне поставке теорије </a:t>
            </a:r>
            <a:r>
              <a:rPr b="0" lang="sr-Latn-CS" sz="4000" spc="-1" strike="noStrike">
                <a:solidFill>
                  <a:srgbClr val="221304"/>
                </a:solidFill>
                <a:latin typeface="Times New Roman"/>
              </a:rPr>
              <a:t>Z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јапански менаџмент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цепт доживотног запосл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упно напредо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мерено специјализована кариј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артиципација у доношењу одлу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лективна одговор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мплицитна (неформална) контр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Холистички приступ запослен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учи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иступ са становишта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овек тежи задовољењу егзистенцијалних потреб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атеријална сигурност појединца зависи од успешности пословања организ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ја и људска природа су у скла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114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114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Штраус</a:t>
            </a:r>
            <a:br>
              <a:rPr sz="4000"/>
            </a:b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- “рад је средство за куповину задовољства”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овек је пасиван и завис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ели чврсто дефинисано руковође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обода и неизвесност су оно што појединца пла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лазећи од продуктивности залаже се за постојеће ст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Не сукоб појединца и организације, већ појединца у друштва у целин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306160"/>
            <a:ext cx="762012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ко неслагање и постоји онда су то сукоби појединца и друштва као последица пресија у раном детињст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организа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Ецио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је засноване на приси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је формиране на користи које пружају чланов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ормативне организ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Кац и Кан</a:t>
            </a:r>
            <a:br>
              <a:rPr sz="4000"/>
            </a:b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- према доминантној функцији у друштву -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изводња доб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ункционисање друш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лагођавање променама у друшт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прављање друш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обине личности чланова груп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рперсонална оријент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оцијална сензитив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минант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вис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моционална стабил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други фактори (биолошки и социјалн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сновне одлике организа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оженост 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дела р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ординација функција и актив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ормализовање односа и актив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сихолошка страна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и врсте проблема у оквиру психолошког изучавања организациј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учавање понашања појединаца чланова организ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учавање процеса у малим групама чије интегрисане активности чине организациј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учавање организације као целине а пре свега њених структура и функционис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звој малих група – интерперсонална атракција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лизина и учесталост контак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ичност став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ичност лич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изичка привлач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влачност активности груп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влачност циљева гру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влачност самог чланства у груп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струментално члан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звој малих група –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азе разво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 групама за решавање пробл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 групама за тренинг сензитив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мар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ферент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ормал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формал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д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имарна група – основна обележ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тојање интензивних интерперсоналних односа између члан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ке емотивне везаности међу њ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ка осећања везаности за груп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ива интеракција свих са св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нзиван утицај фрупе на понашање члан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ести контакти лицем у лиц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труктура групе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- четири схватања -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 система пози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 система улога везаних за пози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 система међусобних одн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стема ранговања чланова према неком критерију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5410080"/>
            <a:ext cx="609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 обзиром на позиције чланова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 обзиром на понаш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ЧНОСТ И ОРГАНИЗА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8:09:03Z</dcterms:created>
  <dc:creator>Kabinet 306</dc:creator>
  <dc:description/>
  <dc:language>en-US</dc:language>
  <cp:lastModifiedBy>Ivana</cp:lastModifiedBy>
  <dcterms:modified xsi:type="dcterms:W3CDTF">2005-12-08T16:48:22Z</dcterms:modified>
  <cp:revision>29</cp:revision>
  <dc:subject/>
  <dc:title>Slide 1</dc:title>
</cp:coreProperties>
</file>