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45F-9AE1-4375-82C1-8A81519D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2EB-AEB0-4491-834C-8F038A17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B79-6249-441F-B309-ED0C97A6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45F-7364-4F75-9EEF-AA50EC5F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B35B-71C7-44C3-B862-6BCC8B20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1B31-6636-4ADE-AD33-52351E66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C36D-7327-4A5D-B3A3-A0A090D1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8492-54AD-41A9-A007-8362A89E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45BF-29E1-4109-95FD-54634A78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4092-5C07-45AF-A031-5342E04E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CF60-5E33-4AB3-AEA1-2BB32A10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C391-9C35-457D-82A1-94DC753B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1725-BC49-4F4B-8F48-5F316CA7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1EDF-97DF-4E37-8BE8-C95979E8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138E-130C-4FB8-950A-25B20397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3A53-9010-4DB8-A6CC-C04E189B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F43E-5E3C-4B7F-A057-B60D5E09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E0B-BBD7-4FF1-8A81-7A2698B9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C0B-69B7-4264-B0AC-D322BE88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834-39A3-40B5-8DEE-2D9069D6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20F-9633-4954-8E50-5BB51800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D96-0473-4C58-9326-41A80041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5DC-8DE7-426A-A8F9-BEC247D6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B7E-6707-47F3-A579-9BB282F5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E58E-D70E-4EB4-98BA-E644C6B67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A5E2-967C-4A0B-974E-317F24FD1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сихолошки проблеми руковођењ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лајшманове димензије руковође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интересованост за људ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conside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интересованост за производњу, планирање, организац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initiating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Вајнар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пех зависи о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датака и циљева гру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аглашености циљева групе и индивиду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еличине социјалне груп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олошких особина руководиоца у хијерархиј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Мајер: Стилови руковођења 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(Левин, Липит и Бајт)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мократско руковође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утократско руковође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aisez-fair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уковође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Блејк и Мајтон – растер руковође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63440" y="2084760"/>
            <a:ext cx="4771080" cy="4361040"/>
            <a:chOff x="1963440" y="2084760"/>
            <a:chExt cx="4771080" cy="4361040"/>
          </a:xfrm>
        </p:grpSpPr>
        <p:sp>
          <p:nvSpPr>
            <p:cNvPr id="119" name=""/>
            <p:cNvSpPr/>
            <p:nvPr/>
          </p:nvSpPr>
          <p:spPr>
            <a:xfrm>
              <a:off x="3252960" y="4750200"/>
              <a:ext cx="11602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 –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«јадно» руковођењ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74240" y="4629240"/>
              <a:ext cx="116028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9 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руковођење оријентисано на задатак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13600" y="3781080"/>
              <a:ext cx="11602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 –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просечно руковођењ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95200" y="6082920"/>
              <a:ext cx="373932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БРИГА ЗА ПРОДУКТИВНОС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63440" y="2327040"/>
              <a:ext cx="386640" cy="32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БРИГА ЗА ЉУД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24080" y="5477400"/>
              <a:ext cx="36104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252960" y="5477040"/>
              <a:ext cx="72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95200" y="5719320"/>
              <a:ext cx="3610440" cy="2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       2       3       4       5      6        7       8       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124080" y="2084760"/>
              <a:ext cx="720" cy="33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50440" y="2205720"/>
              <a:ext cx="386640" cy="32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        2       3       4       5       6       7       8       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95200" y="5234760"/>
              <a:ext cx="128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995200" y="4871160"/>
              <a:ext cx="128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995200" y="3417480"/>
              <a:ext cx="128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995200" y="3053520"/>
              <a:ext cx="128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995200" y="2689920"/>
              <a:ext cx="128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995200" y="2327040"/>
              <a:ext cx="128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95200" y="3781080"/>
              <a:ext cx="128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995200" y="4144680"/>
              <a:ext cx="128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995200" y="450720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39960" y="5477400"/>
              <a:ext cx="72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26600" y="547740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3600" y="5477400"/>
              <a:ext cx="72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00600" y="547740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77160" y="5467320"/>
              <a:ext cx="72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74240" y="547740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61240" y="5476680"/>
              <a:ext cx="72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32000" y="2327040"/>
              <a:ext cx="902520" cy="6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9 -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тимско руковођењ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52960" y="2205720"/>
              <a:ext cx="1160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 – 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руковођење локалним клубом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47880" y="547740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Теорије личности /теорије стил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рођене диспозиције личности/научено понаш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гласак на селекцији/нагласак на образовањ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Теорије личности и стил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ваки руководилац руководи на својствен начин, али је та стабилност релати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Арџирис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пешан руководилац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мерен према реал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ма конкретној ситуациј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наша се (реагује) зависно и о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црта лич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 од научене вештин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Истр.: Бојановић, Хрњи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Демократско понашање је углавном друштвено условљено и представља последицу социјалне климе, норми друштвене пожељности и општеприхваћеног ст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Истр.: Мишев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Стил руковођења руководилаца је повезан са неким димензијама лич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Начин руковођења зависи од индивидуалних црта као што с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екстравертност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емоционална лабилност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директивност ст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Демократски /аутократски стил руковођења преовлађује код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елимично екстравертн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моционално стабилн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а мањом мером изражености директивног ст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мерено интровертн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мерено емотивно лабилн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а израженим директивним став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родни појмов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ођство – специфичан однос (врста интеракције) – проце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ођа – особа која заузима одговарајући положа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уковођење – активности и функције вођ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Супериорност стила руковођења је условљена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зацион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оцијалном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олошком клим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Кључ успеха руководиоца”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Црте личности и стил рада су међусобно зависне карактеристике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једнички доприносе добром или лошем руковођењ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итуациони приступи руковођењу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62576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уковођење – реакција на промен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Финеман и Ва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успешност руководиоца се може посматрати не само као функција његових особина већ као функција тога у каквом су односу те црте личности према неком одређеном задатку, према одређеној групи, у неком специфичном предузећу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уководеће вештине: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(Финеман и Вар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учне вештин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познавање посл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Људске вешти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начин успешног контакта са људи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цептуалне вешти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стваралачке, креативне и организацион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идлеров тродимимензионални контингенцијски модел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илови руковођењ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ијентација на човека/оријентација на продукциј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Успешност руковођења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Условљена интеракцијом између стила руковођења и факто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хваћеност и популарност руководиоца у груп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уктура задатака груп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оцијална моћ руководио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дговарајући стил руковођењ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ријентација на чове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ада су сви фактори осредње израж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ријентација на продуктивнос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ада су фактори екстремно повољни или ексремно неповољ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Врумов модел руковођењ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295280" y="1905120"/>
            <a:ext cx="6782040" cy="4114440"/>
            <a:chOff x="1295280" y="1905120"/>
            <a:chExt cx="6782040" cy="4114440"/>
          </a:xfrm>
        </p:grpSpPr>
        <p:sp>
          <p:nvSpPr>
            <p:cNvPr id="180" name=""/>
            <p:cNvSpPr/>
            <p:nvPr/>
          </p:nvSpPr>
          <p:spPr>
            <a:xfrm>
              <a:off x="1436400" y="1905120"/>
              <a:ext cx="169524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ситуационе променљив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81720" y="1905120"/>
              <a:ext cx="1554120" cy="11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резултат руковођења у организациј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96840" y="3080520"/>
              <a:ext cx="1695600" cy="11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онашање руководиоц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95280" y="4844520"/>
              <a:ext cx="1554120" cy="11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својства лич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51320" y="4550040"/>
              <a:ext cx="2826000" cy="146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итуационе променљиве које делују на резултате у организациј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25320" y="2933640"/>
              <a:ext cx="1130400" cy="58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425320" y="4256640"/>
              <a:ext cx="1130400" cy="117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109840" y="2786760"/>
              <a:ext cx="1130400" cy="88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946920" y="3080160"/>
              <a:ext cx="720" cy="191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Руковођење – креативан проце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527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ум-Јетонов ситуациони модел доношења одлука у проблемским ситуацијама руковође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сновне функције руковође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ланир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зовањ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прављањ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тро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азе – “стратегије” доношења одлуке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066680" y="1752480"/>
          <a:ext cx="7620120" cy="4495680"/>
        </p:xfrm>
        <a:graphic>
          <a:graphicData uri="http://schemas.openxmlformats.org/drawingml/2006/table">
            <a:tbl>
              <a:tblPr/>
              <a:tblGrid>
                <a:gridCol w="1371600"/>
                <a:gridCol w="6248520"/>
              </a:tblGrid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 ра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-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ководилац решава проблем и доноси одлуку сам користећи се информацијама са којима располаж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-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I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ководилац даје потребне информације од својих људи, али сам доноси одлу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-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ководилац појединачно са неким међу својим људима расправља проблем  а сам доноси одлу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-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ководилац са својим људима као групом расправља проблем, те од њих добија идеје и сугестије, после тога сам доноси одлу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-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ководилац са својим људима као групом расправља проблем. Након тога се дискусијом и усаглашавањем постиже решење и доноси одл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ста питањ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стоји ли потреба за квалитетном одлуко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седујем ли довољно информација да донесем квалитетну одлук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а ли је проблем структуиран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а ли је за реализацију одлуке неопходно да је прихвате моји људ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о ја сам морам да донесем одлуку да ли је вероватно да је моји људи прихват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а ли моји људи партиципирају у организационим циљевима који ће бити остварени решењем овог проблем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стоји ли могућност да међу мојим људима дође до сукоба у вези са одлуком о пожељном решењ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табло одлучивањ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сихолошка страна руковођења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625760" y="35812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стизање циљева преко других љу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ажност разматрања психолошке димензије руковође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4267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4267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Људска страна руковођења”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роблеми мотивације за ра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роблеми комуникаци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онашање у конфликтним ситуација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221304"/>
                </a:solidFill>
                <a:latin typeface="Times New Roman"/>
              </a:rPr>
              <a:t>Врсте моћи руководиоца</a:t>
            </a:r>
            <a:br>
              <a:rPr sz="4000"/>
            </a:b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- према извору и доминантном механизму деловања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Легитимна моћ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аснована на позицији вође у хијерархији (на личном формалном ауторитет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Моћ награђивањ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пособност руководиоца да награди лојалност подређен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Моћ принуд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пособност постизања лојалности уз помоћ страха од каз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Референтна моћ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тицај руководиоца на друге на основу личне идентификације са њим (харизматска својства руководиоц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Експертска моћ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тицај вође базиран на његовим стручним знањ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нформатичка моћ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а основу поседовања важних информ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облеми комуникације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- сврха комуникације -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љење информа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зматрање иде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ношење и размена мишље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ношење осећа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облеми комуникације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- начини комуницирања -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астанци и дискусије “лицем у лице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нтерни расписи и меморанду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лефонске конверза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лектронска пош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гласне таб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ословни састана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учешће више људи у доношењу одлука којима се жели постићи одређени циљ организације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астанци према сврси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авање информ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купљање информ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бјашњавање одлу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шавање пробле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говори и догов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азвој теоријске мисли о руковођењу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610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орије великих људи”; “теорије личности вође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орије стила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орије личности и сти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туациони приступи руковођењ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авети за успешну комуникацију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Јасно дефинисати поруку као и њену сврх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дабрати одговарајући метод комуника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складити поруку језички, по обиму и форми ономе коме је намењ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 би се порука нагласила користити више од једног средства комуникације и по потреби је понови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 пошиљалац поруке има одговарајући кредибилитет у организациј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мати у виду погодности које порука носи за примаоца и нагласити 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водити пример да би се порука боље разуме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кључити чињеничне информације и прецизна обавештењ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Логично структуирати аргументе и водити их до закљу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казати на све тачке за које се зна да се људи са њима слаж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руку представити на што интересантнији начин (духовито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жељно је тестирати поруку са особама сличним онима којима је намењена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221304"/>
                </a:solidFill>
                <a:latin typeface="Times New Roman"/>
              </a:rPr>
              <a:t>Понашање у конфликтним ситуацијама</a:t>
            </a:r>
            <a:br>
              <a:rPr sz="4000"/>
            </a:b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- принципи понашања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бро познавање сарадника на посл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својити став да су конфликти део живота и да је немогуће потпуно их елиминиса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фликти нису увек лоши и повређујућ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звити климу повере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собине успешног руководиоц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знавање пос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вање добрих предло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пшта интелектуална способн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нформисан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Лични угле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мбициозн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отивација за руковође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0" y="175212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пособност доношења одлу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ихваћеност од стране гру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тицај на више руководиоце Комуникативн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премност на прихватање “рационалног ризика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Здрављ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премност да се саслушају лични пробле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хвала и кри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54100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спешан руководилац уме некога д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мол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, некога д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нсултуј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, али некоме и д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ред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собине неуспешног руководиоц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ржи се по стра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ије у стању ништа да предви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бацује одговорност на друг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исли само на се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Шефује с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ам крши своја прави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ажан му је једино властити успе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ма утицаја на друг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а њим се човек осећа мање вредн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дабирање и образовање руководилац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Мотиви за руковођење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еља за такмичењ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еља за доказивањ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еља за поседовањем моћ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еља да се буде испред друг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говорност да се посао заврш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 се преузме одговорност за понашање друг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Захтеви руководећег посла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- вештине -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учне вештине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пецијализована зн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еђуљудске вешти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– руководити радом кадр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цептуалне вештине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огућност да се разматра и анализира организација као целина, као систем који функционише у складу са окружењ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Неопходна знањ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Функционал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планирање, организовање, руковођење,контрол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истематск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анализирати и управљати пословањем као системом делова који функционишу и остварују планиране циљев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Знања из области ситуационе анализ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анализа и решавање конкретног задат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Неопходне способности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прављачк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управљање деловима организације, процесима рада и њихово синхронизовањ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рганизаторск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настојање да се на што ефикаснији начин искористе материјални и људски ресурси којима организација располаж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уководилачк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успешна комуникација и мотивација, управљање и координирање радним ефектима људ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идерск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предвиђање будућих ситуација и способност усмеравања људи иницијативом и примери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стале црте личности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моционална стабил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тпорност на стре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рална чврст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интересованост за љу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актич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кономичнос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глађено понаш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Теорије великих људи”; “теорије личности вође”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оступак селекције руководиоц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ефинисање групе потенцијалних кандид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ефинисање битних захтева конкретног управљачког пос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ипрема и конструкција инструментарија за дијагностиковање испуњавања захтева посла од стране кандид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пликација инструментарија и поступ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нализа испуњавања захтева од стране кандидата и утврђивање критичног ск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нгирање кандидата и њихов изб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грамирање, организовање и извођење додатне обуке за изабране кандида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аћење успеха одабраних кандид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азе модела развоја руководилац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689840" y="1981080"/>
            <a:ext cx="6176160" cy="3772080"/>
            <a:chOff x="1689840" y="1981080"/>
            <a:chExt cx="6176160" cy="3772080"/>
          </a:xfrm>
        </p:grpSpPr>
        <p:sp>
          <p:nvSpPr>
            <p:cNvPr id="239" name=""/>
            <p:cNvSpPr/>
            <p:nvPr/>
          </p:nvSpPr>
          <p:spPr>
            <a:xfrm>
              <a:off x="3869640" y="1981080"/>
              <a:ext cx="1937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ЉУДСКИ РЕСУР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90960" y="2895480"/>
              <a:ext cx="169524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ЗАПОШЉАВАЊ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89840" y="3924360"/>
              <a:ext cx="181656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ПРОФЕСИОНАЛНА СЕЛЕКЦИЈА РУКОВОДИЛА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9800" y="4038480"/>
              <a:ext cx="1816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СЕЛЕКЦИЈА ЗА НАПРЕДОВАЊЕ РУКОВОДИЛА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89840" y="5181480"/>
              <a:ext cx="1695240" cy="571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ЕДУКАЦИЈА РУКОВОДИЛА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70760" y="5181480"/>
              <a:ext cx="1695240" cy="571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САВРШАВАЊЕ РУКОВОДИЛА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61880" y="3667320"/>
              <a:ext cx="1452960" cy="137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ОРГАН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ЗАЦИЈ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90960" y="2666520"/>
              <a:ext cx="363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89840" y="3695400"/>
              <a:ext cx="3632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89840" y="4952520"/>
              <a:ext cx="3632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28480" y="3809520"/>
              <a:ext cx="3632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70760" y="4952520"/>
              <a:ext cx="3632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17800" y="2209320"/>
              <a:ext cx="120960" cy="685800"/>
            </a:xfrm>
            <a:prstGeom prst="downArrow">
              <a:avLst>
                <a:gd name="adj1" fmla="val 50000"/>
                <a:gd name="adj2" fmla="val 1417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17800" y="3238560"/>
              <a:ext cx="120960" cy="456840"/>
            </a:xfrm>
            <a:prstGeom prst="downArrow">
              <a:avLst>
                <a:gd name="adj1" fmla="val 50000"/>
                <a:gd name="adj2" fmla="val 9442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06400" y="4152600"/>
              <a:ext cx="544680" cy="113760"/>
            </a:xfrm>
            <a:prstGeom prst="leftArrow">
              <a:avLst>
                <a:gd name="adj1" fmla="val 50000"/>
                <a:gd name="adj2" fmla="val 1196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37640" y="4610160"/>
              <a:ext cx="120960" cy="570960"/>
            </a:xfrm>
            <a:prstGeom prst="downArrow">
              <a:avLst>
                <a:gd name="adj1" fmla="val 50000"/>
                <a:gd name="adj2" fmla="val 118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97600" y="4724640"/>
              <a:ext cx="120960" cy="456840"/>
            </a:xfrm>
            <a:prstGeom prst="downArrow">
              <a:avLst>
                <a:gd name="adj1" fmla="val 50000"/>
                <a:gd name="adj2" fmla="val 9442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04760" y="4152600"/>
              <a:ext cx="545040" cy="113760"/>
            </a:xfrm>
            <a:prstGeom prst="rightArrow">
              <a:avLst>
                <a:gd name="adj1" fmla="val 50000"/>
                <a:gd name="adj2" fmla="val 11977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85440" y="5067360"/>
              <a:ext cx="1453320" cy="456840"/>
            </a:xfrm>
            <a:custGeom>
              <a:avLst/>
              <a:gdLst>
                <a:gd name="textAreaLeft" fmla="*/ 484560 w 1453320"/>
                <a:gd name="textAreaRight" fmla="*/ 1055520 w 1453320"/>
                <a:gd name="textAreaTop" fmla="*/ 285480 h 456840"/>
                <a:gd name="textAreaBottom" fmla="*/ 33192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9404"/>
                  </a:moveTo>
                  <a:lnTo>
                    <a:pt x="13490" y="19404"/>
                  </a:lnTo>
                  <a:lnTo>
                    <a:pt x="13490" y="7200"/>
                  </a:lnTo>
                  <a:lnTo>
                    <a:pt x="7576" y="7200"/>
                  </a:lnTo>
                  <a:lnTo>
                    <a:pt x="14588" y="0"/>
                  </a:lnTo>
                  <a:lnTo>
                    <a:pt x="21600" y="7200"/>
                  </a:lnTo>
                  <a:lnTo>
                    <a:pt x="15686" y="7200"/>
                  </a:lnTo>
                  <a:lnTo>
                    <a:pt x="1568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717800" y="5067360"/>
              <a:ext cx="1452960" cy="456840"/>
            </a:xfrm>
            <a:custGeom>
              <a:avLst/>
              <a:gdLst>
                <a:gd name="textAreaLeft" fmla="*/ 509760 w 1452960"/>
                <a:gd name="textAreaRight" fmla="*/ 1045800 w 1452960"/>
                <a:gd name="textAreaTop" fmla="*/ 288360 h 456840"/>
                <a:gd name="textAreaBottom" fmla="*/ 32868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9698"/>
                  </a:moveTo>
                  <a:lnTo>
                    <a:pt x="13637" y="19698"/>
                  </a:lnTo>
                  <a:lnTo>
                    <a:pt x="13637" y="7576"/>
                  </a:lnTo>
                  <a:lnTo>
                    <a:pt x="7576" y="7576"/>
                  </a:lnTo>
                  <a:lnTo>
                    <a:pt x="14588" y="0"/>
                  </a:lnTo>
                  <a:lnTo>
                    <a:pt x="21600" y="7576"/>
                  </a:lnTo>
                  <a:lnTo>
                    <a:pt x="15539" y="7576"/>
                  </a:lnTo>
                  <a:lnTo>
                    <a:pt x="1553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Личност успешног руководиоца”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телиген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лагођав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кстроверт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минант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аскули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зерватиз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терперсонална сензитив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(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nn, 1959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Личност успешног руководиоца”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телектуалне способ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бразов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оцијалне вешти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мопоузд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дмоћ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Stogdill, 1984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Личност успешног руководиоца”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нтелиген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Честит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ојал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пристрас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луч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пособност просуђива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јат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ручно знањ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дрављ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пособност коопера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58672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5867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Cooper, 1930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Теорије стил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ко руководилац треба да се понаш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07:40:44Z</dcterms:created>
  <dc:creator>Kabinet 306</dc:creator>
  <dc:description/>
  <dc:language>en-US</dc:language>
  <cp:lastModifiedBy>Ivana</cp:lastModifiedBy>
  <dcterms:modified xsi:type="dcterms:W3CDTF">2005-12-12T15:26:53Z</dcterms:modified>
  <cp:revision>45</cp:revision>
  <dc:subject/>
  <dc:title>Slide 1</dc:title>
</cp:coreProperties>
</file>