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CACB-610A-4581-AA13-25093225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E0F7-3351-4639-ABFF-EA20B79D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C950-8697-48E0-AA31-293A2C2D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0A77-E334-4B87-90FE-781AF6A3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29C4-2884-47D2-BEFF-46EEC1239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2EA3-4ABA-442D-8570-B804D1C4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8277-CA82-43FC-9D33-5B46CB7D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8497-B446-4B16-A0E6-34AFC4FC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854E-07E8-4136-8610-1953377E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B5BE-8424-455F-B6F5-2A4140D9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1FB4-327F-43BC-9312-564D380D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1C80-24E3-47E3-9F6E-82AB8F5D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220C-12C1-406A-8AFB-FB61C260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7734-1A20-4358-B0D7-6006A015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A928-C295-46FA-82C0-AEDC351F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88B3-B91A-4B6A-BE3D-E8679E3D8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D620-7F93-4F04-A991-A55C61F4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4BD3-19A1-4437-9574-E7802E86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B537-E37F-49DB-AD3A-9D768D3C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6AC0-05B2-4FCD-9145-F125EA04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699D-FA8E-496A-9C57-B5163978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3926-3364-451A-B5C4-7620BB68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FE66-5AC0-490D-B04D-54110F79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63B2-690B-4D66-860C-7777C839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0026-0085-4EDD-9ECD-75B3E9C29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553A-B698-4D85-BC4F-92A4BB8E0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3619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221304"/>
                </a:solidFill>
                <a:latin typeface="Times New Roman"/>
              </a:rPr>
              <a:t>СТРЕС У ОРГАНИЗАЦИЈ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21304"/>
                </a:solidFill>
                <a:latin typeface="Times New Roman"/>
              </a:rPr>
              <a:t>Последице неприлагођавања увећаном стресу: Симптоми трауме и реакције на стрес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живљавање трауматских догађаја кроз периодично и наметљиво присећање на ње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кушај потискивања трауматског доживљаја из све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туђеност од других, осиромашење  емоционалног жив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Симптоми појачаног одупирања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есаница или прекидан с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аздражљивост и чести изливи бе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ешкоће концентрациј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одужена будно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еувеличавање страшних доживља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Асоцијално понашањ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Социјално-економске последице стрес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трес “болест ХХ века”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(Извештај Уједињених нација, 1993.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 просечном дану 1 милион људи изостаје са посла због стре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75%-90% пацијената са овим симптом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оцењује се да појава стреса америчку индустрију кошта годишње 200 – 300 билиона дол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60-80% несрећа на послу последица стре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221304"/>
                </a:solidFill>
                <a:latin typeface="Times New Roman"/>
              </a:rPr>
              <a:t>Управљање стресом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Организационе мер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фесионална селекција – боља професионална и организациона адаптаци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рганиациона култура и међуљудски односи у предузећ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спостављање споне између предузећа и породица запослени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221304"/>
                </a:solidFill>
                <a:latin typeface="Times New Roman"/>
              </a:rPr>
              <a:t>Поступци и технике избегавања, релаксације и опоравак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(Барбара Рид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221304"/>
                </a:solidFill>
                <a:latin typeface="Times New Roman"/>
              </a:rPr>
              <a:t>Генералне препоруке за избегавање стрес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ставити приорите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тврдити на шта се може утица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Дистанцирати се од брига, задатака и стресова на које с ене може утица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провести методе приоритета – прво обавити најважн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мати поверења у сопствене способ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двојити време за одм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а сваким дахом ослободит се свих стрес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слободити се перфекционистичких размишљања и нереалних захте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средсредити се на оно што је важ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мати на уму да се после релаксације ослобађамо стре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221304"/>
                </a:solidFill>
                <a:latin typeface="Times New Roman"/>
              </a:rPr>
              <a:t>Краткорочно смањење стреса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Тражити “тајм ау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даљити се од пробле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ошетати се 5-6 мину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ести мирно и дисати полако и дубок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тићи на кратко на неко мирно мес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пречити негативне мис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е преузимати на себе стрес других љу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поменити своје погле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азговарати са неким поверљиви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Мало одспава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место само узимати, нешто и да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Медитирати или молити с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Дефинисање стрес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Стрес је психофизичко стањ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у које човек запад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у отежаним приликама и ситуацијам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Сеље: фазе стрес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Фаза алармне реакци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Фаза отпо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Фаза исцрпљењ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480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6708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54864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Болест стр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Врсте стреса</a:t>
            </a:r>
            <a:br>
              <a:rPr sz="4000"/>
            </a:b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- према емоционалном значењу -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устре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истре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Извори стрес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66680" y="1447920"/>
          <a:ext cx="76964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47920"/>
                    <a:ext cx="76964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221304"/>
                </a:solidFill>
                <a:latin typeface="Times New Roman"/>
              </a:rPr>
              <a:t>Извори стреса у организацији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ирода посла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тежина посла и прековремени рад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лога у организацији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конфликтна нејасна радна улог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дговорност на послу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стресогенија одговорност за људе него за материјална добр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дноси на раду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односи између различитих нивоа у хијерархиј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ретање у организацији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(најстресније напредовање до “границе своје неспособности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сихолошка клима организациј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221304"/>
                </a:solidFill>
                <a:latin typeface="Times New Roman"/>
              </a:rPr>
              <a:t>Психолошка клима организације:</a:t>
            </a: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 стресогене карактеристике организације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скудне могућности партиципације запослених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одлучивање у уском кругу повлашћених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зостанак осећаја запослених да припадају фир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истем информисања не функционише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те су уместо поузданих информација присутне полуинформације и гласин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истем комуницирања је недефинисан и препуштен личним контакти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едоследно и непредвидљиво вођење пословне политике фир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221304"/>
                </a:solidFill>
                <a:latin typeface="Times New Roman"/>
              </a:rPr>
              <a:t>Извори стреса ван организације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родичне прили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пште друштвене и економске прили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арактеристике личности (“Тип А” и “Тип В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Последице стрес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46680" y="2251080"/>
            <a:ext cx="146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198108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1523880"/>
            <a:ext cx="2286000" cy="4572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хипоталам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1905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ортикотропни ф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2514600"/>
            <a:ext cx="1828800" cy="7621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хипоф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32004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Адренокортикотропни хорм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3886200"/>
            <a:ext cx="2133720" cy="6094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Надбубреж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жлез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48769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Адреналин и норадрена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66880" y="5257800"/>
            <a:ext cx="4267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Активирање резерви шећера =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Активирање групе мишић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Убрзавање рада ср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19051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409720" y="22096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200400" y="30481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3352680"/>
            <a:ext cx="1447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ва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6T13:28:03Z</dcterms:created>
  <dc:creator>Ivana</dc:creator>
  <dc:description/>
  <dc:language>en-US</dc:language>
  <cp:lastModifiedBy>Ivana</cp:lastModifiedBy>
  <dcterms:modified xsi:type="dcterms:W3CDTF">2005-12-29T11:17:33Z</dcterms:modified>
  <cp:revision>21</cp:revision>
  <dc:subject/>
  <dc:title>СТРЕС У ОРГАНИЗАЦИЈИ</dc:title>
</cp:coreProperties>
</file>