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B6D-DC26-4B55-B7A4-B07D62D26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555-18BE-429B-9E28-A9673B94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5600C-DFF8-4DE8-BC4E-281E0F653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13F1-C1EB-4273-AC44-2741E6D1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7D80-DECB-42B8-A1F9-42C67099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6741-3B6E-4AF9-A5E2-A37BE84F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0080C-C4DD-4924-BB2D-1CBB8DE3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9B1C-CCBF-4D4E-B0BB-A460219F9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FF30-9958-47BC-8A6C-4792F5A7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2F32-33BF-42B6-9778-6D469F97C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19F6B-48F9-4089-9FC3-0BE0EAC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82D-E75E-4E12-A887-188D2058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9342-62C3-4612-A93A-667F29A5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AE43-AA51-4119-A5F6-BB7DEB61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49F0-24BD-4C63-8502-BC464C47F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5275-8B8E-46BB-80A5-43A98504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9E43-B620-44ED-9431-D33E00132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E676-487D-4247-8364-1458CE1A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BD48-E7AB-4033-A2A0-0DC7954D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21D0-BAB6-46B4-A662-840DE3EF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C2AB-C32A-4B48-B052-D3663E426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EAEF-E433-4661-94C8-66DD742EF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EEB-1D2B-4EFE-9BC3-38CF8512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75BB7-6553-4BB4-90AF-1D7A9CE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C2D93-1923-443C-8CDA-69F1636A5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3C5D-1A61-4FC2-9C60-7C2461A38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псентизам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планирано, самоиницијативно одсуствовање радника са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2448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2./03./04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18960" y="3885840"/>
            <a:ext cx="7391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страживачки рад: формулисање нацрта истражива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еминарски радови: дефинисање структуре ра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ритички приказ: увежбавање писања критичког приказа на кратак задати текс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47712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9./10./11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371600" y="1066680"/>
            <a:ext cx="266688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е изостана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ма траја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81480" y="1066680"/>
            <a:ext cx="281952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Врсте изостанак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ма уз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2895480"/>
            <a:ext cx="1447560" cy="10670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У то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радног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реме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33720" y="4343400"/>
            <a:ext cx="1600200" cy="8380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вишеднев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52680" y="2743200"/>
            <a:ext cx="13716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једноднев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752120" y="2133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2057400"/>
            <a:ext cx="6098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19520" y="2133720"/>
            <a:ext cx="7596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3733920"/>
            <a:ext cx="160020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оправд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733920"/>
            <a:ext cx="1371600" cy="99036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неоправда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5790960" y="205740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86600" y="2057400"/>
            <a:ext cx="6094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оказатељи апсентизм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декс глобалног апсентизма ИГА=БИ/БРх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ндекс губит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Г=ИД/БРх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луктуација радника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Непланирано и неорганизовано кретање радне снаге између организација, делова предузећа или гра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1447920"/>
            <a:ext cx="274320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тенциј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лук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105520" y="1523880"/>
            <a:ext cx="289548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еализова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лукту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267080" y="3657600"/>
            <a:ext cx="167652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инт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3505320"/>
            <a:ext cx="1600200" cy="12952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т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562720" y="2743200"/>
            <a:ext cx="7617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27432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981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76212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рсте флукту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96-1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Експлицирати сличности и разлике апсентизма и флуктуациј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смислити мере превенције апсентиз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окушати осмислити групу питања (упитник) којим би било могуће испитати природу потенцијалне флуктуације у организацији/излазни интервј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зматрати феномене апсентизма и флуктуације с обзиром на факторе узроч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Задатак: попунити схему: Склоност апсентизму и флуктуацији с обзиром на демографске карактеристике</a:t>
            </a: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066680" y="1752480"/>
          <a:ext cx="7620120" cy="43848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псентиза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лукту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ар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бразовни ни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ожај у организациј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родична одговорнос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96-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лож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олит, Београд, стр. 231-2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по групама за семинарски, истраживачки и критички приказ</a:t>
            </a:r>
            <a:r>
              <a:rPr b="0" lang="sr-Latn-CS" sz="4000" spc="-1" strike="noStrike">
                <a:solidFill>
                  <a:srgbClr val="221304"/>
                </a:solidFill>
                <a:latin typeface="Times New Roman"/>
              </a:rPr>
              <a:t>*</a:t>
            </a: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447560" y="3885840"/>
            <a:ext cx="693396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Усвајање основних принципа писања ра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бор теме и договор око литератур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32448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02./03./04.11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5867280"/>
            <a:ext cx="71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Упутства за писање радова можете наћи на сајту или огласној таб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Ivana</cp:lastModifiedBy>
  <dcterms:modified xsi:type="dcterms:W3CDTF">2005-10-11T16:07:32Z</dcterms:modified>
  <cp:revision>168</cp:revision>
  <dc:subject/>
  <dc:title>ПСИХОЛОГИЈА ОРГАНИЗАЦИЈЕ - ВЕЖБЕ - </dc:title>
</cp:coreProperties>
</file>