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96D9-1C35-4FCB-8585-35C51BFD7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3A44-665A-4A9B-A6B0-AC91E5053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98D8-EDFA-43E7-9CA4-4774BC7D6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EC97-203A-42ED-ABF8-453963C33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6726-BBC3-4845-9020-54D459A6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BA511-3B29-458E-90BC-0CEEDA14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BB2E6-5D00-4512-B1F4-90CC6370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D401-6020-4C41-926E-D9B1C370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5F407-AF71-440A-AC2C-485D30E37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0D30-A385-4EC4-AB37-CDBE108A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4996-9860-4F69-98D1-96A4C90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95F1-0C7A-4BAB-84F2-C8E4C26E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A443-E52F-45FF-A1A5-8FC5A9DA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C263-33FB-4B37-8761-D102A6DB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8C2C-6DC9-4454-A24F-141EB255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E71B-7A54-4584-829A-569F4F6DC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8A1F2-B359-43F3-BF09-F72AABC5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78A-2AB7-4137-AA5F-40C38920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DBDC-0791-4325-8C35-15C06024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1ECD-B827-43F6-8AD6-3B3DD827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E709-809D-4AD7-A125-650076AA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4CD8-620F-45B7-AFCE-74882AC6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7011-6101-4C5D-A1BA-0B591C2B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190C-8DC9-4E57-8CA7-DBEF8B38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48A4-7678-406E-A4AF-2798238AC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A160-8374-4907-8F2D-F17E8469DF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Методе психологије организације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3581280"/>
            <a:ext cx="6400800" cy="17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сихолошки тесто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Анализа по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85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05./06./07.10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методе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676520"/>
            <a:ext cx="312408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сихолошки тест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1752480"/>
            <a:ext cx="2819160" cy="83844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Анализа по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1240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естови зн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86000" y="320040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естови 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2004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Тестови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2895480"/>
            <a:ext cx="152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Захтеви по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4267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струч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3600" y="38098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биофизиол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934320" y="43434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сихолош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676520" y="259092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2590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590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934320" y="2590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410080" y="342900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3505320"/>
            <a:ext cx="9144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Психолошки тестови </a:t>
            </a:r>
            <a:br>
              <a:rPr sz="4000"/>
            </a:b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– мерење особина личности - 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</a:rPr>
              <a:t>Посебним поступком изабрани задаци којима се изазивају узорци понашања на основу којих се закључује о особинама тестиране особ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221304"/>
                </a:solidFill>
                <a:latin typeface="Times New Roman"/>
              </a:rPr>
              <a:t>Метријске карактеристике тестова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Ваљаност (валидност) – да тест заиста мери оно што желимо да мерим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оузданост (релијабилност) – да у поновљеним мерењима код исте особе даје приближно исте резулта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бјективност – да сви који га примењују исте одговоре једнако оцењуј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Осетљивост (селективност, дискриминативност) – да је у стању да измери мале разлике између људ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Анализа посл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истематски поступак утврђивања природе и садржаја пос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(задатака, дужности, одговорности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слова и метода рада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ао и психофизичких особина које посао захте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419720"/>
            <a:ext cx="1600200" cy="91440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Шта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радник 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5181480"/>
            <a:ext cx="190512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Како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то 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19720" y="4572000"/>
            <a:ext cx="1981080" cy="9907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д којим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услови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то 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48520" y="5029200"/>
            <a:ext cx="2514600" cy="1219320"/>
          </a:xfrm>
          <a:prstGeom prst="ellipse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Које </a:t>
            </a: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особин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посао захтева од радни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Times New Roman"/>
              </a:rPr>
              <a:t>(какав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 треба он да буд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Примена анализе посл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Класификација и организација посл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фесионална оријента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Професионална селекциј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Утврђивање програма обучавањ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Стварање бољих услова ра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Задаци за вежбање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1. Прочитати Михаиловић, Д., Психологија у организацији, ФОН, Београд, 2005., стр. 37-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2. Повезати врсте тестова са захтевима пос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3. У понуђеним примерима покушати разумети који принцип психолошких тестова није задовоље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</a:rPr>
              <a:t>4. По угледу на понуђени пример схеме анализе радних места* анализирати изабрани посао (нпр. менаџера, инжињера информационих технологија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28800" y="5943600"/>
            <a:ext cx="4724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609588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</a:rPr>
              <a:t>*схема анализе радних места је дата у документу “схема анализе радних места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221304"/>
                </a:solidFill>
                <a:latin typeface="Times New Roman"/>
              </a:rPr>
              <a:t>Литература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Обавезна: Михаиловић, Д., Психологија у организацији, ФОН, Београд, 2005., стр. 37-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поручено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Буквић, А., Начела израде психолошких тестова, Завод за уџбенике и наставна средства, Београд, 1982., стр. 107-109, 111-116, 125-131, 181-2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Гузина, М., Кадровска психологија, Научна књига, Београд, стр. 217-22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ck, N., Berger, L. The Compenzation Handbook, 1991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49-7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io, W.F., Applied Psychology in Human Resource Management, Prentice Hall, Denver, 1998.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, стр. 130-1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4:33:16Z</dcterms:created>
  <dc:creator>Ivana</dc:creator>
  <dc:description/>
  <dc:language>en-US</dc:language>
  <cp:lastModifiedBy>Kabinet 306</cp:lastModifiedBy>
  <dcterms:modified xsi:type="dcterms:W3CDTF">2005-10-11T13:07:39Z</dcterms:modified>
  <cp:revision>157</cp:revision>
  <dc:subject/>
  <dc:title>ПСИХОЛОГИЈА ОРГАНИЗАЦИЈЕ - ВЕЖБЕ - </dc:title>
</cp:coreProperties>
</file>