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36BF-66EE-4B16-86CF-58CAE413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1AFE-7947-4D9D-9691-180D5537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791C-C4CC-4DFF-9FCA-ED96F11F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377-F0C8-490E-ABEB-9410A02BA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7BEF5-749C-4903-AFF1-CF51C5066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C9A5-61C4-4D36-86E6-B0EBF00C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CF18-C930-4194-AB90-D6121246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8D21A-7E8B-492F-8F30-FEDE1108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9F48-0F5B-409A-ADED-DEB6BC9A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3F9E-9856-4B9D-8C55-66BC01546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CDB4-F9E7-4351-96EA-3FD579CE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4FF3-066B-4BF5-B428-8CC7EFEA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01C9-06C7-4503-9DB4-9415D88FC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D62E2-82E0-42F3-8835-5A859F51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B425-5B41-4D91-9FAE-2771C085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E4DF-FEF7-410E-B890-70830A8D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23B4-83DF-4FB6-908B-19E635054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9EBF-D348-4610-B275-5BA7444A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888-2A18-45D3-B6AF-D12DB440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15A0-5E88-41C1-AE4A-9764E990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38C-C925-4B5C-A0A2-535652D56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53FF-A1B5-41AC-9CE7-D64A6571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93D7-F735-47EF-AC43-34680192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8439-FBDF-41E9-9D10-0B2BBCFA5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09ADF-FD85-4E2D-B921-E65C27A3E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98EA0-197C-4E33-8B4D-4668B0A69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848720" cy="19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221304"/>
                </a:solidFill>
                <a:latin typeface="Times New Roman"/>
              </a:rPr>
              <a:t>РАД ПО ГРУПАМА ЗА СЕМИНАРСКИ, ИСТРАЖИВАЧКИ И КРИТИЧКИ ПРИКАЗ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680" y="388584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страживачки рад: формулисање нацрта истражив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еминарски радови: дефинисање структуре р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ритички приказ: увежбавање писања критичког приказа на кратак задати тек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685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09./10./11.11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рипрема за проверу знања*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виз питањ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(колоквијум се ради уз коришћење књиг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685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09./10./11.11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48640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* Погледати документ примери питања колоквијума од ранијих го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6:10:08Z</dcterms:created>
  <dc:creator>Ivana</dc:creator>
  <dc:description/>
  <dc:language>en-US</dc:language>
  <cp:lastModifiedBy>Ivana</cp:lastModifiedBy>
  <dcterms:modified xsi:type="dcterms:W3CDTF">2005-10-11T16:15:15Z</dcterms:modified>
  <cp:revision>4</cp:revision>
  <dc:subject/>
  <dc:title>Slide 1</dc:title>
</cp:coreProperties>
</file>