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3729-5C50-486A-9EC6-85DACF61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B925-A3B3-4D24-918B-CA99F9351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259-295A-4F0F-B565-DD7215FC8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D54B-2090-4D59-AD6C-20833136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F8B8-00E5-4EB0-B9CF-1EA64DC13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D1B29-7BF2-4482-B997-05A8687F4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AF90-46F3-47B2-B18D-6252828BC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78F8-ED1A-4C18-814B-DB18C910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11159-52AF-494B-834A-334F1AAD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B4E3F-187E-4276-9DA6-30A45B5FC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0102-8964-4AC3-8655-A1E8832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E86-2CF1-44D9-9B61-31337ECF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C187-483F-48EF-B407-14A62E5B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F5F96-0CDF-47ED-983F-F8485217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F151-5D3A-4F2F-B587-D9D08900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DF2E-52B0-4F56-A47F-70344FBB2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7662-0874-4C95-B227-FA5F473A0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8C89-5AFF-47DD-A0F4-14B53F69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EE7-1695-4871-8529-3F7DE17C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42B7-3BB0-4FCB-A1E7-F8A99B08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C5F-AB95-4F04-AECB-AD8B0D13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CD51-29F3-4C2B-8AE4-693A340C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6859-EB54-40C6-BE2A-1C6BE0CA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A66F-BBA2-41CD-A558-C0010987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6E22-970B-4A13-91E2-E8FC87025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6FE2-F737-43B7-8E8E-C31300D66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Радна адапт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76520" y="34286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илагођавање радника раду и рада радник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ди остваривања оптималног односа човека и р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6094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6./27./28.10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Потискивањ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пријатни и узнемирујући садржаји се избацују из сећањ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ктивно им се не дозвољав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а се појаве у свести 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остају део несвесно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Регрес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е јавља као реакција на фрустрацију или трауматски доживљај и подразумева враћање 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ревазиђене и незреле облик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понашања и задовољавањ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ада су већ достигну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релији ступњеви развој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Реакциона форм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5438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ложени механизам одбране у ком долази до трајније промене личности потискивањем из свести неприхватљивих садржаја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а затим манифестовањем понашања које је супротно тим садржаји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Сублим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2236320"/>
            <a:ext cx="762012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ирови и неприхватљиви нагони се трансформишу у социјално пожељне и прихватљив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и то омогућава њихово растерећење кроз узвишеније мотив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организације, ФОН, Београд, 2005., стр. 82-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. Разграничити врсте радне адаптациј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3. Размислити о начинима на који ми реагујемо на фрустрације и конфлик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4. Размислити о томе које механизме одбране најчешће користи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5. Повезати одређене исказе са механизмима одбране (користећи понуђене исказе)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* Искази дати у документу “механизми одбране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Фактори радне адаптациј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икроклиматски услови р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ређење радног амбијен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пште карактеристике рада чове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52880" y="1752120"/>
            <a:ext cx="3733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блеми замора у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дмор и значај одмар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Монотонија у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Уређење радног амбијента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Изглед радног амбијента зависи пре свега од врсте посла који се обављ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221304"/>
                </a:solidFill>
                <a:latin typeface="Times New Roman"/>
              </a:rPr>
              <a:t>Ravnoteža privatnosti i potrebe za interakcijom na radnom mestu</a:t>
            </a:r>
            <a:br>
              <a:rPr sz="2400"/>
            </a:br>
            <a:r>
              <a:rPr b="1" lang="sr-Latn-CS" sz="2400" spc="-1" strike="noStrike">
                <a:solidFill>
                  <a:srgbClr val="221304"/>
                </a:solidFill>
                <a:latin typeface="Times New Roman"/>
              </a:rPr>
              <a:t>- Duffy-jev model -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1600200" y="1905120"/>
            <a:ext cx="3808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Arial"/>
              </a:rPr>
              <a:t>-     Interakcija 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5181480"/>
            <a:ext cx="54864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Arial"/>
              </a:rPr>
              <a:t>-        autonomija       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19051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Arial"/>
              </a:rPr>
              <a:t>Grupn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21304"/>
                </a:solidFill>
                <a:latin typeface="Arial"/>
              </a:rPr>
              <a:t>«JAZBINA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(D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19051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Intelektualni timsk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KLUB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(Cl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0920" y="3505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Individualn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KOŠNICA” – sep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(H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52880" y="3505320"/>
            <a:ext cx="20574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Individualni intelektualni r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Ćelij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(Ce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35268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28600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29760" y="5972760"/>
            <a:ext cx="47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221304"/>
                </a:solidFill>
                <a:latin typeface="Arial"/>
              </a:rPr>
              <a:t>Slika 1. </a:t>
            </a:r>
            <a:r>
              <a:rPr b="0" i="1" lang="sr-Latn-CS" sz="2000" spc="-1" strike="noStrike">
                <a:solidFill>
                  <a:srgbClr val="221304"/>
                </a:solidFill>
                <a:latin typeface="Arial"/>
              </a:rPr>
              <a:t>Način rada i prostor Duffy, 199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221304"/>
                </a:solidFill>
                <a:latin typeface="Times New Roman"/>
              </a:rPr>
              <a:t>Задатак за вежбање: </a:t>
            </a:r>
            <a:br>
              <a:rPr sz="2000"/>
            </a:br>
            <a:r>
              <a:rPr b="0" lang="sr-CS" sz="2000" spc="-1" strike="noStrike">
                <a:solidFill>
                  <a:srgbClr val="221304"/>
                </a:solidFill>
                <a:latin typeface="Times New Roman"/>
              </a:rPr>
              <a:t>На основу </a:t>
            </a:r>
            <a:r>
              <a:rPr b="0" lang="sr-Latn-CS" sz="2000" spc="-1" strike="noStrike">
                <a:solidFill>
                  <a:srgbClr val="221304"/>
                </a:solidFill>
                <a:latin typeface="Times New Roman"/>
              </a:rPr>
              <a:t>Duffy</a:t>
            </a:r>
            <a:r>
              <a:rPr b="0" lang="sr-CS" sz="2000" spc="-1" strike="noStrike">
                <a:solidFill>
                  <a:srgbClr val="221304"/>
                </a:solidFill>
                <a:latin typeface="Times New Roman"/>
              </a:rPr>
              <a:t>-ијевог модела проценити четири понуђена решења с обзиром на следеће аспекте </a:t>
            </a:r>
            <a:br>
              <a:rPr sz="2000"/>
            </a:br>
            <a:endParaRPr b="0" lang="en-US" sz="20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066680" y="1752480"/>
          <a:ext cx="7620120" cy="4324320"/>
        </p:xfrm>
        <a:graphic>
          <a:graphicData uri="http://schemas.openxmlformats.org/drawingml/2006/table">
            <a:tbl>
              <a:tblPr/>
              <a:tblGrid>
                <a:gridCol w="3581640"/>
                <a:gridCol w="1143000"/>
                <a:gridCol w="914400"/>
                <a:gridCol w="946080"/>
                <a:gridCol w="1035000"/>
              </a:tblGrid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ватно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штићеност од ометањ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валитет комуник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ок рад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фективно искоришћен радни прост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гућност надгледања и котро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кономичност с обзиром на осветљење/грејањ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кономичност с обзиром на коришћење опрем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- задаци за вежбање -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читати Михаиловић, Д., Психологија организације, ФОН, Београд, 2005., стр. 90-96 стр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мислити о импликацијама радног амбијента на феномен грешке на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Размислити о импликацијама радног амбијента на феномен безбедности на рад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221304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Наведите одговарајућ посао за сваки тип понуђеног радног просто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362320" y="457200"/>
            <a:ext cx="5181480" cy="106668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дна адап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23880" y="2057400"/>
            <a:ext cx="297180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лагођав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дника р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86400" y="2209680"/>
            <a:ext cx="297180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илагођавање ра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рад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3657600"/>
            <a:ext cx="213372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офесионал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дап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3733920"/>
            <a:ext cx="2133360" cy="11430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рганизаци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дапта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5181480"/>
            <a:ext cx="1981080" cy="12193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гнити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нати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Емоти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компон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057040" y="3200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32767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91320" y="3733920"/>
            <a:ext cx="2666880" cy="91440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Метод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хнопсихофизиолог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33526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76720" y="152388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152388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4876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огра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Рачуновођ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Шеф одељења за људске ресурс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Менаџер продај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Члан креативног тима у маркетинг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рхитек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овина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6920" y="870120"/>
            <a:ext cx="7892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221304"/>
                </a:solidFill>
                <a:latin typeface="Times New Roman"/>
              </a:rPr>
              <a:t>Осмислите радни амбијент за следеће посл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Рад у сменама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- задаци за вежбање: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читати и продискутовати текст Циркадијални ритмови и организација рада (рад у сменама) из: Штајнбергер, И., Чизмић, С., Психологија и савремена техника, Завод за уџбенике и наставна средства, Београд, 1991. стр. 236-3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с посебним освртом на спроведена истраживања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. На основу стечених знања из чланка одредите себи одговарајући режим уче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бавезна: Михаиловић, Д., Психологија организације, ФОН, Београд, 2005., стр. 82-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дложена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Штајнбергер, И., Чизмић, С., Психологија и савремена техника, Завод за уџбенике и наставна средства, Београд, 1991. стр. 236-3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Кондић, В., Радна адаптација, У: Чизмић, Ц., Кондић, В., Психологија рада у формули успеха организације, Центар за примењену психологију, Београд, 203., стр. 11-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Ward, V., Holtham, C., «The Role of Private and Public Spaces in Knowledge Management»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</a:rPr>
              <a:t>Knowledge Management: Concepts and Controverse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, University of Warwick, Coventry, United Kingdom, 2000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бавезна: Михаиловић, Д., Психологија организације, ФОН, Београд, 2005., стр. 96-1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редлож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Гузина, М., Кадровска психологија, Нолит, Београд, стр. 231-23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облеми прилагођавањ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Фрустрације – када се на путу ка остварењу жеља нађу неке унутрашње или спољашње препре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904760" y="3276720"/>
            <a:ext cx="6858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48320" y="335268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19920" y="3200400"/>
            <a:ext cx="10666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2670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Физичке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44956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У самој л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42670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Социјалне прир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562720"/>
            <a:ext cx="281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imes New Roman"/>
              </a:rPr>
              <a:t>ИНТРПАСИХИЧКИ КОНФЛИК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5334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r-CS" sz="2800" spc="-1" strike="noStrike">
                <a:solidFill>
                  <a:srgbClr val="221304"/>
                </a:solidFill>
                <a:latin typeface="Tahoma"/>
              </a:rPr>
              <a:t> </a:t>
            </a:r>
            <a:r>
              <a:rPr b="1" lang="sr-CS" sz="2800" spc="-1" strike="noStrike">
                <a:solidFill>
                  <a:srgbClr val="221304"/>
                </a:solidFill>
                <a:latin typeface="Tahoma"/>
              </a:rPr>
              <a:t>Интрапсихички конфликти </a:t>
            </a:r>
            <a:br>
              <a:rPr sz="2800"/>
            </a:br>
            <a:endParaRPr b="0" lang="en-US" sz="2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Конфликт двоструког привлаче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Конфликт двоструког одбијањ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Tahoma"/>
              </a:rPr>
              <a:t>Конфликт амбивалентн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950000" y="1746360"/>
          <a:ext cx="3781080" cy="43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0000" y="1746360"/>
                    <a:ext cx="378108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Одбрамбени механизми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Несвесни механизми које личност користи да би ублажила непријатни унутрашњи конфликт или отклонила извесну унутрашњу опасност која ствара напетос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Они чувају самопшоштовање и интегрисаност личн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Рационализа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647960" y="3276360"/>
            <a:ext cx="42670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 Unicode MS"/>
              </a:rPr>
              <a:t>«СЛАДАК ЛИМУН» - пренаглашавамо значај онога у чему смо успели јер нисмо успели у оном чему смо тежили</a:t>
            </a:r>
            <a:r>
              <a:rPr b="0" lang="sr-C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819520"/>
            <a:ext cx="39625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«КИСЕЛО ГРОЖЂЕ» 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успех у некој актив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објашњавамо тиме што 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ије било вредно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90720" y="17524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за сопствено неприхватљиво понашање или претрпљени неуспе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акнадно се тражи оправдањ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у друштвено прихватљивим мотивим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како би се избегло осећање стида ил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мање вредности и очувало самопоштовањ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221304"/>
                </a:solidFill>
                <a:latin typeface="Times New Roman"/>
              </a:rPr>
              <a:t>Идентификаци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18960" y="2057040"/>
            <a:ext cx="746748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трах или лични несупех се ублажавају поистовећивањем с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неком другом особом (узором) или груп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221304"/>
                </a:solidFill>
                <a:latin typeface="Times New Roman"/>
              </a:rPr>
              <a:t>Пројекциј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8960" y="198072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е састоји у приписивању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сопствених неприхватљивих скривених и потиснутих садржај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другим особа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33:16Z</dcterms:created>
  <dc:creator>Ivana</dc:creator>
  <dc:description/>
  <dc:language>en-US</dc:language>
  <cp:lastModifiedBy>Ivana</cp:lastModifiedBy>
  <dcterms:modified xsi:type="dcterms:W3CDTF">2005-10-11T16:01:26Z</dcterms:modified>
  <cp:revision>167</cp:revision>
  <dc:subject/>
  <dc:title>ПСИХОЛОГИЈА ОРГАНИЗАЦИЈЕ - ВЕЖБЕ - </dc:title>
</cp:coreProperties>
</file>