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415D-57C9-4EA8-9D6C-C6D589D80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9A0D-5A3B-4B2F-B5AB-5D18F7FD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6256-294C-4BA7-91C2-516936015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859C-B841-41FA-83D7-2ED8701B4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35372-37BF-4911-9DE8-A0218EBDF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C8AD-AA6C-409D-81A1-9FFA61D7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CD31-628A-465F-9DC3-5276619E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96A3-D466-4227-B10E-EC58A203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F84E9-1DA4-40FD-8E43-9C8266C3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7205-8DFD-450C-B5DF-D95E5C8D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59EE-817D-4BF7-B115-8EB0597F7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4DAD-3C86-4147-A4EA-6A4F2EB5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C5212-F8B2-481C-BB52-94F85B82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6C5C-9AEF-41AC-BBF1-59FF3E5A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9589-811C-429F-A6ED-DE718AC1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7C1A-621E-46FC-968B-717B5B7D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8972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54040" y="388584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62576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8972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54040" y="4811400"/>
            <a:ext cx="206064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EFF0-4949-4427-A627-2153A911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DE5-84C8-4512-9358-C7FC458D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E8D-072D-4CA1-9A43-2B638E804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ACDC-EE48-4175-90C0-528182F2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72164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72B-E33D-4E4B-86D4-C28479FC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3831-1829-4AAF-9184-E3FB9727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177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5720" y="481140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4CB1-5EC5-4577-A537-60A62977A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576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5720" y="3885840"/>
            <a:ext cx="312336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25760" y="4811400"/>
            <a:ext cx="6400800" cy="8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2BD2-99A2-4420-ACF5-DB13F117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D437-90CC-4CE0-A62B-B1B9FDBC8C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F1EA-35CD-4DA1-AB57-0EDA5CF68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резентација прочитаних текстова и дискусиј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219320" y="3885840"/>
            <a:ext cx="72388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Komunikacija mašina-čovek; čovek-mašina; Marel, H., Čovek i mašine, Nolit, Beograd, 1976. , str. 31-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Analysing Jobs and Work: Casio, F. W., Applied Psychology in Human Resource Management, Prentice Hall, Upper Saddle River, NJ, 1998., pg. 130-1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000" y="60948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12./13./14./10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5:49:20Z</dcterms:created>
  <dc:creator>Ivana</dc:creator>
  <dc:description/>
  <dc:language>en-US</dc:language>
  <cp:lastModifiedBy>Ivana</cp:lastModifiedBy>
  <dcterms:modified xsi:type="dcterms:W3CDTF">2005-10-11T15:51:49Z</dcterms:modified>
  <cp:revision>4</cp:revision>
  <dc:subject/>
  <dc:title>Slide 1</dc:title>
</cp:coreProperties>
</file>