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93F-E19C-44A6-A5E7-260F5F91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68A-5D95-49DE-8D89-BC43B552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EDB-7B76-449B-8ACB-6AD6B1008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CF2-A518-4A44-BB9F-6B2EB1F3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18DC-DD56-4482-81C7-53CB90EF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3EFD-D41C-4C63-A6AD-E575042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D4E1-E218-42DB-AC50-C2118024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8A25-9CA0-4B17-BFCF-AB2EBDDE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5308-E934-4872-80AF-4E046F60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33E7-2C81-4118-991B-35BCA476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63BF-4410-42EC-AB43-AE37BCDC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1E1-22CE-4651-A7BD-0520A3D7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B295-402B-4EDF-8B4B-576BBFE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E6B1-19B9-4DE0-8480-4110F527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F55B-EBD6-455D-90B2-C09EDC72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10EB-AC64-445C-910E-FA0BC408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0DB0-690E-4C39-AB36-7F0784CD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3AC-52EB-4307-B830-678BA4E5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0289-3586-4307-BC38-CC673ADB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B4B-1A17-4618-A602-C457B01B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D62-F24F-4B42-A4D0-D9AF9C43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E56-E3EC-4CB9-A712-F49E9BFC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E4C-86A6-4F4D-BD0C-99D71EB4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949-6DB0-4BB9-BA26-BE0C212C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C84C-0CFC-45AD-9A95-D2BDE53C5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DB81-DBFE-4403-B9C6-7A1B38019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PROFESIONALNA SELEKCIJ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581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odabiranje između većeg broja kandidata onih koji najviše odgovaraju zahtevima određenih po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17400" y="8953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25.10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olazne pretpostavk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stoje značajne razlike u stepenu posedovanja raznih osobina (sposobnosti, interesovanja, motivacije) važnih za uspeh u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stoji značajna povezanost jedne ili više osobina i uspeha kandidata na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oguće je meriti date osobine i uspeh pojedinca na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oguće je odrediti odnos između rezultata postignutih na testu i uspeha na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a osnovu testova i drugih psiholoških instrumenata možemo predviđati radno ponaš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stojanje posla u kojem je ograničen broj radnih mesta i postojanje viška kandidata koji na njih konkuriš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32000" y="1554120"/>
            <a:ext cx="691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 u="sng">
                <a:solidFill>
                  <a:srgbClr val="000000"/>
                </a:solidFill>
                <a:uFillTx/>
                <a:latin typeface="Tahoma"/>
              </a:rPr>
              <a:t>CILJ: ODABRATI NAJSPOSOBNIJE KANDIDATE ZA ODREĐENI POS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Standardni postupak profesionalne selekcij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ANALIZA POSL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 utvrđuju se osobine i sposobnosti potrebne za određeni pos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IZBOR I KONSTRUKCIJA INSTRUMENATA I NJIHOVA PRI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ANALIZA ODNOSA IZMEĐU OSOBINA LIČNOSTI I RADNOG PONAŠ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edviđanje radnog ponašan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42864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- uspešnost selekcije zavisi od povezanosti rezultata dobijenih na instrumentu i stvarnog radnog ponašanja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l-SI" sz="2000" spc="-1" strike="noStrike">
                <a:solidFill>
                  <a:srgbClr val="221304"/>
                </a:solidFill>
                <a:latin typeface="Tahoma"/>
              </a:rPr>
              <a:t>OSOBINE DOBROG KRITERIJUMA: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EPREZENTATIVNOST – reprezentativna mera radnog ponaš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TABILNOST – u različitim vremenskim periodima daje istu meru radnog ponašanja jednog rad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ČISTOĆA – meri samo one efekte radnog ponašanja koji su produkti individualnih karakteristika rad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ISKRIMINATIVNOST – dovoljno jasno diferencira radnike prema uspešnosti na ra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AKTIČNOST – da proizlazi iz stvarne prak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Načini predviđanja radnog ponašan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TATISTIČ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istematsko, algebarsko kombinovanje raspoloživih informacija o kandidat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 njihovo svrstavan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 osnovu rezultata takvog kombin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KLINIČ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ubjektivno procenjivanje ličnost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vezivanje raspoloživih metrijskih i nemetrijskih informacija o kandidatu u jednu celovitu, dinamičku sliku ličnosti i personalnih potencijala kand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Činioci efikasnosti selek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VALJANOST SELEKCIONOG PROGRAM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nivo povezanosti između rezultata ispitivanja kandidata selekcionim mernim instrumentima i njihove stvarne uspešnosti u poslu za koji su odabr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TEŽINA POSL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utiče na efikasnost selekcije s obzirom na činjenicu da se u težim poslovima jasnije diferenciraju uspešni i neuspešni izvrši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ELEKCIONI KOLIČNIK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-  predstavlja proporciju odabranih kandidata u odnosu na grupu prijavljeni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K = BO/BP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ostupci profesionalne selek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557360"/>
            <a:ext cx="373392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LASIČ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EMONSTRACIONI 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UDI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NALIZA RADNE I STRUČNE ISTOR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OBNI 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SAVREMENE MET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HOLISTIČKI PRISTUP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(analiza ponašanja u celi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ANALIZA STVARNOG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PONAŠANJA NA POSLU – STIL RADA I DOSTIGNUĆ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UZORAK 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37:25Z</dcterms:modified>
  <cp:revision>60</cp:revision>
  <dc:subject/>
  <dc:title>OSNOVI PSIHOLOGIJE KAO NAUKE</dc:title>
</cp:coreProperties>
</file>