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type.wav" ContentType="audio/x-wav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239A-56D4-47BF-B1A0-335C6FAA2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7284-9FC3-44D3-B910-3519BCF1F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86B0-718D-4D16-B8AC-8D20EDBCE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1AA5-0EA3-4AAA-B59D-136D8DA95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F0968-D98D-431A-BFC0-D425DACB6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DFB77-020B-496B-A79B-14FD304BC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48761-AD6E-4CBC-83F1-9B1875A9F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9488E-BC08-488C-90B9-409B743B2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A7382-253F-4636-9E3F-5432F9602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8B32A-EBCF-4F44-BCDE-1BCC5F9D6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39640-B9DA-49FD-9501-1C365C9B2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C9B8-7A27-4E3B-B1F0-91405405D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5FB1A-5760-4884-9438-915B6FCFB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855CE-3547-41C9-83C2-A726FCD9D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9414D-FA8A-4909-8B5A-4E87A1C44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BEF1F-D1DE-4DE6-886F-4DD4039AF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447DE-3B93-4D56-B0D6-474A1AF15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8E33-D15D-4980-B1DE-6C8409A52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A363-22AD-4F45-9774-A7B755494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B8C7-C11D-4B9A-B002-86C6B202B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8B91-0D53-4145-A385-F468134AF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F475-A46A-4946-B18B-306682774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ABFF-E379-4582-83B4-4D62EE23E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8794-9600-408C-92DC-36BC123BC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5EB1D-B970-40F1-9355-B55936EE15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312EB-67AB-4718-BD58-69D27ACADD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71280" y="227628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221304"/>
                </a:solidFill>
                <a:latin typeface="Tahoma"/>
              </a:rPr>
              <a:t>LIČNOST, OSOBINE LIČNOSTI I NJIHOVO MERENJ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918840" y="752400"/>
            <a:ext cx="112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04.10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221304"/>
                </a:solidFill>
                <a:latin typeface="Tahoma"/>
              </a:rPr>
              <a:t>Merne karakteristike uspešnog psihološkog testa</a:t>
            </a:r>
            <a:r>
              <a:rPr b="1" lang="sl-SI" sz="4400" spc="-1" strike="noStrike">
                <a:solidFill>
                  <a:srgbClr val="221304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Valjanost (validnost)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– da zaista meri onu osobinu koju ispituje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Pouzdanost (relijabilnost)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– da u ponovljenim merenjima kod iste osobe daje približno isti rezult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Osetljivost (selektivnost, diskriminativnost)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– u stanju da izmeri i male razlike među ljud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Objektivnost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– da svi koji ga primenjuju jednake odgovore jednako ocenjuj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221304"/>
                </a:solidFill>
                <a:latin typeface="Tahoma"/>
              </a:rPr>
              <a:t>Vrste testova prema osobinama koje mere: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TESTOVI ZNA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TESTOVI SPOSOBNOST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</a:rPr>
              <a:t>TESTOVI SENZORNE SPOSOBNOS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</a:rPr>
              <a:t>TESTOVI MOTORNIH SPOSOBNOS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</a:rPr>
              <a:t>TESTOVI INTELEKTUALNIH SPOSOBNOS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TESTOVI LIČNOS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75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75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75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75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75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75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221304"/>
                </a:solidFill>
                <a:latin typeface="Tahoma"/>
              </a:rPr>
              <a:t>OSNOVNE KARAKTERISTIKE PSIHIČKOG ŽIVOTA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ahoma"/>
              </a:rPr>
              <a:t>JEDINST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ahoma"/>
              </a:rPr>
              <a:t>OSOBE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ahoma"/>
              </a:rPr>
              <a:t>DOSLED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360" y="2285640"/>
            <a:ext cx="7543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221304"/>
                </a:solidFill>
                <a:latin typeface="Tahoma"/>
              </a:rPr>
              <a:t>LIČNOST JE JEDINSTVENA ORGANIZACIJA OSOBINA </a:t>
            </a:r>
            <a:br>
              <a:rPr sz="2800"/>
            </a:br>
            <a:r>
              <a:rPr b="1" lang="sl-SI" sz="2800" spc="-1" strike="noStrike">
                <a:solidFill>
                  <a:srgbClr val="221304"/>
                </a:solidFill>
                <a:latin typeface="Tahoma"/>
              </a:rPr>
              <a:t>KOJA SE FORMIRA </a:t>
            </a:r>
            <a:br>
              <a:rPr sz="2800"/>
            </a:br>
            <a:r>
              <a:rPr b="1" lang="sl-SI" sz="2800" spc="-1" strike="noStrike">
                <a:solidFill>
                  <a:srgbClr val="221304"/>
                </a:solidFill>
                <a:latin typeface="Tahoma"/>
              </a:rPr>
              <a:t>UZAJAMNIM DELOVANJEM </a:t>
            </a:r>
            <a:br>
              <a:rPr sz="2800"/>
            </a:br>
            <a:r>
              <a:rPr b="1" lang="sl-SI" sz="2800" spc="-1" strike="noStrike">
                <a:solidFill>
                  <a:srgbClr val="221304"/>
                </a:solidFill>
                <a:latin typeface="Tahoma"/>
              </a:rPr>
              <a:t>JEDINKE I SREDINE </a:t>
            </a:r>
            <a:br>
              <a:rPr sz="2800"/>
            </a:br>
            <a:r>
              <a:rPr b="1" lang="sl-SI" sz="2800" spc="-1" strike="noStrike">
                <a:solidFill>
                  <a:srgbClr val="221304"/>
                </a:solidFill>
                <a:latin typeface="Tahoma"/>
              </a:rPr>
              <a:t>I ODREĐUJE OPŠTI, </a:t>
            </a:r>
            <a:br>
              <a:rPr sz="2800"/>
            </a:br>
            <a:r>
              <a:rPr b="1" lang="sl-SI" sz="2800" spc="-1" strike="noStrike">
                <a:solidFill>
                  <a:srgbClr val="221304"/>
                </a:solidFill>
                <a:latin typeface="Tahoma"/>
              </a:rPr>
              <a:t>ZA POJEDINCA </a:t>
            </a:r>
            <a:br>
              <a:rPr sz="2800"/>
            </a:br>
            <a:r>
              <a:rPr b="1" lang="sl-SI" sz="2800" spc="-1" strike="noStrike">
                <a:solidFill>
                  <a:srgbClr val="221304"/>
                </a:solidFill>
                <a:latin typeface="Tahoma"/>
              </a:rPr>
              <a:t>KARAKTERISTIČNI NAČIN PONAŠANJA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625760" y="4723920"/>
            <a:ext cx="640080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Rot, N., 1975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221304"/>
                </a:solidFill>
                <a:latin typeface="Tahoma"/>
              </a:rPr>
              <a:t>FAKTORI RAZVOJA LIČNOSTI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BIOLOŠKI: nervni i endokrini sistem, telesna konstitu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SOCIJALNI: porodica, grupa vršnjaka, škola, kultura, položaj i uloga, društveni si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AKTIV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75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75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75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221304"/>
                </a:solidFill>
                <a:latin typeface="Tahoma"/>
              </a:rPr>
              <a:t>OSNOVNA RAZDOBLJA PSIHOFIZIČKOG RAZVOJA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Detinjst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Mlad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Zrel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Star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75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75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75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75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121896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221304"/>
                </a:solidFill>
                <a:latin typeface="Tahoma"/>
              </a:rPr>
              <a:t>ZRELA LIČNOST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2895480"/>
            <a:ext cx="723888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ahoma"/>
              </a:rPr>
              <a:t>Unutrašnji skla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ahoma"/>
              </a:rPr>
              <a:t>i jedinstvo u struktur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ahoma"/>
              </a:rPr>
              <a:t>Sklad sa okolin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75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75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75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75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221304"/>
                </a:solidFill>
                <a:latin typeface="Tahoma"/>
              </a:rPr>
              <a:t>Kriterijumi zrele ličnosti: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INTELEKTUALNA ZRELOST – sposobnost kritičkog razmišljanja i zaključivanja i sposobnost samostalnog donošenja odluka i formiranja stavo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EMOCIONALNA ZRELOST – manifestuje se adekvatnim emocionalnim reagovanjem i sposobnošću kontrolisanja sopstvenih osećanja i ponašan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SOCIJALNA ZRELOST – ispoljava se u harmoničnom odnosu ličnosti i socijalne sredine, kroz istovremenu spremnost osobe da sarađuje sa drugima i da samostalno de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221304"/>
                </a:solidFill>
                <a:latin typeface="Tahoma"/>
              </a:rPr>
              <a:t>STRUKTURA LIČNOSTI – OSOBINE LIČNOSTI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</a:rPr>
              <a:t>SPOSOBNOSTI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ahoma"/>
              </a:rPr>
              <a:t>INTELEKTUAL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ahoma"/>
              </a:rPr>
              <a:t>PSIHOSENZOR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ahoma"/>
              </a:rPr>
              <a:t>PSIHOMOTOR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</a:rPr>
              <a:t>TEMPERAMEN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ahoma"/>
              </a:rPr>
              <a:t>KOLERIČK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ahoma"/>
              </a:rPr>
              <a:t>SANGVINIČK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8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ahoma"/>
              </a:rPr>
              <a:t>FLEGMATIČK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9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ahoma"/>
              </a:rPr>
              <a:t>MELANHOLIČK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</a:rPr>
              <a:t>KARAK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ahoma"/>
              </a:rPr>
              <a:t>FIZIČKA KONSTITUCI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87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11426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221304"/>
                </a:solidFill>
                <a:latin typeface="Tahoma"/>
              </a:rPr>
              <a:t>MERENJE OSOBINA LIČNOSTI – PSIHOLOŠKI TESTOVI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676520" y="2895120"/>
            <a:ext cx="6400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PSIHOLOŠKI TESTOVI SU MERNI INSTRUMENTI ZA MERENJE OSOBINA LIČNOST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ahoma"/>
              </a:rPr>
              <a:t>TO SU POSEBNIM POSTUPKOM IZABRANI ZADACI KOJIMA SE IZAZIVAJU UZORCI PONAŠANJA NA OSNOVU KOJIH SE ZAKLJUČUJE O OSOBINAMA TESTIRANE OSOBE, ODNOSNO O RAZVIJENOSTI ISPITIVANE OSOBI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8T08:51:04Z</dcterms:created>
  <dc:creator>IVANA</dc:creator>
  <dc:description/>
  <dc:language>en-US</dc:language>
  <cp:lastModifiedBy>Ivana</cp:lastModifiedBy>
  <dcterms:modified xsi:type="dcterms:W3CDTF">2005-10-11T16:26:56Z</dcterms:modified>
  <cp:revision>59</cp:revision>
  <dc:subject/>
  <dc:title>OSNOVI PSIHOLOGIJE KAO NAUKE</dc:title>
</cp:coreProperties>
</file>