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jpeg" ContentType="image/jpeg"/>
  <Override PartName="/ppt/media/image3.wmf" ContentType="image/x-wmf"/>
  <Override PartName="/ppt/media/image4.png" ContentType="image/png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8F27-892E-402A-80CE-187802B7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8999-B2A2-4D36-9A9E-97AE0D69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5133-F81E-42D0-88DB-9CAD00F8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F572-7F37-4E11-9540-625CA65F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834B-D15B-45F7-B440-1CE29375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6CEDE-E3A2-4E96-81F2-8E8C1194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ED6D-4E27-4E6A-A870-21AEAFEC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40D8-F487-4F70-9714-E8253A63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7FA0-2AA8-4609-ACCA-CEC5FD45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5907-977F-43BA-B092-13C9D4E8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354F-17DA-4193-BBFF-4DB754A8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5A74-FF7A-4A72-9891-4E3FCA4C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3ED6-4625-4379-BF5B-40AACF7B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E259-4409-408D-9E8F-49895A6D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6226-EA1B-406D-9879-3ADC4DA1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4B07-B864-44C8-9B79-68A3B7FA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1E8D-321F-42B0-88BD-998F31EA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6A9A-219B-4F66-AB10-F1FBB795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4601-93AB-4183-A5A6-91F57E5C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EA56-994B-4E56-A927-D84F03E5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5919-A1F6-4B9F-AF1A-77CBFDD6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0193-7411-4EEA-A69D-DE7B105F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DF0F-8419-484C-A5E5-3F60C0A8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3249-91C4-4199-82B3-601C40CE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8778-736E-4443-94CC-72BF24B40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9616-AB6F-4355-878E-F36637430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206028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221304"/>
                </a:solidFill>
                <a:latin typeface="Tahoma"/>
              </a:rPr>
              <a:t>RADNA ADAPTACIJA</a:t>
            </a:r>
            <a:br>
              <a:rPr sz="4400"/>
            </a:b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- prilagođavanje radnika radu </a:t>
            </a:r>
            <a:br>
              <a:rPr sz="3200"/>
            </a:b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i rada radniku -</a:t>
            </a:r>
            <a:r>
              <a:rPr b="1" lang="sl-SI" sz="4400" spc="-1" strike="noStrike">
                <a:solidFill>
                  <a:srgbClr val="221304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00200" y="4365360"/>
            <a:ext cx="6400800" cy="12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CILJ: OSTVARITI OPTIMALNI ODNOS ČOVEKA I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61760" y="89532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01.11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PRILAGOĐAVANJE RADNIKA RADU</a:t>
            </a:r>
            <a:br>
              <a:rPr sz="3200"/>
            </a:br>
            <a:r>
              <a:rPr b="0" lang="sl-SI" sz="2000" spc="-1" strike="noStrike">
                <a:solidFill>
                  <a:srgbClr val="221304"/>
                </a:solidFill>
                <a:latin typeface="Tahoma"/>
              </a:rPr>
              <a:t>- dinamički proces prilagođavanja i usklađivanja čoveka i rada, radne grupe i organizacije -</a:t>
            </a: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ROFESIONALNA ADAPT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roces sticanja i razvijanja profesionalnih, stručnih znanja i veštin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formiran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nekih osobina ličnosti neophodnih za uspešno obavljanje datog posla – PRILAGOĐENOST NA SADRŽAJ POS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ORGANIZACIONA ADAPT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KOMPON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Kognitivna: proces komunika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Konativna: aktivna uključenost i doprinos kolektiv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Emotivna: pozitivni stavovi, naklo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Parcijalni pokazatelji organizacione (sociopsihološke) adaptacije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Mišljenje i zadovoljstvo pojedinca neposrednim rukovodiocem i saradnic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Mišljenje i zadovoljstvo radnika o odnosima u grupi i organizaci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Mišljenje i zadovoljstvo radnika svojim sopstvenim položajem i ugledom u grupi i kolektiv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Mišljenje radnika o tome kako se drugi radnici i rukovodioci odnose i ponašaju prema nje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Izolovanost, stalni nesporazumi i sukobi pojedinca sa socijalnom sredinom, pozitivno mišljenje i stavovi radnika o odnosima među ljudima, njegova uključenost u socijalnu sredinu, i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Problemi prilagođavanja</a:t>
            </a:r>
            <a:br>
              <a:rPr sz="3200"/>
            </a:b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- frustracije i konflikti -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FRUSTR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uzroci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Fizičke prir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Socijalne prir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U samoj lič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KONFLIKTI</a:t>
            </a:r>
            <a:br>
              <a:rPr sz="2800"/>
            </a:br>
            <a:r>
              <a:rPr b="1" lang="sl-SI" sz="2400" spc="-1" strike="noStrike">
                <a:solidFill>
                  <a:srgbClr val="221304"/>
                </a:solidFill>
                <a:latin typeface="Tahoma"/>
              </a:rPr>
              <a:t>- osujećenja koja nastaju u samoj ličnosti -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KONFLIKT DVOSTRUKOG PRIVLAČ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KONFLIKT DVOSTRUKOG ODBIJ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KONFLIKT AMBIVALENT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950000" y="1746360"/>
          <a:ext cx="3781080" cy="432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0000" y="1746360"/>
                    <a:ext cx="3781080" cy="43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Reakcije na frustracije i konflikte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REALISTIČ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Kada postoji napor da se prepreka sav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ODBRAMBENI MEHANIZ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Kada se nastoji da se ublaži prepre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Odbrambeni mehanizmi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RACIONALIZACIJA</a:t>
            </a: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 –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potiskivanje pravog razloga ponašanja i pronalaženje “prihvatljivijeg” objašnjenja za ponašanje (“kiselo grožđe”, “sladak limun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IDENTIFIKACIJA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strah ili neuspeh se ublažavaju poistovećivanjem sa drugom osobom ili grup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PROJEKCIJA –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pripisivanje neprihvatljivih sadržaja drugim osob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23920" y="17524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00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REPRESIJA -  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neprijatni i uznemirujući sadržaji se potiskuju iz svesti i postaju deo nesvesn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REGRESIJA 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– bežanje odnosno spuštanje na niže nivoe ponašanja i način karakterističan za ranije uzra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REAKCIONA FORMACIJA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 – najpre se nedozvoljeni sadržaji istiskuju iz svesti, a zatim se manifestuje ponašanje koje je sasvim suprot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SUBLIMACIJA 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– sirovi i neprihvatljivi nagoni se transformišu u socijalno poželjne, prihvatljive i cenjene mo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75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75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75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75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75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75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75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PRILAGOĐAVANJE RADA RADNIKU</a:t>
            </a:r>
            <a:br>
              <a:rPr sz="3200"/>
            </a:br>
            <a:r>
              <a:rPr b="1" lang="sl-SI" sz="2000" spc="-1" strike="noStrike">
                <a:solidFill>
                  <a:srgbClr val="221304"/>
                </a:solidFill>
                <a:latin typeface="Tahoma"/>
              </a:rPr>
              <a:t>- polazi se od čoveka i sredstva, uslovi rada, postupci i radna sredina se menjaju prema njegovim karakteristikama -</a:t>
            </a:r>
            <a:r>
              <a:rPr b="1" lang="sl-SI" sz="2400" spc="-1" strike="noStrike">
                <a:solidFill>
                  <a:srgbClr val="221304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METODE TEHNOPSIHOFIZIOLOGIJE 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Sistematsko praćenje operativnog sistema čovek – 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rikupljanje uzoraka radnih zadat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Eksperimentalno ispitivanje tehničkih uslova na radne efekte i ponašanje rad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Studija pokreta i vrem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roučavanje profesionalnih oboljenja i povreda na ra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Faktori radne adaptacije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Mikroklimatski uslovi rada (vlažnost, osvetljenje, toplota, isparenja, buka, vibracije t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Uređenje radnog ambij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Opšte karakteristike rada čove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roblemi zamora u ra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Odmor i značaj odmar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Monotonija u ra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08:51:04Z</dcterms:created>
  <dc:creator>IVANA</dc:creator>
  <dc:description/>
  <dc:language>en-US</dc:language>
  <cp:lastModifiedBy>Ivana</cp:lastModifiedBy>
  <dcterms:modified xsi:type="dcterms:W3CDTF">2005-10-11T16:39:35Z</dcterms:modified>
  <cp:revision>58</cp:revision>
  <dc:subject/>
  <dc:title>OSNOVI PSIHOLOGIJE KAO NAUKE</dc:title>
</cp:coreProperties>
</file>