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359-E04D-4A6D-BE4A-2A50073F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3440-B40B-486C-A0D1-E0E46F72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16C-9CB5-4E27-9853-592FD026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101-EA4B-4205-84EC-EC1CF929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5711-5EB6-4370-A404-D6173344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0755-CEA9-4B5B-A499-9C3AD639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2C40-26FB-42B9-BD0B-046F8B68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B906-184D-428A-8104-27A20706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1EAA-218A-43CF-A684-32E471B1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2BC3-8DCF-46F7-B3B0-5B36998D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EA00-7E56-43BC-A849-E536A708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F53-C0D8-4401-8217-DC01EC08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9EDD-D78D-4B42-BFFA-DF4DA15A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9EFF-91E0-4CEB-97A5-8281A65B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E6AD-452C-4439-B1A7-CECBABDF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50EB-780C-463C-BF3E-B3EAFB75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B1EF-2D10-4B56-A4F4-0E5804DE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4E3E-8C61-42F0-A98B-D7B67A08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E622-5E04-4943-8DA7-7169C4A0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76E5-A6E4-41FE-963C-E89E54CC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CD59-B148-4EC8-A03C-44DC3597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D7C-0BBF-47DC-B16F-5347A919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04C7-7F91-43BF-8D3A-E299FA51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CC57-50E5-414F-B83A-F92687DA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F21C-46B9-4354-851E-B83E116FD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D0F7-3F45-4913-AD02-58CDFA592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audio" Target="../media/carbrake.wav"/><Relationship Id="rId11" Type="http://schemas.openxmlformats.org/officeDocument/2006/relationships/audio" Target="../media/carbrake.wav"/><Relationship Id="rId12" Type="http://schemas.openxmlformats.org/officeDocument/2006/relationships/audio" Target="../media/carbrake.wav"/><Relationship Id="rId13" Type="http://schemas.openxmlformats.org/officeDocument/2006/relationships/audio" Target="../media/carbrake.wav"/><Relationship Id="rId1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676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221304"/>
                </a:solidFill>
                <a:latin typeface="Tahoma"/>
              </a:rPr>
              <a:t>APSENTIZ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34286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NEPLANIRANO, SAMOINICIJATIVNO ODSUSTVOVANJE RADNIKA S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72680" y="96840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08.11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VRSTE IZOSTANAK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Tahoma"/>
              </a:rPr>
              <a:t>PREMA TRAJAN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U toku radnog vrem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Jednodnev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Višednev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Tahoma"/>
              </a:rPr>
              <a:t>PREMA UZRO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Opravd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Neopravd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Uzroci apsentizm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Demografsko-socijalne karakterist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P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Star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Obrazovni n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Položaj u organizaci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Porodična odgovor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5288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sobenosti pos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Smenski r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Veličina radne gru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Loši radni uslo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OKAZATELJI APSENTIZM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Tahoma"/>
              </a:rPr>
              <a:t>INDEKS GLOBALNOG APSENTIZ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(frekvenci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Prosečan broj izostanaka na hiljadu radnika u toku jednog vremenskog peri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IGA = BI/BRx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Tahoma"/>
              </a:rPr>
              <a:t>INDEKS GUBIT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Prosečan broj izgubljenih radnih dana po jednom radniku tokom određenog vremenskog perio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IG = ID/BRx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221304"/>
                </a:solidFill>
                <a:latin typeface="Tahoma"/>
              </a:rPr>
              <a:t>FLUKTUACIJA RADNIK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28800" y="24382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NEPLANIRANO I NEORGANIZOVANO KRETANJE RADNE SNAGE IZMEĐU ORGANIZACIJA, DELOVA PREDUZEĆA ILI GR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ODRAZUMEVA TRI ASPEK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RGANIZAC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(INDIVIDUALNO) PSIHOLOŠ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EKONOM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OBLICI FLUKTUACIJE RADNIK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 u="sng">
                <a:solidFill>
                  <a:srgbClr val="000000"/>
                </a:solidFill>
                <a:uFillTx/>
                <a:latin typeface="Tahoma"/>
              </a:rPr>
              <a:t>POTENCIJAL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proces postepenog povećavanja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nezadovoljstva poslom i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organizacijom i sazrevanje odluke da se ona napus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Stanje koje je prognostički valida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pokazatelj realizovane fluktua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 u="sng">
                <a:solidFill>
                  <a:srgbClr val="000000"/>
                </a:solidFill>
                <a:uFillTx/>
                <a:latin typeface="Tahoma"/>
              </a:rPr>
              <a:t>Pokazatelj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Proporcija između radnika sa negativnim stavom (nezadovoljstvo i spremnost da se napusti organizacij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i ukupnog broja radni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PF = 1 –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(0</a:t>
            </a: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) +(1</a:t>
            </a: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) + (2</a:t>
            </a: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/2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Tahoma"/>
              </a:rPr>
              <a:t>REALIZOVANA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INTERNA FLUKTUACIJA – odlazak na drugo radno m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KSTERNA FLUKTUACIJA 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– napuštanje organiza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 u="sng">
                <a:solidFill>
                  <a:srgbClr val="000000"/>
                </a:solidFill>
                <a:uFillTx/>
                <a:latin typeface="Tahoma"/>
              </a:rPr>
              <a:t>Pokazatelj: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Proporcija između broja odlazaka i broja zaposlen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F = O/P</a:t>
            </a: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1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6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1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6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1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1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Uzroci fluktuacije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Opštedruštveni činioci -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nejednaka ekonomska i tehnološka nerazvijenost regi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Organizacioni činioci – 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ekonomska situacija i perspektive organiza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Činioci posla – 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vrsta, težina i složenost posla,uslovi rada, rizici i odgovornost, zarada i mogućnost napredovanja, rukovođe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Lični činioci – 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starost, pol, bračno stanje, udaljenost mesta stanovanja, crte ličnosti i tendencije u ponašanj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08:51:04Z</dcterms:created>
  <dc:creator>IVANA</dc:creator>
  <dc:description/>
  <dc:language>en-US</dc:language>
  <cp:lastModifiedBy>Ivana</cp:lastModifiedBy>
  <dcterms:modified xsi:type="dcterms:W3CDTF">2005-10-11T16:41:18Z</dcterms:modified>
  <cp:revision>58</cp:revision>
  <dc:subject/>
  <dc:title>OSNOVI PSIHOLOGIJE KAO NAUKE</dc:title>
</cp:coreProperties>
</file>