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718-5D4D-4CB7-B8D2-12CFFC23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3FE-18E7-47FB-8783-D3F28550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431-8A73-4022-A17A-A6001E1C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167-61B9-484F-9141-579D03BE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08FA-EE62-4845-AFCB-417C6D55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E444-91CE-4211-B96A-63E83B06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2FF3-D8B1-48BF-9582-CC310C06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E413-49B2-4C7A-B48E-5CF0C702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DD32-37B3-4067-A4F2-50CC49FC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9FAB-3D5E-43A4-88D5-DDEDC18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5509-47BD-47BB-8613-DEDDBFEC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A5C-94B9-4A0C-82F7-2E5272A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713E-970B-4EA5-9313-3F39F477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C8A5-7FC4-4C98-82A2-768255B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FE86-E371-428F-9610-8F72244E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D367-A9BE-4817-B4C0-A7B84917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64C7-54AF-4FF2-9713-E0D765532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1B3-183A-446A-9FAA-C257F1B4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6A4-F10C-4EBD-8169-B43C80D1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0DE-109E-4509-B95F-E312268B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2A2-FC07-4C10-9C25-9500BD16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077-3A22-443E-8F46-5E35EA7A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97A-C3A5-4421-B5EA-4A5C1E1D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E25-0567-4DB6-9024-FE7FF99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012-AAC7-473B-8364-E6518623C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3C59-6A6A-4259-AA5B-212DF6FBB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221304"/>
                </a:solidFill>
                <a:latin typeface="Tahoma"/>
              </a:rPr>
              <a:t>ANALIZA POSL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47640" y="32842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istematski postupak utvrđivanja PRIRODE I SADRŽAJA POS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zadat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duž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dgovor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SLOVA I METODA R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ao i PSIHOFIZIČKIH OSOBINA koje posao zaht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1400" y="82404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11.10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7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7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Osnovne pretpostavke analize posla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aki posao se može raščlaniti na niz radnih postupaka i operacija koje se mogu opisati i kvantifikova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učeni ljudi mogu da utvrde te elemente i na osnovu njih zahteve tih posl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lovi se međusobno razlikuju te ih stoga treba analizi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METODOLOŠKI PRISTUP ANALIZI POSL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Analiza posla traži odgovore na sledeća pitan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Šta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radnik radi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ako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to radi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d kojim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uslov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oje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osobine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posao zahteva od radnika –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akav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radnik treba da bude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75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75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221304"/>
                </a:solidFill>
                <a:latin typeface="Tahoma"/>
              </a:rPr>
              <a:t>PREDMET ANALIZE POSLA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33847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 pokr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a oper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 zadata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s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o m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Zanim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360" y="21337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dentifikacioni pod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edmet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redstva za 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aterij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ačin 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ložaji i aktiv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slovi rada i radne sred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75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75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75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75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75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ZAHTEVI POSLA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060560" y="2395440"/>
            <a:ext cx="7560720" cy="1828800"/>
            <a:chOff x="1060560" y="2395440"/>
            <a:chExt cx="7560720" cy="1828800"/>
          </a:xfrm>
        </p:grpSpPr>
        <p:cxnSp>
          <p:nvCxnSpPr>
            <p:cNvPr id="102" name="_s96282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7300800" y="3008520"/>
              <a:ext cx="229320" cy="128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96280"/>
            <p:cNvCxnSpPr>
              <a:stCxn id="106" idx="0"/>
              <a:endCxn id="104" idx="2"/>
            </p:cNvCxnSpPr>
            <p:nvPr/>
          </p:nvCxnSpPr>
          <p:spPr>
            <a:xfrm flipV="1">
              <a:off x="6771960" y="35377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96278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6013800" y="3008520"/>
              <a:ext cx="229320" cy="128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96276"/>
            <p:cNvCxnSpPr>
              <a:stCxn id="110" idx="0"/>
              <a:endCxn id="111" idx="2"/>
            </p:cNvCxnSpPr>
            <p:nvPr/>
          </p:nvCxnSpPr>
          <p:spPr>
            <a:xfrm flipV="1" rot="16200000">
              <a:off x="3439440" y="3007440"/>
              <a:ext cx="229320" cy="1289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96274"/>
            <p:cNvCxnSpPr>
              <a:stCxn id="113" idx="0"/>
              <a:endCxn id="111" idx="2"/>
            </p:cNvCxnSpPr>
            <p:nvPr/>
          </p:nvCxnSpPr>
          <p:spPr>
            <a:xfrm flipV="1" rot="16200000">
              <a:off x="2795400" y="3651480"/>
              <a:ext cx="229320" cy="1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96272"/>
            <p:cNvCxnSpPr>
              <a:stCxn id="115" idx="0"/>
              <a:endCxn id="111" idx="2"/>
            </p:cNvCxnSpPr>
            <p:nvPr/>
          </p:nvCxnSpPr>
          <p:spPr>
            <a:xfrm flipH="1" flipV="1" rot="5400000">
              <a:off x="2152080" y="3009240"/>
              <a:ext cx="229320" cy="1286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96270"/>
            <p:cNvCxnSpPr>
              <a:stCxn id="104" idx="0"/>
              <a:endCxn id="117" idx="2"/>
            </p:cNvCxnSpPr>
            <p:nvPr/>
          </p:nvCxnSpPr>
          <p:spPr>
            <a:xfrm flipV="1" rot="16200000">
              <a:off x="5691960" y="2001240"/>
              <a:ext cx="229320" cy="193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96268"/>
            <p:cNvCxnSpPr>
              <a:stCxn id="111" idx="0"/>
              <a:endCxn id="117" idx="2"/>
            </p:cNvCxnSpPr>
            <p:nvPr/>
          </p:nvCxnSpPr>
          <p:spPr>
            <a:xfrm flipH="1" flipV="1" rot="5400000">
              <a:off x="3761280" y="2000160"/>
              <a:ext cx="229320" cy="193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96264"/>
            <p:cNvSpPr/>
            <p:nvPr/>
          </p:nvSpPr>
          <p:spPr>
            <a:xfrm>
              <a:off x="4051080" y="2395440"/>
              <a:ext cx="1580760" cy="457200"/>
            </a:xfrm>
            <a:prstGeom prst="roundRect">
              <a:avLst>
                <a:gd name="adj" fmla="val 16667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221304"/>
                  </a:solidFill>
                  <a:latin typeface="Tahoma"/>
                </a:rPr>
                <a:t>ZAHTEVI POS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96265"/>
            <p:cNvSpPr/>
            <p:nvPr/>
          </p:nvSpPr>
          <p:spPr>
            <a:xfrm>
              <a:off x="2426040" y="3081240"/>
              <a:ext cx="968400" cy="4572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221304"/>
                  </a:solidFill>
                  <a:latin typeface="Tahoma"/>
                </a:rPr>
                <a:t>VRS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96267"/>
            <p:cNvSpPr/>
            <p:nvPr/>
          </p:nvSpPr>
          <p:spPr>
            <a:xfrm>
              <a:off x="6287400" y="3081240"/>
              <a:ext cx="968400" cy="4572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221304"/>
                  </a:solidFill>
                  <a:latin typeface="Tahoma"/>
                </a:rPr>
                <a:t>NIVO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96271"/>
            <p:cNvSpPr/>
            <p:nvPr/>
          </p:nvSpPr>
          <p:spPr>
            <a:xfrm>
              <a:off x="106056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STRUČ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96273"/>
            <p:cNvSpPr/>
            <p:nvPr/>
          </p:nvSpPr>
          <p:spPr>
            <a:xfrm>
              <a:off x="234756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100" spc="-1" strike="noStrike">
                  <a:solidFill>
                    <a:srgbClr val="221304"/>
                  </a:solidFill>
                  <a:latin typeface="Tahoma"/>
                </a:rPr>
                <a:t>BIOFIZIOLOŠKI</a:t>
              </a: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96275"/>
            <p:cNvSpPr/>
            <p:nvPr/>
          </p:nvSpPr>
          <p:spPr>
            <a:xfrm>
              <a:off x="363456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PSIHOLOŠKI</a:t>
              </a: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96277"/>
            <p:cNvSpPr/>
            <p:nvPr/>
          </p:nvSpPr>
          <p:spPr>
            <a:xfrm>
              <a:off x="492192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KRITIČ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_s96279"/>
            <p:cNvSpPr/>
            <p:nvPr/>
          </p:nvSpPr>
          <p:spPr>
            <a:xfrm>
              <a:off x="6208920" y="3767040"/>
              <a:ext cx="1125000" cy="4572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400" spc="-1" strike="noStrike">
                  <a:solidFill>
                    <a:srgbClr val="221304"/>
                  </a:solidFill>
                  <a:latin typeface="Tahoma"/>
                </a:rPr>
                <a:t>OPTIMALN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96281"/>
            <p:cNvSpPr/>
            <p:nvPr/>
          </p:nvSpPr>
          <p:spPr>
            <a:xfrm>
              <a:off x="7495920" y="3767040"/>
              <a:ext cx="1125360" cy="4572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240" rIns="66240" tIns="33120" bIns="33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221304"/>
                  </a:solidFill>
                  <a:latin typeface="Tahoma"/>
                </a:rPr>
                <a:t>MAKSIMALN</a:t>
              </a:r>
              <a:r>
                <a:rPr b="0" lang="sr-Latn-CS" sz="900" spc="-1" strike="noStrike">
                  <a:solidFill>
                    <a:srgbClr val="221304"/>
                  </a:solidFill>
                  <a:latin typeface="Tahoma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221304"/>
                </a:solidFill>
                <a:latin typeface="Tahoma"/>
              </a:rPr>
              <a:t>PRIMENA ANALIZE POSLA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lasifikacija i organizacija po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rofesionalna orij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Profesionalna selek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Utvrđivanje programa obuč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Stvaranje boljih uslov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08:51:04Z</dcterms:created>
  <dc:creator>IVANA</dc:creator>
  <dc:description/>
  <dc:language>en-US</dc:language>
  <cp:lastModifiedBy>Ivana</cp:lastModifiedBy>
  <dcterms:modified xsi:type="dcterms:W3CDTF">2005-10-11T16:29:42Z</dcterms:modified>
  <cp:revision>58</cp:revision>
  <dc:subject/>
  <dc:title>OSNOVI PSIHOLOGIJE KAO NAUKE</dc:title>
</cp:coreProperties>
</file>