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8F9-4539-4087-B970-A09A54FD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AC7-4E96-4E04-B044-01FA6CFE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8DB-07D6-4D20-A6DB-CCA09322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352-C93E-4831-B5EE-10D5326FC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4D0A-8C08-4D9D-9533-3B78ED01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77D0-FD7E-4BAD-83D4-81A10F8B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1B74-5700-4024-8EDB-EC4C9A45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480A-7E12-4FB0-82A1-591C3092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A6FA-2227-4621-8470-FA65B9C7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FAD6-D08B-436D-91A2-059D68AA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AF3B-0485-4A11-82CF-EE93B8CF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814-EADC-4BC7-85C9-472B6F76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F7FD-3869-4634-B660-20A07BA5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40E7-DA83-4928-98BA-37DD7B7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2580-8F81-4218-8D0C-60004D1E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6685-D029-477B-8657-ED16F5B2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6C72-5908-4207-A88B-FA239B1C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818-31A6-4C21-81DD-9C97FDC5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84A-1DDE-47E5-827F-EFCB8D36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7AE-096D-4B65-80B8-03B31493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404-AE18-48DB-A66B-9373D75D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5BEB-CAFB-41C5-B6AB-DE93EAD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8BE-EAF0-44A1-81A5-FBB4CB40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4AA4-CC96-465D-88FB-BDA54A05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7AA1-8749-4320-9FE4-F95D3A57E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895F-5AE1-45AD-A4F5-F7D562433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PROFESIONALNA ORIJENTACIJA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9280" y="3789000"/>
            <a:ext cx="6400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NALAŽENJE U ZANIMANJIM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61760" y="82404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18.10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Ginzberg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zbor zanimanja je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reverzibilni proces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koji je posledica niza odluka o budućem zanim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vaka etapa tog procesa je u najvećoj meri određena prethodnim i utiče na sve kasnije odlu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reverzibilnost procesa je posledica zavisnosti odluka o budućem zanimanju od uzrasta i razvoja pojedinca – razvojan proces povezan sa procesom matur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azlikuju se tri etape u izboru zaniman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eriod “fantazije” (6 – 11 god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eriod “pokušaja” (12 – 17 god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Period “realizma” (od 17 god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vaka pojedinačna odluka je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mpromis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zmeđu individualnih i socijalnih fakto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mbicija i potencij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6320" indent="-33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ogućnosti sredine i ambi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Holand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zbor poziva je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odraz (ekspresija) lič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Inventari interesa su inventari lič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Stereotipije o profesijama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imaju dosledna i važna sociološka i psihološka zna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ripadnici neke profesije imaju slične ličnosti i slične istorije razvo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Stoga će odgovarati na situacije i probleme na sličan način i razviće karakterističnu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interpersonalnu sredi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rofesionalna satisfakcija, stabilnost i postignuće zavise od 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sklada između ličnosti i radne sred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Naše znanje iz profesionalnog života je dezorganizovano i često izolovano od najglavnijih dela psihološkog i sociološkog zn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inventari profesionalnih preferencija”</a:t>
            </a: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dominantan tip i postipovi: “primarna usmerenost” – jedna od šest glavnih grupa zanimanja  (funkcija odgovarajućeg modela ličnosti) i “sekundarna usmerenost” – odabrano zanimanje unutar jedne od glavnih gru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Tipovi ličnosti i sredine: realistični, intelektualni, umetnički, socijalni, konvencionalni, preduzimlj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Super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560" y="1752480"/>
            <a:ext cx="764388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teorija životnog model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Predviđanje i razumevanje budućeg ponašanja neke osobe može se predvideti samo poznavanjem i razumevanjem ponašanja i životnih uslova te osobe u prošlos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Veliki značaj se pridaje individualnim razlikama, jer svako zanimanje postavlja specifične zahteve u odnosu na konkretnu oso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Idiografski pristup – istorija sluč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metoda životne istorije” ili 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“tematska ekstrapolativna metoda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” –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oblik kliničkog predviđanja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redina, zanimanja i ljudi se tokom vremena menj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Profesionalni razvoj je samo jedan aspekt opšteg razvoja ličnosti, a izbor je upotpunjavanje slike o se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Kompromis između individualnih i socijalnih faktora, pojma o sebi i real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Hopok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6286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Integracij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više teorija sa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aktičnim ciljem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omoći savetodavcu u razumevanju kandi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zbor zanimanja je određen potrebama i predstavlja seriju izb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snovna pomoć kandidatu je u razumevanju samog s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 pojam o sebi uključiti ne samo sposobnosti i interese već i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unutrašnju motivaciju – “totalna slika kandida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Karakteristike izbora zaniman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Razvojni pro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Kontinuiran pro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reverzibilan pro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odrazumeva niz odlu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Uz rastući stepen realiz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23920" y="17524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sključivost (ekskluzivnost) – proces izbora progresivno smanjuje broj altern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Nema oštre distinkcije između profesionalnog izbora i profesionalne adapta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75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75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75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75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75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75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221304"/>
                </a:solidFill>
                <a:latin typeface="Tahoma"/>
              </a:rPr>
              <a:t>PROCES ELIMINACIJE U PROFESIONALNOM IZBORU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8480" y="1747800"/>
          <a:ext cx="8499240" cy="439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8480" y="1747800"/>
                    <a:ext cx="849924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Dimenzije procesa profesionalnog izbor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IJENTACIJA NA IZBOR –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ečišćavanje profesionalnog koncepta o s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VEĆANJE PROFESIONALNE INFORMISANOST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- progresvno smanjenje mašte i fantaz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 ZAVISNOST-NEZAVIS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VEZIVANJE SREDSTAVA I CI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ZADACI</a:t>
            </a:r>
            <a:br>
              <a:rPr sz="3200"/>
            </a:br>
            <a:r>
              <a:rPr b="0" lang="sl-SI" sz="3200" spc="-1" strike="noStrike">
                <a:solidFill>
                  <a:srgbClr val="221304"/>
                </a:solidFill>
                <a:latin typeface="Tahoma"/>
              </a:rPr>
              <a:t>profesionalne orijenta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o informisanje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poznavanje pojedinca sa svetom zanim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Analiza pojedinc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moć pri upoznavanju sopstvenih mogućnosti i interes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o savetovanje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 pomoć pri usklađivanju svojih sposobnosti i interesovanja sa zahtevima i odlikama profes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o praćenj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praćenje adaptacije pojedinca za zanimanje i evaluacija postupka profesionalnog izbo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71640" y="1125360"/>
            <a:ext cx="76197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U UŽEM SMISLU: čin davanja i prihvatanja saveta pri izboru budućeg zanim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U ŠIREM SMISLU: organizovana društvena aktivnost koja se sastoji u pružanju pomoći pojedincu pri izboru zanimanja i stručnom osposobljavanju, kvalifikaciji i zapošljavanju uopšte.</a:t>
            </a: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(Bujas, Z., 1959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CILJEVI</a:t>
            </a:r>
            <a:r>
              <a:rPr b="0" lang="sl-SI" sz="3200" spc="-1" strike="noStrike">
                <a:solidFill>
                  <a:srgbClr val="221304"/>
                </a:solidFill>
                <a:latin typeface="Tahoma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221304"/>
                </a:solidFill>
                <a:latin typeface="Tahoma"/>
              </a:rPr>
              <a:t>profesionalne orijentacij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DRUŠTVO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ršenje smišljene raspodele ljudi po zanimanjima i struk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RGANIZACIJ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dovođenje najsposobnijih radnika za određeno zanim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JEDINAC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– usmeravanje ka zanimanju koje odgovara njegovim sposobnostima i sklono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TEORIJE IZBORA ZANIMANJA</a:t>
            </a:r>
            <a:br>
              <a:rPr sz="3200"/>
            </a:br>
            <a:r>
              <a:rPr b="0" lang="sl-SI" sz="2000" spc="-1" strike="noStrike">
                <a:solidFill>
                  <a:srgbClr val="221304"/>
                </a:solidFill>
                <a:latin typeface="Tahoma"/>
              </a:rPr>
              <a:t>(ekonomski, sociološki, edukacioni i psihološki pristup)</a:t>
            </a: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Karter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Bordin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Forer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Šafer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Ginzberg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Holand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Super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Hopokova te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Karter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84836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snovana na nalazima empirijskih istraži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esudan značaj imaju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rofesionalna interesov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li na njihov razvoj utiču i unutrašnji i spoljašnji fak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fesionalni ciljevi i interesi se formiraju identifikacijom sa nekom bližom socijalnom grup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stiče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adaptacioni karakter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tavova i interesa koji se razvijaju  sa ciljem prilagođavanja aktuelnoj socijalnoj i fizičkoj sred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Osobenost individue, njene sposobnosti, interesi, motivi u koakciji sa fizičkom i socijalnom sredinom određuju okvir budućeg zanim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U slučaju prepreke ili nesklada između osobe i zahteva zanimanja najčešće dolazi do preorijentacije na neku drugu grupu zanim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Kritika (Strong): ne menja svaka prepreka cilj i ne stiže se samo do onih zanimanja do kojih je najlakše stić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Bordin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estovni i inventarisani interesi” – metodološki postup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Glavni pokretači ka zanimanju su “profesionalne aspiracij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Aspiracije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(interesi) – derivati ličnosti koji nastaju i menjaju se u zavisnosti od stepena poznavanja i prihvatanja izvesne stereotipne slike zanimanja koja je prisutna u sredini kao i slike o vlastitoj ličnosti (autosli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ritika: prenaglašavanje značaja interesa i njihovo shvatanje kao produkta lič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Forer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5905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zbor zanimanja leži u “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emotivnim potrebam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zbor zanimanja se odvija u sferi nesvesn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o je impulsivan, emocionalan i automatski pro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soba koja bira poziv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nije svesn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motiva koji je pokreću ka tom zanim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ritika: da bi se prema nekom zanimanju razvila pozitivna ili negativna emocionalna tendencija, neophodno je, bar minimalno, poznavanje na kognitivnom pla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Šaferova teori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teorija potreba”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po kojoj izbor zanimanja zavisi od stepena u kom određeno zanimanje može da zadovolji najvažnije potrebe i mo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snovana na istraživanjima u kojima je dobijena korelaciona veza između opšteg zadovoljstva poslom i zadovoljenja osnovnih potre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Lista od </a:t>
            </a: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12 najvažnijih potreb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ajvažnije potrebe: potrebe za kreativnošću, stručnošću i socijalnom dobrob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ritika 1: teško je dati konačnu listu potreba i rang svake od nj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ritika 2: motivi se tretiraju kao statični; u disonanciji sa dinamičkom teorijom motiva prema kojoj nezadovoljeni motiv preuzima mesto zadovoljen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32:52Z</dcterms:modified>
  <cp:revision>58</cp:revision>
  <dc:subject/>
  <dc:title>OSNOVI PSIHOLOGIJE KAO NAUKE</dc:title>
</cp:coreProperties>
</file>