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ype.wav" ContentType="audio/x-wav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3D79-A89B-4EB7-8C89-5D5B3862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C59-706C-41C8-9D4B-15EA9D24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B62-1AC5-4A9E-900F-31710B2E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999C-DBA2-481F-B2D2-2C1122E1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1D37-3036-480A-9713-8C67F980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3AEC-54FD-417D-A907-425EC560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E90A-FB7E-45E1-8947-025AA4D9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7F73-61E8-4F7C-96F3-4E8DB2D3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1FB1-4768-41BE-8012-3CF5ED64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FF72-D5B9-4F3B-9B5B-2A8D9E15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E73F-300A-4024-897D-BF29E38E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E5F-5867-49EB-8626-7DDC72A7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5061-0295-4519-AB21-C0A66998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2D8E-C3B9-4B07-9328-A520392F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EA96-3D68-40D4-BBD1-230511BA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99A9-A5A4-4C11-9A75-0B4977B0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AEE6-BCC9-45CD-B101-882736DE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E35-C397-47BA-94F3-AC135E8C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7D8B-4403-4B51-85C7-4274AC3F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D784-F6FF-4C22-BE37-8D77772B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7AA-73CC-410F-BEFC-E936B9AF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AED-B493-4B73-A146-97782C7A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3A2-AA8A-44BF-B49A-89C40D5E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22D-673D-4E37-8870-323823F6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918D-EFCE-4A9E-837C-23C333AB5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463C-3157-4CFC-A440-903328324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2133360"/>
            <a:ext cx="790596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221304"/>
                </a:solidFill>
                <a:latin typeface="Times New Roman"/>
              </a:rPr>
              <a:t>PSIHOLOGIJA ORGANIZACIJ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419280" y="3789000"/>
            <a:ext cx="5321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f. dr Dobrivoje Mihailovi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549360"/>
            <a:ext cx="187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8000" y="620640"/>
            <a:ext cx="60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221304"/>
                </a:solidFill>
                <a:latin typeface="Tahoma"/>
              </a:rPr>
              <a:t>Fakultet organizacionih nau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221304"/>
                </a:solidFill>
                <a:latin typeface="Tahoma"/>
              </a:rPr>
              <a:t>Univerzitet u Beogra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88000" y="5373720"/>
            <a:ext cx="15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5013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221304"/>
                </a:solidFill>
                <a:latin typeface="Tahoma"/>
              </a:rPr>
              <a:t>Školska 2005./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RAZVOJ PSIHOLOGIJE RAD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RVA FAZA: “NAUČNA ORGANIZACIJA RAD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(uključivanje psihologije u rešavanje industrijskih proble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Osnivač Frederik Tejlor (1856 – 1913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treba za povećanjem efikasnosti i produktivnosti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Cilj: racionalna organizacija proizvodnje, najefikasniji način rada – efikasnost uz najmanji utrošak energ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iz mera u cilju naučnog organizovanja rada: empirijska istraživanja analiziranjem pokreta radnika – “studija vremena i pokre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Osnovne pretpostavke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stoji jedan najbolji način rada za svaki pos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vaki radnik prema svojim fizičkim i intelektualnim mogućnostima može da postigne maksimalni učinak samo na jednom pos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Za konkretan posao stoga treba izabrati onog radnika koji za to ima najviše sposobnosti i koji može da postigne najveću efikas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trebno je razviti svakog pojedinca do najvišeg stupnja efikasnosti i zadovoljstva za koji je sposob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Treba radnike obučavati i uvežbavati najboljim, najracionalnijim metodama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adnike treba stimulisati odgovarajućom platom – ideja “ekonomskog čoveka” čiji je osnovni motiv za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75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75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75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75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75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75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Kritike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vako “naučno organizovan rad” je težak i iscrpljujuć za rad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Donosi dobit samo poslodavc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Zanemaruju se neke zakonitosti fizioloških i psiholoških po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eadekvatna istraživačka metodologija koju je Tejlor korist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RAZVOJ PSIHOLOGIJE RAD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DRUGA FAZA: OSNIVANJE PSIHOLOGIJE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Osnivač Hugo Minsterberg (1863 – 1916)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“Psihologija i industrijska efikasnost”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pravdanost korišćenja psihologije u industriji vidi u potrebi za usklađivanjem zahteva posla i psihofizičkih mogućnosti rad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ilagođavanje radnika i poboljšanje uslova rada dovodi do porasta produktiv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Empirijska istraživanja na osnovu kojih je utvrdio osnovne probleme i principe njihovog rešavanja u selekciji radnika, obučavanju, motivisanju, kao i fenomen umora i probleme uslova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1910. Konstruisao test za selekciju lj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560" y="38052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Tri osnovna principa rada u masovnoj industrijskoj proizvodnji</a:t>
            </a:r>
            <a:br>
              <a:rPr sz="2800"/>
            </a:br>
            <a:r>
              <a:rPr b="0" lang="sl-SI" sz="2000" spc="-1" strike="noStrike">
                <a:solidFill>
                  <a:srgbClr val="221304"/>
                </a:solidFill>
                <a:latin typeface="Tahoma"/>
              </a:rPr>
              <a:t>(uvođenje sistema masovne proizvodnje u Fordovim fabrikama automobila):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etodično planiran i neprekidan tok proizvoda kroz radionicu – uvodi se konvejer: tekuća traka koja određuje sadržaj, metod i brzinu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adniku se rad uručuje, umesto prepuštanja njegovoj inicijativi da ga nađ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peracije se raščlanjavaju na sastavne del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RAZVOJ PSIHOLOGIJE RAD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TREĆA FAZA: UVIĐANJE ZNAČAJA DRUŠTVENIH FAKTORA – “HOTORN EKSPERIMEN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Elton Mejo: “Hotorn eksperiment” (1927 – 1932)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EMPIRIJSKO ISTRAŽIVANJE OBAVLJENO U WESTERN ELECTRIC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ISPITIVAN I VARIRAN UTICAJ MIKROKLIMATSKIH USLOVA NA PRODUKTIVNOST RAD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Posledice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nteresovanja psihologije rada se proširuju na oblasti motivacije za rad, međuljudske odn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čovek se posmatra kao psiho-socijalno bić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azvija se pokret “Mičigenske škole” ili “Škole međuljudskih odnos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azvija se (pedesetih godina) posebna istraživačka oblast – Motivacija za rad (Abraham Maslo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75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75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75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221304"/>
                </a:solidFill>
                <a:latin typeface="Times New Roman"/>
              </a:rPr>
              <a:t>SADRŽAJ</a:t>
            </a:r>
            <a:br>
              <a:rPr sz="4000"/>
            </a:br>
            <a:r>
              <a:rPr b="0" lang="sr-Latn-CS" sz="3600" spc="-1" strike="noStrike">
                <a:solidFill>
                  <a:srgbClr val="221304"/>
                </a:solidFill>
                <a:latin typeface="Times New Roman"/>
              </a:rPr>
              <a:t>UVODNI DEO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777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7.09.: OSNOVI PSIHOLOGIJE KAO NAU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SIHOLOGIJA RADA I ORGANIZ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4.10.: LIČNOST OSOBINE LIČNOSTI I NJIHOVO MER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1.10.: ANALIZA PO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8.10.: PROFESIONALNA ORIJENT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5.10.: PROFESIONALNA SELEK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1.11.: RADNA ADAPT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8.11.: APSENTIZAM RAD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FLUKTUACIJA RAD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5.11.: PROVERA ZNANJA – I KOLOKVIJ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Nalazi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mikroklimatski uslovi nisu imali očekivan efekat na učin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dentifikovane su socijalne potrebe kao najznačajniji faktori ponašanja i produktivnosti rad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radnika ne treba posmatrati kao pojedinca, već kao člana određene neformalne grupe koja ima svoja pravila ponašanja, norme, sisteme vred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neformalno organizovanje i međuljudski odnosi unutar grupa kao i odnosi radnika prema rukovodiocu i organizaciji postaju dominantni činioci radne motivacije, zadovoljstva poslom i efikas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Da bi se povećala produktivnost potrebno je uspostaviti skladne međuljudske odnose u grup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75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75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75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EDMET I CILJEVI PSIHOLOGIJE RAD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redme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primena psiholoških princip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na uzajamne odnose između </a:t>
            </a:r>
            <a:r>
              <a:rPr b="1" lang="sl-SI" sz="1800" spc="-1" strike="noStrike" u="sng">
                <a:solidFill>
                  <a:srgbClr val="000000"/>
                </a:solidFill>
                <a:uFillTx/>
                <a:latin typeface="Tahoma"/>
              </a:rPr>
              <a:t>individue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l-SI" sz="1800" spc="-1" strike="noStrike" u="sng">
                <a:solidFill>
                  <a:srgbClr val="000000"/>
                </a:solidFill>
                <a:uFillTx/>
                <a:latin typeface="Tahoma"/>
              </a:rPr>
              <a:t>posla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l-SI" sz="1800" spc="-1" strike="noStrike" u="sng">
                <a:solidFill>
                  <a:srgbClr val="000000"/>
                </a:solidFill>
                <a:uFillTx/>
                <a:latin typeface="Tahoma"/>
              </a:rPr>
              <a:t>uslova rada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u neposrednoj sredini i širem radnom konteks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Cilj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da se sa stanovišta psihofizioloških mogućnosti čoveka omogući stvaranje uslo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koji vode optimalnoj efikasnosti rad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Zadat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da se na osnovu postojećih saznanja omogući i olakš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usklađivanje čoveka sa zahtevima i osobenostima radne situ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i da se na taj način oču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psihofizičko zdravlje, adaptiranost i zadovoljstvo pojedi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OBLASTI PSIHOLOGIJE RAD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KADROVSKA (PERSONALNA) PSIHOLO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INŽINJERSKA PSIHOLOG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SIHOLOGIJA MEĐULJUDSKIH ODN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SIHOLOGIJA ORGANIZACI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75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75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75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75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EDMET I ZADACI PSIHOLOGIJE ORGANIZAC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ed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zučavanje psihičkih poja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oje su nastale kao rez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nterakcijskog delovanja lju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u uslovima organiz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Zadaci: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Rešavanje psiholoških problema organizaci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Osnovne pretpostavke psihologije organizacije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Ljudi se različito ponašaju kada su sami i kada su u gru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sti ljudi se ponašaju različito u različitim grup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Grupna svest nije sastavljena od prostog zbira pojedinačnih individualnih svesti već je rezultat interakcijskog odnosa pojedinaca i grupe i njihovog uzajamnog dopunjavanja i prožim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rganizacija ima svoje specifič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našanje ljudi u organizaciji ima svoje osobe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75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75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75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75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75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TEORIJSKI PRISTUPI ORGANIZACIJ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NSTITUCIONALIZ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Celokupan ljudski život, posebno čovekov rad treba uklopiti u određene organizacione fo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TPOR INSTITUCIONALIZA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tpor prema totalitarn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nstitucionalizacij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 težnja ka slobod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ličnoj inicijativi i kreaci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TRI GLOBALNA PRISTUPA ORGANIZACIJI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Klasičn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Pristup sa stanovišta međuljudskih od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Pristup sa stanovišta uti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Klasični pristup “naučne organizacije rada” – odlike organizacije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Unutrašnja podela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Hijerarhijski pristup organiz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Depersonalizovano ponašanje čl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Zauzimanje položaja na osnovu znanja i kvalifikacij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Materijalna stimulacija kao metod motivacije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istup sa stanovišta međuljudskih odnos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Centralni problem postaje kako razumeti promene koje se moraju učiniti da bi se postigla najviša ljudska energija za produktivan 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rganizacija je skup pojedin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ocijalni faktori utiču na zadovoljstvo posl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istup sa stanovišta uticaja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Veza između ličnosti radnika i produktivnosti rada zavisna je od sasvim različitih fakto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rganizacija je polje uzajamnih delovanja pojedinaca i grupa u kojem se prepliću individualni i grupni interesi i utica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ao rezultat nastaju relativno čvrsti odnosi između pojedinih grupa i polož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Ono obuhvata sve delove organizacione strukture (formalne i neformalne), uočava delovanje realnih socijalnih sila i shvata organizaciju kao celinu heterogenih del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Efikasnost zavisi od stepena konzistentnosti socijalne i kulturne strukture organizacije, od veličine uticaja u organizaciji i tipa distribucije utic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ahoma"/>
              </a:rPr>
              <a:t>OSNOVI PSIHOLOGIJE KAO NAUK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POJAM, PREDMET, ZADACI I GRANE PSIH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17400" y="7524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27.09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221304"/>
                </a:solidFill>
                <a:latin typeface="Tahoma"/>
              </a:rPr>
              <a:t>DVA SHVATANJA NAUČNE PSIHOLOG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2421000"/>
            <a:ext cx="37339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Psihoanalitič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edmet: NESVES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etode: STUDIJA SLUČA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-  IDIOGRAFSKI MET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tatus psihologije: HUMANISTIČ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52880" y="2491920"/>
            <a:ext cx="37339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Bihejviorističk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edmet: PONAŠ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etode: EKS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- NOMOTETSKI MET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tatus psihologije: PO UGLEDU NA PRIRODNE NAU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EDMET PSIHOLOGIJE</a:t>
            </a:r>
            <a:br>
              <a:rPr sz="32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Psihologija je nauka o </a:t>
            </a:r>
            <a:r>
              <a:rPr b="1" lang="sl-SI" sz="2800" spc="-1" strike="noStrike" u="sng">
                <a:solidFill>
                  <a:srgbClr val="221304"/>
                </a:solidFill>
                <a:uFillTx/>
                <a:latin typeface="Tahoma"/>
              </a:rPr>
              <a:t>psihičkom životu</a:t>
            </a: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 ljudi i životinja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63520" y="1828800"/>
          <a:ext cx="7731360" cy="404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828800"/>
                    <a:ext cx="7731360" cy="40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ZADACI PSIHOLOG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OSNOVNI ZADATAK: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utvrditi zakonitosti psihičkog života čoveka i životin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ZADAC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Opisivanje psihičkih pojava – DESKRIP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Sistematizacija opisanih psihičkih pojava – KLASIFIK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Otkrivanje uzročno-posledičnih veza između psihičkih pojava – FORMULACIJA NAUČNIH ZAK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Naučno objašnjenje zakonitosti nastajanja psihičkih pojava – RAZUMEVANJE I OBJAŠNJE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Naučno predviđanje psihičkih pojava – PREDIKCIJA (I KONTRO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zgradnja psihološke terminologije - TERMINOLOG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75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75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75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75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75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75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75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GRANE PSIHOLOGI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38240" y="2966040"/>
            <a:ext cx="7749720" cy="2563920"/>
            <a:chOff x="1038240" y="2966040"/>
            <a:chExt cx="7749720" cy="2563920"/>
          </a:xfrm>
        </p:grpSpPr>
        <p:cxnSp>
          <p:nvCxnSpPr>
            <p:cNvPr id="111" name="_s72767"/>
            <p:cNvCxnSpPr>
              <a:stCxn id="112" idx="0"/>
              <a:endCxn id="113" idx="2"/>
            </p:cNvCxnSpPr>
            <p:nvPr/>
          </p:nvCxnSpPr>
          <p:spPr>
            <a:xfrm flipV="1">
              <a:off x="7794000" y="3822480"/>
              <a:ext cx="1080" cy="17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72765"/>
            <p:cNvCxnSpPr>
              <a:stCxn id="115" idx="0"/>
              <a:endCxn id="116" idx="2"/>
            </p:cNvCxnSpPr>
            <p:nvPr/>
          </p:nvCxnSpPr>
          <p:spPr>
            <a:xfrm flipV="1">
              <a:off x="5752800" y="3822480"/>
              <a:ext cx="1080" cy="17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72761"/>
            <p:cNvCxnSpPr>
              <a:stCxn id="118" idx="3"/>
              <a:endCxn id="119" idx="2"/>
            </p:cNvCxnSpPr>
            <p:nvPr/>
          </p:nvCxnSpPr>
          <p:spPr>
            <a:xfrm flipV="1">
              <a:off x="2184120" y="4740480"/>
              <a:ext cx="52920" cy="48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72759"/>
            <p:cNvCxnSpPr>
              <a:stCxn id="121" idx="3"/>
              <a:endCxn id="122" idx="2"/>
            </p:cNvCxnSpPr>
            <p:nvPr/>
          </p:nvCxnSpPr>
          <p:spPr>
            <a:xfrm flipV="1">
              <a:off x="3382920" y="4740480"/>
              <a:ext cx="613440" cy="483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72755"/>
            <p:cNvCxnSpPr>
              <a:stCxn id="122" idx="0"/>
              <a:endCxn id="124" idx="2"/>
            </p:cNvCxnSpPr>
            <p:nvPr/>
          </p:nvCxnSpPr>
          <p:spPr>
            <a:xfrm flipV="1" rot="16200000">
              <a:off x="3381840" y="3383280"/>
              <a:ext cx="174600" cy="1053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72742"/>
            <p:cNvCxnSpPr>
              <a:stCxn id="116" idx="0"/>
              <a:endCxn id="126" idx="2"/>
            </p:cNvCxnSpPr>
            <p:nvPr/>
          </p:nvCxnSpPr>
          <p:spPr>
            <a:xfrm flipV="1" rot="16200000">
              <a:off x="5245560" y="2975760"/>
              <a:ext cx="174600" cy="840600"/>
            </a:xfrm>
            <a:prstGeom prst="bentConnector3">
              <a:avLst>
                <a:gd name="adj1" fmla="val 493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72740"/>
            <p:cNvCxnSpPr>
              <a:stCxn id="119" idx="0"/>
              <a:endCxn id="124" idx="2"/>
            </p:cNvCxnSpPr>
            <p:nvPr/>
          </p:nvCxnSpPr>
          <p:spPr>
            <a:xfrm flipH="1" flipV="1" rot="5400000">
              <a:off x="2502720" y="3556440"/>
              <a:ext cx="174600" cy="707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72736"/>
            <p:cNvCxnSpPr>
              <a:stCxn id="113" idx="0"/>
              <a:endCxn id="126" idx="2"/>
            </p:cNvCxnSpPr>
            <p:nvPr/>
          </p:nvCxnSpPr>
          <p:spPr>
            <a:xfrm flipV="1" rot="16200000">
              <a:off x="6266160" y="1955160"/>
              <a:ext cx="174600" cy="2881800"/>
            </a:xfrm>
            <a:prstGeom prst="bentConnector3">
              <a:avLst>
                <a:gd name="adj1" fmla="val 493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72734"/>
            <p:cNvCxnSpPr>
              <a:stCxn id="124" idx="0"/>
              <a:endCxn id="126" idx="2"/>
            </p:cNvCxnSpPr>
            <p:nvPr/>
          </p:nvCxnSpPr>
          <p:spPr>
            <a:xfrm flipH="1" flipV="1" rot="5400000">
              <a:off x="3841200" y="2410920"/>
              <a:ext cx="174600" cy="1970640"/>
            </a:xfrm>
            <a:prstGeom prst="bentConnector3">
              <a:avLst>
                <a:gd name="adj1" fmla="val 493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6" name="_s72730"/>
            <p:cNvSpPr/>
            <p:nvPr/>
          </p:nvSpPr>
          <p:spPr>
            <a:xfrm>
              <a:off x="3881160" y="2966040"/>
              <a:ext cx="2063880" cy="3430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100" spc="-1" strike="noStrike">
                  <a:solidFill>
                    <a:srgbClr val="221304"/>
                  </a:solidFill>
                  <a:latin typeface="Tahoma"/>
                </a:rPr>
                <a:t>PROUČAVAJU PSIHIČKI ŽIVO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72731"/>
            <p:cNvSpPr/>
            <p:nvPr/>
          </p:nvSpPr>
          <p:spPr>
            <a:xfrm>
              <a:off x="1949040" y="3483360"/>
              <a:ext cx="1987920" cy="339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221304"/>
                  </a:solidFill>
                  <a:latin typeface="Tahoma"/>
                </a:rPr>
                <a:t>USLOVLJEN SPOLJAŠNJIM UTICAJIM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72733"/>
            <p:cNvSpPr/>
            <p:nvPr/>
          </p:nvSpPr>
          <p:spPr>
            <a:xfrm>
              <a:off x="6800040" y="3483360"/>
              <a:ext cx="1987920" cy="339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221304"/>
                  </a:solidFill>
                  <a:latin typeface="Tahoma"/>
                </a:rPr>
                <a:t>U kontekstu praktičnih aktivnost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72739"/>
            <p:cNvSpPr/>
            <p:nvPr/>
          </p:nvSpPr>
          <p:spPr>
            <a:xfrm>
              <a:off x="1384200" y="3997440"/>
              <a:ext cx="1705320" cy="74232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221304"/>
                  </a:solidFill>
                  <a:latin typeface="Tahoma"/>
                </a:rPr>
                <a:t>Fizički sv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72741"/>
            <p:cNvSpPr/>
            <p:nvPr/>
          </p:nvSpPr>
          <p:spPr>
            <a:xfrm>
              <a:off x="4759200" y="3483360"/>
              <a:ext cx="1987920" cy="339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221304"/>
                  </a:solidFill>
                  <a:latin typeface="Tahoma"/>
                </a:rPr>
                <a:t>U svojoj raznovrsnost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72754"/>
            <p:cNvSpPr/>
            <p:nvPr/>
          </p:nvSpPr>
          <p:spPr>
            <a:xfrm>
              <a:off x="3142080" y="3997440"/>
              <a:ext cx="1705320" cy="74232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600" rIns="126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221304"/>
                  </a:solidFill>
                  <a:latin typeface="Tahoma"/>
                </a:rPr>
                <a:t>Društveni sv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72758"/>
            <p:cNvSpPr/>
            <p:nvPr/>
          </p:nvSpPr>
          <p:spPr>
            <a:xfrm>
              <a:off x="2236680" y="4913640"/>
              <a:ext cx="1145880" cy="61632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960" rIns="12960" tIns="6480" bIns="6480" anchor="ctr">
              <a:noAutofit/>
            </a:bodyPr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sihologija narod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Etnološ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Socijaln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72760"/>
            <p:cNvSpPr/>
            <p:nvPr/>
          </p:nvSpPr>
          <p:spPr>
            <a:xfrm>
              <a:off x="1038240" y="4913640"/>
              <a:ext cx="1145880" cy="61632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680" rIns="13680" tIns="6840" bIns="6840" anchor="ctr">
              <a:noAutofit/>
            </a:bodyPr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sihofizik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Fiziološ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Biološ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72764"/>
            <p:cNvSpPr/>
            <p:nvPr/>
          </p:nvSpPr>
          <p:spPr>
            <a:xfrm>
              <a:off x="4900320" y="3997440"/>
              <a:ext cx="1705320" cy="74232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280" rIns="17280" tIns="8640" bIns="8640" anchor="ctr">
              <a:noAutofit/>
            </a:bodyPr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Diferencijaln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Genetič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sihologija pojedinih razvojnih stadijum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sihopat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zoo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72766"/>
            <p:cNvSpPr/>
            <p:nvPr/>
          </p:nvSpPr>
          <p:spPr>
            <a:xfrm>
              <a:off x="6941160" y="3997440"/>
              <a:ext cx="1705320" cy="742320"/>
            </a:xfrm>
            <a:prstGeom prst="roundRect">
              <a:avLst>
                <a:gd name="adj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2680" rIns="22680" tIns="11160" bIns="11160" anchor="ctr">
              <a:noAutofit/>
            </a:bodyPr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edagoš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Suds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Medicinsk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Vojna psihologij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sihologija spor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buClr>
                  <a:srgbClr val="221304"/>
                </a:buClr>
                <a:buFont typeface="Tahom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700" spc="-1" strike="noStrike">
                  <a:solidFill>
                    <a:srgbClr val="221304"/>
                  </a:solidFill>
                  <a:latin typeface="Tahoma"/>
                </a:rPr>
                <a:t>Psihlogija rad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PSIHOLOGIJA RADA I ORGANIZACI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822400" y="1752480"/>
            <a:ext cx="410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221304"/>
                </a:solidFill>
                <a:latin typeface="Tahoma"/>
              </a:rPr>
              <a:t>RAD JE LJUDSKA SVESNA, SVRSISHODNA DELATNOST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23880" y="28951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KOJOM LJUDI MENJAJU PREDMETE NAĐENE U PRIRODI I PRILAGOĐAVAJU IH UPOTREBI I ZADOVOLJAVANJU NEKIH OD SVOJIH BROJNIH I RAZNOVRSNIH POTREB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Ognjen</cp:lastModifiedBy>
  <dcterms:modified xsi:type="dcterms:W3CDTF">2005-10-12T10:35:34Z</dcterms:modified>
  <cp:revision>58</cp:revision>
  <dc:subject/>
  <dc:title>OSNOVI PSIHOLOGIJE KAO NAUKE</dc:title>
</cp:coreProperties>
</file>