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33E9-BBEE-400C-9895-8385820383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Fakultet organizacionih na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B26-BE00-4F28-947F-F8815126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7F3-4FD5-4568-BED7-F2F5749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9EE-DBD8-4BD1-A68E-2719413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A0B-5086-460E-A387-45C7F974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451-6F51-49A1-8292-CB2C83C0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FC77-48EE-4471-80DB-7B0EDE6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2882-26A3-434D-AB65-3218B589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F27-20EB-4CB9-9A6A-DE345679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55FF-BB2C-410D-A75A-26CCCCC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AD58-25FF-4F14-AE9C-9241A212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4EE2-1EAA-404D-A4E5-3DB52BE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AC2-7F7B-4801-B4EE-4970830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FFF8-9559-4A54-B35C-224F3B4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10C-B48B-42E7-81CA-4820649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3E3-59D2-4F2E-ABD9-1CE0D50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2691-E76B-4134-B161-FE0911D5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55C4-3D05-4069-9676-6421473C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622-482A-4D67-82DE-A200675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816-52E7-47B4-A74F-70638CB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F18-B44A-4500-B4BA-3FBA7E3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D1D-E841-45D4-8396-6674501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1A4-9CE0-4759-8826-7020ACE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237-376E-45B3-8076-D22DA22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85C-392D-461F-AF85-B2DF61AC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04E7-F474-4167-8170-B9D764ECB477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93D5-3A95-40F8-8BD3-F538F0A80E36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224424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br>
              <a:rPr sz="6000"/>
            </a:br>
            <a:r>
              <a:rPr b="0" lang="sl-SI" sz="6000" spc="-1" strike="noStrike">
                <a:solidFill>
                  <a:srgbClr val="333399"/>
                </a:solidFill>
                <a:latin typeface="Tahoma"/>
              </a:rPr>
              <a:t>(Osnovi organizacije proizvodnje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41400" y="711360"/>
            <a:ext cx="263376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sl-SI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sl-SI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1400" y="347760"/>
            <a:ext cx="46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formacioni sistemi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 i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enad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5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Operacioni menadž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Upravljanje kvalit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0160" y="26575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 godina, II sem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4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4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7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68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680"/>
                            </p:stCondLst>
                            <p:childTnLst>
                              <p:par>
                                <p:cTn id="34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5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680"/>
                            </p:stCondLst>
                            <p:childTnLst>
                              <p:par>
                                <p:cTn id="40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oni oblici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tvore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tvore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tabilizova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560680" y="2682720"/>
            <a:ext cx="0" cy="5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39146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873400" y="4294080"/>
            <a:ext cx="790560" cy="776520"/>
            <a:chOff x="5873400" y="4294080"/>
            <a:chExt cx="790560" cy="776520"/>
          </a:xfrm>
        </p:grpSpPr>
        <p:sp>
          <p:nvSpPr>
            <p:cNvPr id="182" name=""/>
            <p:cNvSpPr/>
            <p:nvPr/>
          </p:nvSpPr>
          <p:spPr>
            <a:xfrm flipV="1">
              <a:off x="6157800" y="4530240"/>
              <a:ext cx="26352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873400" y="4824360"/>
              <a:ext cx="24444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881680" y="4294080"/>
              <a:ext cx="782280" cy="760680"/>
              <a:chOff x="5881680" y="4294080"/>
              <a:chExt cx="782280" cy="76068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419520" y="4294080"/>
                <a:ext cx="24444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6080040" y="4497480"/>
                <a:ext cx="385920" cy="365040"/>
                <a:chOff x="6080040" y="4497480"/>
                <a:chExt cx="385920" cy="3650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80040" y="4497480"/>
                  <a:ext cx="38592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159600" y="4553640"/>
                  <a:ext cx="242640" cy="26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 flipH="1" flipV="1">
                <a:off x="5881680" y="430812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400800" y="4809960"/>
                <a:ext cx="246240" cy="24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5848200" y="3125880"/>
            <a:ext cx="814320" cy="761760"/>
            <a:chOff x="5848200" y="3125880"/>
            <a:chExt cx="814320" cy="761760"/>
          </a:xfrm>
        </p:grpSpPr>
        <p:sp>
          <p:nvSpPr>
            <p:cNvPr id="192" name=""/>
            <p:cNvSpPr/>
            <p:nvPr/>
          </p:nvSpPr>
          <p:spPr>
            <a:xfrm>
              <a:off x="6076800" y="3327480"/>
              <a:ext cx="385920" cy="36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848200" y="3125880"/>
              <a:ext cx="814320" cy="761760"/>
              <a:chOff x="5848200" y="3125880"/>
              <a:chExt cx="814320" cy="76176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5848200" y="3641760"/>
                <a:ext cx="2448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418080" y="3125880"/>
                <a:ext cx="24444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5897520" y="312876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397560" y="362880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843160" y="1873080"/>
            <a:ext cx="816480" cy="795240"/>
            <a:chOff x="5843160" y="1873080"/>
            <a:chExt cx="816480" cy="795240"/>
          </a:xfrm>
        </p:grpSpPr>
        <p:sp>
          <p:nvSpPr>
            <p:cNvPr id="199" name=""/>
            <p:cNvSpPr/>
            <p:nvPr/>
          </p:nvSpPr>
          <p:spPr>
            <a:xfrm flipH="1">
              <a:off x="6384600" y="1873080"/>
              <a:ext cx="24444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843160" y="1896840"/>
              <a:ext cx="816480" cy="771480"/>
              <a:chOff x="5843160" y="1896840"/>
              <a:chExt cx="816480" cy="771480"/>
            </a:xfrm>
          </p:grpSpPr>
          <p:sp>
            <p:nvSpPr>
              <p:cNvPr id="201" name=""/>
              <p:cNvSpPr/>
              <p:nvPr/>
            </p:nvSpPr>
            <p:spPr>
              <a:xfrm>
                <a:off x="6076800" y="2116080"/>
                <a:ext cx="385920" cy="36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843160" y="2417760"/>
                <a:ext cx="24444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413400" y="242388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5886360" y="189684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77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77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22400" y="4114800"/>
            <a:ext cx="2157480" cy="67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95400" y="2374920"/>
            <a:ext cx="7254720" cy="1760400"/>
            <a:chOff x="995400" y="2374920"/>
            <a:chExt cx="7254720" cy="1760400"/>
          </a:xfrm>
        </p:grpSpPr>
        <p:sp>
          <p:nvSpPr>
            <p:cNvPr id="209" name=""/>
            <p:cNvSpPr/>
            <p:nvPr/>
          </p:nvSpPr>
          <p:spPr>
            <a:xfrm>
              <a:off x="61977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995400" y="2374920"/>
              <a:ext cx="7248600" cy="1760400"/>
              <a:chOff x="995400" y="2374920"/>
              <a:chExt cx="7248600" cy="1760400"/>
            </a:xfrm>
          </p:grpSpPr>
          <p:sp>
            <p:nvSpPr>
              <p:cNvPr id="211" name=""/>
              <p:cNvSpPr/>
              <p:nvPr/>
            </p:nvSpPr>
            <p:spPr>
              <a:xfrm>
                <a:off x="29066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9954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2440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288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3156120" y="3343320"/>
            <a:ext cx="0" cy="20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9520" y="424512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9880" y="4202280"/>
            <a:ext cx="49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ubici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328788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93600" y="4680000"/>
            <a:ext cx="0" cy="17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9560" y="5268960"/>
            <a:ext cx="215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836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5480" y="3546360"/>
            <a:ext cx="272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35463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24440" y="3544920"/>
            <a:ext cx="1522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91040" y="3068640"/>
            <a:ext cx="4201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0600" y="5680080"/>
            <a:ext cx="30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19160" y="6202440"/>
            <a:ext cx="450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06560" y="5724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2640" y="31082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7680" y="2606760"/>
            <a:ext cx="6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31082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7880" y="31100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03480" y="5218200"/>
            <a:ext cx="6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0520" y="289404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73920" y="4964040"/>
            <a:ext cx="2546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– prekidi u radu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00760" y="4921200"/>
            <a:ext cx="2698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rad radnika koji je posledica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2240" y="4919760"/>
            <a:ext cx="2436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neostvareni učinak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61040" y="5051520"/>
            <a:ext cx="2505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otvorenosti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4896000"/>
            <a:ext cx="2697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7760" y="499104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521964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7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155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000"/>
                            </p:stCondLst>
                            <p:childTnLst>
                              <p:par>
                                <p:cTn id="8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155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000"/>
                            </p:stCondLst>
                            <p:childTnLst>
                              <p:par>
                                <p:cTn id="9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5" dur="5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3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3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0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0" dur="5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7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7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0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957920" y="3914640"/>
                <a:ext cx="2414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929120" y="3092400"/>
                <a:ext cx="315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957920" y="2111400"/>
                <a:ext cx="2444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376200" y="2589120"/>
            <a:ext cx="4272120" cy="2160000"/>
            <a:chOff x="376200" y="2589120"/>
            <a:chExt cx="4272120" cy="2160000"/>
          </a:xfrm>
        </p:grpSpPr>
        <p:sp>
          <p:nvSpPr>
            <p:cNvPr id="247" name=""/>
            <p:cNvSpPr/>
            <p:nvPr/>
          </p:nvSpPr>
          <p:spPr>
            <a:xfrm>
              <a:off x="392040" y="3419640"/>
              <a:ext cx="1219320" cy="347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76200" y="2589120"/>
              <a:ext cx="4272120" cy="2160000"/>
              <a:chOff x="376200" y="2589120"/>
              <a:chExt cx="4272120" cy="2160000"/>
            </a:xfrm>
          </p:grpSpPr>
          <p:sp>
            <p:nvSpPr>
              <p:cNvPr id="249" name=""/>
              <p:cNvSpPr/>
              <p:nvPr/>
            </p:nvSpPr>
            <p:spPr>
              <a:xfrm>
                <a:off x="1625040" y="3227400"/>
                <a:ext cx="59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376200" y="2589120"/>
                <a:ext cx="4272120" cy="2160000"/>
                <a:chOff x="376200" y="2589120"/>
                <a:chExt cx="4272120" cy="2160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186280" y="2985480"/>
                  <a:ext cx="246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376200" y="2589120"/>
                  <a:ext cx="4266720" cy="2160000"/>
                  <a:chOff x="376200" y="2589120"/>
                  <a:chExt cx="4266720" cy="216000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376200" y="2589120"/>
                    <a:ext cx="4266720" cy="2160000"/>
                    <a:chOff x="376200" y="2589120"/>
                    <a:chExt cx="4266720" cy="216000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1447560" y="439380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376200" y="2589120"/>
                      <a:ext cx="4266720" cy="2160000"/>
                      <a:chOff x="376200" y="2589120"/>
                      <a:chExt cx="4266720" cy="216000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385200" y="2589120"/>
                        <a:ext cx="4250520" cy="947520"/>
                        <a:chOff x="385200" y="2589120"/>
                        <a:chExt cx="4250520" cy="94752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3433320" y="2688840"/>
                          <a:ext cx="1202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8" name=""/>
                        <p:cNvGrpSpPr/>
                        <p:nvPr/>
                      </p:nvGrpSpPr>
                      <p:grpSpPr>
                        <a:xfrm>
                          <a:off x="385200" y="2589120"/>
                          <a:ext cx="4247280" cy="947520"/>
                          <a:chOff x="385200" y="2589120"/>
                          <a:chExt cx="4247280" cy="947520"/>
                        </a:xfrm>
                      </p:grpSpPr>
                      <p:sp>
                        <p:nvSpPr>
                          <p:cNvPr id="259" name=""/>
                          <p:cNvSpPr/>
                          <p:nvPr/>
                        </p:nvSpPr>
                        <p:spPr>
                          <a:xfrm>
                            <a:off x="1504080" y="2589120"/>
                            <a:ext cx="1976400" cy="24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marL="343080" indent="-343080" algn="ctr">
                              <a:lnSpc>
                                <a:spcPct val="100000"/>
                              </a:lnSpc>
                              <a:spcBef>
                                <a:spcPts val="624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sl-SI" sz="1000" spc="-1" strike="noStrike">
                                <a:solidFill>
                                  <a:srgbClr val="333399"/>
                                </a:solidFill>
                                <a:latin typeface="Tahoma"/>
                              </a:rPr>
                              <a:t>RASPOLOŽIVO RADNO VREME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0" name=""/>
                          <p:cNvSpPr/>
                          <p:nvPr/>
                        </p:nvSpPr>
                        <p:spPr>
                          <a:xfrm flipV="1">
                            <a:off x="385200" y="2612160"/>
                            <a:ext cx="0" cy="918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 flipV="1">
                            <a:off x="4632480" y="2617920"/>
                            <a:ext cx="0" cy="918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>
                            <a:off x="404640" y="2695680"/>
                            <a:ext cx="12024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1651320" y="3110400"/>
                        <a:ext cx="0" cy="1120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1667160" y="3573000"/>
                        <a:ext cx="28800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Gubici zbog loše organizacij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3029760" y="3080520"/>
                        <a:ext cx="0" cy="166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V="1">
                        <a:off x="384120" y="3830400"/>
                        <a:ext cx="0" cy="918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376200" y="4147560"/>
                        <a:ext cx="1262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782640" y="3936240"/>
                        <a:ext cx="3841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P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3027960" y="3219840"/>
                        <a:ext cx="1595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2160000" y="3219120"/>
                        <a:ext cx="892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399960" y="4368960"/>
                        <a:ext cx="1797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3217680" y="2714760"/>
                        <a:ext cx="38232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l-GR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η</a:t>
                        </a:r>
                        <a:r>
                          <a:rPr b="0" lang="sl-SI" sz="1000" spc="-1" strike="noStrike" baseline="-25000">
                            <a:solidFill>
                              <a:srgbClr val="333399"/>
                            </a:solidFill>
                            <a:latin typeface="Tahoma"/>
                          </a:rPr>
                          <a:t>o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2440080" y="2984040"/>
                        <a:ext cx="38196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ff0000"/>
                            </a:solidFill>
                            <a:latin typeface="Tahoma"/>
                          </a:rPr>
                          <a:t>G</a:t>
                        </a:r>
                        <a:r>
                          <a:rPr b="0" lang="sl-SI" sz="1000" spc="-1" strike="noStrike" baseline="-25000">
                            <a:solidFill>
                              <a:srgbClr val="ff0000"/>
                            </a:solidFill>
                            <a:latin typeface="Tahoma"/>
                          </a:rPr>
                          <a:t>2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25200" y="2984040"/>
                        <a:ext cx="38412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ff0000"/>
                            </a:solidFill>
                            <a:latin typeface="Tahoma"/>
                          </a:rPr>
                          <a:t>G</a:t>
                        </a:r>
                        <a:r>
                          <a:rPr b="0" lang="sl-SI" sz="1000" spc="-1" strike="noStrike" baseline="-25000">
                            <a:solidFill>
                              <a:srgbClr val="ff0000"/>
                            </a:solidFill>
                            <a:latin typeface="Tahoma"/>
                          </a:rPr>
                          <a:t>1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1034640" y="4119480"/>
                        <a:ext cx="38196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l-GR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η</a:t>
                        </a:r>
                        <a:r>
                          <a:rPr b="0" lang="sl-SI" sz="1000" spc="-1" strike="noStrike" baseline="-25000">
                            <a:solidFill>
                              <a:srgbClr val="333399"/>
                            </a:solidFill>
                            <a:latin typeface="Tahoma"/>
                          </a:rPr>
                          <a:t>K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2187000" y="2868480"/>
                        <a:ext cx="0" cy="166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415800" y="3561840"/>
                        <a:ext cx="11458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Produktivan ra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403920" y="3404520"/>
                        <a:ext cx="4239000" cy="371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9" name=""/>
                  <p:cNvSpPr/>
                  <p:nvPr/>
                </p:nvSpPr>
                <p:spPr>
                  <a:xfrm>
                    <a:off x="1718280" y="2971080"/>
                    <a:ext cx="3801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000" spc="-1" strike="noStrike">
                        <a:solidFill>
                          <a:srgbClr val="ff0000"/>
                        </a:solidFill>
                        <a:latin typeface="Tahoma"/>
                      </a:rPr>
                      <a:t>G</a:t>
                    </a:r>
                    <a:r>
                      <a:rPr b="0" lang="sl-SI" sz="2000" spc="-1" strike="noStrike" baseline="-25000">
                        <a:solidFill>
                          <a:srgbClr val="ff0000"/>
                        </a:solidFill>
                        <a:latin typeface="Tahoma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>
                <a:off x="407520" y="4668840"/>
                <a:ext cx="262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021280" y="4881600"/>
                <a:ext cx="378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9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47600" y="4125960"/>
            <a:ext cx="4929480" cy="66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A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82800" y="2374920"/>
            <a:ext cx="7254720" cy="1760400"/>
            <a:chOff x="982800" y="2374920"/>
            <a:chExt cx="7254720" cy="1760400"/>
          </a:xfrm>
        </p:grpSpPr>
        <p:sp>
          <p:nvSpPr>
            <p:cNvPr id="286" name=""/>
            <p:cNvSpPr/>
            <p:nvPr/>
          </p:nvSpPr>
          <p:spPr>
            <a:xfrm>
              <a:off x="61851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82800" y="2374920"/>
              <a:ext cx="7248600" cy="1760400"/>
              <a:chOff x="982800" y="2374920"/>
              <a:chExt cx="7248600" cy="1760400"/>
            </a:xfrm>
          </p:grpSpPr>
          <p:sp>
            <p:nvSpPr>
              <p:cNvPr id="288" name=""/>
              <p:cNvSpPr/>
              <p:nvPr/>
            </p:nvSpPr>
            <p:spPr>
              <a:xfrm>
                <a:off x="28940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9828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82314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162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1109520" y="42670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87880" y="4137120"/>
            <a:ext cx="2111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Gubici zbog loš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86440" y="3308400"/>
            <a:ext cx="0" cy="21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993600" y="4680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6280" y="484020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85000" y="3546360"/>
            <a:ext cx="224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5627520"/>
            <a:ext cx="725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0520" y="524340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,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80160" y="3043080"/>
            <a:ext cx="6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0560" y="5264280"/>
            <a:ext cx="2351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neostvareni učinak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09520" y="5851440"/>
            <a:ext cx="4024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0680" y="587700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59480" y="5611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20240" y="46148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06560" y="5249880"/>
            <a:ext cx="4995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155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1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3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5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155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7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9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6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8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6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7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7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7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5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5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7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3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5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7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7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7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2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6" dur="5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A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581800" y="2598840"/>
                <a:ext cx="2506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511960" y="3697200"/>
                <a:ext cx="3058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696960" y="2638440"/>
            <a:ext cx="4200120" cy="2022120"/>
            <a:chOff x="696960" y="2638440"/>
            <a:chExt cx="4200120" cy="2022120"/>
          </a:xfrm>
        </p:grpSpPr>
        <p:sp>
          <p:nvSpPr>
            <p:cNvPr id="311" name=""/>
            <p:cNvSpPr/>
            <p:nvPr/>
          </p:nvSpPr>
          <p:spPr>
            <a:xfrm>
              <a:off x="696960" y="3643200"/>
              <a:ext cx="2901960" cy="390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01640" y="2638440"/>
              <a:ext cx="4195440" cy="2022120"/>
              <a:chOff x="701640" y="2638440"/>
              <a:chExt cx="4195440" cy="2022120"/>
            </a:xfrm>
          </p:grpSpPr>
          <p:sp>
            <p:nvSpPr>
              <p:cNvPr id="313" name=""/>
              <p:cNvSpPr/>
              <p:nvPr/>
            </p:nvSpPr>
            <p:spPr>
              <a:xfrm>
                <a:off x="705960" y="4502520"/>
                <a:ext cx="419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01640" y="2638440"/>
                <a:ext cx="4189680" cy="2022120"/>
                <a:chOff x="701640" y="2638440"/>
                <a:chExt cx="4189680" cy="2022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8840" y="3630240"/>
                  <a:ext cx="4178160" cy="39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701640" y="2638440"/>
                  <a:ext cx="4189680" cy="1008360"/>
                  <a:chOff x="701640" y="2638440"/>
                  <a:chExt cx="4189680" cy="10083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706200" y="2744640"/>
                    <a:ext cx="118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01640" y="2638440"/>
                    <a:ext cx="4186440" cy="1008360"/>
                    <a:chOff x="701640" y="2638440"/>
                    <a:chExt cx="4186440" cy="10083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1806480" y="2638440"/>
                      <a:ext cx="19461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ASPOLOŽIVO RADNO VR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V="1">
                      <a:off x="701640" y="2662920"/>
                      <a:ext cx="0" cy="977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4888080" y="2669040"/>
                      <a:ext cx="0" cy="977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20720" y="2751840"/>
                      <a:ext cx="1185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3" name=""/>
                <p:cNvSpPr/>
                <p:nvPr/>
              </p:nvSpPr>
              <p:spPr>
                <a:xfrm>
                  <a:off x="775800" y="3722760"/>
                  <a:ext cx="2726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400" spc="-1" strike="noStrike">
                      <a:solidFill>
                        <a:srgbClr val="333399"/>
                      </a:solidFill>
                      <a:latin typeface="Tahoma"/>
                    </a:rPr>
                    <a:t>Produktivan r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95320" y="3648240"/>
                  <a:ext cx="1216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333399"/>
                      </a:solidFill>
                      <a:latin typeface="Tahoma"/>
                    </a:rPr>
                    <a:t>Gubici zbog loše organizacij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91360" y="3173400"/>
                  <a:ext cx="0" cy="120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07760" y="3959280"/>
                  <a:ext cx="0" cy="70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915200" y="4052880"/>
                  <a:ext cx="376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333399"/>
                      </a:solidFill>
                      <a:latin typeface="Tahoma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590640" y="3309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327760" y="4281480"/>
                  <a:ext cx="37764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800" spc="-1" strike="noStrike">
                      <a:solidFill>
                        <a:srgbClr val="333399"/>
                      </a:solidFill>
                      <a:latin typeface="Tahoma"/>
                    </a:rPr>
                    <a:t>Z,</a:t>
                  </a:r>
                  <a:r>
                    <a:rPr b="0" lang="el-GR" sz="800" spc="-1" strike="noStrike">
                      <a:solidFill>
                        <a:srgbClr val="333399"/>
                      </a:solidFill>
                      <a:latin typeface="Tahoma"/>
                    </a:rPr>
                    <a:t>η</a:t>
                  </a:r>
                  <a:r>
                    <a:rPr b="0" lang="sl-SI" sz="800" spc="-1" strike="noStrike" baseline="-25000">
                      <a:solidFill>
                        <a:srgbClr val="333399"/>
                      </a:solidFill>
                      <a:latin typeface="Tahoma"/>
                    </a:rPr>
                    <a:t>k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91320" y="3021120"/>
                  <a:ext cx="37764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ff0000"/>
                      </a:solidFill>
                      <a:latin typeface="Tahoma"/>
                    </a:rPr>
                    <a:t>G</a:t>
                  </a:r>
                  <a:r>
                    <a:rPr b="0" lang="sl-SI" sz="1000" spc="-1" strike="noStrike" baseline="-25000">
                      <a:solidFill>
                        <a:srgbClr val="ff0000"/>
                      </a:solidFill>
                      <a:latin typeface="Tahoma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881600" y="39222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5320" y="4286160"/>
                  <a:ext cx="2885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809960" y="5014800"/>
                <a:ext cx="3597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⇔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ča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3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5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7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4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6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8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5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7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9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25640" y="4125960"/>
            <a:ext cx="7203960" cy="64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STABILIZOVANOG 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982800" y="2374920"/>
            <a:ext cx="7254720" cy="1760400"/>
            <a:chOff x="982800" y="2374920"/>
            <a:chExt cx="7254720" cy="1760400"/>
          </a:xfrm>
        </p:grpSpPr>
        <p:sp>
          <p:nvSpPr>
            <p:cNvPr id="338" name=""/>
            <p:cNvSpPr/>
            <p:nvPr/>
          </p:nvSpPr>
          <p:spPr>
            <a:xfrm>
              <a:off x="61851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82800" y="2374920"/>
              <a:ext cx="7248600" cy="1760400"/>
              <a:chOff x="982800" y="2374920"/>
              <a:chExt cx="7248600" cy="1760400"/>
            </a:xfrm>
          </p:grpSpPr>
          <p:sp>
            <p:nvSpPr>
              <p:cNvPr id="340" name=""/>
              <p:cNvSpPr/>
              <p:nvPr/>
            </p:nvSpPr>
            <p:spPr>
              <a:xfrm>
                <a:off x="28940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9828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82314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162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1109520" y="4224240"/>
            <a:ext cx="70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93600" y="4680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627520"/>
            <a:ext cx="725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21040" y="524340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; Z;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9600" y="5851440"/>
            <a:ext cx="4024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877000"/>
            <a:ext cx="198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 rot="10784400">
            <a:off x="2684520" y="282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20240" y="46148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00"/>
                            </p:stCondLst>
                            <p:childTnLst>
                              <p:par>
                                <p:cTn id="1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7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155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8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0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2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3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3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5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7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5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7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7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9" dur="3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3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4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STABILIZOVANOG 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919080" y="4610160"/>
                <a:ext cx="2992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1069920" y="1982880"/>
            <a:ext cx="6325920" cy="2417040"/>
            <a:chOff x="1069920" y="1982880"/>
            <a:chExt cx="6325920" cy="2417040"/>
          </a:xfrm>
        </p:grpSpPr>
        <p:sp>
          <p:nvSpPr>
            <p:cNvPr id="355" name=""/>
            <p:cNvSpPr/>
            <p:nvPr/>
          </p:nvSpPr>
          <p:spPr>
            <a:xfrm>
              <a:off x="3560760" y="3872880"/>
              <a:ext cx="206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333399"/>
                  </a:solidFill>
                  <a:latin typeface="Tahoma"/>
                </a:rPr>
                <a:t>Pr; Z; </a:t>
              </a:r>
              <a:r>
                <a:rPr b="0" lang="el-GR" sz="1400" spc="-1" strike="noStrike">
                  <a:solidFill>
                    <a:srgbClr val="333399"/>
                  </a:solidFill>
                  <a:latin typeface="Tahoma"/>
                </a:rPr>
                <a:t>η</a:t>
              </a:r>
              <a:r>
                <a:rPr b="0" lang="sl-SI" sz="1400" spc="-1" strike="noStrike" baseline="-25000">
                  <a:solidFill>
                    <a:srgbClr val="333399"/>
                  </a:solidFill>
                  <a:latin typeface="Tahoma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069920" y="1982880"/>
              <a:ext cx="6325920" cy="2417040"/>
              <a:chOff x="1069920" y="1982880"/>
              <a:chExt cx="6325920" cy="2417040"/>
            </a:xfrm>
          </p:grpSpPr>
          <p:sp>
            <p:nvSpPr>
              <p:cNvPr id="357" name=""/>
              <p:cNvSpPr/>
              <p:nvPr/>
            </p:nvSpPr>
            <p:spPr>
              <a:xfrm>
                <a:off x="1080720" y="3168360"/>
                <a:ext cx="6299640" cy="473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069920" y="1982880"/>
                <a:ext cx="6317280" cy="1205280"/>
                <a:chOff x="1069920" y="1982880"/>
                <a:chExt cx="6317280" cy="12052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600160" y="2109960"/>
                  <a:ext cx="178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1069920" y="1982880"/>
                  <a:ext cx="6312240" cy="1205280"/>
                  <a:chOff x="1069920" y="1982880"/>
                  <a:chExt cx="6312240" cy="12052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731320" y="1982880"/>
                    <a:ext cx="2937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RASPOLOŽIVO RADNO VREM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1069920" y="2011680"/>
                    <a:ext cx="0" cy="116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7382160" y="2019240"/>
                    <a:ext cx="0" cy="116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098720" y="2118600"/>
                    <a:ext cx="178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>
                <a:off x="1180080" y="3247560"/>
                <a:ext cx="6161760" cy="33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Produktivan 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079280" y="3561480"/>
                <a:ext cx="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76760" y="4211280"/>
                <a:ext cx="63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2440" y="3517200"/>
                <a:ext cx="0" cy="82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390840" y="5375160"/>
                <a:ext cx="4224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⇔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ča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4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8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4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8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RAZLIKE IZMEĐU OTVORENOG, ZATVORENOG I STABILIZOVANOG RADNOG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2760" y="5545080"/>
            <a:ext cx="7947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TUPAK ZATVARANJA RADNIH MEST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873520" y="2009880"/>
                <a:ext cx="3008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25640" y="2808360"/>
                <a:ext cx="3246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808360" y="4414680"/>
                <a:ext cx="3321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13040" y="3578400"/>
                <a:ext cx="3313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Kvalitet organizovanja i nivo organizova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valitet organizovanj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nekog procesa proizvodnje je njegovo svojstvo koje pokazuje oblik postojanja, način korišćenja, rezultate funkcionisanja i promenu u vremenu svih elemenata proizvodnje povezanih u jednu celinu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ivo organizovanosti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je mera kvaliteta organizova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8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22200"/>
            <a:ext cx="32209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1840" y="2089080"/>
            <a:ext cx="80121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Predavanja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2 časa nedelj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rof dr Milić Radović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konsultacije: sreda 13-16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Vežbe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2 časa nedelj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Barbara Simeuno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Ivan Tomaše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Dragana Stojano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Ispit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isani d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usmeni d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rojektni zadatak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Seminarski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Kolokvijumi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482920"/>
            <a:ext cx="84924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4760" y="3648240"/>
            <a:ext cx="84924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85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85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85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85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85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ADRŽAJ PREDAV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Osnovi organi</a:t>
            </a: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cije proizvod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OPSP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Procesi kao osnova za projektovanje org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rganizacija proizvod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adno mesto kao osnovna ćelija u procesu 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Kvalitet organizovanja i nivo organizovan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Osnove inženjeringa proizvodnih 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ptimizacija programa proizvodnje i uslug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Tehnološki proce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=&gt;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OP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Način realizacije plana (serij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prema za r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Dimenzije sistema (proračun potrebnog broja sredstava za rad, radnika i radnih mes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aspore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edosle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SNOVE INŽENJERING ORGANIZACIONIH SISTEMA </a:t>
            </a:r>
            <a:br>
              <a:rPr sz="3200"/>
            </a:b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(preduzeća i ustanov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96640" y="1887120"/>
            <a:ext cx="5465880" cy="47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Definisanje misije, vizije i ciljev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Projektov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buka menadžmen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Postavlj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rganizovanje funkcionisa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buka svih zaposleni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Funkcionis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Upravlj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Razvo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tklanjanje problema i konsalting u vremen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46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74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760"/>
                            </p:stCondLst>
                            <p:childTnLst>
                              <p:par>
                                <p:cTn id="42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20"/>
                            </p:stCondLst>
                            <p:childTnLst>
                              <p:par>
                                <p:cTn id="4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220"/>
                            </p:stCondLst>
                            <p:childTnLst>
                              <p:par>
                                <p:cTn id="43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3141720"/>
            <a:ext cx="3384720" cy="159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SNOVNI ELEMENTI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2852640"/>
            <a:ext cx="26636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redstva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458136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378936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zvrši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537372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97560" y="198900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62320" y="2160720"/>
            <a:ext cx="1365120" cy="3552840"/>
            <a:chOff x="4162320" y="2160720"/>
            <a:chExt cx="1365120" cy="3552840"/>
          </a:xfrm>
        </p:grpSpPr>
        <p:sp>
          <p:nvSpPr>
            <p:cNvPr id="126" name=""/>
            <p:cNvSpPr/>
            <p:nvPr/>
          </p:nvSpPr>
          <p:spPr>
            <a:xfrm>
              <a:off x="4532040" y="2176560"/>
              <a:ext cx="39960" cy="353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162320" y="2160720"/>
              <a:ext cx="1365120" cy="3549600"/>
              <a:chOff x="4162320" y="2160720"/>
              <a:chExt cx="1365120" cy="35496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162320" y="4003200"/>
                <a:ext cx="1365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2520" y="5710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39960" y="3094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95760" y="483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39960" y="2160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3760920" y="4269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8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38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8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38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38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38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ja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333399"/>
                </a:solidFill>
                <a:latin typeface="Tahoma"/>
              </a:rPr>
              <a:t>...je, sa stanovišta tehnike i tehnologije, međusobna zavisnost i uzajamna povezanost osnovnih elemenata proizvodnje u tehnički racionalnu a ekonomski celishodnu celinučiji je zadatak da stvara proizvode i/ili pruža uslug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Tehnološk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bradn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n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10840" y="2017440"/>
            <a:ext cx="8443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snovna ćelija u procesu proizvodnje i procesu rada u celi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najmanja tehnološki i organizaciono zaokružena celina u okviru koje se odvija jedan tačno određen deo procesa 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A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ADN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DA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65040"/>
            <a:ext cx="743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38320" y="365040"/>
            <a:ext cx="71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7200" spc="-1" strike="noStrike">
                <a:solidFill>
                  <a:srgbClr val="333399"/>
                </a:solidFill>
                <a:latin typeface="Tahoma"/>
              </a:rPr>
              <a:t>RADNO MES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7280" y="3983400"/>
            <a:ext cx="6359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rganizacioni pojam koji ne mora biti vremenski ograničen, lokaciono i vrednosno u potpunosti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54560" y="3475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8440" y="5123520"/>
            <a:ext cx="6338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ži organizacioni pojam i predstavlja “isečak” posla. Potpuno je vremenski i lokaciono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385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85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862280" y="2126880"/>
            <a:ext cx="5811840" cy="3630960"/>
            <a:chOff x="1862280" y="2126880"/>
            <a:chExt cx="5811840" cy="3630960"/>
          </a:xfrm>
        </p:grpSpPr>
        <p:sp>
          <p:nvSpPr>
            <p:cNvPr id="143" name=""/>
            <p:cNvSpPr/>
            <p:nvPr/>
          </p:nvSpPr>
          <p:spPr>
            <a:xfrm>
              <a:off x="2995920" y="397476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62280" y="2126880"/>
              <a:ext cx="5811840" cy="3630960"/>
              <a:chOff x="1862280" y="2126880"/>
              <a:chExt cx="5811840" cy="3630960"/>
            </a:xfrm>
          </p:grpSpPr>
          <p:sp>
            <p:nvSpPr>
              <p:cNvPr id="145" name=""/>
              <p:cNvSpPr/>
              <p:nvPr/>
            </p:nvSpPr>
            <p:spPr>
              <a:xfrm>
                <a:off x="1889280" y="2132280"/>
                <a:ext cx="173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62280" y="2126880"/>
                <a:ext cx="5811840" cy="3630960"/>
                <a:chOff x="1862280" y="2126880"/>
                <a:chExt cx="5811840" cy="36309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697280" y="2578320"/>
                  <a:ext cx="1769760" cy="2536560"/>
                  <a:chOff x="4697280" y="2578320"/>
                  <a:chExt cx="1769760" cy="25365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5852880" y="3944880"/>
                    <a:ext cx="61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4697280" y="2578320"/>
                    <a:ext cx="144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4730760" y="4824000"/>
                    <a:ext cx="1440" cy="29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1862280" y="2126880"/>
                  <a:ext cx="5811840" cy="3630960"/>
                  <a:chOff x="1862280" y="2126880"/>
                  <a:chExt cx="5811840" cy="36309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5934600" y="218700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873080" y="575640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886720" y="575784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1889280" y="4636800"/>
                    <a:ext cx="0" cy="109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632720" y="4647960"/>
                    <a:ext cx="0" cy="109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1862280" y="2126880"/>
                    <a:ext cx="0" cy="92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7666200" y="2181960"/>
                    <a:ext cx="0" cy="88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Radno mesto, </a:t>
            </a:r>
            <a:br>
              <a:rPr sz="3600"/>
            </a:b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inioci koji ga određuju i </a:t>
            </a:r>
            <a:br>
              <a:rPr sz="3600"/>
            </a:b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jihove međuzavisnos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41640" y="2336760"/>
            <a:ext cx="101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16200" y="1747800"/>
            <a:ext cx="2256120" cy="8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REDMET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(Proizvod ili uslu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3057480"/>
            <a:ext cx="2133720" cy="155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OS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radni zada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aterij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dokumenta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240" y="5016600"/>
            <a:ext cx="2195280" cy="15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720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SREDSTVA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aš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ređa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nstal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ener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2040" y="3078000"/>
            <a:ext cx="235908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ROSTOR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veli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b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ikrokl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sociološki uslo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960" y="1611360"/>
            <a:ext cx="8310600" cy="510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011320"/>
            <a:ext cx="9144000" cy="31680"/>
            <a:chOff x="0" y="2011320"/>
            <a:chExt cx="9144000" cy="31680"/>
          </a:xfrm>
        </p:grpSpPr>
        <p:sp>
          <p:nvSpPr>
            <p:cNvPr id="167" name=""/>
            <p:cNvSpPr/>
            <p:nvPr/>
          </p:nvSpPr>
          <p:spPr>
            <a:xfrm>
              <a:off x="0" y="201132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87440" y="2031840"/>
              <a:ext cx="8656560" cy="11160"/>
              <a:chOff x="487440" y="2031840"/>
              <a:chExt cx="8656560" cy="1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487440" y="2031840"/>
                <a:ext cx="312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45320" y="2043000"/>
                <a:ext cx="29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818560" y="2043000"/>
                <a:ext cx="3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0" y="158436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59960" y="159696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49600" y="2765520"/>
            <a:ext cx="2354400" cy="20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5. </a:t>
            </a: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ČOV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zn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sposob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fiziološk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sociološke oso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GOTOVOST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M je “gotovo” ako ima sve činioce celovite i sa odgovarajućim svojstv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ČINILAC RADNOG M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e post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toj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- nije odgovarajuć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- odgavarajuće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5:35:31Z</dcterms:created>
  <dc:creator>Barbara</dc:creator>
  <dc:description/>
  <dc:language>en-US</dc:language>
  <cp:lastModifiedBy>FON</cp:lastModifiedBy>
  <dcterms:modified xsi:type="dcterms:W3CDTF">2009-02-23T08:52:51Z</dcterms:modified>
  <cp:revision>27</cp:revision>
  <dc:subject/>
  <dc:title>prof. dr Milić Radović  OSNOVI ORGANIZACIJE PROIZVODNJE</dc:title>
</cp:coreProperties>
</file>