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9FF-5DEE-40EE-B971-014890C0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DC0-6A37-4656-90E1-95DB27BA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2BD-ABA5-40CF-BAA0-E23BC68B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920-E19E-4024-AD56-A0BFE009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BCAE-4F45-4014-BF7A-80173977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CB4E-606D-4AB0-98FB-68E91D9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5197-7DE3-49E9-A5F7-E33D8DC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DD6-3B9E-4FE7-B16D-00708CC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45B-934C-4E67-9CF8-369BB61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207B-E93A-4FAD-B028-C874BF4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B379-6D39-47C4-8593-817F3AA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290-3703-4B6D-B1AE-D133C7A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F9C-D77F-4432-AA89-65BC894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EEB7-9968-4B83-B489-6077F8C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7AB0-8A17-44F3-A727-C837FABE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54E3-07B5-4C73-9721-70040336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32F8-856B-4C67-873D-90543F72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58F-D968-4EDE-BC7B-69A2D83B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FE2-24F2-4DC8-B959-D801000A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6E1-8331-4B3B-B4BB-7EA47FC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0B4-47C6-40CA-990C-E7AC096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9D3-67C5-4F4A-AB10-4765804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39F-8B67-4DC0-A3CE-409C7EC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E4A-7BEE-4BC9-9042-4660EB8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AAF2-8EFB-4446-A0B7-B14012A5D7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B027-DE62-4004-8271-C3C59B1C11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30243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82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i razmatranju ovog zadatka treba imati u vidu sledeć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otreban broj mašina i radnika određuje se na osnovu </a:t>
            </a: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potrebnog (Kp) i raspoloživog kapaciteta (K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Koje vrste radnih mesta postoj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4221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Kpm =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42400" y="4724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2400" y="422100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42400" y="522936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0000" y="4221000"/>
            <a:ext cx="50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 RM: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jedan radnik i jedna ma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7920" y="47242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Kpm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&gt;</a:t>
            </a: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70080" y="47242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 RM: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jedan radnik i više ma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37920" y="522936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Kpm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&lt;</a:t>
            </a: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5040" y="5229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 RM: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više radnika i jedna ma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600" y="4221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k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600" y="47242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k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600" y="52293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k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8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38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8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38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302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l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l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pl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l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565360"/>
            <a:ext cx="431640" cy="3672000"/>
          </a:xfrm>
          <a:custGeom>
            <a:avLst/>
            <a:gdLst>
              <a:gd name="textAreaLeft" fmla="*/ 0 w 431640"/>
              <a:gd name="textAreaRight" fmla="*/ 155880 w 431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342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Koliki su potrebni osnovni resursi, oprema i ljud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U koliko smena treba radi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84464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Od čega se polaz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2852640"/>
            <a:ext cx="208764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BROJ MAŠ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(RADNIK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STE VRS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(STRUK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2708280"/>
            <a:ext cx="287280" cy="2089080"/>
          </a:xfrm>
          <a:custGeom>
            <a:avLst/>
            <a:gdLst>
              <a:gd name="textAreaLeft" fmla="*/ 0 w 287280"/>
              <a:gd name="textAreaRight" fmla="*/ 103680 w 287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3"/>
                  <a:pt x="10800" y="1805"/>
                </a:cubicBezTo>
                <a:lnTo>
                  <a:pt x="10800" y="9143"/>
                </a:lnTo>
                <a:cubicBezTo>
                  <a:pt x="10800" y="10046"/>
                  <a:pt x="16200" y="10948"/>
                  <a:pt x="21600" y="10948"/>
                </a:cubicBezTo>
                <a:cubicBezTo>
                  <a:pt x="16200" y="10948"/>
                  <a:pt x="10800" y="11851"/>
                  <a:pt x="10800" y="12753"/>
                </a:cubicBezTo>
                <a:lnTo>
                  <a:pt x="10800" y="19795"/>
                </a:lnTo>
                <a:cubicBezTo>
                  <a:pt x="10800" y="206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3357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3789360"/>
            <a:ext cx="4824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82320" y="333216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UKUPNO POTREBNO VREME (KAPACIT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7440" y="376380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RASPOLOŽIVO V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2060640"/>
                <a:ext cx="812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e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71640" y="2852640"/>
                <a:ext cx="812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e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rij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9000"/>
            <a:ext cx="863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916280"/>
            <a:ext cx="6372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komadno vreme, odnosno vreme po jedinici j–tog  predmeta rada za i–tu vrstu obrade, za i–tu vrstu mašina, za i–tu vrstu radnika (potrebno vreme rada jednog sredstva i-te vrste za izradu jednog komada j-tog predmeta rada)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2920" y="220500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924280"/>
            <a:ext cx="1150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q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321300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0200" y="2924280"/>
            <a:ext cx="6300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o vreme rada jednog sredstva i-te vrste za izradu jedne cele serije j-tog predmeta rada bez pripremno-završnog vremen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716280"/>
            <a:ext cx="971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pz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26920" y="3860640"/>
                <a:ext cx="749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484360" y="393372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0200" y="3716280"/>
            <a:ext cx="630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ukupno pripremno-završno vreme jedne serije j – tog proizvod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08640"/>
            <a:ext cx="212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pz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ff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0200" y="4292640"/>
            <a:ext cx="6300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o vreme rada jednog sredstva i-te vrste za izradu jedne cele serije j-tog predmeta rada sa pripremno-završnim vremenom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29360"/>
            <a:ext cx="2556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ff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551664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0200" y="5229360"/>
            <a:ext cx="630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o vreme rada jednog sredstva i-te vrste za izradu ukupne planirane količine j-tog predmeta rad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11280" y="242100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e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21000"/>
            <a:ext cx="64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p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2565360"/>
            <a:ext cx="63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i kapacitet za i-tu vrstu obrade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92360" y="4581360"/>
                <a:ext cx="540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Rs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558972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INRst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- standardno izvršenje normi rada, prebačaj ili podbačaj za  i – tu vrstu ob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270828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6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sr-Latn-CS" sz="24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997360"/>
            <a:ext cx="934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p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2997360"/>
            <a:ext cx="3168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1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573360"/>
            <a:ext cx="352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... + 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p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p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573360"/>
            <a:ext cx="3635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...+ 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j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997360"/>
            <a:ext cx="360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2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3573000"/>
            <a:ext cx="33829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standardni gubici u vremen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9640" y="2060640"/>
                <a:ext cx="4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-11520" y="20606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9640" y="3573360"/>
                <a:ext cx="349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39640" y="2565360"/>
                <a:ext cx="397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a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9640" y="3068640"/>
                <a:ext cx="3859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323720" y="206064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roj radnih dana u godi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27664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56536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68640"/>
            <a:ext cx="3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č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2240" y="3573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270828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97880" y="2565360"/>
            <a:ext cx="3033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roj radnih smena u dan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321300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9560" y="3068640"/>
            <a:ext cx="2378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roj časova u sme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371628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05360"/>
            <a:ext cx="90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rm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5640" y="4005360"/>
                <a:ext cx="4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422100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076640"/>
            <a:ext cx="4680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raspoloživi kapacitet za i-tu vrstu mašin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55640" y="4437000"/>
                <a:ext cx="377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r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čs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5157720"/>
            <a:ext cx="90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rr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4360" y="5157720"/>
                <a:ext cx="420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187280" y="544500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5300640"/>
            <a:ext cx="453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raspoloživi kapacitet za i-tu struku radnik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66960" y="5734080"/>
                <a:ext cx="332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čs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531120" y="4508640"/>
                <a:ext cx="17128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588000" y="5734080"/>
                <a:ext cx="15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05228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Kako se uzima u obzir INRst</a:t>
            </a:r>
            <a:r>
              <a:rPr b="0" lang="sr-Latn-CS" sz="4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1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Neka je za izradu planirane količine Q =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48360" y="1844640"/>
                <a:ext cx="576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700520" y="260280"/>
            <a:ext cx="4443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388360" y="1773360"/>
                <a:ext cx="57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94680" y="227664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Moguća su tri slučaja, tri situa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637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1. Proizvedena je planirana koli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637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2565360"/>
            <a:ext cx="2376360" cy="368280"/>
          </a:xfrm>
          <a:prstGeom prst="rect">
            <a:avLst/>
          </a:prstGeom>
          <a:solidFill>
            <a:srgbClr val="f7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ISPUNJENJE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8360" y="2997360"/>
                <a:ext cx="863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32000" y="2997360"/>
                <a:ext cx="23032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745800" y="32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INRs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933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2. Proizvedeno je Q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‘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  <a:ea typeface="Tahoma"/>
              </a:rPr>
              <a:t> =4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771640" y="3716280"/>
                <a:ext cx="7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672720" y="3933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005360"/>
            <a:ext cx="2376360" cy="368280"/>
          </a:xfrm>
          <a:prstGeom prst="rect">
            <a:avLst/>
          </a:prstGeom>
          <a:solidFill>
            <a:srgbClr val="f7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PREBAČAJ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95280" y="4437000"/>
                <a:ext cx="887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58920" y="4437000"/>
                <a:ext cx="2325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7272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284720" y="4508640"/>
                <a:ext cx="112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744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0508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22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INRst = 0,2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067280" y="5084640"/>
                <a:ext cx="699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82508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5805360"/>
            <a:ext cx="18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Kp’ = </a:t>
            </a: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Kp - IN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580536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0,8 K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19640" y="5589720"/>
                <a:ext cx="547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796000" y="5589720"/>
                <a:ext cx="1297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093080" y="5551560"/>
                <a:ext cx="151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0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7440" y="573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908000" y="6184800"/>
                <a:ext cx="1208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132000" y="61531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76720" y="6308640"/>
                <a:ext cx="871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724360" y="1844640"/>
            <a:ext cx="288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potrebno   Kp = 8 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35640" y="4508640"/>
                <a:ext cx="2330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979640" y="522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0,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·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8 500 =1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5805360"/>
            <a:ext cx="180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8 500 – 1 7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129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Q =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95640" y="1916280"/>
                <a:ext cx="6494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04292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ako se uzima u obzir INRst</a:t>
            </a:r>
            <a:r>
              <a:rPr b="0" lang="sr-Latn-CS" sz="44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00520" y="260280"/>
            <a:ext cx="4443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2060640"/>
            <a:ext cx="1584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Kp = 8 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619280" y="1989000"/>
                <a:ext cx="57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292428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3. Proizvedeno je Q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’’=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59280" y="2781360"/>
                <a:ext cx="6476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324320" y="29242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924280"/>
            <a:ext cx="2376720" cy="703800"/>
          </a:xfrm>
          <a:prstGeom prst="rect">
            <a:avLst/>
          </a:prstGeom>
          <a:solidFill>
            <a:srgbClr val="f7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PODBAČAJ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79280" y="3645000"/>
                <a:ext cx="917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16000" y="3645000"/>
                <a:ext cx="895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050920" y="3645000"/>
                <a:ext cx="1643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819600" y="37893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435640" y="3645000"/>
                <a:ext cx="20462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284720" y="3645000"/>
                <a:ext cx="11779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451640" y="3789360"/>
                <a:ext cx="1239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90520" y="46530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465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INRst = 0,3076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64000" y="4437000"/>
                <a:ext cx="70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290520" y="530064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5373720"/>
            <a:ext cx="18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Kp’’ = </a:t>
            </a: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Kp + IN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537372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1,3076 K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08720" y="537372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1111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37372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1,3076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·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  <a:ea typeface="Tahoma"/>
              </a:rPr>
              <a:t>8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43800" y="5084640"/>
                <a:ext cx="70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19440" y="5908680"/>
                <a:ext cx="1387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132000" y="5877000"/>
                <a:ext cx="1901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6021360"/>
                <a:ext cx="1168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35600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261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465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0,3076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·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8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373720"/>
            <a:ext cx="216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8 500 + 261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nn</cp:lastModifiedBy>
  <dcterms:modified xsi:type="dcterms:W3CDTF">2005-05-26T12:41:27Z</dcterms:modified>
  <cp:revision>39</cp:revision>
  <dc:subject/>
  <dc:title>Slide 1</dc:title>
</cp:coreProperties>
</file>