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4F2-1359-4ECE-975D-8F31295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F99-FC6D-43AA-9138-FAC1AC1C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BEE-77B2-4978-A329-87ECFD4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0BE-20CE-4125-B69C-E0CD16C6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718-FB9F-486E-9AE9-C4722915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3FD-3F1B-46D2-B1FD-F2644892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1636-82D0-4035-A6A5-A151D682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841-653A-416E-8BA5-3B54239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3900-F764-4B1B-A3DC-5D953A6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C7FC-363A-46EE-A421-57627CA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528-5082-4B52-97FB-B34DFE6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C74-DEAE-41FE-8191-DC61312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E3EE-E766-4949-873A-4E5C57C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94E8-9C4B-410C-ABEC-C7F2A9A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0C3B-9841-44BD-8424-73DD296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729-BF0E-4825-8851-14EA4D31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8BF-8BBA-4899-90A3-17CDCE3D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43F-3569-4342-B398-942FD666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299-E793-4227-87D4-46A90D9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5C5-FB10-4F24-8167-70C14BB6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B0D-264C-4E20-82EE-125D0D25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F31-B4C9-4B21-BA6D-78B930E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32E-BA5C-45E5-8069-7FF9159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88F-B411-4196-92DA-6D42E14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64E-2B96-47C3-BC3D-35B1447616A4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1C0-8840-43FD-8543-FF13CFE59540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SNOVE IN</a:t>
            </a:r>
            <a:r>
              <a:rPr b="1" lang="sl-SI" sz="4800" spc="-1" strike="noStrike">
                <a:solidFill>
                  <a:srgbClr val="333399"/>
                </a:solidFill>
                <a:latin typeface="Tahoma"/>
              </a:rPr>
              <a:t>ŽENJERINGA PROIZVODNIH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SISTEMA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3357720"/>
            <a:ext cx="66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333399"/>
                </a:solidFill>
                <a:latin typeface="Tahoma"/>
              </a:rPr>
              <a:t>OPTIMIZACIJA PROGRAMA PROIZVODNJE I USLUG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ELEKCIJA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GRAMA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izb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osnovnog dela prog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rangiranje svih vrsta proizvoda ili uslu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učešća direktnih troškova u ceni proizvoda ili uslug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upravljanje asortimanom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UTVRĐIVANJE AKUMULATIVNOSTI PROIZVO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32320" y="2166840"/>
            <a:ext cx="1790640" cy="685800"/>
            <a:chOff x="3532320" y="2166840"/>
            <a:chExt cx="1790640" cy="685800"/>
          </a:xfrm>
        </p:grpSpPr>
        <p:sp>
          <p:nvSpPr>
            <p:cNvPr id="107" name=""/>
            <p:cNvSpPr/>
            <p:nvPr/>
          </p:nvSpPr>
          <p:spPr>
            <a:xfrm>
              <a:off x="3532320" y="2166840"/>
              <a:ext cx="1790640" cy="6858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50120" y="2276640"/>
              <a:ext cx="1561320" cy="458640"/>
              <a:chOff x="3750120" y="2276640"/>
              <a:chExt cx="1561320" cy="458640"/>
            </a:xfrm>
          </p:grpSpPr>
          <p:sp>
            <p:nvSpPr>
              <p:cNvPr id="109" name=""/>
              <p:cNvSpPr/>
              <p:nvPr/>
            </p:nvSpPr>
            <p:spPr>
              <a:xfrm>
                <a:off x="3750120" y="2276640"/>
                <a:ext cx="1273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500" spc="-1" strike="noStrike">
                    <a:solidFill>
                      <a:srgbClr val="333399"/>
                    </a:solidFill>
                    <a:latin typeface="Tahoma"/>
                  </a:rPr>
                  <a:t>UPRAVLJANJ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59120" y="2506680"/>
                <a:ext cx="1552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500" spc="-1" strike="noStrike">
                    <a:solidFill>
                      <a:srgbClr val="333399"/>
                    </a:solidFill>
                    <a:latin typeface="Tahoma"/>
                  </a:rPr>
                  <a:t>PROIZVODNJOM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46240" y="3537000"/>
            <a:ext cx="1789200" cy="687240"/>
            <a:chOff x="1146240" y="3537000"/>
            <a:chExt cx="1789200" cy="687240"/>
          </a:xfrm>
        </p:grpSpPr>
        <p:sp>
          <p:nvSpPr>
            <p:cNvPr id="112" name=""/>
            <p:cNvSpPr/>
            <p:nvPr/>
          </p:nvSpPr>
          <p:spPr>
            <a:xfrm>
              <a:off x="1146240" y="3537000"/>
              <a:ext cx="178920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6240" y="3537000"/>
              <a:ext cx="1789200" cy="6872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5160" y="3651120"/>
              <a:ext cx="121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84200" y="3878280"/>
              <a:ext cx="149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ASORTIMAN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532320" y="3537000"/>
            <a:ext cx="1790640" cy="687240"/>
            <a:chOff x="3532320" y="3537000"/>
            <a:chExt cx="1790640" cy="687240"/>
          </a:xfrm>
        </p:grpSpPr>
        <p:sp>
          <p:nvSpPr>
            <p:cNvPr id="117" name=""/>
            <p:cNvSpPr/>
            <p:nvPr/>
          </p:nvSpPr>
          <p:spPr>
            <a:xfrm>
              <a:off x="3532320" y="3537000"/>
              <a:ext cx="179064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32320" y="3537000"/>
              <a:ext cx="1790640" cy="6872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66040" y="3651120"/>
              <a:ext cx="127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48200" y="3878280"/>
              <a:ext cx="86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OBIM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21280" y="3538440"/>
            <a:ext cx="1789200" cy="685800"/>
            <a:chOff x="5921280" y="3538440"/>
            <a:chExt cx="1789200" cy="685800"/>
          </a:xfrm>
        </p:grpSpPr>
        <p:sp>
          <p:nvSpPr>
            <p:cNvPr id="122" name=""/>
            <p:cNvSpPr/>
            <p:nvPr/>
          </p:nvSpPr>
          <p:spPr>
            <a:xfrm>
              <a:off x="5921280" y="3538440"/>
              <a:ext cx="1789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21280" y="3538440"/>
              <a:ext cx="1789200" cy="6858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53920" y="3651120"/>
              <a:ext cx="127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53560" y="3878280"/>
              <a:ext cx="122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KVALITET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442880" y="4908600"/>
            <a:ext cx="2387880" cy="1028520"/>
            <a:chOff x="1442880" y="4908600"/>
            <a:chExt cx="2387880" cy="1028520"/>
          </a:xfrm>
        </p:grpSpPr>
        <p:sp>
          <p:nvSpPr>
            <p:cNvPr id="127" name=""/>
            <p:cNvSpPr/>
            <p:nvPr/>
          </p:nvSpPr>
          <p:spPr>
            <a:xfrm>
              <a:off x="1442880" y="4908600"/>
              <a:ext cx="238788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2880" y="4908600"/>
              <a:ext cx="2387880" cy="102852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3000" y="507852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UTV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5960" y="507852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50680" y="5078520"/>
              <a:ext cx="6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IV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4040" y="5307120"/>
              <a:ext cx="18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AKUMULATIVNOS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8840" y="5535720"/>
              <a:ext cx="11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PROIZVO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50920" y="2852640"/>
            <a:ext cx="5373720" cy="684360"/>
            <a:chOff x="2050920" y="2852640"/>
            <a:chExt cx="5373720" cy="684360"/>
          </a:xfrm>
        </p:grpSpPr>
        <p:sp>
          <p:nvSpPr>
            <p:cNvPr id="135" name=""/>
            <p:cNvSpPr/>
            <p:nvPr/>
          </p:nvSpPr>
          <p:spPr>
            <a:xfrm>
              <a:off x="4440240" y="2852640"/>
              <a:ext cx="1800" cy="3286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0920" y="3193920"/>
              <a:ext cx="4775400" cy="343080"/>
            </a:xfrm>
            <a:custGeom>
              <a:avLst/>
              <a:gdLst/>
              <a:ahLst/>
              <a:rect l="l" t="t" r="r" b="b"/>
              <a:pathLst>
                <a:path w="6016" h="216">
                  <a:moveTo>
                    <a:pt x="0" y="216"/>
                  </a:moveTo>
                  <a:lnTo>
                    <a:pt x="0" y="0"/>
                  </a:lnTo>
                  <a:lnTo>
                    <a:pt x="6016" y="0"/>
                  </a:lnTo>
                </a:path>
              </a:pathLst>
            </a:custGeom>
            <a:noFill/>
            <a:ln w="205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6320" y="3193920"/>
              <a:ext cx="1440" cy="3430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0240" y="3193920"/>
              <a:ext cx="1800" cy="3430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7760" y="3193920"/>
              <a:ext cx="5968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46240" y="4224240"/>
            <a:ext cx="893520" cy="2055960"/>
            <a:chOff x="1146240" y="4224240"/>
            <a:chExt cx="893520" cy="2055960"/>
          </a:xfrm>
        </p:grpSpPr>
        <p:sp>
          <p:nvSpPr>
            <p:cNvPr id="141" name=""/>
            <p:cNvSpPr/>
            <p:nvPr/>
          </p:nvSpPr>
          <p:spPr>
            <a:xfrm>
              <a:off x="1146240" y="5423040"/>
              <a:ext cx="2966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6240" y="4224240"/>
              <a:ext cx="893520" cy="2055960"/>
            </a:xfrm>
            <a:custGeom>
              <a:avLst/>
              <a:gdLst/>
              <a:ahLst/>
              <a:rect l="l" t="t" r="r" b="b"/>
              <a:pathLst>
                <a:path w="1127" h="1295">
                  <a:moveTo>
                    <a:pt x="1127" y="0"/>
                  </a:moveTo>
                  <a:lnTo>
                    <a:pt x="1127" y="215"/>
                  </a:lnTo>
                  <a:lnTo>
                    <a:pt x="0" y="215"/>
                  </a:lnTo>
                  <a:lnTo>
                    <a:pt x="0" y="1295"/>
                  </a:lnTo>
                </a:path>
              </a:pathLst>
            </a:custGeom>
            <a:noFill/>
            <a:ln w="205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0560" y="0"/>
            <a:ext cx="6913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AKUMULATIVNOST PROIZVO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8640" y="1916280"/>
            <a:ext cx="8955000" cy="12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Pravovremeni uvid u akumulativnost svake vrste proizvoda i različitih kombinacija više vrsta proizvod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Formiranje informaciono-dokumentacione osnove z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evidenciju i praćenje asortiman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brzo sagledavanje učešća direktnih materijalnih troškova u ceni proizvod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sagledavanje učešća ostalih troškova i raznih izdvajanja u ceni proizvod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utvrđivanje poslovnog prinosa po jedinici proizvoda, it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Rangiranje vrsta proizvoda po kriterijumima: poslovni prinos, relativno učešće direktnih troškova u ceni proizvoda,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98100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333399"/>
                </a:solidFill>
                <a:latin typeface="Tahoma"/>
              </a:rPr>
              <a:t>CILJEV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773360"/>
            <a:ext cx="432000" cy="5084640"/>
          </a:xfrm>
          <a:custGeom>
            <a:avLst/>
            <a:gdLst>
              <a:gd name="textAreaLeft" fmla="*/ 0 w 432000"/>
              <a:gd name="textAreaRight" fmla="*/ 155880 w 432000"/>
              <a:gd name="textAreaTop" fmla="*/ 132480 h 5084640"/>
              <a:gd name="textAreaBottom" fmla="*/ 4952160 h 50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789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Utvrđivanje (kalkulacija) cene koštanja predmeta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060640"/>
            <a:ext cx="47530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Pravovremeni uvid u akumulativnost svake vrste proizvoda i različitih kombinacija više vrsta proizv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Formiranje informaciono-dokumentacione osnov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evidenciju i praćenje asortima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brzo sagledavanje učešća direktnih materijalnih troškova u ceni proiz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sagledavanje učešća ostalih troškova i raznih izdvajanja u ceni proiz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tvrđivanje poslovnog prinosa po jedinici proizvoda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Rangiranje vrsta proizvoda po kriterijumima: poslovni prinos, relativno učešće direktnih troškova u ceni proizvod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I FAZE SELEKCIJE 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16280"/>
            <a:ext cx="172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OLAZI SE 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205000"/>
            <a:ext cx="172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SORTI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421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637000"/>
            <a:ext cx="2232000" cy="1125720"/>
          </a:xfrm>
          <a:prstGeom prst="rect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NSTRU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TEHNOLO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RGANIZACIJA IZ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70920" y="2636640"/>
            <a:ext cx="487080" cy="11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NALIZA VRED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3789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933720"/>
            <a:ext cx="2303640" cy="1081080"/>
          </a:xfrm>
          <a:prstGeom prst="rect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MATERIJ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ENERG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501336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STALI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ARAME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95008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GRANI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44500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RITERIJU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5661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229360"/>
            <a:ext cx="0" cy="215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479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916280"/>
            <a:ext cx="360360" cy="4537080"/>
          </a:xfrm>
          <a:custGeom>
            <a:avLst/>
            <a:gdLst>
              <a:gd name="textAreaLeft" fmla="*/ 0 w 360360"/>
              <a:gd name="textAreaRight" fmla="*/ 252720 w 360360"/>
              <a:gd name="textAreaTop" fmla="*/ 189000 h 4537080"/>
              <a:gd name="textAreaBottom" fmla="*/ 434808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386064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844640"/>
            <a:ext cx="1873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BRADA PODATA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47640" y="2205000"/>
            <a:ext cx="2232360" cy="2074320"/>
            <a:chOff x="3347640" y="2205000"/>
            <a:chExt cx="2232360" cy="2074320"/>
          </a:xfrm>
        </p:grpSpPr>
        <p:sp>
          <p:nvSpPr>
            <p:cNvPr id="169" name=""/>
            <p:cNvSpPr/>
            <p:nvPr/>
          </p:nvSpPr>
          <p:spPr>
            <a:xfrm>
              <a:off x="3922920" y="2205000"/>
              <a:ext cx="1225440" cy="487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POSLOVNI PRI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2920" y="2708280"/>
              <a:ext cx="1225440" cy="563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2920" y="3213360"/>
              <a:ext cx="1225440" cy="563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2920" y="3716280"/>
              <a:ext cx="1225440" cy="563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360" y="2205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8360" y="422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7280" y="2205000"/>
              <a:ext cx="0" cy="2016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4000" y="2708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4000" y="3213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4000" y="3716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4000" y="4221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6920" y="2708280"/>
              <a:ext cx="0" cy="505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6920" y="3213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6920" y="3716280"/>
              <a:ext cx="0" cy="505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3347640" y="3715920"/>
              <a:ext cx="243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3347640" y="3213360"/>
              <a:ext cx="2437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E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347640" y="2707920"/>
              <a:ext cx="243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5219640" y="2997360"/>
              <a:ext cx="2437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572000" y="429264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508640"/>
            <a:ext cx="187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724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mputr1"/>
          <p:cNvSpPr/>
          <p:nvPr/>
        </p:nvSpPr>
        <p:spPr>
          <a:xfrm>
            <a:off x="3924360" y="4941720"/>
            <a:ext cx="1295280" cy="1224000"/>
          </a:xfrm>
          <a:prstGeom prst="pi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623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616572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19280" y="645120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649080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1916280"/>
            <a:ext cx="360360" cy="4537080"/>
          </a:xfrm>
          <a:custGeom>
            <a:avLst/>
            <a:gdLst>
              <a:gd name="textAreaLeft" fmla="*/ 0 w 360360"/>
              <a:gd name="textAreaRight" fmla="*/ 252720 w 360360"/>
              <a:gd name="textAreaTop" fmla="*/ 189000 h 4537080"/>
              <a:gd name="textAreaBottom" fmla="*/ 434808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080" y="3860640"/>
            <a:ext cx="21564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1844640"/>
            <a:ext cx="187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ZL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2421000"/>
            <a:ext cx="244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RANGIRANI ASORTI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2205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6000" y="2708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OJEDINAČNA SELE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12000" y="3213000"/>
            <a:ext cx="3132000" cy="1477080"/>
            <a:chOff x="6012000" y="3213000"/>
            <a:chExt cx="3132000" cy="1477080"/>
          </a:xfrm>
        </p:grpSpPr>
        <p:grpSp>
          <p:nvGrpSpPr>
            <p:cNvPr id="204" name=""/>
            <p:cNvGrpSpPr/>
            <p:nvPr/>
          </p:nvGrpSpPr>
          <p:grpSpPr>
            <a:xfrm>
              <a:off x="6300720" y="3213000"/>
              <a:ext cx="2518920" cy="1269360"/>
              <a:chOff x="6300720" y="3213000"/>
              <a:chExt cx="2518920" cy="126936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6300720" y="3213000"/>
                <a:ext cx="0" cy="1269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0720" y="4480560"/>
                <a:ext cx="25189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00720" y="3412800"/>
                <a:ext cx="251280" cy="10674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52000" y="3479400"/>
                <a:ext cx="252000" cy="1001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4360" y="3545280"/>
                <a:ext cx="252000" cy="9349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56360" y="3679200"/>
                <a:ext cx="252000" cy="8010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08360" y="3879720"/>
                <a:ext cx="251280" cy="6004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65800" y="4080240"/>
                <a:ext cx="252000" cy="4003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17800" y="4246560"/>
                <a:ext cx="252000" cy="2340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28840" y="4348080"/>
                <a:ext cx="1681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72360" y="4482360"/>
              <a:ext cx="2771640" cy="207720"/>
              <a:chOff x="6372360" y="4482360"/>
              <a:chExt cx="2771640" cy="207720"/>
            </a:xfrm>
          </p:grpSpPr>
          <p:sp>
            <p:nvSpPr>
              <p:cNvPr id="216" name=""/>
              <p:cNvSpPr/>
              <p:nvPr/>
            </p:nvSpPr>
            <p:spPr>
              <a:xfrm>
                <a:off x="6372360" y="4482360"/>
                <a:ext cx="2887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8800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0400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93080" y="4482360"/>
                <a:ext cx="2887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0872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40720" y="45500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91640" y="4482360"/>
                <a:ext cx="1152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333399"/>
                    </a:solidFill>
                    <a:latin typeface="Tahoma"/>
                  </a:rPr>
                  <a:t>Vrste proizvo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12000" y="327888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308720" y="4724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012000" y="4868640"/>
            <a:ext cx="2807640" cy="1551600"/>
            <a:chOff x="6012000" y="4868640"/>
            <a:chExt cx="2807640" cy="1551600"/>
          </a:xfrm>
        </p:grpSpPr>
        <p:sp>
          <p:nvSpPr>
            <p:cNvPr id="226" name=""/>
            <p:cNvSpPr/>
            <p:nvPr/>
          </p:nvSpPr>
          <p:spPr>
            <a:xfrm>
              <a:off x="6298920" y="616428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443640" y="4868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43640" y="5229360"/>
              <a:ext cx="1944360" cy="938160"/>
            </a:xfrm>
            <a:custGeom>
              <a:avLst/>
              <a:gdLst/>
              <a:ahLst/>
              <a:rect l="l" t="t" r="r" b="b"/>
              <a:pathLst>
                <a:path w="2861" h="2713">
                  <a:moveTo>
                    <a:pt x="2861" y="15"/>
                  </a:moveTo>
                  <a:lnTo>
                    <a:pt x="2720" y="7"/>
                  </a:lnTo>
                  <a:lnTo>
                    <a:pt x="2584" y="1"/>
                  </a:lnTo>
                  <a:lnTo>
                    <a:pt x="2451" y="0"/>
                  </a:lnTo>
                  <a:lnTo>
                    <a:pt x="2322" y="1"/>
                  </a:lnTo>
                  <a:lnTo>
                    <a:pt x="2196" y="8"/>
                  </a:lnTo>
                  <a:lnTo>
                    <a:pt x="2073" y="18"/>
                  </a:lnTo>
                  <a:lnTo>
                    <a:pt x="1955" y="32"/>
                  </a:lnTo>
                  <a:lnTo>
                    <a:pt x="1839" y="51"/>
                  </a:lnTo>
                  <a:lnTo>
                    <a:pt x="1727" y="72"/>
                  </a:lnTo>
                  <a:lnTo>
                    <a:pt x="1620" y="99"/>
                  </a:lnTo>
                  <a:lnTo>
                    <a:pt x="1515" y="129"/>
                  </a:lnTo>
                  <a:lnTo>
                    <a:pt x="1413" y="163"/>
                  </a:lnTo>
                  <a:lnTo>
                    <a:pt x="1315" y="200"/>
                  </a:lnTo>
                  <a:lnTo>
                    <a:pt x="1222" y="242"/>
                  </a:lnTo>
                  <a:lnTo>
                    <a:pt x="1129" y="287"/>
                  </a:lnTo>
                  <a:lnTo>
                    <a:pt x="1043" y="337"/>
                  </a:lnTo>
                  <a:lnTo>
                    <a:pt x="959" y="391"/>
                  </a:lnTo>
                  <a:lnTo>
                    <a:pt x="879" y="449"/>
                  </a:lnTo>
                  <a:lnTo>
                    <a:pt x="802" y="510"/>
                  </a:lnTo>
                  <a:lnTo>
                    <a:pt x="729" y="575"/>
                  </a:lnTo>
                  <a:lnTo>
                    <a:pt x="659" y="644"/>
                  </a:lnTo>
                  <a:lnTo>
                    <a:pt x="592" y="718"/>
                  </a:lnTo>
                  <a:lnTo>
                    <a:pt x="530" y="795"/>
                  </a:lnTo>
                  <a:lnTo>
                    <a:pt x="471" y="877"/>
                  </a:lnTo>
                  <a:lnTo>
                    <a:pt x="415" y="962"/>
                  </a:lnTo>
                  <a:lnTo>
                    <a:pt x="363" y="1051"/>
                  </a:lnTo>
                  <a:lnTo>
                    <a:pt x="313" y="1144"/>
                  </a:lnTo>
                  <a:lnTo>
                    <a:pt x="268" y="1241"/>
                  </a:lnTo>
                  <a:lnTo>
                    <a:pt x="227" y="1341"/>
                  </a:lnTo>
                  <a:lnTo>
                    <a:pt x="189" y="1446"/>
                  </a:lnTo>
                  <a:lnTo>
                    <a:pt x="155" y="1555"/>
                  </a:lnTo>
                  <a:lnTo>
                    <a:pt x="124" y="1669"/>
                  </a:lnTo>
                  <a:lnTo>
                    <a:pt x="95" y="1785"/>
                  </a:lnTo>
                  <a:lnTo>
                    <a:pt x="71" y="1905"/>
                  </a:lnTo>
                  <a:lnTo>
                    <a:pt x="50" y="2030"/>
                  </a:lnTo>
                  <a:lnTo>
                    <a:pt x="33" y="2159"/>
                  </a:lnTo>
                  <a:lnTo>
                    <a:pt x="20" y="2292"/>
                  </a:lnTo>
                  <a:lnTo>
                    <a:pt x="10" y="2428"/>
                  </a:lnTo>
                  <a:lnTo>
                    <a:pt x="3" y="2568"/>
                  </a:lnTo>
                  <a:lnTo>
                    <a:pt x="0" y="271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8360" y="522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443280" y="522936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280" y="5372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443640" y="537228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9280" y="5661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43640" y="56610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7640" y="6237360"/>
              <a:ext cx="115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Vrste proizv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2000" y="5156280"/>
              <a:ext cx="43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3280" y="494028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587700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0920" y="580572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2920" y="56610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227640" y="494172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KUPNA SELE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623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236000" y="652752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87280" y="1052280"/>
            <a:ext cx="3421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KRITERIJUMI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obim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oslovni prinos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oslovni prinos po normativu rada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rofit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0"/>
            <a:ext cx="7596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ELEKCIJA PROGRAM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27640" y="2133720"/>
                <a:ext cx="1582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227640" y="2924280"/>
                <a:ext cx="1584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87640" y="4365720"/>
                <a:ext cx="7923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0720" y="5013360"/>
                <a:ext cx="1584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Administrator</cp:lastModifiedBy>
  <dcterms:modified xsi:type="dcterms:W3CDTF">2007-02-16T09:36:13Z</dcterms:modified>
  <cp:revision>16</cp:revision>
  <dc:subject/>
  <dc:title>Slide 1</dc:title>
</cp:coreProperties>
</file>