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497-4C85-4CC2-B108-C7F335AE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7DB-E186-4E9E-BA70-BC541BE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E60-6D40-4590-8B49-313506AE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8CA-2307-47DD-A261-E5015994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9E81-9A44-4C63-9739-8EA89261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CBEF-1C2F-4E95-9368-6FB18B4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C76-C1B6-421C-9E08-1503E62E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3977-AEC5-4E82-B333-3B1B2FB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C4CB-77E8-4D47-963B-99DAC29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133-2504-4805-9A56-C4B8B8B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A70-E599-4326-8674-263B177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E18-C750-4DB5-B0C1-E1652C5D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A0D-EACA-4F30-B014-E917BBBF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90FA-5952-482A-9097-EADA207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5A6-A0D2-4CE5-A1EA-82F53EB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3793-24B3-4868-B360-1456FFF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E670-1E30-47CE-92E9-76D07141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C29F-B649-4073-9EDD-A69C0FC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5EF3-026C-44F4-A9F1-15D89C1D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B495-C7BD-4E11-B0AC-300C916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11D5-2858-4EA4-8377-B032D2F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3A51-E3A7-455D-BD87-83EC0EE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457-E30D-4AAF-AA87-CDF64890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7E2B-61C5-4AB3-8AEE-CE45446F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EF33-FE89-4F3B-BBBD-B53FD91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BF07-8AE2-4082-B324-03D7EEE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8D37-9AF7-4A1B-8E96-54CA7CB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07BA-417C-4C7A-B5F7-FD3E4BF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28A1-03BD-4FA0-9F7A-6048420E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2071-5750-4791-9637-A771B32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14D-BFBC-441B-9A9B-F062453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A2C-0443-4076-8681-50FD6A32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104-F730-403E-AB94-C7EE6B5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5D1-CF76-46AA-B30B-86207410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621-0222-40D3-AFB9-4C78E0C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461-A683-4C12-BFF9-6F6F617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472A-7D24-414A-8E01-1CFF800D9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46E2-E2A5-4314-8E7F-866D96C4C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6EA-55BB-4EBF-9A01-0B130EAC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ĐIVANJE OPTIMALNOG LINIJSKOG I KOMBINOVANOG RASPOREDA RADNIH MES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METOD USLOVNIH NIZ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linijskog i kombinovanog rasporeda R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Za razliku od grupnog rasporeda ovde se traži pretežni redosled operacija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Ovakav raspored je tehnički i organizaciono racionalniji kod srednjeserijske i velikoserijske proizvodnje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Za ove tipove proizvodnje je važno odrediti optimalan položaj radnog mesta u liniji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snovni zadatak pri projektovanju linijskih procesa proizvodnj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Odrediti takav položaj radnih mesta koji će zahtevati najkraće putanje predmeta rad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jedinačne putanje predmeta rada ne moraju biti najkrać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65640"/>
            <a:ext cx="9144000" cy="1464480"/>
          </a:xfrm>
          <a:prstGeom prst="rect">
            <a:avLst/>
          </a:prstGeom>
          <a:solidFill>
            <a:srgbClr val="fef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Optimalni linijski raspored radnih mesta je onaj kome odgovara najmanji ukupni put predmeta 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15 </a:t>
            </a:r>
            <a:r>
              <a:rPr b="0" i="1" lang="sr-Latn-CS" sz="4000" spc="-1" strike="noStrike">
                <a:solidFill>
                  <a:srgbClr val="333399"/>
                </a:solidFill>
                <a:latin typeface="Arial"/>
              </a:rPr>
              <a:t>str 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lužba tehničke pripreme utvrdila je sledeći redosled radnih mesta za izradu proizvoda P1, P2, P3, P4 i P5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1:  RM1 -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2:  RM2 - RM1 - RM3 - RM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3:  RM2 - RM1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4: 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5:  RM1 - RM4 - RM5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astaviti tabelu frekvencija radnih mesta u uslovnom ni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a osnovu tabele frekvencija odrediti liniju  rasporeda radnih m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šematski prikazati utvrđenu liniju rasporeda radnih mesta sa  putanjama proizvoda u procesu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zračunati najmanju vrednost funkcije ci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18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odifikovana frekvencija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– jačina zahteva da se neko radno mesto nađe na određenoj poziciji u optimalnom niz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00200" y="1828800"/>
                <a:ext cx="43434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33526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 – prati radna mesta, tj.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olone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u tabe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j – prat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rste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, tj. pozicije u opštim nizov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 –označava pozicije na koje se raspoređuju radna m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15 </a:t>
            </a:r>
            <a:r>
              <a:rPr b="0" i="1" lang="sr-Latn-CS" sz="4000" spc="-1" strike="noStrike">
                <a:solidFill>
                  <a:srgbClr val="333399"/>
                </a:solidFill>
                <a:latin typeface="Arial"/>
              </a:rPr>
              <a:t>str 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lužba tehničke pripreme utvrdila je sledeći redosled radnih mesta za izradu proizvoda P1, P2, P3, P4 i P5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1:  RM1 -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2:  RM2 - RM1 - RM3 - RM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3:  RM2 - RM1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4: 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5:  RM1 - RM4 - RM5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astaviti tabelu frekvencija radnih mesta u uslovnom ni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a osnovu tabele frekvencija odrediti liniju  rasporeda radnih m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šematski prikazati utvrđenu liniju rasporeda radnih mesta sa  putanjama proizvoda u procesu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zračunati najmanju vrednost funkcije ci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9436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Funkcija cilja – </a:t>
            </a: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najkraći put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Primer 1.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27118" t="30605" r="12398" b="30448"/>
          <a:stretch/>
        </p:blipFill>
        <p:spPr>
          <a:xfrm>
            <a:off x="1523880" y="914400"/>
            <a:ext cx="6019920" cy="29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828800" y="4495680"/>
          <a:ext cx="25146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495680"/>
                    <a:ext cx="2514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95680" y="469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2,...,6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2,...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Primer 1.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7118" t="30605" r="12398" b="30448"/>
          <a:stretch/>
        </p:blipFill>
        <p:spPr>
          <a:xfrm>
            <a:off x="0" y="457200"/>
            <a:ext cx="3429000" cy="16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95400" y="2133720"/>
          <a:ext cx="13716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2133720"/>
                    <a:ext cx="1371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2192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,2,...,6;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,2,...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5720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1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1,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11 = 4 + 2[(1-1) 4]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i1 &lt; 0,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x Fi1 = F1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prvo radno mesto u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liniji biće RM1</a:t>
            </a:r>
            <a:r>
              <a:rPr b="0" lang="pl-PL" sz="1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299120" y="279360"/>
          <a:ext cx="1904760" cy="8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99120" y="279360"/>
                    <a:ext cx="190476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i="1" lang="pl-PL" sz="1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22 = 4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4) 1 + (2-5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3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3) 3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4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3) 1 + (2-4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5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6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6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4) 2 + (2-5) 1 + (2-7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2419200"/>
          <a:ext cx="190512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2419200"/>
                    <a:ext cx="1905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743200" y="4267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max Fi2 = F22 = F32 = F42 = -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334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[k=3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23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3-2) 4 + (3-4) 1 + (3-5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3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43 = 1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3-4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572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treba odrediti modifikovanu frekvenciju radnih mesta RM2, RM3, RM4   za poziciju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min Fi3 = F43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drugo radno mesto u liniji biće RM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2:32:02Z</dcterms:created>
  <dc:creator>Administrator</dc:creator>
  <dc:description/>
  <dc:language>en-US</dc:language>
  <cp:lastModifiedBy>Barbara</cp:lastModifiedBy>
  <dcterms:modified xsi:type="dcterms:W3CDTF">2008-05-12T07:12:40Z</dcterms:modified>
  <cp:revision>9</cp:revision>
  <dc:subject/>
  <dc:title>ODREĐIVANJE OPTIMALNOG LINIJSKOG I KOMBINOVANOG RASPOREDA RADNIH MESTA</dc:title>
</cp:coreProperties>
</file>