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7D526-9ADF-43C2-81CC-68DAB86A6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40B98-3736-49E0-B40A-024B1CB55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40909-3638-407F-A83A-E040A9163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ACB69-D6CD-4703-BD11-B7858DA80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4D83E-18CF-416A-BFF8-43CA4EBF6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9313A-4A57-4717-B099-72C0BC1C0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B0722-C240-4526-B6B4-F41BE7723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82AE1-F130-4C14-903C-23EAD4A8A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CE271-25FF-4C32-8A7E-BF19F9BDB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35601-73D5-45E8-B289-F4E73D708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7E5A7-1FD2-4196-A548-4B22E50AD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B086B-18CA-4E2F-9D9B-C2A353342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64F75-FD20-4E67-929E-D08A7EAE1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BDF2A-82F8-42FE-943E-21D95AA98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F23CA-BD8D-4673-97E2-71D8E3DB9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AC18D-EFFE-40AE-9D46-C492D9A0A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BA61B-57D0-4A07-AFF0-F61982C9F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9A88DB-D1B0-4CC6-BD8F-E5FC000B5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439482-BC26-406D-B251-5A40DBB68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12B554-B682-41FB-BFC1-B2F204AE9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C84577-3835-40FC-8958-FFBF3CF42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729745-225E-45CB-AC5A-9492424D2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29004-742E-42F8-96A4-0AC4B10A7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7AB37A-970F-48EB-86F4-FD97400B5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F7414E-D10C-4C4F-AD68-D23BD1529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AF8501-F931-44B0-B2A6-4DF6CD9F7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33F731-03CB-4BE0-BC71-A1B03077E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88F85C-FE01-476F-A34A-916680E0B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1A73F2-B874-4250-A9BE-FE0514B37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D5C481-EBD1-4B4B-B46E-B1FDA49C0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2D118-C6E6-4F3B-BBA2-16DFA1189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0A2F5-B997-4CEA-A8E2-9034D76C9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2AF85-7C92-4E89-A02C-A36E47FA7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067DC-604F-4ED4-91E6-0A207D658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A2CC2-D5F9-4286-BA17-E0E284103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4FE1B-EA2F-4EAD-8404-C297F39A9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4E272-4A63-4F18-9923-5EFFC4F6E7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EACB1-6EC0-4926-8E23-A6BB60552C6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90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91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94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ftr" idx="8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sldNum" idx="9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26ED7-C062-40F3-AC28-73A9C8B7888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DRE</a:t>
            </a:r>
            <a:r>
              <a:rPr b="0" lang="sr-Latn-CS" sz="4400" spc="-1" strike="noStrike">
                <a:solidFill>
                  <a:srgbClr val="333399"/>
                </a:solidFill>
                <a:latin typeface="Tahoma"/>
              </a:rPr>
              <a:t>ĐIVANJE REDOSLEDA POSLOV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1371600" y="441936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333399"/>
                </a:solidFill>
                <a:latin typeface="Tahoma"/>
              </a:rPr>
              <a:t>DŽONSONOV METO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0" y="-98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0" y="-98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2286000" y="0"/>
          <a:ext cx="453384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0"/>
                    <a:ext cx="453384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460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333399"/>
                </a:solidFill>
                <a:latin typeface="Arial"/>
              </a:rPr>
              <a:t>Zadatak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8380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333399"/>
                </a:solidFill>
                <a:latin typeface="Arial"/>
              </a:rPr>
              <a:t>Na izradi četiri dalekovoda angažovane su tri ekipe jednog elektroprivrednog preduzeća. Osnovni podaci o dalekovodima i ekipama su sledeć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1371600" y="1800360"/>
            <a:ext cx="6172200" cy="246672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0" y="4648320"/>
            <a:ext cx="914400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333399"/>
                </a:solidFill>
                <a:latin typeface="Arial"/>
              </a:rPr>
              <a:t>Cilj je da se dalekovodi završe za najkraće moguće vre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333399"/>
                </a:solidFill>
                <a:latin typeface="Arial"/>
              </a:rPr>
              <a:t>Odrediti redosled postavljanja dalekovoda i najkraće vreme završetka sva četiri dalekovod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333399"/>
                </a:solidFill>
                <a:latin typeface="Arial"/>
              </a:rPr>
              <a:t>Izračunati koliko će ekipa za montažu čekati da se razvuku kablovi dalekovoda DV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333399"/>
                </a:solidFill>
                <a:latin typeface="Arial"/>
              </a:rPr>
              <a:t>Odrediti koliko će razvučeni kablovi za dalekovod DV2 čekati na montaž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-98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-98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2286000" y="0"/>
          <a:ext cx="453384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0"/>
                    <a:ext cx="453384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122040"/>
            <a:ext cx="822960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333399"/>
                </a:solidFill>
                <a:latin typeface="Arial"/>
              </a:rPr>
              <a:t>Zadatak 1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91440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333399"/>
                </a:solidFill>
                <a:latin typeface="Arial"/>
              </a:rPr>
              <a:t>Pronađi optimalan redosled serija S1 - S6, koje se izvršavaju u pogonima P1 i P2 i to tako da  svaka serija počinje da se izvršava u pogonu P1 a završava u pogonu P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333399"/>
                </a:solidFill>
                <a:latin typeface="Arial"/>
              </a:rPr>
              <a:t>Potrebna vremena u mesecima za izvršavanje serija po pogonima su sledeća: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9144000" cy="144792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0" y="50292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Odrediti trajanje svih zastoja pogona P2 pomo</a:t>
            </a:r>
            <a:r>
              <a:rPr b="0" lang="sr-Latn-CS" sz="2400" spc="-1" strike="noStrike">
                <a:solidFill>
                  <a:srgbClr val="333399"/>
                </a:solidFill>
                <a:latin typeface="Arial"/>
              </a:rPr>
              <a:t>ć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u izraza</a:t>
            </a:r>
            <a:r>
              <a:rPr b="0" lang="sr-Latn-CS" sz="2400" spc="-1" strike="noStrike">
                <a:solidFill>
                  <a:srgbClr val="333399"/>
                </a:solidFill>
                <a:latin typeface="Arial"/>
              </a:rPr>
              <a:t> za zastoje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i najkra</a:t>
            </a:r>
            <a:r>
              <a:rPr b="0" lang="sr-Latn-CS" sz="2400" spc="-1" strike="noStrike">
                <a:solidFill>
                  <a:srgbClr val="333399"/>
                </a:solidFill>
                <a:latin typeface="Arial"/>
              </a:rPr>
              <a:t>ć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e vreme zavr</a:t>
            </a:r>
            <a:r>
              <a:rPr b="0" lang="sr-Latn-CS" sz="2400" spc="-1" strike="noStrike">
                <a:solidFill>
                  <a:srgbClr val="333399"/>
                </a:solidFill>
                <a:latin typeface="Arial"/>
              </a:rPr>
              <a:t>š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etka svih serija. Grafi</a:t>
            </a:r>
            <a:r>
              <a:rPr b="0" lang="sr-Latn-CS" sz="2400" spc="-1" strike="noStrike">
                <a:solidFill>
                  <a:srgbClr val="333399"/>
                </a:solidFill>
                <a:latin typeface="Arial"/>
              </a:rPr>
              <a:t>č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ki prikazati izvr</a:t>
            </a:r>
            <a:r>
              <a:rPr b="0" lang="sr-Latn-CS" sz="2400" spc="-1" strike="noStrike">
                <a:solidFill>
                  <a:srgbClr val="333399"/>
                </a:solidFill>
                <a:latin typeface="Arial"/>
              </a:rPr>
              <a:t>š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enje optimalnog redosle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0" y="-98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-98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2286000" y="0"/>
          <a:ext cx="453384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0"/>
                    <a:ext cx="453384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333399"/>
                </a:solidFill>
                <a:latin typeface="Arial"/>
              </a:rPr>
              <a:t>Zadatak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609480" y="4267080"/>
                <a:ext cx="7315200" cy="91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o</m:t>
                        </m:r>
                      </m:sup>
                    </m:sSub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ax</m:t>
                    </m:r>
                    <m:d>
                      <m:dPr>
                        <m:begChr m:val="["/>
                        <m:endChr m:val="]"/>
                      </m:dP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</m:nary>
                            <m:r>
                              <m:t xml:space="preserve">−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2</m:t>
                                    </m:r>
                                  </m:sub>
                                </m:sSub>
                              </m:e>
                            </m:nary>
                          </m:e>
                        </m:d>
                        <m:r>
                          <m:t xml:space="preserve">,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</m:nary>
                            <m:r>
                              <m:t xml:space="preserve">−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2</m:t>
                                    </m:r>
                                  </m:sub>
                                </m:sSub>
                              </m:e>
                            </m:nary>
                          </m:e>
                        </m:d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</m:nary>
                            <m:r>
                              <m:t xml:space="preserve">−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1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2</m:t>
                                    </m:r>
                                  </m:sub>
                                </m:sSub>
                              </m:e>
                            </m:nary>
                          </m:e>
                        </m:d>
                        <m:r>
                          <m:t xml:space="preserve">,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56" name=""/>
          <p:cNvSpPr/>
          <p:nvPr/>
        </p:nvSpPr>
        <p:spPr>
          <a:xfrm>
            <a:off x="0" y="914400"/>
            <a:ext cx="9144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333399"/>
                </a:solidFill>
                <a:latin typeface="Arial"/>
              </a:rPr>
              <a:t>Pronađi optimalan redosled serija S1 - S6, koje se izvršavaju u pogonima P1 i P2 i to tako da  svaka serija počinje da se izvršava u pogonu P1 a završava u pogonu P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333399"/>
                </a:solidFill>
                <a:latin typeface="Arial"/>
              </a:rPr>
              <a:t>Potrebna vremena u mesecima za izvršavanje serija po pogonima su sledeća: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838080" y="2286000"/>
            <a:ext cx="7239240" cy="114624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0" y="33526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Odrediti trajanje svih zastoja pogona P2 pomo</a:t>
            </a:r>
            <a:r>
              <a:rPr b="0" lang="sr-Latn-CS" sz="2000" spc="-1" strike="noStrike">
                <a:solidFill>
                  <a:srgbClr val="333399"/>
                </a:solidFill>
                <a:latin typeface="Arial"/>
              </a:rPr>
              <a:t>ć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u izraza za </a:t>
            </a:r>
            <a:r>
              <a:rPr b="0" lang="sr-Latn-CS" sz="2000" spc="-1" strike="noStrike">
                <a:solidFill>
                  <a:srgbClr val="333399"/>
                </a:solidFill>
                <a:latin typeface="Arial"/>
              </a:rPr>
              <a:t>zastoje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i najkra</a:t>
            </a:r>
            <a:r>
              <a:rPr b="0" lang="sr-Latn-CS" sz="2000" spc="-1" strike="noStrike">
                <a:solidFill>
                  <a:srgbClr val="333399"/>
                </a:solidFill>
                <a:latin typeface="Arial"/>
              </a:rPr>
              <a:t>ć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e vreme zavr</a:t>
            </a:r>
            <a:r>
              <a:rPr b="0" lang="sr-Latn-CS" sz="2000" spc="-1" strike="noStrike">
                <a:solidFill>
                  <a:srgbClr val="333399"/>
                </a:solidFill>
                <a:latin typeface="Arial"/>
              </a:rPr>
              <a:t>š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etka svih serija. Grafi</a:t>
            </a:r>
            <a:r>
              <a:rPr b="0" lang="sr-Latn-CS" sz="2000" spc="-1" strike="noStrike">
                <a:solidFill>
                  <a:srgbClr val="333399"/>
                </a:solidFill>
                <a:latin typeface="Arial"/>
              </a:rPr>
              <a:t>č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ki prikazati izvr</a:t>
            </a:r>
            <a:r>
              <a:rPr b="0" lang="sr-Latn-CS" sz="2000" spc="-1" strike="noStrike">
                <a:solidFill>
                  <a:srgbClr val="333399"/>
                </a:solidFill>
                <a:latin typeface="Arial"/>
              </a:rPr>
              <a:t>š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enje optimalnog redosled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2438280" y="5486400"/>
                <a:ext cx="2667240" cy="104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in</m:t>
                    </m:r>
                    <m:r>
                      <m:t xml:space="preserve">T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r>
                      <m:t xml:space="preserve">+</m:t>
                    </m:r>
                    <m:sSubSup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o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333399"/>
                </a:solidFill>
                <a:latin typeface="Arial"/>
              </a:rPr>
              <a:t>Zadatak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609480"/>
            <a:ext cx="914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oznata je proizvodna linija od n = 3 ma</a:t>
            </a:r>
            <a:r>
              <a:rPr b="0" lang="sr-Latn-CS" sz="1600" spc="-1" strike="noStrike">
                <a:solidFill>
                  <a:srgbClr val="333399"/>
                </a:solidFill>
                <a:latin typeface="Arial"/>
              </a:rPr>
              <a:t>š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e za obradu serija m = 5 razli</a:t>
            </a:r>
            <a:r>
              <a:rPr b="0" lang="sr-Latn-CS" sz="1600" spc="-1" strike="noStrike">
                <a:solidFill>
                  <a:srgbClr val="333399"/>
                </a:solidFill>
                <a:latin typeface="Arial"/>
              </a:rPr>
              <a:t>č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tih delova, sa istim tehnolo</a:t>
            </a:r>
            <a:r>
              <a:rPr b="0" lang="sr-Latn-CS" sz="1600" spc="-1" strike="noStrike">
                <a:solidFill>
                  <a:srgbClr val="333399"/>
                </a:solidFill>
                <a:latin typeface="Arial"/>
              </a:rPr>
              <a:t>š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kim redosledom. </a:t>
            </a:r>
            <a:r>
              <a:rPr b="0" lang="pl-PL" sz="1600" spc="-1" strike="noStrike">
                <a:solidFill>
                  <a:srgbClr val="333399"/>
                </a:solidFill>
                <a:latin typeface="Arial"/>
              </a:rPr>
              <a:t>Matrica ukupnih vremena operacija obrade T (za jednu partiju po seriji) ima sledeći oblik: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3657600" y="1447920"/>
            <a:ext cx="1511280" cy="142236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0" y="3048120"/>
            <a:ext cx="914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333399"/>
                </a:solidFill>
                <a:latin typeface="Arial"/>
              </a:rPr>
              <a:t>Očigledno je da se ovih 5 delova izrađuju iz 3, odnosno 2 operacije i da redni broj mašine odgovara rednom broju operacije. Kao kriterijum optimizacije, na osnovu koga će delovi zauzimati svoja mesta u redosledu, uzeti minimalno vreme izrade svih delova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4114800"/>
            <a:ext cx="914400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333399"/>
                </a:solidFill>
                <a:latin typeface="Arial"/>
              </a:rPr>
              <a:t>Tabelarno prikazati vrednost optimalnog rešenja sa sledećim komentarom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333399"/>
                </a:solidFill>
                <a:latin typeface="Arial"/>
              </a:rPr>
              <a:t>čekanje svih delova i mašina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maksimalno </a:t>
            </a:r>
            <a:r>
              <a:rPr b="0" lang="sr-Latn-CS" sz="1600" spc="-1" strike="noStrike">
                <a:solidFill>
                  <a:srgbClr val="333399"/>
                </a:solidFill>
                <a:latin typeface="Arial"/>
              </a:rPr>
              <a:t>č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ekanje svih delova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suma </a:t>
            </a:r>
            <a:r>
              <a:rPr b="0" lang="sr-Latn-CS" sz="1600" spc="-1" strike="noStrike">
                <a:solidFill>
                  <a:srgbClr val="333399"/>
                </a:solidFill>
                <a:latin typeface="Arial"/>
              </a:rPr>
              <a:t>č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ekanja svih delova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333399"/>
                </a:solidFill>
                <a:latin typeface="Arial"/>
              </a:rPr>
              <a:t>maksimalno čekanje svih mašina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333399"/>
                </a:solidFill>
                <a:latin typeface="Arial"/>
              </a:rPr>
              <a:t>suma čekanja svih mašin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333399"/>
                </a:solidFill>
                <a:latin typeface="Arial"/>
              </a:rPr>
              <a:t>Grafički prikazati rešenje i to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za ma</a:t>
            </a:r>
            <a:r>
              <a:rPr b="0" lang="sr-Latn-CS" sz="1600" spc="-1" strike="noStrike">
                <a:solidFill>
                  <a:srgbClr val="333399"/>
                </a:solidFill>
                <a:latin typeface="Arial"/>
              </a:rPr>
              <a:t>š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za delov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9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9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9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9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9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0" y="-98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-98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2286000" y="0"/>
          <a:ext cx="453384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0"/>
                    <a:ext cx="453384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333399"/>
                </a:solidFill>
                <a:latin typeface="Arial"/>
              </a:rPr>
              <a:t>Zadatak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609480"/>
            <a:ext cx="914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oznata je proizvodna linija od n = 3 ma</a:t>
            </a:r>
            <a:r>
              <a:rPr b="0" lang="sr-Latn-CS" sz="1600" spc="-1" strike="noStrike">
                <a:solidFill>
                  <a:srgbClr val="333399"/>
                </a:solidFill>
                <a:latin typeface="Arial"/>
              </a:rPr>
              <a:t>š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e za obradu serija m = 5 razli</a:t>
            </a:r>
            <a:r>
              <a:rPr b="0" lang="sr-Latn-CS" sz="1600" spc="-1" strike="noStrike">
                <a:solidFill>
                  <a:srgbClr val="333399"/>
                </a:solidFill>
                <a:latin typeface="Arial"/>
              </a:rPr>
              <a:t>č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tih delova, sa istim tehnolo</a:t>
            </a:r>
            <a:r>
              <a:rPr b="0" lang="sr-Latn-CS" sz="1600" spc="-1" strike="noStrike">
                <a:solidFill>
                  <a:srgbClr val="333399"/>
                </a:solidFill>
                <a:latin typeface="Arial"/>
              </a:rPr>
              <a:t>š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kim redosledom. </a:t>
            </a:r>
            <a:r>
              <a:rPr b="0" lang="pl-PL" sz="1600" spc="-1" strike="noStrike">
                <a:solidFill>
                  <a:srgbClr val="333399"/>
                </a:solidFill>
                <a:latin typeface="Arial"/>
              </a:rPr>
              <a:t>Matrica ukupnih vremena operacija obrade T (za jednu partiju po seriji) ima sledeći oblik: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3657600" y="1447920"/>
            <a:ext cx="1511280" cy="142236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0" y="3048120"/>
            <a:ext cx="914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333399"/>
                </a:solidFill>
                <a:latin typeface="Arial"/>
              </a:rPr>
              <a:t>Očigledno je da se ovih 5 delova izrađuju iz 3, odnosno 2 operacije i da redni broj mašine odgovara rednom broju operacije. Kao kriterijum optimizacije, na osnovu koga će delovi zauzimati svoja mesta u redosledu, uzeti minimalno vreme izrade svih delova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4114800"/>
            <a:ext cx="914400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333399"/>
                </a:solidFill>
                <a:latin typeface="Arial"/>
              </a:rPr>
              <a:t>Tabelarno prikazati vrednost optimalnog rešenja sa sledećim komentarom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333399"/>
                </a:solidFill>
                <a:latin typeface="Arial"/>
              </a:rPr>
              <a:t>čekanje svih delova i mašina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maksimalno </a:t>
            </a:r>
            <a:r>
              <a:rPr b="0" lang="sr-Latn-CS" sz="1600" spc="-1" strike="noStrike">
                <a:solidFill>
                  <a:srgbClr val="333399"/>
                </a:solidFill>
                <a:latin typeface="Arial"/>
              </a:rPr>
              <a:t>č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ekanje svih delova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suma </a:t>
            </a:r>
            <a:r>
              <a:rPr b="0" lang="sr-Latn-CS" sz="1600" spc="-1" strike="noStrike">
                <a:solidFill>
                  <a:srgbClr val="333399"/>
                </a:solidFill>
                <a:latin typeface="Arial"/>
              </a:rPr>
              <a:t>č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ekanja svih delova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333399"/>
                </a:solidFill>
                <a:latin typeface="Arial"/>
              </a:rPr>
              <a:t>maksimalno čekanje svih mašina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333399"/>
                </a:solidFill>
                <a:latin typeface="Arial"/>
              </a:rPr>
              <a:t>suma čekanja svih mašin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333399"/>
                </a:solidFill>
                <a:latin typeface="Arial"/>
              </a:rPr>
              <a:t>Grafički prikazati rešenje i to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za ma</a:t>
            </a:r>
            <a:r>
              <a:rPr b="0" lang="sr-Latn-CS" sz="1600" spc="-1" strike="noStrike">
                <a:solidFill>
                  <a:srgbClr val="333399"/>
                </a:solidFill>
                <a:latin typeface="Arial"/>
              </a:rPr>
              <a:t>š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za delov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9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9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9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9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9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333399"/>
                </a:solidFill>
                <a:latin typeface="Arial"/>
              </a:rPr>
              <a:t>Zadatak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0" y="1066680"/>
            <a:ext cx="9144000" cy="9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2520" indent="-18252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333399"/>
                </a:solidFill>
                <a:latin typeface="Arial"/>
              </a:rPr>
              <a:t>U procesu izrade kalajisane Cu žice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Ø</a:t>
            </a:r>
            <a:r>
              <a:rPr b="0" lang="sr-Latn-CS" sz="1800" spc="-1" strike="noStrike">
                <a:solidFill>
                  <a:srgbClr val="333399"/>
                </a:solidFill>
                <a:latin typeface="Arial"/>
                <a:ea typeface="Arial"/>
              </a:rPr>
              <a:t>0.15;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Ø</a:t>
            </a:r>
            <a:r>
              <a:rPr b="0" lang="sr-Latn-CS" sz="1800" spc="-1" strike="noStrike">
                <a:solidFill>
                  <a:srgbClr val="333399"/>
                </a:solidFill>
                <a:latin typeface="Arial"/>
              </a:rPr>
              <a:t>0.20;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Ø</a:t>
            </a:r>
            <a:r>
              <a:rPr b="0" lang="sr-Latn-CS" sz="1800" spc="-1" strike="noStrike">
                <a:solidFill>
                  <a:srgbClr val="333399"/>
                </a:solidFill>
                <a:latin typeface="Arial"/>
              </a:rPr>
              <a:t>0.25 i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Ø</a:t>
            </a:r>
            <a:r>
              <a:rPr b="0" lang="sr-Latn-CS" sz="1800" spc="-1" strike="noStrike">
                <a:solidFill>
                  <a:srgbClr val="333399"/>
                </a:solidFill>
                <a:latin typeface="Arial"/>
              </a:rPr>
              <a:t>0.30 postoje tri faze: grubo izvlačenje, fino izvlačenje i kalajisanje, čiji se redosled ne može menjat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333399"/>
                </a:solidFill>
                <a:latin typeface="Arial"/>
              </a:rPr>
              <a:t>Vremena trajanja faza u [čas/t] su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4038480"/>
            <a:ext cx="9144000" cy="15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2520" indent="-18252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333399"/>
                </a:solidFill>
                <a:latin typeface="Arial"/>
              </a:rPr>
              <a:t>Cilj je da se za najkraće moguće vreme proizved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Bef>
                <a:spcPts val="224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333399"/>
                </a:solidFill>
                <a:latin typeface="Arial"/>
              </a:rPr>
              <a:t>1 tona kalajisane Cu žice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Ø</a:t>
            </a:r>
            <a:r>
              <a:rPr b="0" lang="sr-Latn-CS" sz="1800" spc="-1" strike="noStrike">
                <a:solidFill>
                  <a:srgbClr val="333399"/>
                </a:solidFill>
                <a:latin typeface="Arial"/>
              </a:rPr>
              <a:t>0.1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Bef>
                <a:spcPts val="224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333399"/>
                </a:solidFill>
                <a:latin typeface="Arial"/>
              </a:rPr>
              <a:t>2 tone kalajisane Cu žice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Ø</a:t>
            </a:r>
            <a:r>
              <a:rPr b="0" lang="sr-Latn-CS" sz="1800" spc="-1" strike="noStrike">
                <a:solidFill>
                  <a:srgbClr val="333399"/>
                </a:solidFill>
                <a:latin typeface="Arial"/>
              </a:rPr>
              <a:t>0.2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Bef>
                <a:spcPts val="224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333399"/>
                </a:solidFill>
                <a:latin typeface="Arial"/>
              </a:rPr>
              <a:t>2 tone kalajisane Cu žice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Ø</a:t>
            </a:r>
            <a:r>
              <a:rPr b="0" lang="sr-Latn-CS" sz="1800" spc="-1" strike="noStrike">
                <a:solidFill>
                  <a:srgbClr val="333399"/>
                </a:solidFill>
                <a:latin typeface="Arial"/>
              </a:rPr>
              <a:t>0.2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Bef>
                <a:spcPts val="224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333399"/>
                </a:solidFill>
                <a:latin typeface="Arial"/>
              </a:rPr>
              <a:t>1 tona kalajisane Cu žice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Ø</a:t>
            </a:r>
            <a:r>
              <a:rPr b="0" lang="sr-Latn-CS" sz="1800" spc="-1" strike="noStrike">
                <a:solidFill>
                  <a:srgbClr val="333399"/>
                </a:solidFill>
                <a:latin typeface="Arial"/>
              </a:rPr>
              <a:t>0.3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1143000" y="2057400"/>
          <a:ext cx="5943600" cy="1827360"/>
        </p:xfrm>
        <a:graphic>
          <a:graphicData uri="http://schemas.openxmlformats.org/drawingml/2006/table">
            <a:tbl>
              <a:tblPr/>
              <a:tblGrid>
                <a:gridCol w="2133720"/>
                <a:gridCol w="990360"/>
                <a:gridCol w="914400"/>
                <a:gridCol w="990720"/>
                <a:gridCol w="914400"/>
              </a:tblGrid>
              <a:tr h="73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Proizv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Faz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Ø</a:t>
                      </a:r>
                      <a:r>
                        <a:rPr b="0" lang="sr-Latn-C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0.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Ø</a:t>
                      </a:r>
                      <a:r>
                        <a:rPr b="0" lang="sr-Latn-C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0.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Ø</a:t>
                      </a:r>
                      <a:r>
                        <a:rPr b="0" lang="sr-Latn-C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0.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Ø</a:t>
                      </a:r>
                      <a:r>
                        <a:rPr b="0" lang="sr-Latn-C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0.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Grubo izvlačenj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Fino izvlačenj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Kalajisanj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2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2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8" name=""/>
          <p:cNvSpPr/>
          <p:nvPr/>
        </p:nvSpPr>
        <p:spPr>
          <a:xfrm>
            <a:off x="0" y="5715000"/>
            <a:ext cx="9144000" cy="85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spcBef>
                <a:spcPts val="224"/>
              </a:spcBef>
              <a:buClr>
                <a:srgbClr val="333399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333399"/>
                </a:solidFill>
                <a:latin typeface="Arial"/>
              </a:rPr>
              <a:t>Odrediti optimalni redosled proizvodnje žice i najkraće vreme izrade sve 4 vrste žice u potrebnim količinam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buClr>
                <a:srgbClr val="333399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333399"/>
                </a:solidFill>
                <a:latin typeface="Arial"/>
              </a:rPr>
              <a:t>Izračunati najmanje ukupne vremenske gubitke uređaja za fino izvlačenje i kalajisan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6T12:58:43Z</dcterms:created>
  <dc:creator>Administrator</dc:creator>
  <dc:description/>
  <dc:language>en-US</dc:language>
  <cp:lastModifiedBy>Barbara</cp:lastModifiedBy>
  <dcterms:modified xsi:type="dcterms:W3CDTF">2009-04-26T11:37:57Z</dcterms:modified>
  <cp:revision>6</cp:revision>
  <dc:subject/>
  <dc:title>ODREĐIVANJE REDOSLEDA POSLOVA</dc:title>
</cp:coreProperties>
</file>