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69A-E8B4-4AB3-B581-048ADF55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C9B-19A9-440C-9FBB-2DFC5587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08B-79E9-483D-9681-299E5836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047-5DAE-4AEF-9D8F-DBD7DD21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5852-CB70-483A-8802-21031376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C5AC-8F16-4BC7-9C1C-592AE247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C04A-3162-43CB-BB5B-8970611D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2CAB-37D0-4B2C-803D-6635C05E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5A77-04C2-4D24-B0C5-5164E76E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C73C-702E-47FD-9681-174A02D3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E3DC-9EB8-4E0E-ABCE-263EFA8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F30-6731-4ED0-869E-5E3456C8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56E9-622D-4131-A822-B369FB4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8834-F8FE-422F-BCAE-1933604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FECC-2470-47DB-9B60-5C59E58C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04BB-CE3D-4112-A025-115B657B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5A71-8F64-4369-854E-67FCF083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E25-10D2-4D3F-B3F6-F3D32F2D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576-3E9F-4D84-8CA9-BE88414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451-6875-45D3-8C23-6E9FD11E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0DC-1EDB-43A7-9EC4-327FA2F7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36A-2DC1-43D8-A2D1-FFF20B50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C69-AB8E-4878-A0D7-852C484E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A2F-E118-4FAF-8ABA-BF6DB4A4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58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587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81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81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0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50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41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069-BF17-4A0E-BD9D-57031C2177FF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D382-24CB-4E15-81B7-56020D62DC4A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14320" y="598320"/>
            <a:ext cx="30243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35772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33399"/>
                </a:solidFill>
                <a:latin typeface="Tahoma"/>
              </a:rPr>
              <a:t>PROCESI KAO OSNOVA ZA PROJEKTOVANJE ORGANIZACIONIH SISTEMA, FUNKCIONISANJE, RAZVOJ I UPRAVLJ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KAKO TREBA PRIKAZATI PROC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4040" y="1494000"/>
            <a:ext cx="8745840" cy="5195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62160" y="3652920"/>
            <a:ext cx="3440160" cy="29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68600" y="1419120"/>
            <a:ext cx="425124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1722600"/>
            <a:ext cx="2076480" cy="32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7440" y="1663560"/>
            <a:ext cx="2541600" cy="336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3668760"/>
            <a:ext cx="449280" cy="24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96200" y="3659040"/>
            <a:ext cx="449280" cy="23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86040" y="2743200"/>
            <a:ext cx="400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KAKO TREBA PRIKAZATI PROC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07520" y="1360440"/>
            <a:ext cx="4411440" cy="781560"/>
            <a:chOff x="2207520" y="1360440"/>
            <a:chExt cx="4411440" cy="781560"/>
          </a:xfrm>
        </p:grpSpPr>
        <p:sp>
          <p:nvSpPr>
            <p:cNvPr id="200" name=""/>
            <p:cNvSpPr/>
            <p:nvPr/>
          </p:nvSpPr>
          <p:spPr>
            <a:xfrm>
              <a:off x="2207520" y="1360440"/>
              <a:ext cx="441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O K    P R O C E S 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41120" y="1806480"/>
              <a:ext cx="3081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PROCESS FLOW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973960" y="2482920"/>
            <a:ext cx="2526480" cy="1609560"/>
            <a:chOff x="2973960" y="2482920"/>
            <a:chExt cx="2526480" cy="1609560"/>
          </a:xfrm>
        </p:grpSpPr>
        <p:sp>
          <p:nvSpPr>
            <p:cNvPr id="203" name=""/>
            <p:cNvSpPr/>
            <p:nvPr/>
          </p:nvSpPr>
          <p:spPr>
            <a:xfrm>
              <a:off x="3122640" y="3524400"/>
              <a:ext cx="2266920" cy="568080"/>
            </a:xfrm>
            <a:custGeom>
              <a:avLst/>
              <a:gdLst/>
              <a:ahLst/>
              <a:rect l="l" t="t" r="r" b="b"/>
              <a:pathLst>
                <a:path w="2856" h="715">
                  <a:moveTo>
                    <a:pt x="358" y="715"/>
                  </a:moveTo>
                  <a:lnTo>
                    <a:pt x="2499" y="715"/>
                  </a:lnTo>
                  <a:lnTo>
                    <a:pt x="2517" y="714"/>
                  </a:lnTo>
                  <a:lnTo>
                    <a:pt x="2536" y="712"/>
                  </a:lnTo>
                  <a:lnTo>
                    <a:pt x="2554" y="711"/>
                  </a:lnTo>
                  <a:lnTo>
                    <a:pt x="2572" y="708"/>
                  </a:lnTo>
                  <a:lnTo>
                    <a:pt x="2588" y="703"/>
                  </a:lnTo>
                  <a:lnTo>
                    <a:pt x="2606" y="699"/>
                  </a:lnTo>
                  <a:lnTo>
                    <a:pt x="2622" y="693"/>
                  </a:lnTo>
                  <a:lnTo>
                    <a:pt x="2638" y="687"/>
                  </a:lnTo>
                  <a:lnTo>
                    <a:pt x="2653" y="679"/>
                  </a:lnTo>
                  <a:lnTo>
                    <a:pt x="2670" y="672"/>
                  </a:lnTo>
                  <a:lnTo>
                    <a:pt x="2684" y="663"/>
                  </a:lnTo>
                  <a:lnTo>
                    <a:pt x="2699" y="654"/>
                  </a:lnTo>
                  <a:lnTo>
                    <a:pt x="2713" y="644"/>
                  </a:lnTo>
                  <a:lnTo>
                    <a:pt x="2726" y="633"/>
                  </a:lnTo>
                  <a:lnTo>
                    <a:pt x="2739" y="621"/>
                  </a:lnTo>
                  <a:lnTo>
                    <a:pt x="2751" y="610"/>
                  </a:lnTo>
                  <a:lnTo>
                    <a:pt x="2763" y="598"/>
                  </a:lnTo>
                  <a:lnTo>
                    <a:pt x="2775" y="584"/>
                  </a:lnTo>
                  <a:lnTo>
                    <a:pt x="2785" y="571"/>
                  </a:lnTo>
                  <a:lnTo>
                    <a:pt x="2796" y="558"/>
                  </a:lnTo>
                  <a:lnTo>
                    <a:pt x="2804" y="543"/>
                  </a:lnTo>
                  <a:lnTo>
                    <a:pt x="2813" y="528"/>
                  </a:lnTo>
                  <a:lnTo>
                    <a:pt x="2821" y="511"/>
                  </a:lnTo>
                  <a:lnTo>
                    <a:pt x="2828" y="497"/>
                  </a:lnTo>
                  <a:lnTo>
                    <a:pt x="2834" y="480"/>
                  </a:lnTo>
                  <a:lnTo>
                    <a:pt x="2840" y="464"/>
                  </a:lnTo>
                  <a:lnTo>
                    <a:pt x="2844" y="446"/>
                  </a:lnTo>
                  <a:lnTo>
                    <a:pt x="2849" y="430"/>
                  </a:lnTo>
                  <a:lnTo>
                    <a:pt x="2852" y="412"/>
                  </a:lnTo>
                  <a:lnTo>
                    <a:pt x="2855" y="394"/>
                  </a:lnTo>
                  <a:lnTo>
                    <a:pt x="2855" y="376"/>
                  </a:lnTo>
                  <a:lnTo>
                    <a:pt x="2856" y="357"/>
                  </a:lnTo>
                  <a:lnTo>
                    <a:pt x="2856" y="357"/>
                  </a:lnTo>
                  <a:lnTo>
                    <a:pt x="2855" y="339"/>
                  </a:lnTo>
                  <a:lnTo>
                    <a:pt x="2855" y="321"/>
                  </a:lnTo>
                  <a:lnTo>
                    <a:pt x="2852" y="303"/>
                  </a:lnTo>
                  <a:lnTo>
                    <a:pt x="2849" y="286"/>
                  </a:lnTo>
                  <a:lnTo>
                    <a:pt x="2844" y="268"/>
                  </a:lnTo>
                  <a:lnTo>
                    <a:pt x="2840" y="251"/>
                  </a:lnTo>
                  <a:lnTo>
                    <a:pt x="2834" y="235"/>
                  </a:lnTo>
                  <a:lnTo>
                    <a:pt x="2828" y="219"/>
                  </a:lnTo>
                  <a:lnTo>
                    <a:pt x="2821" y="202"/>
                  </a:lnTo>
                  <a:lnTo>
                    <a:pt x="2813" y="188"/>
                  </a:lnTo>
                  <a:lnTo>
                    <a:pt x="2804" y="173"/>
                  </a:lnTo>
                  <a:lnTo>
                    <a:pt x="2796" y="158"/>
                  </a:lnTo>
                  <a:lnTo>
                    <a:pt x="2785" y="143"/>
                  </a:lnTo>
                  <a:lnTo>
                    <a:pt x="2775" y="130"/>
                  </a:lnTo>
                  <a:lnTo>
                    <a:pt x="2763" y="118"/>
                  </a:lnTo>
                  <a:lnTo>
                    <a:pt x="2751" y="104"/>
                  </a:lnTo>
                  <a:lnTo>
                    <a:pt x="2739" y="92"/>
                  </a:lnTo>
                  <a:lnTo>
                    <a:pt x="2726" y="82"/>
                  </a:lnTo>
                  <a:lnTo>
                    <a:pt x="2713" y="72"/>
                  </a:lnTo>
                  <a:lnTo>
                    <a:pt x="2699" y="61"/>
                  </a:lnTo>
                  <a:lnTo>
                    <a:pt x="2684" y="52"/>
                  </a:lnTo>
                  <a:lnTo>
                    <a:pt x="2670" y="43"/>
                  </a:lnTo>
                  <a:lnTo>
                    <a:pt x="2653" y="36"/>
                  </a:lnTo>
                  <a:lnTo>
                    <a:pt x="2638" y="29"/>
                  </a:lnTo>
                  <a:lnTo>
                    <a:pt x="2622" y="23"/>
                  </a:lnTo>
                  <a:lnTo>
                    <a:pt x="2606" y="17"/>
                  </a:lnTo>
                  <a:lnTo>
                    <a:pt x="2588" y="12"/>
                  </a:lnTo>
                  <a:lnTo>
                    <a:pt x="2572" y="8"/>
                  </a:lnTo>
                  <a:lnTo>
                    <a:pt x="2554" y="5"/>
                  </a:lnTo>
                  <a:lnTo>
                    <a:pt x="2536" y="2"/>
                  </a:lnTo>
                  <a:lnTo>
                    <a:pt x="2517" y="0"/>
                  </a:lnTo>
                  <a:lnTo>
                    <a:pt x="2499" y="0"/>
                  </a:lnTo>
                  <a:lnTo>
                    <a:pt x="2499" y="0"/>
                  </a:lnTo>
                  <a:lnTo>
                    <a:pt x="358" y="0"/>
                  </a:lnTo>
                  <a:lnTo>
                    <a:pt x="340" y="0"/>
                  </a:lnTo>
                  <a:lnTo>
                    <a:pt x="321" y="2"/>
                  </a:lnTo>
                  <a:lnTo>
                    <a:pt x="303" y="5"/>
                  </a:lnTo>
                  <a:lnTo>
                    <a:pt x="285" y="8"/>
                  </a:lnTo>
                  <a:lnTo>
                    <a:pt x="269" y="12"/>
                  </a:lnTo>
                  <a:lnTo>
                    <a:pt x="251" y="17"/>
                  </a:lnTo>
                  <a:lnTo>
                    <a:pt x="235" y="23"/>
                  </a:lnTo>
                  <a:lnTo>
                    <a:pt x="218" y="29"/>
                  </a:lnTo>
                  <a:lnTo>
                    <a:pt x="204" y="36"/>
                  </a:lnTo>
                  <a:lnTo>
                    <a:pt x="187" y="43"/>
                  </a:lnTo>
                  <a:lnTo>
                    <a:pt x="172" y="52"/>
                  </a:lnTo>
                  <a:lnTo>
                    <a:pt x="158" y="61"/>
                  </a:lnTo>
                  <a:lnTo>
                    <a:pt x="144" y="72"/>
                  </a:lnTo>
                  <a:lnTo>
                    <a:pt x="131" y="82"/>
                  </a:lnTo>
                  <a:lnTo>
                    <a:pt x="118" y="92"/>
                  </a:lnTo>
                  <a:lnTo>
                    <a:pt x="106" y="104"/>
                  </a:lnTo>
                  <a:lnTo>
                    <a:pt x="94" y="118"/>
                  </a:lnTo>
                  <a:lnTo>
                    <a:pt x="82" y="130"/>
                  </a:lnTo>
                  <a:lnTo>
                    <a:pt x="72" y="143"/>
                  </a:lnTo>
                  <a:lnTo>
                    <a:pt x="61" y="158"/>
                  </a:lnTo>
                  <a:lnTo>
                    <a:pt x="52" y="173"/>
                  </a:lnTo>
                  <a:lnTo>
                    <a:pt x="43" y="188"/>
                  </a:lnTo>
                  <a:lnTo>
                    <a:pt x="36" y="202"/>
                  </a:lnTo>
                  <a:lnTo>
                    <a:pt x="29" y="219"/>
                  </a:lnTo>
                  <a:lnTo>
                    <a:pt x="23" y="235"/>
                  </a:lnTo>
                  <a:lnTo>
                    <a:pt x="17" y="251"/>
                  </a:lnTo>
                  <a:lnTo>
                    <a:pt x="12" y="268"/>
                  </a:lnTo>
                  <a:lnTo>
                    <a:pt x="8" y="286"/>
                  </a:lnTo>
                  <a:lnTo>
                    <a:pt x="5" y="303"/>
                  </a:lnTo>
                  <a:lnTo>
                    <a:pt x="2" y="321"/>
                  </a:lnTo>
                  <a:lnTo>
                    <a:pt x="0" y="339"/>
                  </a:lnTo>
                  <a:lnTo>
                    <a:pt x="0" y="357"/>
                  </a:lnTo>
                  <a:lnTo>
                    <a:pt x="0" y="376"/>
                  </a:lnTo>
                  <a:lnTo>
                    <a:pt x="2" y="394"/>
                  </a:lnTo>
                  <a:lnTo>
                    <a:pt x="5" y="412"/>
                  </a:lnTo>
                  <a:lnTo>
                    <a:pt x="8" y="430"/>
                  </a:lnTo>
                  <a:lnTo>
                    <a:pt x="12" y="446"/>
                  </a:lnTo>
                  <a:lnTo>
                    <a:pt x="17" y="464"/>
                  </a:lnTo>
                  <a:lnTo>
                    <a:pt x="23" y="480"/>
                  </a:lnTo>
                  <a:lnTo>
                    <a:pt x="29" y="497"/>
                  </a:lnTo>
                  <a:lnTo>
                    <a:pt x="36" y="511"/>
                  </a:lnTo>
                  <a:lnTo>
                    <a:pt x="43" y="528"/>
                  </a:lnTo>
                  <a:lnTo>
                    <a:pt x="52" y="543"/>
                  </a:lnTo>
                  <a:lnTo>
                    <a:pt x="61" y="558"/>
                  </a:lnTo>
                  <a:lnTo>
                    <a:pt x="72" y="571"/>
                  </a:lnTo>
                  <a:lnTo>
                    <a:pt x="82" y="584"/>
                  </a:lnTo>
                  <a:lnTo>
                    <a:pt x="94" y="598"/>
                  </a:lnTo>
                  <a:lnTo>
                    <a:pt x="106" y="610"/>
                  </a:lnTo>
                  <a:lnTo>
                    <a:pt x="118" y="621"/>
                  </a:lnTo>
                  <a:lnTo>
                    <a:pt x="131" y="633"/>
                  </a:lnTo>
                  <a:lnTo>
                    <a:pt x="144" y="644"/>
                  </a:lnTo>
                  <a:lnTo>
                    <a:pt x="158" y="654"/>
                  </a:lnTo>
                  <a:lnTo>
                    <a:pt x="172" y="663"/>
                  </a:lnTo>
                  <a:lnTo>
                    <a:pt x="187" y="672"/>
                  </a:lnTo>
                  <a:lnTo>
                    <a:pt x="204" y="679"/>
                  </a:lnTo>
                  <a:lnTo>
                    <a:pt x="218" y="687"/>
                  </a:lnTo>
                  <a:lnTo>
                    <a:pt x="235" y="693"/>
                  </a:lnTo>
                  <a:lnTo>
                    <a:pt x="251" y="699"/>
                  </a:lnTo>
                  <a:lnTo>
                    <a:pt x="269" y="703"/>
                  </a:lnTo>
                  <a:lnTo>
                    <a:pt x="285" y="708"/>
                  </a:lnTo>
                  <a:lnTo>
                    <a:pt x="303" y="711"/>
                  </a:lnTo>
                  <a:lnTo>
                    <a:pt x="321" y="712"/>
                  </a:lnTo>
                  <a:lnTo>
                    <a:pt x="340" y="714"/>
                  </a:lnTo>
                  <a:lnTo>
                    <a:pt x="358" y="715"/>
                  </a:lnTo>
                  <a:lnTo>
                    <a:pt x="358" y="7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973960" y="2482920"/>
              <a:ext cx="2526480" cy="1609560"/>
              <a:chOff x="2973960" y="2482920"/>
              <a:chExt cx="2526480" cy="1609560"/>
            </a:xfrm>
          </p:grpSpPr>
          <p:sp>
            <p:nvSpPr>
              <p:cNvPr id="205" name=""/>
              <p:cNvSpPr/>
              <p:nvPr/>
            </p:nvSpPr>
            <p:spPr>
              <a:xfrm>
                <a:off x="3122640" y="3524400"/>
                <a:ext cx="2266920" cy="568080"/>
              </a:xfrm>
              <a:custGeom>
                <a:avLst/>
                <a:gdLst/>
                <a:ahLst/>
                <a:rect l="l" t="t" r="r" b="b"/>
                <a:pathLst>
                  <a:path w="2856" h="715">
                    <a:moveTo>
                      <a:pt x="358" y="715"/>
                    </a:moveTo>
                    <a:lnTo>
                      <a:pt x="2499" y="715"/>
                    </a:lnTo>
                    <a:lnTo>
                      <a:pt x="2517" y="714"/>
                    </a:lnTo>
                    <a:lnTo>
                      <a:pt x="2536" y="712"/>
                    </a:lnTo>
                    <a:lnTo>
                      <a:pt x="2554" y="711"/>
                    </a:lnTo>
                    <a:lnTo>
                      <a:pt x="2572" y="708"/>
                    </a:lnTo>
                    <a:lnTo>
                      <a:pt x="2588" y="703"/>
                    </a:lnTo>
                    <a:lnTo>
                      <a:pt x="2606" y="699"/>
                    </a:lnTo>
                    <a:lnTo>
                      <a:pt x="2622" y="693"/>
                    </a:lnTo>
                    <a:lnTo>
                      <a:pt x="2638" y="687"/>
                    </a:lnTo>
                    <a:lnTo>
                      <a:pt x="2653" y="679"/>
                    </a:lnTo>
                    <a:lnTo>
                      <a:pt x="2670" y="672"/>
                    </a:lnTo>
                    <a:lnTo>
                      <a:pt x="2684" y="663"/>
                    </a:lnTo>
                    <a:lnTo>
                      <a:pt x="2699" y="654"/>
                    </a:lnTo>
                    <a:lnTo>
                      <a:pt x="2713" y="644"/>
                    </a:lnTo>
                    <a:lnTo>
                      <a:pt x="2726" y="633"/>
                    </a:lnTo>
                    <a:lnTo>
                      <a:pt x="2739" y="621"/>
                    </a:lnTo>
                    <a:lnTo>
                      <a:pt x="2751" y="610"/>
                    </a:lnTo>
                    <a:lnTo>
                      <a:pt x="2763" y="598"/>
                    </a:lnTo>
                    <a:lnTo>
                      <a:pt x="2775" y="584"/>
                    </a:lnTo>
                    <a:lnTo>
                      <a:pt x="2785" y="571"/>
                    </a:lnTo>
                    <a:lnTo>
                      <a:pt x="2796" y="558"/>
                    </a:lnTo>
                    <a:lnTo>
                      <a:pt x="2804" y="543"/>
                    </a:lnTo>
                    <a:lnTo>
                      <a:pt x="2813" y="528"/>
                    </a:lnTo>
                    <a:lnTo>
                      <a:pt x="2821" y="511"/>
                    </a:lnTo>
                    <a:lnTo>
                      <a:pt x="2828" y="497"/>
                    </a:lnTo>
                    <a:lnTo>
                      <a:pt x="2834" y="480"/>
                    </a:lnTo>
                    <a:lnTo>
                      <a:pt x="2840" y="464"/>
                    </a:lnTo>
                    <a:lnTo>
                      <a:pt x="2844" y="446"/>
                    </a:lnTo>
                    <a:lnTo>
                      <a:pt x="2849" y="430"/>
                    </a:lnTo>
                    <a:lnTo>
                      <a:pt x="2852" y="412"/>
                    </a:lnTo>
                    <a:lnTo>
                      <a:pt x="2855" y="394"/>
                    </a:lnTo>
                    <a:lnTo>
                      <a:pt x="2855" y="376"/>
                    </a:lnTo>
                    <a:lnTo>
                      <a:pt x="2856" y="357"/>
                    </a:lnTo>
                    <a:lnTo>
                      <a:pt x="2856" y="357"/>
                    </a:lnTo>
                    <a:lnTo>
                      <a:pt x="2855" y="339"/>
                    </a:lnTo>
                    <a:lnTo>
                      <a:pt x="2855" y="321"/>
                    </a:lnTo>
                    <a:lnTo>
                      <a:pt x="2852" y="303"/>
                    </a:lnTo>
                    <a:lnTo>
                      <a:pt x="2849" y="286"/>
                    </a:lnTo>
                    <a:lnTo>
                      <a:pt x="2844" y="268"/>
                    </a:lnTo>
                    <a:lnTo>
                      <a:pt x="2840" y="251"/>
                    </a:lnTo>
                    <a:lnTo>
                      <a:pt x="2834" y="235"/>
                    </a:lnTo>
                    <a:lnTo>
                      <a:pt x="2828" y="219"/>
                    </a:lnTo>
                    <a:lnTo>
                      <a:pt x="2821" y="202"/>
                    </a:lnTo>
                    <a:lnTo>
                      <a:pt x="2813" y="188"/>
                    </a:lnTo>
                    <a:lnTo>
                      <a:pt x="2804" y="173"/>
                    </a:lnTo>
                    <a:lnTo>
                      <a:pt x="2796" y="158"/>
                    </a:lnTo>
                    <a:lnTo>
                      <a:pt x="2785" y="143"/>
                    </a:lnTo>
                    <a:lnTo>
                      <a:pt x="2775" y="130"/>
                    </a:lnTo>
                    <a:lnTo>
                      <a:pt x="2763" y="118"/>
                    </a:lnTo>
                    <a:lnTo>
                      <a:pt x="2751" y="104"/>
                    </a:lnTo>
                    <a:lnTo>
                      <a:pt x="2739" y="92"/>
                    </a:lnTo>
                    <a:lnTo>
                      <a:pt x="2726" y="82"/>
                    </a:lnTo>
                    <a:lnTo>
                      <a:pt x="2713" y="72"/>
                    </a:lnTo>
                    <a:lnTo>
                      <a:pt x="2699" y="61"/>
                    </a:lnTo>
                    <a:lnTo>
                      <a:pt x="2684" y="52"/>
                    </a:lnTo>
                    <a:lnTo>
                      <a:pt x="2670" y="43"/>
                    </a:lnTo>
                    <a:lnTo>
                      <a:pt x="2653" y="36"/>
                    </a:lnTo>
                    <a:lnTo>
                      <a:pt x="2638" y="29"/>
                    </a:lnTo>
                    <a:lnTo>
                      <a:pt x="2622" y="23"/>
                    </a:lnTo>
                    <a:lnTo>
                      <a:pt x="2606" y="17"/>
                    </a:lnTo>
                    <a:lnTo>
                      <a:pt x="2588" y="12"/>
                    </a:lnTo>
                    <a:lnTo>
                      <a:pt x="2572" y="8"/>
                    </a:lnTo>
                    <a:lnTo>
                      <a:pt x="2554" y="5"/>
                    </a:lnTo>
                    <a:lnTo>
                      <a:pt x="2536" y="2"/>
                    </a:lnTo>
                    <a:lnTo>
                      <a:pt x="2517" y="0"/>
                    </a:lnTo>
                    <a:lnTo>
                      <a:pt x="2499" y="0"/>
                    </a:lnTo>
                    <a:lnTo>
                      <a:pt x="2499" y="0"/>
                    </a:lnTo>
                    <a:lnTo>
                      <a:pt x="358" y="0"/>
                    </a:lnTo>
                    <a:lnTo>
                      <a:pt x="340" y="0"/>
                    </a:lnTo>
                    <a:lnTo>
                      <a:pt x="321" y="2"/>
                    </a:lnTo>
                    <a:lnTo>
                      <a:pt x="303" y="5"/>
                    </a:lnTo>
                    <a:lnTo>
                      <a:pt x="285" y="8"/>
                    </a:lnTo>
                    <a:lnTo>
                      <a:pt x="269" y="12"/>
                    </a:lnTo>
                    <a:lnTo>
                      <a:pt x="251" y="17"/>
                    </a:lnTo>
                    <a:lnTo>
                      <a:pt x="235" y="23"/>
                    </a:lnTo>
                    <a:lnTo>
                      <a:pt x="218" y="29"/>
                    </a:lnTo>
                    <a:lnTo>
                      <a:pt x="204" y="36"/>
                    </a:lnTo>
                    <a:lnTo>
                      <a:pt x="187" y="43"/>
                    </a:lnTo>
                    <a:lnTo>
                      <a:pt x="172" y="52"/>
                    </a:lnTo>
                    <a:lnTo>
                      <a:pt x="158" y="61"/>
                    </a:lnTo>
                    <a:lnTo>
                      <a:pt x="144" y="72"/>
                    </a:lnTo>
                    <a:lnTo>
                      <a:pt x="131" y="82"/>
                    </a:lnTo>
                    <a:lnTo>
                      <a:pt x="118" y="92"/>
                    </a:lnTo>
                    <a:lnTo>
                      <a:pt x="106" y="104"/>
                    </a:lnTo>
                    <a:lnTo>
                      <a:pt x="94" y="118"/>
                    </a:lnTo>
                    <a:lnTo>
                      <a:pt x="82" y="130"/>
                    </a:lnTo>
                    <a:lnTo>
                      <a:pt x="72" y="143"/>
                    </a:lnTo>
                    <a:lnTo>
                      <a:pt x="61" y="158"/>
                    </a:lnTo>
                    <a:lnTo>
                      <a:pt x="52" y="173"/>
                    </a:lnTo>
                    <a:lnTo>
                      <a:pt x="43" y="188"/>
                    </a:lnTo>
                    <a:lnTo>
                      <a:pt x="36" y="202"/>
                    </a:lnTo>
                    <a:lnTo>
                      <a:pt x="29" y="219"/>
                    </a:lnTo>
                    <a:lnTo>
                      <a:pt x="23" y="235"/>
                    </a:lnTo>
                    <a:lnTo>
                      <a:pt x="17" y="251"/>
                    </a:lnTo>
                    <a:lnTo>
                      <a:pt x="12" y="268"/>
                    </a:lnTo>
                    <a:lnTo>
                      <a:pt x="8" y="286"/>
                    </a:lnTo>
                    <a:lnTo>
                      <a:pt x="5" y="303"/>
                    </a:lnTo>
                    <a:lnTo>
                      <a:pt x="2" y="321"/>
                    </a:lnTo>
                    <a:lnTo>
                      <a:pt x="0" y="339"/>
                    </a:lnTo>
                    <a:lnTo>
                      <a:pt x="0" y="357"/>
                    </a:lnTo>
                    <a:lnTo>
                      <a:pt x="0" y="376"/>
                    </a:lnTo>
                    <a:lnTo>
                      <a:pt x="2" y="394"/>
                    </a:lnTo>
                    <a:lnTo>
                      <a:pt x="5" y="412"/>
                    </a:lnTo>
                    <a:lnTo>
                      <a:pt x="8" y="430"/>
                    </a:lnTo>
                    <a:lnTo>
                      <a:pt x="12" y="446"/>
                    </a:lnTo>
                    <a:lnTo>
                      <a:pt x="17" y="464"/>
                    </a:lnTo>
                    <a:lnTo>
                      <a:pt x="23" y="480"/>
                    </a:lnTo>
                    <a:lnTo>
                      <a:pt x="29" y="497"/>
                    </a:lnTo>
                    <a:lnTo>
                      <a:pt x="36" y="511"/>
                    </a:lnTo>
                    <a:lnTo>
                      <a:pt x="43" y="528"/>
                    </a:lnTo>
                    <a:lnTo>
                      <a:pt x="52" y="543"/>
                    </a:lnTo>
                    <a:lnTo>
                      <a:pt x="61" y="558"/>
                    </a:lnTo>
                    <a:lnTo>
                      <a:pt x="72" y="571"/>
                    </a:lnTo>
                    <a:lnTo>
                      <a:pt x="82" y="584"/>
                    </a:lnTo>
                    <a:lnTo>
                      <a:pt x="94" y="598"/>
                    </a:lnTo>
                    <a:lnTo>
                      <a:pt x="106" y="610"/>
                    </a:lnTo>
                    <a:lnTo>
                      <a:pt x="118" y="621"/>
                    </a:lnTo>
                    <a:lnTo>
                      <a:pt x="131" y="633"/>
                    </a:lnTo>
                    <a:lnTo>
                      <a:pt x="144" y="644"/>
                    </a:lnTo>
                    <a:lnTo>
                      <a:pt x="158" y="654"/>
                    </a:lnTo>
                    <a:lnTo>
                      <a:pt x="172" y="663"/>
                    </a:lnTo>
                    <a:lnTo>
                      <a:pt x="187" y="672"/>
                    </a:lnTo>
                    <a:lnTo>
                      <a:pt x="204" y="679"/>
                    </a:lnTo>
                    <a:lnTo>
                      <a:pt x="218" y="687"/>
                    </a:lnTo>
                    <a:lnTo>
                      <a:pt x="235" y="693"/>
                    </a:lnTo>
                    <a:lnTo>
                      <a:pt x="251" y="699"/>
                    </a:lnTo>
                    <a:lnTo>
                      <a:pt x="269" y="703"/>
                    </a:lnTo>
                    <a:lnTo>
                      <a:pt x="285" y="708"/>
                    </a:lnTo>
                    <a:lnTo>
                      <a:pt x="303" y="711"/>
                    </a:lnTo>
                    <a:lnTo>
                      <a:pt x="321" y="712"/>
                    </a:lnTo>
                    <a:lnTo>
                      <a:pt x="340" y="714"/>
                    </a:lnTo>
                    <a:lnTo>
                      <a:pt x="358" y="715"/>
                    </a:lnTo>
                    <a:lnTo>
                      <a:pt x="358" y="7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65280" y="3672000"/>
                <a:ext cx="1758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POČETA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54480" y="2959200"/>
                <a:ext cx="1440" cy="476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03720" y="3422520"/>
                <a:ext cx="103320" cy="101880"/>
              </a:xfrm>
              <a:custGeom>
                <a:avLst/>
                <a:gdLst/>
                <a:ahLst/>
                <a:rect l="l" t="t" r="r" b="b"/>
                <a:pathLst>
                  <a:path w="129" h="127">
                    <a:moveTo>
                      <a:pt x="129" y="0"/>
                    </a:moveTo>
                    <a:lnTo>
                      <a:pt x="64" y="127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16920" y="2482920"/>
                <a:ext cx="1266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80"/>
                    </a:solidFill>
                    <a:latin typeface="Times New Roman"/>
                  </a:rPr>
                  <a:t>ULAZ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73960" y="2746440"/>
                <a:ext cx="2526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80"/>
                    </a:solidFill>
                    <a:latin typeface="Times New Roman"/>
                  </a:rPr>
                  <a:t>PREDMETA RAD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2621880" y="5465880"/>
            <a:ext cx="3050280" cy="1127160"/>
            <a:chOff x="2621880" y="5465880"/>
            <a:chExt cx="3050280" cy="1127160"/>
          </a:xfrm>
        </p:grpSpPr>
        <p:sp>
          <p:nvSpPr>
            <p:cNvPr id="212" name=""/>
            <p:cNvSpPr/>
            <p:nvPr/>
          </p:nvSpPr>
          <p:spPr>
            <a:xfrm>
              <a:off x="2838600" y="5743440"/>
              <a:ext cx="2833560" cy="56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38600" y="5743440"/>
              <a:ext cx="2833560" cy="56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55920" y="6310440"/>
              <a:ext cx="1800" cy="19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03720" y="6491160"/>
              <a:ext cx="103320" cy="10188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129" y="0"/>
                  </a:moveTo>
                  <a:lnTo>
                    <a:pt x="65" y="128"/>
                  </a:lnTo>
                  <a:lnTo>
                    <a:pt x="0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21880" y="5465880"/>
              <a:ext cx="113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- 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81360" y="3432240"/>
            <a:ext cx="2899800" cy="1316880"/>
            <a:chOff x="81360" y="3432240"/>
            <a:chExt cx="2899800" cy="1316880"/>
          </a:xfrm>
        </p:grpSpPr>
        <p:sp>
          <p:nvSpPr>
            <p:cNvPr id="218" name=""/>
            <p:cNvSpPr/>
            <p:nvPr/>
          </p:nvSpPr>
          <p:spPr>
            <a:xfrm>
              <a:off x="2273400" y="3807000"/>
              <a:ext cx="617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78200" y="3757680"/>
              <a:ext cx="102960" cy="10008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0" y="0"/>
                  </a:moveTo>
                  <a:lnTo>
                    <a:pt x="129" y="64"/>
                  </a:lnTo>
                  <a:lnTo>
                    <a:pt x="0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040" y="3432240"/>
              <a:ext cx="162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VEZA 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2760" y="3695760"/>
              <a:ext cx="220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RETHODNI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920" y="3959280"/>
              <a:ext cx="2011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ROCESI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360" y="4226040"/>
              <a:ext cx="236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(iz mreže, logičko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3840" y="4489560"/>
              <a:ext cx="210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stabla, katalog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97400" y="3521160"/>
            <a:ext cx="4604760" cy="1845360"/>
            <a:chOff x="4397400" y="3521160"/>
            <a:chExt cx="4604760" cy="1845360"/>
          </a:xfrm>
        </p:grpSpPr>
        <p:sp>
          <p:nvSpPr>
            <p:cNvPr id="226" name=""/>
            <p:cNvSpPr/>
            <p:nvPr/>
          </p:nvSpPr>
          <p:spPr>
            <a:xfrm>
              <a:off x="4486320" y="4375080"/>
              <a:ext cx="1752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97400" y="4322880"/>
              <a:ext cx="101520" cy="10296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129" y="129"/>
                  </a:moveTo>
                  <a:lnTo>
                    <a:pt x="0" y="66"/>
                  </a:lnTo>
                  <a:lnTo>
                    <a:pt x="129" y="0"/>
                  </a:lnTo>
                  <a:lnTo>
                    <a:pt x="129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1720" y="3521160"/>
              <a:ext cx="307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UTANJA STVARANJ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25120" y="3784680"/>
              <a:ext cx="252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ROIZVODA I/IL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26760" y="4049640"/>
              <a:ext cx="2870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RUŽANJA USLUG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6520" y="4314960"/>
              <a:ext cx="259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NA DIREKTAN IL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36840" y="4578480"/>
              <a:ext cx="2863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INDIREKTAN NAČ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19840" y="4843440"/>
              <a:ext cx="299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(linija redosleda odvijanj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28920" y="5106960"/>
              <a:ext cx="2783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aktivnosti, operacija, ...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621880" y="4091040"/>
            <a:ext cx="3050280" cy="1652400"/>
            <a:chOff x="2621880" y="4091040"/>
            <a:chExt cx="3050280" cy="1652400"/>
          </a:xfrm>
        </p:grpSpPr>
        <p:sp>
          <p:nvSpPr>
            <p:cNvPr id="236" name=""/>
            <p:cNvSpPr/>
            <p:nvPr/>
          </p:nvSpPr>
          <p:spPr>
            <a:xfrm>
              <a:off x="2838600" y="4657680"/>
              <a:ext cx="283356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38600" y="4657680"/>
              <a:ext cx="2833560" cy="566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480" y="4091040"/>
              <a:ext cx="1440" cy="47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3720" y="4554360"/>
              <a:ext cx="103320" cy="10332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129" y="0"/>
                  </a:moveTo>
                  <a:lnTo>
                    <a:pt x="64" y="129"/>
                  </a:lnTo>
                  <a:lnTo>
                    <a:pt x="0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21880" y="4381560"/>
              <a:ext cx="113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54480" y="5224320"/>
              <a:ext cx="1440" cy="430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03720" y="5641920"/>
              <a:ext cx="103320" cy="10152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129" y="0"/>
                  </a:moveTo>
                  <a:lnTo>
                    <a:pt x="64" y="128"/>
                  </a:lnTo>
                  <a:lnTo>
                    <a:pt x="0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7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KAKO TREBA PRIKAZATI PROC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207520" y="1360440"/>
            <a:ext cx="4411440" cy="781560"/>
            <a:chOff x="2207520" y="1360440"/>
            <a:chExt cx="4411440" cy="781560"/>
          </a:xfrm>
        </p:grpSpPr>
        <p:sp>
          <p:nvSpPr>
            <p:cNvPr id="246" name=""/>
            <p:cNvSpPr/>
            <p:nvPr/>
          </p:nvSpPr>
          <p:spPr>
            <a:xfrm>
              <a:off x="2207520" y="1360440"/>
              <a:ext cx="441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O K    P R O C E S 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1120" y="1806480"/>
              <a:ext cx="3081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PROCESS FLOW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530520" y="4788000"/>
            <a:ext cx="2068560" cy="1035000"/>
            <a:chOff x="3530520" y="4788000"/>
            <a:chExt cx="2068560" cy="1035000"/>
          </a:xfrm>
        </p:grpSpPr>
        <p:sp>
          <p:nvSpPr>
            <p:cNvPr id="249" name=""/>
            <p:cNvSpPr/>
            <p:nvPr/>
          </p:nvSpPr>
          <p:spPr>
            <a:xfrm>
              <a:off x="3530520" y="5305320"/>
              <a:ext cx="2068560" cy="517680"/>
            </a:xfrm>
            <a:custGeom>
              <a:avLst/>
              <a:gdLst/>
              <a:ahLst/>
              <a:rect l="l" t="t" r="r" b="b"/>
              <a:pathLst>
                <a:path w="2604" h="650">
                  <a:moveTo>
                    <a:pt x="325" y="650"/>
                  </a:moveTo>
                  <a:lnTo>
                    <a:pt x="2279" y="650"/>
                  </a:lnTo>
                  <a:lnTo>
                    <a:pt x="2279" y="650"/>
                  </a:lnTo>
                  <a:lnTo>
                    <a:pt x="2295" y="650"/>
                  </a:lnTo>
                  <a:lnTo>
                    <a:pt x="2311" y="649"/>
                  </a:lnTo>
                  <a:lnTo>
                    <a:pt x="2327" y="648"/>
                  </a:lnTo>
                  <a:lnTo>
                    <a:pt x="2344" y="644"/>
                  </a:lnTo>
                  <a:lnTo>
                    <a:pt x="2360" y="641"/>
                  </a:lnTo>
                  <a:lnTo>
                    <a:pt x="2375" y="635"/>
                  </a:lnTo>
                  <a:lnTo>
                    <a:pt x="2391" y="631"/>
                  </a:lnTo>
                  <a:lnTo>
                    <a:pt x="2404" y="625"/>
                  </a:lnTo>
                  <a:lnTo>
                    <a:pt x="2419" y="619"/>
                  </a:lnTo>
                  <a:lnTo>
                    <a:pt x="2434" y="611"/>
                  </a:lnTo>
                  <a:lnTo>
                    <a:pt x="2448" y="604"/>
                  </a:lnTo>
                  <a:lnTo>
                    <a:pt x="2460" y="595"/>
                  </a:lnTo>
                  <a:lnTo>
                    <a:pt x="2473" y="587"/>
                  </a:lnTo>
                  <a:lnTo>
                    <a:pt x="2485" y="576"/>
                  </a:lnTo>
                  <a:lnTo>
                    <a:pt x="2498" y="566"/>
                  </a:lnTo>
                  <a:lnTo>
                    <a:pt x="2508" y="555"/>
                  </a:lnTo>
                  <a:lnTo>
                    <a:pt x="2519" y="545"/>
                  </a:lnTo>
                  <a:lnTo>
                    <a:pt x="2530" y="532"/>
                  </a:lnTo>
                  <a:lnTo>
                    <a:pt x="2540" y="520"/>
                  </a:lnTo>
                  <a:lnTo>
                    <a:pt x="2548" y="507"/>
                  </a:lnTo>
                  <a:lnTo>
                    <a:pt x="2557" y="494"/>
                  </a:lnTo>
                  <a:lnTo>
                    <a:pt x="2564" y="481"/>
                  </a:lnTo>
                  <a:lnTo>
                    <a:pt x="2572" y="466"/>
                  </a:lnTo>
                  <a:lnTo>
                    <a:pt x="2579" y="452"/>
                  </a:lnTo>
                  <a:lnTo>
                    <a:pt x="2584" y="437"/>
                  </a:lnTo>
                  <a:lnTo>
                    <a:pt x="2590" y="421"/>
                  </a:lnTo>
                  <a:lnTo>
                    <a:pt x="2594" y="406"/>
                  </a:lnTo>
                  <a:lnTo>
                    <a:pt x="2598" y="390"/>
                  </a:lnTo>
                  <a:lnTo>
                    <a:pt x="2600" y="375"/>
                  </a:lnTo>
                  <a:lnTo>
                    <a:pt x="2602" y="359"/>
                  </a:lnTo>
                  <a:lnTo>
                    <a:pt x="2603" y="341"/>
                  </a:lnTo>
                  <a:lnTo>
                    <a:pt x="2604" y="325"/>
                  </a:lnTo>
                  <a:lnTo>
                    <a:pt x="2604" y="325"/>
                  </a:lnTo>
                  <a:lnTo>
                    <a:pt x="2603" y="309"/>
                  </a:lnTo>
                  <a:lnTo>
                    <a:pt x="2602" y="291"/>
                  </a:lnTo>
                  <a:lnTo>
                    <a:pt x="2600" y="275"/>
                  </a:lnTo>
                  <a:lnTo>
                    <a:pt x="2598" y="260"/>
                  </a:lnTo>
                  <a:lnTo>
                    <a:pt x="2594" y="244"/>
                  </a:lnTo>
                  <a:lnTo>
                    <a:pt x="2590" y="229"/>
                  </a:lnTo>
                  <a:lnTo>
                    <a:pt x="2584" y="212"/>
                  </a:lnTo>
                  <a:lnTo>
                    <a:pt x="2579" y="199"/>
                  </a:lnTo>
                  <a:lnTo>
                    <a:pt x="2572" y="184"/>
                  </a:lnTo>
                  <a:lnTo>
                    <a:pt x="2564" y="170"/>
                  </a:lnTo>
                  <a:lnTo>
                    <a:pt x="2557" y="157"/>
                  </a:lnTo>
                  <a:lnTo>
                    <a:pt x="2548" y="143"/>
                  </a:lnTo>
                  <a:lnTo>
                    <a:pt x="2540" y="130"/>
                  </a:lnTo>
                  <a:lnTo>
                    <a:pt x="2530" y="118"/>
                  </a:lnTo>
                  <a:lnTo>
                    <a:pt x="2519" y="107"/>
                  </a:lnTo>
                  <a:lnTo>
                    <a:pt x="2508" y="95"/>
                  </a:lnTo>
                  <a:lnTo>
                    <a:pt x="2498" y="84"/>
                  </a:lnTo>
                  <a:lnTo>
                    <a:pt x="2485" y="74"/>
                  </a:lnTo>
                  <a:lnTo>
                    <a:pt x="2473" y="65"/>
                  </a:lnTo>
                  <a:lnTo>
                    <a:pt x="2460" y="55"/>
                  </a:lnTo>
                  <a:lnTo>
                    <a:pt x="2448" y="47"/>
                  </a:lnTo>
                  <a:lnTo>
                    <a:pt x="2434" y="39"/>
                  </a:lnTo>
                  <a:lnTo>
                    <a:pt x="2419" y="31"/>
                  </a:lnTo>
                  <a:lnTo>
                    <a:pt x="2404" y="25"/>
                  </a:lnTo>
                  <a:lnTo>
                    <a:pt x="2391" y="19"/>
                  </a:lnTo>
                  <a:lnTo>
                    <a:pt x="2375" y="15"/>
                  </a:lnTo>
                  <a:lnTo>
                    <a:pt x="2360" y="9"/>
                  </a:lnTo>
                  <a:lnTo>
                    <a:pt x="2344" y="6"/>
                  </a:lnTo>
                  <a:lnTo>
                    <a:pt x="2327" y="4"/>
                  </a:lnTo>
                  <a:lnTo>
                    <a:pt x="2311" y="1"/>
                  </a:lnTo>
                  <a:lnTo>
                    <a:pt x="2295" y="0"/>
                  </a:lnTo>
                  <a:lnTo>
                    <a:pt x="2279" y="0"/>
                  </a:lnTo>
                  <a:lnTo>
                    <a:pt x="2279" y="0"/>
                  </a:lnTo>
                  <a:lnTo>
                    <a:pt x="325" y="0"/>
                  </a:lnTo>
                  <a:lnTo>
                    <a:pt x="308" y="0"/>
                  </a:lnTo>
                  <a:lnTo>
                    <a:pt x="292" y="1"/>
                  </a:lnTo>
                  <a:lnTo>
                    <a:pt x="275" y="4"/>
                  </a:lnTo>
                  <a:lnTo>
                    <a:pt x="259" y="6"/>
                  </a:lnTo>
                  <a:lnTo>
                    <a:pt x="244" y="9"/>
                  </a:lnTo>
                  <a:lnTo>
                    <a:pt x="228" y="15"/>
                  </a:lnTo>
                  <a:lnTo>
                    <a:pt x="213" y="19"/>
                  </a:lnTo>
                  <a:lnTo>
                    <a:pt x="198" y="25"/>
                  </a:lnTo>
                  <a:lnTo>
                    <a:pt x="183" y="31"/>
                  </a:lnTo>
                  <a:lnTo>
                    <a:pt x="170" y="39"/>
                  </a:lnTo>
                  <a:lnTo>
                    <a:pt x="156" y="47"/>
                  </a:lnTo>
                  <a:lnTo>
                    <a:pt x="143" y="55"/>
                  </a:lnTo>
                  <a:lnTo>
                    <a:pt x="131" y="65"/>
                  </a:lnTo>
                  <a:lnTo>
                    <a:pt x="118" y="74"/>
                  </a:lnTo>
                  <a:lnTo>
                    <a:pt x="106" y="84"/>
                  </a:lnTo>
                  <a:lnTo>
                    <a:pt x="96" y="95"/>
                  </a:lnTo>
                  <a:lnTo>
                    <a:pt x="85" y="107"/>
                  </a:lnTo>
                  <a:lnTo>
                    <a:pt x="74" y="118"/>
                  </a:lnTo>
                  <a:lnTo>
                    <a:pt x="64" y="130"/>
                  </a:lnTo>
                  <a:lnTo>
                    <a:pt x="55" y="143"/>
                  </a:lnTo>
                  <a:lnTo>
                    <a:pt x="47" y="157"/>
                  </a:lnTo>
                  <a:lnTo>
                    <a:pt x="39" y="170"/>
                  </a:lnTo>
                  <a:lnTo>
                    <a:pt x="32" y="184"/>
                  </a:lnTo>
                  <a:lnTo>
                    <a:pt x="25" y="199"/>
                  </a:lnTo>
                  <a:lnTo>
                    <a:pt x="20" y="212"/>
                  </a:lnTo>
                  <a:lnTo>
                    <a:pt x="14" y="229"/>
                  </a:lnTo>
                  <a:lnTo>
                    <a:pt x="10" y="244"/>
                  </a:lnTo>
                  <a:lnTo>
                    <a:pt x="6" y="260"/>
                  </a:lnTo>
                  <a:lnTo>
                    <a:pt x="4" y="275"/>
                  </a:lnTo>
                  <a:lnTo>
                    <a:pt x="1" y="291"/>
                  </a:lnTo>
                  <a:lnTo>
                    <a:pt x="0" y="309"/>
                  </a:lnTo>
                  <a:lnTo>
                    <a:pt x="0" y="325"/>
                  </a:lnTo>
                  <a:lnTo>
                    <a:pt x="0" y="341"/>
                  </a:lnTo>
                  <a:lnTo>
                    <a:pt x="1" y="359"/>
                  </a:lnTo>
                  <a:lnTo>
                    <a:pt x="4" y="375"/>
                  </a:lnTo>
                  <a:lnTo>
                    <a:pt x="6" y="390"/>
                  </a:lnTo>
                  <a:lnTo>
                    <a:pt x="10" y="406"/>
                  </a:lnTo>
                  <a:lnTo>
                    <a:pt x="14" y="421"/>
                  </a:lnTo>
                  <a:lnTo>
                    <a:pt x="20" y="437"/>
                  </a:lnTo>
                  <a:lnTo>
                    <a:pt x="25" y="452"/>
                  </a:lnTo>
                  <a:lnTo>
                    <a:pt x="32" y="466"/>
                  </a:lnTo>
                  <a:lnTo>
                    <a:pt x="39" y="481"/>
                  </a:lnTo>
                  <a:lnTo>
                    <a:pt x="47" y="494"/>
                  </a:lnTo>
                  <a:lnTo>
                    <a:pt x="55" y="507"/>
                  </a:lnTo>
                  <a:lnTo>
                    <a:pt x="64" y="520"/>
                  </a:lnTo>
                  <a:lnTo>
                    <a:pt x="74" y="532"/>
                  </a:lnTo>
                  <a:lnTo>
                    <a:pt x="85" y="545"/>
                  </a:lnTo>
                  <a:lnTo>
                    <a:pt x="96" y="555"/>
                  </a:lnTo>
                  <a:lnTo>
                    <a:pt x="106" y="566"/>
                  </a:lnTo>
                  <a:lnTo>
                    <a:pt x="118" y="576"/>
                  </a:lnTo>
                  <a:lnTo>
                    <a:pt x="131" y="587"/>
                  </a:lnTo>
                  <a:lnTo>
                    <a:pt x="143" y="595"/>
                  </a:lnTo>
                  <a:lnTo>
                    <a:pt x="156" y="604"/>
                  </a:lnTo>
                  <a:lnTo>
                    <a:pt x="170" y="611"/>
                  </a:lnTo>
                  <a:lnTo>
                    <a:pt x="183" y="619"/>
                  </a:lnTo>
                  <a:lnTo>
                    <a:pt x="198" y="625"/>
                  </a:lnTo>
                  <a:lnTo>
                    <a:pt x="213" y="631"/>
                  </a:lnTo>
                  <a:lnTo>
                    <a:pt x="228" y="635"/>
                  </a:lnTo>
                  <a:lnTo>
                    <a:pt x="244" y="641"/>
                  </a:lnTo>
                  <a:lnTo>
                    <a:pt x="259" y="644"/>
                  </a:lnTo>
                  <a:lnTo>
                    <a:pt x="275" y="648"/>
                  </a:lnTo>
                  <a:lnTo>
                    <a:pt x="292" y="649"/>
                  </a:lnTo>
                  <a:lnTo>
                    <a:pt x="308" y="650"/>
                  </a:lnTo>
                  <a:lnTo>
                    <a:pt x="325" y="650"/>
                  </a:lnTo>
                  <a:lnTo>
                    <a:pt x="325" y="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30520" y="5305320"/>
              <a:ext cx="2068560" cy="517680"/>
            </a:xfrm>
            <a:custGeom>
              <a:avLst/>
              <a:gdLst/>
              <a:ahLst/>
              <a:rect l="l" t="t" r="r" b="b"/>
              <a:pathLst>
                <a:path w="2604" h="650">
                  <a:moveTo>
                    <a:pt x="325" y="650"/>
                  </a:moveTo>
                  <a:lnTo>
                    <a:pt x="2279" y="650"/>
                  </a:lnTo>
                  <a:lnTo>
                    <a:pt x="2279" y="650"/>
                  </a:lnTo>
                  <a:lnTo>
                    <a:pt x="2295" y="650"/>
                  </a:lnTo>
                  <a:lnTo>
                    <a:pt x="2311" y="649"/>
                  </a:lnTo>
                  <a:lnTo>
                    <a:pt x="2327" y="648"/>
                  </a:lnTo>
                  <a:lnTo>
                    <a:pt x="2344" y="644"/>
                  </a:lnTo>
                  <a:lnTo>
                    <a:pt x="2360" y="641"/>
                  </a:lnTo>
                  <a:lnTo>
                    <a:pt x="2375" y="635"/>
                  </a:lnTo>
                  <a:lnTo>
                    <a:pt x="2391" y="631"/>
                  </a:lnTo>
                  <a:lnTo>
                    <a:pt x="2404" y="625"/>
                  </a:lnTo>
                  <a:lnTo>
                    <a:pt x="2419" y="619"/>
                  </a:lnTo>
                  <a:lnTo>
                    <a:pt x="2434" y="611"/>
                  </a:lnTo>
                  <a:lnTo>
                    <a:pt x="2448" y="604"/>
                  </a:lnTo>
                  <a:lnTo>
                    <a:pt x="2460" y="595"/>
                  </a:lnTo>
                  <a:lnTo>
                    <a:pt x="2473" y="587"/>
                  </a:lnTo>
                  <a:lnTo>
                    <a:pt x="2485" y="576"/>
                  </a:lnTo>
                  <a:lnTo>
                    <a:pt x="2498" y="566"/>
                  </a:lnTo>
                  <a:lnTo>
                    <a:pt x="2508" y="555"/>
                  </a:lnTo>
                  <a:lnTo>
                    <a:pt x="2519" y="545"/>
                  </a:lnTo>
                  <a:lnTo>
                    <a:pt x="2530" y="532"/>
                  </a:lnTo>
                  <a:lnTo>
                    <a:pt x="2540" y="520"/>
                  </a:lnTo>
                  <a:lnTo>
                    <a:pt x="2548" y="507"/>
                  </a:lnTo>
                  <a:lnTo>
                    <a:pt x="2557" y="494"/>
                  </a:lnTo>
                  <a:lnTo>
                    <a:pt x="2564" y="481"/>
                  </a:lnTo>
                  <a:lnTo>
                    <a:pt x="2572" y="466"/>
                  </a:lnTo>
                  <a:lnTo>
                    <a:pt x="2579" y="452"/>
                  </a:lnTo>
                  <a:lnTo>
                    <a:pt x="2584" y="437"/>
                  </a:lnTo>
                  <a:lnTo>
                    <a:pt x="2590" y="421"/>
                  </a:lnTo>
                  <a:lnTo>
                    <a:pt x="2594" y="406"/>
                  </a:lnTo>
                  <a:lnTo>
                    <a:pt x="2598" y="390"/>
                  </a:lnTo>
                  <a:lnTo>
                    <a:pt x="2600" y="375"/>
                  </a:lnTo>
                  <a:lnTo>
                    <a:pt x="2602" y="359"/>
                  </a:lnTo>
                  <a:lnTo>
                    <a:pt x="2603" y="341"/>
                  </a:lnTo>
                  <a:lnTo>
                    <a:pt x="2604" y="325"/>
                  </a:lnTo>
                  <a:lnTo>
                    <a:pt x="2604" y="325"/>
                  </a:lnTo>
                  <a:lnTo>
                    <a:pt x="2603" y="309"/>
                  </a:lnTo>
                  <a:lnTo>
                    <a:pt x="2602" y="291"/>
                  </a:lnTo>
                  <a:lnTo>
                    <a:pt x="2600" y="275"/>
                  </a:lnTo>
                  <a:lnTo>
                    <a:pt x="2598" y="260"/>
                  </a:lnTo>
                  <a:lnTo>
                    <a:pt x="2594" y="244"/>
                  </a:lnTo>
                  <a:lnTo>
                    <a:pt x="2590" y="229"/>
                  </a:lnTo>
                  <a:lnTo>
                    <a:pt x="2584" y="212"/>
                  </a:lnTo>
                  <a:lnTo>
                    <a:pt x="2579" y="199"/>
                  </a:lnTo>
                  <a:lnTo>
                    <a:pt x="2572" y="184"/>
                  </a:lnTo>
                  <a:lnTo>
                    <a:pt x="2564" y="170"/>
                  </a:lnTo>
                  <a:lnTo>
                    <a:pt x="2557" y="157"/>
                  </a:lnTo>
                  <a:lnTo>
                    <a:pt x="2548" y="143"/>
                  </a:lnTo>
                  <a:lnTo>
                    <a:pt x="2540" y="130"/>
                  </a:lnTo>
                  <a:lnTo>
                    <a:pt x="2530" y="118"/>
                  </a:lnTo>
                  <a:lnTo>
                    <a:pt x="2519" y="107"/>
                  </a:lnTo>
                  <a:lnTo>
                    <a:pt x="2508" y="95"/>
                  </a:lnTo>
                  <a:lnTo>
                    <a:pt x="2498" y="84"/>
                  </a:lnTo>
                  <a:lnTo>
                    <a:pt x="2485" y="74"/>
                  </a:lnTo>
                  <a:lnTo>
                    <a:pt x="2473" y="65"/>
                  </a:lnTo>
                  <a:lnTo>
                    <a:pt x="2460" y="55"/>
                  </a:lnTo>
                  <a:lnTo>
                    <a:pt x="2448" y="47"/>
                  </a:lnTo>
                  <a:lnTo>
                    <a:pt x="2434" y="39"/>
                  </a:lnTo>
                  <a:lnTo>
                    <a:pt x="2419" y="31"/>
                  </a:lnTo>
                  <a:lnTo>
                    <a:pt x="2404" y="25"/>
                  </a:lnTo>
                  <a:lnTo>
                    <a:pt x="2391" y="19"/>
                  </a:lnTo>
                  <a:lnTo>
                    <a:pt x="2375" y="15"/>
                  </a:lnTo>
                  <a:lnTo>
                    <a:pt x="2360" y="9"/>
                  </a:lnTo>
                  <a:lnTo>
                    <a:pt x="2344" y="6"/>
                  </a:lnTo>
                  <a:lnTo>
                    <a:pt x="2327" y="4"/>
                  </a:lnTo>
                  <a:lnTo>
                    <a:pt x="2311" y="1"/>
                  </a:lnTo>
                  <a:lnTo>
                    <a:pt x="2295" y="0"/>
                  </a:lnTo>
                  <a:lnTo>
                    <a:pt x="2279" y="0"/>
                  </a:lnTo>
                  <a:lnTo>
                    <a:pt x="2279" y="0"/>
                  </a:lnTo>
                  <a:lnTo>
                    <a:pt x="325" y="0"/>
                  </a:lnTo>
                  <a:lnTo>
                    <a:pt x="308" y="0"/>
                  </a:lnTo>
                  <a:lnTo>
                    <a:pt x="292" y="1"/>
                  </a:lnTo>
                  <a:lnTo>
                    <a:pt x="275" y="4"/>
                  </a:lnTo>
                  <a:lnTo>
                    <a:pt x="259" y="6"/>
                  </a:lnTo>
                  <a:lnTo>
                    <a:pt x="244" y="9"/>
                  </a:lnTo>
                  <a:lnTo>
                    <a:pt x="228" y="15"/>
                  </a:lnTo>
                  <a:lnTo>
                    <a:pt x="213" y="19"/>
                  </a:lnTo>
                  <a:lnTo>
                    <a:pt x="198" y="25"/>
                  </a:lnTo>
                  <a:lnTo>
                    <a:pt x="183" y="31"/>
                  </a:lnTo>
                  <a:lnTo>
                    <a:pt x="170" y="39"/>
                  </a:lnTo>
                  <a:lnTo>
                    <a:pt x="156" y="47"/>
                  </a:lnTo>
                  <a:lnTo>
                    <a:pt x="143" y="55"/>
                  </a:lnTo>
                  <a:lnTo>
                    <a:pt x="131" y="65"/>
                  </a:lnTo>
                  <a:lnTo>
                    <a:pt x="118" y="74"/>
                  </a:lnTo>
                  <a:lnTo>
                    <a:pt x="106" y="84"/>
                  </a:lnTo>
                  <a:lnTo>
                    <a:pt x="96" y="95"/>
                  </a:lnTo>
                  <a:lnTo>
                    <a:pt x="85" y="107"/>
                  </a:lnTo>
                  <a:lnTo>
                    <a:pt x="74" y="118"/>
                  </a:lnTo>
                  <a:lnTo>
                    <a:pt x="64" y="130"/>
                  </a:lnTo>
                  <a:lnTo>
                    <a:pt x="55" y="143"/>
                  </a:lnTo>
                  <a:lnTo>
                    <a:pt x="47" y="157"/>
                  </a:lnTo>
                  <a:lnTo>
                    <a:pt x="39" y="170"/>
                  </a:lnTo>
                  <a:lnTo>
                    <a:pt x="32" y="184"/>
                  </a:lnTo>
                  <a:lnTo>
                    <a:pt x="25" y="199"/>
                  </a:lnTo>
                  <a:lnTo>
                    <a:pt x="20" y="212"/>
                  </a:lnTo>
                  <a:lnTo>
                    <a:pt x="14" y="229"/>
                  </a:lnTo>
                  <a:lnTo>
                    <a:pt x="10" y="244"/>
                  </a:lnTo>
                  <a:lnTo>
                    <a:pt x="6" y="260"/>
                  </a:lnTo>
                  <a:lnTo>
                    <a:pt x="4" y="275"/>
                  </a:lnTo>
                  <a:lnTo>
                    <a:pt x="1" y="291"/>
                  </a:lnTo>
                  <a:lnTo>
                    <a:pt x="0" y="309"/>
                  </a:lnTo>
                  <a:lnTo>
                    <a:pt x="0" y="325"/>
                  </a:lnTo>
                  <a:lnTo>
                    <a:pt x="0" y="341"/>
                  </a:lnTo>
                  <a:lnTo>
                    <a:pt x="1" y="359"/>
                  </a:lnTo>
                  <a:lnTo>
                    <a:pt x="4" y="375"/>
                  </a:lnTo>
                  <a:lnTo>
                    <a:pt x="6" y="390"/>
                  </a:lnTo>
                  <a:lnTo>
                    <a:pt x="10" y="406"/>
                  </a:lnTo>
                  <a:lnTo>
                    <a:pt x="14" y="421"/>
                  </a:lnTo>
                  <a:lnTo>
                    <a:pt x="20" y="437"/>
                  </a:lnTo>
                  <a:lnTo>
                    <a:pt x="25" y="452"/>
                  </a:lnTo>
                  <a:lnTo>
                    <a:pt x="32" y="466"/>
                  </a:lnTo>
                  <a:lnTo>
                    <a:pt x="39" y="481"/>
                  </a:lnTo>
                  <a:lnTo>
                    <a:pt x="47" y="494"/>
                  </a:lnTo>
                  <a:lnTo>
                    <a:pt x="55" y="507"/>
                  </a:lnTo>
                  <a:lnTo>
                    <a:pt x="64" y="520"/>
                  </a:lnTo>
                  <a:lnTo>
                    <a:pt x="74" y="532"/>
                  </a:lnTo>
                  <a:lnTo>
                    <a:pt x="85" y="545"/>
                  </a:lnTo>
                  <a:lnTo>
                    <a:pt x="96" y="555"/>
                  </a:lnTo>
                  <a:lnTo>
                    <a:pt x="106" y="566"/>
                  </a:lnTo>
                  <a:lnTo>
                    <a:pt x="118" y="576"/>
                  </a:lnTo>
                  <a:lnTo>
                    <a:pt x="131" y="587"/>
                  </a:lnTo>
                  <a:lnTo>
                    <a:pt x="143" y="595"/>
                  </a:lnTo>
                  <a:lnTo>
                    <a:pt x="156" y="604"/>
                  </a:lnTo>
                  <a:lnTo>
                    <a:pt x="170" y="611"/>
                  </a:lnTo>
                  <a:lnTo>
                    <a:pt x="183" y="619"/>
                  </a:lnTo>
                  <a:lnTo>
                    <a:pt x="198" y="625"/>
                  </a:lnTo>
                  <a:lnTo>
                    <a:pt x="213" y="631"/>
                  </a:lnTo>
                  <a:lnTo>
                    <a:pt x="228" y="635"/>
                  </a:lnTo>
                  <a:lnTo>
                    <a:pt x="244" y="641"/>
                  </a:lnTo>
                  <a:lnTo>
                    <a:pt x="259" y="644"/>
                  </a:lnTo>
                  <a:lnTo>
                    <a:pt x="275" y="648"/>
                  </a:lnTo>
                  <a:lnTo>
                    <a:pt x="292" y="649"/>
                  </a:lnTo>
                  <a:lnTo>
                    <a:pt x="308" y="650"/>
                  </a:lnTo>
                  <a:lnTo>
                    <a:pt x="325" y="650"/>
                  </a:lnTo>
                  <a:lnTo>
                    <a:pt x="325" y="6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8120" y="5440320"/>
              <a:ext cx="123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KRA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64080" y="4788000"/>
              <a:ext cx="1440" cy="43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18000" y="5211720"/>
              <a:ext cx="93600" cy="93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369600" y="5823000"/>
            <a:ext cx="2403000" cy="1019880"/>
            <a:chOff x="3369600" y="5823000"/>
            <a:chExt cx="2403000" cy="1019880"/>
          </a:xfrm>
        </p:grpSpPr>
        <p:sp>
          <p:nvSpPr>
            <p:cNvPr id="255" name=""/>
            <p:cNvSpPr/>
            <p:nvPr/>
          </p:nvSpPr>
          <p:spPr>
            <a:xfrm>
              <a:off x="4564080" y="5823000"/>
              <a:ext cx="1440" cy="43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18000" y="6246720"/>
              <a:ext cx="93600" cy="93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33000" y="6357960"/>
              <a:ext cx="1270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ZL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69600" y="6599160"/>
              <a:ext cx="240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DMETA R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2400" y="1965240"/>
            <a:ext cx="3075120" cy="1269720"/>
            <a:chOff x="572400" y="1965240"/>
            <a:chExt cx="3075120" cy="1269720"/>
          </a:xfrm>
        </p:grpSpPr>
        <p:sp>
          <p:nvSpPr>
            <p:cNvPr id="260" name=""/>
            <p:cNvSpPr/>
            <p:nvPr/>
          </p:nvSpPr>
          <p:spPr>
            <a:xfrm flipH="1" flipV="1">
              <a:off x="2658600" y="2954160"/>
              <a:ext cx="33516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7400" y="3143160"/>
              <a:ext cx="103320" cy="9180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67" y="0"/>
                  </a:moveTo>
                  <a:lnTo>
                    <a:pt x="130" y="115"/>
                  </a:lnTo>
                  <a:lnTo>
                    <a:pt x="0" y="9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04680" y="1965240"/>
              <a:ext cx="237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ULAZ PODLOGA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2400" y="2206440"/>
              <a:ext cx="307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OSNOVA ZA IZVRŠEN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92600" y="2447640"/>
              <a:ext cx="19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AKTIVNOS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480" y="2689200"/>
              <a:ext cx="255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</a:rPr>
                <a:t>(uputstva, postupci, ..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40560" y="4013280"/>
            <a:ext cx="2817360" cy="776160"/>
            <a:chOff x="3040560" y="4013280"/>
            <a:chExt cx="2817360" cy="776160"/>
          </a:xfrm>
        </p:grpSpPr>
        <p:sp>
          <p:nvSpPr>
            <p:cNvPr id="267" name=""/>
            <p:cNvSpPr/>
            <p:nvPr/>
          </p:nvSpPr>
          <p:spPr>
            <a:xfrm>
              <a:off x="3271680" y="4272120"/>
              <a:ext cx="2586240" cy="51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1680" y="4272120"/>
              <a:ext cx="2586240" cy="51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0560" y="4019400"/>
              <a:ext cx="111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 -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64080" y="4013280"/>
              <a:ext cx="1440" cy="176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18000" y="4178160"/>
              <a:ext cx="93600" cy="939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52080" y="2546280"/>
            <a:ext cx="2893320" cy="1330560"/>
            <a:chOff x="3052080" y="2546280"/>
            <a:chExt cx="2893320" cy="1330560"/>
          </a:xfrm>
        </p:grpSpPr>
        <p:sp>
          <p:nvSpPr>
            <p:cNvPr id="273" name=""/>
            <p:cNvSpPr/>
            <p:nvPr/>
          </p:nvSpPr>
          <p:spPr>
            <a:xfrm>
              <a:off x="3255840" y="2792520"/>
              <a:ext cx="2584440" cy="81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2792520"/>
              <a:ext cx="2584440" cy="814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59080" y="2820960"/>
              <a:ext cx="268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AZIV AKTIVNOS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1000" y="3062160"/>
              <a:ext cx="174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podproces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9480" y="3406680"/>
              <a:ext cx="137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ZVRŠIOC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48240" y="2558880"/>
              <a:ext cx="1440" cy="15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02160" y="2698920"/>
              <a:ext cx="93600" cy="93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52080" y="2546280"/>
              <a:ext cx="105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 -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64080" y="3616200"/>
              <a:ext cx="1440" cy="177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18000" y="3782880"/>
              <a:ext cx="93600" cy="939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65560" y="3360600"/>
              <a:ext cx="2566800" cy="3240"/>
            </a:xfrm>
            <a:custGeom>
              <a:avLst/>
              <a:gdLst/>
              <a:ahLst/>
              <a:rect l="l" t="t" r="r" b="b"/>
              <a:pathLst>
                <a:path w="3233" h="4">
                  <a:moveTo>
                    <a:pt x="1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9" y="1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105" y="0"/>
                  </a:moveTo>
                  <a:lnTo>
                    <a:pt x="170" y="0"/>
                  </a:lnTo>
                  <a:lnTo>
                    <a:pt x="173" y="0"/>
                  </a:lnTo>
                  <a:lnTo>
                    <a:pt x="173" y="1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1" y="4"/>
                  </a:lnTo>
                  <a:lnTo>
                    <a:pt x="170" y="4"/>
                  </a:lnTo>
                  <a:lnTo>
                    <a:pt x="105" y="4"/>
                  </a:lnTo>
                  <a:lnTo>
                    <a:pt x="104" y="4"/>
                  </a:lnTo>
                  <a:lnTo>
                    <a:pt x="104" y="4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4" y="1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close/>
                  <a:moveTo>
                    <a:pt x="209" y="0"/>
                  </a:moveTo>
                  <a:lnTo>
                    <a:pt x="274" y="0"/>
                  </a:lnTo>
                  <a:lnTo>
                    <a:pt x="277" y="0"/>
                  </a:lnTo>
                  <a:lnTo>
                    <a:pt x="277" y="1"/>
                  </a:lnTo>
                  <a:lnTo>
                    <a:pt x="277" y="2"/>
                  </a:lnTo>
                  <a:lnTo>
                    <a:pt x="277" y="2"/>
                  </a:lnTo>
                  <a:lnTo>
                    <a:pt x="277" y="4"/>
                  </a:lnTo>
                  <a:lnTo>
                    <a:pt x="275" y="4"/>
                  </a:lnTo>
                  <a:lnTo>
                    <a:pt x="274" y="4"/>
                  </a:lnTo>
                  <a:lnTo>
                    <a:pt x="209" y="4"/>
                  </a:lnTo>
                  <a:lnTo>
                    <a:pt x="209" y="4"/>
                  </a:lnTo>
                  <a:lnTo>
                    <a:pt x="208" y="4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09" y="0"/>
                  </a:lnTo>
                  <a:close/>
                  <a:moveTo>
                    <a:pt x="313" y="0"/>
                  </a:moveTo>
                  <a:lnTo>
                    <a:pt x="379" y="0"/>
                  </a:lnTo>
                  <a:lnTo>
                    <a:pt x="381" y="0"/>
                  </a:lnTo>
                  <a:lnTo>
                    <a:pt x="381" y="1"/>
                  </a:lnTo>
                  <a:lnTo>
                    <a:pt x="381" y="2"/>
                  </a:lnTo>
                  <a:lnTo>
                    <a:pt x="381" y="2"/>
                  </a:lnTo>
                  <a:lnTo>
                    <a:pt x="381" y="4"/>
                  </a:lnTo>
                  <a:lnTo>
                    <a:pt x="379" y="4"/>
                  </a:lnTo>
                  <a:lnTo>
                    <a:pt x="379" y="4"/>
                  </a:lnTo>
                  <a:lnTo>
                    <a:pt x="313" y="4"/>
                  </a:lnTo>
                  <a:lnTo>
                    <a:pt x="313" y="4"/>
                  </a:lnTo>
                  <a:lnTo>
                    <a:pt x="312" y="4"/>
                  </a:lnTo>
                  <a:lnTo>
                    <a:pt x="312" y="2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3" y="0"/>
                  </a:lnTo>
                  <a:close/>
                  <a:moveTo>
                    <a:pt x="417" y="0"/>
                  </a:moveTo>
                  <a:lnTo>
                    <a:pt x="484" y="0"/>
                  </a:lnTo>
                  <a:lnTo>
                    <a:pt x="485" y="0"/>
                  </a:lnTo>
                  <a:lnTo>
                    <a:pt x="485" y="1"/>
                  </a:lnTo>
                  <a:lnTo>
                    <a:pt x="485" y="2"/>
                  </a:lnTo>
                  <a:lnTo>
                    <a:pt x="485" y="2"/>
                  </a:lnTo>
                  <a:lnTo>
                    <a:pt x="485" y="4"/>
                  </a:lnTo>
                  <a:lnTo>
                    <a:pt x="484" y="4"/>
                  </a:lnTo>
                  <a:lnTo>
                    <a:pt x="484" y="4"/>
                  </a:lnTo>
                  <a:lnTo>
                    <a:pt x="417" y="4"/>
                  </a:lnTo>
                  <a:lnTo>
                    <a:pt x="417" y="4"/>
                  </a:lnTo>
                  <a:lnTo>
                    <a:pt x="416" y="4"/>
                  </a:lnTo>
                  <a:lnTo>
                    <a:pt x="416" y="2"/>
                  </a:lnTo>
                  <a:lnTo>
                    <a:pt x="416" y="2"/>
                  </a:lnTo>
                  <a:lnTo>
                    <a:pt x="416" y="1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close/>
                  <a:moveTo>
                    <a:pt x="521" y="0"/>
                  </a:moveTo>
                  <a:lnTo>
                    <a:pt x="588" y="0"/>
                  </a:lnTo>
                  <a:lnTo>
                    <a:pt x="589" y="0"/>
                  </a:lnTo>
                  <a:lnTo>
                    <a:pt x="589" y="1"/>
                  </a:lnTo>
                  <a:lnTo>
                    <a:pt x="589" y="2"/>
                  </a:lnTo>
                  <a:lnTo>
                    <a:pt x="589" y="2"/>
                  </a:lnTo>
                  <a:lnTo>
                    <a:pt x="589" y="4"/>
                  </a:lnTo>
                  <a:lnTo>
                    <a:pt x="588" y="4"/>
                  </a:lnTo>
                  <a:lnTo>
                    <a:pt x="588" y="4"/>
                  </a:lnTo>
                  <a:lnTo>
                    <a:pt x="521" y="4"/>
                  </a:lnTo>
                  <a:lnTo>
                    <a:pt x="521" y="4"/>
                  </a:lnTo>
                  <a:lnTo>
                    <a:pt x="520" y="4"/>
                  </a:lnTo>
                  <a:lnTo>
                    <a:pt x="520" y="2"/>
                  </a:lnTo>
                  <a:lnTo>
                    <a:pt x="520" y="2"/>
                  </a:lnTo>
                  <a:lnTo>
                    <a:pt x="520" y="1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1" y="0"/>
                  </a:lnTo>
                  <a:close/>
                  <a:moveTo>
                    <a:pt x="627" y="0"/>
                  </a:moveTo>
                  <a:lnTo>
                    <a:pt x="692" y="0"/>
                  </a:lnTo>
                  <a:lnTo>
                    <a:pt x="693" y="0"/>
                  </a:lnTo>
                  <a:lnTo>
                    <a:pt x="693" y="1"/>
                  </a:lnTo>
                  <a:lnTo>
                    <a:pt x="693" y="2"/>
                  </a:lnTo>
                  <a:lnTo>
                    <a:pt x="693" y="2"/>
                  </a:lnTo>
                  <a:lnTo>
                    <a:pt x="693" y="4"/>
                  </a:lnTo>
                  <a:lnTo>
                    <a:pt x="692" y="4"/>
                  </a:lnTo>
                  <a:lnTo>
                    <a:pt x="692" y="4"/>
                  </a:lnTo>
                  <a:lnTo>
                    <a:pt x="627" y="4"/>
                  </a:lnTo>
                  <a:lnTo>
                    <a:pt x="626" y="4"/>
                  </a:lnTo>
                  <a:lnTo>
                    <a:pt x="624" y="4"/>
                  </a:lnTo>
                  <a:lnTo>
                    <a:pt x="624" y="2"/>
                  </a:lnTo>
                  <a:lnTo>
                    <a:pt x="624" y="2"/>
                  </a:lnTo>
                  <a:lnTo>
                    <a:pt x="624" y="1"/>
                  </a:lnTo>
                  <a:lnTo>
                    <a:pt x="624" y="0"/>
                  </a:lnTo>
                  <a:lnTo>
                    <a:pt x="627" y="0"/>
                  </a:lnTo>
                  <a:lnTo>
                    <a:pt x="627" y="0"/>
                  </a:lnTo>
                  <a:close/>
                  <a:moveTo>
                    <a:pt x="731" y="0"/>
                  </a:moveTo>
                  <a:lnTo>
                    <a:pt x="796" y="0"/>
                  </a:lnTo>
                  <a:lnTo>
                    <a:pt x="797" y="0"/>
                  </a:lnTo>
                  <a:lnTo>
                    <a:pt x="797" y="1"/>
                  </a:lnTo>
                  <a:lnTo>
                    <a:pt x="797" y="2"/>
                  </a:lnTo>
                  <a:lnTo>
                    <a:pt x="797" y="2"/>
                  </a:lnTo>
                  <a:lnTo>
                    <a:pt x="797" y="4"/>
                  </a:lnTo>
                  <a:lnTo>
                    <a:pt x="796" y="4"/>
                  </a:lnTo>
                  <a:lnTo>
                    <a:pt x="796" y="4"/>
                  </a:lnTo>
                  <a:lnTo>
                    <a:pt x="731" y="4"/>
                  </a:lnTo>
                  <a:lnTo>
                    <a:pt x="730" y="4"/>
                  </a:lnTo>
                  <a:lnTo>
                    <a:pt x="728" y="4"/>
                  </a:lnTo>
                  <a:lnTo>
                    <a:pt x="728" y="2"/>
                  </a:lnTo>
                  <a:lnTo>
                    <a:pt x="728" y="0"/>
                  </a:lnTo>
                  <a:lnTo>
                    <a:pt x="731" y="0"/>
                  </a:lnTo>
                  <a:lnTo>
                    <a:pt x="731" y="0"/>
                  </a:lnTo>
                  <a:close/>
                  <a:moveTo>
                    <a:pt x="835" y="0"/>
                  </a:moveTo>
                  <a:lnTo>
                    <a:pt x="900" y="0"/>
                  </a:lnTo>
                  <a:lnTo>
                    <a:pt x="901" y="0"/>
                  </a:lnTo>
                  <a:lnTo>
                    <a:pt x="901" y="1"/>
                  </a:lnTo>
                  <a:lnTo>
                    <a:pt x="901" y="2"/>
                  </a:lnTo>
                  <a:lnTo>
                    <a:pt x="901" y="2"/>
                  </a:lnTo>
                  <a:lnTo>
                    <a:pt x="901" y="4"/>
                  </a:lnTo>
                  <a:lnTo>
                    <a:pt x="900" y="4"/>
                  </a:lnTo>
                  <a:lnTo>
                    <a:pt x="900" y="4"/>
                  </a:lnTo>
                  <a:lnTo>
                    <a:pt x="835" y="4"/>
                  </a:lnTo>
                  <a:lnTo>
                    <a:pt x="834" y="4"/>
                  </a:lnTo>
                  <a:lnTo>
                    <a:pt x="832" y="4"/>
                  </a:lnTo>
                  <a:lnTo>
                    <a:pt x="832" y="2"/>
                  </a:lnTo>
                  <a:lnTo>
                    <a:pt x="832" y="2"/>
                  </a:lnTo>
                  <a:lnTo>
                    <a:pt x="832" y="1"/>
                  </a:lnTo>
                  <a:lnTo>
                    <a:pt x="832" y="0"/>
                  </a:lnTo>
                  <a:lnTo>
                    <a:pt x="835" y="0"/>
                  </a:lnTo>
                  <a:lnTo>
                    <a:pt x="835" y="0"/>
                  </a:lnTo>
                  <a:close/>
                  <a:moveTo>
                    <a:pt x="939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5" y="1"/>
                  </a:lnTo>
                  <a:lnTo>
                    <a:pt x="1007" y="2"/>
                  </a:lnTo>
                  <a:lnTo>
                    <a:pt x="1005" y="2"/>
                  </a:lnTo>
                  <a:lnTo>
                    <a:pt x="1005" y="4"/>
                  </a:lnTo>
                  <a:lnTo>
                    <a:pt x="1004" y="4"/>
                  </a:lnTo>
                  <a:lnTo>
                    <a:pt x="1004" y="4"/>
                  </a:lnTo>
                  <a:lnTo>
                    <a:pt x="939" y="4"/>
                  </a:lnTo>
                  <a:lnTo>
                    <a:pt x="938" y="4"/>
                  </a:lnTo>
                  <a:lnTo>
                    <a:pt x="938" y="4"/>
                  </a:lnTo>
                  <a:lnTo>
                    <a:pt x="936" y="2"/>
                  </a:lnTo>
                  <a:lnTo>
                    <a:pt x="936" y="2"/>
                  </a:lnTo>
                  <a:lnTo>
                    <a:pt x="936" y="1"/>
                  </a:lnTo>
                  <a:lnTo>
                    <a:pt x="938" y="0"/>
                  </a:lnTo>
                  <a:lnTo>
                    <a:pt x="939" y="0"/>
                  </a:lnTo>
                  <a:lnTo>
                    <a:pt x="939" y="0"/>
                  </a:lnTo>
                  <a:close/>
                  <a:moveTo>
                    <a:pt x="1043" y="0"/>
                  </a:moveTo>
                  <a:lnTo>
                    <a:pt x="1108" y="0"/>
                  </a:lnTo>
                  <a:lnTo>
                    <a:pt x="1109" y="0"/>
                  </a:lnTo>
                  <a:lnTo>
                    <a:pt x="1109" y="1"/>
                  </a:lnTo>
                  <a:lnTo>
                    <a:pt x="1111" y="2"/>
                  </a:lnTo>
                  <a:lnTo>
                    <a:pt x="1109" y="2"/>
                  </a:lnTo>
                  <a:lnTo>
                    <a:pt x="1109" y="4"/>
                  </a:lnTo>
                  <a:lnTo>
                    <a:pt x="1108" y="4"/>
                  </a:lnTo>
                  <a:lnTo>
                    <a:pt x="1108" y="4"/>
                  </a:lnTo>
                  <a:lnTo>
                    <a:pt x="1043" y="4"/>
                  </a:lnTo>
                  <a:lnTo>
                    <a:pt x="1042" y="4"/>
                  </a:lnTo>
                  <a:lnTo>
                    <a:pt x="1042" y="4"/>
                  </a:lnTo>
                  <a:lnTo>
                    <a:pt x="1041" y="2"/>
                  </a:lnTo>
                  <a:lnTo>
                    <a:pt x="1041" y="2"/>
                  </a:lnTo>
                  <a:lnTo>
                    <a:pt x="1041" y="1"/>
                  </a:lnTo>
                  <a:lnTo>
                    <a:pt x="1042" y="0"/>
                  </a:lnTo>
                  <a:lnTo>
                    <a:pt x="1043" y="0"/>
                  </a:lnTo>
                  <a:lnTo>
                    <a:pt x="1043" y="0"/>
                  </a:lnTo>
                  <a:close/>
                  <a:moveTo>
                    <a:pt x="1147" y="0"/>
                  </a:moveTo>
                  <a:lnTo>
                    <a:pt x="1212" y="0"/>
                  </a:lnTo>
                  <a:lnTo>
                    <a:pt x="1214" y="0"/>
                  </a:lnTo>
                  <a:lnTo>
                    <a:pt x="1214" y="1"/>
                  </a:lnTo>
                  <a:lnTo>
                    <a:pt x="1215" y="2"/>
                  </a:lnTo>
                  <a:lnTo>
                    <a:pt x="1214" y="2"/>
                  </a:lnTo>
                  <a:lnTo>
                    <a:pt x="1214" y="4"/>
                  </a:lnTo>
                  <a:lnTo>
                    <a:pt x="1214" y="4"/>
                  </a:lnTo>
                  <a:lnTo>
                    <a:pt x="1212" y="4"/>
                  </a:lnTo>
                  <a:lnTo>
                    <a:pt x="1147" y="4"/>
                  </a:lnTo>
                  <a:lnTo>
                    <a:pt x="1146" y="4"/>
                  </a:lnTo>
                  <a:lnTo>
                    <a:pt x="1146" y="4"/>
                  </a:lnTo>
                  <a:lnTo>
                    <a:pt x="1145" y="2"/>
                  </a:lnTo>
                  <a:lnTo>
                    <a:pt x="1145" y="2"/>
                  </a:lnTo>
                  <a:lnTo>
                    <a:pt x="1145" y="1"/>
                  </a:lnTo>
                  <a:lnTo>
                    <a:pt x="1146" y="0"/>
                  </a:lnTo>
                  <a:lnTo>
                    <a:pt x="1147" y="0"/>
                  </a:lnTo>
                  <a:lnTo>
                    <a:pt x="1147" y="0"/>
                  </a:lnTo>
                  <a:close/>
                  <a:moveTo>
                    <a:pt x="1251" y="0"/>
                  </a:moveTo>
                  <a:lnTo>
                    <a:pt x="1316" y="0"/>
                  </a:lnTo>
                  <a:lnTo>
                    <a:pt x="1318" y="0"/>
                  </a:lnTo>
                  <a:lnTo>
                    <a:pt x="1319" y="2"/>
                  </a:lnTo>
                  <a:lnTo>
                    <a:pt x="1318" y="4"/>
                  </a:lnTo>
                  <a:lnTo>
                    <a:pt x="1318" y="4"/>
                  </a:lnTo>
                  <a:lnTo>
                    <a:pt x="1316" y="4"/>
                  </a:lnTo>
                  <a:lnTo>
                    <a:pt x="1251" y="4"/>
                  </a:lnTo>
                  <a:lnTo>
                    <a:pt x="1250" y="4"/>
                  </a:lnTo>
                  <a:lnTo>
                    <a:pt x="1250" y="4"/>
                  </a:lnTo>
                  <a:lnTo>
                    <a:pt x="1249" y="2"/>
                  </a:lnTo>
                  <a:lnTo>
                    <a:pt x="1249" y="2"/>
                  </a:lnTo>
                  <a:lnTo>
                    <a:pt x="1249" y="1"/>
                  </a:lnTo>
                  <a:lnTo>
                    <a:pt x="1250" y="0"/>
                  </a:lnTo>
                  <a:lnTo>
                    <a:pt x="1251" y="0"/>
                  </a:lnTo>
                  <a:lnTo>
                    <a:pt x="1251" y="0"/>
                  </a:lnTo>
                  <a:close/>
                  <a:moveTo>
                    <a:pt x="1355" y="0"/>
                  </a:moveTo>
                  <a:lnTo>
                    <a:pt x="1420" y="0"/>
                  </a:lnTo>
                  <a:lnTo>
                    <a:pt x="1422" y="0"/>
                  </a:lnTo>
                  <a:lnTo>
                    <a:pt x="1423" y="1"/>
                  </a:lnTo>
                  <a:lnTo>
                    <a:pt x="1423" y="2"/>
                  </a:lnTo>
                  <a:lnTo>
                    <a:pt x="1423" y="2"/>
                  </a:lnTo>
                  <a:lnTo>
                    <a:pt x="1422" y="4"/>
                  </a:lnTo>
                  <a:lnTo>
                    <a:pt x="1422" y="4"/>
                  </a:lnTo>
                  <a:lnTo>
                    <a:pt x="1420" y="4"/>
                  </a:lnTo>
                  <a:lnTo>
                    <a:pt x="1355" y="4"/>
                  </a:lnTo>
                  <a:lnTo>
                    <a:pt x="1354" y="4"/>
                  </a:lnTo>
                  <a:lnTo>
                    <a:pt x="1354" y="4"/>
                  </a:lnTo>
                  <a:lnTo>
                    <a:pt x="1353" y="2"/>
                  </a:lnTo>
                  <a:lnTo>
                    <a:pt x="1353" y="2"/>
                  </a:lnTo>
                  <a:lnTo>
                    <a:pt x="1353" y="1"/>
                  </a:lnTo>
                  <a:lnTo>
                    <a:pt x="1354" y="0"/>
                  </a:lnTo>
                  <a:lnTo>
                    <a:pt x="1355" y="0"/>
                  </a:lnTo>
                  <a:lnTo>
                    <a:pt x="1355" y="0"/>
                  </a:lnTo>
                  <a:close/>
                  <a:moveTo>
                    <a:pt x="1460" y="0"/>
                  </a:moveTo>
                  <a:lnTo>
                    <a:pt x="1524" y="0"/>
                  </a:lnTo>
                  <a:lnTo>
                    <a:pt x="1526" y="0"/>
                  </a:lnTo>
                  <a:lnTo>
                    <a:pt x="1527" y="1"/>
                  </a:lnTo>
                  <a:lnTo>
                    <a:pt x="1527" y="2"/>
                  </a:lnTo>
                  <a:lnTo>
                    <a:pt x="1527" y="2"/>
                  </a:lnTo>
                  <a:lnTo>
                    <a:pt x="1526" y="4"/>
                  </a:lnTo>
                  <a:lnTo>
                    <a:pt x="1526" y="4"/>
                  </a:lnTo>
                  <a:lnTo>
                    <a:pt x="1524" y="4"/>
                  </a:lnTo>
                  <a:lnTo>
                    <a:pt x="1460" y="4"/>
                  </a:lnTo>
                  <a:lnTo>
                    <a:pt x="1458" y="4"/>
                  </a:lnTo>
                  <a:lnTo>
                    <a:pt x="1458" y="4"/>
                  </a:lnTo>
                  <a:lnTo>
                    <a:pt x="1457" y="2"/>
                  </a:lnTo>
                  <a:lnTo>
                    <a:pt x="1457" y="2"/>
                  </a:lnTo>
                  <a:lnTo>
                    <a:pt x="1457" y="1"/>
                  </a:lnTo>
                  <a:lnTo>
                    <a:pt x="1458" y="0"/>
                  </a:lnTo>
                  <a:lnTo>
                    <a:pt x="1460" y="0"/>
                  </a:lnTo>
                  <a:lnTo>
                    <a:pt x="1460" y="0"/>
                  </a:lnTo>
                  <a:close/>
                  <a:moveTo>
                    <a:pt x="1564" y="0"/>
                  </a:moveTo>
                  <a:lnTo>
                    <a:pt x="1629" y="0"/>
                  </a:lnTo>
                  <a:lnTo>
                    <a:pt x="1630" y="0"/>
                  </a:lnTo>
                  <a:lnTo>
                    <a:pt x="1631" y="1"/>
                  </a:lnTo>
                  <a:lnTo>
                    <a:pt x="1631" y="2"/>
                  </a:lnTo>
                  <a:lnTo>
                    <a:pt x="1631" y="2"/>
                  </a:lnTo>
                  <a:lnTo>
                    <a:pt x="1630" y="4"/>
                  </a:lnTo>
                  <a:lnTo>
                    <a:pt x="1630" y="4"/>
                  </a:lnTo>
                  <a:lnTo>
                    <a:pt x="1629" y="4"/>
                  </a:lnTo>
                  <a:lnTo>
                    <a:pt x="1564" y="4"/>
                  </a:lnTo>
                  <a:lnTo>
                    <a:pt x="1562" y="4"/>
                  </a:lnTo>
                  <a:lnTo>
                    <a:pt x="1562" y="4"/>
                  </a:lnTo>
                  <a:lnTo>
                    <a:pt x="1562" y="2"/>
                  </a:lnTo>
                  <a:lnTo>
                    <a:pt x="1562" y="2"/>
                  </a:lnTo>
                  <a:lnTo>
                    <a:pt x="1562" y="1"/>
                  </a:lnTo>
                  <a:lnTo>
                    <a:pt x="1562" y="0"/>
                  </a:lnTo>
                  <a:lnTo>
                    <a:pt x="1564" y="0"/>
                  </a:lnTo>
                  <a:lnTo>
                    <a:pt x="1564" y="0"/>
                  </a:lnTo>
                  <a:close/>
                  <a:moveTo>
                    <a:pt x="1668" y="0"/>
                  </a:moveTo>
                  <a:lnTo>
                    <a:pt x="1733" y="0"/>
                  </a:lnTo>
                  <a:lnTo>
                    <a:pt x="1734" y="0"/>
                  </a:lnTo>
                  <a:lnTo>
                    <a:pt x="1735" y="2"/>
                  </a:lnTo>
                  <a:lnTo>
                    <a:pt x="1734" y="4"/>
                  </a:lnTo>
                  <a:lnTo>
                    <a:pt x="1734" y="4"/>
                  </a:lnTo>
                  <a:lnTo>
                    <a:pt x="1733" y="4"/>
                  </a:lnTo>
                  <a:lnTo>
                    <a:pt x="1668" y="4"/>
                  </a:lnTo>
                  <a:lnTo>
                    <a:pt x="1666" y="4"/>
                  </a:lnTo>
                  <a:lnTo>
                    <a:pt x="1666" y="4"/>
                  </a:lnTo>
                  <a:lnTo>
                    <a:pt x="1666" y="2"/>
                  </a:lnTo>
                  <a:lnTo>
                    <a:pt x="1666" y="2"/>
                  </a:lnTo>
                  <a:lnTo>
                    <a:pt x="1666" y="1"/>
                  </a:lnTo>
                  <a:lnTo>
                    <a:pt x="1666" y="0"/>
                  </a:lnTo>
                  <a:lnTo>
                    <a:pt x="1668" y="0"/>
                  </a:lnTo>
                  <a:lnTo>
                    <a:pt x="1668" y="0"/>
                  </a:lnTo>
                  <a:close/>
                  <a:moveTo>
                    <a:pt x="1772" y="0"/>
                  </a:moveTo>
                  <a:lnTo>
                    <a:pt x="1837" y="0"/>
                  </a:lnTo>
                  <a:lnTo>
                    <a:pt x="1839" y="0"/>
                  </a:lnTo>
                  <a:lnTo>
                    <a:pt x="1839" y="1"/>
                  </a:lnTo>
                  <a:lnTo>
                    <a:pt x="1839" y="2"/>
                  </a:lnTo>
                  <a:lnTo>
                    <a:pt x="1839" y="2"/>
                  </a:lnTo>
                  <a:lnTo>
                    <a:pt x="1839" y="4"/>
                  </a:lnTo>
                  <a:lnTo>
                    <a:pt x="1838" y="4"/>
                  </a:lnTo>
                  <a:lnTo>
                    <a:pt x="1837" y="4"/>
                  </a:lnTo>
                  <a:lnTo>
                    <a:pt x="1772" y="4"/>
                  </a:lnTo>
                  <a:lnTo>
                    <a:pt x="1772" y="4"/>
                  </a:lnTo>
                  <a:lnTo>
                    <a:pt x="1770" y="4"/>
                  </a:lnTo>
                  <a:lnTo>
                    <a:pt x="1770" y="2"/>
                  </a:lnTo>
                  <a:lnTo>
                    <a:pt x="1770" y="2"/>
                  </a:lnTo>
                  <a:lnTo>
                    <a:pt x="1770" y="1"/>
                  </a:lnTo>
                  <a:lnTo>
                    <a:pt x="1770" y="0"/>
                  </a:lnTo>
                  <a:lnTo>
                    <a:pt x="1772" y="0"/>
                  </a:lnTo>
                  <a:lnTo>
                    <a:pt x="1772" y="0"/>
                  </a:lnTo>
                  <a:close/>
                  <a:moveTo>
                    <a:pt x="1876" y="0"/>
                  </a:moveTo>
                  <a:lnTo>
                    <a:pt x="1942" y="0"/>
                  </a:lnTo>
                  <a:lnTo>
                    <a:pt x="1944" y="0"/>
                  </a:lnTo>
                  <a:lnTo>
                    <a:pt x="1944" y="1"/>
                  </a:lnTo>
                  <a:lnTo>
                    <a:pt x="1944" y="2"/>
                  </a:lnTo>
                  <a:lnTo>
                    <a:pt x="1944" y="2"/>
                  </a:lnTo>
                  <a:lnTo>
                    <a:pt x="1944" y="4"/>
                  </a:lnTo>
                  <a:lnTo>
                    <a:pt x="1942" y="4"/>
                  </a:lnTo>
                  <a:lnTo>
                    <a:pt x="1942" y="4"/>
                  </a:lnTo>
                  <a:lnTo>
                    <a:pt x="1876" y="4"/>
                  </a:lnTo>
                  <a:lnTo>
                    <a:pt x="1876" y="4"/>
                  </a:lnTo>
                  <a:lnTo>
                    <a:pt x="1875" y="4"/>
                  </a:lnTo>
                  <a:lnTo>
                    <a:pt x="1875" y="2"/>
                  </a:lnTo>
                  <a:lnTo>
                    <a:pt x="1875" y="2"/>
                  </a:lnTo>
                  <a:lnTo>
                    <a:pt x="1875" y="1"/>
                  </a:lnTo>
                  <a:lnTo>
                    <a:pt x="1875" y="0"/>
                  </a:lnTo>
                  <a:lnTo>
                    <a:pt x="1876" y="0"/>
                  </a:lnTo>
                  <a:lnTo>
                    <a:pt x="1876" y="0"/>
                  </a:lnTo>
                  <a:close/>
                  <a:moveTo>
                    <a:pt x="1980" y="0"/>
                  </a:moveTo>
                  <a:lnTo>
                    <a:pt x="2046" y="0"/>
                  </a:lnTo>
                  <a:lnTo>
                    <a:pt x="2048" y="0"/>
                  </a:lnTo>
                  <a:lnTo>
                    <a:pt x="2048" y="1"/>
                  </a:lnTo>
                  <a:lnTo>
                    <a:pt x="2048" y="2"/>
                  </a:lnTo>
                  <a:lnTo>
                    <a:pt x="2048" y="2"/>
                  </a:lnTo>
                  <a:lnTo>
                    <a:pt x="2048" y="4"/>
                  </a:lnTo>
                  <a:lnTo>
                    <a:pt x="2046" y="4"/>
                  </a:lnTo>
                  <a:lnTo>
                    <a:pt x="2046" y="4"/>
                  </a:lnTo>
                  <a:lnTo>
                    <a:pt x="1980" y="4"/>
                  </a:lnTo>
                  <a:lnTo>
                    <a:pt x="1980" y="4"/>
                  </a:lnTo>
                  <a:lnTo>
                    <a:pt x="1979" y="4"/>
                  </a:lnTo>
                  <a:lnTo>
                    <a:pt x="1979" y="2"/>
                  </a:lnTo>
                  <a:lnTo>
                    <a:pt x="1979" y="2"/>
                  </a:lnTo>
                  <a:lnTo>
                    <a:pt x="1979" y="1"/>
                  </a:lnTo>
                  <a:lnTo>
                    <a:pt x="1979" y="0"/>
                  </a:lnTo>
                  <a:lnTo>
                    <a:pt x="1980" y="0"/>
                  </a:lnTo>
                  <a:lnTo>
                    <a:pt x="1980" y="0"/>
                  </a:lnTo>
                  <a:close/>
                  <a:moveTo>
                    <a:pt x="2084" y="0"/>
                  </a:moveTo>
                  <a:lnTo>
                    <a:pt x="2150" y="0"/>
                  </a:lnTo>
                  <a:lnTo>
                    <a:pt x="2152" y="0"/>
                  </a:lnTo>
                  <a:lnTo>
                    <a:pt x="2152" y="2"/>
                  </a:lnTo>
                  <a:lnTo>
                    <a:pt x="2152" y="4"/>
                  </a:lnTo>
                  <a:lnTo>
                    <a:pt x="2150" y="4"/>
                  </a:lnTo>
                  <a:lnTo>
                    <a:pt x="2150" y="4"/>
                  </a:lnTo>
                  <a:lnTo>
                    <a:pt x="2084" y="4"/>
                  </a:lnTo>
                  <a:lnTo>
                    <a:pt x="2084" y="4"/>
                  </a:lnTo>
                  <a:lnTo>
                    <a:pt x="2083" y="4"/>
                  </a:lnTo>
                  <a:lnTo>
                    <a:pt x="2083" y="2"/>
                  </a:lnTo>
                  <a:lnTo>
                    <a:pt x="2083" y="2"/>
                  </a:lnTo>
                  <a:lnTo>
                    <a:pt x="2083" y="1"/>
                  </a:lnTo>
                  <a:lnTo>
                    <a:pt x="2083" y="0"/>
                  </a:lnTo>
                  <a:lnTo>
                    <a:pt x="2084" y="0"/>
                  </a:lnTo>
                  <a:lnTo>
                    <a:pt x="2084" y="0"/>
                  </a:lnTo>
                  <a:close/>
                  <a:moveTo>
                    <a:pt x="2190" y="0"/>
                  </a:moveTo>
                  <a:lnTo>
                    <a:pt x="2254" y="0"/>
                  </a:lnTo>
                  <a:lnTo>
                    <a:pt x="2256" y="0"/>
                  </a:lnTo>
                  <a:lnTo>
                    <a:pt x="2256" y="1"/>
                  </a:lnTo>
                  <a:lnTo>
                    <a:pt x="2256" y="2"/>
                  </a:lnTo>
                  <a:lnTo>
                    <a:pt x="2256" y="2"/>
                  </a:lnTo>
                  <a:lnTo>
                    <a:pt x="2256" y="4"/>
                  </a:lnTo>
                  <a:lnTo>
                    <a:pt x="2254" y="4"/>
                  </a:lnTo>
                  <a:lnTo>
                    <a:pt x="2254" y="4"/>
                  </a:lnTo>
                  <a:lnTo>
                    <a:pt x="2190" y="4"/>
                  </a:lnTo>
                  <a:lnTo>
                    <a:pt x="2188" y="4"/>
                  </a:lnTo>
                  <a:lnTo>
                    <a:pt x="2187" y="4"/>
                  </a:lnTo>
                  <a:lnTo>
                    <a:pt x="2187" y="2"/>
                  </a:lnTo>
                  <a:lnTo>
                    <a:pt x="2187" y="2"/>
                  </a:lnTo>
                  <a:lnTo>
                    <a:pt x="2187" y="1"/>
                  </a:lnTo>
                  <a:lnTo>
                    <a:pt x="2187" y="0"/>
                  </a:lnTo>
                  <a:lnTo>
                    <a:pt x="2190" y="0"/>
                  </a:lnTo>
                  <a:lnTo>
                    <a:pt x="2190" y="0"/>
                  </a:lnTo>
                  <a:close/>
                  <a:moveTo>
                    <a:pt x="2294" y="0"/>
                  </a:moveTo>
                  <a:lnTo>
                    <a:pt x="2359" y="0"/>
                  </a:lnTo>
                  <a:lnTo>
                    <a:pt x="2360" y="0"/>
                  </a:lnTo>
                  <a:lnTo>
                    <a:pt x="2360" y="1"/>
                  </a:lnTo>
                  <a:lnTo>
                    <a:pt x="2360" y="2"/>
                  </a:lnTo>
                  <a:lnTo>
                    <a:pt x="2360" y="2"/>
                  </a:lnTo>
                  <a:lnTo>
                    <a:pt x="2360" y="4"/>
                  </a:lnTo>
                  <a:lnTo>
                    <a:pt x="2359" y="4"/>
                  </a:lnTo>
                  <a:lnTo>
                    <a:pt x="2359" y="4"/>
                  </a:lnTo>
                  <a:lnTo>
                    <a:pt x="2294" y="4"/>
                  </a:lnTo>
                  <a:lnTo>
                    <a:pt x="2292" y="4"/>
                  </a:lnTo>
                  <a:lnTo>
                    <a:pt x="2291" y="4"/>
                  </a:lnTo>
                  <a:lnTo>
                    <a:pt x="2291" y="2"/>
                  </a:lnTo>
                  <a:lnTo>
                    <a:pt x="2291" y="0"/>
                  </a:lnTo>
                  <a:lnTo>
                    <a:pt x="2294" y="0"/>
                  </a:lnTo>
                  <a:lnTo>
                    <a:pt x="2294" y="0"/>
                  </a:lnTo>
                  <a:close/>
                  <a:moveTo>
                    <a:pt x="2398" y="0"/>
                  </a:moveTo>
                  <a:lnTo>
                    <a:pt x="2463" y="0"/>
                  </a:lnTo>
                  <a:lnTo>
                    <a:pt x="2464" y="0"/>
                  </a:lnTo>
                  <a:lnTo>
                    <a:pt x="2464" y="1"/>
                  </a:lnTo>
                  <a:lnTo>
                    <a:pt x="2464" y="2"/>
                  </a:lnTo>
                  <a:lnTo>
                    <a:pt x="2464" y="2"/>
                  </a:lnTo>
                  <a:lnTo>
                    <a:pt x="2464" y="4"/>
                  </a:lnTo>
                  <a:lnTo>
                    <a:pt x="2463" y="4"/>
                  </a:lnTo>
                  <a:lnTo>
                    <a:pt x="2463" y="4"/>
                  </a:lnTo>
                  <a:lnTo>
                    <a:pt x="2398" y="4"/>
                  </a:lnTo>
                  <a:lnTo>
                    <a:pt x="2396" y="4"/>
                  </a:lnTo>
                  <a:lnTo>
                    <a:pt x="2395" y="4"/>
                  </a:lnTo>
                  <a:lnTo>
                    <a:pt x="2395" y="2"/>
                  </a:lnTo>
                  <a:lnTo>
                    <a:pt x="2395" y="2"/>
                  </a:lnTo>
                  <a:lnTo>
                    <a:pt x="2395" y="1"/>
                  </a:lnTo>
                  <a:lnTo>
                    <a:pt x="2395" y="0"/>
                  </a:lnTo>
                  <a:lnTo>
                    <a:pt x="2398" y="0"/>
                  </a:lnTo>
                  <a:lnTo>
                    <a:pt x="2398" y="0"/>
                  </a:lnTo>
                  <a:close/>
                  <a:moveTo>
                    <a:pt x="2502" y="0"/>
                  </a:moveTo>
                  <a:lnTo>
                    <a:pt x="2567" y="0"/>
                  </a:lnTo>
                  <a:lnTo>
                    <a:pt x="2568" y="0"/>
                  </a:lnTo>
                  <a:lnTo>
                    <a:pt x="2568" y="1"/>
                  </a:lnTo>
                  <a:lnTo>
                    <a:pt x="2569" y="2"/>
                  </a:lnTo>
                  <a:lnTo>
                    <a:pt x="2568" y="2"/>
                  </a:lnTo>
                  <a:lnTo>
                    <a:pt x="2568" y="4"/>
                  </a:lnTo>
                  <a:lnTo>
                    <a:pt x="2567" y="4"/>
                  </a:lnTo>
                  <a:lnTo>
                    <a:pt x="2567" y="4"/>
                  </a:lnTo>
                  <a:lnTo>
                    <a:pt x="2502" y="4"/>
                  </a:lnTo>
                  <a:lnTo>
                    <a:pt x="2500" y="4"/>
                  </a:lnTo>
                  <a:lnTo>
                    <a:pt x="2499" y="4"/>
                  </a:lnTo>
                  <a:lnTo>
                    <a:pt x="2499" y="2"/>
                  </a:lnTo>
                  <a:lnTo>
                    <a:pt x="2499" y="2"/>
                  </a:lnTo>
                  <a:lnTo>
                    <a:pt x="2499" y="1"/>
                  </a:lnTo>
                  <a:lnTo>
                    <a:pt x="2499" y="0"/>
                  </a:lnTo>
                  <a:lnTo>
                    <a:pt x="2502" y="0"/>
                  </a:lnTo>
                  <a:lnTo>
                    <a:pt x="2502" y="0"/>
                  </a:lnTo>
                  <a:close/>
                  <a:moveTo>
                    <a:pt x="2606" y="0"/>
                  </a:moveTo>
                  <a:lnTo>
                    <a:pt x="2671" y="0"/>
                  </a:lnTo>
                  <a:lnTo>
                    <a:pt x="2672" y="0"/>
                  </a:lnTo>
                  <a:lnTo>
                    <a:pt x="2672" y="1"/>
                  </a:lnTo>
                  <a:lnTo>
                    <a:pt x="2673" y="2"/>
                  </a:lnTo>
                  <a:lnTo>
                    <a:pt x="2672" y="2"/>
                  </a:lnTo>
                  <a:lnTo>
                    <a:pt x="2672" y="4"/>
                  </a:lnTo>
                  <a:lnTo>
                    <a:pt x="2671" y="4"/>
                  </a:lnTo>
                  <a:lnTo>
                    <a:pt x="2671" y="4"/>
                  </a:lnTo>
                  <a:lnTo>
                    <a:pt x="2606" y="4"/>
                  </a:lnTo>
                  <a:lnTo>
                    <a:pt x="2605" y="4"/>
                  </a:lnTo>
                  <a:lnTo>
                    <a:pt x="2605" y="4"/>
                  </a:lnTo>
                  <a:lnTo>
                    <a:pt x="2603" y="2"/>
                  </a:lnTo>
                  <a:lnTo>
                    <a:pt x="2603" y="2"/>
                  </a:lnTo>
                  <a:lnTo>
                    <a:pt x="2603" y="1"/>
                  </a:lnTo>
                  <a:lnTo>
                    <a:pt x="2605" y="0"/>
                  </a:lnTo>
                  <a:lnTo>
                    <a:pt x="2606" y="0"/>
                  </a:lnTo>
                  <a:lnTo>
                    <a:pt x="2606" y="0"/>
                  </a:lnTo>
                  <a:close/>
                  <a:moveTo>
                    <a:pt x="2710" y="0"/>
                  </a:moveTo>
                  <a:lnTo>
                    <a:pt x="2775" y="0"/>
                  </a:lnTo>
                  <a:lnTo>
                    <a:pt x="2776" y="0"/>
                  </a:lnTo>
                  <a:lnTo>
                    <a:pt x="2776" y="1"/>
                  </a:lnTo>
                  <a:lnTo>
                    <a:pt x="2778" y="2"/>
                  </a:lnTo>
                  <a:lnTo>
                    <a:pt x="2776" y="2"/>
                  </a:lnTo>
                  <a:lnTo>
                    <a:pt x="2776" y="4"/>
                  </a:lnTo>
                  <a:lnTo>
                    <a:pt x="2776" y="4"/>
                  </a:lnTo>
                  <a:lnTo>
                    <a:pt x="2775" y="4"/>
                  </a:lnTo>
                  <a:lnTo>
                    <a:pt x="2710" y="4"/>
                  </a:lnTo>
                  <a:lnTo>
                    <a:pt x="2709" y="4"/>
                  </a:lnTo>
                  <a:lnTo>
                    <a:pt x="2709" y="4"/>
                  </a:lnTo>
                  <a:lnTo>
                    <a:pt x="2707" y="2"/>
                  </a:lnTo>
                  <a:lnTo>
                    <a:pt x="2709" y="0"/>
                  </a:lnTo>
                  <a:lnTo>
                    <a:pt x="2710" y="0"/>
                  </a:lnTo>
                  <a:lnTo>
                    <a:pt x="2710" y="0"/>
                  </a:lnTo>
                  <a:close/>
                  <a:moveTo>
                    <a:pt x="2814" y="0"/>
                  </a:moveTo>
                  <a:lnTo>
                    <a:pt x="2879" y="0"/>
                  </a:lnTo>
                  <a:lnTo>
                    <a:pt x="2880" y="0"/>
                  </a:lnTo>
                  <a:lnTo>
                    <a:pt x="2880" y="1"/>
                  </a:lnTo>
                  <a:lnTo>
                    <a:pt x="2882" y="2"/>
                  </a:lnTo>
                  <a:lnTo>
                    <a:pt x="2880" y="2"/>
                  </a:lnTo>
                  <a:lnTo>
                    <a:pt x="2880" y="4"/>
                  </a:lnTo>
                  <a:lnTo>
                    <a:pt x="2880" y="4"/>
                  </a:lnTo>
                  <a:lnTo>
                    <a:pt x="2879" y="4"/>
                  </a:lnTo>
                  <a:lnTo>
                    <a:pt x="2814" y="4"/>
                  </a:lnTo>
                  <a:lnTo>
                    <a:pt x="2813" y="4"/>
                  </a:lnTo>
                  <a:lnTo>
                    <a:pt x="2813" y="4"/>
                  </a:lnTo>
                  <a:lnTo>
                    <a:pt x="2811" y="2"/>
                  </a:lnTo>
                  <a:lnTo>
                    <a:pt x="2811" y="2"/>
                  </a:lnTo>
                  <a:lnTo>
                    <a:pt x="2811" y="1"/>
                  </a:lnTo>
                  <a:lnTo>
                    <a:pt x="2813" y="0"/>
                  </a:lnTo>
                  <a:lnTo>
                    <a:pt x="2814" y="0"/>
                  </a:lnTo>
                  <a:lnTo>
                    <a:pt x="2814" y="0"/>
                  </a:lnTo>
                  <a:close/>
                  <a:moveTo>
                    <a:pt x="2918" y="0"/>
                  </a:moveTo>
                  <a:lnTo>
                    <a:pt x="2983" y="0"/>
                  </a:lnTo>
                  <a:lnTo>
                    <a:pt x="2984" y="0"/>
                  </a:lnTo>
                  <a:lnTo>
                    <a:pt x="2986" y="1"/>
                  </a:lnTo>
                  <a:lnTo>
                    <a:pt x="2986" y="2"/>
                  </a:lnTo>
                  <a:lnTo>
                    <a:pt x="2986" y="2"/>
                  </a:lnTo>
                  <a:lnTo>
                    <a:pt x="2984" y="4"/>
                  </a:lnTo>
                  <a:lnTo>
                    <a:pt x="2984" y="4"/>
                  </a:lnTo>
                  <a:lnTo>
                    <a:pt x="2983" y="4"/>
                  </a:lnTo>
                  <a:lnTo>
                    <a:pt x="2918" y="4"/>
                  </a:lnTo>
                  <a:lnTo>
                    <a:pt x="2917" y="4"/>
                  </a:lnTo>
                  <a:lnTo>
                    <a:pt x="2917" y="4"/>
                  </a:lnTo>
                  <a:lnTo>
                    <a:pt x="2915" y="2"/>
                  </a:lnTo>
                  <a:lnTo>
                    <a:pt x="2915" y="2"/>
                  </a:lnTo>
                  <a:lnTo>
                    <a:pt x="2915" y="1"/>
                  </a:lnTo>
                  <a:lnTo>
                    <a:pt x="2917" y="0"/>
                  </a:lnTo>
                  <a:lnTo>
                    <a:pt x="2918" y="0"/>
                  </a:lnTo>
                  <a:lnTo>
                    <a:pt x="2918" y="0"/>
                  </a:lnTo>
                  <a:close/>
                  <a:moveTo>
                    <a:pt x="3022" y="0"/>
                  </a:moveTo>
                  <a:lnTo>
                    <a:pt x="3087" y="0"/>
                  </a:lnTo>
                  <a:lnTo>
                    <a:pt x="3088" y="0"/>
                  </a:lnTo>
                  <a:lnTo>
                    <a:pt x="3090" y="1"/>
                  </a:lnTo>
                  <a:lnTo>
                    <a:pt x="3090" y="2"/>
                  </a:lnTo>
                  <a:lnTo>
                    <a:pt x="3090" y="2"/>
                  </a:lnTo>
                  <a:lnTo>
                    <a:pt x="3088" y="4"/>
                  </a:lnTo>
                  <a:lnTo>
                    <a:pt x="3088" y="4"/>
                  </a:lnTo>
                  <a:lnTo>
                    <a:pt x="3087" y="4"/>
                  </a:lnTo>
                  <a:lnTo>
                    <a:pt x="3022" y="4"/>
                  </a:lnTo>
                  <a:lnTo>
                    <a:pt x="3021" y="4"/>
                  </a:lnTo>
                  <a:lnTo>
                    <a:pt x="3021" y="4"/>
                  </a:lnTo>
                  <a:lnTo>
                    <a:pt x="3020" y="2"/>
                  </a:lnTo>
                  <a:lnTo>
                    <a:pt x="3020" y="2"/>
                  </a:lnTo>
                  <a:lnTo>
                    <a:pt x="3020" y="1"/>
                  </a:lnTo>
                  <a:lnTo>
                    <a:pt x="3021" y="0"/>
                  </a:lnTo>
                  <a:lnTo>
                    <a:pt x="3022" y="0"/>
                  </a:lnTo>
                  <a:lnTo>
                    <a:pt x="3022" y="0"/>
                  </a:lnTo>
                  <a:close/>
                  <a:moveTo>
                    <a:pt x="3126" y="0"/>
                  </a:moveTo>
                  <a:lnTo>
                    <a:pt x="3191" y="0"/>
                  </a:lnTo>
                  <a:lnTo>
                    <a:pt x="3193" y="0"/>
                  </a:lnTo>
                  <a:lnTo>
                    <a:pt x="3194" y="1"/>
                  </a:lnTo>
                  <a:lnTo>
                    <a:pt x="3194" y="2"/>
                  </a:lnTo>
                  <a:lnTo>
                    <a:pt x="3194" y="2"/>
                  </a:lnTo>
                  <a:lnTo>
                    <a:pt x="3193" y="4"/>
                  </a:lnTo>
                  <a:lnTo>
                    <a:pt x="3193" y="4"/>
                  </a:lnTo>
                  <a:lnTo>
                    <a:pt x="3191" y="4"/>
                  </a:lnTo>
                  <a:lnTo>
                    <a:pt x="3126" y="4"/>
                  </a:lnTo>
                  <a:lnTo>
                    <a:pt x="3125" y="4"/>
                  </a:lnTo>
                  <a:lnTo>
                    <a:pt x="3125" y="4"/>
                  </a:lnTo>
                  <a:lnTo>
                    <a:pt x="3125" y="2"/>
                  </a:lnTo>
                  <a:lnTo>
                    <a:pt x="3125" y="0"/>
                  </a:lnTo>
                  <a:lnTo>
                    <a:pt x="3126" y="0"/>
                  </a:lnTo>
                  <a:lnTo>
                    <a:pt x="3126" y="0"/>
                  </a:lnTo>
                  <a:close/>
                  <a:moveTo>
                    <a:pt x="3230" y="0"/>
                  </a:moveTo>
                  <a:lnTo>
                    <a:pt x="3232" y="0"/>
                  </a:lnTo>
                  <a:lnTo>
                    <a:pt x="3233" y="0"/>
                  </a:lnTo>
                  <a:lnTo>
                    <a:pt x="3233" y="1"/>
                  </a:lnTo>
                  <a:lnTo>
                    <a:pt x="3233" y="2"/>
                  </a:lnTo>
                  <a:lnTo>
                    <a:pt x="3233" y="2"/>
                  </a:lnTo>
                  <a:lnTo>
                    <a:pt x="3233" y="4"/>
                  </a:lnTo>
                  <a:lnTo>
                    <a:pt x="3232" y="4"/>
                  </a:lnTo>
                  <a:lnTo>
                    <a:pt x="3232" y="4"/>
                  </a:lnTo>
                  <a:lnTo>
                    <a:pt x="3230" y="4"/>
                  </a:lnTo>
                  <a:lnTo>
                    <a:pt x="3229" y="4"/>
                  </a:lnTo>
                  <a:lnTo>
                    <a:pt x="3229" y="4"/>
                  </a:lnTo>
                  <a:lnTo>
                    <a:pt x="3229" y="2"/>
                  </a:lnTo>
                  <a:lnTo>
                    <a:pt x="3229" y="2"/>
                  </a:lnTo>
                  <a:lnTo>
                    <a:pt x="3229" y="1"/>
                  </a:lnTo>
                  <a:lnTo>
                    <a:pt x="3229" y="0"/>
                  </a:lnTo>
                  <a:lnTo>
                    <a:pt x="3230" y="0"/>
                  </a:lnTo>
                  <a:lnTo>
                    <a:pt x="323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97240" y="3203640"/>
            <a:ext cx="2892240" cy="1691280"/>
            <a:chOff x="5997240" y="3203640"/>
            <a:chExt cx="2892240" cy="1691280"/>
          </a:xfrm>
        </p:grpSpPr>
        <p:sp>
          <p:nvSpPr>
            <p:cNvPr id="285" name=""/>
            <p:cNvSpPr/>
            <p:nvPr/>
          </p:nvSpPr>
          <p:spPr>
            <a:xfrm>
              <a:off x="6187680" y="3203640"/>
              <a:ext cx="263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IZLAZ REZULT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6680" y="3444840"/>
              <a:ext cx="178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RADA A-i 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4800" y="3686040"/>
              <a:ext cx="261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VIDU PODLOGA 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36200" y="3927600"/>
              <a:ext cx="275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IZVOĐENJE DRUG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1760" y="4168800"/>
              <a:ext cx="211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AKTIVNOSTI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6680" y="4410000"/>
              <a:ext cx="165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PROC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26280" y="4651200"/>
              <a:ext cx="225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</a:rPr>
                <a:t>(odluke, zapisi, ..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997240" y="3489480"/>
              <a:ext cx="3366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7480" y="3678120"/>
              <a:ext cx="103320" cy="9072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66" y="0"/>
                  </a:moveTo>
                  <a:lnTo>
                    <a:pt x="128" y="115"/>
                  </a:lnTo>
                  <a:lnTo>
                    <a:pt x="0" y="9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727600" y="5040360"/>
            <a:ext cx="3116520" cy="1146240"/>
            <a:chOff x="5727600" y="5040360"/>
            <a:chExt cx="3116520" cy="1146240"/>
          </a:xfrm>
        </p:grpSpPr>
        <p:sp>
          <p:nvSpPr>
            <p:cNvPr id="295" name=""/>
            <p:cNvSpPr/>
            <p:nvPr/>
          </p:nvSpPr>
          <p:spPr>
            <a:xfrm>
              <a:off x="5727600" y="5564160"/>
              <a:ext cx="563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81640" y="5518080"/>
              <a:ext cx="92160" cy="92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116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6434280" y="5040360"/>
              <a:ext cx="2409840" cy="114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4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8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6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8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0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51264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OCESI I ORGANIZACIONA STRUKTU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49120" y="1560600"/>
          <a:ext cx="4749840" cy="22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560600"/>
                    <a:ext cx="474984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500280" y="1612800"/>
          <a:ext cx="5643720" cy="317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1612800"/>
                    <a:ext cx="56437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70000" y="4711680"/>
          <a:ext cx="4991040" cy="19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4711680"/>
                    <a:ext cx="49910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51264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OCESI I ORGANIZACIONA STRUKTU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20560" y="3962520"/>
            <a:ext cx="3502080" cy="1019160"/>
            <a:chOff x="520560" y="3962520"/>
            <a:chExt cx="3502080" cy="1019160"/>
          </a:xfrm>
        </p:grpSpPr>
        <p:sp>
          <p:nvSpPr>
            <p:cNvPr id="313" name=""/>
            <p:cNvSpPr/>
            <p:nvPr/>
          </p:nvSpPr>
          <p:spPr>
            <a:xfrm>
              <a:off x="520560" y="3962520"/>
              <a:ext cx="3502080" cy="10191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6240" y="4048200"/>
              <a:ext cx="3330720" cy="876240"/>
            </a:xfrm>
            <a:prstGeom prst="rect">
              <a:avLst/>
            </a:prstGeom>
            <a:solidFill>
              <a:srgbClr val="cc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6400" y="4100400"/>
              <a:ext cx="319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FUNDAMENTALNA REŠE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75280" y="4253040"/>
              <a:ext cx="155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</a:rPr>
                <a:t>--  --  --  --  --  --  --  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99360" y="4376880"/>
              <a:ext cx="72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75280" y="4443480"/>
              <a:ext cx="155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</a:rPr>
                <a:t>--  --  --  --  --  --  --  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9360" y="4567320"/>
              <a:ext cx="72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34080" y="4662360"/>
              <a:ext cx="20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  R  O  C  E  S 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57240" y="4981320"/>
            <a:ext cx="3207960" cy="1856880"/>
            <a:chOff x="957240" y="4981320"/>
            <a:chExt cx="3207960" cy="1856880"/>
          </a:xfrm>
        </p:grpSpPr>
        <p:sp>
          <p:nvSpPr>
            <p:cNvPr id="322" name=""/>
            <p:cNvSpPr/>
            <p:nvPr/>
          </p:nvSpPr>
          <p:spPr>
            <a:xfrm flipH="1" flipV="1">
              <a:off x="957240" y="4981320"/>
              <a:ext cx="1312560" cy="1601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69800" y="4981320"/>
              <a:ext cx="1314720" cy="1601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6720" y="5062680"/>
              <a:ext cx="14000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0000"/>
                  </a:solidFill>
                  <a:latin typeface="Times New Roman"/>
                </a:rPr>
                <a:t>!!!?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33640" y="5958000"/>
              <a:ext cx="1816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- STANDARD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71800" y="6186600"/>
              <a:ext cx="20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- ORGANIZ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24280" y="6405480"/>
              <a:ext cx="171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- KUPOV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44440" y="6624720"/>
              <a:ext cx="1816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RAČUNA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57240" y="2212920"/>
            <a:ext cx="2627280" cy="1749600"/>
            <a:chOff x="957240" y="2212920"/>
            <a:chExt cx="2627280" cy="1749600"/>
          </a:xfrm>
        </p:grpSpPr>
        <p:sp>
          <p:nvSpPr>
            <p:cNvPr id="330" name=""/>
            <p:cNvSpPr/>
            <p:nvPr/>
          </p:nvSpPr>
          <p:spPr>
            <a:xfrm>
              <a:off x="957240" y="2212920"/>
              <a:ext cx="2627280" cy="1749600"/>
            </a:xfrm>
            <a:prstGeom prst="rect">
              <a:avLst/>
            </a:prstGeom>
            <a:solidFill>
              <a:srgbClr val="ffff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94080" y="2728800"/>
              <a:ext cx="1345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339933"/>
                  </a:solidFill>
                  <a:latin typeface="Times New Roman"/>
                </a:rPr>
                <a:t>???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81000" y="1671480"/>
            <a:ext cx="4182480" cy="4913640"/>
            <a:chOff x="81000" y="1671480"/>
            <a:chExt cx="4182480" cy="4913640"/>
          </a:xfrm>
        </p:grpSpPr>
        <p:sp>
          <p:nvSpPr>
            <p:cNvPr id="333" name=""/>
            <p:cNvSpPr/>
            <p:nvPr/>
          </p:nvSpPr>
          <p:spPr>
            <a:xfrm>
              <a:off x="81000" y="6583320"/>
              <a:ext cx="2934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240" y="2305080"/>
              <a:ext cx="1440" cy="42782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3320" y="2212920"/>
              <a:ext cx="66600" cy="10152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0" y="64"/>
                  </a:moveTo>
                  <a:lnTo>
                    <a:pt x="22" y="0"/>
                  </a:lnTo>
                  <a:lnTo>
                    <a:pt x="42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7240" y="1671480"/>
              <a:ext cx="384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KAKO SE OBIČNO RADI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151160" y="5562720"/>
            <a:ext cx="3503880" cy="1020600"/>
            <a:chOff x="4151160" y="5562720"/>
            <a:chExt cx="3503880" cy="1020600"/>
          </a:xfrm>
        </p:grpSpPr>
        <p:sp>
          <p:nvSpPr>
            <p:cNvPr id="338" name=""/>
            <p:cNvSpPr/>
            <p:nvPr/>
          </p:nvSpPr>
          <p:spPr>
            <a:xfrm>
              <a:off x="4151160" y="5562720"/>
              <a:ext cx="3503880" cy="10206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0080" y="5651640"/>
              <a:ext cx="3327480" cy="873000"/>
            </a:xfrm>
            <a:prstGeom prst="rect">
              <a:avLst/>
            </a:prstGeom>
            <a:solidFill>
              <a:srgbClr val="cc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97320" y="5700600"/>
              <a:ext cx="25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FUNDAMENTALNA 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88760" y="5700600"/>
              <a:ext cx="78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92800" y="5700600"/>
              <a:ext cx="112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E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9480" y="5853240"/>
              <a:ext cx="155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-  --  --  --  --  --  --  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33560" y="5977080"/>
              <a:ext cx="72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09480" y="6053040"/>
              <a:ext cx="155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-  --  --  --  --  --  --  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33560" y="6176880"/>
              <a:ext cx="72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96360" y="6272280"/>
              <a:ext cx="19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P  R  O  C  E  S 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410360" y="2405160"/>
            <a:ext cx="38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- Kupovina IT (RAČUNA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83720" y="2624040"/>
            <a:ext cx="359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- Informatičko projekt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86960" y="2852640"/>
            <a:ext cx="337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- Primena zahteva standa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93800" y="3071880"/>
            <a:ext cx="358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- Vođenje troškova preko proc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68440" y="1671480"/>
            <a:ext cx="358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KAKO TREBA RADIT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328640" y="2212920"/>
            <a:ext cx="4779000" cy="1882800"/>
            <a:chOff x="4328640" y="2212920"/>
            <a:chExt cx="4779000" cy="1882800"/>
          </a:xfrm>
        </p:grpSpPr>
        <p:sp>
          <p:nvSpPr>
            <p:cNvPr id="354" name=""/>
            <p:cNvSpPr/>
            <p:nvPr/>
          </p:nvSpPr>
          <p:spPr>
            <a:xfrm flipH="1">
              <a:off x="4589280" y="2212920"/>
              <a:ext cx="1314360" cy="1603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04000" y="2212920"/>
              <a:ext cx="1312920" cy="1603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37240" y="3290760"/>
              <a:ext cx="25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33"/>
                  </a:solidFill>
                  <a:latin typeface="Times New Roman"/>
                </a:rPr>
                <a:t>- Podela rada, nadležnos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28640" y="3519360"/>
              <a:ext cx="217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33"/>
                  </a:solidFill>
                  <a:latin typeface="Times New Roman"/>
                </a:rPr>
                <a:t>          </a:t>
              </a:r>
              <a:r>
                <a:rPr b="0" lang="en-US" sz="1400" spc="-1" strike="noStrike">
                  <a:solidFill>
                    <a:srgbClr val="339933"/>
                  </a:solidFill>
                  <a:latin typeface="Times New Roman"/>
                </a:rPr>
                <a:t>i odgovornos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51560" y="3317760"/>
              <a:ext cx="42840" cy="766800"/>
            </a:xfrm>
            <a:custGeom>
              <a:avLst/>
              <a:gdLst/>
              <a:ahLst/>
              <a:rect l="l" t="t" r="r" b="b"/>
              <a:pathLst>
                <a:path w="0" h="431">
                  <a:moveTo>
                    <a:pt x="0" y="0"/>
                  </a:moveTo>
                  <a:lnTo>
                    <a:pt x="0" y="0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431"/>
                  </a:lnTo>
                  <a:lnTo>
                    <a:pt x="0" y="43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96240" y="3317760"/>
              <a:ext cx="42840" cy="777960"/>
            </a:xfrm>
            <a:custGeom>
              <a:avLst/>
              <a:gdLst/>
              <a:ahLst/>
              <a:rect l="l" t="t" r="r" b="b"/>
              <a:pathLst>
                <a:path w="0" h="454">
                  <a:moveTo>
                    <a:pt x="0" y="0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454"/>
                  </a:lnTo>
                  <a:lnTo>
                    <a:pt x="0" y="454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96840" y="3300480"/>
              <a:ext cx="154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9933"/>
                  </a:solidFill>
                  <a:latin typeface="Times New Roman"/>
                </a:rPr>
                <a:t>PROCESN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5280" y="3490920"/>
              <a:ext cx="185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9933"/>
                  </a:solidFill>
                  <a:latin typeface="Times New Roman"/>
                </a:rPr>
                <a:t>ORIJENTISAN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40160" y="3691080"/>
              <a:ext cx="206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9933"/>
                  </a:solidFill>
                  <a:latin typeface="Times New Roman"/>
                </a:rPr>
                <a:t>ORGANIZACION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30600" y="3890880"/>
              <a:ext cx="1674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9933"/>
                  </a:solidFill>
                  <a:latin typeface="Times New Roman"/>
                </a:rPr>
                <a:t>STRUKTU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486680" y="3862440"/>
            <a:ext cx="30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- UPRAVLJANJE PROCES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76520" y="4110120"/>
            <a:ext cx="84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0600" y="4253040"/>
            <a:ext cx="86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50600" y="4417920"/>
            <a:ext cx="86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457880" y="4398840"/>
            <a:ext cx="4536000" cy="870120"/>
            <a:chOff x="4457880" y="4398840"/>
            <a:chExt cx="4536000" cy="870120"/>
          </a:xfrm>
        </p:grpSpPr>
        <p:sp>
          <p:nvSpPr>
            <p:cNvPr id="369" name=""/>
            <p:cNvSpPr/>
            <p:nvPr/>
          </p:nvSpPr>
          <p:spPr>
            <a:xfrm>
              <a:off x="4466160" y="4605480"/>
              <a:ext cx="267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- KRITERIJUMI, MERI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57880" y="4824360"/>
              <a:ext cx="262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KVALITETA PROCE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53280" y="4398840"/>
              <a:ext cx="1440" cy="870120"/>
            </a:xfrm>
            <a:custGeom>
              <a:avLst/>
              <a:gdLst/>
              <a:ahLst/>
              <a:rect l="l" t="t" r="r" b="b"/>
              <a:pathLst>
                <a:path w="0" h="548">
                  <a:moveTo>
                    <a:pt x="0" y="0"/>
                  </a:moveTo>
                  <a:lnTo>
                    <a:pt x="0" y="0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0" y="548"/>
                  </a:lnTo>
                  <a:lnTo>
                    <a:pt x="0" y="54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823240" y="4398840"/>
              <a:ext cx="1800" cy="870120"/>
            </a:xfrm>
            <a:custGeom>
              <a:avLst/>
              <a:gdLst/>
              <a:ahLst/>
              <a:rect l="l" t="t" r="r" b="b"/>
              <a:pathLst>
                <a:path w="0" h="548">
                  <a:moveTo>
                    <a:pt x="0" y="0"/>
                  </a:moveTo>
                  <a:lnTo>
                    <a:pt x="0" y="0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0" y="548"/>
                  </a:lnTo>
                  <a:lnTo>
                    <a:pt x="0" y="54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22160" y="4443480"/>
              <a:ext cx="1971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parametri, atribut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92640" y="4643280"/>
              <a:ext cx="1674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jedinica m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01640" y="4843440"/>
              <a:ext cx="1738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skale promen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02360" y="5043600"/>
              <a:ext cx="193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način utvrđivanj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343040" y="3816360"/>
            <a:ext cx="4911840" cy="2203560"/>
            <a:chOff x="4343040" y="3816360"/>
            <a:chExt cx="4911840" cy="2203560"/>
          </a:xfrm>
        </p:grpSpPr>
        <p:sp>
          <p:nvSpPr>
            <p:cNvPr id="378" name=""/>
            <p:cNvSpPr/>
            <p:nvPr/>
          </p:nvSpPr>
          <p:spPr>
            <a:xfrm>
              <a:off x="7430400" y="5786280"/>
              <a:ext cx="158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nepogrešiv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343040" y="3816360"/>
              <a:ext cx="4911840" cy="2203560"/>
              <a:chOff x="4343040" y="3816360"/>
              <a:chExt cx="4911840" cy="2203560"/>
            </a:xfrm>
          </p:grpSpPr>
          <p:sp>
            <p:nvSpPr>
              <p:cNvPr id="380" name=""/>
              <p:cNvSpPr/>
              <p:nvPr/>
            </p:nvSpPr>
            <p:spPr>
              <a:xfrm>
                <a:off x="4589640" y="3816360"/>
                <a:ext cx="2627280" cy="17463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43040" y="5272200"/>
                <a:ext cx="346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Times New Roman"/>
                  </a:rPr>
                  <a:t>- TOK PROCESA - PROCESS FL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696080" y="5319720"/>
                <a:ext cx="3240" cy="700200"/>
              </a:xfrm>
              <a:custGeom>
                <a:avLst/>
                <a:gdLst/>
                <a:ahLst/>
                <a:rect l="l" t="t" r="r" b="b"/>
                <a:pathLst>
                  <a:path w="2" h="441">
                    <a:moveTo>
                      <a:pt x="2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0" y="441"/>
                    </a:lnTo>
                    <a:lnTo>
                      <a:pt x="2" y="441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9083520" y="5319720"/>
                <a:ext cx="1800" cy="700200"/>
              </a:xfrm>
              <a:custGeom>
                <a:avLst/>
                <a:gdLst/>
                <a:ahLst/>
                <a:rect l="l" t="t" r="r" b="b"/>
                <a:pathLst>
                  <a:path w="1" h="441">
                    <a:moveTo>
                      <a:pt x="0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1" y="220"/>
                    </a:lnTo>
                    <a:lnTo>
                      <a:pt x="0" y="220"/>
                    </a:lnTo>
                    <a:lnTo>
                      <a:pt x="0" y="441"/>
                    </a:lnTo>
                    <a:lnTo>
                      <a:pt x="0" y="441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430400" y="5367240"/>
                <a:ext cx="1477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0000"/>
                    </a:solidFill>
                    <a:latin typeface="Times New Roman"/>
                  </a:rPr>
                  <a:t>- racional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410960" y="5586480"/>
                <a:ext cx="107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0000"/>
                    </a:solidFill>
                    <a:latin typeface="Times New Roman"/>
                  </a:rPr>
                  <a:t>- brz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400240" y="5567400"/>
                <a:ext cx="85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Times New Roman"/>
                  </a:rPr>
                  <a:t>I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645400" y="5519880"/>
                <a:ext cx="351000" cy="290520"/>
              </a:xfrm>
              <a:custGeom>
                <a:avLst/>
                <a:gdLst/>
                <a:ahLst/>
                <a:rect l="l" t="t" r="r" b="b"/>
                <a:pathLst>
                  <a:path w="221" h="183">
                    <a:moveTo>
                      <a:pt x="0" y="91"/>
                    </a:moveTo>
                    <a:lnTo>
                      <a:pt x="3" y="71"/>
                    </a:lnTo>
                    <a:lnTo>
                      <a:pt x="11" y="51"/>
                    </a:lnTo>
                    <a:lnTo>
                      <a:pt x="25" y="34"/>
                    </a:lnTo>
                    <a:lnTo>
                      <a:pt x="42" y="20"/>
                    </a:lnTo>
                    <a:lnTo>
                      <a:pt x="62" y="9"/>
                    </a:lnTo>
                    <a:lnTo>
                      <a:pt x="86" y="1"/>
                    </a:lnTo>
                    <a:lnTo>
                      <a:pt x="111" y="0"/>
                    </a:lnTo>
                    <a:lnTo>
                      <a:pt x="136" y="1"/>
                    </a:lnTo>
                    <a:lnTo>
                      <a:pt x="159" y="9"/>
                    </a:lnTo>
                    <a:lnTo>
                      <a:pt x="179" y="20"/>
                    </a:lnTo>
                    <a:lnTo>
                      <a:pt x="198" y="34"/>
                    </a:lnTo>
                    <a:lnTo>
                      <a:pt x="211" y="51"/>
                    </a:lnTo>
                    <a:lnTo>
                      <a:pt x="218" y="71"/>
                    </a:lnTo>
                    <a:lnTo>
                      <a:pt x="221" y="91"/>
                    </a:lnTo>
                    <a:lnTo>
                      <a:pt x="218" y="112"/>
                    </a:lnTo>
                    <a:lnTo>
                      <a:pt x="211" y="130"/>
                    </a:lnTo>
                    <a:lnTo>
                      <a:pt x="198" y="149"/>
                    </a:lnTo>
                    <a:lnTo>
                      <a:pt x="179" y="163"/>
                    </a:lnTo>
                    <a:lnTo>
                      <a:pt x="159" y="174"/>
                    </a:lnTo>
                    <a:lnTo>
                      <a:pt x="136" y="180"/>
                    </a:lnTo>
                    <a:lnTo>
                      <a:pt x="111" y="183"/>
                    </a:lnTo>
                    <a:lnTo>
                      <a:pt x="86" y="180"/>
                    </a:lnTo>
                    <a:lnTo>
                      <a:pt x="62" y="174"/>
                    </a:lnTo>
                    <a:lnTo>
                      <a:pt x="42" y="163"/>
                    </a:lnTo>
                    <a:lnTo>
                      <a:pt x="25" y="149"/>
                    </a:lnTo>
                    <a:lnTo>
                      <a:pt x="11" y="130"/>
                    </a:lnTo>
                    <a:lnTo>
                      <a:pt x="3" y="112"/>
                    </a:lnTo>
                    <a:lnTo>
                      <a:pt x="0" y="91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77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4" dur="770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8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77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5" dur="770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7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9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6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8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0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51264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OCESI I ORGANIZACIONA STRUKTU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407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Procesi kao osnova za podelu rada, nadležnosti i odgovor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921280" y="3417840"/>
            <a:ext cx="2416680" cy="1568520"/>
            <a:chOff x="5921280" y="3417840"/>
            <a:chExt cx="2416680" cy="1568520"/>
          </a:xfrm>
        </p:grpSpPr>
        <p:sp>
          <p:nvSpPr>
            <p:cNvPr id="393" name=""/>
            <p:cNvSpPr/>
            <p:nvPr/>
          </p:nvSpPr>
          <p:spPr>
            <a:xfrm>
              <a:off x="6662880" y="3417840"/>
              <a:ext cx="1484280" cy="15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62880" y="3417840"/>
              <a:ext cx="1484280" cy="15685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62880" y="3772080"/>
              <a:ext cx="1484280" cy="1440"/>
            </a:xfrm>
            <a:custGeom>
              <a:avLst/>
              <a:gdLst/>
              <a:ahLst/>
              <a:rect l="l" t="t" r="r" b="b"/>
              <a:pathLst>
                <a:path w="935" h="0">
                  <a:moveTo>
                    <a:pt x="0" y="0"/>
                  </a:moveTo>
                  <a:lnTo>
                    <a:pt x="935" y="0"/>
                  </a:lnTo>
                  <a:lnTo>
                    <a:pt x="0" y="0"/>
                  </a:lnTo>
                  <a:lnTo>
                    <a:pt x="292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87840" y="3490920"/>
              <a:ext cx="1950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ORGANIZAC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41560" y="3830760"/>
              <a:ext cx="1706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PODELA RA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40480" y="4000680"/>
              <a:ext cx="1703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NADLEŽNOS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44480" y="4162320"/>
              <a:ext cx="74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53360" y="4332240"/>
              <a:ext cx="18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ODGOVORNOS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2880" y="4554360"/>
              <a:ext cx="1484280" cy="1800"/>
            </a:xfrm>
            <a:custGeom>
              <a:avLst/>
              <a:gdLst/>
              <a:ahLst/>
              <a:rect l="l" t="t" r="r" b="b"/>
              <a:pathLst>
                <a:path w="935" h="0">
                  <a:moveTo>
                    <a:pt x="0" y="0"/>
                  </a:moveTo>
                  <a:lnTo>
                    <a:pt x="935" y="0"/>
                  </a:lnTo>
                  <a:lnTo>
                    <a:pt x="0" y="0"/>
                  </a:lnTo>
                  <a:lnTo>
                    <a:pt x="292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79880" y="4705200"/>
              <a:ext cx="122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C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21280" y="4084560"/>
              <a:ext cx="577800" cy="235080"/>
            </a:xfrm>
            <a:custGeom>
              <a:avLst/>
              <a:gdLst/>
              <a:ahLst/>
              <a:rect l="l" t="t" r="r" b="b"/>
              <a:pathLst>
                <a:path w="364" h="148">
                  <a:moveTo>
                    <a:pt x="0" y="37"/>
                  </a:moveTo>
                  <a:lnTo>
                    <a:pt x="0" y="111"/>
                  </a:lnTo>
                  <a:lnTo>
                    <a:pt x="325" y="111"/>
                  </a:lnTo>
                  <a:lnTo>
                    <a:pt x="325" y="148"/>
                  </a:lnTo>
                  <a:lnTo>
                    <a:pt x="364" y="74"/>
                  </a:lnTo>
                  <a:lnTo>
                    <a:pt x="325" y="0"/>
                  </a:lnTo>
                  <a:lnTo>
                    <a:pt x="325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21280" y="4084560"/>
              <a:ext cx="577800" cy="235080"/>
            </a:xfrm>
            <a:custGeom>
              <a:avLst/>
              <a:gdLst/>
              <a:ahLst/>
              <a:rect l="l" t="t" r="r" b="b"/>
              <a:pathLst>
                <a:path w="364" h="148">
                  <a:moveTo>
                    <a:pt x="0" y="37"/>
                  </a:moveTo>
                  <a:lnTo>
                    <a:pt x="0" y="111"/>
                  </a:lnTo>
                  <a:lnTo>
                    <a:pt x="325" y="111"/>
                  </a:lnTo>
                  <a:lnTo>
                    <a:pt x="325" y="148"/>
                  </a:lnTo>
                  <a:lnTo>
                    <a:pt x="364" y="74"/>
                  </a:lnTo>
                  <a:lnTo>
                    <a:pt x="325" y="0"/>
                  </a:lnTo>
                  <a:lnTo>
                    <a:pt x="325" y="37"/>
                  </a:lnTo>
                  <a:lnTo>
                    <a:pt x="0" y="37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781280" y="3379680"/>
            <a:ext cx="1854000" cy="1762200"/>
            <a:chOff x="1781280" y="3379680"/>
            <a:chExt cx="1854000" cy="1762200"/>
          </a:xfrm>
        </p:grpSpPr>
        <p:sp>
          <p:nvSpPr>
            <p:cNvPr id="406" name=""/>
            <p:cNvSpPr/>
            <p:nvPr/>
          </p:nvSpPr>
          <p:spPr>
            <a:xfrm>
              <a:off x="1781280" y="3379680"/>
              <a:ext cx="1854000" cy="1762200"/>
            </a:xfrm>
            <a:custGeom>
              <a:avLst/>
              <a:gdLst/>
              <a:ahLst/>
              <a:rect l="l" t="t" r="r" b="b"/>
              <a:pathLst>
                <a:path w="1168" h="1110">
                  <a:moveTo>
                    <a:pt x="0" y="555"/>
                  </a:moveTo>
                  <a:lnTo>
                    <a:pt x="583" y="0"/>
                  </a:lnTo>
                  <a:lnTo>
                    <a:pt x="1168" y="555"/>
                  </a:lnTo>
                  <a:lnTo>
                    <a:pt x="583" y="1110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81280" y="3379680"/>
              <a:ext cx="1854000" cy="1762200"/>
            </a:xfrm>
            <a:custGeom>
              <a:avLst/>
              <a:gdLst/>
              <a:ahLst/>
              <a:rect l="l" t="t" r="r" b="b"/>
              <a:pathLst>
                <a:path w="1168" h="1110">
                  <a:moveTo>
                    <a:pt x="0" y="555"/>
                  </a:moveTo>
                  <a:lnTo>
                    <a:pt x="583" y="0"/>
                  </a:lnTo>
                  <a:lnTo>
                    <a:pt x="1168" y="555"/>
                  </a:lnTo>
                  <a:lnTo>
                    <a:pt x="583" y="1110"/>
                  </a:lnTo>
                  <a:lnTo>
                    <a:pt x="0" y="555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8120" y="3836880"/>
              <a:ext cx="1447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IZVOĐENJ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63360" y="4006800"/>
              <a:ext cx="1647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(IZVRŠENJE) 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7560" y="4176720"/>
              <a:ext cx="122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OKVIR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12240" y="4338720"/>
              <a:ext cx="1749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POSMATRANO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22040" y="4508640"/>
              <a:ext cx="1531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POSLOVNO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48760" y="4672080"/>
              <a:ext cx="1285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SISTE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827760" y="4986360"/>
            <a:ext cx="579600" cy="1325520"/>
            <a:chOff x="6827760" y="4986360"/>
            <a:chExt cx="579600" cy="1325520"/>
          </a:xfrm>
        </p:grpSpPr>
        <p:sp>
          <p:nvSpPr>
            <p:cNvPr id="415" name=""/>
            <p:cNvSpPr/>
            <p:nvPr/>
          </p:nvSpPr>
          <p:spPr>
            <a:xfrm>
              <a:off x="7405560" y="4986360"/>
              <a:ext cx="1800" cy="12920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887880" y="6278400"/>
              <a:ext cx="517320" cy="180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27760" y="624672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3" y="41"/>
                  </a:moveTo>
                  <a:lnTo>
                    <a:pt x="0" y="20"/>
                  </a:lnTo>
                  <a:lnTo>
                    <a:pt x="43" y="0"/>
                  </a:lnTo>
                  <a:lnTo>
                    <a:pt x="4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467440" y="1968480"/>
            <a:ext cx="2712600" cy="1411200"/>
            <a:chOff x="2467440" y="1968480"/>
            <a:chExt cx="2712600" cy="1411200"/>
          </a:xfrm>
        </p:grpSpPr>
        <p:sp>
          <p:nvSpPr>
            <p:cNvPr id="419" name=""/>
            <p:cNvSpPr/>
            <p:nvPr/>
          </p:nvSpPr>
          <p:spPr>
            <a:xfrm>
              <a:off x="2467440" y="3119400"/>
              <a:ext cx="88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2476440" y="1968480"/>
              <a:ext cx="2703600" cy="1411200"/>
              <a:chOff x="2476440" y="1968480"/>
              <a:chExt cx="2703600" cy="1411200"/>
            </a:xfrm>
          </p:grpSpPr>
          <p:sp>
            <p:nvSpPr>
              <p:cNvPr id="421" name=""/>
              <p:cNvSpPr/>
              <p:nvPr/>
            </p:nvSpPr>
            <p:spPr>
              <a:xfrm>
                <a:off x="2706840" y="2449440"/>
                <a:ext cx="1440" cy="930240"/>
              </a:xfrm>
              <a:prstGeom prst="line">
                <a:avLst/>
              </a:prstGeom>
              <a:ln cap="rnd" w="11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73360" y="2360520"/>
                <a:ext cx="68400" cy="96840"/>
              </a:xfrm>
              <a:custGeom>
                <a:avLst/>
                <a:gdLst/>
                <a:ahLst/>
                <a:rect l="l" t="t" r="r" b="b"/>
                <a:pathLst>
                  <a:path w="43" h="61">
                    <a:moveTo>
                      <a:pt x="0" y="61"/>
                    </a:moveTo>
                    <a:lnTo>
                      <a:pt x="21" y="0"/>
                    </a:lnTo>
                    <a:lnTo>
                      <a:pt x="43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476440" y="1992240"/>
                <a:ext cx="2695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ff"/>
                    </a:solidFill>
                    <a:latin typeface="Times New Roman"/>
                  </a:rPr>
                  <a:t>O K R U Ž E NJ 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43040" y="1968480"/>
                <a:ext cx="2637000" cy="1440"/>
              </a:xfrm>
              <a:custGeom>
                <a:avLst/>
                <a:gdLst/>
                <a:ahLst/>
                <a:rect l="l" t="t" r="r" b="b"/>
                <a:pathLst>
                  <a:path w="1661" h="0">
                    <a:moveTo>
                      <a:pt x="0" y="0"/>
                    </a:moveTo>
                    <a:lnTo>
                      <a:pt x="1661" y="0"/>
                    </a:lnTo>
                    <a:lnTo>
                      <a:pt x="0" y="0"/>
                    </a:lnTo>
                    <a:lnTo>
                      <a:pt x="519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43040" y="2360520"/>
                <a:ext cx="2637000" cy="1800"/>
              </a:xfrm>
              <a:custGeom>
                <a:avLst/>
                <a:gdLst/>
                <a:ahLst/>
                <a:rect l="l" t="t" r="r" b="b"/>
                <a:pathLst>
                  <a:path w="1661" h="0">
                    <a:moveTo>
                      <a:pt x="0" y="0"/>
                    </a:moveTo>
                    <a:lnTo>
                      <a:pt x="1661" y="0"/>
                    </a:lnTo>
                    <a:lnTo>
                      <a:pt x="0" y="0"/>
                    </a:lnTo>
                    <a:lnTo>
                      <a:pt x="519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3391560" y="2360520"/>
            <a:ext cx="2364840" cy="3527640"/>
            <a:chOff x="3391560" y="2360520"/>
            <a:chExt cx="2364840" cy="3527640"/>
          </a:xfrm>
        </p:grpSpPr>
        <p:sp>
          <p:nvSpPr>
            <p:cNvPr id="427" name=""/>
            <p:cNvSpPr/>
            <p:nvPr/>
          </p:nvSpPr>
          <p:spPr>
            <a:xfrm>
              <a:off x="4108320" y="2517840"/>
              <a:ext cx="1648080" cy="337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08320" y="2517840"/>
              <a:ext cx="1648080" cy="33703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08320" y="2830680"/>
              <a:ext cx="1648080" cy="1440"/>
            </a:xfrm>
            <a:custGeom>
              <a:avLst/>
              <a:gdLst/>
              <a:ahLst/>
              <a:rect l="l" t="t" r="r" b="b"/>
              <a:pathLst>
                <a:path w="1038" h="0">
                  <a:moveTo>
                    <a:pt x="0" y="0"/>
                  </a:moveTo>
                  <a:lnTo>
                    <a:pt x="1038" y="0"/>
                  </a:lnTo>
                  <a:lnTo>
                    <a:pt x="0" y="0"/>
                  </a:lnTo>
                  <a:lnTo>
                    <a:pt x="32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0600" y="2571840"/>
              <a:ext cx="1651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8000"/>
                  </a:solidFill>
                  <a:latin typeface="Times New Roman"/>
                </a:rPr>
                <a:t>KRITERIJUM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60920" y="2916360"/>
              <a:ext cx="154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Specifičnos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58760" y="3079800"/>
              <a:ext cx="196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ehnologije izvršenj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62000" y="3419640"/>
              <a:ext cx="129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Sličnos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58760" y="3583080"/>
              <a:ext cx="196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ehnologije izvršenj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62360" y="3921120"/>
              <a:ext cx="1538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Racionalno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62000" y="4084560"/>
              <a:ext cx="148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bjedinjenj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61280" y="4254480"/>
              <a:ext cx="169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rgan. izvršenj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63080" y="4587840"/>
              <a:ext cx="1569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Autonomno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60920" y="4919760"/>
              <a:ext cx="154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Hijerarhijsk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63440" y="5089680"/>
              <a:ext cx="1471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adređeno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08320" y="5338800"/>
              <a:ext cx="1648080" cy="1440"/>
            </a:xfrm>
            <a:custGeom>
              <a:avLst/>
              <a:gdLst/>
              <a:ahLst/>
              <a:rect l="l" t="t" r="r" b="b"/>
              <a:pathLst>
                <a:path w="1038" h="0">
                  <a:moveTo>
                    <a:pt x="0" y="0"/>
                  </a:moveTo>
                  <a:lnTo>
                    <a:pt x="1038" y="0"/>
                  </a:lnTo>
                  <a:lnTo>
                    <a:pt x="0" y="0"/>
                  </a:lnTo>
                  <a:lnTo>
                    <a:pt x="32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73560" y="5364000"/>
              <a:ext cx="132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8000"/>
                  </a:solidFill>
                  <a:latin typeface="Times New Roman"/>
                </a:rPr>
                <a:t>PRINCIP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80640" y="5533920"/>
              <a:ext cx="74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75360" y="5695920"/>
              <a:ext cx="132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8000"/>
                  </a:solidFill>
                  <a:latin typeface="Times New Roman"/>
                </a:rPr>
                <a:t>PRAVIL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86040" y="4260960"/>
              <a:ext cx="270000" cy="1440"/>
            </a:xfrm>
            <a:prstGeom prst="line">
              <a:avLst/>
            </a:prstGeom>
            <a:ln cap="rnd" w="11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48120" y="422928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0" y="0"/>
                  </a:moveTo>
                  <a:lnTo>
                    <a:pt x="43" y="2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1560" y="4000680"/>
              <a:ext cx="88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32360" y="2360520"/>
              <a:ext cx="1440" cy="10008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98880" y="245268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3" y="0"/>
                  </a:moveTo>
                  <a:lnTo>
                    <a:pt x="21" y="41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0200" y="1963800"/>
            <a:ext cx="1339560" cy="4775760"/>
            <a:chOff x="610200" y="1963800"/>
            <a:chExt cx="1339560" cy="4775760"/>
          </a:xfrm>
        </p:grpSpPr>
        <p:sp>
          <p:nvSpPr>
            <p:cNvPr id="451" name=""/>
            <p:cNvSpPr/>
            <p:nvPr/>
          </p:nvSpPr>
          <p:spPr>
            <a:xfrm>
              <a:off x="1042560" y="2446200"/>
              <a:ext cx="880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28160" y="2825640"/>
              <a:ext cx="915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15920" y="3203640"/>
              <a:ext cx="933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28160" y="3575160"/>
              <a:ext cx="915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36080" y="3954600"/>
              <a:ext cx="898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54800" y="4332240"/>
              <a:ext cx="8636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83960" y="4703760"/>
              <a:ext cx="810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6840" y="196380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6840" y="221940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6840" y="246708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5480" y="2720880"/>
              <a:ext cx="8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1800" y="2968560"/>
              <a:ext cx="85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0200" y="3224160"/>
              <a:ext cx="891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2320" y="3471840"/>
              <a:ext cx="807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1800" y="3726000"/>
              <a:ext cx="85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840" y="397368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2320" y="4476600"/>
              <a:ext cx="807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5480" y="4724280"/>
              <a:ext cx="8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6840" y="497844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6840" y="522756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1800" y="5481720"/>
              <a:ext cx="85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5480" y="5729400"/>
              <a:ext cx="8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6840" y="597708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6840" y="623268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6840" y="648000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706840" y="5965920"/>
            <a:ext cx="4120920" cy="627120"/>
            <a:chOff x="2706840" y="5965920"/>
            <a:chExt cx="4120920" cy="627120"/>
          </a:xfrm>
        </p:grpSpPr>
        <p:sp>
          <p:nvSpPr>
            <p:cNvPr id="477" name=""/>
            <p:cNvSpPr/>
            <p:nvPr/>
          </p:nvSpPr>
          <p:spPr>
            <a:xfrm>
              <a:off x="2706840" y="5965920"/>
              <a:ext cx="4120920" cy="62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06840" y="5965920"/>
              <a:ext cx="4120920" cy="6271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6840" y="6278400"/>
              <a:ext cx="4120920" cy="1800"/>
            </a:xfrm>
            <a:custGeom>
              <a:avLst/>
              <a:gdLst/>
              <a:ahLst/>
              <a:rect l="l" t="t" r="r" b="b"/>
              <a:pathLst>
                <a:path w="2596" h="0">
                  <a:moveTo>
                    <a:pt x="0" y="0"/>
                  </a:moveTo>
                  <a:lnTo>
                    <a:pt x="2596" y="0"/>
                  </a:lnTo>
                  <a:lnTo>
                    <a:pt x="0" y="0"/>
                  </a:lnTo>
                  <a:lnTo>
                    <a:pt x="812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18680" y="6041880"/>
              <a:ext cx="318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ISTEMATIZACIJA  RADNIH  MES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43440" y="6357960"/>
              <a:ext cx="577800" cy="155520"/>
            </a:xfrm>
            <a:custGeom>
              <a:avLst/>
              <a:gdLst/>
              <a:ahLst/>
              <a:rect l="l" t="t" r="r" b="b"/>
              <a:pathLst>
                <a:path w="364" h="98">
                  <a:moveTo>
                    <a:pt x="26" y="24"/>
                  </a:moveTo>
                  <a:lnTo>
                    <a:pt x="26" y="0"/>
                  </a:lnTo>
                  <a:lnTo>
                    <a:pt x="0" y="49"/>
                  </a:lnTo>
                  <a:lnTo>
                    <a:pt x="26" y="98"/>
                  </a:lnTo>
                  <a:lnTo>
                    <a:pt x="26" y="74"/>
                  </a:lnTo>
                  <a:lnTo>
                    <a:pt x="338" y="74"/>
                  </a:lnTo>
                  <a:lnTo>
                    <a:pt x="338" y="98"/>
                  </a:lnTo>
                  <a:lnTo>
                    <a:pt x="364" y="49"/>
                  </a:lnTo>
                  <a:lnTo>
                    <a:pt x="338" y="0"/>
                  </a:lnTo>
                  <a:lnTo>
                    <a:pt x="338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43440" y="6357960"/>
              <a:ext cx="577800" cy="155520"/>
            </a:xfrm>
            <a:custGeom>
              <a:avLst/>
              <a:gdLst/>
              <a:ahLst/>
              <a:rect l="l" t="t" r="r" b="b"/>
              <a:pathLst>
                <a:path w="364" h="98">
                  <a:moveTo>
                    <a:pt x="26" y="24"/>
                  </a:moveTo>
                  <a:lnTo>
                    <a:pt x="26" y="0"/>
                  </a:lnTo>
                  <a:lnTo>
                    <a:pt x="0" y="49"/>
                  </a:lnTo>
                  <a:lnTo>
                    <a:pt x="26" y="98"/>
                  </a:lnTo>
                  <a:lnTo>
                    <a:pt x="26" y="74"/>
                  </a:lnTo>
                  <a:lnTo>
                    <a:pt x="338" y="74"/>
                  </a:lnTo>
                  <a:lnTo>
                    <a:pt x="338" y="98"/>
                  </a:lnTo>
                  <a:lnTo>
                    <a:pt x="364" y="49"/>
                  </a:lnTo>
                  <a:lnTo>
                    <a:pt x="338" y="0"/>
                  </a:lnTo>
                  <a:lnTo>
                    <a:pt x="338" y="24"/>
                  </a:lnTo>
                  <a:lnTo>
                    <a:pt x="26" y="24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57680" y="6356520"/>
              <a:ext cx="36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CESI                     VRSTE RADNIH  MES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224000" y="5103720"/>
            <a:ext cx="1482840" cy="1208160"/>
            <a:chOff x="1224000" y="5103720"/>
            <a:chExt cx="1482840" cy="1208160"/>
          </a:xfrm>
        </p:grpSpPr>
        <p:sp>
          <p:nvSpPr>
            <p:cNvPr id="485" name=""/>
            <p:cNvSpPr/>
            <p:nvPr/>
          </p:nvSpPr>
          <p:spPr>
            <a:xfrm>
              <a:off x="1224000" y="5103720"/>
              <a:ext cx="576360" cy="235080"/>
            </a:xfrm>
            <a:custGeom>
              <a:avLst/>
              <a:gdLst/>
              <a:ahLst/>
              <a:rect l="l" t="t" r="r" b="b"/>
              <a:pathLst>
                <a:path w="1349" h="576">
                  <a:moveTo>
                    <a:pt x="1349" y="0"/>
                  </a:moveTo>
                  <a:lnTo>
                    <a:pt x="1349" y="192"/>
                  </a:lnTo>
                  <a:cubicBezTo>
                    <a:pt x="1349" y="298"/>
                    <a:pt x="1263" y="384"/>
                    <a:pt x="1156" y="384"/>
                  </a:cubicBezTo>
                  <a:cubicBezTo>
                    <a:pt x="1156" y="384"/>
                    <a:pt x="1156" y="384"/>
                    <a:pt x="1156" y="384"/>
                  </a:cubicBezTo>
                  <a:lnTo>
                    <a:pt x="1156" y="384"/>
                  </a:lnTo>
                  <a:lnTo>
                    <a:pt x="867" y="384"/>
                  </a:lnTo>
                  <a:cubicBezTo>
                    <a:pt x="761" y="384"/>
                    <a:pt x="675" y="470"/>
                    <a:pt x="675" y="576"/>
                  </a:cubicBezTo>
                  <a:cubicBezTo>
                    <a:pt x="675" y="576"/>
                    <a:pt x="675" y="576"/>
                    <a:pt x="675" y="576"/>
                  </a:cubicBezTo>
                  <a:cubicBezTo>
                    <a:pt x="675" y="470"/>
                    <a:pt x="588" y="384"/>
                    <a:pt x="482" y="384"/>
                  </a:cubicBezTo>
                  <a:cubicBezTo>
                    <a:pt x="482" y="384"/>
                    <a:pt x="482" y="384"/>
                    <a:pt x="482" y="384"/>
                  </a:cubicBezTo>
                  <a:lnTo>
                    <a:pt x="482" y="384"/>
                  </a:lnTo>
                  <a:lnTo>
                    <a:pt x="193" y="384"/>
                  </a:lnTo>
                  <a:cubicBezTo>
                    <a:pt x="86" y="384"/>
                    <a:pt x="0" y="298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12720" y="6278400"/>
              <a:ext cx="1135080" cy="1800"/>
            </a:xfrm>
            <a:prstGeom prst="line">
              <a:avLst/>
            </a:prstGeom>
            <a:ln cap="rnd" w="11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39880" y="6246720"/>
              <a:ext cx="6696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0"/>
                  </a:moveTo>
                  <a:lnTo>
                    <a:pt x="42" y="20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12720" y="5338800"/>
              <a:ext cx="1800" cy="939600"/>
            </a:xfrm>
            <a:prstGeom prst="line">
              <a:avLst/>
            </a:prstGeom>
            <a:ln cap="rnd" w="11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77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3" dur="770" fill="hold"/>
                                        <p:tgtEl>
                                          <p:spTgt spid="4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7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70" fill="hold"/>
                                        <p:tgtEl>
                                          <p:spTgt spid="4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77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3" dur="770" fill="hold"/>
                                        <p:tgtEl>
                                          <p:spTgt spid="4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5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77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770" fill="hold"/>
                                        <p:tgtEl>
                                          <p:spTgt spid="4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3" dur="77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5" dur="77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20240" y="512280"/>
            <a:ext cx="280692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OCESI I ORGANIZACIONA STRUKTUR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147200" y="44280"/>
            <a:ext cx="4289760" cy="289800"/>
            <a:chOff x="4147200" y="44280"/>
            <a:chExt cx="4289760" cy="289800"/>
          </a:xfrm>
        </p:grpSpPr>
        <p:sp>
          <p:nvSpPr>
            <p:cNvPr id="491" name=""/>
            <p:cNvSpPr/>
            <p:nvPr/>
          </p:nvSpPr>
          <p:spPr>
            <a:xfrm>
              <a:off x="4147200" y="44280"/>
              <a:ext cx="428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ff"/>
                  </a:solidFill>
                  <a:latin typeface="Times New Roman"/>
                </a:rPr>
                <a:t>- - (ORGANIZOVATI    PROCES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5440" y="259992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Organizovanje proc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inženjering proce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upravljanje proce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318560" y="4851360"/>
            <a:ext cx="4505400" cy="559080"/>
            <a:chOff x="4318560" y="4851360"/>
            <a:chExt cx="4505400" cy="559080"/>
          </a:xfrm>
        </p:grpSpPr>
        <p:sp>
          <p:nvSpPr>
            <p:cNvPr id="496" name=""/>
            <p:cNvSpPr/>
            <p:nvPr/>
          </p:nvSpPr>
          <p:spPr>
            <a:xfrm>
              <a:off x="4318560" y="4851360"/>
              <a:ext cx="41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-ODREDITI NAČIN UPRAVLJANJA  PROCES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69680" y="5035680"/>
              <a:ext cx="445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kontrolne tačke, upravljačke informacije, način pribavljanj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25400" y="5227560"/>
              <a:ext cx="239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tribucije informacija .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321080" y="692280"/>
            <a:ext cx="4756680" cy="559080"/>
            <a:chOff x="4321080" y="692280"/>
            <a:chExt cx="4756680" cy="559080"/>
          </a:xfrm>
        </p:grpSpPr>
        <p:sp>
          <p:nvSpPr>
            <p:cNvPr id="500" name=""/>
            <p:cNvSpPr/>
            <p:nvPr/>
          </p:nvSpPr>
          <p:spPr>
            <a:xfrm>
              <a:off x="4321080" y="692280"/>
              <a:ext cx="73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72200" y="692280"/>
              <a:ext cx="89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91080" y="692280"/>
              <a:ext cx="360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ĆI OD DOBRO DEFINISANOG PROCE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30800" y="884160"/>
              <a:ext cx="474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naziv, šifra, početak, kraj, ... , mesto u mreži procesa, u logičk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26840" y="1068480"/>
              <a:ext cx="459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blu procesa, u KATALOGU procesa, u MODELU procesa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4314960" y="1531800"/>
            <a:ext cx="455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-ODREDITI ULAZE U PROCES I IZLAZE IZ PRO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17120" y="2017800"/>
            <a:ext cx="432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-DEFINISATI TOK (NAČIN ODVIJANJA) PRO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16760" y="2459160"/>
            <a:ext cx="301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-ODREDITI RESURSE PRO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316400" y="2900520"/>
            <a:ext cx="4459320" cy="565200"/>
            <a:chOff x="4316400" y="2900520"/>
            <a:chExt cx="4459320" cy="565200"/>
          </a:xfrm>
        </p:grpSpPr>
        <p:sp>
          <p:nvSpPr>
            <p:cNvPr id="509" name=""/>
            <p:cNvSpPr/>
            <p:nvPr/>
          </p:nvSpPr>
          <p:spPr>
            <a:xfrm>
              <a:off x="4316400" y="2900520"/>
              <a:ext cx="393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-UTVRDITI PODELU RADA, NADLEŽNOSTI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16760" y="3092400"/>
              <a:ext cx="445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ODGOVORNOSTI ZA DELOVE PROCESA I PRO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17120" y="3282840"/>
              <a:ext cx="336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U CELINI (SPECIFICIRATI PROC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318200" y="3703680"/>
            <a:ext cx="3893040" cy="933840"/>
            <a:chOff x="4318200" y="3703680"/>
            <a:chExt cx="3893040" cy="933840"/>
          </a:xfrm>
        </p:grpSpPr>
        <p:sp>
          <p:nvSpPr>
            <p:cNvPr id="513" name=""/>
            <p:cNvSpPr/>
            <p:nvPr/>
          </p:nvSpPr>
          <p:spPr>
            <a:xfrm>
              <a:off x="4318200" y="3703680"/>
              <a:ext cx="280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-DEFINISATI KRITERIJU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40120" y="3887640"/>
              <a:ext cx="77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26520" y="3887640"/>
              <a:ext cx="244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NAČAJNOSTI PROCE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40120" y="4078440"/>
              <a:ext cx="347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USPEŠNOSTI (sposobnost, racionalnost .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39040" y="4262400"/>
              <a:ext cx="1840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POUZDA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40120" y="4454640"/>
              <a:ext cx="77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28680" y="4454640"/>
              <a:ext cx="166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BIL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14960" y="5624640"/>
            <a:ext cx="4332960" cy="366840"/>
            <a:chOff x="4314960" y="5624640"/>
            <a:chExt cx="4332960" cy="366840"/>
          </a:xfrm>
        </p:grpSpPr>
        <p:sp>
          <p:nvSpPr>
            <p:cNvPr id="521" name=""/>
            <p:cNvSpPr/>
            <p:nvPr/>
          </p:nvSpPr>
          <p:spPr>
            <a:xfrm>
              <a:off x="4314960" y="5624640"/>
              <a:ext cx="39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- USPOSTVITI SISTEM ZA PREISPITIVANJ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15680" y="5808600"/>
              <a:ext cx="43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SAVRŠAVANJE, ... , REINŽENJERING PROCE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299120" y="6221520"/>
            <a:ext cx="5202360" cy="637560"/>
            <a:chOff x="4299120" y="6221520"/>
            <a:chExt cx="5202360" cy="637560"/>
          </a:xfrm>
        </p:grpSpPr>
        <p:sp>
          <p:nvSpPr>
            <p:cNvPr id="524" name=""/>
            <p:cNvSpPr/>
            <p:nvPr/>
          </p:nvSpPr>
          <p:spPr>
            <a:xfrm>
              <a:off x="4320000" y="6221520"/>
              <a:ext cx="267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-UPRAVLJATI  PROCES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74520" y="6221520"/>
              <a:ext cx="290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monitoring odnosno osmatranj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40840" y="6405480"/>
              <a:ext cx="206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D -&gt; K -&gt; R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99120" y="6691320"/>
              <a:ext cx="52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detekcija, komparacija, regulacija ili posmatranje, analiza, odluka, akcija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687840" y="426960"/>
            <a:ext cx="981000" cy="6305040"/>
            <a:chOff x="3687840" y="426960"/>
            <a:chExt cx="981000" cy="6305040"/>
          </a:xfrm>
        </p:grpSpPr>
        <p:sp>
          <p:nvSpPr>
            <p:cNvPr id="529" name=""/>
            <p:cNvSpPr/>
            <p:nvPr/>
          </p:nvSpPr>
          <p:spPr>
            <a:xfrm>
              <a:off x="3784320" y="426960"/>
              <a:ext cx="77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46520" y="78120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46160" y="1135080"/>
              <a:ext cx="847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46160" y="1487520"/>
              <a:ext cx="847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87840" y="1841400"/>
              <a:ext cx="98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NJ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46160" y="2193840"/>
              <a:ext cx="847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46520" y="254808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84320" y="2901960"/>
              <a:ext cx="77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46520" y="325440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39680" y="3608280"/>
              <a:ext cx="87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53720" y="4741920"/>
              <a:ext cx="834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46520" y="502128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39680" y="5308560"/>
              <a:ext cx="87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46520" y="558792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46160" y="5875200"/>
              <a:ext cx="847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2360" y="6154560"/>
              <a:ext cx="821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46520" y="644220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033800" y="206280"/>
            <a:ext cx="807120" cy="2985480"/>
            <a:chOff x="4033800" y="206280"/>
            <a:chExt cx="807120" cy="2985480"/>
          </a:xfrm>
        </p:grpSpPr>
        <p:sp>
          <p:nvSpPr>
            <p:cNvPr id="547" name=""/>
            <p:cNvSpPr/>
            <p:nvPr/>
          </p:nvSpPr>
          <p:spPr>
            <a:xfrm>
              <a:off x="4443480" y="206280"/>
              <a:ext cx="6120" cy="2749680"/>
            </a:xfrm>
            <a:custGeom>
              <a:avLst/>
              <a:gdLst/>
              <a:ahLst/>
              <a:rect l="l" t="t" r="r" b="b"/>
              <a:pathLst>
                <a:path w="16" h="5974">
                  <a:moveTo>
                    <a:pt x="16" y="8"/>
                  </a:moveTo>
                  <a:lnTo>
                    <a:pt x="16" y="120"/>
                  </a:lnTo>
                  <a:cubicBezTo>
                    <a:pt x="16" y="124"/>
                    <a:pt x="13" y="128"/>
                    <a:pt x="8" y="128"/>
                  </a:cubicBezTo>
                  <a:cubicBezTo>
                    <a:pt x="4" y="128"/>
                    <a:pt x="0" y="124"/>
                    <a:pt x="0" y="120"/>
                  </a:cubicBez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3" y="0"/>
                    <a:pt x="16" y="3"/>
                    <a:pt x="16" y="8"/>
                  </a:cubicBezTo>
                  <a:close/>
                  <a:moveTo>
                    <a:pt x="16" y="200"/>
                  </a:moveTo>
                  <a:lnTo>
                    <a:pt x="16" y="312"/>
                  </a:lnTo>
                  <a:cubicBezTo>
                    <a:pt x="16" y="316"/>
                    <a:pt x="13" y="320"/>
                    <a:pt x="8" y="320"/>
                  </a:cubicBezTo>
                  <a:cubicBezTo>
                    <a:pt x="4" y="320"/>
                    <a:pt x="0" y="316"/>
                    <a:pt x="0" y="312"/>
                  </a:cubicBezTo>
                  <a:lnTo>
                    <a:pt x="0" y="200"/>
                  </a:lnTo>
                  <a:cubicBezTo>
                    <a:pt x="0" y="195"/>
                    <a:pt x="4" y="192"/>
                    <a:pt x="8" y="192"/>
                  </a:cubicBezTo>
                  <a:cubicBezTo>
                    <a:pt x="13" y="192"/>
                    <a:pt x="16" y="195"/>
                    <a:pt x="16" y="200"/>
                  </a:cubicBezTo>
                  <a:close/>
                  <a:moveTo>
                    <a:pt x="16" y="392"/>
                  </a:moveTo>
                  <a:lnTo>
                    <a:pt x="16" y="504"/>
                  </a:lnTo>
                  <a:cubicBezTo>
                    <a:pt x="16" y="508"/>
                    <a:pt x="13" y="512"/>
                    <a:pt x="8" y="512"/>
                  </a:cubicBezTo>
                  <a:cubicBezTo>
                    <a:pt x="4" y="512"/>
                    <a:pt x="0" y="508"/>
                    <a:pt x="0" y="504"/>
                  </a:cubicBezTo>
                  <a:lnTo>
                    <a:pt x="0" y="392"/>
                  </a:lnTo>
                  <a:cubicBezTo>
                    <a:pt x="0" y="387"/>
                    <a:pt x="4" y="384"/>
                    <a:pt x="8" y="384"/>
                  </a:cubicBezTo>
                  <a:cubicBezTo>
                    <a:pt x="13" y="384"/>
                    <a:pt x="16" y="387"/>
                    <a:pt x="16" y="392"/>
                  </a:cubicBezTo>
                  <a:close/>
                  <a:moveTo>
                    <a:pt x="16" y="584"/>
                  </a:moveTo>
                  <a:lnTo>
                    <a:pt x="16" y="696"/>
                  </a:lnTo>
                  <a:cubicBezTo>
                    <a:pt x="16" y="700"/>
                    <a:pt x="13" y="704"/>
                    <a:pt x="8" y="704"/>
                  </a:cubicBezTo>
                  <a:cubicBezTo>
                    <a:pt x="4" y="704"/>
                    <a:pt x="0" y="700"/>
                    <a:pt x="0" y="696"/>
                  </a:cubicBezTo>
                  <a:lnTo>
                    <a:pt x="0" y="584"/>
                  </a:lnTo>
                  <a:cubicBezTo>
                    <a:pt x="0" y="579"/>
                    <a:pt x="4" y="576"/>
                    <a:pt x="8" y="576"/>
                  </a:cubicBezTo>
                  <a:cubicBezTo>
                    <a:pt x="13" y="576"/>
                    <a:pt x="16" y="579"/>
                    <a:pt x="16" y="584"/>
                  </a:cubicBezTo>
                  <a:close/>
                  <a:moveTo>
                    <a:pt x="16" y="776"/>
                  </a:moveTo>
                  <a:lnTo>
                    <a:pt x="16" y="888"/>
                  </a:lnTo>
                  <a:cubicBezTo>
                    <a:pt x="16" y="892"/>
                    <a:pt x="13" y="896"/>
                    <a:pt x="8" y="896"/>
                  </a:cubicBezTo>
                  <a:cubicBezTo>
                    <a:pt x="4" y="896"/>
                    <a:pt x="0" y="892"/>
                    <a:pt x="0" y="888"/>
                  </a:cubicBezTo>
                  <a:lnTo>
                    <a:pt x="0" y="776"/>
                  </a:lnTo>
                  <a:cubicBezTo>
                    <a:pt x="0" y="771"/>
                    <a:pt x="4" y="768"/>
                    <a:pt x="8" y="768"/>
                  </a:cubicBezTo>
                  <a:cubicBezTo>
                    <a:pt x="13" y="768"/>
                    <a:pt x="16" y="771"/>
                    <a:pt x="16" y="776"/>
                  </a:cubicBezTo>
                  <a:close/>
                  <a:moveTo>
                    <a:pt x="16" y="968"/>
                  </a:moveTo>
                  <a:lnTo>
                    <a:pt x="16" y="1080"/>
                  </a:lnTo>
                  <a:cubicBezTo>
                    <a:pt x="16" y="1084"/>
                    <a:pt x="13" y="1088"/>
                    <a:pt x="8" y="1088"/>
                  </a:cubicBezTo>
                  <a:cubicBezTo>
                    <a:pt x="4" y="1088"/>
                    <a:pt x="0" y="1084"/>
                    <a:pt x="0" y="1080"/>
                  </a:cubicBezTo>
                  <a:lnTo>
                    <a:pt x="0" y="968"/>
                  </a:lnTo>
                  <a:cubicBezTo>
                    <a:pt x="0" y="963"/>
                    <a:pt x="4" y="960"/>
                    <a:pt x="8" y="960"/>
                  </a:cubicBezTo>
                  <a:cubicBezTo>
                    <a:pt x="13" y="960"/>
                    <a:pt x="16" y="963"/>
                    <a:pt x="16" y="968"/>
                  </a:cubicBezTo>
                  <a:close/>
                  <a:moveTo>
                    <a:pt x="16" y="1160"/>
                  </a:moveTo>
                  <a:lnTo>
                    <a:pt x="16" y="1272"/>
                  </a:lnTo>
                  <a:cubicBezTo>
                    <a:pt x="16" y="1276"/>
                    <a:pt x="13" y="1280"/>
                    <a:pt x="8" y="1280"/>
                  </a:cubicBezTo>
                  <a:cubicBezTo>
                    <a:pt x="4" y="1280"/>
                    <a:pt x="0" y="1276"/>
                    <a:pt x="0" y="1272"/>
                  </a:cubicBezTo>
                  <a:lnTo>
                    <a:pt x="0" y="1160"/>
                  </a:lnTo>
                  <a:cubicBezTo>
                    <a:pt x="0" y="1155"/>
                    <a:pt x="4" y="1152"/>
                    <a:pt x="8" y="1152"/>
                  </a:cubicBezTo>
                  <a:cubicBezTo>
                    <a:pt x="13" y="1152"/>
                    <a:pt x="16" y="1155"/>
                    <a:pt x="16" y="1160"/>
                  </a:cubicBezTo>
                  <a:close/>
                  <a:moveTo>
                    <a:pt x="16" y="1352"/>
                  </a:moveTo>
                  <a:lnTo>
                    <a:pt x="16" y="1464"/>
                  </a:lnTo>
                  <a:cubicBezTo>
                    <a:pt x="16" y="1468"/>
                    <a:pt x="13" y="1472"/>
                    <a:pt x="8" y="1472"/>
                  </a:cubicBezTo>
                  <a:cubicBezTo>
                    <a:pt x="4" y="1472"/>
                    <a:pt x="0" y="1468"/>
                    <a:pt x="0" y="1464"/>
                  </a:cubicBezTo>
                  <a:lnTo>
                    <a:pt x="0" y="1352"/>
                  </a:lnTo>
                  <a:cubicBezTo>
                    <a:pt x="0" y="1347"/>
                    <a:pt x="4" y="1344"/>
                    <a:pt x="8" y="1344"/>
                  </a:cubicBezTo>
                  <a:cubicBezTo>
                    <a:pt x="13" y="1344"/>
                    <a:pt x="16" y="1347"/>
                    <a:pt x="16" y="1352"/>
                  </a:cubicBezTo>
                  <a:close/>
                  <a:moveTo>
                    <a:pt x="16" y="1544"/>
                  </a:moveTo>
                  <a:lnTo>
                    <a:pt x="16" y="1656"/>
                  </a:lnTo>
                  <a:cubicBezTo>
                    <a:pt x="16" y="1660"/>
                    <a:pt x="13" y="1664"/>
                    <a:pt x="8" y="1664"/>
                  </a:cubicBezTo>
                  <a:cubicBezTo>
                    <a:pt x="4" y="1664"/>
                    <a:pt x="0" y="1660"/>
                    <a:pt x="0" y="1656"/>
                  </a:cubicBezTo>
                  <a:lnTo>
                    <a:pt x="0" y="1544"/>
                  </a:lnTo>
                  <a:cubicBezTo>
                    <a:pt x="0" y="1539"/>
                    <a:pt x="4" y="1536"/>
                    <a:pt x="8" y="1536"/>
                  </a:cubicBezTo>
                  <a:cubicBezTo>
                    <a:pt x="13" y="1536"/>
                    <a:pt x="16" y="1539"/>
                    <a:pt x="16" y="1544"/>
                  </a:cubicBezTo>
                  <a:close/>
                  <a:moveTo>
                    <a:pt x="16" y="1736"/>
                  </a:moveTo>
                  <a:lnTo>
                    <a:pt x="16" y="1848"/>
                  </a:lnTo>
                  <a:cubicBezTo>
                    <a:pt x="16" y="1852"/>
                    <a:pt x="13" y="1856"/>
                    <a:pt x="8" y="1856"/>
                  </a:cubicBezTo>
                  <a:cubicBezTo>
                    <a:pt x="4" y="1856"/>
                    <a:pt x="0" y="1852"/>
                    <a:pt x="0" y="1848"/>
                  </a:cubicBezTo>
                  <a:lnTo>
                    <a:pt x="0" y="1736"/>
                  </a:lnTo>
                  <a:cubicBezTo>
                    <a:pt x="0" y="1731"/>
                    <a:pt x="4" y="1728"/>
                    <a:pt x="8" y="1728"/>
                  </a:cubicBezTo>
                  <a:cubicBezTo>
                    <a:pt x="13" y="1728"/>
                    <a:pt x="16" y="1731"/>
                    <a:pt x="16" y="1736"/>
                  </a:cubicBezTo>
                  <a:close/>
                  <a:moveTo>
                    <a:pt x="16" y="1928"/>
                  </a:moveTo>
                  <a:lnTo>
                    <a:pt x="16" y="2040"/>
                  </a:lnTo>
                  <a:cubicBezTo>
                    <a:pt x="16" y="2044"/>
                    <a:pt x="13" y="2048"/>
                    <a:pt x="8" y="2048"/>
                  </a:cubicBezTo>
                  <a:cubicBezTo>
                    <a:pt x="4" y="2048"/>
                    <a:pt x="0" y="2044"/>
                    <a:pt x="0" y="2040"/>
                  </a:cubicBezTo>
                  <a:lnTo>
                    <a:pt x="0" y="1928"/>
                  </a:lnTo>
                  <a:cubicBezTo>
                    <a:pt x="0" y="1923"/>
                    <a:pt x="4" y="1920"/>
                    <a:pt x="8" y="1920"/>
                  </a:cubicBezTo>
                  <a:cubicBezTo>
                    <a:pt x="13" y="1920"/>
                    <a:pt x="16" y="1923"/>
                    <a:pt x="16" y="1928"/>
                  </a:cubicBezTo>
                  <a:close/>
                  <a:moveTo>
                    <a:pt x="16" y="2120"/>
                  </a:moveTo>
                  <a:lnTo>
                    <a:pt x="16" y="2232"/>
                  </a:lnTo>
                  <a:cubicBezTo>
                    <a:pt x="16" y="2236"/>
                    <a:pt x="13" y="2240"/>
                    <a:pt x="8" y="2240"/>
                  </a:cubicBezTo>
                  <a:cubicBezTo>
                    <a:pt x="4" y="2240"/>
                    <a:pt x="0" y="2236"/>
                    <a:pt x="0" y="2232"/>
                  </a:cubicBezTo>
                  <a:lnTo>
                    <a:pt x="0" y="2120"/>
                  </a:lnTo>
                  <a:cubicBezTo>
                    <a:pt x="0" y="2115"/>
                    <a:pt x="4" y="2112"/>
                    <a:pt x="8" y="2112"/>
                  </a:cubicBezTo>
                  <a:cubicBezTo>
                    <a:pt x="13" y="2112"/>
                    <a:pt x="16" y="2115"/>
                    <a:pt x="16" y="2120"/>
                  </a:cubicBezTo>
                  <a:close/>
                  <a:moveTo>
                    <a:pt x="16" y="2312"/>
                  </a:moveTo>
                  <a:lnTo>
                    <a:pt x="16" y="2424"/>
                  </a:lnTo>
                  <a:cubicBezTo>
                    <a:pt x="16" y="2428"/>
                    <a:pt x="13" y="2432"/>
                    <a:pt x="8" y="2432"/>
                  </a:cubicBezTo>
                  <a:cubicBezTo>
                    <a:pt x="4" y="2432"/>
                    <a:pt x="0" y="2428"/>
                    <a:pt x="0" y="2424"/>
                  </a:cubicBezTo>
                  <a:lnTo>
                    <a:pt x="0" y="2312"/>
                  </a:lnTo>
                  <a:cubicBezTo>
                    <a:pt x="0" y="2307"/>
                    <a:pt x="4" y="2304"/>
                    <a:pt x="8" y="2304"/>
                  </a:cubicBezTo>
                  <a:cubicBezTo>
                    <a:pt x="13" y="2304"/>
                    <a:pt x="16" y="2307"/>
                    <a:pt x="16" y="2312"/>
                  </a:cubicBezTo>
                  <a:close/>
                  <a:moveTo>
                    <a:pt x="16" y="2504"/>
                  </a:moveTo>
                  <a:lnTo>
                    <a:pt x="16" y="2616"/>
                  </a:lnTo>
                  <a:cubicBezTo>
                    <a:pt x="16" y="2620"/>
                    <a:pt x="13" y="2624"/>
                    <a:pt x="8" y="2624"/>
                  </a:cubicBezTo>
                  <a:cubicBezTo>
                    <a:pt x="4" y="2624"/>
                    <a:pt x="0" y="2620"/>
                    <a:pt x="0" y="2616"/>
                  </a:cubicBezTo>
                  <a:lnTo>
                    <a:pt x="0" y="2504"/>
                  </a:lnTo>
                  <a:cubicBezTo>
                    <a:pt x="0" y="2499"/>
                    <a:pt x="4" y="2496"/>
                    <a:pt x="8" y="2496"/>
                  </a:cubicBezTo>
                  <a:cubicBezTo>
                    <a:pt x="13" y="2496"/>
                    <a:pt x="16" y="2499"/>
                    <a:pt x="16" y="2504"/>
                  </a:cubicBezTo>
                  <a:close/>
                  <a:moveTo>
                    <a:pt x="16" y="2696"/>
                  </a:moveTo>
                  <a:lnTo>
                    <a:pt x="16" y="2808"/>
                  </a:lnTo>
                  <a:cubicBezTo>
                    <a:pt x="16" y="2812"/>
                    <a:pt x="13" y="2816"/>
                    <a:pt x="8" y="2816"/>
                  </a:cubicBezTo>
                  <a:cubicBezTo>
                    <a:pt x="4" y="2816"/>
                    <a:pt x="0" y="2812"/>
                    <a:pt x="0" y="2808"/>
                  </a:cubicBezTo>
                  <a:lnTo>
                    <a:pt x="0" y="2696"/>
                  </a:lnTo>
                  <a:cubicBezTo>
                    <a:pt x="0" y="2691"/>
                    <a:pt x="4" y="2688"/>
                    <a:pt x="8" y="2688"/>
                  </a:cubicBezTo>
                  <a:cubicBezTo>
                    <a:pt x="13" y="2688"/>
                    <a:pt x="16" y="2691"/>
                    <a:pt x="16" y="2696"/>
                  </a:cubicBezTo>
                  <a:close/>
                  <a:moveTo>
                    <a:pt x="16" y="2888"/>
                  </a:moveTo>
                  <a:lnTo>
                    <a:pt x="16" y="3000"/>
                  </a:lnTo>
                  <a:cubicBezTo>
                    <a:pt x="16" y="3004"/>
                    <a:pt x="13" y="3008"/>
                    <a:pt x="8" y="3008"/>
                  </a:cubicBezTo>
                  <a:cubicBezTo>
                    <a:pt x="4" y="3008"/>
                    <a:pt x="0" y="3004"/>
                    <a:pt x="0" y="3000"/>
                  </a:cubicBezTo>
                  <a:lnTo>
                    <a:pt x="0" y="2888"/>
                  </a:lnTo>
                  <a:cubicBezTo>
                    <a:pt x="0" y="2883"/>
                    <a:pt x="4" y="2880"/>
                    <a:pt x="8" y="2880"/>
                  </a:cubicBezTo>
                  <a:cubicBezTo>
                    <a:pt x="13" y="2880"/>
                    <a:pt x="16" y="2883"/>
                    <a:pt x="16" y="2888"/>
                  </a:cubicBezTo>
                  <a:close/>
                  <a:moveTo>
                    <a:pt x="16" y="3080"/>
                  </a:moveTo>
                  <a:lnTo>
                    <a:pt x="16" y="3192"/>
                  </a:lnTo>
                  <a:cubicBezTo>
                    <a:pt x="16" y="3196"/>
                    <a:pt x="13" y="3200"/>
                    <a:pt x="8" y="3200"/>
                  </a:cubicBezTo>
                  <a:cubicBezTo>
                    <a:pt x="4" y="3200"/>
                    <a:pt x="0" y="3196"/>
                    <a:pt x="0" y="3192"/>
                  </a:cubicBezTo>
                  <a:lnTo>
                    <a:pt x="0" y="3080"/>
                  </a:lnTo>
                  <a:cubicBezTo>
                    <a:pt x="0" y="3075"/>
                    <a:pt x="4" y="3072"/>
                    <a:pt x="8" y="3072"/>
                  </a:cubicBezTo>
                  <a:cubicBezTo>
                    <a:pt x="13" y="3072"/>
                    <a:pt x="16" y="3075"/>
                    <a:pt x="16" y="3080"/>
                  </a:cubicBezTo>
                  <a:close/>
                  <a:moveTo>
                    <a:pt x="16" y="3272"/>
                  </a:moveTo>
                  <a:lnTo>
                    <a:pt x="16" y="3384"/>
                  </a:lnTo>
                  <a:cubicBezTo>
                    <a:pt x="16" y="3388"/>
                    <a:pt x="13" y="3392"/>
                    <a:pt x="8" y="3392"/>
                  </a:cubicBezTo>
                  <a:cubicBezTo>
                    <a:pt x="4" y="3392"/>
                    <a:pt x="0" y="3388"/>
                    <a:pt x="0" y="3384"/>
                  </a:cubicBezTo>
                  <a:lnTo>
                    <a:pt x="0" y="3272"/>
                  </a:lnTo>
                  <a:cubicBezTo>
                    <a:pt x="0" y="3267"/>
                    <a:pt x="4" y="3264"/>
                    <a:pt x="8" y="3264"/>
                  </a:cubicBezTo>
                  <a:cubicBezTo>
                    <a:pt x="13" y="3264"/>
                    <a:pt x="16" y="3267"/>
                    <a:pt x="16" y="3272"/>
                  </a:cubicBezTo>
                  <a:close/>
                  <a:moveTo>
                    <a:pt x="16" y="3464"/>
                  </a:moveTo>
                  <a:lnTo>
                    <a:pt x="16" y="3576"/>
                  </a:lnTo>
                  <a:cubicBezTo>
                    <a:pt x="16" y="3580"/>
                    <a:pt x="13" y="3584"/>
                    <a:pt x="8" y="3584"/>
                  </a:cubicBezTo>
                  <a:cubicBezTo>
                    <a:pt x="4" y="3584"/>
                    <a:pt x="0" y="3580"/>
                    <a:pt x="0" y="3576"/>
                  </a:cubicBezTo>
                  <a:lnTo>
                    <a:pt x="0" y="3464"/>
                  </a:lnTo>
                  <a:cubicBezTo>
                    <a:pt x="0" y="3459"/>
                    <a:pt x="4" y="3456"/>
                    <a:pt x="8" y="3456"/>
                  </a:cubicBezTo>
                  <a:cubicBezTo>
                    <a:pt x="13" y="3456"/>
                    <a:pt x="16" y="3459"/>
                    <a:pt x="16" y="3464"/>
                  </a:cubicBezTo>
                  <a:close/>
                  <a:moveTo>
                    <a:pt x="16" y="3656"/>
                  </a:moveTo>
                  <a:lnTo>
                    <a:pt x="16" y="3768"/>
                  </a:lnTo>
                  <a:cubicBezTo>
                    <a:pt x="16" y="3772"/>
                    <a:pt x="13" y="3776"/>
                    <a:pt x="8" y="3776"/>
                  </a:cubicBezTo>
                  <a:cubicBezTo>
                    <a:pt x="4" y="3776"/>
                    <a:pt x="0" y="3772"/>
                    <a:pt x="0" y="3768"/>
                  </a:cubicBezTo>
                  <a:lnTo>
                    <a:pt x="0" y="3656"/>
                  </a:lnTo>
                  <a:cubicBezTo>
                    <a:pt x="0" y="3651"/>
                    <a:pt x="4" y="3648"/>
                    <a:pt x="8" y="3648"/>
                  </a:cubicBezTo>
                  <a:cubicBezTo>
                    <a:pt x="13" y="3648"/>
                    <a:pt x="16" y="3651"/>
                    <a:pt x="16" y="3656"/>
                  </a:cubicBezTo>
                  <a:close/>
                  <a:moveTo>
                    <a:pt x="16" y="3848"/>
                  </a:moveTo>
                  <a:lnTo>
                    <a:pt x="16" y="3960"/>
                  </a:lnTo>
                  <a:cubicBezTo>
                    <a:pt x="16" y="3964"/>
                    <a:pt x="13" y="3968"/>
                    <a:pt x="8" y="3968"/>
                  </a:cubicBezTo>
                  <a:cubicBezTo>
                    <a:pt x="4" y="3968"/>
                    <a:pt x="0" y="3964"/>
                    <a:pt x="0" y="3960"/>
                  </a:cubicBezTo>
                  <a:lnTo>
                    <a:pt x="0" y="3848"/>
                  </a:lnTo>
                  <a:cubicBezTo>
                    <a:pt x="0" y="3843"/>
                    <a:pt x="4" y="3840"/>
                    <a:pt x="8" y="3840"/>
                  </a:cubicBezTo>
                  <a:cubicBezTo>
                    <a:pt x="13" y="3840"/>
                    <a:pt x="16" y="3843"/>
                    <a:pt x="16" y="3848"/>
                  </a:cubicBezTo>
                  <a:close/>
                  <a:moveTo>
                    <a:pt x="16" y="4040"/>
                  </a:moveTo>
                  <a:lnTo>
                    <a:pt x="16" y="4152"/>
                  </a:lnTo>
                  <a:cubicBezTo>
                    <a:pt x="16" y="4156"/>
                    <a:pt x="13" y="4160"/>
                    <a:pt x="8" y="4160"/>
                  </a:cubicBezTo>
                  <a:cubicBezTo>
                    <a:pt x="4" y="4160"/>
                    <a:pt x="0" y="4156"/>
                    <a:pt x="0" y="4152"/>
                  </a:cubicBezTo>
                  <a:lnTo>
                    <a:pt x="0" y="4040"/>
                  </a:lnTo>
                  <a:cubicBezTo>
                    <a:pt x="0" y="4035"/>
                    <a:pt x="4" y="4032"/>
                    <a:pt x="8" y="4032"/>
                  </a:cubicBezTo>
                  <a:cubicBezTo>
                    <a:pt x="13" y="4032"/>
                    <a:pt x="16" y="4035"/>
                    <a:pt x="16" y="4040"/>
                  </a:cubicBezTo>
                  <a:close/>
                  <a:moveTo>
                    <a:pt x="16" y="4232"/>
                  </a:moveTo>
                  <a:lnTo>
                    <a:pt x="16" y="4344"/>
                  </a:lnTo>
                  <a:cubicBezTo>
                    <a:pt x="16" y="4348"/>
                    <a:pt x="13" y="4352"/>
                    <a:pt x="8" y="4352"/>
                  </a:cubicBezTo>
                  <a:cubicBezTo>
                    <a:pt x="4" y="4352"/>
                    <a:pt x="0" y="4348"/>
                    <a:pt x="0" y="4344"/>
                  </a:cubicBezTo>
                  <a:lnTo>
                    <a:pt x="0" y="4232"/>
                  </a:lnTo>
                  <a:cubicBezTo>
                    <a:pt x="0" y="4227"/>
                    <a:pt x="4" y="4224"/>
                    <a:pt x="8" y="4224"/>
                  </a:cubicBezTo>
                  <a:cubicBezTo>
                    <a:pt x="13" y="4224"/>
                    <a:pt x="16" y="4227"/>
                    <a:pt x="16" y="4232"/>
                  </a:cubicBezTo>
                  <a:close/>
                  <a:moveTo>
                    <a:pt x="16" y="4424"/>
                  </a:moveTo>
                  <a:lnTo>
                    <a:pt x="16" y="4536"/>
                  </a:lnTo>
                  <a:cubicBezTo>
                    <a:pt x="16" y="4540"/>
                    <a:pt x="13" y="4544"/>
                    <a:pt x="8" y="4544"/>
                  </a:cubicBezTo>
                  <a:cubicBezTo>
                    <a:pt x="4" y="4544"/>
                    <a:pt x="0" y="4540"/>
                    <a:pt x="0" y="4536"/>
                  </a:cubicBezTo>
                  <a:lnTo>
                    <a:pt x="0" y="4424"/>
                  </a:lnTo>
                  <a:cubicBezTo>
                    <a:pt x="0" y="4419"/>
                    <a:pt x="4" y="4416"/>
                    <a:pt x="8" y="4416"/>
                  </a:cubicBezTo>
                  <a:cubicBezTo>
                    <a:pt x="13" y="4416"/>
                    <a:pt x="16" y="4419"/>
                    <a:pt x="16" y="4424"/>
                  </a:cubicBezTo>
                  <a:close/>
                  <a:moveTo>
                    <a:pt x="16" y="4616"/>
                  </a:moveTo>
                  <a:lnTo>
                    <a:pt x="16" y="4728"/>
                  </a:lnTo>
                  <a:cubicBezTo>
                    <a:pt x="16" y="4732"/>
                    <a:pt x="13" y="4736"/>
                    <a:pt x="8" y="4736"/>
                  </a:cubicBezTo>
                  <a:cubicBezTo>
                    <a:pt x="4" y="4736"/>
                    <a:pt x="0" y="4732"/>
                    <a:pt x="0" y="4728"/>
                  </a:cubicBezTo>
                  <a:lnTo>
                    <a:pt x="0" y="4616"/>
                  </a:lnTo>
                  <a:cubicBezTo>
                    <a:pt x="0" y="4611"/>
                    <a:pt x="4" y="4608"/>
                    <a:pt x="8" y="4608"/>
                  </a:cubicBezTo>
                  <a:cubicBezTo>
                    <a:pt x="13" y="4608"/>
                    <a:pt x="16" y="4611"/>
                    <a:pt x="16" y="4616"/>
                  </a:cubicBezTo>
                  <a:close/>
                  <a:moveTo>
                    <a:pt x="16" y="4808"/>
                  </a:moveTo>
                  <a:lnTo>
                    <a:pt x="16" y="4920"/>
                  </a:lnTo>
                  <a:cubicBezTo>
                    <a:pt x="16" y="4924"/>
                    <a:pt x="13" y="4928"/>
                    <a:pt x="8" y="4928"/>
                  </a:cubicBezTo>
                  <a:cubicBezTo>
                    <a:pt x="4" y="4928"/>
                    <a:pt x="0" y="4924"/>
                    <a:pt x="0" y="4920"/>
                  </a:cubicBezTo>
                  <a:lnTo>
                    <a:pt x="0" y="4808"/>
                  </a:lnTo>
                  <a:cubicBezTo>
                    <a:pt x="0" y="4803"/>
                    <a:pt x="4" y="4800"/>
                    <a:pt x="8" y="4800"/>
                  </a:cubicBezTo>
                  <a:cubicBezTo>
                    <a:pt x="13" y="4800"/>
                    <a:pt x="16" y="4803"/>
                    <a:pt x="16" y="4808"/>
                  </a:cubicBezTo>
                  <a:close/>
                  <a:moveTo>
                    <a:pt x="16" y="5000"/>
                  </a:moveTo>
                  <a:lnTo>
                    <a:pt x="16" y="5112"/>
                  </a:lnTo>
                  <a:cubicBezTo>
                    <a:pt x="16" y="5116"/>
                    <a:pt x="13" y="5120"/>
                    <a:pt x="8" y="5120"/>
                  </a:cubicBezTo>
                  <a:cubicBezTo>
                    <a:pt x="4" y="5120"/>
                    <a:pt x="0" y="5116"/>
                    <a:pt x="0" y="5112"/>
                  </a:cubicBezTo>
                  <a:lnTo>
                    <a:pt x="0" y="5000"/>
                  </a:lnTo>
                  <a:cubicBezTo>
                    <a:pt x="0" y="4995"/>
                    <a:pt x="4" y="4992"/>
                    <a:pt x="8" y="4992"/>
                  </a:cubicBezTo>
                  <a:cubicBezTo>
                    <a:pt x="13" y="4992"/>
                    <a:pt x="16" y="4995"/>
                    <a:pt x="16" y="5000"/>
                  </a:cubicBezTo>
                  <a:close/>
                  <a:moveTo>
                    <a:pt x="16" y="5192"/>
                  </a:moveTo>
                  <a:lnTo>
                    <a:pt x="16" y="5304"/>
                  </a:lnTo>
                  <a:cubicBezTo>
                    <a:pt x="16" y="5308"/>
                    <a:pt x="13" y="5312"/>
                    <a:pt x="8" y="5312"/>
                  </a:cubicBezTo>
                  <a:cubicBezTo>
                    <a:pt x="4" y="5312"/>
                    <a:pt x="0" y="5308"/>
                    <a:pt x="0" y="5304"/>
                  </a:cubicBezTo>
                  <a:lnTo>
                    <a:pt x="0" y="5192"/>
                  </a:lnTo>
                  <a:cubicBezTo>
                    <a:pt x="0" y="5187"/>
                    <a:pt x="4" y="5184"/>
                    <a:pt x="8" y="5184"/>
                  </a:cubicBezTo>
                  <a:cubicBezTo>
                    <a:pt x="13" y="5184"/>
                    <a:pt x="16" y="5187"/>
                    <a:pt x="16" y="5192"/>
                  </a:cubicBezTo>
                  <a:close/>
                  <a:moveTo>
                    <a:pt x="16" y="5384"/>
                  </a:moveTo>
                  <a:lnTo>
                    <a:pt x="16" y="5496"/>
                  </a:lnTo>
                  <a:cubicBezTo>
                    <a:pt x="16" y="5500"/>
                    <a:pt x="13" y="5504"/>
                    <a:pt x="8" y="5504"/>
                  </a:cubicBezTo>
                  <a:cubicBezTo>
                    <a:pt x="4" y="5504"/>
                    <a:pt x="0" y="5500"/>
                    <a:pt x="0" y="5496"/>
                  </a:cubicBezTo>
                  <a:lnTo>
                    <a:pt x="0" y="5384"/>
                  </a:lnTo>
                  <a:cubicBezTo>
                    <a:pt x="0" y="5379"/>
                    <a:pt x="4" y="5376"/>
                    <a:pt x="8" y="5376"/>
                  </a:cubicBezTo>
                  <a:cubicBezTo>
                    <a:pt x="13" y="5376"/>
                    <a:pt x="16" y="5379"/>
                    <a:pt x="16" y="5384"/>
                  </a:cubicBezTo>
                  <a:close/>
                  <a:moveTo>
                    <a:pt x="16" y="5576"/>
                  </a:moveTo>
                  <a:lnTo>
                    <a:pt x="16" y="5688"/>
                  </a:lnTo>
                  <a:cubicBezTo>
                    <a:pt x="16" y="5692"/>
                    <a:pt x="13" y="5696"/>
                    <a:pt x="8" y="5696"/>
                  </a:cubicBezTo>
                  <a:cubicBezTo>
                    <a:pt x="4" y="5696"/>
                    <a:pt x="0" y="5692"/>
                    <a:pt x="0" y="5688"/>
                  </a:cubicBezTo>
                  <a:lnTo>
                    <a:pt x="0" y="5576"/>
                  </a:lnTo>
                  <a:cubicBezTo>
                    <a:pt x="0" y="5571"/>
                    <a:pt x="4" y="5568"/>
                    <a:pt x="8" y="5568"/>
                  </a:cubicBezTo>
                  <a:cubicBezTo>
                    <a:pt x="13" y="5568"/>
                    <a:pt x="16" y="5571"/>
                    <a:pt x="16" y="5576"/>
                  </a:cubicBezTo>
                  <a:close/>
                  <a:moveTo>
                    <a:pt x="16" y="5768"/>
                  </a:moveTo>
                  <a:lnTo>
                    <a:pt x="16" y="5880"/>
                  </a:lnTo>
                  <a:cubicBezTo>
                    <a:pt x="16" y="5884"/>
                    <a:pt x="13" y="5888"/>
                    <a:pt x="8" y="5888"/>
                  </a:cubicBezTo>
                  <a:cubicBezTo>
                    <a:pt x="4" y="5888"/>
                    <a:pt x="0" y="5884"/>
                    <a:pt x="0" y="5880"/>
                  </a:cubicBezTo>
                  <a:lnTo>
                    <a:pt x="0" y="5768"/>
                  </a:lnTo>
                  <a:cubicBezTo>
                    <a:pt x="0" y="5763"/>
                    <a:pt x="4" y="5760"/>
                    <a:pt x="8" y="5760"/>
                  </a:cubicBezTo>
                  <a:cubicBezTo>
                    <a:pt x="13" y="5760"/>
                    <a:pt x="16" y="5763"/>
                    <a:pt x="16" y="5768"/>
                  </a:cubicBezTo>
                  <a:close/>
                  <a:moveTo>
                    <a:pt x="16" y="5960"/>
                  </a:moveTo>
                  <a:lnTo>
                    <a:pt x="16" y="5966"/>
                  </a:lnTo>
                  <a:cubicBezTo>
                    <a:pt x="16" y="5970"/>
                    <a:pt x="13" y="5974"/>
                    <a:pt x="8" y="5974"/>
                  </a:cubicBezTo>
                  <a:cubicBezTo>
                    <a:pt x="4" y="5974"/>
                    <a:pt x="0" y="5970"/>
                    <a:pt x="0" y="5966"/>
                  </a:cubicBezTo>
                  <a:lnTo>
                    <a:pt x="0" y="5960"/>
                  </a:lnTo>
                  <a:cubicBezTo>
                    <a:pt x="0" y="5955"/>
                    <a:pt x="4" y="5952"/>
                    <a:pt x="8" y="5952"/>
                  </a:cubicBezTo>
                  <a:cubicBezTo>
                    <a:pt x="13" y="5952"/>
                    <a:pt x="16" y="5955"/>
                    <a:pt x="16" y="5960"/>
                  </a:cubicBez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33800" y="2901960"/>
              <a:ext cx="80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ff"/>
                  </a:solidFill>
                  <a:latin typeface="Times New Roman"/>
                </a:rPr>
                <a:t>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77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6" dur="770" fill="hold"/>
                                        <p:tgtEl>
                                          <p:spTgt spid="5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8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0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77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7" dur="770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9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1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77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770" fill="hold"/>
                                        <p:tgtEl>
                                          <p:spTgt spid="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0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5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TOK AKTIVNOSTI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rcRect l="0" t="0" r="0" b="48801"/>
          <a:stretch/>
        </p:blipFill>
        <p:spPr>
          <a:xfrm>
            <a:off x="1509840" y="1405080"/>
            <a:ext cx="5810040" cy="5378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33520" y="1374840"/>
            <a:ext cx="5950080" cy="9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63760" y="2333520"/>
            <a:ext cx="594972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94000" y="3220920"/>
            <a:ext cx="594972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4108320"/>
            <a:ext cx="595008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54120" y="4995720"/>
            <a:ext cx="595008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84360" y="5883120"/>
            <a:ext cx="5950080" cy="9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TOK AKTIVNOSTI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rcRect l="0" t="48909" r="0" b="-1176"/>
          <a:stretch/>
        </p:blipFill>
        <p:spPr>
          <a:xfrm>
            <a:off x="1481040" y="1347840"/>
            <a:ext cx="5891400" cy="55706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433520" y="1316160"/>
            <a:ext cx="5950080" cy="9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94000" y="2276640"/>
            <a:ext cx="5949720" cy="90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94000" y="3164040"/>
            <a:ext cx="5949720" cy="9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4067280"/>
            <a:ext cx="595008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68440" y="4968720"/>
            <a:ext cx="5950080" cy="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98680" y="5883120"/>
            <a:ext cx="5949720" cy="9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-44640"/>
            <a:ext cx="779292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IDENTIFIKACIJA I KLASIFIKACIJA PREDMETA RADA ZA POTREBE PRIMENE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250920" y="1730520"/>
            <a:ext cx="86421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Identifikacija i klasifikacija predmeta rada je izvršena do kraja ako je ispunjeno sledeć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2200" y="2624760"/>
            <a:ext cx="861372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edmet rada odnosno proizvod i/ili usluga je sve ono što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nekome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treba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, što isporučilac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može da isporuč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i što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ima svoju cenu, kvalitet i troškove nastaj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Usitnjavanje krupnih predmeta rada treba vršiti sve dotle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dok i najsitniji delovi ispunjavaju prethodno navedene uslove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i sagledavanju i analizi predmeta rada treba uzeti u obzir predmete rada koji su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trenutno aktueln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, predmete rada koji su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bili aktueln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ranije a sada nisu i predmete rada koji do sada nisu bili u planovima i programima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ali u budućnosti mogu biti aktueln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ZAŠTO PROCESI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9080" y="3141720"/>
            <a:ext cx="860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1. Uređenje P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535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struktur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535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podela rad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535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definisanje odgovornosti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03240"/>
            <a:ext cx="8642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 CE"/>
                <a:ea typeface="Times New Roman"/>
              </a:rPr>
              <a:t>INŽENJERING PROCESA (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 CE"/>
              </a:rPr>
              <a:t>ROCESNI PRIST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 CE"/>
              </a:rPr>
              <a:t>kao osnova 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653000"/>
            <a:ext cx="86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016280" indent="-325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imes New Roman CE"/>
                <a:ea typeface="Times New Roman"/>
              </a:rPr>
              <a:t>2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avremeno i efikasno 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6280" indent="-325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        </a:t>
            </a: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661000"/>
            <a:ext cx="86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99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. Primenu standarda (bilo k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-44640"/>
            <a:ext cx="779292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IDENTIFIKACIJA I KLASIFIKACIJA PREDMETA RADA ZA POTREBE PRIMENE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1730520"/>
            <a:ext cx="86421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Identifikacija i klasifikacija predmeta rada je izvršena do kraja ako je ispunjeno sledeć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8920" y="2752200"/>
            <a:ext cx="87850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i određivanju da li je neki predmet rada aktuelan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ne treba se rukovoditi čisto ekonomskim kriterijumima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, već i tehnološkim i organizacion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U obzir treba uzeti i one predmete rada koje posmatrani organizacioni sistem ne može sam stvoriti već ih može ponuditi samo u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kooperaciji sa drugim organizacionim sistem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Kada se radi o internim uslugama, a ponekad i proizvodima,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važe isti princip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kao i kod eksternih predmeta 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-44640"/>
            <a:ext cx="779292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IDENTIFIKACIJA I KLASIFIKACIJA PREDMETA RADA ZA POTREBE PRIMENE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493560" y="1437120"/>
            <a:ext cx="86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dentifikacija i klasifikacija proizv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520" y="1728720"/>
            <a:ext cx="8637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a)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izvršiti grupisanje proizvoda po određenom kriterijumu tehnološke složenosti izr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b)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izabrati reprezentativnu grupu, onu koja ima najsloženiju tehnologiju izr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ahoma"/>
              <a:buAutoNum type="alphaLcParenR" startAt="3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izabrati reprezentativan proizvod iz grupe, onaj koji ima najsloženiju tehnologiju izr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ahoma"/>
              <a:buAutoNum type="alphaLcParenR" startAt="3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napraviti sastavnicu izabranog proizvoda ali takvu koja najviše odgovara potrebi identifikacije procesa. Po pravilu ta sastavnica se veoma razlikuje od uobičajenih sastavnica koje se koriste za druge svr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ahoma"/>
              <a:buAutoNum type="alphaLcParenR" startAt="3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izraditi uprošćenu šemu tehnološkog proc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560" y="5140800"/>
            <a:ext cx="86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Identifikacija i klasifikacija uslu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1600" y="5826240"/>
            <a:ext cx="64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...uglavnom na osnovu opštih principa i prav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192320" y="1351080"/>
            <a:ext cx="7951680" cy="532584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5: Identifikacija i klasifikacija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041560" y="2416320"/>
            <a:ext cx="38242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048040" y="2774880"/>
            <a:ext cx="392904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11400" y="3105000"/>
            <a:ext cx="59544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854440" y="3067200"/>
            <a:ext cx="6033960" cy="4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803680" y="3521160"/>
            <a:ext cx="39290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035080" y="3943440"/>
            <a:ext cx="419580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41720" y="4168800"/>
            <a:ext cx="448128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7840" y="4546440"/>
            <a:ext cx="44816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63880" y="4876920"/>
            <a:ext cx="2805120" cy="22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832280" y="4721400"/>
            <a:ext cx="227196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0920" y="5216400"/>
            <a:ext cx="311940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038320" y="5556240"/>
            <a:ext cx="304344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89680" y="5273640"/>
            <a:ext cx="59508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62520" y="5261040"/>
            <a:ext cx="157644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25720" y="5924520"/>
            <a:ext cx="304308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035080" y="6458040"/>
            <a:ext cx="43480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308240" y="2158920"/>
            <a:ext cx="3585960" cy="451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31840" y="1328760"/>
            <a:ext cx="80121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1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1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314360" y="318960"/>
            <a:ext cx="78296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Identifikacija i klasifikacija PROCESA je izvršena do kraja ako su uvaženi sledeći principi i pravi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8920" y="1576080"/>
            <a:ext cx="8785080" cy="52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ocesi se mogu precizno i potpuno identifikovati samo na osnovu adekvatno identifikovanog, klasifikovanog i specifikovanog predmeta rada organizacionog sistema čiji se procesi identifiku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vo treba identifikovati najkrupnije, osnovne, globalne procese, sledeći logiku koja se može prepoznati u logičkom stablu ili katalogu predmeta 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i identifikaciji procesa treba maksimalno koristiti univerzalnost kao veoma važno svojstvo proc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Usitnjavanje, odnosno hijerarhijsko dekomponovanje procesa treba vršiti sve dotle dok se ne prepoznaju mogućnosti i načini specificiranja proc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Identifikovane procese treba klasifikovati bar sa stanovišta učešća rutinskog i kreativnog načina izvršenja proc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Procesi su, za razliku od predmeta rada, tajna sistema. Oni pokazuju prednosti i mane posmatranog organizacionog sistema, pa se ta činjenica pri identifikaciji i korišćenju procesa, mora imati u vi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7: Izbor prioritetnih, kritičnih i ključnih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1501200"/>
            <a:ext cx="862956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Prioritetni proce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u oni koji se iz određenih razloga (zahtevi standarda, vršenje usluga trećem licu, itd.) uzimaju hitno, brzo u razmatran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Kritični proce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u oni koji pri svom odvijanju izazivaju probleme u pogledu kvaliteta predmeta rada, troškova, vremena izvršenja (rokova), i td. Kritičnost se sagledava imajući u vidu sva tri vremenska aspekta: prošlost, sadašnjost i buduć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Ključni proce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u oni od kojih, u najvećoj meri, zavisi ispunjenje ciljeva poslovnog sistema, zahteva korisnika, odnosno, adekvatan izlaz iz sistema. Preko njih se mogu prepoznati specifičnosti organizacionog sistema, osnovna delatnost, proizvodi i usluge, odnosno, specijalizovani deo poslovnog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KORAK 8: Formiranje identifikacionog kartona proces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rcRect l="13817" t="16538" r="22688" b="6684"/>
          <a:stretch/>
        </p:blipFill>
        <p:spPr>
          <a:xfrm>
            <a:off x="1574640" y="1386000"/>
            <a:ext cx="5962680" cy="54086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650960" y="1806480"/>
            <a:ext cx="580536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47720" y="2603520"/>
            <a:ext cx="58057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54200" y="3314880"/>
            <a:ext cx="5805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60680" y="3730680"/>
            <a:ext cx="580536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66800" y="4194000"/>
            <a:ext cx="580572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654200" y="5153040"/>
            <a:ext cx="580536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660680" y="6130800"/>
            <a:ext cx="580536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9280" y="1328760"/>
            <a:ext cx="7553160" cy="55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rcRect l="3127" t="14564" r="23423" b="22439"/>
          <a:stretch/>
        </p:blipFill>
        <p:spPr>
          <a:xfrm>
            <a:off x="762120" y="1681200"/>
            <a:ext cx="7596000" cy="48862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KORAK 8: Formiranje identifikacionog kartona proces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2162160"/>
            <a:ext cx="7342200" cy="9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14400" y="3203640"/>
            <a:ext cx="7342200" cy="8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07920" y="4092480"/>
            <a:ext cx="7342200" cy="124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14400" y="5375160"/>
            <a:ext cx="73422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5985000"/>
            <a:ext cx="73422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rcRect l="3127" t="18512" r="23423" b="6684"/>
          <a:stretch/>
        </p:blipFill>
        <p:spPr>
          <a:xfrm>
            <a:off x="971640" y="1461960"/>
            <a:ext cx="7056360" cy="538956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KORAK 8: Formiranje identifikacionog kartona proces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104840" y="2048040"/>
            <a:ext cx="6821640" cy="178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04840" y="3865680"/>
            <a:ext cx="6821640" cy="18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04840" y="5730840"/>
            <a:ext cx="6821640" cy="105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9: Definisanje kriterijuma: uspešnosti, stabilnosti i pouzdanosti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560520" y="2063880"/>
            <a:ext cx="806436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446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Kako odrediti kvalitet proce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Kvalitet procesa, kao složen pojam, obuhv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333399"/>
                </a:solidFill>
                <a:latin typeface="Tahoma"/>
              </a:rPr>
              <a:t>bazne 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333399"/>
                </a:solidFill>
                <a:latin typeface="Tahoma"/>
              </a:rPr>
              <a:t>funkcionalne 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drednice kvalit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77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6" dur="77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8" dur="77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0" dur="77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77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7" dur="77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9" dur="77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1" dur="77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9: Definisanje kriterijuma: uspešnosti, stabilnosti i pouzdanosti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249120" y="1933560"/>
            <a:ext cx="8631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Bazne odrednice kvaliteta proces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Tahoma"/>
              </a:rPr>
              <a:t>BOK 1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- nivo definisanosti, određenosti procesa (naziv, mesto  u logičkom stablu procesa, u mrežama, katalogu i modelu proce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Tahoma"/>
              </a:rPr>
              <a:t>BOK 2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- nivo specificiranosti, strukturne i sadržajne određenosti procesa (ulaz, izlaz, tok, resursi, poremećaji, podela rada, nadležnosti i odgovornos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OK 3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- nivo primene principa, pravila i metoda inženjeringa procesa u funkciji preispitivanja, poboljšanja i eventualnog reinženjeringa proc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0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99"/>
                </a:solidFill>
                <a:latin typeface="Tahoma"/>
              </a:rPr>
              <a:t>ZAŠTO PROCESI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8720" y="1628640"/>
            <a:ext cx="4282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AVREMENA TEORIJA I PRAK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ocesi – temelji preduzeća sutrašnjice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ocesno zasnovana poslovna filozofija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a procesima se zasniva organizacija poslovnih sistema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pravljanje zasnovano na procesima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14600" y="4098240"/>
            <a:ext cx="4624920" cy="2982240"/>
            <a:chOff x="4314600" y="4098240"/>
            <a:chExt cx="4624920" cy="2982240"/>
          </a:xfrm>
        </p:grpSpPr>
        <p:sp>
          <p:nvSpPr>
            <p:cNvPr id="110" name=""/>
            <p:cNvSpPr/>
            <p:nvPr/>
          </p:nvSpPr>
          <p:spPr>
            <a:xfrm rot="21238800">
              <a:off x="4435200" y="4321080"/>
              <a:ext cx="4383000" cy="2536560"/>
            </a:xfrm>
            <a:prstGeom prst="irregularSeal1">
              <a:avLst/>
            </a:prstGeom>
            <a:solidFill>
              <a:srgbClr val="ffed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1238800">
              <a:off x="4929840" y="5041800"/>
              <a:ext cx="327096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 R O C E S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ŽENJERING PROCE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Document"/>
          <p:cNvSpPr/>
          <p:nvPr/>
        </p:nvSpPr>
        <p:spPr>
          <a:xfrm rot="10643400">
            <a:off x="5695560" y="1118520"/>
            <a:ext cx="3008520" cy="3128760"/>
          </a:xfrm>
          <a:prstGeom prst="pie">
            <a:avLst/>
          </a:prstGeom>
          <a:solidFill>
            <a:srgbClr val="e2e0e4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Tahoma"/>
              </a:rPr>
              <a:t>70% projekata BPR-a neuspešn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Razloz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- loša identifikacija proce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- neadekvatan prikaz PS proc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9: Definisanje kriterijuma: uspešnosti, stabilnosti i pouzdanosti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249120" y="1611360"/>
            <a:ext cx="8659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Funkcionalne odrednice kvaliteta proces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Tahoma"/>
              </a:rPr>
              <a:t>FOK 1</a:t>
            </a: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 - </a:t>
            </a:r>
            <a:r>
              <a:rPr b="1" i="1" lang="sl-SI" sz="2000" spc="-1" strike="noStrike">
                <a:solidFill>
                  <a:srgbClr val="ff0000"/>
                </a:solidFill>
                <a:latin typeface="Tahoma"/>
              </a:rPr>
              <a:t>uspešnost procesa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, kao sintet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čki iskaz sposobnosti, racionalnosti i vremenske usklađenosti, je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odrednica kvaliteta procesa koja opisuje i/ili meri, odnosno pokazuje, nivo ostvarenja planiranog kvaliteta i obima izlaza iz procesa na racionalan način, odnosno, uz što niže troškove i vremensku usklađenost sa ostalim procesima u odgovarajućoj mreži proc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Tahoma"/>
              </a:rPr>
              <a:t>FOK 2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- stabilnost procesa kao odrednica kvaliteta procesa koja se odnosi na svojstvo procesa da kvalitet i obim izlaza uvek budu u unapred predviđenim granicama dozvoljenog odstup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FOK 3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- pouzdanost ili sigurnost procesa kao odrednica kvaliteta procesa koja se odnosi na mogućnost poremećaja procesa uključujući totalni otkaz proc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10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10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8404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10: Preispitivanje, poboljšanje i reinženjering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736560" y="1969920"/>
            <a:ext cx="7626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tima za preispitivanje, poboljšanje i reinženjering proc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buka t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žuriranje podataka o proces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Snimanje postojećeg stanja proc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naliza stanja proc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edlog poboljšanja ili reinženjeringa proc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Uporedna analiza postojećeg i novog stanja,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lan sprovođenja reš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5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UPRAVLJANJE PROCESI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308240" y="1366920"/>
            <a:ext cx="6833880" cy="542124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3554280" y="1722600"/>
            <a:ext cx="2957760" cy="19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207120" y="3602160"/>
            <a:ext cx="221760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565600" y="3614760"/>
            <a:ext cx="13035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38600" y="4676760"/>
            <a:ext cx="2217600" cy="21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25880" y="4951440"/>
            <a:ext cx="1303560" cy="89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79560" y="3716280"/>
            <a:ext cx="2830320" cy="31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79560" y="2490840"/>
            <a:ext cx="2550960" cy="12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1763640"/>
            <a:ext cx="914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98520" y="1262160"/>
            <a:ext cx="439740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0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7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0" dur="20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20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rcRect l="16926" t="22395" r="17970" b="28474"/>
          <a:stretch/>
        </p:blipFill>
        <p:spPr>
          <a:xfrm>
            <a:off x="0" y="1768320"/>
            <a:ext cx="8993160" cy="50896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56952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UPRAVLJANJE PROCESI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233280" y="4152960"/>
            <a:ext cx="213696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2080" y="4525920"/>
            <a:ext cx="210492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36520" y="5300640"/>
            <a:ext cx="2124000" cy="13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7920" y="2959200"/>
            <a:ext cx="2081160" cy="1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03360" y="2938320"/>
            <a:ext cx="3335400" cy="11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784840" y="2938320"/>
            <a:ext cx="2890800" cy="12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400480" y="4114800"/>
            <a:ext cx="33145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75480" y="4067280"/>
            <a:ext cx="296388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6320" y="4462560"/>
            <a:ext cx="330804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813280" y="4549680"/>
            <a:ext cx="29163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797440" y="4419720"/>
            <a:ext cx="289728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424240" y="5253120"/>
            <a:ext cx="3265200" cy="14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769000" y="5295960"/>
            <a:ext cx="2982960" cy="13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0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31752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STRUKTURA PROIZVODNOG PROCES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1260360" y="3508200"/>
            <a:ext cx="1884600" cy="91620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Tahoma"/>
                <a:ea typeface="SimSun"/>
              </a:rPr>
              <a:t>Proizvodni proces</a:t>
            </a:r>
            <a:r>
              <a:rPr b="1" lang="sr-Latn-CS" sz="1400" spc="-1" strike="noStrike">
                <a:solidFill>
                  <a:srgbClr val="333399"/>
                </a:solidFill>
                <a:latin typeface="Tahoma"/>
                <a:ea typeface="SimSu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SimSun"/>
              </a:rPr>
              <a:t>proces izrade</a:t>
            </a:r>
            <a:r>
              <a:rPr b="0" lang="sl-SI" sz="1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SimSun"/>
              </a:rPr>
              <a:t>proizvoda i pružanja uslu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73560" y="1676520"/>
            <a:ext cx="275436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Rad na proizvodnim radnim mest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173560" y="2287440"/>
            <a:ext cx="2754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Kontrola kvalit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73560" y="2897280"/>
            <a:ext cx="275436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Unutrašnji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173560" y="3508200"/>
            <a:ext cx="27543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Skladišt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73560" y="4119480"/>
            <a:ext cx="2754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Preventivna zaštita radnika na r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173560" y="4730760"/>
            <a:ext cx="2754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SimSun"/>
              </a:rPr>
              <a:t>Preventivno održavanje sredstava za 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173560" y="5492880"/>
            <a:ext cx="275436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Snabdevanje energijom i vo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94320" y="182880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593960" y="244008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593960" y="305100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593960" y="366084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593960" y="427212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93960" y="503568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593960" y="564660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44960" y="3967200"/>
            <a:ext cx="869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040280" y="1689120"/>
            <a:ext cx="579240" cy="4275000"/>
            <a:chOff x="4040280" y="1689120"/>
            <a:chExt cx="579240" cy="4275000"/>
          </a:xfrm>
        </p:grpSpPr>
        <p:sp>
          <p:nvSpPr>
            <p:cNvPr id="686" name=""/>
            <p:cNvSpPr/>
            <p:nvPr/>
          </p:nvSpPr>
          <p:spPr>
            <a:xfrm>
              <a:off x="4040280" y="1689120"/>
              <a:ext cx="579240" cy="427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00000">
              <a:off x="4051440" y="1727280"/>
              <a:ext cx="454680" cy="42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Elementarni procesi u proizvodn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0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77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9" dur="770" fill="hold"/>
                                        <p:tgtEl>
                                          <p:spTgt spid="6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1" dur="77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3" dur="77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77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3" dur="770" fill="hold"/>
                                        <p:tgtEl>
                                          <p:spTgt spid="6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5" dur="77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7" dur="77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77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4" dur="770" fill="hold"/>
                                        <p:tgtEl>
                                          <p:spTgt spid="6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6" dur="77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8" dur="77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77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5" dur="770" fill="hold"/>
                                        <p:tgtEl>
                                          <p:spTgt spid="6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7" dur="77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9" dur="77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77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6" dur="770" fill="hold"/>
                                        <p:tgtEl>
                                          <p:spTgt spid="6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8" dur="77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0" dur="77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77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7" dur="770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9" dur="77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1" dur="77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77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8" dur="770" fill="hold"/>
                                        <p:tgtEl>
                                          <p:spTgt spid="6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0" dur="77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2" dur="77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8" dur="77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9" dur="770" fill="hold"/>
                                        <p:tgtEl>
                                          <p:spTgt spid="6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1" dur="77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3" dur="77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STRUKTURA TEHNOLOŠKOG PROCES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2560" y="4350960"/>
            <a:ext cx="87310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1519200"/>
                <a:tab algn="l" pos="1608120"/>
                <a:tab algn="l" pos="2241720"/>
                <a:tab algn="l" pos="3952800"/>
                <a:tab algn="l" pos="6194520"/>
                <a:tab algn="l" pos="6370560"/>
                <a:tab algn="l" pos="663732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TP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postupak</a:t>
            </a:r>
            <a:r>
              <a:rPr b="0" lang="sr-Latn-CS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</a:t>
            </a:r>
            <a:r>
              <a:rPr b="0" lang="sr-Latn-CS" sz="36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 operacija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k</a:t>
            </a:r>
            <a:r>
              <a:rPr b="0" lang="sr-Latn-CS" sz="32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zahvat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kl</a:t>
            </a:r>
            <a:r>
              <a:rPr b="0" lang="sr-Latn-CS" sz="32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811080"/>
                <a:tab algn="l" pos="1519200"/>
                <a:tab algn="l" pos="1608120"/>
                <a:tab algn="l" pos="2241720"/>
                <a:tab algn="l" pos="3952800"/>
                <a:tab algn="l" pos="6194520"/>
                <a:tab algn="l" pos="6370560"/>
                <a:tab algn="l" pos="663732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i = 1,2,..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j = 1,2,...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k = 1,2,... 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l = 1,2,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1080"/>
                <a:tab algn="l" pos="1519200"/>
                <a:tab algn="l" pos="1608120"/>
                <a:tab algn="l" pos="2241720"/>
                <a:tab algn="l" pos="3952800"/>
                <a:tab algn="l" pos="6194520"/>
                <a:tab algn="l" pos="6370560"/>
                <a:tab algn="l" pos="663732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pokret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klm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mikropokret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klm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811080"/>
                <a:tab algn="l" pos="1519200"/>
                <a:tab algn="l" pos="1608120"/>
                <a:tab algn="l" pos="2241720"/>
                <a:tab algn="l" pos="3952800"/>
                <a:tab algn="l" pos="6194520"/>
                <a:tab algn="l" pos="6370560"/>
                <a:tab algn="l" pos="663732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m</a:t>
            </a:r>
            <a:r>
              <a:rPr b="0" lang="sr-Latn-CS" sz="20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= 1,2,..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n = 1,2,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41320" y="1457280"/>
            <a:ext cx="479268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Tehnološki pro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ostup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oper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zah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ok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mikropok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26960" y="4365720"/>
            <a:ext cx="70812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8520" y="4956120"/>
            <a:ext cx="123804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31760" y="4290840"/>
            <a:ext cx="7239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52760" y="4424400"/>
            <a:ext cx="198900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843200" y="5000760"/>
            <a:ext cx="153324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87840" y="4424400"/>
            <a:ext cx="663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02280" y="4336920"/>
            <a:ext cx="2081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395960" y="4940280"/>
            <a:ext cx="12538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08560" y="43070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11920" y="4218120"/>
            <a:ext cx="162252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740640" y="4925880"/>
            <a:ext cx="1355760" cy="4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362800" y="4321080"/>
            <a:ext cx="781200" cy="5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4960" y="5546880"/>
            <a:ext cx="81144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76400" y="5338800"/>
            <a:ext cx="185904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254240" y="6089760"/>
            <a:ext cx="1326960" cy="33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46520" y="5383080"/>
            <a:ext cx="69372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84520" y="5427720"/>
            <a:ext cx="303696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73480" y="6048360"/>
            <a:ext cx="1594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0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0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6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7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4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500"/>
                            </p:stCondLst>
                            <p:childTnLst>
                              <p:par>
                                <p:cTn id="215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1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7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7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0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8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1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RAZLIKE IZMEĐU PROIZVODNOG I TEHNOLOŠKOG PROCES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190520" y="2373480"/>
            <a:ext cx="6932520" cy="3015720"/>
            <a:chOff x="1190520" y="2373480"/>
            <a:chExt cx="6932520" cy="3015720"/>
          </a:xfrm>
        </p:grpSpPr>
        <p:sp>
          <p:nvSpPr>
            <p:cNvPr id="711" name=""/>
            <p:cNvSpPr/>
            <p:nvPr/>
          </p:nvSpPr>
          <p:spPr>
            <a:xfrm>
              <a:off x="6627600" y="4091400"/>
              <a:ext cx="1231200" cy="60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proizvo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ili uslu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90520" y="4256280"/>
              <a:ext cx="1758960" cy="113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353880" indent="-174600" algn="just">
                <a:lnSpc>
                  <a:spcPct val="9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3333cc"/>
                </a:buClr>
                <a:buSzPct val="60000"/>
                <a:buFont typeface="Times New Roman"/>
                <a:buChar char="-"/>
                <a:tabLst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Sirov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53880" indent="-174600">
                <a:lnSpc>
                  <a:spcPct val="95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Times New Roman"/>
                <a:buChar char="-"/>
                <a:tabLst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Materij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53880" indent="-174600">
                <a:lnSpc>
                  <a:spcPct val="95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Times New Roman"/>
                <a:buChar char="-"/>
                <a:tabLst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Informa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35640" y="2886480"/>
              <a:ext cx="4002120" cy="24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ff0000"/>
                  </a:solidFill>
                  <a:latin typeface="Tahoma"/>
                </a:rPr>
                <a:t>P R O I Z V O D N I    P R O C E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04080" y="4104000"/>
              <a:ext cx="1231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38120" y="4104000"/>
              <a:ext cx="1077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97520" y="3647520"/>
              <a:ext cx="307836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Proces transforma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proizvoda P</a:t>
              </a:r>
              <a:r>
                <a:rPr b="0" lang="sr-Latn-CS" sz="1600" spc="-1" strike="noStrike" baseline="-25000">
                  <a:solidFill>
                    <a:srgbClr val="333399"/>
                  </a:solidFill>
                  <a:latin typeface="Tahoma"/>
                </a:rPr>
                <a:t>i</a:t>
              </a: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 ili usluge U</a:t>
              </a:r>
              <a:r>
                <a:rPr b="0" lang="sr-Latn-CS" sz="1600" spc="-1" strike="noStrike" baseline="-25000">
                  <a:solidFill>
                    <a:srgbClr val="333399"/>
                  </a:solidFill>
                  <a:latin typeface="Tahom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(</a:t>
              </a:r>
              <a:r>
                <a:rPr b="0" lang="sr-Latn-CS" sz="1600" spc="-1" strike="noStrike">
                  <a:solidFill>
                    <a:srgbClr val="ff0000"/>
                  </a:solidFill>
                  <a:latin typeface="Tahoma"/>
                </a:rPr>
                <a:t>Tehnološki proces TP</a:t>
              </a:r>
              <a:r>
                <a:rPr b="0" lang="sr-Latn-CS" sz="1600" spc="-1" strike="noStrike" baseline="-25000">
                  <a:solidFill>
                    <a:srgbClr val="ff0000"/>
                  </a:solidFill>
                  <a:latin typeface="Tahoma"/>
                </a:rPr>
                <a:t>i</a:t>
              </a: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97520" y="471312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97520" y="486540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7520" y="501768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97520" y="349524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197520" y="334332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04080" y="3661920"/>
              <a:ext cx="769680" cy="4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Ul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91840" y="3554640"/>
              <a:ext cx="123120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Izl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89640" y="2373480"/>
              <a:ext cx="3997800" cy="42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Proizvodi </a:t>
              </a:r>
              <a:r>
                <a:rPr b="0" i="1" lang="hr-HR" sz="16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0" i="1" lang="hr-HR" sz="1600" spc="-1" strike="noStrike" baseline="-25000">
                  <a:solidFill>
                    <a:srgbClr val="333399"/>
                  </a:solidFill>
                  <a:latin typeface="Tahoma"/>
                </a:rPr>
                <a:t>i</a:t>
              </a: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 ili usluge </a:t>
              </a:r>
              <a:r>
                <a:rPr b="0" i="1" lang="hr-HR" sz="1600" spc="-1" strike="noStrike">
                  <a:solidFill>
                    <a:srgbClr val="333399"/>
                  </a:solidFill>
                  <a:latin typeface="Tahoma"/>
                </a:rPr>
                <a:t>U</a:t>
              </a:r>
              <a:r>
                <a:rPr b="0" i="1" lang="hr-HR" sz="1600" spc="-1" strike="noStrike" baseline="-25000">
                  <a:solidFill>
                    <a:srgbClr val="333399"/>
                  </a:solidFill>
                  <a:latin typeface="Tahoma"/>
                </a:rPr>
                <a:t>i </a:t>
              </a: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(i=1,2,....,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0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ZAŠTO PROCESI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62960"/>
            <a:ext cx="914400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rocesi su entitet preko koga se najbolje: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sagledava struktura poslovnog sistem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</a:rPr>
              <a:t>definišu nadležnosti i odgovornosti u poslovnom sistemu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odre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đ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uje podela rada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ure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đ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uje poslovni sistem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upravlja poslovnim sistemom (organizacionim celinama,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 k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valitetom, tro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š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kovima, procesima, resursima …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definišu modeli poslovnog sistema i njegovih podsistem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ostvaruje kreativna komponenta proizvodnih sistem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otkrivaju mesta i uzroci lošeg rada, niske produktivnosti, sporog rada i prekoračenja rokova, uvećanih troškova,lošeg rivaliteta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 i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nedovoljne efikasnosti poslovanj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601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primenjuju zahtevi svetskih standarda (ISO 9000:2000, ISO 14000:2000, …), ..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NEKE DEFINICIJE PROCES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400" y="1641600"/>
            <a:ext cx="871524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"Poslovni proces je specifičan niz poslovnih aktivnosti u vremenu i prostoru koji ima svoj početak i kraj i precizno definisane ulaze i izlaze“ 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(</a:t>
            </a:r>
            <a:r>
              <a:rPr b="0" i="1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Devenport -199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"Poslovni proces je svaka aktivnost ili grupa aktivnosti koje uzimaju ulaz, povećavaju mu vrednost i time proizvode izlaz za unutrašnjeg ili spoljašnjeg korisnika“ 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(</a:t>
            </a:r>
            <a:r>
              <a:rPr b="0" i="1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Harrington -199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"Poslovni proces je kolekcija aktivnosti koja ima više ulaza i stvara više izlaza koji imaju neku vrednost za korisnika“ 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(</a:t>
            </a:r>
            <a:r>
              <a:rPr b="0" i="1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Hammer i Champy -199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"Proces je skup međusobno povezanih ili međusobno delujućih aktivnosti koji pretvara ulazne u izlazne elemente". 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(</a:t>
            </a:r>
            <a:r>
              <a:rPr b="0" i="1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ISO -200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ORGANIZACIONI SISTEMI I PROCES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36320" y="3538440"/>
            <a:ext cx="2755080" cy="1012680"/>
            <a:chOff x="436320" y="3538440"/>
            <a:chExt cx="2755080" cy="1012680"/>
          </a:xfrm>
        </p:grpSpPr>
        <p:sp>
          <p:nvSpPr>
            <p:cNvPr id="119" name=""/>
            <p:cNvSpPr/>
            <p:nvPr/>
          </p:nvSpPr>
          <p:spPr>
            <a:xfrm>
              <a:off x="617040" y="3538440"/>
              <a:ext cx="2398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333399"/>
                  </a:solidFill>
                  <a:latin typeface="TimesRomanBold"/>
                </a:rPr>
                <a:t>PROCESI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6320" y="4048200"/>
              <a:ext cx="2755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333399"/>
                  </a:solidFill>
                  <a:latin typeface="TimesRomanBold"/>
                </a:rPr>
                <a:t>osnova za: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401640" y="1362240"/>
            <a:ext cx="3866400" cy="1107000"/>
            <a:chOff x="3401640" y="1362240"/>
            <a:chExt cx="3866400" cy="1107000"/>
          </a:xfrm>
        </p:grpSpPr>
        <p:sp>
          <p:nvSpPr>
            <p:cNvPr id="122" name=""/>
            <p:cNvSpPr/>
            <p:nvPr/>
          </p:nvSpPr>
          <p:spPr>
            <a:xfrm>
              <a:off x="3449160" y="1362240"/>
              <a:ext cx="2704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PROJEKTOVANJE 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93440" y="1616040"/>
              <a:ext cx="3531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POSTAVLJANJ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(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SNIVANJ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01640" y="1866960"/>
              <a:ext cx="1712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NOVIH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5200" y="1932120"/>
              <a:ext cx="256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RGANIZACIONI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4680" y="2209680"/>
              <a:ext cx="157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422520" y="2717640"/>
            <a:ext cx="3721320" cy="1021680"/>
            <a:chOff x="3422520" y="2717640"/>
            <a:chExt cx="3721320" cy="1021680"/>
          </a:xfrm>
        </p:grpSpPr>
        <p:sp>
          <p:nvSpPr>
            <p:cNvPr id="128" name=""/>
            <p:cNvSpPr/>
            <p:nvPr/>
          </p:nvSpPr>
          <p:spPr>
            <a:xfrm>
              <a:off x="3494160" y="2717640"/>
              <a:ext cx="3297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SAGLEDAVANJA STANJ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360" y="2971800"/>
              <a:ext cx="2885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(NIVOA URE</a:t>
              </a:r>
              <a:r>
                <a:rPr b="0" lang="sl-SI" sz="1700" spc="-1" strike="noStrike">
                  <a:solidFill>
                    <a:srgbClr val="333399"/>
                  </a:solidFill>
                  <a:latin typeface="Arial"/>
                </a:rPr>
                <a:t>Đ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ENOSTI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2520" y="3225960"/>
              <a:ext cx="3721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RGANIZACIONIH SISTEMA 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7560" y="3479760"/>
              <a:ext cx="1711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VREMEN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17120" y="3987720"/>
            <a:ext cx="3576600" cy="767520"/>
            <a:chOff x="3417120" y="3987720"/>
            <a:chExt cx="3576600" cy="767520"/>
          </a:xfrm>
        </p:grpSpPr>
        <p:sp>
          <p:nvSpPr>
            <p:cNvPr id="133" name=""/>
            <p:cNvSpPr/>
            <p:nvPr/>
          </p:nvSpPr>
          <p:spPr>
            <a:xfrm>
              <a:off x="3429720" y="3987720"/>
              <a:ext cx="356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3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POVE</a:t>
              </a:r>
              <a:r>
                <a:rPr b="0" lang="sl-SI" sz="1700" spc="-1" strike="noStrike">
                  <a:solidFill>
                    <a:srgbClr val="ff0000"/>
                  </a:solidFill>
                  <a:latin typeface="Arial"/>
                </a:rPr>
                <a:t>Ć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ANJE  URE</a:t>
              </a:r>
              <a:r>
                <a:rPr b="0" lang="sl-SI" sz="1700" spc="-1" strike="noStrike">
                  <a:solidFill>
                    <a:srgbClr val="ff0000"/>
                  </a:solidFill>
                  <a:latin typeface="Arial"/>
                </a:rPr>
                <a:t>Đ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ENOST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5400" y="4241880"/>
              <a:ext cx="350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RGANIZACIONIH 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7120" y="4495680"/>
              <a:ext cx="2387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(KONTINUALNO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22520" y="5003640"/>
            <a:ext cx="3721320" cy="767880"/>
            <a:chOff x="3422520" y="5003640"/>
            <a:chExt cx="3721320" cy="767880"/>
          </a:xfrm>
        </p:grpSpPr>
        <p:sp>
          <p:nvSpPr>
            <p:cNvPr id="137" name=""/>
            <p:cNvSpPr/>
            <p:nvPr/>
          </p:nvSpPr>
          <p:spPr>
            <a:xfrm>
              <a:off x="3465000" y="5003640"/>
              <a:ext cx="327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4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RE</a:t>
              </a:r>
              <a:r>
                <a:rPr b="0" lang="sl-SI" sz="1700" spc="-1" strike="noStrike">
                  <a:solidFill>
                    <a:srgbClr val="ff0000"/>
                  </a:solidFill>
                  <a:latin typeface="Arial"/>
                </a:rPr>
                <a:t>Š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AVANJE PROBL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2520" y="5257800"/>
              <a:ext cx="3721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RGANIZACIONIH SISTEMA 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7560" y="5511960"/>
              <a:ext cx="1711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VREMEN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415680" y="6021360"/>
            <a:ext cx="3643200" cy="767520"/>
            <a:chOff x="3415680" y="6021360"/>
            <a:chExt cx="3643200" cy="767520"/>
          </a:xfrm>
        </p:grpSpPr>
        <p:sp>
          <p:nvSpPr>
            <p:cNvPr id="141" name=""/>
            <p:cNvSpPr/>
            <p:nvPr/>
          </p:nvSpPr>
          <p:spPr>
            <a:xfrm>
              <a:off x="3442680" y="6021360"/>
              <a:ext cx="361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5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RAZVOJ O.S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(DELOVA O.S.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3960" y="6275520"/>
              <a:ext cx="19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U  VREMEN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15680" y="6529320"/>
              <a:ext cx="27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(DISKONTINUALNO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561440" y="1360440"/>
            <a:ext cx="1064520" cy="5481720"/>
            <a:chOff x="7561440" y="1360440"/>
            <a:chExt cx="1064520" cy="5481720"/>
          </a:xfrm>
        </p:grpSpPr>
        <p:sp>
          <p:nvSpPr>
            <p:cNvPr id="145" name=""/>
            <p:cNvSpPr/>
            <p:nvPr/>
          </p:nvSpPr>
          <p:spPr>
            <a:xfrm>
              <a:off x="7561440" y="1360440"/>
              <a:ext cx="243000" cy="5481720"/>
            </a:xfrm>
            <a:custGeom>
              <a:avLst/>
              <a:gdLst/>
              <a:ahLst/>
              <a:rect l="l" t="t" r="r" b="b"/>
              <a:pathLst>
                <a:path w="144" h="3571">
                  <a:moveTo>
                    <a:pt x="0" y="0"/>
                  </a:moveTo>
                  <a:lnTo>
                    <a:pt x="144" y="0"/>
                  </a:lnTo>
                  <a:lnTo>
                    <a:pt x="144" y="0"/>
                  </a:lnTo>
                  <a:lnTo>
                    <a:pt x="144" y="1786"/>
                  </a:lnTo>
                  <a:lnTo>
                    <a:pt x="144" y="1786"/>
                  </a:lnTo>
                  <a:lnTo>
                    <a:pt x="144" y="1786"/>
                  </a:lnTo>
                  <a:lnTo>
                    <a:pt x="144" y="3571"/>
                  </a:lnTo>
                  <a:lnTo>
                    <a:pt x="144" y="3571"/>
                  </a:lnTo>
                  <a:lnTo>
                    <a:pt x="0" y="3571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56560" y="2359080"/>
              <a:ext cx="78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5360" y="2698920"/>
              <a:ext cx="898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01120" y="3036960"/>
              <a:ext cx="85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0000"/>
                  </a:solidFill>
                  <a:latin typeface="Arial"/>
                </a:rPr>
                <a:t>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23440" y="3376440"/>
              <a:ext cx="84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5760" y="3714840"/>
              <a:ext cx="97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N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3440" y="4054320"/>
              <a:ext cx="84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14440" y="4392720"/>
              <a:ext cx="86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56560" y="4730760"/>
              <a:ext cx="78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95360" y="5070600"/>
              <a:ext cx="898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8600" y="5408640"/>
              <a:ext cx="889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9376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ODELE PROCESA 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(viđenje relevantnih autora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9400" y="1769760"/>
            <a:ext cx="44830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lan (1992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zvodni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lužni proc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arrington (1991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zvodni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ovni proc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ergman i Klefsjo (1995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onalni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ni proc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660920" y="1797120"/>
            <a:ext cx="448308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irma “Ericsson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šavajući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ljački proc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ntzhog (1997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zni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žavajući proc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7176" t="22439" r="25634" b="12586"/>
          <a:stretch/>
        </p:blipFill>
        <p:spPr>
          <a:xfrm>
            <a:off x="1162080" y="1511280"/>
            <a:ext cx="7372440" cy="5346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16200" y="4673520"/>
            <a:ext cx="27432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VRSTE PROCES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12960" y="2824200"/>
            <a:ext cx="2666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3452760"/>
            <a:ext cx="2666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19440" y="4081320"/>
            <a:ext cx="2666880" cy="4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8960" y="4619520"/>
            <a:ext cx="2946240" cy="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5560" y="5537160"/>
            <a:ext cx="266724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1040" y="6089760"/>
            <a:ext cx="301932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1360" y="2755800"/>
            <a:ext cx="30322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9960" y="3370320"/>
            <a:ext cx="30322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3984480"/>
            <a:ext cx="30322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7080" y="4646520"/>
            <a:ext cx="303192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13200" y="5475240"/>
            <a:ext cx="321480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19680" y="6176880"/>
            <a:ext cx="303192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7926" t="23419" r="27118" b="9637"/>
          <a:stretch/>
        </p:blipFill>
        <p:spPr>
          <a:xfrm>
            <a:off x="1217520" y="1461960"/>
            <a:ext cx="6946920" cy="536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62200" y="2616120"/>
            <a:ext cx="2882880" cy="806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VRSTE PROCES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2593800"/>
            <a:ext cx="2941560" cy="84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78040" y="3529080"/>
            <a:ext cx="26668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19440" y="4322880"/>
            <a:ext cx="2666880" cy="6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2320" y="5129280"/>
            <a:ext cx="281952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5560" y="5892840"/>
            <a:ext cx="266724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2641680"/>
            <a:ext cx="303192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34000" y="3471840"/>
            <a:ext cx="310824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34000" y="4289400"/>
            <a:ext cx="309888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30760" y="5091120"/>
            <a:ext cx="3247920" cy="7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5881680"/>
            <a:ext cx="3265560" cy="84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5:35:31Z</dcterms:created>
  <dc:creator>Barbara</dc:creator>
  <dc:description/>
  <dc:language>en-US</dc:language>
  <cp:lastModifiedBy>nn</cp:lastModifiedBy>
  <dcterms:modified xsi:type="dcterms:W3CDTF">2005-05-25T17:11:45Z</dcterms:modified>
  <cp:revision>63</cp:revision>
  <dc:subject/>
  <dc:title>prof. dr Milić Radović  OSNOVI ORGANIZACIJE PROIZVODNJE</dc:title>
</cp:coreProperties>
</file>