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046-FA16-478A-9CEF-E81BEF86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33E9-413F-4092-8B36-968247C0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3D5-B638-44A8-8134-12E48072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C2C4-1186-4446-91EB-C6F13787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189A-32B4-4F45-82DC-F1E21D6A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5326-16E5-482F-A487-14E43384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97D6-2829-4946-8B8F-748A9D5C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D56C-B5E9-4658-A874-17C468EC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C39F-4963-4417-BAB6-8C23A90E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BD26-D57B-45E0-B795-FCC8284E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4282-84F5-47E1-98CC-B940E673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941-256D-414A-AA95-871FC3AD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16EE-1016-491D-95D1-D5D1EEC8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A8F6-3573-453D-B9AD-7B119ACC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88A2-FACA-4CAF-BBE0-094850AE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17FA-263A-4E3E-B332-A57A49EB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AF80-ABB7-438C-A13F-FB18A120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BF13-5FF3-47FD-B2A5-1C1FBA0D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771-A961-481E-9B9E-FB28AEFC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22B2-0F56-4E22-805B-93F3F1A3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E98-27CE-489E-9738-D1221282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539-A89A-4076-9C7F-DB1E55BA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E1B-BF38-4AF7-9094-2CDC3466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8899-0C2E-4C63-AAB6-F8E17C87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DA6C-7127-4929-8CD5-4C6CF446A9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8C65-5122-4744-96E4-405CBB70DD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302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roizvodni siste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1760" y="3809520"/>
            <a:ext cx="78483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DRE</a:t>
            </a:r>
            <a:r>
              <a:rPr b="1" lang="sr-Latn-CS" sz="4400" spc="-1" strike="noStrike">
                <a:solidFill>
                  <a:srgbClr val="333399"/>
                </a:solidFill>
                <a:latin typeface="Tahoma"/>
              </a:rPr>
              <a:t>ĐIVANJE OPTIMALNOG RASPOREDA RADNIH MES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of. dr Milić Radov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71280" y="1773360"/>
            <a:ext cx="817236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METOD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MODIFIKOVANI METOD USLOVNIH NIZO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7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br>
              <a:rPr sz="4000"/>
            </a:br>
            <a:r>
              <a:rPr b="0" lang="sr-Latn-CS" sz="4000" spc="-1" strike="noStrike">
                <a:solidFill>
                  <a:srgbClr val="ff0000"/>
                </a:solidFill>
                <a:latin typeface="Tahoma"/>
              </a:rPr>
              <a:t>linijskog i kombinovanog rasporeda</a:t>
            </a: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 radnih mest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55640" y="2852640"/>
                <a:ext cx="2232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:      </m:t>
                    </m:r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O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N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55640" y="3645000"/>
                <a:ext cx="22320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:      </m:t>
                    </m:r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O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N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-52560" y="349884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33320" y="4724280"/>
                <a:ext cx="22766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:      </m:t>
                    </m:r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O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N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UN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-52560" y="414648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55640" y="5877000"/>
                <a:ext cx="2232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:      </m:t>
                    </m:r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O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N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5148360" y="4115160"/>
            <a:ext cx="37796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</a:t>
            </a:r>
            <a:r>
              <a:rPr b="0" lang="sr-Latn-CS" sz="2400" spc="-1" strike="noStrike" baseline="-30000">
                <a:solidFill>
                  <a:srgbClr val="333399"/>
                </a:solidFill>
                <a:latin typeface="Tahoma"/>
                <a:ea typeface="Times New Roman"/>
              </a:rPr>
              <a:t>i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, i = 1,2, . . . ,m 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slovni niz radnih me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52560" y="304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3068640"/>
            <a:ext cx="28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4292640"/>
            <a:ext cx="2303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360" y="5516640"/>
            <a:ext cx="2303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385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385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0" dur="385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2" dur="385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00"/>
                            </p:stCondLst>
                            <p:childTnLst>
                              <p:par>
                                <p:cTn id="5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792920" cy="174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br>
              <a:rPr sz="3600"/>
            </a:br>
            <a:r>
              <a:rPr b="0" lang="sr-Latn-CS" sz="3600" spc="-1" strike="noStrike">
                <a:solidFill>
                  <a:srgbClr val="ff0000"/>
                </a:solidFill>
                <a:latin typeface="Tahoma"/>
              </a:rPr>
              <a:t>linijskog i kombinovanog </a:t>
            </a:r>
            <a:br>
              <a:rPr sz="3600"/>
            </a:br>
            <a:r>
              <a:rPr b="0" lang="sr-Latn-CS" sz="3600" spc="-1" strike="noStrike">
                <a:solidFill>
                  <a:srgbClr val="ff0000"/>
                </a:solidFill>
                <a:latin typeface="Tahoma"/>
              </a:rPr>
              <a:t>rasporeda</a:t>
            </a: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 radnih mes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8102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TABELA FREKVENCI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2133720"/>
            <a:ext cx="28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55640" y="2708280"/>
          <a:ext cx="7704000" cy="3263760"/>
        </p:xfrm>
        <a:graphic>
          <a:graphicData uri="http://schemas.openxmlformats.org/drawingml/2006/table">
            <a:tbl>
              <a:tblPr/>
              <a:tblGrid>
                <a:gridCol w="1800360"/>
                <a:gridCol w="647640"/>
                <a:gridCol w="576360"/>
                <a:gridCol w="647640"/>
                <a:gridCol w="718920"/>
                <a:gridCol w="720720"/>
                <a:gridCol w="720720"/>
                <a:gridCol w="648000"/>
                <a:gridCol w="718920"/>
                <a:gridCol w="504720"/>
              </a:tblGrid>
              <a:tr h="417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rekven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adno me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rekvencija  f</a:t>
                      </a:r>
                      <a:r>
                        <a:rPr b="1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k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k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k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k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k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k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i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i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sr-Latn-CS" sz="1800" spc="-1" strike="noStrike" baseline="-25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ik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ik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i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sr-Latn-CS" sz="1800" spc="-1" strike="noStrike" baseline="-25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nk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nk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n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n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5148360" y="4653000"/>
            <a:ext cx="71892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9292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br>
              <a:rPr sz="3600"/>
            </a:br>
            <a:r>
              <a:rPr b="0" lang="sr-Latn-CS" sz="3600" spc="-1" strike="noStrike">
                <a:solidFill>
                  <a:srgbClr val="ff0000"/>
                </a:solidFill>
                <a:latin typeface="Tahoma"/>
              </a:rPr>
              <a:t>linijskog i kombinovanog rasporeda</a:t>
            </a: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 radnih mes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00360" y="2349360"/>
                <a:ext cx="144000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U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U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N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⋮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UN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140360" y="3357720"/>
                <a:ext cx="774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148360" y="3213000"/>
                <a:ext cx="4982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684360" y="60919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UNi, i =1,2,...,m - uslovni niz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72360" y="4837680"/>
            <a:ext cx="190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 = 1,2 ,...,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j = 1,2,... ,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Kako izračunati modifikovanu frekvenciju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858920" y="189000"/>
            <a:ext cx="38098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br>
              <a:rPr sz="2000"/>
            </a:br>
            <a:r>
              <a:rPr b="0" lang="sr-Latn-CS" sz="2000" spc="-1" strike="noStrike">
                <a:solidFill>
                  <a:srgbClr val="ff0000"/>
                </a:solidFill>
                <a:latin typeface="Tahoma"/>
              </a:rPr>
              <a:t>linijskog i kombinovanog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 rasporeda radnih me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516720" y="3357720"/>
                <a:ext cx="216072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1149840" y="1860480"/>
            <a:ext cx="73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Šta sve utiče na ukupni zahtev da se 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i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 rasporedi na k-tu pozicij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50920" y="4581360"/>
                <a:ext cx="5047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268360" y="4581360"/>
                <a:ext cx="2383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654280" y="2881440"/>
            <a:ext cx="1440" cy="425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00" y="2881440"/>
            <a:ext cx="0" cy="14461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9720" y="2881440"/>
            <a:ext cx="1440" cy="13381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345680" y="2881440"/>
            <a:ext cx="1800" cy="100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54280" y="3119400"/>
            <a:ext cx="595440" cy="18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2400" y="4054320"/>
            <a:ext cx="24973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46040" y="3614760"/>
            <a:ext cx="19036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62200" y="3213000"/>
            <a:ext cx="595440" cy="18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55280" y="4149720"/>
            <a:ext cx="24973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331640" y="3716280"/>
            <a:ext cx="1903320" cy="18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21840" y="3716280"/>
            <a:ext cx="25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k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05840" y="4149720"/>
            <a:ext cx="25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k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08480" y="3284640"/>
            <a:ext cx="718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k-(k-1)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50920" y="4973760"/>
                <a:ext cx="14986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776680" y="4973760"/>
                <a:ext cx="12398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006800" y="4973760"/>
                <a:ext cx="15224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327720" y="4973760"/>
                <a:ext cx="18604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576760" y="5002200"/>
                <a:ext cx="698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835280" y="5060880"/>
                <a:ext cx="27468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232000" y="4915080"/>
                <a:ext cx="5176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835280" y="5479920"/>
                <a:ext cx="27468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230560" y="5192640"/>
                <a:ext cx="1871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50920" y="5840280"/>
                <a:ext cx="142236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708280" y="5880240"/>
                <a:ext cx="16272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875120" y="5877000"/>
                <a:ext cx="19908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837480" y="5880240"/>
                <a:ext cx="13698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284720" y="5877000"/>
                <a:ext cx="698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835280" y="5942160"/>
                <a:ext cx="272880" cy="1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835280" y="6394320"/>
                <a:ext cx="27288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232000" y="6102360"/>
                <a:ext cx="19828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232000" y="5794200"/>
                <a:ext cx="5176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835280" y="4653000"/>
                <a:ext cx="2746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851280" y="2889360"/>
            <a:ext cx="1440" cy="425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7000" y="3129120"/>
            <a:ext cx="595440" cy="144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276360" y="3213000"/>
            <a:ext cx="595080" cy="180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3284640"/>
            <a:ext cx="71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k+1-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95280" y="2205000"/>
            <a:ext cx="5767560" cy="750960"/>
            <a:chOff x="395280" y="2205000"/>
            <a:chExt cx="5767560" cy="750960"/>
          </a:xfrm>
        </p:grpSpPr>
        <p:sp>
          <p:nvSpPr>
            <p:cNvPr id="259" name=""/>
            <p:cNvSpPr/>
            <p:nvPr/>
          </p:nvSpPr>
          <p:spPr>
            <a:xfrm>
              <a:off x="395280" y="2460600"/>
              <a:ext cx="654120" cy="4935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f</a:t>
              </a:r>
              <a:r>
                <a:rPr b="0" lang="sr-Latn-CS" sz="1800" spc="-1" strike="noStrike" baseline="-22000">
                  <a:solidFill>
                    <a:srgbClr val="333399"/>
                  </a:solidFill>
                  <a:latin typeface="Tahoma"/>
                </a:rPr>
                <a:t>i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49400" y="2460600"/>
              <a:ext cx="654120" cy="4935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f</a:t>
              </a:r>
              <a:r>
                <a:rPr b="0" lang="sr-Latn-CS" sz="1800" spc="-1" strike="noStrike" baseline="-22000">
                  <a:solidFill>
                    <a:srgbClr val="333399"/>
                  </a:solidFill>
                  <a:latin typeface="Tahoma"/>
                </a:rPr>
                <a:t>i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52720" y="2460600"/>
              <a:ext cx="654120" cy="4935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f</a:t>
              </a:r>
              <a:r>
                <a:rPr b="0" lang="sr-Latn-CS" sz="1800" spc="-1" strike="noStrike" baseline="-22000">
                  <a:solidFill>
                    <a:srgbClr val="333399"/>
                  </a:solidFill>
                  <a:latin typeface="Tahoma"/>
                </a:rPr>
                <a:t>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98600" y="2460600"/>
              <a:ext cx="654120" cy="4935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f</a:t>
              </a:r>
              <a:r>
                <a:rPr b="0" lang="sr-Latn-CS" sz="1800" spc="-1" strike="noStrike" baseline="-22000">
                  <a:solidFill>
                    <a:srgbClr val="333399"/>
                  </a:solidFill>
                  <a:latin typeface="Tahoma"/>
                </a:rPr>
                <a:t>ik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06840" y="2460600"/>
              <a:ext cx="654120" cy="4935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f</a:t>
              </a:r>
              <a:r>
                <a:rPr b="0" lang="sr-Latn-CS" sz="1800" spc="-1" strike="noStrike" baseline="-22000">
                  <a:solidFill>
                    <a:srgbClr val="333399"/>
                  </a:solidFill>
                  <a:latin typeface="Tahoma"/>
                </a:rPr>
                <a:t>ik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4600" y="2460600"/>
              <a:ext cx="654120" cy="4935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f</a:t>
              </a:r>
              <a:r>
                <a:rPr b="0" lang="sr-Latn-CS" sz="1800" spc="-1" strike="noStrike" baseline="-22000">
                  <a:solidFill>
                    <a:srgbClr val="333399"/>
                  </a:solidFill>
                  <a:latin typeface="Tahoma"/>
                </a:rPr>
                <a:t>in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03520" y="2460600"/>
              <a:ext cx="595080" cy="144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60960" y="2460600"/>
              <a:ext cx="595080" cy="144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60960" y="2954160"/>
              <a:ext cx="595080" cy="180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03520" y="2954160"/>
              <a:ext cx="595080" cy="180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9040" y="220500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84480" y="220500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32960" y="2205000"/>
              <a:ext cx="326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k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45400" y="2205000"/>
              <a:ext cx="122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95480" y="2205000"/>
              <a:ext cx="38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k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92560" y="2205000"/>
              <a:ext cx="487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n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08720" y="2457360"/>
              <a:ext cx="654120" cy="4939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f</a:t>
              </a:r>
              <a:r>
                <a:rPr b="0" lang="sr-Latn-CS" sz="1800" spc="-1" strike="noStrike" baseline="-22000">
                  <a:solidFill>
                    <a:srgbClr val="333399"/>
                  </a:solidFill>
                  <a:latin typeface="Tahoma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24360" y="2205000"/>
              <a:ext cx="14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 flipH="1">
            <a:off x="5148360" y="2889360"/>
            <a:ext cx="1440" cy="100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52960" y="3614760"/>
            <a:ext cx="190332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238200" y="3716280"/>
            <a:ext cx="1903320" cy="180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91320" y="3716280"/>
            <a:ext cx="42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n-1-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24360" y="2852640"/>
            <a:ext cx="0" cy="14464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38560" y="4054320"/>
            <a:ext cx="24969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238560" y="4149720"/>
            <a:ext cx="24969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24040" y="414972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n-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92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5" dur="192" fill="hold"/>
                                        <p:tgtEl>
                                          <p:spTgt spid="2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7" dur="192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9" dur="192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385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9" dur="385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1" dur="38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3" dur="38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Kako izračunati modifikovanu frekvencij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802480" y="0"/>
            <a:ext cx="334152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br>
              <a:rPr sz="2000"/>
            </a:br>
            <a:r>
              <a:rPr b="0" lang="sr-Latn-CS" sz="2000" spc="-1" strike="noStrike">
                <a:solidFill>
                  <a:srgbClr val="ff0000"/>
                </a:solidFill>
                <a:latin typeface="Tahoma"/>
              </a:rPr>
              <a:t>linijskog i kombinovanog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 rasporeda radnih m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692360" y="4149720"/>
                <a:ext cx="30240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516720" y="2492280"/>
                <a:ext cx="20890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900000" y="4724280"/>
                <a:ext cx="576108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16720" y="3357720"/>
                <a:ext cx="2376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835280" y="5823000"/>
                <a:ext cx="38163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92" name=""/>
          <p:cNvGrpSpPr/>
          <p:nvPr/>
        </p:nvGrpSpPr>
        <p:grpSpPr>
          <a:xfrm>
            <a:off x="250920" y="1989000"/>
            <a:ext cx="5766840" cy="2158200"/>
            <a:chOff x="250920" y="1989000"/>
            <a:chExt cx="5766840" cy="2158200"/>
          </a:xfrm>
        </p:grpSpPr>
        <p:sp>
          <p:nvSpPr>
            <p:cNvPr id="293" name=""/>
            <p:cNvSpPr/>
            <p:nvPr/>
          </p:nvSpPr>
          <p:spPr>
            <a:xfrm>
              <a:off x="2509560" y="2665440"/>
              <a:ext cx="1080" cy="425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7680" y="2665440"/>
              <a:ext cx="0" cy="1446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05000" y="2665440"/>
              <a:ext cx="1080" cy="1338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201320" y="2665440"/>
              <a:ext cx="1440" cy="1008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09560" y="2903400"/>
              <a:ext cx="595080" cy="1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7680" y="3838320"/>
              <a:ext cx="249696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01320" y="3398760"/>
              <a:ext cx="19033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517120" y="2997000"/>
              <a:ext cx="595080" cy="1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610920" y="3933720"/>
              <a:ext cx="249696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187280" y="3500280"/>
              <a:ext cx="1902960" cy="1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77120" y="3500280"/>
              <a:ext cx="255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333399"/>
                  </a:solidFill>
                  <a:latin typeface="Tahoma"/>
                </a:rPr>
                <a:t>k-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1120" y="3933720"/>
              <a:ext cx="255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333399"/>
                  </a:solidFill>
                  <a:latin typeface="Tahoma"/>
                </a:rPr>
                <a:t>k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63400" y="3068640"/>
              <a:ext cx="71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333399"/>
                  </a:solidFill>
                  <a:latin typeface="Tahoma"/>
                </a:rPr>
                <a:t>k-(k-1)=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06560" y="2673360"/>
              <a:ext cx="1080" cy="425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22280" y="2913120"/>
              <a:ext cx="59508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132000" y="2997000"/>
              <a:ext cx="594720" cy="1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32000" y="3068640"/>
              <a:ext cx="71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333399"/>
                  </a:solidFill>
                  <a:latin typeface="Tahoma"/>
                </a:rPr>
                <a:t>k+1-k=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50920" y="1989000"/>
              <a:ext cx="5766840" cy="750960"/>
              <a:chOff x="250920" y="1989000"/>
              <a:chExt cx="5766840" cy="750960"/>
            </a:xfrm>
          </p:grpSpPr>
          <p:sp>
            <p:nvSpPr>
              <p:cNvPr id="311" name=""/>
              <p:cNvSpPr/>
              <p:nvPr/>
            </p:nvSpPr>
            <p:spPr>
              <a:xfrm>
                <a:off x="250920" y="2244600"/>
                <a:ext cx="653760" cy="4935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f</a:t>
                </a:r>
                <a:r>
                  <a:rPr b="0" lang="sr-Latn-CS" sz="1800" spc="-1" strike="noStrike" baseline="-22000">
                    <a:solidFill>
                      <a:srgbClr val="333399"/>
                    </a:solidFill>
                    <a:latin typeface="Tahoma"/>
                  </a:rPr>
                  <a:t>i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904680" y="2244600"/>
                <a:ext cx="653760" cy="4935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f</a:t>
                </a:r>
                <a:r>
                  <a:rPr b="0" lang="sr-Latn-CS" sz="1800" spc="-1" strike="noStrike" baseline="-22000">
                    <a:solidFill>
                      <a:srgbClr val="333399"/>
                    </a:solidFill>
                    <a:latin typeface="Tahoma"/>
                  </a:rPr>
                  <a:t>i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08000" y="2244600"/>
                <a:ext cx="653760" cy="4935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f</a:t>
                </a:r>
                <a:r>
                  <a:rPr b="0" lang="sr-Latn-CS" sz="1800" spc="-1" strike="noStrike" baseline="-22000">
                    <a:solidFill>
                      <a:srgbClr val="333399"/>
                    </a:solidFill>
                    <a:latin typeface="Tahoma"/>
                  </a:rPr>
                  <a:t>i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53880" y="2244600"/>
                <a:ext cx="653760" cy="4935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f</a:t>
                </a:r>
                <a:r>
                  <a:rPr b="0" lang="sr-Latn-CS" sz="1800" spc="-1" strike="noStrike" baseline="-22000">
                    <a:solidFill>
                      <a:srgbClr val="333399"/>
                    </a:solidFill>
                    <a:latin typeface="Tahoma"/>
                  </a:rPr>
                  <a:t>ik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462120" y="2244600"/>
                <a:ext cx="653760" cy="4935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f</a:t>
                </a:r>
                <a:r>
                  <a:rPr b="0" lang="sr-Latn-CS" sz="1800" spc="-1" strike="noStrike" baseline="-22000">
                    <a:solidFill>
                      <a:srgbClr val="333399"/>
                    </a:solidFill>
                    <a:latin typeface="Tahoma"/>
                  </a:rPr>
                  <a:t>ik+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09880" y="2244600"/>
                <a:ext cx="653760" cy="4935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f</a:t>
                </a:r>
                <a:r>
                  <a:rPr b="0" lang="sr-Latn-CS" sz="1800" spc="-1" strike="noStrike" baseline="-22000">
                    <a:solidFill>
                      <a:srgbClr val="333399"/>
                    </a:solidFill>
                    <a:latin typeface="Tahoma"/>
                  </a:rPr>
                  <a:t>in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558800" y="2244600"/>
                <a:ext cx="594720" cy="144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116240" y="2244600"/>
                <a:ext cx="594720" cy="144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16240" y="2738160"/>
                <a:ext cx="594720" cy="180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558800" y="2738160"/>
                <a:ext cx="594720" cy="180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44320" y="198900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139400" y="198900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88240" y="1989000"/>
                <a:ext cx="326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k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100680" y="1989000"/>
                <a:ext cx="122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650400" y="1989000"/>
                <a:ext cx="384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k+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47840" y="1989000"/>
                <a:ext cx="48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n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364000" y="2241360"/>
                <a:ext cx="653760" cy="49392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f</a:t>
                </a:r>
                <a:r>
                  <a:rPr b="0" lang="sr-Latn-CS" sz="1800" spc="-1" strike="noStrike" baseline="-22000">
                    <a:solidFill>
                      <a:srgbClr val="333399"/>
                    </a:solidFill>
                    <a:latin typeface="Tahoma"/>
                  </a:rPr>
                  <a:t>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579640" y="1989000"/>
                <a:ext cx="144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 flipH="1">
              <a:off x="5003280" y="2673360"/>
              <a:ext cx="1080" cy="1008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08240" y="3398760"/>
              <a:ext cx="190296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093840" y="3500280"/>
              <a:ext cx="1902960" cy="1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46600" y="3500280"/>
              <a:ext cx="42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333399"/>
                  </a:solidFill>
                  <a:latin typeface="Tahoma"/>
                </a:rPr>
                <a:t>n-1-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79640" y="2636640"/>
              <a:ext cx="0" cy="1446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93840" y="3838320"/>
              <a:ext cx="2496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093480" y="3933720"/>
              <a:ext cx="2496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78960" y="3933720"/>
              <a:ext cx="26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333399"/>
                  </a:solidFill>
                  <a:latin typeface="Tahoma"/>
                </a:rPr>
                <a:t>n-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6516720" y="1989000"/>
                <a:ext cx="57636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900000" y="609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468360" y="2017440"/>
            <a:ext cx="848664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Tahoma"/>
              </a:rPr>
              <a:t>Funkcija cilja - </a:t>
            </a:r>
            <a:r>
              <a:rPr b="0" lang="pl-PL" sz="2400" spc="-1" strike="noStrike">
                <a:solidFill>
                  <a:srgbClr val="ff0000"/>
                </a:solidFill>
                <a:latin typeface="Tahoma"/>
              </a:rPr>
              <a:t>jedinični put predmeta rada: (min) L</a:t>
            </a:r>
            <a:r>
              <a:rPr b="0" lang="pl-PL" sz="2400" spc="-1" strike="noStrike" baseline="-22000">
                <a:solidFill>
                  <a:srgbClr val="ff0000"/>
                </a:solidFill>
                <a:latin typeface="Tahoma"/>
              </a:rPr>
              <a:t>0</a:t>
            </a:r>
            <a:r>
              <a:rPr b="0" lang="pl-PL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Tahoma"/>
              </a:rPr>
              <a:t>Određuje se na sledeći nači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Tahoma"/>
              </a:rPr>
              <a:t>Za utvrđeni optimalni linijski raspored radnih mesta napraviti šematski prikaz linije sa putanjama svih vrsta proizvo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Tahoma"/>
              </a:rPr>
              <a:t>Izračunati jedinične putanje svih vrsta proizvoda tako što će dužinska jedinica biti rastojanje između dva susedna radna mesta. To znači da će veličine jediničnih putanja L</a:t>
            </a:r>
            <a:r>
              <a:rPr b="0" lang="pl-PL" sz="2000" spc="-1" strike="noStrike" baseline="-22000">
                <a:solidFill>
                  <a:srgbClr val="333399"/>
                </a:solidFill>
                <a:latin typeface="Tahoma"/>
              </a:rPr>
              <a:t>1</a:t>
            </a:r>
            <a:r>
              <a:rPr b="0" lang="pl-PL" sz="2000" spc="-1" strike="noStrike">
                <a:solidFill>
                  <a:srgbClr val="333399"/>
                </a:solidFill>
                <a:latin typeface="Tahoma"/>
              </a:rPr>
              <a:t>, L</a:t>
            </a:r>
            <a:r>
              <a:rPr b="0" lang="pl-PL" sz="2000" spc="-1" strike="noStrike" baseline="-22000">
                <a:solidFill>
                  <a:srgbClr val="333399"/>
                </a:solidFill>
                <a:latin typeface="Tahoma"/>
              </a:rPr>
              <a:t>2</a:t>
            </a:r>
            <a:r>
              <a:rPr b="0" lang="pl-PL" sz="2000" spc="-1" strike="noStrike">
                <a:solidFill>
                  <a:srgbClr val="333399"/>
                </a:solidFill>
                <a:latin typeface="Tahoma"/>
              </a:rPr>
              <a:t>,. . . ,L</a:t>
            </a:r>
            <a:r>
              <a:rPr b="0" lang="pl-PL" sz="2000" spc="-1" strike="noStrike" baseline="-22000">
                <a:solidFill>
                  <a:srgbClr val="333399"/>
                </a:solidFill>
                <a:latin typeface="Tahoma"/>
              </a:rPr>
              <a:t>m</a:t>
            </a:r>
            <a:r>
              <a:rPr b="0" lang="pl-PL" sz="2000" spc="-1" strike="noStrike">
                <a:solidFill>
                  <a:srgbClr val="333399"/>
                </a:solidFill>
                <a:latin typeface="Tahoma"/>
              </a:rPr>
              <a:t> biti izražene u pozitivnim, celim i neimenovanim brojevi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Tahoma"/>
              </a:rPr>
              <a:t>Na osnovu vrednosti jediničnih putanja svih vrsta proizvoda izračunati najmanju vrednost funkcije cilj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1150920" y="1125360"/>
            <a:ext cx="779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Kako izračunati funkciju cil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802480" y="0"/>
            <a:ext cx="334152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br>
              <a:rPr sz="2000"/>
            </a:br>
            <a:r>
              <a:rPr b="0" lang="sr-Latn-CS" sz="2000" spc="-1" strike="noStrike">
                <a:solidFill>
                  <a:srgbClr val="ff0000"/>
                </a:solidFill>
                <a:latin typeface="Tahoma"/>
              </a:rPr>
              <a:t>linijskog i kombinovanog rasporeda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 radnih m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571840" y="5445000"/>
                <a:ext cx="3479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20280"/>
            <a:ext cx="779292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RASPORED RADNIH MES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861048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U čemu je razlika između rasporeda radnih mesta i konačnog razmeštaja oprem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Raspored radnih mesta prethodi konačnom razmeštaju opr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RASPORED RADNIH MES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227320" y="2232000"/>
            <a:ext cx="129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27320" y="2049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77080" y="3860640"/>
            <a:ext cx="1440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77080" y="4365720"/>
            <a:ext cx="1440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133720"/>
            <a:ext cx="830592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0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Koje vrste rasporeda radnih mesta posto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0160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Sa stanovišta oblika prostora u kome su radna mesta raspoređena i međusobnog odnosa susednih mašina i radnih me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7400" indent="-40320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Grup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7400" indent="-403200">
              <a:lnSpc>
                <a:spcPct val="50000"/>
              </a:lnSpc>
              <a:spcBef>
                <a:spcPts val="15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Linij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7400" indent="-403200">
              <a:lnSpc>
                <a:spcPct val="50000"/>
              </a:lnSpc>
              <a:spcBef>
                <a:spcPts val="15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Kombin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7400" indent="-403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01600">
              <a:lnSpc>
                <a:spcPct val="7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Sa stanovišta promenljivosti položaja maš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7400" indent="-403200">
              <a:lnSpc>
                <a:spcPct val="70000"/>
              </a:lnSpc>
              <a:spcBef>
                <a:spcPts val="15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Statič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7400" indent="-403200">
              <a:lnSpc>
                <a:spcPct val="50000"/>
              </a:lnSpc>
              <a:spcBef>
                <a:spcPts val="15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Fleksibi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85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38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38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38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85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38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38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38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85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385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385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385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85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385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385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385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85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385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385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385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457200"/>
            <a:ext cx="66978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r>
              <a:rPr b="0" lang="sl-SI" sz="3200" spc="-1" strike="noStrike">
                <a:solidFill>
                  <a:srgbClr val="ff0000"/>
                </a:solidFill>
                <a:latin typeface="Tahoma"/>
              </a:rPr>
              <a:t>grupnog rasporeda</a:t>
            </a: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 radnih mes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351600"/>
            <a:ext cx="2438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FUNKCIJA CILJA (KRITERIJUM OPTIMAL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2767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3809520"/>
            <a:ext cx="609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297180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3114720"/>
            <a:ext cx="47242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93760" indent="-29376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Najkraći put predmeta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Minimum ukrštanja putanja predmeta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Minimum povratnih putanja predmeta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280" y="980640"/>
            <a:ext cx="77929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POSTUPA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5119560" y="0"/>
            <a:ext cx="40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grupnog rasporeda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radnih m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31417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1. Sastaviti tabelu kar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87280" y="3716280"/>
          <a:ext cx="6989760" cy="2243160"/>
        </p:xfrm>
        <a:graphic>
          <a:graphicData uri="http://schemas.openxmlformats.org/drawingml/2006/table">
            <a:tbl>
              <a:tblPr/>
              <a:tblGrid>
                <a:gridCol w="652680"/>
                <a:gridCol w="1676160"/>
                <a:gridCol w="655920"/>
                <a:gridCol w="1672920"/>
                <a:gridCol w="615960"/>
                <a:gridCol w="1716120"/>
              </a:tblGrid>
              <a:tr h="417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PR</a:t>
                      </a:r>
                      <a:r>
                        <a:rPr b="0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PR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PR</a:t>
                      </a:r>
                      <a:r>
                        <a:rPr b="0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Kar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Kar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Kar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800" spc="-1" strike="noStrike" baseline="-2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979640" y="4653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1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3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4581360"/>
            <a:ext cx="1368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1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2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4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4653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2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4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8120" y="1989000"/>
            <a:ext cx="86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Koje se metode koriste za određivanje grupnog raspore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69760" y="2565360"/>
            <a:ext cx="762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Određivanje grupnog rasporeda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METODOM KAR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920" y="3357360"/>
            <a:ext cx="4541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2. Sastaviti zbirnu tabelu kari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1125360"/>
            <a:ext cx="779328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POSTUP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19560" y="0"/>
            <a:ext cx="40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grupnog rasporeda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radnih m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3789360"/>
          <a:ext cx="4897440" cy="2884320"/>
        </p:xfrm>
        <a:graphic>
          <a:graphicData uri="http://schemas.openxmlformats.org/drawingml/2006/table">
            <a:tbl>
              <a:tblPr/>
              <a:tblGrid>
                <a:gridCol w="782640"/>
                <a:gridCol w="657360"/>
                <a:gridCol w="649080"/>
                <a:gridCol w="719280"/>
                <a:gridCol w="720720"/>
                <a:gridCol w="718920"/>
                <a:gridCol w="64944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1258920" y="6343560"/>
            <a:ext cx="504720" cy="2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89120" y="5570640"/>
            <a:ext cx="505080" cy="2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3080" y="5192640"/>
            <a:ext cx="504720" cy="2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29120" y="4832280"/>
            <a:ext cx="504720" cy="2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4437000"/>
            <a:ext cx="505080" cy="2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8000" y="5950080"/>
            <a:ext cx="505080" cy="2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4437000"/>
            <a:ext cx="360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4437000"/>
            <a:ext cx="503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5589720"/>
            <a:ext cx="503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5950080"/>
            <a:ext cx="503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5589720"/>
            <a:ext cx="4334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58920" y="5229360"/>
            <a:ext cx="43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4869000"/>
            <a:ext cx="360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8000" y="4869000"/>
            <a:ext cx="432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67280" y="4437000"/>
            <a:ext cx="503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48000" y="4437000"/>
            <a:ext cx="503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4437000"/>
            <a:ext cx="503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56000" y="4869000"/>
            <a:ext cx="4316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5229360"/>
            <a:ext cx="360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5229360"/>
            <a:ext cx="432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70200" y="5911920"/>
            <a:ext cx="57600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6343560"/>
            <a:ext cx="61128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8000" y="4797360"/>
            <a:ext cx="503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4920" y="5173560"/>
            <a:ext cx="57636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56000" y="5549760"/>
            <a:ext cx="576000" cy="3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1440" y="4400640"/>
            <a:ext cx="55728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95640" y="4815000"/>
            <a:ext cx="57636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71640" y="1844640"/>
          <a:ext cx="5472000" cy="1476360"/>
        </p:xfrm>
        <a:graphic>
          <a:graphicData uri="http://schemas.openxmlformats.org/drawingml/2006/table">
            <a:tbl>
              <a:tblPr/>
              <a:tblGrid>
                <a:gridCol w="511200"/>
                <a:gridCol w="1314360"/>
                <a:gridCol w="512640"/>
                <a:gridCol w="1308240"/>
                <a:gridCol w="482400"/>
                <a:gridCol w="1343160"/>
              </a:tblGrid>
              <a:tr h="30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PR</a:t>
                      </a:r>
                      <a:r>
                        <a:rPr b="0" lang="en-GB" sz="12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PR</a:t>
                      </a:r>
                      <a:r>
                        <a:rPr b="0" lang="sr-Latn-CS" sz="1200" spc="-1" strike="noStrike" baseline="-22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PR</a:t>
                      </a:r>
                      <a:r>
                        <a:rPr b="0" lang="en-GB" sz="12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Kari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Kari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Kari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200" spc="-1" strike="noStrike" baseline="-2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en-GB" sz="12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en-GB" sz="12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2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en-GB" sz="12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en-GB" sz="12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2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2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2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2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1692360" y="2492280"/>
            <a:ext cx="100800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1</a:t>
            </a: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3</a:t>
            </a: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19640" y="2421000"/>
            <a:ext cx="9367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1</a:t>
            </a: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2</a:t>
            </a: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4</a:t>
            </a: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2565360"/>
            <a:ext cx="93672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2</a:t>
            </a: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4</a:t>
            </a: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427640" y="5589720"/>
          <a:ext cx="4392360" cy="1008000"/>
        </p:xfrm>
        <a:graphic>
          <a:graphicData uri="http://schemas.openxmlformats.org/drawingml/2006/table">
            <a:tbl>
              <a:tblPr/>
              <a:tblGrid>
                <a:gridCol w="852480"/>
                <a:gridCol w="649080"/>
                <a:gridCol w="647640"/>
                <a:gridCol w="1584360"/>
                <a:gridCol w="6588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,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3</a:t>
                      </a: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,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Broj kar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0920" y="3644640"/>
            <a:ext cx="75610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3. Utvrditi redosled raspoređivan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404640"/>
            <a:ext cx="77932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POSTUP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19560" y="0"/>
            <a:ext cx="40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grupnog rasporeda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radnih m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32000" y="4769640"/>
            <a:ext cx="792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3200" spc="-1" strike="noStrike" baseline="-22000">
                <a:solidFill>
                  <a:srgbClr val="333399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4720" y="4525920"/>
            <a:ext cx="719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3200" spc="-1" strike="noStrike" baseline="-22000">
                <a:solidFill>
                  <a:srgbClr val="333399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00720" y="5274360"/>
            <a:ext cx="8632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3200" spc="-1" strike="noStrike" baseline="-22000">
                <a:solidFill>
                  <a:srgbClr val="333399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00720" y="4769640"/>
            <a:ext cx="1008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3200" spc="-1" strike="noStrike" baseline="-22000">
                <a:solidFill>
                  <a:srgbClr val="3333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4266360"/>
            <a:ext cx="8632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3200" spc="-1" strike="noStrike" baseline="-22000">
                <a:solidFill>
                  <a:srgbClr val="333399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27640" y="4769640"/>
            <a:ext cx="9352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3200" spc="-1" strike="noStrike" baseline="-22000">
                <a:solidFill>
                  <a:srgbClr val="333399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68360" y="5086440"/>
            <a:ext cx="36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80000" y="5086440"/>
            <a:ext cx="36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5086440"/>
            <a:ext cx="36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26920" y="2133720"/>
          <a:ext cx="4464360" cy="1081080"/>
        </p:xfrm>
        <a:graphic>
          <a:graphicData uri="http://schemas.openxmlformats.org/drawingml/2006/table">
            <a:tbl>
              <a:tblPr/>
              <a:tblGrid>
                <a:gridCol w="867240"/>
                <a:gridCol w="659880"/>
                <a:gridCol w="658080"/>
                <a:gridCol w="1608840"/>
                <a:gridCol w="670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,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3</a:t>
                      </a: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,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Broj kar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92000" y="404640"/>
            <a:ext cx="68403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br>
              <a:rPr sz="3600"/>
            </a:br>
            <a:r>
              <a:rPr b="0" lang="sr-Latn-CS" sz="3600" spc="-1" strike="noStrike">
                <a:solidFill>
                  <a:srgbClr val="ff0000"/>
                </a:solidFill>
                <a:latin typeface="Tahoma"/>
              </a:rPr>
              <a:t>linijskog i kombinovanog rasporeda</a:t>
            </a: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 radnih mes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Kod serijske i velikoserijske proizvodn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492360" y="3500280"/>
            <a:ext cx="496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Minimalni ukupni pređeni put predmeta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3351600"/>
            <a:ext cx="2438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FUNKCIJA CILJA (KRITERIJUM OPTIMAL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2767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3809520"/>
            <a:ext cx="609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182240" y="2017440"/>
            <a:ext cx="26686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Formirati skup vrsta operaci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br>
              <a:rPr sz="3600"/>
            </a:br>
            <a:r>
              <a:rPr b="0" lang="sr-Latn-CS" sz="3600" spc="-1" strike="noStrike">
                <a:solidFill>
                  <a:srgbClr val="ff0000"/>
                </a:solidFill>
                <a:latin typeface="Tahoma"/>
              </a:rPr>
              <a:t>linijskog i kombinovanog </a:t>
            </a:r>
            <a:br>
              <a:rPr sz="3600"/>
            </a:br>
            <a:r>
              <a:rPr b="0" lang="sr-Latn-CS" sz="3600" spc="-1" strike="noStrike">
                <a:solidFill>
                  <a:srgbClr val="ff0000"/>
                </a:solidFill>
                <a:latin typeface="Tahoma"/>
              </a:rPr>
              <a:t>rasporeda</a:t>
            </a: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 radnih mes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3564000" y="1989000"/>
            <a:ext cx="144360" cy="863640"/>
          </a:xfrm>
          <a:custGeom>
            <a:avLst/>
            <a:gdLst>
              <a:gd name="textAreaLeft" fmla="*/ 0 w 144360"/>
              <a:gd name="textAreaRight" fmla="*/ 52200 w 144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2205000"/>
            <a:ext cx="2668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VO</a:t>
            </a:r>
            <a:r>
              <a:rPr b="0" lang="sr-Latn-CS" sz="2400" spc="-1" strike="noStrike" baseline="-22000">
                <a:solidFill>
                  <a:srgbClr val="333399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; j=1,2,...,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7280" y="227628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3280" y="3500280"/>
            <a:ext cx="2160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3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VO</a:t>
            </a:r>
            <a:r>
              <a:rPr b="0" lang="sr-Latn-CS" sz="2400" spc="-1" strike="noStrike" baseline="-22000">
                <a:solidFill>
                  <a:srgbClr val="333399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Redosled vrsta operacija za P</a:t>
            </a:r>
            <a:r>
              <a:rPr b="0" lang="sr-Latn-CS" sz="2400" spc="-1" strike="noStrike" baseline="-22000">
                <a:solidFill>
                  <a:srgbClr val="333399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; i=1,2,...,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2060640"/>
            <a:ext cx="28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3357720"/>
            <a:ext cx="28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3284640"/>
            <a:ext cx="73080" cy="1728720"/>
          </a:xfrm>
          <a:custGeom>
            <a:avLst/>
            <a:gdLst>
              <a:gd name="textAreaLeft" fmla="*/ 0 w 73080"/>
              <a:gd name="textAreaRight" fmla="*/ 26280 w 730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40360" y="400500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3500280"/>
            <a:ext cx="26686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pšti niz vrsta radnih m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00720" y="4365720"/>
            <a:ext cx="446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ON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: RM</a:t>
            </a:r>
            <a:r>
              <a:rPr b="0" lang="sr-Latn-CS" sz="2400" spc="-1" strike="noStrike" baseline="-22000">
                <a:solidFill>
                  <a:srgbClr val="333399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; RM</a:t>
            </a:r>
            <a:r>
              <a:rPr b="0" lang="sr-Latn-CS" sz="2400" spc="-1" strike="noStrike" baseline="-22000">
                <a:solidFill>
                  <a:srgbClr val="333399"/>
                </a:solidFill>
                <a:latin typeface="Tahoma"/>
              </a:rPr>
              <a:t>2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;...; RM</a:t>
            </a:r>
            <a:r>
              <a:rPr b="0" lang="sr-Latn-CS" sz="2400" spc="-1" strike="noStrike" baseline="-22000">
                <a:solidFill>
                  <a:srgbClr val="333399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;...; RM</a:t>
            </a:r>
            <a:r>
              <a:rPr b="0" lang="sr-Latn-CS" sz="2400" spc="-1" strike="noStrike" baseline="-22000">
                <a:solidFill>
                  <a:srgbClr val="333399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05:09Z</dcterms:created>
  <dc:creator>Barbara</dc:creator>
  <dc:description/>
  <dc:language>en-US</dc:language>
  <cp:lastModifiedBy>nn</cp:lastModifiedBy>
  <dcterms:modified xsi:type="dcterms:W3CDTF">2005-05-26T13:56:41Z</dcterms:modified>
  <cp:revision>53</cp:revision>
  <dc:subject/>
  <dc:title>Slide 1</dc:title>
</cp:coreProperties>
</file>