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67BB-7597-490E-9B0C-49C02BB46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3C48-9D96-4AD8-8161-BA75D2E2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3B96-3DC3-4C5B-819C-CB5E2B8BB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48BD-AC03-4A53-9A36-D06EC809C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4613-B553-4283-BD83-ED9AF531E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53C38-D743-497F-84D1-7889EBCE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11EA-49B1-4139-8F30-E334695E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15B6E-7740-450C-826C-862FD408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6600B-A8B9-4E34-A616-2769C552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EB31-7199-4CC4-8E8A-3383E0EF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2D56-31D6-4F6D-A5D5-898AD111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0F43-0C08-4DB3-955E-9484A083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F524D-DFE8-45EE-BEF9-4750114A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3933-1778-4882-9CAF-2A319D32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AEFB-08ED-4A3D-84A4-E62BC09F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96EAC-8A15-43BD-9C1E-4BE5C860F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718F-DA05-4BE4-89EB-1169BED7D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8CCA-F760-4E9A-8C31-DD814DDE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882B-F89C-448F-8DCB-3CFA7332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7491-8D9E-46F7-A57C-6DD423BA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5FF3-4B1E-4EB0-BC01-F9C65553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CDF0-3B92-4CFD-B7C4-F9E32AB1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5840-9BAD-4351-9E6F-3F528B2A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638C-7C75-4776-99A9-EECD94DA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8685-52F6-44A2-983B-5AB4224BCF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2C9B-8C4F-4D2B-B948-CD01CE9742C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302400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Proizvodni sistem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ANALIZA NAČINA RADA PROIZVODNIH SISTEM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5076720" y="2637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prof. dr Milić Radovi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3960720" y="260280"/>
            <a:ext cx="518328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ANANLIZA NAČINA RADA</a:t>
            </a:r>
            <a:br>
              <a:rPr sz="2800"/>
            </a:b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 PROIZVODNIH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619280" y="1125360"/>
            <a:ext cx="5113440" cy="6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METOD “TZ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611280" y="2349360"/>
                <a:ext cx="280836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324000" y="3573360"/>
                <a:ext cx="431640" cy="3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3851280" y="2492280"/>
                <a:ext cx="54144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0" name="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4500720" y="2133720"/>
                <a:ext cx="417672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≥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00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2" name=""/>
          <p:cNvSpPr/>
          <p:nvPr/>
        </p:nvSpPr>
        <p:spPr>
          <a:xfrm>
            <a:off x="971640" y="3429000"/>
            <a:ext cx="7777080" cy="520560"/>
          </a:xfrm>
          <a:prstGeom prst="rect">
            <a:avLst/>
          </a:prstGeom>
          <a:solidFill>
            <a:srgbClr val="fff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što je veličina </a:t>
            </a: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P veća</a:t>
            </a: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 potrebno </a:t>
            </a: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n</a:t>
            </a: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 je </a:t>
            </a: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m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39640" y="458136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Kako n zavisi od broja obilazak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95280" y="443700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84360" y="5734080"/>
            <a:ext cx="647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n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1476360" y="5589720"/>
            <a:ext cx="2878200" cy="825480"/>
            <a:chOff x="1476360" y="5589720"/>
            <a:chExt cx="2878200" cy="825480"/>
          </a:xfrm>
        </p:grpSpPr>
        <p:sp>
          <p:nvSpPr>
            <p:cNvPr id="587" name=""/>
            <p:cNvSpPr/>
            <p:nvPr/>
          </p:nvSpPr>
          <p:spPr>
            <a:xfrm>
              <a:off x="1619280" y="5589720"/>
              <a:ext cx="273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400" spc="-1" strike="noStrike">
                  <a:solidFill>
                    <a:srgbClr val="333399"/>
                  </a:solidFill>
                  <a:latin typeface="Tahoma"/>
                </a:rPr>
                <a:t>Broj objekata koji se posmatraj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476360" y="5661000"/>
              <a:ext cx="2735280" cy="64944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4284720" y="5734080"/>
            <a:ext cx="36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4716360" y="5734080"/>
            <a:ext cx="2232000" cy="574560"/>
            <a:chOff x="4716360" y="5734080"/>
            <a:chExt cx="2232000" cy="574560"/>
          </a:xfrm>
        </p:grpSpPr>
        <p:sp>
          <p:nvSpPr>
            <p:cNvPr id="591" name=""/>
            <p:cNvSpPr/>
            <p:nvPr/>
          </p:nvSpPr>
          <p:spPr>
            <a:xfrm>
              <a:off x="4716360" y="5734080"/>
              <a:ext cx="22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400" spc="-1" strike="noStrike">
                  <a:solidFill>
                    <a:srgbClr val="333399"/>
                  </a:solidFill>
                  <a:latin typeface="Tahoma"/>
                </a:rPr>
                <a:t>Broj obilazak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16360" y="5734080"/>
              <a:ext cx="2017800" cy="57456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0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77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8" dur="770" fill="hold"/>
                                        <p:tgtEl>
                                          <p:spTgt spid="5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0" dur="77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2" dur="77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500"/>
                            </p:stCondLst>
                            <p:childTnLst>
                              <p:par>
                                <p:cTn id="7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9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9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9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9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POSTUPAK SPROVOĐENJA METODA “TZ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83920" y="2017440"/>
            <a:ext cx="855972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Odrediti cilj snimanja, cilj primene meto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Upoznati ljude koji rade u okviru radnih mesta koja će se snimati sa ciljem i načinom snimanj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Napraviti šematski prikaz objekata koji će se snimit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efinisati putanju snimača, odrediti najbolji položaj snimača za svaki objekat koji će se snimati i sve to ucrtati u šematski prikaz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Napraviti formulare za snimanj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Obučiti radnike koji će snimat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Odrediti vreme svakog polaska snimača na snimanje pomoću tabele slučajnih brojev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9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9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9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900" fill="hold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900" fill="hold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900" fill="hold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900" fill="hold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Usvojiti tačnost pokazatelja koje metodom “TZ” treba odredit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zračunati potreban broj zabeležaka i obilazak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K</a:t>
            </a:r>
            <a:r>
              <a:rPr b="0" lang="fr-FR" sz="2800" spc="-1" strike="noStrike">
                <a:solidFill>
                  <a:srgbClr val="333399"/>
                </a:solidFill>
                <a:latin typeface="Tahoma"/>
              </a:rPr>
              <a:t>ontrolisati da li  se proces koji se snima odvija normalno.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ko to nije slučaj, prekinuti snimanj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rediti snimljeni materij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zračunati pokazatelje (parametre, vrednosti veličine itd.) i odrediti njihovu tačno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zvršiti analizu dobijenih rezulta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oneti odgovarajuće zaključk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reduzeti potrebne me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POSTUPAK SPROVOĐENJA METODA “TZ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9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9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900" fill="hold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9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1000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900" fill="hold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900" fill="hold"/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1000"/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900" fill="hold"/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5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5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900" fill="hold"/>
                                        <p:tgtEl>
                                          <p:spTgt spid="5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ANALIZA NAČINA RADA PROIZVODNIH SISTE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Proizvodni sistem – deo organizacionog sist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Kreativna komponenta organizacionih sist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99"/>
                </a:solidFill>
                <a:latin typeface="Tahoma"/>
              </a:rPr>
              <a:t>Parametri</a:t>
            </a: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 za sagledavanje postojećeg načina rada proizvodnog sistem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stepen korišćenja kapacite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stepen otvorenosti radnih mes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nivo organizovanosti procesa proizvodnj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6877080" y="4076640"/>
            <a:ext cx="790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333399"/>
                </a:solidFill>
                <a:latin typeface="Tahoma"/>
              </a:rPr>
              <a:t>η</a:t>
            </a:r>
            <a:r>
              <a:rPr b="1" lang="sl-SI" sz="2800" spc="-1" strike="noStrike" baseline="-25000">
                <a:solidFill>
                  <a:srgbClr val="333399"/>
                </a:solidFill>
                <a:latin typeface="Tahoma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77080" y="4653000"/>
            <a:ext cx="790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333399"/>
                </a:solidFill>
                <a:latin typeface="Tahoma"/>
              </a:rPr>
              <a:t>η</a:t>
            </a:r>
            <a:r>
              <a:rPr b="1" lang="sl-SI" sz="2800" spc="-1" strike="noStrike" baseline="-25000">
                <a:solidFill>
                  <a:srgbClr val="333399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53440" y="5157720"/>
            <a:ext cx="790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77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77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77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77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7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77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METOD </a:t>
            </a:r>
            <a:br>
              <a:rPr sz="4400"/>
            </a:b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TRENUTNIH ZAPAŽAN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Z”</a:t>
            </a: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 je matematičko-statistički metod koji se zasniva na primeni teorije uzoraka kao dela matematičke statisti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Osnovno svojstvo  - jednostavno izračunavanj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203840" indent="-274320">
              <a:spcBef>
                <a:spcPts val="601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Tahoma"/>
              </a:rPr>
              <a:t>η</a:t>
            </a:r>
            <a:r>
              <a:rPr b="1" lang="sl-SI" sz="2400" spc="-1" strike="noStrike" baseline="-25000">
                <a:solidFill>
                  <a:srgbClr val="333399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203840" indent="-274320">
              <a:spcBef>
                <a:spcPts val="601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Tahoma"/>
              </a:rPr>
              <a:t>η</a:t>
            </a:r>
            <a:r>
              <a:rPr b="1" lang="sl-SI" sz="2400" spc="-1" strike="noStrike" baseline="-25000">
                <a:solidFill>
                  <a:srgbClr val="333399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203840" indent="-274320">
              <a:spcBef>
                <a:spcPts val="601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99"/>
                </a:solidFill>
                <a:latin typeface="Tahoma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203840" indent="-274320">
              <a:spcBef>
                <a:spcPts val="601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99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direktna zavisnost između vremena sprovođenja metoda “TZ” i tačnosti rezultata dobijenih na osnovu nje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77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77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9" dur="77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77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77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1" dur="77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7000"/>
                            </p:stCondLst>
                            <p:childTnLst>
                              <p:par>
                                <p:cTn id="14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77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7" dur="77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9" dur="77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1" dur="77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30560" y="0"/>
            <a:ext cx="5113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ANANLIZA NAČINA RADA</a:t>
            </a:r>
            <a:br>
              <a:rPr sz="2800"/>
            </a:b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 PROIZVODNIH SISTEM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1619280" y="1125360"/>
            <a:ext cx="5113440" cy="6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METOD “TZ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619280" y="3284640"/>
            <a:ext cx="6049800" cy="441360"/>
            <a:chOff x="1619280" y="3284640"/>
            <a:chExt cx="6049800" cy="441360"/>
          </a:xfrm>
        </p:grpSpPr>
        <p:sp>
          <p:nvSpPr>
            <p:cNvPr id="112" name=""/>
            <p:cNvSpPr/>
            <p:nvPr/>
          </p:nvSpPr>
          <p:spPr>
            <a:xfrm>
              <a:off x="1619280" y="33577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800" spc="-1" strike="noStrike">
                  <a:solidFill>
                    <a:srgbClr val="333399"/>
                  </a:solidFill>
                  <a:latin typeface="Tahoma"/>
                </a:rPr>
                <a:t>9</a:t>
              </a:r>
              <a:r>
                <a:rPr b="0" lang="sl-SI" sz="1800" spc="-1" strike="noStrike" baseline="30000">
                  <a:solidFill>
                    <a:srgbClr val="333399"/>
                  </a:solidFill>
                  <a:latin typeface="Tahoma"/>
                </a:rPr>
                <a:t>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20000" y="328464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800" spc="-1" strike="noStrike">
                  <a:solidFill>
                    <a:srgbClr val="333399"/>
                  </a:solidFill>
                  <a:latin typeface="Tahoma"/>
                </a:rPr>
                <a:t>17</a:t>
              </a:r>
              <a:r>
                <a:rPr b="0" lang="sl-SI" sz="1800" spc="-1" strike="noStrike" baseline="30000">
                  <a:solidFill>
                    <a:srgbClr val="333399"/>
                  </a:solidFill>
                  <a:latin typeface="Tahoma"/>
                </a:rPr>
                <a:t>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395280" y="2492280"/>
            <a:ext cx="122400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Važno (skupo) sredstvo za rad 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835280" y="2421000"/>
          <a:ext cx="5325840" cy="792000"/>
        </p:xfrm>
        <a:graphic>
          <a:graphicData uri="http://schemas.openxmlformats.org/drawingml/2006/table">
            <a:tbl>
              <a:tblPr/>
              <a:tblGrid>
                <a:gridCol w="664920"/>
                <a:gridCol w="665280"/>
                <a:gridCol w="665280"/>
                <a:gridCol w="666720"/>
                <a:gridCol w="664920"/>
                <a:gridCol w="667080"/>
                <a:gridCol w="664920"/>
                <a:gridCol w="66672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1835280" y="3860640"/>
          <a:ext cx="5325840" cy="790560"/>
        </p:xfrm>
        <a:graphic>
          <a:graphicData uri="http://schemas.openxmlformats.org/drawingml/2006/table">
            <a:tbl>
              <a:tblPr/>
              <a:tblGrid>
                <a:gridCol w="664920"/>
                <a:gridCol w="664920"/>
                <a:gridCol w="665280"/>
                <a:gridCol w="666720"/>
                <a:gridCol w="665280"/>
                <a:gridCol w="666720"/>
                <a:gridCol w="664920"/>
                <a:gridCol w="667080"/>
              </a:tblGrid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7" name=""/>
          <p:cNvGrpSpPr/>
          <p:nvPr/>
        </p:nvGrpSpPr>
        <p:grpSpPr>
          <a:xfrm>
            <a:off x="7667640" y="2565000"/>
            <a:ext cx="430200" cy="576720"/>
            <a:chOff x="7667640" y="2565000"/>
            <a:chExt cx="430200" cy="576720"/>
          </a:xfrm>
        </p:grpSpPr>
        <p:grpSp>
          <p:nvGrpSpPr>
            <p:cNvPr id="118" name=""/>
            <p:cNvGrpSpPr/>
            <p:nvPr/>
          </p:nvGrpSpPr>
          <p:grpSpPr>
            <a:xfrm>
              <a:off x="7667640" y="2638440"/>
              <a:ext cx="430200" cy="503280"/>
              <a:chOff x="7667640" y="2638440"/>
              <a:chExt cx="430200" cy="503280"/>
            </a:xfrm>
          </p:grpSpPr>
          <p:sp>
            <p:nvSpPr>
              <p:cNvPr id="119" name=""/>
              <p:cNvSpPr/>
              <p:nvPr/>
            </p:nvSpPr>
            <p:spPr>
              <a:xfrm>
                <a:off x="7667640" y="2638440"/>
                <a:ext cx="430200" cy="432000"/>
              </a:xfrm>
              <a:prstGeom prst="ellipse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7667640" y="2710080"/>
                <a:ext cx="360360" cy="431640"/>
                <a:chOff x="7667640" y="2710080"/>
                <a:chExt cx="360360" cy="43164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7883640" y="2710080"/>
                  <a:ext cx="0" cy="43164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667640" y="2854440"/>
                  <a:ext cx="36036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" name=""/>
            <p:cNvGrpSpPr/>
            <p:nvPr/>
          </p:nvGrpSpPr>
          <p:grpSpPr>
            <a:xfrm>
              <a:off x="7811640" y="2565000"/>
              <a:ext cx="142920" cy="73080"/>
              <a:chOff x="7811640" y="2565000"/>
              <a:chExt cx="142920" cy="73080"/>
            </a:xfrm>
          </p:grpSpPr>
          <p:sp>
            <p:nvSpPr>
              <p:cNvPr id="124" name=""/>
              <p:cNvSpPr/>
              <p:nvPr/>
            </p:nvSpPr>
            <p:spPr>
              <a:xfrm flipV="1">
                <a:off x="7883640" y="2565000"/>
                <a:ext cx="0" cy="7308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7811640" y="2565360"/>
                <a:ext cx="14292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" name=""/>
          <p:cNvGrpSpPr/>
          <p:nvPr/>
        </p:nvGrpSpPr>
        <p:grpSpPr>
          <a:xfrm>
            <a:off x="1835280" y="2421000"/>
            <a:ext cx="5329080" cy="792000"/>
            <a:chOff x="1835280" y="2421000"/>
            <a:chExt cx="5329080" cy="792000"/>
          </a:xfrm>
        </p:grpSpPr>
        <p:sp>
          <p:nvSpPr>
            <p:cNvPr id="127" name=""/>
            <p:cNvSpPr/>
            <p:nvPr/>
          </p:nvSpPr>
          <p:spPr>
            <a:xfrm>
              <a:off x="1835280" y="2421000"/>
              <a:ext cx="684000" cy="792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00720" y="2421000"/>
              <a:ext cx="684000" cy="792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829480" y="2421000"/>
              <a:ext cx="684000" cy="792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851280" y="2421000"/>
              <a:ext cx="324000" cy="7920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165480" y="2421000"/>
              <a:ext cx="684360" cy="7920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40360" y="2421000"/>
              <a:ext cx="324000" cy="7920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7380360" y="414972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TZ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55640" y="4797360"/>
            <a:ext cx="2376360" cy="459720"/>
            <a:chOff x="755640" y="4797360"/>
            <a:chExt cx="2376360" cy="459720"/>
          </a:xfrm>
        </p:grpSpPr>
        <p:sp>
          <p:nvSpPr>
            <p:cNvPr id="135" name=""/>
            <p:cNvSpPr/>
            <p:nvPr/>
          </p:nvSpPr>
          <p:spPr>
            <a:xfrm>
              <a:off x="755640" y="4797360"/>
              <a:ext cx="360360" cy="4316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03280" y="479736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400" spc="-1" strike="noStrike">
                  <a:solidFill>
                    <a:srgbClr val="333399"/>
                  </a:solidFill>
                  <a:latin typeface="Tahoma"/>
                </a:rPr>
                <a:t>RAD M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755640" y="5373720"/>
            <a:ext cx="6624720" cy="459720"/>
            <a:chOff x="755640" y="5373720"/>
            <a:chExt cx="6624720" cy="459720"/>
          </a:xfrm>
        </p:grpSpPr>
        <p:sp>
          <p:nvSpPr>
            <p:cNvPr id="138" name=""/>
            <p:cNvSpPr/>
            <p:nvPr/>
          </p:nvSpPr>
          <p:spPr>
            <a:xfrm>
              <a:off x="755640" y="5375160"/>
              <a:ext cx="36036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476360" y="5373720"/>
              <a:ext cx="590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400" spc="-1" strike="noStrike">
                  <a:solidFill>
                    <a:srgbClr val="333399"/>
                  </a:solidFill>
                  <a:latin typeface="Tahoma"/>
                </a:rPr>
                <a:t>ZASTOJI, ČEKANJA, PREKIDI U RAD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843280" y="479736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(5 SA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04000" y="533556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(3 S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4605480" y="4005360"/>
            <a:ext cx="433080" cy="504720"/>
            <a:chOff x="4605480" y="4005360"/>
            <a:chExt cx="433080" cy="504720"/>
          </a:xfrm>
        </p:grpSpPr>
        <p:sp>
          <p:nvSpPr>
            <p:cNvPr id="143" name=""/>
            <p:cNvSpPr/>
            <p:nvPr/>
          </p:nvSpPr>
          <p:spPr>
            <a:xfrm>
              <a:off x="4605480" y="4005360"/>
              <a:ext cx="0" cy="504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713120" y="4005360"/>
              <a:ext cx="0" cy="504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22560" y="4005360"/>
              <a:ext cx="0" cy="504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29120" y="4005360"/>
              <a:ext cx="0" cy="504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38560" y="4005360"/>
              <a:ext cx="0" cy="5032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1943280" y="4005360"/>
            <a:ext cx="0" cy="5047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50920" y="4005360"/>
            <a:ext cx="0" cy="5047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60720" y="4005360"/>
            <a:ext cx="0" cy="5047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66920" y="4005360"/>
            <a:ext cx="0" cy="5047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76360" y="4005360"/>
            <a:ext cx="0" cy="5032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624720" y="4005360"/>
            <a:ext cx="431640" cy="504720"/>
            <a:chOff x="6624720" y="4005360"/>
            <a:chExt cx="431640" cy="504720"/>
          </a:xfrm>
        </p:grpSpPr>
        <p:sp>
          <p:nvSpPr>
            <p:cNvPr id="154" name=""/>
            <p:cNvSpPr/>
            <p:nvPr/>
          </p:nvSpPr>
          <p:spPr>
            <a:xfrm>
              <a:off x="7056360" y="4005360"/>
              <a:ext cx="0" cy="504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13440" y="4005360"/>
              <a:ext cx="0" cy="504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68720" y="4005360"/>
              <a:ext cx="0" cy="504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24720" y="4005360"/>
              <a:ext cx="0" cy="504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627280" y="4005360"/>
            <a:ext cx="432000" cy="504720"/>
            <a:chOff x="2627280" y="4005360"/>
            <a:chExt cx="432000" cy="504720"/>
          </a:xfrm>
        </p:grpSpPr>
        <p:sp>
          <p:nvSpPr>
            <p:cNvPr id="159" name=""/>
            <p:cNvSpPr/>
            <p:nvPr/>
          </p:nvSpPr>
          <p:spPr>
            <a:xfrm>
              <a:off x="3059280" y="4005360"/>
              <a:ext cx="0" cy="504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916360" y="4005360"/>
              <a:ext cx="0" cy="504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71640" y="4005360"/>
              <a:ext cx="0" cy="504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627280" y="4005360"/>
              <a:ext cx="0" cy="504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276720" y="4005360"/>
            <a:ext cx="431640" cy="504720"/>
            <a:chOff x="3276720" y="4005360"/>
            <a:chExt cx="431640" cy="504720"/>
          </a:xfrm>
        </p:grpSpPr>
        <p:sp>
          <p:nvSpPr>
            <p:cNvPr id="164" name=""/>
            <p:cNvSpPr/>
            <p:nvPr/>
          </p:nvSpPr>
          <p:spPr>
            <a:xfrm>
              <a:off x="3708360" y="4005360"/>
              <a:ext cx="0" cy="504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65440" y="4005360"/>
              <a:ext cx="0" cy="504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420720" y="4005360"/>
              <a:ext cx="0" cy="504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76720" y="4005360"/>
              <a:ext cx="0" cy="504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957480" y="4005360"/>
            <a:ext cx="432000" cy="504720"/>
            <a:chOff x="3957480" y="4005360"/>
            <a:chExt cx="432000" cy="504720"/>
          </a:xfrm>
        </p:grpSpPr>
        <p:sp>
          <p:nvSpPr>
            <p:cNvPr id="169" name=""/>
            <p:cNvSpPr/>
            <p:nvPr/>
          </p:nvSpPr>
          <p:spPr>
            <a:xfrm>
              <a:off x="4389480" y="4005360"/>
              <a:ext cx="0" cy="504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246560" y="4005360"/>
              <a:ext cx="0" cy="504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01840" y="4005360"/>
              <a:ext cx="0" cy="504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57480" y="4005360"/>
              <a:ext cx="0" cy="504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173480" y="3860640"/>
            <a:ext cx="2666880" cy="792360"/>
            <a:chOff x="4173480" y="3860640"/>
            <a:chExt cx="2666880" cy="792360"/>
          </a:xfrm>
        </p:grpSpPr>
        <p:sp>
          <p:nvSpPr>
            <p:cNvPr id="174" name=""/>
            <p:cNvSpPr/>
            <p:nvPr/>
          </p:nvSpPr>
          <p:spPr>
            <a:xfrm>
              <a:off x="4173480" y="3860640"/>
              <a:ext cx="0" cy="792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40360" y="3860640"/>
              <a:ext cx="0" cy="792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5292720" y="4005360"/>
            <a:ext cx="431640" cy="504720"/>
            <a:chOff x="5292720" y="4005360"/>
            <a:chExt cx="431640" cy="504720"/>
          </a:xfrm>
        </p:grpSpPr>
        <p:sp>
          <p:nvSpPr>
            <p:cNvPr id="177" name=""/>
            <p:cNvSpPr/>
            <p:nvPr/>
          </p:nvSpPr>
          <p:spPr>
            <a:xfrm>
              <a:off x="5724360" y="4005360"/>
              <a:ext cx="0" cy="504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81440" y="4005360"/>
              <a:ext cx="0" cy="504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36720" y="4005360"/>
              <a:ext cx="0" cy="504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92720" y="4005360"/>
              <a:ext cx="0" cy="504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5940360" y="4005360"/>
            <a:ext cx="432000" cy="504720"/>
            <a:chOff x="5940360" y="4005360"/>
            <a:chExt cx="432000" cy="504720"/>
          </a:xfrm>
        </p:grpSpPr>
        <p:sp>
          <p:nvSpPr>
            <p:cNvPr id="182" name=""/>
            <p:cNvSpPr/>
            <p:nvPr/>
          </p:nvSpPr>
          <p:spPr>
            <a:xfrm>
              <a:off x="6372360" y="4005360"/>
              <a:ext cx="0" cy="504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29440" y="4005360"/>
              <a:ext cx="0" cy="504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84720" y="4005360"/>
              <a:ext cx="0" cy="504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40360" y="4005360"/>
              <a:ext cx="0" cy="504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468360" y="595008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34 OBILASKA (ZABELEŠK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076720" y="587700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22   R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76720" y="638172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12   NER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59280" y="5877000"/>
            <a:ext cx="289080" cy="981000"/>
          </a:xfrm>
          <a:custGeom>
            <a:avLst/>
            <a:gdLst>
              <a:gd name="textAreaLeft" fmla="*/ 184680 w 289080"/>
              <a:gd name="textAreaRight" fmla="*/ 289080 w 289080"/>
              <a:gd name="textAreaTop" fmla="*/ 25560 h 981000"/>
              <a:gd name="textAreaBottom" fmla="*/ 955440 h 981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9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500"/>
                            </p:stCondLst>
                            <p:childTnLst>
                              <p:par>
                                <p:cTn id="2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500"/>
                            </p:stCondLst>
                            <p:childTnLst>
                              <p:par>
                                <p:cTn id="2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4000"/>
                            </p:stCondLst>
                            <p:childTnLst>
                              <p:par>
                                <p:cTn id="2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500"/>
                            </p:stCondLst>
                            <p:childTnLst>
                              <p:par>
                                <p:cTn id="2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5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30560" y="0"/>
            <a:ext cx="5113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ANANLIZA NAČINA RADA</a:t>
            </a:r>
            <a:br>
              <a:rPr sz="2800"/>
            </a:b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 PROIZVODNIH SISTEM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1619280" y="1125360"/>
            <a:ext cx="5113440" cy="6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METOD “TZ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95280" y="2133720"/>
            <a:ext cx="4715640" cy="2001600"/>
            <a:chOff x="395280" y="2133720"/>
            <a:chExt cx="4715640" cy="2001600"/>
          </a:xfrm>
        </p:grpSpPr>
        <p:sp>
          <p:nvSpPr>
            <p:cNvPr id="193" name=""/>
            <p:cNvSpPr/>
            <p:nvPr/>
          </p:nvSpPr>
          <p:spPr>
            <a:xfrm>
              <a:off x="3828960" y="3114000"/>
              <a:ext cx="46944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890800" y="3114000"/>
              <a:ext cx="4698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52640" y="3114000"/>
              <a:ext cx="46944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15560" y="3114000"/>
              <a:ext cx="46836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360600" y="3114000"/>
              <a:ext cx="4680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84280" y="3114000"/>
              <a:ext cx="46836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22440" y="3114000"/>
              <a:ext cx="4680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47200" y="3114000"/>
              <a:ext cx="4680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7200" y="3114000"/>
              <a:ext cx="3751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47200" y="3652200"/>
              <a:ext cx="3751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7200" y="3114000"/>
              <a:ext cx="0" cy="5382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98760" y="3114000"/>
              <a:ext cx="0" cy="5382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422440" y="3114000"/>
              <a:ext cx="0" cy="53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484280" y="3114000"/>
              <a:ext cx="0" cy="53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360600" y="3114000"/>
              <a:ext cx="0" cy="53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15560" y="3114000"/>
              <a:ext cx="0" cy="53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52640" y="3114000"/>
              <a:ext cx="0" cy="53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890800" y="3114000"/>
              <a:ext cx="0" cy="53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828960" y="3114000"/>
              <a:ext cx="0" cy="53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395280" y="2133720"/>
              <a:ext cx="4715640" cy="2001600"/>
              <a:chOff x="395280" y="2133720"/>
              <a:chExt cx="4715640" cy="2001600"/>
            </a:xfrm>
          </p:grpSpPr>
          <p:sp>
            <p:nvSpPr>
              <p:cNvPr id="213" name=""/>
              <p:cNvSpPr/>
              <p:nvPr/>
            </p:nvSpPr>
            <p:spPr>
              <a:xfrm>
                <a:off x="3828960" y="2133720"/>
                <a:ext cx="469440" cy="53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890800" y="2133720"/>
                <a:ext cx="469800" cy="53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952640" y="2133720"/>
                <a:ext cx="469440" cy="53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015560" y="2133720"/>
                <a:ext cx="468360" cy="53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360600" y="2133720"/>
                <a:ext cx="468000" cy="53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484280" y="2133720"/>
                <a:ext cx="468360" cy="53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422440" y="2133720"/>
                <a:ext cx="468000" cy="53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47200" y="2133720"/>
                <a:ext cx="468000" cy="53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47200" y="2133720"/>
                <a:ext cx="375120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47200" y="2673000"/>
                <a:ext cx="375120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47200" y="2133720"/>
                <a:ext cx="0" cy="5392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298760" y="2133720"/>
                <a:ext cx="0" cy="5392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422440" y="2133720"/>
                <a:ext cx="0" cy="539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484280" y="2133720"/>
                <a:ext cx="0" cy="539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360600" y="2133720"/>
                <a:ext cx="0" cy="539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015560" y="2133720"/>
                <a:ext cx="0" cy="539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952640" y="2133720"/>
                <a:ext cx="0" cy="539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890800" y="2133720"/>
                <a:ext cx="0" cy="539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828960" y="2133720"/>
                <a:ext cx="0" cy="539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395280" y="2133720"/>
                <a:ext cx="4715640" cy="2001600"/>
                <a:chOff x="395280" y="2133720"/>
                <a:chExt cx="4715640" cy="200160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395280" y="2721600"/>
                  <a:ext cx="4260600" cy="570600"/>
                  <a:chOff x="395280" y="2721600"/>
                  <a:chExt cx="4260600" cy="57060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>
                    <a:off x="395280" y="2772000"/>
                    <a:ext cx="35532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l-SI" sz="1400" spc="-1" strike="noStrike">
                        <a:solidFill>
                          <a:srgbClr val="333399"/>
                        </a:solidFill>
                        <a:latin typeface="Tahoma"/>
                      </a:rPr>
                      <a:t>9</a:t>
                    </a:r>
                    <a:r>
                      <a:rPr b="0" lang="sl-SI" sz="1400" spc="-1" strike="noStrike" baseline="30000">
                        <a:solidFill>
                          <a:srgbClr val="333399"/>
                        </a:solidFill>
                        <a:latin typeface="Tahoma"/>
                      </a:rPr>
                      <a:t>0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4199040" y="2721600"/>
                    <a:ext cx="45684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l-SI" sz="1400" spc="-1" strike="noStrike">
                        <a:solidFill>
                          <a:srgbClr val="333399"/>
                        </a:solidFill>
                        <a:latin typeface="Tahoma"/>
                      </a:rPr>
                      <a:t>17</a:t>
                    </a:r>
                    <a:r>
                      <a:rPr b="0" lang="sl-SI" sz="1400" spc="-1" strike="noStrike" baseline="30000">
                        <a:solidFill>
                          <a:srgbClr val="333399"/>
                        </a:solidFill>
                        <a:latin typeface="Tahoma"/>
                      </a:rPr>
                      <a:t>0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"/>
                <p:cNvGrpSpPr/>
                <p:nvPr/>
              </p:nvGrpSpPr>
              <p:grpSpPr>
                <a:xfrm>
                  <a:off x="547200" y="2133720"/>
                  <a:ext cx="4410720" cy="539280"/>
                  <a:chOff x="547200" y="2133720"/>
                  <a:chExt cx="4410720" cy="539280"/>
                </a:xfrm>
              </p:grpSpPr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655160" y="2232000"/>
                    <a:ext cx="302760" cy="392040"/>
                    <a:chOff x="4655160" y="2232000"/>
                    <a:chExt cx="302760" cy="392040"/>
                  </a:xfrm>
                </p:grpSpPr>
                <p:grpSp>
                  <p:nvGrpSpPr>
                    <p:cNvPr id="238" name=""/>
                    <p:cNvGrpSpPr/>
                    <p:nvPr/>
                  </p:nvGrpSpPr>
                  <p:grpSpPr>
                    <a:xfrm>
                      <a:off x="4655160" y="2281680"/>
                      <a:ext cx="302760" cy="342360"/>
                      <a:chOff x="4655160" y="2281680"/>
                      <a:chExt cx="302760" cy="342360"/>
                    </a:xfrm>
                  </p:grpSpPr>
                  <p:sp>
                    <p:nvSpPr>
                      <p:cNvPr id="239" name=""/>
                      <p:cNvSpPr/>
                      <p:nvPr/>
                    </p:nvSpPr>
                    <p:spPr>
                      <a:xfrm>
                        <a:off x="4655160" y="2281680"/>
                        <a:ext cx="302760" cy="29412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40" name=""/>
                      <p:cNvGrpSpPr/>
                      <p:nvPr/>
                    </p:nvGrpSpPr>
                    <p:grpSpPr>
                      <a:xfrm>
                        <a:off x="4655160" y="2330280"/>
                        <a:ext cx="253440" cy="293760"/>
                        <a:chOff x="4655160" y="2330280"/>
                        <a:chExt cx="253440" cy="293760"/>
                      </a:xfrm>
                    </p:grpSpPr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>
                          <a:off x="4807080" y="2330280"/>
                          <a:ext cx="0" cy="29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99"/>
                          </a:solidFill>
                          <a:prstDash val="lg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>
                          <a:off x="4655160" y="2428560"/>
                          <a:ext cx="25344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99"/>
                          </a:solidFill>
                          <a:prstDash val="lg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43" name=""/>
                    <p:cNvGrpSpPr/>
                    <p:nvPr/>
                  </p:nvGrpSpPr>
                  <p:grpSpPr>
                    <a:xfrm>
                      <a:off x="4756320" y="2232000"/>
                      <a:ext cx="100440" cy="49680"/>
                      <a:chOff x="4756320" y="2232000"/>
                      <a:chExt cx="100440" cy="49680"/>
                    </a:xfrm>
                  </p:grpSpPr>
                  <p:sp>
                    <p:nvSpPr>
                      <p:cNvPr id="244" name=""/>
                      <p:cNvSpPr/>
                      <p:nvPr/>
                    </p:nvSpPr>
                    <p:spPr>
                      <a:xfrm flipV="1">
                        <a:off x="4807080" y="2232000"/>
                        <a:ext cx="0" cy="49680"/>
                      </a:xfrm>
                      <a:prstGeom prst="line">
                        <a:avLst/>
                      </a:prstGeom>
                      <a:ln w="3816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80" bIns="2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5" name=""/>
                      <p:cNvSpPr/>
                      <p:nvPr/>
                    </p:nvSpPr>
                    <p:spPr>
                      <a:xfrm flipH="1">
                        <a:off x="4756320" y="2232000"/>
                        <a:ext cx="1004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47200" y="2133720"/>
                    <a:ext cx="3753000" cy="539280"/>
                    <a:chOff x="547200" y="2133720"/>
                    <a:chExt cx="3753000" cy="53928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47200" y="2133720"/>
                      <a:ext cx="481680" cy="539280"/>
                    </a:xfrm>
                    <a:prstGeom prst="rect">
                      <a:avLst/>
                    </a:prstGeom>
                    <a:blipFill rotWithShape="0">
                      <a:blip r:embed="rId1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>
                      <a:off x="2424240" y="2133720"/>
                      <a:ext cx="481680" cy="539280"/>
                    </a:xfrm>
                    <a:prstGeom prst="rect">
                      <a:avLst/>
                    </a:prstGeom>
                    <a:blipFill rotWithShape="0">
                      <a:blip r:embed="rId2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3360240" y="2133720"/>
                      <a:ext cx="481680" cy="539280"/>
                    </a:xfrm>
                    <a:prstGeom prst="rect">
                      <a:avLst/>
                    </a:prstGeom>
                    <a:blipFill rotWithShape="0">
                      <a:blip r:embed="rId3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1967040" y="2133720"/>
                      <a:ext cx="227880" cy="539280"/>
                    </a:xfrm>
                    <a:prstGeom prst="rect">
                      <a:avLst/>
                    </a:prstGeom>
                    <a:blipFill rotWithShape="0">
                      <a:blip r:embed="rId4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1483920" y="2133720"/>
                      <a:ext cx="481680" cy="539280"/>
                    </a:xfrm>
                    <a:prstGeom prst="rect">
                      <a:avLst/>
                    </a:pr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4072320" y="2133720"/>
                      <a:ext cx="227880" cy="539280"/>
                    </a:xfrm>
                    <a:prstGeom prst="rect">
                      <a:avLst/>
                    </a:pr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3" name=""/>
                <p:cNvGrpSpPr/>
                <p:nvPr/>
              </p:nvGrpSpPr>
              <p:grpSpPr>
                <a:xfrm>
                  <a:off x="623160" y="3114000"/>
                  <a:ext cx="4487760" cy="1021320"/>
                  <a:chOff x="623160" y="3114000"/>
                  <a:chExt cx="4487760" cy="102132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>
                    <a:off x="4453560" y="3309840"/>
                    <a:ext cx="657360" cy="825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l-SI" sz="2400" spc="-1" strike="noStrike">
                        <a:solidFill>
                          <a:srgbClr val="333399"/>
                        </a:solidFill>
                        <a:latin typeface="Tahoma"/>
                      </a:rPr>
                      <a:t>“</a:t>
                    </a:r>
                    <a:r>
                      <a:rPr b="0" lang="sl-SI" sz="2400" spc="-1" strike="noStrike">
                        <a:solidFill>
                          <a:srgbClr val="333399"/>
                        </a:solidFill>
                        <a:latin typeface="Tahoma"/>
                      </a:rPr>
                      <a:t>TZ”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5" name=""/>
                  <p:cNvGrpSpPr/>
                  <p:nvPr/>
                </p:nvGrpSpPr>
                <p:grpSpPr>
                  <a:xfrm>
                    <a:off x="2498040" y="3212280"/>
                    <a:ext cx="304920" cy="343440"/>
                    <a:chOff x="2498040" y="3212280"/>
                    <a:chExt cx="304920" cy="343440"/>
                  </a:xfrm>
                </p:grpSpPr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2498040" y="3212280"/>
                      <a:ext cx="0" cy="34344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"/>
                    <p:cNvSpPr/>
                    <p:nvPr/>
                  </p:nvSpPr>
                  <p:spPr>
                    <a:xfrm>
                      <a:off x="2574000" y="3212280"/>
                      <a:ext cx="0" cy="34344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"/>
                    <p:cNvSpPr/>
                    <p:nvPr/>
                  </p:nvSpPr>
                  <p:spPr>
                    <a:xfrm>
                      <a:off x="2651040" y="3212280"/>
                      <a:ext cx="0" cy="34344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2725920" y="3212280"/>
                      <a:ext cx="0" cy="34344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2802960" y="3212280"/>
                      <a:ext cx="0" cy="34236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1" name=""/>
                  <p:cNvSpPr/>
                  <p:nvPr/>
                </p:nvSpPr>
                <p:spPr>
                  <a:xfrm>
                    <a:off x="623160" y="3212280"/>
                    <a:ext cx="0" cy="34344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698760" y="3212280"/>
                    <a:ext cx="0" cy="34344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776160" y="3212280"/>
                    <a:ext cx="0" cy="34236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851040" y="3212280"/>
                    <a:ext cx="0" cy="34344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928080" y="3212280"/>
                    <a:ext cx="0" cy="34236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920400" y="3212280"/>
                    <a:ext cx="303840" cy="343440"/>
                    <a:chOff x="3920400" y="3212280"/>
                    <a:chExt cx="303840" cy="34344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>
                      <a:off x="4224240" y="3212280"/>
                      <a:ext cx="0" cy="34344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4123440" y="3212280"/>
                      <a:ext cx="0" cy="34344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4021920" y="3212280"/>
                      <a:ext cx="0" cy="34344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3920400" y="3212280"/>
                      <a:ext cx="0" cy="34344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1" name=""/>
                  <p:cNvGrpSpPr/>
                  <p:nvPr/>
                </p:nvGrpSpPr>
                <p:grpSpPr>
                  <a:xfrm>
                    <a:off x="1104840" y="3212280"/>
                    <a:ext cx="304200" cy="343440"/>
                    <a:chOff x="1104840" y="3212280"/>
                    <a:chExt cx="304200" cy="343440"/>
                  </a:xfrm>
                </p:grpSpPr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1409040" y="3212280"/>
                      <a:ext cx="0" cy="34344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1308240" y="3212280"/>
                      <a:ext cx="0" cy="34344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1206360" y="3212280"/>
                      <a:ext cx="0" cy="34344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1104840" y="3212280"/>
                      <a:ext cx="0" cy="34344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1562040" y="3212280"/>
                    <a:ext cx="303840" cy="343440"/>
                    <a:chOff x="1562040" y="3212280"/>
                    <a:chExt cx="303840" cy="34344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1865880" y="3212280"/>
                      <a:ext cx="0" cy="34344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1765080" y="3212280"/>
                      <a:ext cx="0" cy="34344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1663560" y="3212280"/>
                      <a:ext cx="0" cy="34344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1562040" y="3212280"/>
                      <a:ext cx="0" cy="34344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2041560" y="3212280"/>
                    <a:ext cx="304200" cy="343440"/>
                    <a:chOff x="2041560" y="3212280"/>
                    <a:chExt cx="304200" cy="3434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2345760" y="3212280"/>
                      <a:ext cx="0" cy="34344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2244960" y="3212280"/>
                      <a:ext cx="0" cy="34344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2143080" y="3212280"/>
                      <a:ext cx="0" cy="34344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2041560" y="3212280"/>
                      <a:ext cx="0" cy="34344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6" name=""/>
                  <p:cNvGrpSpPr/>
                  <p:nvPr/>
                </p:nvGrpSpPr>
                <p:grpSpPr>
                  <a:xfrm>
                    <a:off x="2193840" y="3114000"/>
                    <a:ext cx="1878120" cy="539280"/>
                    <a:chOff x="2193840" y="3114000"/>
                    <a:chExt cx="1878120" cy="539280"/>
                  </a:xfrm>
                </p:grpSpPr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2193840" y="3114000"/>
                      <a:ext cx="0" cy="539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4071960" y="3114000"/>
                      <a:ext cx="0" cy="539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"/>
                  <p:cNvGrpSpPr/>
                  <p:nvPr/>
                </p:nvGrpSpPr>
                <p:grpSpPr>
                  <a:xfrm>
                    <a:off x="2982240" y="3212280"/>
                    <a:ext cx="303840" cy="343440"/>
                    <a:chOff x="2982240" y="3212280"/>
                    <a:chExt cx="303840" cy="343440"/>
                  </a:xfrm>
                </p:grpSpPr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3286080" y="3212280"/>
                      <a:ext cx="0" cy="34344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3185280" y="3212280"/>
                      <a:ext cx="0" cy="34344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3083760" y="3212280"/>
                      <a:ext cx="0" cy="34344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2982240" y="3212280"/>
                      <a:ext cx="0" cy="34344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4" name=""/>
                  <p:cNvGrpSpPr/>
                  <p:nvPr/>
                </p:nvGrpSpPr>
                <p:grpSpPr>
                  <a:xfrm>
                    <a:off x="3438360" y="3212280"/>
                    <a:ext cx="304200" cy="343440"/>
                    <a:chOff x="3438360" y="3212280"/>
                    <a:chExt cx="304200" cy="343440"/>
                  </a:xfrm>
                </p:grpSpPr>
                <p:sp>
                  <p:nvSpPr>
                    <p:cNvPr id="295" name=""/>
                    <p:cNvSpPr/>
                    <p:nvPr/>
                  </p:nvSpPr>
                  <p:spPr>
                    <a:xfrm>
                      <a:off x="3742560" y="3212280"/>
                      <a:ext cx="0" cy="34344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3641760" y="3212280"/>
                      <a:ext cx="0" cy="34344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3539880" y="3212280"/>
                      <a:ext cx="0" cy="34344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3438360" y="3212280"/>
                      <a:ext cx="0" cy="34344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299" name=""/>
          <p:cNvGrpSpPr/>
          <p:nvPr/>
        </p:nvGrpSpPr>
        <p:grpSpPr>
          <a:xfrm>
            <a:off x="5148360" y="2060640"/>
            <a:ext cx="4559040" cy="2365200"/>
            <a:chOff x="5148360" y="2060640"/>
            <a:chExt cx="4559040" cy="2365200"/>
          </a:xfrm>
        </p:grpSpPr>
        <p:grpSp>
          <p:nvGrpSpPr>
            <p:cNvPr id="300" name=""/>
            <p:cNvGrpSpPr/>
            <p:nvPr/>
          </p:nvGrpSpPr>
          <p:grpSpPr>
            <a:xfrm>
              <a:off x="5148360" y="2060640"/>
              <a:ext cx="4559040" cy="1246320"/>
              <a:chOff x="5148360" y="2060640"/>
              <a:chExt cx="4559040" cy="1246320"/>
            </a:xfrm>
          </p:grpSpPr>
          <p:grpSp>
            <p:nvGrpSpPr>
              <p:cNvPr id="301" name=""/>
              <p:cNvGrpSpPr/>
              <p:nvPr/>
            </p:nvGrpSpPr>
            <p:grpSpPr>
              <a:xfrm>
                <a:off x="5148360" y="2060640"/>
                <a:ext cx="4559040" cy="909720"/>
                <a:chOff x="5148360" y="2060640"/>
                <a:chExt cx="4559040" cy="909720"/>
              </a:xfrm>
            </p:grpSpPr>
            <p:grpSp>
              <p:nvGrpSpPr>
                <p:cNvPr id="302" name=""/>
                <p:cNvGrpSpPr/>
                <p:nvPr/>
              </p:nvGrpSpPr>
              <p:grpSpPr>
                <a:xfrm>
                  <a:off x="5148360" y="2060640"/>
                  <a:ext cx="1635480" cy="389520"/>
                  <a:chOff x="5148360" y="2060640"/>
                  <a:chExt cx="1635480" cy="38952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>
                    <a:off x="5148360" y="2060640"/>
                    <a:ext cx="247680" cy="389520"/>
                  </a:xfrm>
                  <a:prstGeom prst="rect">
                    <a:avLst/>
                  </a:prstGeom>
                  <a:blipFill rotWithShape="0">
                    <a:blip r:embed="rId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5594040" y="2060640"/>
                    <a:ext cx="11898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l-SI" sz="1600" spc="-1" strike="noStrike">
                        <a:solidFill>
                          <a:srgbClr val="333399"/>
                        </a:solidFill>
                        <a:latin typeface="Tahoma"/>
                      </a:rPr>
                      <a:t>RAD M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5" name=""/>
                <p:cNvGrpSpPr/>
                <p:nvPr/>
              </p:nvGrpSpPr>
              <p:grpSpPr>
                <a:xfrm>
                  <a:off x="5148360" y="2579760"/>
                  <a:ext cx="4559040" cy="390600"/>
                  <a:chOff x="5148360" y="2579760"/>
                  <a:chExt cx="4559040" cy="39060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>
                    <a:off x="5148360" y="2580840"/>
                    <a:ext cx="247680" cy="3895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5643360" y="2579760"/>
                    <a:ext cx="40640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l-SI" sz="1600" spc="-1" strike="noStrike">
                        <a:solidFill>
                          <a:srgbClr val="333399"/>
                        </a:solidFill>
                        <a:latin typeface="Tahoma"/>
                      </a:rPr>
                      <a:t>ZASTOJI, ČEKANJA, PREKIDI U RADU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8" name=""/>
                <p:cNvSpPr/>
                <p:nvPr/>
              </p:nvSpPr>
              <p:spPr>
                <a:xfrm>
                  <a:off x="6585480" y="2060640"/>
                  <a:ext cx="1139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l-SI" sz="1600" spc="-1" strike="noStrike">
                      <a:solidFill>
                        <a:srgbClr val="333399"/>
                      </a:solidFill>
                      <a:latin typeface="Tahoma"/>
                    </a:rPr>
                    <a:t>(</a:t>
                  </a:r>
                  <a:r>
                    <a:rPr b="1" lang="sl-SI" sz="1600" spc="-1" strike="noStrike">
                      <a:solidFill>
                        <a:srgbClr val="333399"/>
                      </a:solidFill>
                      <a:latin typeface="Tahoma"/>
                    </a:rPr>
                    <a:t>5 SATI</a:t>
                  </a:r>
                  <a:r>
                    <a:rPr b="0" lang="sl-SI" sz="1600" spc="-1" strike="noStrike">
                      <a:solidFill>
                        <a:srgbClr val="333399"/>
                      </a:solidFill>
                      <a:latin typeface="Tahoma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9" name=""/>
              <p:cNvSpPr/>
              <p:nvPr/>
            </p:nvSpPr>
            <p:spPr>
              <a:xfrm>
                <a:off x="6372360" y="2969640"/>
                <a:ext cx="1176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l-SI" sz="1600" spc="-1" strike="noStrike">
                    <a:solidFill>
                      <a:srgbClr val="333399"/>
                    </a:solidFill>
                    <a:latin typeface="Tahoma"/>
                  </a:rPr>
                  <a:t>(</a:t>
                </a:r>
                <a:r>
                  <a:rPr b="1" lang="sl-SI" sz="1600" spc="-1" strike="noStrike">
                    <a:solidFill>
                      <a:srgbClr val="333399"/>
                    </a:solidFill>
                    <a:latin typeface="Tahoma"/>
                  </a:rPr>
                  <a:t>3 SATA</a:t>
                </a:r>
                <a:r>
                  <a:rPr b="0" lang="sl-SI" sz="1600" spc="-1" strike="noStrike">
                    <a:solidFill>
                      <a:srgbClr val="333399"/>
                    </a:solidFill>
                    <a:latin typeface="Tahoma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5256360" y="3388680"/>
              <a:ext cx="291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600" spc="-1" strike="noStrike">
                  <a:solidFill>
                    <a:srgbClr val="333399"/>
                  </a:solidFill>
                  <a:latin typeface="Tahoma"/>
                </a:rPr>
                <a:t>34</a:t>
              </a:r>
              <a:r>
                <a:rPr b="0" lang="sl-SI" sz="1600" spc="-1" strike="noStrike">
                  <a:solidFill>
                    <a:srgbClr val="333399"/>
                  </a:solidFill>
                  <a:latin typeface="Tahoma"/>
                </a:rPr>
                <a:t> OBILASKA (ZABELEŠKI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12000" y="3738600"/>
              <a:ext cx="165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600" spc="-1" strike="noStrike">
                  <a:solidFill>
                    <a:srgbClr val="333399"/>
                  </a:solidFill>
                  <a:latin typeface="Tahoma"/>
                </a:rPr>
                <a:t>22</a:t>
              </a:r>
              <a:r>
                <a:rPr b="0" lang="sl-SI" sz="1600" spc="-1" strike="noStrike">
                  <a:solidFill>
                    <a:srgbClr val="333399"/>
                  </a:solidFill>
                  <a:latin typeface="Tahoma"/>
                </a:rPr>
                <a:t>   R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12000" y="4088520"/>
              <a:ext cx="151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600" spc="-1" strike="noStrike">
                  <a:solidFill>
                    <a:srgbClr val="333399"/>
                  </a:solidFill>
                  <a:latin typeface="Tahoma"/>
                </a:rPr>
                <a:t>12</a:t>
              </a:r>
              <a:r>
                <a:rPr b="0" lang="sl-SI" sz="1600" spc="-1" strike="noStrike">
                  <a:solidFill>
                    <a:srgbClr val="333399"/>
                  </a:solidFill>
                  <a:latin typeface="Tahoma"/>
                </a:rPr>
                <a:t>   NER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1187280" y="4581360"/>
            <a:ext cx="17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26920" y="3860640"/>
            <a:ext cx="194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Tahoma"/>
              </a:rPr>
              <a:t>η</a:t>
            </a:r>
            <a:r>
              <a:rPr b="1" lang="sl-SI" sz="2400" spc="-1" strike="noStrike" baseline="-25000">
                <a:solidFill>
                  <a:srgbClr val="333399"/>
                </a:solidFill>
                <a:latin typeface="Tahoma"/>
              </a:rPr>
              <a:t>k </a:t>
            </a:r>
            <a:r>
              <a:rPr b="1" lang="sl-SI" sz="2400" spc="-1" strike="noStrike">
                <a:solidFill>
                  <a:srgbClr val="333399"/>
                </a:solidFill>
                <a:latin typeface="Tahoma"/>
              </a:rPr>
              <a:t>=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47840" y="5100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911160" y="4365720"/>
                <a:ext cx="50180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REME RAD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UKUPNO RASPO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VREME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*100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7" name=""/>
          <p:cNvSpPr/>
          <p:nvPr/>
        </p:nvSpPr>
        <p:spPr>
          <a:xfrm>
            <a:off x="324000" y="609300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826920" y="5229360"/>
                <a:ext cx="26434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⊕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,</m:t>
                    </m:r>
                    <m:r>
                      <m:t xml:space="preserve">5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826920" y="5950080"/>
                <a:ext cx="28702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TZ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,</m:t>
                    </m:r>
                    <m:r>
                      <m:t xml:space="preserve">7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0" name=""/>
          <p:cNvSpPr/>
          <p:nvPr/>
        </p:nvSpPr>
        <p:spPr>
          <a:xfrm>
            <a:off x="3780000" y="5373720"/>
            <a:ext cx="30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=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&gt;</a:t>
            </a: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 tačnost t= 100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[%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211640" y="6093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t=?    g=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9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77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7" dur="770" fill="hold"/>
                                        <p:tgtEl>
                                          <p:spTgt spid="3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9" dur="77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1" dur="77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176720" y="-360"/>
            <a:ext cx="4967280" cy="105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ANANLIZA NAČINA RADA</a:t>
            </a:r>
            <a:br>
              <a:rPr sz="2800"/>
            </a:b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 PROIZVODNIH SISTEM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"/>
          <p:cNvSpPr/>
          <p:nvPr/>
        </p:nvSpPr>
        <p:spPr>
          <a:xfrm>
            <a:off x="2050920" y="1052640"/>
            <a:ext cx="51134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nomna raspode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771640" y="3068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o definicij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643280" y="191628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t  +  g = 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4643280" y="2565360"/>
                <a:ext cx="403236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4S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S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4643280" y="371628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Standardna devijacija binomne raspode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5148360" y="4653000"/>
                <a:ext cx="25905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e>
                            </m:d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4716360" y="551664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n – ukupan broj </a:t>
            </a: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zabelež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0" y="1989000"/>
            <a:ext cx="4570200" cy="4867560"/>
            <a:chOff x="0" y="1989000"/>
            <a:chExt cx="4570200" cy="4867560"/>
          </a:xfrm>
        </p:grpSpPr>
        <p:grpSp>
          <p:nvGrpSpPr>
            <p:cNvPr id="332" name=""/>
            <p:cNvGrpSpPr/>
            <p:nvPr/>
          </p:nvGrpSpPr>
          <p:grpSpPr>
            <a:xfrm>
              <a:off x="164880" y="2024280"/>
              <a:ext cx="4405320" cy="4832280"/>
              <a:chOff x="164880" y="2024280"/>
              <a:chExt cx="4405320" cy="4832280"/>
            </a:xfrm>
          </p:grpSpPr>
          <p:grpSp>
            <p:nvGrpSpPr>
              <p:cNvPr id="333" name=""/>
              <p:cNvGrpSpPr/>
              <p:nvPr/>
            </p:nvGrpSpPr>
            <p:grpSpPr>
              <a:xfrm>
                <a:off x="164880" y="2024280"/>
                <a:ext cx="4302720" cy="4194000"/>
                <a:chOff x="164880" y="2024280"/>
                <a:chExt cx="4302720" cy="4194000"/>
              </a:xfrm>
            </p:grpSpPr>
            <p:sp>
              <p:nvSpPr>
                <p:cNvPr id="334" name=""/>
                <p:cNvSpPr/>
                <p:nvPr/>
              </p:nvSpPr>
              <p:spPr>
                <a:xfrm flipV="1">
                  <a:off x="922680" y="3173400"/>
                  <a:ext cx="116280" cy="15192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V="1">
                  <a:off x="922680" y="3171960"/>
                  <a:ext cx="253800" cy="29736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flipV="1">
                  <a:off x="922680" y="3171600"/>
                  <a:ext cx="375480" cy="44316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V="1">
                  <a:off x="922680" y="3170160"/>
                  <a:ext cx="517680" cy="58896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V="1">
                  <a:off x="922680" y="3206520"/>
                  <a:ext cx="618840" cy="69696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flipV="1">
                  <a:off x="922680" y="3250080"/>
                  <a:ext cx="701280" cy="79776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flipV="1">
                  <a:off x="922680" y="3294720"/>
                  <a:ext cx="769680" cy="89820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V="1">
                  <a:off x="917640" y="3356280"/>
                  <a:ext cx="857160" cy="98100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V="1">
                  <a:off x="922680" y="3441960"/>
                  <a:ext cx="947880" cy="103932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V="1">
                  <a:off x="922680" y="3517560"/>
                  <a:ext cx="1016280" cy="111024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V="1">
                  <a:off x="922680" y="3611880"/>
                  <a:ext cx="1085040" cy="115812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V="1">
                  <a:off x="922680" y="3733920"/>
                  <a:ext cx="1153800" cy="118224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V="1">
                  <a:off x="922680" y="3844800"/>
                  <a:ext cx="1198440" cy="121680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flipV="1">
                  <a:off x="922680" y="3981960"/>
                  <a:ext cx="1235880" cy="122256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flipV="1">
                  <a:off x="922680" y="4313160"/>
                  <a:ext cx="1266840" cy="118692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V="1">
                  <a:off x="1049760" y="4463640"/>
                  <a:ext cx="1137960" cy="103788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0" name=""/>
                <p:cNvGrpSpPr/>
                <p:nvPr/>
              </p:nvGrpSpPr>
              <p:grpSpPr>
                <a:xfrm>
                  <a:off x="164880" y="2024280"/>
                  <a:ext cx="4302720" cy="4194000"/>
                  <a:chOff x="164880" y="2024280"/>
                  <a:chExt cx="4302720" cy="419400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797400" y="6072840"/>
                    <a:ext cx="3544920" cy="108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4330440" y="6020640"/>
                    <a:ext cx="13716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138">
                        <a:moveTo>
                          <a:pt x="0" y="0"/>
                        </a:moveTo>
                        <a:lnTo>
                          <a:pt x="160" y="70"/>
                        </a:lnTo>
                        <a:lnTo>
                          <a:pt x="0" y="13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33399"/>
                  </a:solidFill>
                  <a:ln w="9360">
                    <a:solidFill>
                      <a:srgbClr val="33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 flipV="1">
                    <a:off x="922680" y="2166480"/>
                    <a:ext cx="1800" cy="405180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878400" y="2024280"/>
                    <a:ext cx="9036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209">
                        <a:moveTo>
                          <a:pt x="0" y="209"/>
                        </a:moveTo>
                        <a:lnTo>
                          <a:pt x="52" y="0"/>
                        </a:lnTo>
                        <a:lnTo>
                          <a:pt x="106" y="209"/>
                        </a:lnTo>
                        <a:lnTo>
                          <a:pt x="0" y="209"/>
                        </a:lnTo>
                        <a:close/>
                      </a:path>
                    </a:pathLst>
                  </a:custGeom>
                  <a:solidFill>
                    <a:srgbClr val="333399"/>
                  </a:solidFill>
                  <a:ln w="9360">
                    <a:solidFill>
                      <a:srgbClr val="33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543960" y="4337640"/>
                    <a:ext cx="2404800" cy="108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917640" y="5634360"/>
                    <a:ext cx="327240" cy="444600"/>
                  </a:xfrm>
                  <a:custGeom>
                    <a:avLst/>
                    <a:gdLst/>
                    <a:ahLst/>
                    <a:rect l="l" t="t" r="r" b="b"/>
                    <a:pathLst>
                      <a:path w="380" h="593">
                        <a:moveTo>
                          <a:pt x="379" y="15"/>
                        </a:moveTo>
                        <a:lnTo>
                          <a:pt x="321" y="63"/>
                        </a:lnTo>
                        <a:lnTo>
                          <a:pt x="309" y="72"/>
                        </a:lnTo>
                        <a:lnTo>
                          <a:pt x="306" y="74"/>
                        </a:lnTo>
                        <a:lnTo>
                          <a:pt x="305" y="74"/>
                        </a:lnTo>
                        <a:lnTo>
                          <a:pt x="302" y="72"/>
                        </a:lnTo>
                        <a:lnTo>
                          <a:pt x="301" y="70"/>
                        </a:lnTo>
                        <a:lnTo>
                          <a:pt x="301" y="68"/>
                        </a:lnTo>
                        <a:lnTo>
                          <a:pt x="301" y="65"/>
                        </a:lnTo>
                        <a:lnTo>
                          <a:pt x="301" y="63"/>
                        </a:lnTo>
                        <a:lnTo>
                          <a:pt x="302" y="61"/>
                        </a:lnTo>
                        <a:lnTo>
                          <a:pt x="315" y="49"/>
                        </a:lnTo>
                        <a:lnTo>
                          <a:pt x="372" y="2"/>
                        </a:lnTo>
                        <a:lnTo>
                          <a:pt x="375" y="0"/>
                        </a:lnTo>
                        <a:lnTo>
                          <a:pt x="376" y="0"/>
                        </a:lnTo>
                        <a:lnTo>
                          <a:pt x="379" y="2"/>
                        </a:lnTo>
                        <a:lnTo>
                          <a:pt x="380" y="4"/>
                        </a:lnTo>
                        <a:lnTo>
                          <a:pt x="380" y="6"/>
                        </a:lnTo>
                        <a:lnTo>
                          <a:pt x="380" y="10"/>
                        </a:lnTo>
                        <a:lnTo>
                          <a:pt x="380" y="11"/>
                        </a:lnTo>
                        <a:lnTo>
                          <a:pt x="379" y="15"/>
                        </a:lnTo>
                        <a:lnTo>
                          <a:pt x="379" y="15"/>
                        </a:lnTo>
                        <a:close/>
                        <a:moveTo>
                          <a:pt x="261" y="118"/>
                        </a:moveTo>
                        <a:lnTo>
                          <a:pt x="222" y="155"/>
                        </a:lnTo>
                        <a:lnTo>
                          <a:pt x="196" y="184"/>
                        </a:lnTo>
                        <a:lnTo>
                          <a:pt x="194" y="184"/>
                        </a:lnTo>
                        <a:lnTo>
                          <a:pt x="191" y="184"/>
                        </a:lnTo>
                        <a:lnTo>
                          <a:pt x="190" y="184"/>
                        </a:lnTo>
                        <a:lnTo>
                          <a:pt x="187" y="182"/>
                        </a:lnTo>
                        <a:lnTo>
                          <a:pt x="187" y="180"/>
                        </a:lnTo>
                        <a:lnTo>
                          <a:pt x="186" y="176"/>
                        </a:lnTo>
                        <a:lnTo>
                          <a:pt x="187" y="174"/>
                        </a:lnTo>
                        <a:lnTo>
                          <a:pt x="189" y="171"/>
                        </a:lnTo>
                        <a:lnTo>
                          <a:pt x="215" y="142"/>
                        </a:lnTo>
                        <a:lnTo>
                          <a:pt x="254" y="104"/>
                        </a:lnTo>
                        <a:lnTo>
                          <a:pt x="255" y="102"/>
                        </a:lnTo>
                        <a:lnTo>
                          <a:pt x="258" y="102"/>
                        </a:lnTo>
                        <a:lnTo>
                          <a:pt x="260" y="104"/>
                        </a:lnTo>
                        <a:lnTo>
                          <a:pt x="263" y="106"/>
                        </a:lnTo>
                        <a:lnTo>
                          <a:pt x="263" y="108"/>
                        </a:lnTo>
                        <a:lnTo>
                          <a:pt x="263" y="112"/>
                        </a:lnTo>
                        <a:lnTo>
                          <a:pt x="263" y="114"/>
                        </a:lnTo>
                        <a:lnTo>
                          <a:pt x="261" y="118"/>
                        </a:lnTo>
                        <a:lnTo>
                          <a:pt x="261" y="118"/>
                        </a:lnTo>
                        <a:close/>
                        <a:moveTo>
                          <a:pt x="152" y="233"/>
                        </a:moveTo>
                        <a:lnTo>
                          <a:pt x="142" y="246"/>
                        </a:lnTo>
                        <a:lnTo>
                          <a:pt x="109" y="290"/>
                        </a:lnTo>
                        <a:lnTo>
                          <a:pt x="96" y="311"/>
                        </a:lnTo>
                        <a:lnTo>
                          <a:pt x="94" y="313"/>
                        </a:lnTo>
                        <a:lnTo>
                          <a:pt x="91" y="315"/>
                        </a:lnTo>
                        <a:lnTo>
                          <a:pt x="90" y="313"/>
                        </a:lnTo>
                        <a:lnTo>
                          <a:pt x="87" y="313"/>
                        </a:lnTo>
                        <a:lnTo>
                          <a:pt x="85" y="309"/>
                        </a:lnTo>
                        <a:lnTo>
                          <a:pt x="85" y="307"/>
                        </a:lnTo>
                        <a:lnTo>
                          <a:pt x="85" y="303"/>
                        </a:lnTo>
                        <a:lnTo>
                          <a:pt x="87" y="301"/>
                        </a:lnTo>
                        <a:lnTo>
                          <a:pt x="100" y="281"/>
                        </a:lnTo>
                        <a:lnTo>
                          <a:pt x="133" y="235"/>
                        </a:lnTo>
                        <a:lnTo>
                          <a:pt x="144" y="222"/>
                        </a:lnTo>
                        <a:lnTo>
                          <a:pt x="146" y="220"/>
                        </a:lnTo>
                        <a:lnTo>
                          <a:pt x="148" y="220"/>
                        </a:lnTo>
                        <a:lnTo>
                          <a:pt x="151" y="222"/>
                        </a:lnTo>
                        <a:lnTo>
                          <a:pt x="152" y="224"/>
                        </a:lnTo>
                        <a:lnTo>
                          <a:pt x="154" y="226"/>
                        </a:lnTo>
                        <a:lnTo>
                          <a:pt x="154" y="228"/>
                        </a:lnTo>
                        <a:lnTo>
                          <a:pt x="154" y="231"/>
                        </a:lnTo>
                        <a:lnTo>
                          <a:pt x="152" y="233"/>
                        </a:lnTo>
                        <a:lnTo>
                          <a:pt x="152" y="233"/>
                        </a:lnTo>
                        <a:close/>
                        <a:moveTo>
                          <a:pt x="61" y="372"/>
                        </a:moveTo>
                        <a:lnTo>
                          <a:pt x="58" y="379"/>
                        </a:lnTo>
                        <a:lnTo>
                          <a:pt x="39" y="421"/>
                        </a:lnTo>
                        <a:lnTo>
                          <a:pt x="24" y="462"/>
                        </a:lnTo>
                        <a:lnTo>
                          <a:pt x="24" y="466"/>
                        </a:lnTo>
                        <a:lnTo>
                          <a:pt x="23" y="468"/>
                        </a:lnTo>
                        <a:lnTo>
                          <a:pt x="21" y="470"/>
                        </a:lnTo>
                        <a:lnTo>
                          <a:pt x="19" y="472"/>
                        </a:lnTo>
                        <a:lnTo>
                          <a:pt x="17" y="472"/>
                        </a:lnTo>
                        <a:lnTo>
                          <a:pt x="14" y="470"/>
                        </a:lnTo>
                        <a:lnTo>
                          <a:pt x="13" y="468"/>
                        </a:lnTo>
                        <a:lnTo>
                          <a:pt x="13" y="464"/>
                        </a:lnTo>
                        <a:lnTo>
                          <a:pt x="13" y="462"/>
                        </a:lnTo>
                        <a:lnTo>
                          <a:pt x="14" y="457"/>
                        </a:lnTo>
                        <a:lnTo>
                          <a:pt x="29" y="413"/>
                        </a:lnTo>
                        <a:lnTo>
                          <a:pt x="48" y="370"/>
                        </a:lnTo>
                        <a:lnTo>
                          <a:pt x="50" y="364"/>
                        </a:lnTo>
                        <a:lnTo>
                          <a:pt x="52" y="362"/>
                        </a:lnTo>
                        <a:lnTo>
                          <a:pt x="55" y="360"/>
                        </a:lnTo>
                        <a:lnTo>
                          <a:pt x="56" y="360"/>
                        </a:lnTo>
                        <a:lnTo>
                          <a:pt x="59" y="362"/>
                        </a:lnTo>
                        <a:lnTo>
                          <a:pt x="61" y="364"/>
                        </a:lnTo>
                        <a:lnTo>
                          <a:pt x="61" y="366"/>
                        </a:lnTo>
                        <a:lnTo>
                          <a:pt x="61" y="370"/>
                        </a:lnTo>
                        <a:lnTo>
                          <a:pt x="61" y="372"/>
                        </a:lnTo>
                        <a:lnTo>
                          <a:pt x="61" y="372"/>
                        </a:lnTo>
                        <a:close/>
                        <a:moveTo>
                          <a:pt x="13" y="540"/>
                        </a:moveTo>
                        <a:lnTo>
                          <a:pt x="11" y="546"/>
                        </a:lnTo>
                        <a:lnTo>
                          <a:pt x="11" y="544"/>
                        </a:lnTo>
                        <a:lnTo>
                          <a:pt x="11" y="586"/>
                        </a:lnTo>
                        <a:lnTo>
                          <a:pt x="11" y="588"/>
                        </a:lnTo>
                        <a:lnTo>
                          <a:pt x="10" y="591"/>
                        </a:lnTo>
                        <a:lnTo>
                          <a:pt x="8" y="593"/>
                        </a:lnTo>
                        <a:lnTo>
                          <a:pt x="5" y="593"/>
                        </a:lnTo>
                        <a:lnTo>
                          <a:pt x="4" y="593"/>
                        </a:lnTo>
                        <a:lnTo>
                          <a:pt x="1" y="591"/>
                        </a:lnTo>
                        <a:lnTo>
                          <a:pt x="1" y="588"/>
                        </a:lnTo>
                        <a:lnTo>
                          <a:pt x="0" y="586"/>
                        </a:lnTo>
                        <a:lnTo>
                          <a:pt x="0" y="544"/>
                        </a:lnTo>
                        <a:lnTo>
                          <a:pt x="0" y="544"/>
                        </a:lnTo>
                        <a:lnTo>
                          <a:pt x="0" y="538"/>
                        </a:lnTo>
                        <a:lnTo>
                          <a:pt x="1" y="534"/>
                        </a:lnTo>
                        <a:lnTo>
                          <a:pt x="3" y="533"/>
                        </a:lnTo>
                        <a:lnTo>
                          <a:pt x="4" y="531"/>
                        </a:lnTo>
                        <a:lnTo>
                          <a:pt x="7" y="531"/>
                        </a:lnTo>
                        <a:lnTo>
                          <a:pt x="10" y="533"/>
                        </a:lnTo>
                        <a:lnTo>
                          <a:pt x="11" y="534"/>
                        </a:lnTo>
                        <a:lnTo>
                          <a:pt x="11" y="536"/>
                        </a:lnTo>
                        <a:lnTo>
                          <a:pt x="13" y="540"/>
                        </a:lnTo>
                        <a:lnTo>
                          <a:pt x="13" y="54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33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1239840" y="4337640"/>
                    <a:ext cx="949320" cy="130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09" h="1732">
                        <a:moveTo>
                          <a:pt x="1107" y="0"/>
                        </a:moveTo>
                        <a:lnTo>
                          <a:pt x="1109" y="96"/>
                        </a:lnTo>
                        <a:lnTo>
                          <a:pt x="1104" y="191"/>
                        </a:lnTo>
                        <a:lnTo>
                          <a:pt x="1096" y="286"/>
                        </a:lnTo>
                        <a:lnTo>
                          <a:pt x="1081" y="377"/>
                        </a:lnTo>
                        <a:lnTo>
                          <a:pt x="1064" y="468"/>
                        </a:lnTo>
                        <a:lnTo>
                          <a:pt x="1039" y="555"/>
                        </a:lnTo>
                        <a:lnTo>
                          <a:pt x="1011" y="642"/>
                        </a:lnTo>
                        <a:lnTo>
                          <a:pt x="978" y="727"/>
                        </a:lnTo>
                        <a:lnTo>
                          <a:pt x="940" y="811"/>
                        </a:lnTo>
                        <a:lnTo>
                          <a:pt x="897" y="892"/>
                        </a:lnTo>
                        <a:lnTo>
                          <a:pt x="849" y="972"/>
                        </a:lnTo>
                        <a:lnTo>
                          <a:pt x="796" y="1050"/>
                        </a:lnTo>
                        <a:lnTo>
                          <a:pt x="738" y="1125"/>
                        </a:lnTo>
                        <a:lnTo>
                          <a:pt x="676" y="1199"/>
                        </a:lnTo>
                        <a:lnTo>
                          <a:pt x="609" y="1273"/>
                        </a:lnTo>
                        <a:lnTo>
                          <a:pt x="536" y="1343"/>
                        </a:lnTo>
                        <a:lnTo>
                          <a:pt x="459" y="1413"/>
                        </a:lnTo>
                        <a:lnTo>
                          <a:pt x="378" y="1480"/>
                        </a:lnTo>
                        <a:lnTo>
                          <a:pt x="290" y="1546"/>
                        </a:lnTo>
                        <a:lnTo>
                          <a:pt x="199" y="1609"/>
                        </a:lnTo>
                        <a:lnTo>
                          <a:pt x="101" y="1671"/>
                        </a:lnTo>
                        <a:lnTo>
                          <a:pt x="0" y="1732"/>
                        </a:lnTo>
                      </a:path>
                    </a:pathLst>
                  </a:custGeom>
                  <a:noFill/>
                  <a:ln w="9360">
                    <a:solidFill>
                      <a:srgbClr val="33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1491840" y="3180960"/>
                    <a:ext cx="697680" cy="1156680"/>
                  </a:xfrm>
                  <a:custGeom>
                    <a:avLst/>
                    <a:gdLst/>
                    <a:ahLst/>
                    <a:rect l="l" t="t" r="r" b="b"/>
                    <a:pathLst>
                      <a:path w="814" h="1541">
                        <a:moveTo>
                          <a:pt x="812" y="1541"/>
                        </a:moveTo>
                        <a:lnTo>
                          <a:pt x="814" y="1433"/>
                        </a:lnTo>
                        <a:lnTo>
                          <a:pt x="809" y="1330"/>
                        </a:lnTo>
                        <a:lnTo>
                          <a:pt x="802" y="1230"/>
                        </a:lnTo>
                        <a:lnTo>
                          <a:pt x="789" y="1131"/>
                        </a:lnTo>
                        <a:lnTo>
                          <a:pt x="772" y="1039"/>
                        </a:lnTo>
                        <a:lnTo>
                          <a:pt x="751" y="948"/>
                        </a:lnTo>
                        <a:lnTo>
                          <a:pt x="725" y="859"/>
                        </a:lnTo>
                        <a:lnTo>
                          <a:pt x="696" y="773"/>
                        </a:lnTo>
                        <a:lnTo>
                          <a:pt x="661" y="692"/>
                        </a:lnTo>
                        <a:lnTo>
                          <a:pt x="623" y="614"/>
                        </a:lnTo>
                        <a:lnTo>
                          <a:pt x="581" y="538"/>
                        </a:lnTo>
                        <a:lnTo>
                          <a:pt x="533" y="466"/>
                        </a:lnTo>
                        <a:lnTo>
                          <a:pt x="482" y="396"/>
                        </a:lnTo>
                        <a:lnTo>
                          <a:pt x="426" y="330"/>
                        </a:lnTo>
                        <a:lnTo>
                          <a:pt x="366" y="267"/>
                        </a:lnTo>
                        <a:lnTo>
                          <a:pt x="302" y="209"/>
                        </a:lnTo>
                        <a:lnTo>
                          <a:pt x="232" y="152"/>
                        </a:lnTo>
                        <a:lnTo>
                          <a:pt x="160" y="97"/>
                        </a:lnTo>
                        <a:lnTo>
                          <a:pt x="83" y="4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9360">
                    <a:solidFill>
                      <a:srgbClr val="33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917640" y="2596320"/>
                    <a:ext cx="664920" cy="632160"/>
                  </a:xfrm>
                  <a:custGeom>
                    <a:avLst/>
                    <a:gdLst/>
                    <a:ahLst/>
                    <a:rect l="l" t="t" r="r" b="b"/>
                    <a:pathLst>
                      <a:path w="774" h="844">
                        <a:moveTo>
                          <a:pt x="766" y="844"/>
                        </a:moveTo>
                        <a:lnTo>
                          <a:pt x="690" y="800"/>
                        </a:lnTo>
                        <a:lnTo>
                          <a:pt x="689" y="798"/>
                        </a:lnTo>
                        <a:lnTo>
                          <a:pt x="687" y="796"/>
                        </a:lnTo>
                        <a:lnTo>
                          <a:pt x="687" y="792"/>
                        </a:lnTo>
                        <a:lnTo>
                          <a:pt x="687" y="790"/>
                        </a:lnTo>
                        <a:lnTo>
                          <a:pt x="689" y="789"/>
                        </a:lnTo>
                        <a:lnTo>
                          <a:pt x="690" y="787"/>
                        </a:lnTo>
                        <a:lnTo>
                          <a:pt x="693" y="785"/>
                        </a:lnTo>
                        <a:lnTo>
                          <a:pt x="696" y="787"/>
                        </a:lnTo>
                        <a:lnTo>
                          <a:pt x="771" y="830"/>
                        </a:lnTo>
                        <a:lnTo>
                          <a:pt x="773" y="830"/>
                        </a:lnTo>
                        <a:lnTo>
                          <a:pt x="774" y="834"/>
                        </a:lnTo>
                        <a:lnTo>
                          <a:pt x="774" y="836"/>
                        </a:lnTo>
                        <a:lnTo>
                          <a:pt x="774" y="840"/>
                        </a:lnTo>
                        <a:lnTo>
                          <a:pt x="773" y="842"/>
                        </a:lnTo>
                        <a:lnTo>
                          <a:pt x="771" y="844"/>
                        </a:lnTo>
                        <a:lnTo>
                          <a:pt x="769" y="844"/>
                        </a:lnTo>
                        <a:lnTo>
                          <a:pt x="766" y="844"/>
                        </a:lnTo>
                        <a:lnTo>
                          <a:pt x="766" y="844"/>
                        </a:lnTo>
                        <a:close/>
                        <a:moveTo>
                          <a:pt x="636" y="768"/>
                        </a:moveTo>
                        <a:lnTo>
                          <a:pt x="603" y="747"/>
                        </a:lnTo>
                        <a:lnTo>
                          <a:pt x="562" y="720"/>
                        </a:lnTo>
                        <a:lnTo>
                          <a:pt x="561" y="718"/>
                        </a:lnTo>
                        <a:lnTo>
                          <a:pt x="559" y="717"/>
                        </a:lnTo>
                        <a:lnTo>
                          <a:pt x="559" y="713"/>
                        </a:lnTo>
                        <a:lnTo>
                          <a:pt x="559" y="711"/>
                        </a:lnTo>
                        <a:lnTo>
                          <a:pt x="561" y="707"/>
                        </a:lnTo>
                        <a:lnTo>
                          <a:pt x="564" y="707"/>
                        </a:lnTo>
                        <a:lnTo>
                          <a:pt x="565" y="705"/>
                        </a:lnTo>
                        <a:lnTo>
                          <a:pt x="568" y="707"/>
                        </a:lnTo>
                        <a:lnTo>
                          <a:pt x="609" y="734"/>
                        </a:lnTo>
                        <a:lnTo>
                          <a:pt x="642" y="754"/>
                        </a:lnTo>
                        <a:lnTo>
                          <a:pt x="644" y="756"/>
                        </a:lnTo>
                        <a:lnTo>
                          <a:pt x="645" y="758"/>
                        </a:lnTo>
                        <a:lnTo>
                          <a:pt x="645" y="762"/>
                        </a:lnTo>
                        <a:lnTo>
                          <a:pt x="645" y="764"/>
                        </a:lnTo>
                        <a:lnTo>
                          <a:pt x="644" y="766"/>
                        </a:lnTo>
                        <a:lnTo>
                          <a:pt x="641" y="768"/>
                        </a:lnTo>
                        <a:lnTo>
                          <a:pt x="639" y="768"/>
                        </a:lnTo>
                        <a:lnTo>
                          <a:pt x="636" y="768"/>
                        </a:lnTo>
                        <a:lnTo>
                          <a:pt x="636" y="768"/>
                        </a:lnTo>
                        <a:close/>
                        <a:moveTo>
                          <a:pt x="510" y="684"/>
                        </a:moveTo>
                        <a:lnTo>
                          <a:pt x="459" y="648"/>
                        </a:lnTo>
                        <a:lnTo>
                          <a:pt x="437" y="633"/>
                        </a:lnTo>
                        <a:lnTo>
                          <a:pt x="436" y="629"/>
                        </a:lnTo>
                        <a:lnTo>
                          <a:pt x="434" y="627"/>
                        </a:lnTo>
                        <a:lnTo>
                          <a:pt x="434" y="624"/>
                        </a:lnTo>
                        <a:lnTo>
                          <a:pt x="436" y="622"/>
                        </a:lnTo>
                        <a:lnTo>
                          <a:pt x="437" y="620"/>
                        </a:lnTo>
                        <a:lnTo>
                          <a:pt x="439" y="618"/>
                        </a:lnTo>
                        <a:lnTo>
                          <a:pt x="442" y="618"/>
                        </a:lnTo>
                        <a:lnTo>
                          <a:pt x="443" y="620"/>
                        </a:lnTo>
                        <a:lnTo>
                          <a:pt x="465" y="635"/>
                        </a:lnTo>
                        <a:lnTo>
                          <a:pt x="516" y="671"/>
                        </a:lnTo>
                        <a:lnTo>
                          <a:pt x="517" y="673"/>
                        </a:lnTo>
                        <a:lnTo>
                          <a:pt x="519" y="677"/>
                        </a:lnTo>
                        <a:lnTo>
                          <a:pt x="519" y="679"/>
                        </a:lnTo>
                        <a:lnTo>
                          <a:pt x="517" y="682"/>
                        </a:lnTo>
                        <a:lnTo>
                          <a:pt x="516" y="684"/>
                        </a:lnTo>
                        <a:lnTo>
                          <a:pt x="514" y="686"/>
                        </a:lnTo>
                        <a:lnTo>
                          <a:pt x="511" y="686"/>
                        </a:lnTo>
                        <a:lnTo>
                          <a:pt x="510" y="684"/>
                        </a:lnTo>
                        <a:lnTo>
                          <a:pt x="510" y="684"/>
                        </a:lnTo>
                        <a:close/>
                        <a:moveTo>
                          <a:pt x="386" y="593"/>
                        </a:moveTo>
                        <a:lnTo>
                          <a:pt x="334" y="548"/>
                        </a:lnTo>
                        <a:lnTo>
                          <a:pt x="318" y="533"/>
                        </a:lnTo>
                        <a:lnTo>
                          <a:pt x="315" y="531"/>
                        </a:lnTo>
                        <a:lnTo>
                          <a:pt x="315" y="527"/>
                        </a:lnTo>
                        <a:lnTo>
                          <a:pt x="315" y="525"/>
                        </a:lnTo>
                        <a:lnTo>
                          <a:pt x="317" y="521"/>
                        </a:lnTo>
                        <a:lnTo>
                          <a:pt x="318" y="519"/>
                        </a:lnTo>
                        <a:lnTo>
                          <a:pt x="319" y="519"/>
                        </a:lnTo>
                        <a:lnTo>
                          <a:pt x="322" y="519"/>
                        </a:lnTo>
                        <a:lnTo>
                          <a:pt x="324" y="519"/>
                        </a:lnTo>
                        <a:lnTo>
                          <a:pt x="340" y="535"/>
                        </a:lnTo>
                        <a:lnTo>
                          <a:pt x="394" y="580"/>
                        </a:lnTo>
                        <a:lnTo>
                          <a:pt x="395" y="582"/>
                        </a:lnTo>
                        <a:lnTo>
                          <a:pt x="395" y="584"/>
                        </a:lnTo>
                        <a:lnTo>
                          <a:pt x="395" y="588"/>
                        </a:lnTo>
                        <a:lnTo>
                          <a:pt x="395" y="590"/>
                        </a:lnTo>
                        <a:lnTo>
                          <a:pt x="394" y="593"/>
                        </a:lnTo>
                        <a:lnTo>
                          <a:pt x="391" y="593"/>
                        </a:lnTo>
                        <a:lnTo>
                          <a:pt x="389" y="593"/>
                        </a:lnTo>
                        <a:lnTo>
                          <a:pt x="386" y="593"/>
                        </a:lnTo>
                        <a:lnTo>
                          <a:pt x="386" y="593"/>
                        </a:lnTo>
                        <a:close/>
                        <a:moveTo>
                          <a:pt x="270" y="487"/>
                        </a:moveTo>
                        <a:lnTo>
                          <a:pt x="228" y="446"/>
                        </a:lnTo>
                        <a:lnTo>
                          <a:pt x="205" y="419"/>
                        </a:lnTo>
                        <a:lnTo>
                          <a:pt x="203" y="415"/>
                        </a:lnTo>
                        <a:lnTo>
                          <a:pt x="203" y="413"/>
                        </a:lnTo>
                        <a:lnTo>
                          <a:pt x="203" y="410"/>
                        </a:lnTo>
                        <a:lnTo>
                          <a:pt x="205" y="408"/>
                        </a:lnTo>
                        <a:lnTo>
                          <a:pt x="206" y="406"/>
                        </a:lnTo>
                        <a:lnTo>
                          <a:pt x="209" y="406"/>
                        </a:lnTo>
                        <a:lnTo>
                          <a:pt x="210" y="406"/>
                        </a:lnTo>
                        <a:lnTo>
                          <a:pt x="213" y="408"/>
                        </a:lnTo>
                        <a:lnTo>
                          <a:pt x="237" y="434"/>
                        </a:lnTo>
                        <a:lnTo>
                          <a:pt x="277" y="476"/>
                        </a:lnTo>
                        <a:lnTo>
                          <a:pt x="279" y="478"/>
                        </a:lnTo>
                        <a:lnTo>
                          <a:pt x="279" y="480"/>
                        </a:lnTo>
                        <a:lnTo>
                          <a:pt x="279" y="483"/>
                        </a:lnTo>
                        <a:lnTo>
                          <a:pt x="277" y="485"/>
                        </a:lnTo>
                        <a:lnTo>
                          <a:pt x="276" y="487"/>
                        </a:lnTo>
                        <a:lnTo>
                          <a:pt x="274" y="489"/>
                        </a:lnTo>
                        <a:lnTo>
                          <a:pt x="271" y="489"/>
                        </a:lnTo>
                        <a:lnTo>
                          <a:pt x="270" y="487"/>
                        </a:lnTo>
                        <a:lnTo>
                          <a:pt x="270" y="487"/>
                        </a:lnTo>
                        <a:close/>
                        <a:moveTo>
                          <a:pt x="162" y="366"/>
                        </a:moveTo>
                        <a:lnTo>
                          <a:pt x="142" y="339"/>
                        </a:lnTo>
                        <a:lnTo>
                          <a:pt x="107" y="286"/>
                        </a:lnTo>
                        <a:lnTo>
                          <a:pt x="106" y="284"/>
                        </a:lnTo>
                        <a:lnTo>
                          <a:pt x="104" y="283"/>
                        </a:lnTo>
                        <a:lnTo>
                          <a:pt x="104" y="279"/>
                        </a:lnTo>
                        <a:lnTo>
                          <a:pt x="106" y="277"/>
                        </a:lnTo>
                        <a:lnTo>
                          <a:pt x="107" y="275"/>
                        </a:lnTo>
                        <a:lnTo>
                          <a:pt x="109" y="273"/>
                        </a:lnTo>
                        <a:lnTo>
                          <a:pt x="112" y="273"/>
                        </a:lnTo>
                        <a:lnTo>
                          <a:pt x="113" y="273"/>
                        </a:lnTo>
                        <a:lnTo>
                          <a:pt x="114" y="277"/>
                        </a:lnTo>
                        <a:lnTo>
                          <a:pt x="116" y="277"/>
                        </a:lnTo>
                        <a:lnTo>
                          <a:pt x="151" y="330"/>
                        </a:lnTo>
                        <a:lnTo>
                          <a:pt x="170" y="355"/>
                        </a:lnTo>
                        <a:lnTo>
                          <a:pt x="171" y="357"/>
                        </a:lnTo>
                        <a:lnTo>
                          <a:pt x="173" y="360"/>
                        </a:lnTo>
                        <a:lnTo>
                          <a:pt x="171" y="362"/>
                        </a:lnTo>
                        <a:lnTo>
                          <a:pt x="170" y="366"/>
                        </a:lnTo>
                        <a:lnTo>
                          <a:pt x="168" y="368"/>
                        </a:lnTo>
                        <a:lnTo>
                          <a:pt x="165" y="368"/>
                        </a:lnTo>
                        <a:lnTo>
                          <a:pt x="164" y="368"/>
                        </a:lnTo>
                        <a:lnTo>
                          <a:pt x="162" y="366"/>
                        </a:lnTo>
                        <a:lnTo>
                          <a:pt x="162" y="366"/>
                        </a:lnTo>
                        <a:close/>
                        <a:moveTo>
                          <a:pt x="71" y="222"/>
                        </a:moveTo>
                        <a:lnTo>
                          <a:pt x="49" y="178"/>
                        </a:lnTo>
                        <a:lnTo>
                          <a:pt x="30" y="127"/>
                        </a:lnTo>
                        <a:lnTo>
                          <a:pt x="29" y="125"/>
                        </a:lnTo>
                        <a:lnTo>
                          <a:pt x="30" y="122"/>
                        </a:lnTo>
                        <a:lnTo>
                          <a:pt x="30" y="120"/>
                        </a:lnTo>
                        <a:lnTo>
                          <a:pt x="33" y="118"/>
                        </a:lnTo>
                        <a:lnTo>
                          <a:pt x="34" y="116"/>
                        </a:lnTo>
                        <a:lnTo>
                          <a:pt x="37" y="118"/>
                        </a:lnTo>
                        <a:lnTo>
                          <a:pt x="39" y="118"/>
                        </a:lnTo>
                        <a:lnTo>
                          <a:pt x="40" y="122"/>
                        </a:lnTo>
                        <a:lnTo>
                          <a:pt x="59" y="171"/>
                        </a:lnTo>
                        <a:lnTo>
                          <a:pt x="81" y="214"/>
                        </a:lnTo>
                        <a:lnTo>
                          <a:pt x="81" y="216"/>
                        </a:lnTo>
                        <a:lnTo>
                          <a:pt x="81" y="220"/>
                        </a:lnTo>
                        <a:lnTo>
                          <a:pt x="81" y="222"/>
                        </a:lnTo>
                        <a:lnTo>
                          <a:pt x="78" y="226"/>
                        </a:lnTo>
                        <a:lnTo>
                          <a:pt x="77" y="226"/>
                        </a:lnTo>
                        <a:lnTo>
                          <a:pt x="74" y="226"/>
                        </a:lnTo>
                        <a:lnTo>
                          <a:pt x="72" y="224"/>
                        </a:lnTo>
                        <a:lnTo>
                          <a:pt x="71" y="222"/>
                        </a:lnTo>
                        <a:lnTo>
                          <a:pt x="71" y="222"/>
                        </a:lnTo>
                        <a:close/>
                        <a:moveTo>
                          <a:pt x="8" y="55"/>
                        </a:moveTo>
                        <a:lnTo>
                          <a:pt x="0" y="10"/>
                        </a:lnTo>
                        <a:lnTo>
                          <a:pt x="0" y="8"/>
                        </a:lnTo>
                        <a:lnTo>
                          <a:pt x="1" y="4"/>
                        </a:lnTo>
                        <a:lnTo>
                          <a:pt x="3" y="2"/>
                        </a:lnTo>
                        <a:lnTo>
                          <a:pt x="4" y="2"/>
                        </a:lnTo>
                        <a:lnTo>
                          <a:pt x="7" y="0"/>
                        </a:lnTo>
                        <a:lnTo>
                          <a:pt x="8" y="2"/>
                        </a:lnTo>
                        <a:lnTo>
                          <a:pt x="10" y="4"/>
                        </a:lnTo>
                        <a:lnTo>
                          <a:pt x="11" y="6"/>
                        </a:lnTo>
                        <a:lnTo>
                          <a:pt x="20" y="50"/>
                        </a:lnTo>
                        <a:lnTo>
                          <a:pt x="20" y="53"/>
                        </a:lnTo>
                        <a:lnTo>
                          <a:pt x="20" y="57"/>
                        </a:lnTo>
                        <a:lnTo>
                          <a:pt x="19" y="59"/>
                        </a:lnTo>
                        <a:lnTo>
                          <a:pt x="16" y="59"/>
                        </a:lnTo>
                        <a:lnTo>
                          <a:pt x="14" y="59"/>
                        </a:lnTo>
                        <a:lnTo>
                          <a:pt x="11" y="59"/>
                        </a:lnTo>
                        <a:lnTo>
                          <a:pt x="10" y="57"/>
                        </a:lnTo>
                        <a:lnTo>
                          <a:pt x="8" y="55"/>
                        </a:lnTo>
                        <a:lnTo>
                          <a:pt x="8" y="5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33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2822040" y="4480560"/>
                    <a:ext cx="1800" cy="144936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2777760" y="4337640"/>
                    <a:ext cx="9036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206">
                        <a:moveTo>
                          <a:pt x="0" y="206"/>
                        </a:moveTo>
                        <a:lnTo>
                          <a:pt x="53" y="0"/>
                        </a:lnTo>
                        <a:lnTo>
                          <a:pt x="107" y="206"/>
                        </a:lnTo>
                        <a:lnTo>
                          <a:pt x="0" y="206"/>
                        </a:lnTo>
                        <a:close/>
                      </a:path>
                    </a:pathLst>
                  </a:custGeom>
                  <a:solidFill>
                    <a:srgbClr val="333399"/>
                  </a:solidFill>
                  <a:ln w="9360">
                    <a:solidFill>
                      <a:srgbClr val="33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2777760" y="5916600"/>
                    <a:ext cx="9036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209">
                        <a:moveTo>
                          <a:pt x="107" y="0"/>
                        </a:moveTo>
                        <a:lnTo>
                          <a:pt x="53" y="209"/>
                        </a:lnTo>
                        <a:lnTo>
                          <a:pt x="0" y="0"/>
                        </a:lnTo>
                        <a:lnTo>
                          <a:pt x="107" y="0"/>
                        </a:lnTo>
                        <a:close/>
                      </a:path>
                    </a:pathLst>
                  </a:custGeom>
                  <a:solidFill>
                    <a:srgbClr val="333399"/>
                  </a:solidFill>
                  <a:ln w="9360">
                    <a:solidFill>
                      <a:srgbClr val="33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flipH="1">
                    <a:off x="165240" y="3170160"/>
                    <a:ext cx="1306080" cy="1044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 flipH="1" flipV="1">
                    <a:off x="164880" y="5495760"/>
                    <a:ext cx="1312920" cy="1044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 flipH="1">
                    <a:off x="670680" y="3320640"/>
                    <a:ext cx="5040" cy="87444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631440" y="3176280"/>
                    <a:ext cx="9036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209">
                        <a:moveTo>
                          <a:pt x="0" y="209"/>
                        </a:moveTo>
                        <a:lnTo>
                          <a:pt x="54" y="0"/>
                        </a:lnTo>
                        <a:lnTo>
                          <a:pt x="106" y="209"/>
                        </a:lnTo>
                        <a:lnTo>
                          <a:pt x="0" y="209"/>
                        </a:lnTo>
                        <a:close/>
                      </a:path>
                    </a:pathLst>
                  </a:custGeom>
                  <a:solidFill>
                    <a:srgbClr val="333399"/>
                  </a:solidFill>
                  <a:ln w="9360">
                    <a:solidFill>
                      <a:srgbClr val="33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626040" y="4181400"/>
                    <a:ext cx="9072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209">
                        <a:moveTo>
                          <a:pt x="106" y="0"/>
                        </a:moveTo>
                        <a:lnTo>
                          <a:pt x="52" y="209"/>
                        </a:lnTo>
                        <a:lnTo>
                          <a:pt x="0" y="0"/>
                        </a:lnTo>
                        <a:lnTo>
                          <a:pt x="106" y="0"/>
                        </a:lnTo>
                        <a:close/>
                      </a:path>
                    </a:pathLst>
                  </a:custGeom>
                  <a:solidFill>
                    <a:srgbClr val="333399"/>
                  </a:solidFill>
                  <a:ln w="9360">
                    <a:solidFill>
                      <a:srgbClr val="33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 flipH="1">
                    <a:off x="656640" y="4480560"/>
                    <a:ext cx="11880" cy="87588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622800" y="4337640"/>
                    <a:ext cx="90360" cy="1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208">
                        <a:moveTo>
                          <a:pt x="0" y="206"/>
                        </a:moveTo>
                        <a:lnTo>
                          <a:pt x="55" y="0"/>
                        </a:lnTo>
                        <a:lnTo>
                          <a:pt x="106" y="208"/>
                        </a:lnTo>
                        <a:lnTo>
                          <a:pt x="0" y="206"/>
                        </a:lnTo>
                        <a:close/>
                      </a:path>
                    </a:pathLst>
                  </a:custGeom>
                  <a:solidFill>
                    <a:srgbClr val="333399"/>
                  </a:solidFill>
                  <a:ln w="9360">
                    <a:solidFill>
                      <a:srgbClr val="33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610920" y="5341320"/>
                    <a:ext cx="90720" cy="1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210">
                        <a:moveTo>
                          <a:pt x="106" y="2"/>
                        </a:moveTo>
                        <a:lnTo>
                          <a:pt x="50" y="210"/>
                        </a:lnTo>
                        <a:lnTo>
                          <a:pt x="0" y="0"/>
                        </a:lnTo>
                        <a:lnTo>
                          <a:pt x="106" y="2"/>
                        </a:lnTo>
                        <a:close/>
                      </a:path>
                    </a:pathLst>
                  </a:custGeom>
                  <a:solidFill>
                    <a:srgbClr val="333399"/>
                  </a:solidFill>
                  <a:ln w="9360">
                    <a:solidFill>
                      <a:srgbClr val="33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283680" y="3323520"/>
                    <a:ext cx="6480" cy="202968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236880" y="3179520"/>
                    <a:ext cx="928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209">
                        <a:moveTo>
                          <a:pt x="0" y="209"/>
                        </a:moveTo>
                        <a:lnTo>
                          <a:pt x="54" y="0"/>
                        </a:lnTo>
                        <a:lnTo>
                          <a:pt x="108" y="209"/>
                        </a:lnTo>
                        <a:lnTo>
                          <a:pt x="0" y="209"/>
                        </a:lnTo>
                        <a:close/>
                      </a:path>
                    </a:pathLst>
                  </a:custGeom>
                  <a:solidFill>
                    <a:srgbClr val="333399"/>
                  </a:solidFill>
                  <a:ln w="9360">
                    <a:solidFill>
                      <a:srgbClr val="33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244080" y="5338440"/>
                    <a:ext cx="90720" cy="1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208">
                        <a:moveTo>
                          <a:pt x="106" y="0"/>
                        </a:moveTo>
                        <a:lnTo>
                          <a:pt x="54" y="208"/>
                        </a:lnTo>
                        <a:lnTo>
                          <a:pt x="0" y="2"/>
                        </a:lnTo>
                        <a:lnTo>
                          <a:pt x="106" y="0"/>
                        </a:lnTo>
                        <a:close/>
                      </a:path>
                    </a:pathLst>
                  </a:custGeom>
                  <a:solidFill>
                    <a:srgbClr val="333399"/>
                  </a:solidFill>
                  <a:ln w="9360">
                    <a:solidFill>
                      <a:srgbClr val="33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 flipV="1">
                    <a:off x="922680" y="4142520"/>
                    <a:ext cx="1261440" cy="120744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 flipV="1">
                    <a:off x="1176480" y="4628880"/>
                    <a:ext cx="988560" cy="87444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"/>
                <p:cNvSpPr/>
                <p:nvPr/>
              </p:nvSpPr>
              <p:spPr>
                <a:xfrm flipV="1">
                  <a:off x="1308600" y="4842360"/>
                  <a:ext cx="789840" cy="66096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374400" y="4585320"/>
                <a:ext cx="4195800" cy="2271240"/>
                <a:chOff x="374400" y="4585320"/>
                <a:chExt cx="4195800" cy="2271240"/>
              </a:xfrm>
            </p:grpSpPr>
            <p:grpSp>
              <p:nvGrpSpPr>
                <p:cNvPr id="378" name=""/>
                <p:cNvGrpSpPr/>
                <p:nvPr/>
              </p:nvGrpSpPr>
              <p:grpSpPr>
                <a:xfrm>
                  <a:off x="785880" y="5136840"/>
                  <a:ext cx="3784320" cy="1719720"/>
                  <a:chOff x="785880" y="5136840"/>
                  <a:chExt cx="3784320" cy="1719720"/>
                </a:xfrm>
              </p:grpSpPr>
              <p:sp>
                <p:nvSpPr>
                  <p:cNvPr id="379" name=""/>
                  <p:cNvSpPr/>
                  <p:nvPr/>
                </p:nvSpPr>
                <p:spPr>
                  <a:xfrm rot="16200000">
                    <a:off x="2523960" y="5133240"/>
                    <a:ext cx="256680" cy="263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r-Latn-CS" sz="1600" spc="-1" strike="noStrike">
                        <a:solidFill>
                          <a:srgbClr val="333399"/>
                        </a:solidFill>
                        <a:latin typeface="Times New Roman"/>
                        <a:ea typeface="SimSun"/>
                      </a:rPr>
                      <a:t>P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785880" y="6083280"/>
                    <a:ext cx="10944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r-Latn-CS" sz="1600" spc="-1" strike="noStrike">
                        <a:solidFill>
                          <a:srgbClr val="333399"/>
                        </a:solidFill>
                        <a:latin typeface="Times New Roman"/>
                        <a:ea typeface="SimSun"/>
                      </a:rPr>
                      <a:t>0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3336120" y="6099480"/>
                    <a:ext cx="1234080" cy="75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r-Latn-CS" sz="1600" spc="-1" strike="noStrike">
                        <a:solidFill>
                          <a:srgbClr val="333399"/>
                        </a:solidFill>
                        <a:latin typeface="Times New Roman"/>
                        <a:ea typeface="SimSun"/>
                      </a:rPr>
                      <a:t>Raspodela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r-Latn-CS" sz="1600" spc="-1" strike="noStrike">
                        <a:solidFill>
                          <a:srgbClr val="333399"/>
                        </a:solidFill>
                        <a:latin typeface="Times New Roman"/>
                        <a:ea typeface="SimSun"/>
                      </a:rPr>
                      <a:t>(u</a:t>
                    </a:r>
                    <a:r>
                      <a:rPr b="1" lang="sr-Latn-CS" sz="1600" spc="-1" strike="noStrike">
                        <a:solidFill>
                          <a:srgbClr val="333399"/>
                        </a:solidFill>
                        <a:latin typeface="Times New Roman"/>
                      </a:rPr>
                      <a:t>č</a:t>
                    </a:r>
                    <a:r>
                      <a:rPr b="1" lang="sr-Latn-CS" sz="1600" spc="-1" strike="noStrike">
                        <a:solidFill>
                          <a:srgbClr val="333399"/>
                        </a:solidFill>
                        <a:latin typeface="Times New Roman"/>
                        <a:ea typeface="SimSun"/>
                      </a:rPr>
                      <a:t>estanost) veli</a:t>
                    </a:r>
                    <a:r>
                      <a:rPr b="1" lang="sr-Latn-CS" sz="1600" spc="-1" strike="noStrike">
                        <a:solidFill>
                          <a:srgbClr val="333399"/>
                        </a:solidFill>
                        <a:latin typeface="Times New Roman"/>
                      </a:rPr>
                      <a:t>č</a:t>
                    </a:r>
                    <a:r>
                      <a:rPr b="1" lang="sr-Latn-CS" sz="1600" spc="-1" strike="noStrike">
                        <a:solidFill>
                          <a:srgbClr val="333399"/>
                        </a:solidFill>
                        <a:latin typeface="Times New Roman"/>
                        <a:ea typeface="SimSun"/>
                      </a:rPr>
                      <a:t>ine P[1]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"/>
                <p:cNvSpPr/>
                <p:nvPr/>
              </p:nvSpPr>
              <p:spPr>
                <a:xfrm rot="16200000">
                  <a:off x="290160" y="4669560"/>
                  <a:ext cx="432360" cy="26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 rot="-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Latn-CS" sz="1200" spc="-1" strike="noStrike">
                      <a:solidFill>
                        <a:srgbClr val="333399"/>
                      </a:solidFill>
                      <a:latin typeface="Times New Roman"/>
                      <a:ea typeface="SimSun"/>
                    </a:rPr>
                    <a:t>+</a:t>
                  </a:r>
                  <a:r>
                    <a:rPr b="1" lang="sr-Latn-CS" sz="1600" spc="-1" strike="noStrike">
                      <a:solidFill>
                        <a:srgbClr val="333399"/>
                      </a:solidFill>
                      <a:latin typeface="Times New Roman"/>
                      <a:ea typeface="SimSun"/>
                    </a:rPr>
                    <a:t>2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3" name=""/>
            <p:cNvGrpSpPr/>
            <p:nvPr/>
          </p:nvGrpSpPr>
          <p:grpSpPr>
            <a:xfrm>
              <a:off x="0" y="1989000"/>
              <a:ext cx="887760" cy="2916360"/>
              <a:chOff x="0" y="1989000"/>
              <a:chExt cx="887760" cy="291636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253800" y="1989000"/>
                <a:ext cx="633960" cy="789480"/>
                <a:chOff x="253800" y="1989000"/>
                <a:chExt cx="633960" cy="78948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253800" y="1989000"/>
                  <a:ext cx="633960" cy="23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Latn-CS" sz="1600" spc="-1" strike="noStrike">
                      <a:solidFill>
                        <a:srgbClr val="333399"/>
                      </a:solidFill>
                      <a:latin typeface="Times New Roman"/>
                      <a:ea typeface="SimSun"/>
                    </a:rPr>
                    <a:t>P [%]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507240" y="2541960"/>
                  <a:ext cx="338040" cy="23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Latn-CS" sz="1600" spc="-1" strike="noStrike">
                      <a:solidFill>
                        <a:srgbClr val="333399"/>
                      </a:solidFill>
                      <a:latin typeface="Times New Roman"/>
                      <a:ea typeface="SimSun"/>
                    </a:rPr>
                    <a:t>10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0" y="3648600"/>
                <a:ext cx="651600" cy="1256760"/>
                <a:chOff x="0" y="3648600"/>
                <a:chExt cx="651600" cy="1256760"/>
              </a:xfrm>
            </p:grpSpPr>
            <p:sp>
              <p:nvSpPr>
                <p:cNvPr id="388" name=""/>
                <p:cNvSpPr/>
                <p:nvPr/>
              </p:nvSpPr>
              <p:spPr>
                <a:xfrm rot="16200000">
                  <a:off x="477720" y="4731480"/>
                  <a:ext cx="76320" cy="27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rot="16200000">
                  <a:off x="294120" y="3735000"/>
                  <a:ext cx="442440" cy="26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 rot="-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Latn-CS" sz="1600" spc="-1" strike="noStrike">
                      <a:solidFill>
                        <a:srgbClr val="333399"/>
                      </a:solidFill>
                      <a:latin typeface="Times New Roman"/>
                      <a:ea typeface="SimSun"/>
                    </a:rPr>
                    <a:t>-2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rot="16200000">
                  <a:off x="-30240" y="4231800"/>
                  <a:ext cx="331920" cy="27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 rot="-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Latn-CS" sz="1600" spc="-1" strike="noStrike">
                      <a:solidFill>
                        <a:srgbClr val="333399"/>
                      </a:solidFill>
                      <a:latin typeface="Times New Roman"/>
                      <a:ea typeface="SimSun"/>
                    </a:rPr>
                    <a:t>4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77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0" dur="770" fill="hold"/>
                                        <p:tgtEl>
                                          <p:spTgt spid="3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4" dur="77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175280" y="0"/>
            <a:ext cx="496872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ANANLIZA NAČINA RADA</a:t>
            </a:r>
            <a:br>
              <a:rPr sz="2800"/>
            </a:b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 PROIZVODNIH SISTEM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619280" y="1125360"/>
            <a:ext cx="5113440" cy="6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METOD “TZ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324000" y="2492280"/>
                <a:ext cx="842472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S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P 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P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1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 n</m:t>
                            </m:r>
                          </m:den>
                        </m:f>
                      </m:e>
                    </m:rad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539640" y="1916280"/>
                <a:ext cx="188280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e>
                            </m:d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96" name=""/>
          <p:cNvSpPr/>
          <p:nvPr/>
        </p:nvSpPr>
        <p:spPr>
          <a:xfrm>
            <a:off x="1547640" y="4005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2050920" y="4076640"/>
            <a:ext cx="216000" cy="432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268360" y="4005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=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  <a:ea typeface="Tahoma"/>
              </a:rPr>
              <a:t>&gt;</a:t>
            </a:r>
            <a:r>
              <a:rPr b="1" lang="sl-SI" sz="2800" spc="-1" strike="noStrike">
                <a:solidFill>
                  <a:srgbClr val="333399"/>
                </a:solidFill>
                <a:latin typeface="Tahoma"/>
                <a:ea typeface="Tahoma"/>
              </a:rPr>
              <a:t> 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492360" y="4149720"/>
            <a:ext cx="144720" cy="4316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395280" y="4652640"/>
            <a:ext cx="3889440" cy="520920"/>
            <a:chOff x="395280" y="4652640"/>
            <a:chExt cx="3889440" cy="520920"/>
          </a:xfrm>
        </p:grpSpPr>
        <p:sp>
          <p:nvSpPr>
            <p:cNvPr id="401" name=""/>
            <p:cNvSpPr/>
            <p:nvPr/>
          </p:nvSpPr>
          <p:spPr>
            <a:xfrm>
              <a:off x="395280" y="465300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800" spc="-1" strike="noStrike">
                  <a:solidFill>
                    <a:srgbClr val="333399"/>
                  </a:solidFill>
                  <a:latin typeface="Tahoma"/>
                </a:rPr>
                <a:t>za n=+</a:t>
              </a:r>
              <a:r>
                <a:rPr b="1" lang="sl-SI" sz="2800" spc="-1" strike="noStrike">
                  <a:solidFill>
                    <a:srgbClr val="333399"/>
                  </a:solidFill>
                  <a:latin typeface="Tahoma"/>
                  <a:ea typeface="Tahoma"/>
                </a:rPr>
                <a:t>∞ </a:t>
              </a:r>
              <a:r>
                <a:rPr b="0" lang="sl-SI" sz="2800" spc="-1" strike="noStrike">
                  <a:solidFill>
                    <a:srgbClr val="333399"/>
                  </a:solidFill>
                  <a:latin typeface="Tahoma"/>
                  <a:ea typeface="Tahoma"/>
                </a:rPr>
                <a:t>odnosno</a:t>
              </a:r>
              <a:r>
                <a:rPr b="1" lang="sl-SI" sz="2800" spc="-1" strike="noStrike">
                  <a:solidFill>
                    <a:srgbClr val="333399"/>
                  </a:solidFill>
                  <a:latin typeface="Tahoma"/>
                  <a:ea typeface="Tahoma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3924360" y="4652640"/>
              <a:ext cx="360360" cy="504360"/>
              <a:chOff x="3924360" y="4652640"/>
              <a:chExt cx="360360" cy="504360"/>
            </a:xfrm>
          </p:grpSpPr>
          <p:grpSp>
            <p:nvGrpSpPr>
              <p:cNvPr id="403" name=""/>
              <p:cNvGrpSpPr/>
              <p:nvPr/>
            </p:nvGrpSpPr>
            <p:grpSpPr>
              <a:xfrm>
                <a:off x="3924360" y="4716720"/>
                <a:ext cx="360360" cy="440280"/>
                <a:chOff x="3924360" y="4716720"/>
                <a:chExt cx="360360" cy="44028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3924360" y="4716720"/>
                  <a:ext cx="360360" cy="378000"/>
                </a:xfrm>
                <a:prstGeom prst="ellipse">
                  <a:avLst/>
                </a:prstGeom>
                <a:noFill/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5" name=""/>
                <p:cNvGrpSpPr/>
                <p:nvPr/>
              </p:nvGrpSpPr>
              <p:grpSpPr>
                <a:xfrm>
                  <a:off x="3924360" y="4779360"/>
                  <a:ext cx="301680" cy="377640"/>
                  <a:chOff x="3924360" y="4779360"/>
                  <a:chExt cx="301680" cy="37764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>
                    <a:off x="4105080" y="4779360"/>
                    <a:ext cx="0" cy="37764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3924360" y="4905360"/>
                    <a:ext cx="301680" cy="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8" name=""/>
              <p:cNvGrpSpPr/>
              <p:nvPr/>
            </p:nvGrpSpPr>
            <p:grpSpPr>
              <a:xfrm>
                <a:off x="4044960" y="4652640"/>
                <a:ext cx="119520" cy="63720"/>
                <a:chOff x="4044960" y="4652640"/>
                <a:chExt cx="119520" cy="63720"/>
              </a:xfrm>
            </p:grpSpPr>
            <p:sp>
              <p:nvSpPr>
                <p:cNvPr id="409" name=""/>
                <p:cNvSpPr/>
                <p:nvPr/>
              </p:nvSpPr>
              <p:spPr>
                <a:xfrm flipV="1">
                  <a:off x="4104720" y="4652640"/>
                  <a:ext cx="0" cy="6372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flipH="1">
                  <a:off x="4044960" y="4653000"/>
                  <a:ext cx="11952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11" name=""/>
          <p:cNvSpPr/>
          <p:nvPr/>
        </p:nvSpPr>
        <p:spPr>
          <a:xfrm>
            <a:off x="4427640" y="4653000"/>
            <a:ext cx="42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=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  <a:ea typeface="Tahoma"/>
              </a:rPr>
              <a:t>&gt;</a:t>
            </a:r>
            <a:r>
              <a:rPr b="1" lang="sl-SI" sz="2800" spc="-1" strike="noStrike">
                <a:solidFill>
                  <a:srgbClr val="333399"/>
                </a:solidFill>
                <a:latin typeface="Tahoma"/>
                <a:ea typeface="Tahoma"/>
              </a:rPr>
              <a:t>  g=0; t=100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  <a:ea typeface="Tahoma"/>
              </a:rPr>
              <a:t>[</a:t>
            </a:r>
            <a:r>
              <a:rPr b="1" lang="sl-SI" sz="2800" spc="-1" strike="noStrike">
                <a:solidFill>
                  <a:srgbClr val="333399"/>
                </a:solidFill>
                <a:latin typeface="Tahoma"/>
                <a:ea typeface="Tahoma"/>
              </a:rPr>
              <a:t>%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  <a:ea typeface="Tahom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399960" y="5442120"/>
                <a:ext cx="813276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e>
                    </m:d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3000"/>
                            </p:stCondLst>
                            <p:childTnLst>
                              <p:par>
                                <p:cTn id="5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960720" y="259920"/>
            <a:ext cx="5183280" cy="83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ANANLIZA NAČINA RADA</a:t>
            </a:r>
            <a:br>
              <a:rPr sz="2800"/>
            </a:b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 PROIZVODNIH SISTEM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5292720" y="3184560"/>
                <a:ext cx="31669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TZ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,</m:t>
                    </m:r>
                    <m:r>
                      <m:t xml:space="preserve">7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5003640" y="4221000"/>
                <a:ext cx="324036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7" name=""/>
          <p:cNvSpPr/>
          <p:nvPr/>
        </p:nvSpPr>
        <p:spPr>
          <a:xfrm>
            <a:off x="1619280" y="1125360"/>
            <a:ext cx="5113440" cy="6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METOD “TZ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324000" y="2637000"/>
            <a:ext cx="4176000" cy="1657800"/>
            <a:chOff x="324000" y="2637000"/>
            <a:chExt cx="4176000" cy="1657800"/>
          </a:xfrm>
        </p:grpSpPr>
        <p:sp>
          <p:nvSpPr>
            <p:cNvPr id="419" name=""/>
            <p:cNvSpPr/>
            <p:nvPr/>
          </p:nvSpPr>
          <p:spPr>
            <a:xfrm>
              <a:off x="3364920" y="3484080"/>
              <a:ext cx="41580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534040" y="3484080"/>
              <a:ext cx="41580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703160" y="3484080"/>
              <a:ext cx="41580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73360" y="3484080"/>
              <a:ext cx="41472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950200" y="3484080"/>
              <a:ext cx="41472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288440" y="3484080"/>
              <a:ext cx="41472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119320" y="3484080"/>
              <a:ext cx="41472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58640" y="3484080"/>
              <a:ext cx="41472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58640" y="3484080"/>
              <a:ext cx="33220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58640" y="3949200"/>
              <a:ext cx="33220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58640" y="3484080"/>
              <a:ext cx="0" cy="46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780720" y="3484080"/>
              <a:ext cx="0" cy="46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119320" y="3484080"/>
              <a:ext cx="0" cy="46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288440" y="3484080"/>
              <a:ext cx="0" cy="46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950200" y="3484080"/>
              <a:ext cx="0" cy="46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73360" y="3484080"/>
              <a:ext cx="0" cy="46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3160" y="3484080"/>
              <a:ext cx="0" cy="46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534040" y="3484080"/>
              <a:ext cx="0" cy="46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364920" y="3484080"/>
              <a:ext cx="0" cy="46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324000" y="2637000"/>
              <a:ext cx="4176000" cy="1657800"/>
              <a:chOff x="324000" y="2637000"/>
              <a:chExt cx="4176000" cy="1657800"/>
            </a:xfrm>
          </p:grpSpPr>
          <p:sp>
            <p:nvSpPr>
              <p:cNvPr id="439" name=""/>
              <p:cNvSpPr/>
              <p:nvPr/>
            </p:nvSpPr>
            <p:spPr>
              <a:xfrm>
                <a:off x="3364920" y="2637000"/>
                <a:ext cx="41580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34040" y="2637000"/>
                <a:ext cx="41580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703160" y="2637000"/>
                <a:ext cx="41580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873360" y="2637000"/>
                <a:ext cx="41472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950200" y="2637000"/>
                <a:ext cx="41472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288440" y="2637000"/>
                <a:ext cx="41472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119320" y="2637000"/>
                <a:ext cx="41472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58640" y="2637000"/>
                <a:ext cx="41472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58640" y="2637000"/>
                <a:ext cx="33220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58640" y="3102840"/>
                <a:ext cx="33220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58640" y="2637000"/>
                <a:ext cx="0" cy="4658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780720" y="2637000"/>
                <a:ext cx="0" cy="4658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119320" y="2637000"/>
                <a:ext cx="0" cy="46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288440" y="2637000"/>
                <a:ext cx="0" cy="46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950200" y="2637000"/>
                <a:ext cx="0" cy="46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73360" y="2637000"/>
                <a:ext cx="0" cy="46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703160" y="2637000"/>
                <a:ext cx="0" cy="46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534040" y="2637000"/>
                <a:ext cx="0" cy="46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364920" y="2637000"/>
                <a:ext cx="0" cy="46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8" name=""/>
              <p:cNvGrpSpPr/>
              <p:nvPr/>
            </p:nvGrpSpPr>
            <p:grpSpPr>
              <a:xfrm>
                <a:off x="324000" y="2637000"/>
                <a:ext cx="4176000" cy="1657800"/>
                <a:chOff x="324000" y="2637000"/>
                <a:chExt cx="4176000" cy="1657800"/>
              </a:xfrm>
            </p:grpSpPr>
            <p:grpSp>
              <p:nvGrpSpPr>
                <p:cNvPr id="459" name=""/>
                <p:cNvGrpSpPr/>
                <p:nvPr/>
              </p:nvGrpSpPr>
              <p:grpSpPr>
                <a:xfrm>
                  <a:off x="324000" y="3144960"/>
                  <a:ext cx="3773160" cy="564840"/>
                  <a:chOff x="324000" y="3144960"/>
                  <a:chExt cx="3773160" cy="564840"/>
                </a:xfrm>
              </p:grpSpPr>
              <p:sp>
                <p:nvSpPr>
                  <p:cNvPr id="460" name=""/>
                  <p:cNvSpPr/>
                  <p:nvPr/>
                </p:nvSpPr>
                <p:spPr>
                  <a:xfrm>
                    <a:off x="324000" y="3189600"/>
                    <a:ext cx="31392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l-SI" sz="1400" spc="-1" strike="noStrike">
                        <a:solidFill>
                          <a:srgbClr val="333399"/>
                        </a:solidFill>
                        <a:latin typeface="Tahoma"/>
                      </a:rPr>
                      <a:t>9</a:t>
                    </a:r>
                    <a:r>
                      <a:rPr b="0" lang="sl-SI" sz="1400" spc="-1" strike="noStrike" baseline="30000">
                        <a:solidFill>
                          <a:srgbClr val="333399"/>
                        </a:solidFill>
                        <a:latin typeface="Tahoma"/>
                      </a:rPr>
                      <a:t>0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3691440" y="3144960"/>
                    <a:ext cx="40572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l-SI" sz="1400" spc="-1" strike="noStrike">
                        <a:solidFill>
                          <a:srgbClr val="333399"/>
                        </a:solidFill>
                        <a:latin typeface="Tahoma"/>
                      </a:rPr>
                      <a:t>17</a:t>
                    </a:r>
                    <a:r>
                      <a:rPr b="0" lang="sl-SI" sz="1400" spc="-1" strike="noStrike" baseline="30000">
                        <a:solidFill>
                          <a:srgbClr val="333399"/>
                        </a:solidFill>
                        <a:latin typeface="Tahoma"/>
                      </a:rPr>
                      <a:t>0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2" name=""/>
                <p:cNvGrpSpPr/>
                <p:nvPr/>
              </p:nvGrpSpPr>
              <p:grpSpPr>
                <a:xfrm>
                  <a:off x="458640" y="2637000"/>
                  <a:ext cx="3906000" cy="465840"/>
                  <a:chOff x="458640" y="2637000"/>
                  <a:chExt cx="3906000" cy="465840"/>
                </a:xfrm>
              </p:grpSpPr>
              <p:grpSp>
                <p:nvGrpSpPr>
                  <p:cNvPr id="463" name=""/>
                  <p:cNvGrpSpPr/>
                  <p:nvPr/>
                </p:nvGrpSpPr>
                <p:grpSpPr>
                  <a:xfrm>
                    <a:off x="4096440" y="2721240"/>
                    <a:ext cx="268200" cy="339120"/>
                    <a:chOff x="4096440" y="2721240"/>
                    <a:chExt cx="268200" cy="339120"/>
                  </a:xfrm>
                </p:grpSpPr>
                <p:grpSp>
                  <p:nvGrpSpPr>
                    <p:cNvPr id="464" name=""/>
                    <p:cNvGrpSpPr/>
                    <p:nvPr/>
                  </p:nvGrpSpPr>
                  <p:grpSpPr>
                    <a:xfrm>
                      <a:off x="4096440" y="2764440"/>
                      <a:ext cx="268200" cy="295920"/>
                      <a:chOff x="4096440" y="2764440"/>
                      <a:chExt cx="268200" cy="295920"/>
                    </a:xfrm>
                  </p:grpSpPr>
                  <p:sp>
                    <p:nvSpPr>
                      <p:cNvPr id="465" name=""/>
                      <p:cNvSpPr/>
                      <p:nvPr/>
                    </p:nvSpPr>
                    <p:spPr>
                      <a:xfrm>
                        <a:off x="4096440" y="2764440"/>
                        <a:ext cx="268200" cy="25380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66" name=""/>
                      <p:cNvGrpSpPr/>
                      <p:nvPr/>
                    </p:nvGrpSpPr>
                    <p:grpSpPr>
                      <a:xfrm>
                        <a:off x="4096440" y="2806560"/>
                        <a:ext cx="224640" cy="253800"/>
                        <a:chOff x="4096440" y="2806560"/>
                        <a:chExt cx="224640" cy="253800"/>
                      </a:xfrm>
                    </p:grpSpPr>
                    <p:sp>
                      <p:nvSpPr>
                        <p:cNvPr id="467" name=""/>
                        <p:cNvSpPr/>
                        <p:nvPr/>
                      </p:nvSpPr>
                      <p:spPr>
                        <a:xfrm>
                          <a:off x="4231080" y="2806560"/>
                          <a:ext cx="0" cy="25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99"/>
                          </a:solidFill>
                          <a:prstDash val="lg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8" name=""/>
                        <p:cNvSpPr/>
                        <p:nvPr/>
                      </p:nvSpPr>
                      <p:spPr>
                        <a:xfrm>
                          <a:off x="4096440" y="2891160"/>
                          <a:ext cx="22464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99"/>
                          </a:solidFill>
                          <a:prstDash val="lg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69" name=""/>
                    <p:cNvGrpSpPr/>
                    <p:nvPr/>
                  </p:nvGrpSpPr>
                  <p:grpSpPr>
                    <a:xfrm>
                      <a:off x="4186080" y="2721240"/>
                      <a:ext cx="88920" cy="42840"/>
                      <a:chOff x="4186080" y="2721240"/>
                      <a:chExt cx="88920" cy="42840"/>
                    </a:xfrm>
                  </p:grpSpPr>
                  <p:sp>
                    <p:nvSpPr>
                      <p:cNvPr id="470" name=""/>
                      <p:cNvSpPr/>
                      <p:nvPr/>
                    </p:nvSpPr>
                    <p:spPr>
                      <a:xfrm flipV="1">
                        <a:off x="4231080" y="2721240"/>
                        <a:ext cx="0" cy="42840"/>
                      </a:xfrm>
                      <a:prstGeom prst="line">
                        <a:avLst/>
                      </a:prstGeom>
                      <a:ln w="3816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1" name=""/>
                      <p:cNvSpPr/>
                      <p:nvPr/>
                    </p:nvSpPr>
                    <p:spPr>
                      <a:xfrm flipH="1">
                        <a:off x="4186080" y="2721600"/>
                        <a:ext cx="88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72" name=""/>
                  <p:cNvGrpSpPr/>
                  <p:nvPr/>
                </p:nvGrpSpPr>
                <p:grpSpPr>
                  <a:xfrm>
                    <a:off x="458640" y="2637000"/>
                    <a:ext cx="3323880" cy="465840"/>
                    <a:chOff x="458640" y="2637000"/>
                    <a:chExt cx="3323880" cy="465840"/>
                  </a:xfrm>
                </p:grpSpPr>
                <p:sp>
                  <p:nvSpPr>
                    <p:cNvPr id="473" name=""/>
                    <p:cNvSpPr/>
                    <p:nvPr/>
                  </p:nvSpPr>
                  <p:spPr>
                    <a:xfrm>
                      <a:off x="458640" y="2637000"/>
                      <a:ext cx="426600" cy="465840"/>
                    </a:xfrm>
                    <a:prstGeom prst="rect">
                      <a:avLst/>
                    </a:prstGeom>
                    <a:blipFill rotWithShape="0">
                      <a:blip r:embed="rId1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4" name=""/>
                    <p:cNvSpPr/>
                    <p:nvPr/>
                  </p:nvSpPr>
                  <p:spPr>
                    <a:xfrm>
                      <a:off x="2121120" y="2637000"/>
                      <a:ext cx="426600" cy="465840"/>
                    </a:xfrm>
                    <a:prstGeom prst="rect">
                      <a:avLst/>
                    </a:prstGeom>
                    <a:blipFill rotWithShape="0">
                      <a:blip r:embed="rId2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5" name=""/>
                    <p:cNvSpPr/>
                    <p:nvPr/>
                  </p:nvSpPr>
                  <p:spPr>
                    <a:xfrm>
                      <a:off x="2949840" y="2637000"/>
                      <a:ext cx="426600" cy="465840"/>
                    </a:xfrm>
                    <a:prstGeom prst="rect">
                      <a:avLst/>
                    </a:prstGeom>
                    <a:blipFill rotWithShape="0">
                      <a:blip r:embed="rId3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"/>
                    <p:cNvSpPr/>
                    <p:nvPr/>
                  </p:nvSpPr>
                  <p:spPr>
                    <a:xfrm>
                      <a:off x="1716120" y="2637000"/>
                      <a:ext cx="201960" cy="465840"/>
                    </a:xfrm>
                    <a:prstGeom prst="rect">
                      <a:avLst/>
                    </a:prstGeom>
                    <a:blipFill rotWithShape="0">
                      <a:blip r:embed="rId4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7" name=""/>
                    <p:cNvSpPr/>
                    <p:nvPr/>
                  </p:nvSpPr>
                  <p:spPr>
                    <a:xfrm>
                      <a:off x="1288080" y="2637000"/>
                      <a:ext cx="426600" cy="465840"/>
                    </a:xfrm>
                    <a:prstGeom prst="rect">
                      <a:avLst/>
                    </a:pr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8" name=""/>
                    <p:cNvSpPr/>
                    <p:nvPr/>
                  </p:nvSpPr>
                  <p:spPr>
                    <a:xfrm>
                      <a:off x="3580560" y="2637000"/>
                      <a:ext cx="201960" cy="465840"/>
                    </a:xfrm>
                    <a:prstGeom prst="rect">
                      <a:avLst/>
                    </a:pr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79" name=""/>
                <p:cNvGrpSpPr/>
                <p:nvPr/>
              </p:nvGrpSpPr>
              <p:grpSpPr>
                <a:xfrm>
                  <a:off x="525960" y="3484080"/>
                  <a:ext cx="3974040" cy="810720"/>
                  <a:chOff x="525960" y="3484080"/>
                  <a:chExt cx="3974040" cy="81072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>
                    <a:off x="3917880" y="3652200"/>
                    <a:ext cx="58212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l-SI" sz="1800" spc="-1" strike="noStrike">
                        <a:solidFill>
                          <a:srgbClr val="333399"/>
                        </a:solidFill>
                        <a:latin typeface="Tahoma"/>
                      </a:rPr>
                      <a:t>“</a:t>
                    </a:r>
                    <a:r>
                      <a:rPr b="0" lang="sl-SI" sz="1800" spc="-1" strike="noStrike">
                        <a:solidFill>
                          <a:srgbClr val="333399"/>
                        </a:solidFill>
                        <a:latin typeface="Tahoma"/>
                      </a:rPr>
                      <a:t>TZ”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81" name=""/>
                  <p:cNvGrpSpPr/>
                  <p:nvPr/>
                </p:nvGrpSpPr>
                <p:grpSpPr>
                  <a:xfrm>
                    <a:off x="2186280" y="3569040"/>
                    <a:ext cx="270000" cy="297000"/>
                    <a:chOff x="2186280" y="3569040"/>
                    <a:chExt cx="270000" cy="297000"/>
                  </a:xfrm>
                </p:grpSpPr>
                <p:sp>
                  <p:nvSpPr>
                    <p:cNvPr id="482" name=""/>
                    <p:cNvSpPr/>
                    <p:nvPr/>
                  </p:nvSpPr>
                  <p:spPr>
                    <a:xfrm>
                      <a:off x="2186280" y="3569040"/>
                      <a:ext cx="0" cy="29700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3" name=""/>
                    <p:cNvSpPr/>
                    <p:nvPr/>
                  </p:nvSpPr>
                  <p:spPr>
                    <a:xfrm>
                      <a:off x="2253240" y="3569040"/>
                      <a:ext cx="0" cy="29700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4" name=""/>
                    <p:cNvSpPr/>
                    <p:nvPr/>
                  </p:nvSpPr>
                  <p:spPr>
                    <a:xfrm>
                      <a:off x="2321640" y="3569040"/>
                      <a:ext cx="0" cy="29700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" name=""/>
                    <p:cNvSpPr/>
                    <p:nvPr/>
                  </p:nvSpPr>
                  <p:spPr>
                    <a:xfrm>
                      <a:off x="2387880" y="3569040"/>
                      <a:ext cx="0" cy="29700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" name=""/>
                    <p:cNvSpPr/>
                    <p:nvPr/>
                  </p:nvSpPr>
                  <p:spPr>
                    <a:xfrm>
                      <a:off x="2456280" y="3569040"/>
                      <a:ext cx="0" cy="29628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87" name=""/>
                  <p:cNvSpPr/>
                  <p:nvPr/>
                </p:nvSpPr>
                <p:spPr>
                  <a:xfrm>
                    <a:off x="525960" y="3569040"/>
                    <a:ext cx="0" cy="29700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592920" y="3569040"/>
                    <a:ext cx="0" cy="29700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661320" y="3569040"/>
                    <a:ext cx="0" cy="29592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727560" y="3569040"/>
                    <a:ext cx="0" cy="29700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795960" y="3569040"/>
                    <a:ext cx="0" cy="29592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92" name=""/>
                  <p:cNvGrpSpPr/>
                  <p:nvPr/>
                </p:nvGrpSpPr>
                <p:grpSpPr>
                  <a:xfrm>
                    <a:off x="3445920" y="3569040"/>
                    <a:ext cx="268920" cy="297000"/>
                    <a:chOff x="3445920" y="3569040"/>
                    <a:chExt cx="268920" cy="297000"/>
                  </a:xfrm>
                </p:grpSpPr>
                <p:sp>
                  <p:nvSpPr>
                    <p:cNvPr id="493" name=""/>
                    <p:cNvSpPr/>
                    <p:nvPr/>
                  </p:nvSpPr>
                  <p:spPr>
                    <a:xfrm>
                      <a:off x="3714840" y="3569040"/>
                      <a:ext cx="0" cy="29700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4" name=""/>
                    <p:cNvSpPr/>
                    <p:nvPr/>
                  </p:nvSpPr>
                  <p:spPr>
                    <a:xfrm>
                      <a:off x="3625920" y="3569040"/>
                      <a:ext cx="0" cy="29700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5" name=""/>
                    <p:cNvSpPr/>
                    <p:nvPr/>
                  </p:nvSpPr>
                  <p:spPr>
                    <a:xfrm>
                      <a:off x="3535560" y="3569040"/>
                      <a:ext cx="0" cy="29700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6" name=""/>
                    <p:cNvSpPr/>
                    <p:nvPr/>
                  </p:nvSpPr>
                  <p:spPr>
                    <a:xfrm>
                      <a:off x="3445920" y="3569040"/>
                      <a:ext cx="0" cy="29700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7" name=""/>
                  <p:cNvGrpSpPr/>
                  <p:nvPr/>
                </p:nvGrpSpPr>
                <p:grpSpPr>
                  <a:xfrm>
                    <a:off x="952560" y="3569040"/>
                    <a:ext cx="269280" cy="297000"/>
                    <a:chOff x="952560" y="3569040"/>
                    <a:chExt cx="269280" cy="297000"/>
                  </a:xfrm>
                </p:grpSpPr>
                <p:sp>
                  <p:nvSpPr>
                    <p:cNvPr id="498" name=""/>
                    <p:cNvSpPr/>
                    <p:nvPr/>
                  </p:nvSpPr>
                  <p:spPr>
                    <a:xfrm>
                      <a:off x="1221840" y="3569040"/>
                      <a:ext cx="0" cy="29700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9" name=""/>
                    <p:cNvSpPr/>
                    <p:nvPr/>
                  </p:nvSpPr>
                  <p:spPr>
                    <a:xfrm>
                      <a:off x="1132560" y="3569040"/>
                      <a:ext cx="0" cy="29700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0" name=""/>
                    <p:cNvSpPr/>
                    <p:nvPr/>
                  </p:nvSpPr>
                  <p:spPr>
                    <a:xfrm>
                      <a:off x="1042560" y="3569040"/>
                      <a:ext cx="0" cy="29700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1" name=""/>
                    <p:cNvSpPr/>
                    <p:nvPr/>
                  </p:nvSpPr>
                  <p:spPr>
                    <a:xfrm>
                      <a:off x="952560" y="3569040"/>
                      <a:ext cx="0" cy="29700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2" name=""/>
                  <p:cNvGrpSpPr/>
                  <p:nvPr/>
                </p:nvGrpSpPr>
                <p:grpSpPr>
                  <a:xfrm>
                    <a:off x="1357560" y="3569040"/>
                    <a:ext cx="268920" cy="297000"/>
                    <a:chOff x="1357560" y="3569040"/>
                    <a:chExt cx="268920" cy="297000"/>
                  </a:xfrm>
                </p:grpSpPr>
                <p:sp>
                  <p:nvSpPr>
                    <p:cNvPr id="503" name=""/>
                    <p:cNvSpPr/>
                    <p:nvPr/>
                  </p:nvSpPr>
                  <p:spPr>
                    <a:xfrm>
                      <a:off x="1626480" y="3569040"/>
                      <a:ext cx="0" cy="29700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4" name=""/>
                    <p:cNvSpPr/>
                    <p:nvPr/>
                  </p:nvSpPr>
                  <p:spPr>
                    <a:xfrm>
                      <a:off x="1537560" y="3569040"/>
                      <a:ext cx="0" cy="29700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5" name=""/>
                    <p:cNvSpPr/>
                    <p:nvPr/>
                  </p:nvSpPr>
                  <p:spPr>
                    <a:xfrm>
                      <a:off x="1447200" y="3569040"/>
                      <a:ext cx="0" cy="29700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6" name=""/>
                    <p:cNvSpPr/>
                    <p:nvPr/>
                  </p:nvSpPr>
                  <p:spPr>
                    <a:xfrm>
                      <a:off x="1357560" y="3569040"/>
                      <a:ext cx="0" cy="29700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7" name=""/>
                  <p:cNvGrpSpPr/>
                  <p:nvPr/>
                </p:nvGrpSpPr>
                <p:grpSpPr>
                  <a:xfrm>
                    <a:off x="1782000" y="3569040"/>
                    <a:ext cx="269280" cy="297000"/>
                    <a:chOff x="1782000" y="3569040"/>
                    <a:chExt cx="269280" cy="297000"/>
                  </a:xfrm>
                </p:grpSpPr>
                <p:sp>
                  <p:nvSpPr>
                    <p:cNvPr id="508" name=""/>
                    <p:cNvSpPr/>
                    <p:nvPr/>
                  </p:nvSpPr>
                  <p:spPr>
                    <a:xfrm>
                      <a:off x="2051280" y="3569040"/>
                      <a:ext cx="0" cy="29700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"/>
                    <p:cNvSpPr/>
                    <p:nvPr/>
                  </p:nvSpPr>
                  <p:spPr>
                    <a:xfrm>
                      <a:off x="1962000" y="3569040"/>
                      <a:ext cx="0" cy="29700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0" name=""/>
                    <p:cNvSpPr/>
                    <p:nvPr/>
                  </p:nvSpPr>
                  <p:spPr>
                    <a:xfrm>
                      <a:off x="1872000" y="3569040"/>
                      <a:ext cx="0" cy="29700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1" name=""/>
                    <p:cNvSpPr/>
                    <p:nvPr/>
                  </p:nvSpPr>
                  <p:spPr>
                    <a:xfrm>
                      <a:off x="1782000" y="3569040"/>
                      <a:ext cx="0" cy="29700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2" name=""/>
                  <p:cNvGrpSpPr/>
                  <p:nvPr/>
                </p:nvGrpSpPr>
                <p:grpSpPr>
                  <a:xfrm>
                    <a:off x="1917000" y="3484080"/>
                    <a:ext cx="1663200" cy="466200"/>
                    <a:chOff x="1917000" y="3484080"/>
                    <a:chExt cx="1663200" cy="466200"/>
                  </a:xfrm>
                </p:grpSpPr>
                <p:sp>
                  <p:nvSpPr>
                    <p:cNvPr id="513" name=""/>
                    <p:cNvSpPr/>
                    <p:nvPr/>
                  </p:nvSpPr>
                  <p:spPr>
                    <a:xfrm>
                      <a:off x="1917000" y="3484080"/>
                      <a:ext cx="0" cy="466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>
                      <a:off x="3580200" y="3484080"/>
                      <a:ext cx="0" cy="466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5" name=""/>
                  <p:cNvGrpSpPr/>
                  <p:nvPr/>
                </p:nvGrpSpPr>
                <p:grpSpPr>
                  <a:xfrm>
                    <a:off x="2615040" y="3569040"/>
                    <a:ext cx="268920" cy="297000"/>
                    <a:chOff x="2615040" y="3569040"/>
                    <a:chExt cx="268920" cy="297000"/>
                  </a:xfrm>
                </p:grpSpPr>
                <p:sp>
                  <p:nvSpPr>
                    <p:cNvPr id="516" name=""/>
                    <p:cNvSpPr/>
                    <p:nvPr/>
                  </p:nvSpPr>
                  <p:spPr>
                    <a:xfrm>
                      <a:off x="2883960" y="3569040"/>
                      <a:ext cx="0" cy="29700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>
                      <a:off x="2795040" y="3569040"/>
                      <a:ext cx="0" cy="29700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2704680" y="3569040"/>
                      <a:ext cx="0" cy="29700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2615040" y="3569040"/>
                      <a:ext cx="0" cy="29700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0" name=""/>
                  <p:cNvGrpSpPr/>
                  <p:nvPr/>
                </p:nvGrpSpPr>
                <p:grpSpPr>
                  <a:xfrm>
                    <a:off x="3018960" y="3569040"/>
                    <a:ext cx="269280" cy="297000"/>
                    <a:chOff x="3018960" y="3569040"/>
                    <a:chExt cx="269280" cy="297000"/>
                  </a:xfrm>
                </p:grpSpPr>
                <p:sp>
                  <p:nvSpPr>
                    <p:cNvPr id="521" name=""/>
                    <p:cNvSpPr/>
                    <p:nvPr/>
                  </p:nvSpPr>
                  <p:spPr>
                    <a:xfrm>
                      <a:off x="3288240" y="3569040"/>
                      <a:ext cx="0" cy="29700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" name=""/>
                    <p:cNvSpPr/>
                    <p:nvPr/>
                  </p:nvSpPr>
                  <p:spPr>
                    <a:xfrm>
                      <a:off x="3198960" y="3569040"/>
                      <a:ext cx="0" cy="29700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"/>
                    <p:cNvSpPr/>
                    <p:nvPr/>
                  </p:nvSpPr>
                  <p:spPr>
                    <a:xfrm>
                      <a:off x="3108960" y="3569040"/>
                      <a:ext cx="0" cy="29700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>
                      <a:off x="3018960" y="3569040"/>
                      <a:ext cx="0" cy="29700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525" name=""/>
          <p:cNvSpPr/>
          <p:nvPr/>
        </p:nvSpPr>
        <p:spPr>
          <a:xfrm>
            <a:off x="2484360" y="1916280"/>
            <a:ext cx="23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Primer  M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826920" y="5445000"/>
                <a:ext cx="763272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,647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0,647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den>
                            </m:f>
                          </m:e>
                        </m:rad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4,66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rPr>
                        <m:lit/>
                        <m:nor/>
                      </m:rPr>
                      <m:t xml:space="preserve"> 100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8" name=""/>
          <p:cNvSpPr/>
          <p:nvPr/>
        </p:nvSpPr>
        <p:spPr>
          <a:xfrm>
            <a:off x="5300640" y="2492280"/>
            <a:ext cx="29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333399"/>
                </a:solidFill>
                <a:latin typeface="Tahoma"/>
              </a:rPr>
              <a:t>34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 OBILASKA (ZABELEŠK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684360" y="4365720"/>
                <a:ext cx="338292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e>
                    </m:d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77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2" dur="770" fill="hold"/>
                                        <p:tgtEl>
                                          <p:spTgt spid="5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4" dur="77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6" dur="77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77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0" dur="770" fill="hold"/>
                                        <p:tgtEl>
                                          <p:spTgt spid="4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2" dur="77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4" dur="77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187280" y="1844640"/>
            <a:ext cx="749304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Koja tačnost bi bila zadovoljavajuć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"/>
          <p:cNvSpPr/>
          <p:nvPr/>
        </p:nvSpPr>
        <p:spPr>
          <a:xfrm>
            <a:off x="3960720" y="260280"/>
            <a:ext cx="518328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ANANLIZA NAČINA RADA</a:t>
            </a:r>
            <a:br>
              <a:rPr sz="2800"/>
            </a:b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 PROIZVODNIH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619280" y="1125360"/>
            <a:ext cx="5113440" cy="6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METOD “TZ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900000" y="4869000"/>
            <a:ext cx="388800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1116000" y="2781000"/>
            <a:ext cx="0" cy="23050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643280" y="4941720"/>
            <a:ext cx="21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50960" y="2637000"/>
            <a:ext cx="2127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3399"/>
                </a:solidFill>
                <a:latin typeface="Tahoma"/>
                <a:ea typeface="Tahoma"/>
              </a:rPr>
              <a:t>η</a:t>
            </a:r>
            <a:r>
              <a:rPr b="0" lang="sl-SI" sz="1800" spc="-1" strike="noStrike" baseline="-25000">
                <a:solidFill>
                  <a:srgbClr val="333399"/>
                </a:solidFill>
                <a:latin typeface="Tahoma"/>
                <a:ea typeface="Tahoma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116000" y="3860640"/>
            <a:ext cx="3168720" cy="0"/>
          </a:xfrm>
          <a:prstGeom prst="line">
            <a:avLst/>
          </a:prstGeom>
          <a:ln w="936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684000" y="3860640"/>
            <a:ext cx="4316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826920" y="3860640"/>
            <a:ext cx="0" cy="648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rot="10800000">
            <a:off x="468000" y="3933360"/>
            <a:ext cx="243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62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1288800" y="2316240"/>
            <a:ext cx="5254920" cy="2995920"/>
            <a:chOff x="1288800" y="2316240"/>
            <a:chExt cx="5254920" cy="2995920"/>
          </a:xfrm>
        </p:grpSpPr>
        <p:sp>
          <p:nvSpPr>
            <p:cNvPr id="542" name=""/>
            <p:cNvSpPr/>
            <p:nvPr/>
          </p:nvSpPr>
          <p:spPr>
            <a:xfrm flipV="1" rot="10767000">
              <a:off x="1308600" y="3993480"/>
              <a:ext cx="4897080" cy="129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26" y="10"/>
                  </a:moveTo>
                  <a:arcTo wR="10800" hR="10800" stAng="-5550919" swAng="50517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26" y="10"/>
                  </a:moveTo>
                  <a:arcTo wR="10800" hR="10800" stAng="-5550919" swAng="5051786"/>
                </a:path>
              </a:pathLst>
            </a:custGeom>
            <a:noFill/>
            <a:ln w="9360">
              <a:solidFill>
                <a:srgbClr val="3333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 rot="5333400">
              <a:off x="3239640" y="427680"/>
              <a:ext cx="1352880" cy="522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277" y="101"/>
                  </a:moveTo>
                  <a:arcTo wR="10800" hR="10800" stAng="-4928332" swAng="48213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2277" y="101"/>
                  </a:moveTo>
                  <a:arcTo wR="10800" hR="10800" stAng="-4928332" swAng="4821342"/>
                </a:path>
              </a:pathLst>
            </a:custGeom>
            <a:noFill/>
            <a:ln w="9360">
              <a:solidFill>
                <a:srgbClr val="3333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332000" y="4797360"/>
            <a:ext cx="2088720" cy="144360"/>
            <a:chOff x="1332000" y="4797360"/>
            <a:chExt cx="2088720" cy="144360"/>
          </a:xfrm>
        </p:grpSpPr>
        <p:grpSp>
          <p:nvGrpSpPr>
            <p:cNvPr id="545" name=""/>
            <p:cNvGrpSpPr/>
            <p:nvPr/>
          </p:nvGrpSpPr>
          <p:grpSpPr>
            <a:xfrm>
              <a:off x="1332000" y="4797360"/>
              <a:ext cx="1855080" cy="144360"/>
              <a:chOff x="1332000" y="4797360"/>
              <a:chExt cx="1855080" cy="144360"/>
            </a:xfrm>
          </p:grpSpPr>
          <p:sp>
            <p:nvSpPr>
              <p:cNvPr id="546" name=""/>
              <p:cNvSpPr/>
              <p:nvPr/>
            </p:nvSpPr>
            <p:spPr>
              <a:xfrm>
                <a:off x="1332000" y="4797360"/>
                <a:ext cx="0" cy="14436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563480" y="4797360"/>
                <a:ext cx="0" cy="14436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795320" y="4797360"/>
                <a:ext cx="0" cy="14436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027520" y="4797360"/>
                <a:ext cx="0" cy="14436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723040" y="4797360"/>
                <a:ext cx="0" cy="14436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491200" y="4797360"/>
                <a:ext cx="0" cy="14436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259360" y="4797360"/>
                <a:ext cx="0" cy="14436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955240" y="4797360"/>
                <a:ext cx="0" cy="14436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187080" y="4797360"/>
                <a:ext cx="0" cy="14436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3420720" y="4797360"/>
              <a:ext cx="0" cy="1443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1187280" y="5013360"/>
            <a:ext cx="2449800" cy="182880"/>
            <a:chOff x="1187280" y="5013360"/>
            <a:chExt cx="2449800" cy="182880"/>
          </a:xfrm>
        </p:grpSpPr>
        <p:sp>
          <p:nvSpPr>
            <p:cNvPr id="557" name=""/>
            <p:cNvSpPr/>
            <p:nvPr/>
          </p:nvSpPr>
          <p:spPr>
            <a:xfrm>
              <a:off x="1187280" y="5013360"/>
              <a:ext cx="216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200" spc="-1" strike="noStrike">
                  <a:solidFill>
                    <a:srgbClr val="333399"/>
                  </a:solidFill>
                  <a:latin typeface="Tahoma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476360" y="5013360"/>
              <a:ext cx="216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200" spc="-1" strike="noStrike">
                  <a:solidFill>
                    <a:srgbClr val="333399"/>
                  </a:solidFill>
                  <a:latin typeface="Tahoma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692360" y="5013360"/>
              <a:ext cx="21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200" spc="-1" strike="noStrike">
                  <a:solidFill>
                    <a:srgbClr val="333399"/>
                  </a:solidFill>
                  <a:latin typeface="Tahoma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908000" y="5013360"/>
              <a:ext cx="216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200" spc="-1" strike="noStrike">
                  <a:solidFill>
                    <a:srgbClr val="333399"/>
                  </a:solidFill>
                  <a:latin typeface="Tahoma"/>
                </a:rPr>
                <a:t>8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276720" y="5013360"/>
              <a:ext cx="36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200" spc="-1" strike="noStrike">
                  <a:solidFill>
                    <a:srgbClr val="333399"/>
                  </a:solidFill>
                  <a:latin typeface="Tahoma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124000" y="5013360"/>
              <a:ext cx="36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200" spc="-1" strike="noStrike">
                  <a:solidFill>
                    <a:srgbClr val="333399"/>
                  </a:solidFill>
                  <a:latin typeface="Tahoma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1476360" y="3357720"/>
            <a:ext cx="360360" cy="1511280"/>
            <a:chOff x="1476360" y="3357720"/>
            <a:chExt cx="360360" cy="1511280"/>
          </a:xfrm>
        </p:grpSpPr>
        <p:sp>
          <p:nvSpPr>
            <p:cNvPr id="564" name=""/>
            <p:cNvSpPr/>
            <p:nvPr/>
          </p:nvSpPr>
          <p:spPr>
            <a:xfrm>
              <a:off x="1476360" y="3357720"/>
              <a:ext cx="0" cy="1511280"/>
            </a:xfrm>
            <a:prstGeom prst="line">
              <a:avLst/>
            </a:prstGeom>
            <a:ln w="93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547640" y="4581360"/>
              <a:ext cx="289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ff0000"/>
                  </a:solidFill>
                  <a:latin typeface="Tahoma"/>
                </a:rPr>
                <a:t>3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684360" y="3284640"/>
            <a:ext cx="792000" cy="243720"/>
            <a:chOff x="684360" y="3284640"/>
            <a:chExt cx="792000" cy="243720"/>
          </a:xfrm>
        </p:grpSpPr>
        <p:sp>
          <p:nvSpPr>
            <p:cNvPr id="567" name=""/>
            <p:cNvSpPr/>
            <p:nvPr/>
          </p:nvSpPr>
          <p:spPr>
            <a:xfrm>
              <a:off x="1116000" y="3357720"/>
              <a:ext cx="36036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84360" y="3284640"/>
              <a:ext cx="431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ff0000"/>
                  </a:solidFill>
                  <a:latin typeface="Tahoma"/>
                </a:rPr>
                <a:t>64,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5651640" y="2852640"/>
                <a:ext cx="310176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</m:den>
                        </m:f>
                      </m:e>
                    </m:rad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6156360" y="4221000"/>
                <a:ext cx="235440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7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5651640" y="4581360"/>
                <a:ext cx="43164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4" name=""/>
          <p:cNvSpPr/>
          <p:nvPr/>
        </p:nvSpPr>
        <p:spPr>
          <a:xfrm>
            <a:off x="0" y="5661000"/>
            <a:ext cx="9144000" cy="875880"/>
          </a:xfrm>
          <a:prstGeom prst="rect">
            <a:avLst/>
          </a:prstGeom>
          <a:solidFill>
            <a:srgbClr val="ffed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99"/>
                </a:solidFill>
                <a:latin typeface="Tahoma"/>
              </a:rPr>
              <a:t>Ako je </a:t>
            </a:r>
            <a:r>
              <a:rPr b="1" lang="sl-SI" sz="2400" spc="-1" strike="noStrike">
                <a:solidFill>
                  <a:srgbClr val="ff0000"/>
                </a:solidFill>
                <a:latin typeface="Tahoma"/>
              </a:rPr>
              <a:t>g </a:t>
            </a:r>
            <a:r>
              <a:rPr b="1" lang="sl-SI" sz="2400" spc="-1" strike="noStrike">
                <a:solidFill>
                  <a:srgbClr val="ff0000"/>
                </a:solidFill>
                <a:latin typeface="Tahoma"/>
                <a:ea typeface="Tahoma"/>
              </a:rPr>
              <a:t>≤5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Tahoma"/>
              </a:rPr>
              <a:t>[</a:t>
            </a:r>
            <a:r>
              <a:rPr b="1" lang="sl-SI" sz="2400" spc="-1" strike="noStrike">
                <a:solidFill>
                  <a:srgbClr val="ff0000"/>
                </a:solidFill>
                <a:latin typeface="Tahoma"/>
                <a:ea typeface="Tahoma"/>
              </a:rPr>
              <a:t>%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Tahoma"/>
              </a:rPr>
              <a:t>]</a:t>
            </a:r>
            <a:r>
              <a:rPr b="1" lang="sl-SI" sz="2400" spc="-1" strike="noStrike">
                <a:solidFill>
                  <a:srgbClr val="333399"/>
                </a:solidFill>
                <a:latin typeface="Tahoma"/>
                <a:ea typeface="Tahoma"/>
              </a:rPr>
              <a:t> odnosno </a:t>
            </a:r>
            <a:r>
              <a:rPr b="1" lang="sl-SI" sz="2400" spc="-1" strike="noStrike">
                <a:solidFill>
                  <a:srgbClr val="ff0000"/>
                </a:solidFill>
                <a:latin typeface="Tahoma"/>
                <a:ea typeface="Tahoma"/>
              </a:rPr>
              <a:t>t≥95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1" lang="sl-SI" sz="2400" spc="-1" strike="noStrike">
                <a:solidFill>
                  <a:srgbClr val="ff0000"/>
                </a:solidFill>
                <a:latin typeface="Tahoma"/>
              </a:rPr>
              <a:t>%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1" lang="sl-SI" sz="2400" spc="-1" strike="noStrike">
                <a:solidFill>
                  <a:srgbClr val="333399"/>
                </a:solidFill>
                <a:latin typeface="Tahoma"/>
              </a:rPr>
              <a:t>, tada je veličina (</a:t>
            </a:r>
            <a:r>
              <a:rPr b="1" lang="el-GR" sz="2400" spc="-1" strike="noStrike">
                <a:solidFill>
                  <a:srgbClr val="333399"/>
                </a:solidFill>
                <a:latin typeface="Tahoma"/>
                <a:ea typeface="Tahoma"/>
              </a:rPr>
              <a:t>η</a:t>
            </a:r>
            <a:r>
              <a:rPr b="1" lang="sl-SI" sz="2400" spc="-1" strike="noStrike" baseline="-25000">
                <a:solidFill>
                  <a:srgbClr val="333399"/>
                </a:solidFill>
                <a:latin typeface="Tahoma"/>
                <a:ea typeface="Tahoma"/>
              </a:rPr>
              <a:t>k</a:t>
            </a:r>
            <a:r>
              <a:rPr b="1" lang="sl-SI" sz="2400" spc="-1" strike="noStrike">
                <a:solidFill>
                  <a:srgbClr val="333399"/>
                </a:solidFill>
                <a:latin typeface="Tahoma"/>
                <a:ea typeface="Tahoma"/>
              </a:rPr>
              <a:t>) određena metodom “TZ” praktično upotreblj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000"/>
                            </p:stCondLst>
                            <p:childTnLst>
                              <p:par>
                                <p:cTn id="6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500"/>
                            </p:stCondLst>
                            <p:childTnLst>
                              <p:par>
                                <p:cTn id="6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000"/>
                            </p:stCondLst>
                            <p:childTnLst>
                              <p:par>
                                <p:cTn id="6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2T14:36:07Z</dcterms:created>
  <dc:creator>Barbara</dc:creator>
  <dc:description/>
  <dc:language>en-US</dc:language>
  <cp:lastModifiedBy>nn</cp:lastModifiedBy>
  <dcterms:modified xsi:type="dcterms:W3CDTF">2005-05-25T14:00:21Z</dcterms:modified>
  <cp:revision>22</cp:revision>
  <dc:subject/>
  <dc:title>Osnovi  Organizacije  Proizvodnje</dc:title>
</cp:coreProperties>
</file>