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49C-A54F-490B-85D5-F76C723A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3FB9-07C6-4B0E-8422-865ACAA4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D3BB-72F6-4C92-8247-7DF5F282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C3D2-0D8F-4C09-8A1F-51C1D159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C670-6ECD-4106-B3F6-CA53B575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DB38-DC0C-41D9-8B23-89B1BF61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38A0-2159-4FCD-B48B-F7EE052D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EB53-58A1-4984-B2C1-D8CA7ED3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7374-FE67-4EA9-BA7D-51344FDA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6D4F-AD96-47DE-BE90-E92DB0B5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E5DB-19C1-453C-A0F7-08CABBBF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3A7-421F-40A0-8860-7E81C296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BDCF-408D-470D-91F3-3E810033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336B-DACF-4CEB-94ED-BB941B1D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D41E-9F75-4CEF-B0BD-EBABE447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623F-92D8-48A1-9F1C-884BAF93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CAD2-FF7B-4D19-82F5-479997BE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1C79-BF81-427D-BD91-2CF31920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22E-9487-474E-AD1F-E2D4D0D6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E23F-3CB0-4C86-BEE9-090B6BF7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51C-2489-4960-A5A5-8CFB0922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6EF0-BF1A-463E-9824-AF4C4DC8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F787-EFE2-4CBE-A556-BA7C40D9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A61-67C4-4C13-AC82-A724CB75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B096-0754-4258-BC26-5CA140BF9D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B4EA-930F-44BE-90CD-6A9A8EA7AC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302436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roizvodni siste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3809520"/>
            <a:ext cx="81532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ORGANIZACIJA IZVRŠENJA VIŠE POSLOVA (AKTIVNOSTI) U OKVIRU NEKOLIKO ORG. CELINA -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ODREĐIVANJE OPTIMALNOG REDOSLED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of. dr Milić Radov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572000" y="5013360"/>
            <a:ext cx="4572000" cy="1584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6950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Kako to izgleda grafički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348000" y="2781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979640" y="2349360"/>
                <a:ext cx="360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164360" y="3213000"/>
                <a:ext cx="7923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1332000" y="3860640"/>
            <a:ext cx="54007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19280" y="2060640"/>
            <a:ext cx="0" cy="194472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98920" y="2565360"/>
            <a:ext cx="1440" cy="719280"/>
          </a:xfrm>
          <a:prstGeom prst="line">
            <a:avLst/>
          </a:prstGeom>
          <a:ln w="324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08360" y="2708280"/>
            <a:ext cx="0" cy="649440"/>
          </a:xfrm>
          <a:prstGeom prst="line">
            <a:avLst/>
          </a:prstGeom>
          <a:ln w="324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72360" y="2133720"/>
            <a:ext cx="0" cy="7174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48000" y="2852640"/>
            <a:ext cx="0" cy="142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19280" y="2349360"/>
            <a:ext cx="475308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87640" y="1989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min T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87280" y="1989000"/>
            <a:ext cx="43200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OC</a:t>
            </a:r>
            <a:r>
              <a:rPr b="0" lang="sr-Latn-CS" sz="1800" spc="-1" strike="noStrike" baseline="-20000">
                <a:solidFill>
                  <a:srgbClr val="333399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16000" y="2565360"/>
            <a:ext cx="57456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OC</a:t>
            </a:r>
            <a:r>
              <a:rPr b="0" lang="sr-Latn-CS" sz="1800" spc="-1" strike="noStrike" baseline="-20000">
                <a:solidFill>
                  <a:srgbClr val="3333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3284640"/>
            <a:ext cx="57456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OC</a:t>
            </a:r>
            <a:r>
              <a:rPr b="0" lang="sr-Latn-CS" sz="1800" spc="-1" strike="noStrike" baseline="-20000">
                <a:solidFill>
                  <a:srgbClr val="3333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403280" y="2925720"/>
            <a:ext cx="0" cy="287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698920" y="2349360"/>
            <a:ext cx="1728720" cy="432000"/>
            <a:chOff x="2698920" y="2349360"/>
            <a:chExt cx="1728720" cy="432000"/>
          </a:xfrm>
        </p:grpSpPr>
        <p:sp>
          <p:nvSpPr>
            <p:cNvPr id="265" name=""/>
            <p:cNvSpPr/>
            <p:nvPr/>
          </p:nvSpPr>
          <p:spPr>
            <a:xfrm>
              <a:off x="2698920" y="2781360"/>
              <a:ext cx="100800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98920" y="2637000"/>
              <a:ext cx="1223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27640" y="2563920"/>
              <a:ext cx="0" cy="142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22560" y="2563920"/>
              <a:ext cx="0" cy="142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22560" y="2637000"/>
              <a:ext cx="5050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32000" y="2349360"/>
              <a:ext cx="360360" cy="3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t</a:t>
              </a:r>
              <a:r>
                <a:rPr b="0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95640" y="2349360"/>
              <a:ext cx="360360" cy="3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t</a:t>
              </a:r>
              <a:r>
                <a:rPr b="0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00360" y="2637000"/>
            <a:ext cx="1655640" cy="358560"/>
            <a:chOff x="2700360" y="2637000"/>
            <a:chExt cx="1655640" cy="358560"/>
          </a:xfrm>
        </p:grpSpPr>
        <p:sp>
          <p:nvSpPr>
            <p:cNvPr id="273" name=""/>
            <p:cNvSpPr/>
            <p:nvPr/>
          </p:nvSpPr>
          <p:spPr>
            <a:xfrm>
              <a:off x="2700360" y="2924280"/>
              <a:ext cx="6494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06920" y="2925720"/>
              <a:ext cx="6490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56000" y="2852640"/>
              <a:ext cx="0" cy="142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51280" y="2637000"/>
              <a:ext cx="360360" cy="3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t</a:t>
              </a:r>
              <a:r>
                <a:rPr b="0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619280" y="2492280"/>
            <a:ext cx="4753080" cy="358920"/>
            <a:chOff x="1619280" y="2492280"/>
            <a:chExt cx="4753080" cy="358920"/>
          </a:xfrm>
        </p:grpSpPr>
        <p:grpSp>
          <p:nvGrpSpPr>
            <p:cNvPr id="278" name=""/>
            <p:cNvGrpSpPr/>
            <p:nvPr/>
          </p:nvGrpSpPr>
          <p:grpSpPr>
            <a:xfrm>
              <a:off x="1619280" y="2708280"/>
              <a:ext cx="4753080" cy="142920"/>
              <a:chOff x="1619280" y="2708280"/>
              <a:chExt cx="4753080" cy="142920"/>
            </a:xfrm>
          </p:grpSpPr>
          <p:sp>
            <p:nvSpPr>
              <p:cNvPr id="279" name=""/>
              <p:cNvSpPr/>
              <p:nvPr/>
            </p:nvSpPr>
            <p:spPr>
              <a:xfrm>
                <a:off x="1619280" y="2781360"/>
                <a:ext cx="4753080" cy="0"/>
              </a:xfrm>
              <a:prstGeom prst="line">
                <a:avLst/>
              </a:prstGeom>
              <a:ln w="3240">
                <a:solidFill>
                  <a:srgbClr val="3333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938920" y="2781360"/>
                <a:ext cx="431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29480" y="2708280"/>
                <a:ext cx="0" cy="1429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5940360" y="2492280"/>
              <a:ext cx="360360" cy="3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t</a:t>
              </a:r>
              <a:r>
                <a:rPr b="0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659640" y="3860640"/>
            <a:ext cx="36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7164360" y="2708280"/>
                <a:ext cx="9367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3995640" y="4508640"/>
                <a:ext cx="792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995640" y="4076640"/>
                <a:ext cx="792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611280" y="5013360"/>
                <a:ext cx="2448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11280" y="5373720"/>
                <a:ext cx="2808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50920" y="6068880"/>
                <a:ext cx="36716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90" name=""/>
          <p:cNvGrpSpPr/>
          <p:nvPr/>
        </p:nvGrpSpPr>
        <p:grpSpPr>
          <a:xfrm>
            <a:off x="177120" y="4076640"/>
            <a:ext cx="3170880" cy="441360"/>
            <a:chOff x="177120" y="4076640"/>
            <a:chExt cx="3170880" cy="441360"/>
          </a:xfrm>
        </p:grpSpPr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1332000" y="4076640"/>
                  <a:ext cx="201600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≤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2" name=""/>
            <p:cNvSpPr/>
            <p:nvPr/>
          </p:nvSpPr>
          <p:spPr>
            <a:xfrm>
              <a:off x="177120" y="4149720"/>
              <a:ext cx="108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1. Ako 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529800" y="407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77120" y="4508640"/>
            <a:ext cx="3242520" cy="441000"/>
            <a:chOff x="177120" y="4508640"/>
            <a:chExt cx="3242520" cy="441000"/>
          </a:xfrm>
        </p:grpSpPr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1332000" y="4508640"/>
                  <a:ext cx="20876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&gt;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"/>
            <p:cNvSpPr/>
            <p:nvPr/>
          </p:nvSpPr>
          <p:spPr>
            <a:xfrm>
              <a:off x="177120" y="4581360"/>
              <a:ext cx="108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2. Ako 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529800" y="4508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59280" y="4941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Kako uzeti u obzir oba slučaj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716360" y="5326200"/>
                <a:ext cx="44276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00" name=""/>
          <p:cNvGrpSpPr/>
          <p:nvPr/>
        </p:nvGrpSpPr>
        <p:grpSpPr>
          <a:xfrm>
            <a:off x="1619280" y="3068640"/>
            <a:ext cx="4105080" cy="698040"/>
            <a:chOff x="1619280" y="3068640"/>
            <a:chExt cx="4105080" cy="698040"/>
          </a:xfrm>
        </p:grpSpPr>
        <p:grpSp>
          <p:nvGrpSpPr>
            <p:cNvPr id="301" name=""/>
            <p:cNvGrpSpPr/>
            <p:nvPr/>
          </p:nvGrpSpPr>
          <p:grpSpPr>
            <a:xfrm>
              <a:off x="1619280" y="3068640"/>
              <a:ext cx="4105080" cy="698040"/>
              <a:chOff x="1619280" y="3068640"/>
              <a:chExt cx="4105080" cy="698040"/>
            </a:xfrm>
          </p:grpSpPr>
          <p:sp>
            <p:nvSpPr>
              <p:cNvPr id="302" name=""/>
              <p:cNvSpPr/>
              <p:nvPr/>
            </p:nvSpPr>
            <p:spPr>
              <a:xfrm>
                <a:off x="1619280" y="3429000"/>
                <a:ext cx="2663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282920" y="3357720"/>
                <a:ext cx="0" cy="1425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282920" y="3429000"/>
                <a:ext cx="72072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930920" y="3429000"/>
                <a:ext cx="7934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930920" y="3357720"/>
                <a:ext cx="0" cy="1425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4360" y="3357720"/>
                <a:ext cx="0" cy="1425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92720" y="3357720"/>
                <a:ext cx="0" cy="1425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79640" y="3141720"/>
                <a:ext cx="36036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t</a:t>
                </a:r>
                <a:r>
                  <a:rPr b="0" lang="sr-Latn-CS" sz="1800" spc="-1" strike="noStrike" baseline="-20000">
                    <a:solidFill>
                      <a:srgbClr val="333399"/>
                    </a:solidFill>
                    <a:latin typeface="Tahom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87640" y="3141720"/>
                <a:ext cx="36036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t</a:t>
                </a:r>
                <a:r>
                  <a:rPr b="0" lang="sr-Latn-CS" sz="1800" spc="-1" strike="noStrike" baseline="-20000">
                    <a:solidFill>
                      <a:srgbClr val="333399"/>
                    </a:solidFill>
                    <a:latin typeface="Tahoma"/>
                  </a:rPr>
                  <a:t>2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780000" y="3141720"/>
                <a:ext cx="36036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t</a:t>
                </a:r>
                <a:r>
                  <a:rPr b="0" lang="sr-Latn-CS" sz="1800" spc="-1" strike="noStrike" baseline="-20000">
                    <a:solidFill>
                      <a:srgbClr val="333399"/>
                    </a:solidFill>
                    <a:latin typeface="Tahoma"/>
                  </a:rPr>
                  <a:t>3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59280" y="3068640"/>
                <a:ext cx="50472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700" spc="-1" strike="noStrike">
                    <a:solidFill>
                      <a:srgbClr val="333399"/>
                    </a:solidFill>
                    <a:latin typeface="Tahoma"/>
                  </a:rPr>
                  <a:t>t</a:t>
                </a:r>
                <a:r>
                  <a:rPr b="0" lang="sr-Latn-CS" sz="1700" spc="-1" strike="noStrike" baseline="-20000">
                    <a:solidFill>
                      <a:srgbClr val="333399"/>
                    </a:solidFill>
                    <a:latin typeface="Tahoma"/>
                  </a:rPr>
                  <a:t>(m-1)1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364000" y="3141720"/>
                <a:ext cx="3603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324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t</a:t>
                </a:r>
                <a:r>
                  <a:rPr b="0" lang="sr-Latn-CS" sz="1800" spc="-1" strike="noStrike" baseline="-20000">
                    <a:solidFill>
                      <a:srgbClr val="333399"/>
                    </a:solidFill>
                    <a:latin typeface="Tahoma"/>
                  </a:rPr>
                  <a:t>m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2700360" y="3357720"/>
              <a:ext cx="0" cy="1425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08360" y="3357720"/>
              <a:ext cx="0" cy="1425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500"/>
                            </p:stCondLst>
                            <p:childTnLst>
                              <p:par>
                                <p:cTn id="5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500"/>
                            </p:stCondLst>
                            <p:childTnLst>
                              <p:par>
                                <p:cTn id="5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500"/>
                            </p:stCondLst>
                            <p:childTnLst>
                              <p:par>
                                <p:cTn id="5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Koliko je trajanje svih zastoja RM</a:t>
            </a:r>
            <a:r>
              <a:rPr b="0" lang="sr-Latn-CS" sz="3600" spc="-1" strike="noStrike" baseline="-20000">
                <a:solidFill>
                  <a:srgbClr val="333399"/>
                </a:solidFill>
                <a:latin typeface="Tahoma"/>
              </a:rPr>
              <a:t>2</a:t>
            </a: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332000" y="2133720"/>
                <a:ext cx="11523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763640" y="5589720"/>
                <a:ext cx="2881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364000" y="3716280"/>
                <a:ext cx="1008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292720" y="2781360"/>
                <a:ext cx="10796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148360" y="5805360"/>
                <a:ext cx="10080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835280" y="4581360"/>
                <a:ext cx="33843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23" name=""/>
          <p:cNvGrpSpPr/>
          <p:nvPr/>
        </p:nvGrpSpPr>
        <p:grpSpPr>
          <a:xfrm>
            <a:off x="468360" y="2637000"/>
            <a:ext cx="4176720" cy="861840"/>
            <a:chOff x="468360" y="2637000"/>
            <a:chExt cx="4176720" cy="861840"/>
          </a:xfrm>
        </p:grpSpPr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1908000" y="2637000"/>
                  <a:ext cx="273708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</m:nary>
                      <m:r>
                        <m:t xml:space="preserve">≤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sSubSup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</m:sSub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25" name=""/>
            <p:cNvSpPr/>
            <p:nvPr/>
          </p:nvSpPr>
          <p:spPr>
            <a:xfrm>
              <a:off x="468360" y="2852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333399"/>
                  </a:solidFill>
                  <a:latin typeface="Tahoma"/>
                </a:rPr>
                <a:t>1. Ako 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693680" y="2849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63680" y="3573360"/>
            <a:ext cx="4179600" cy="863640"/>
            <a:chOff x="463680" y="3573360"/>
            <a:chExt cx="4179600" cy="863640"/>
          </a:xfrm>
        </p:grpSpPr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1908000" y="3573360"/>
                  <a:ext cx="273528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</m:nary>
                      <m:r>
                        <m:t xml:space="preserve">&gt;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sSubSup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</m:sSub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"/>
            <p:cNvSpPr/>
            <p:nvPr/>
          </p:nvSpPr>
          <p:spPr>
            <a:xfrm>
              <a:off x="463680" y="3789360"/>
              <a:ext cx="138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333399"/>
                  </a:solidFill>
                  <a:latin typeface="Tahoma"/>
                </a:rPr>
                <a:t>2. Ako 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766760" y="37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11320" y="587700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Koliko je trajanje svih zastoja RM</a:t>
            </a:r>
            <a:r>
              <a:rPr b="0" lang="sr-Latn-CS" sz="3600" spc="-1" strike="noStrike" baseline="-20000">
                <a:solidFill>
                  <a:srgbClr val="333399"/>
                </a:solidFill>
                <a:latin typeface="Tahoma"/>
              </a:rPr>
              <a:t>2</a:t>
            </a: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258920" y="2708280"/>
                <a:ext cx="4033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;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332000" y="213372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Kako uzeti u obzir oba slučaj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468360" y="5229360"/>
                <a:ext cx="75610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258920" y="3860640"/>
                <a:ext cx="5618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;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255840" y="4595760"/>
            <a:ext cx="5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Koje je vreme izvršenja svih poslova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476360" y="1989000"/>
                <a:ext cx="18003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40" name=""/>
          <p:cNvGrpSpPr/>
          <p:nvPr/>
        </p:nvGrpSpPr>
        <p:grpSpPr>
          <a:xfrm>
            <a:off x="2124000" y="2204640"/>
            <a:ext cx="502920" cy="360360"/>
            <a:chOff x="2124000" y="2204640"/>
            <a:chExt cx="502920" cy="360360"/>
          </a:xfrm>
        </p:grpSpPr>
        <p:sp>
          <p:nvSpPr>
            <p:cNvPr id="341" name=""/>
            <p:cNvSpPr/>
            <p:nvPr/>
          </p:nvSpPr>
          <p:spPr>
            <a:xfrm flipV="1">
              <a:off x="2124000" y="2237040"/>
              <a:ext cx="408960" cy="2955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155320" y="2270520"/>
              <a:ext cx="408960" cy="294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70320" y="2205000"/>
              <a:ext cx="156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2564640" y="2204640"/>
              <a:ext cx="62280" cy="130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2627280" y="1844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con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2840" y="2633760"/>
            <a:ext cx="6255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Ako se želi min T =&gt; treba Z</a:t>
            </a:r>
            <a:r>
              <a:rPr b="0" lang="sr-Latn-CS" sz="2400" spc="-1" strike="noStrike" baseline="-20000">
                <a:solidFill>
                  <a:srgbClr val="333399"/>
                </a:solidFill>
                <a:latin typeface="Tahoma"/>
              </a:rPr>
              <a:t>2</a:t>
            </a:r>
            <a:r>
              <a:rPr b="0" lang="sr-Latn-CS" sz="2400" spc="-1" strike="noStrike" baseline="42000">
                <a:solidFill>
                  <a:srgbClr val="333399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da bude 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0800" y="3213000"/>
            <a:ext cx="83116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Kad će  Z</a:t>
            </a:r>
            <a:r>
              <a:rPr b="0" lang="sr-Latn-CS" sz="2400" spc="-1" strike="noStrike" baseline="-20000">
                <a:solidFill>
                  <a:srgbClr val="333399"/>
                </a:solidFill>
                <a:latin typeface="Tahoma"/>
              </a:rPr>
              <a:t>2</a:t>
            </a:r>
            <a:r>
              <a:rPr b="0" lang="sr-Latn-CS" sz="2400" spc="-1" strike="noStrike" baseline="42000">
                <a:solidFill>
                  <a:srgbClr val="333399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biti najmanje moguće, odnosno minimal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1440" y="3789360"/>
            <a:ext cx="84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Kad najveći član niza ima najmanju moguću vred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95280" y="5084640"/>
            <a:ext cx="8185320" cy="1041480"/>
            <a:chOff x="395280" y="5084640"/>
            <a:chExt cx="8185320" cy="1041480"/>
          </a:xfrm>
        </p:grpSpPr>
        <p:sp>
          <p:nvSpPr>
            <p:cNvPr id="350" name=""/>
            <p:cNvSpPr/>
            <p:nvPr/>
          </p:nvSpPr>
          <p:spPr>
            <a:xfrm>
              <a:off x="395280" y="5300640"/>
              <a:ext cx="145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5040" indent="-272880"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333399"/>
                  </a:solidFill>
                  <a:latin typeface="Tahoma"/>
                </a:rPr>
                <a:t>Kad ć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1835280" y="5084640"/>
                  <a:ext cx="2520720" cy="92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m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−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m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d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52" name=""/>
            <p:cNvSpPr/>
            <p:nvPr/>
          </p:nvSpPr>
          <p:spPr>
            <a:xfrm>
              <a:off x="4427640" y="5300640"/>
              <a:ext cx="415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4680" indent="-27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333399"/>
                  </a:solidFill>
                  <a:latin typeface="Tahoma"/>
                </a:rPr>
                <a:t>imati najmanju vrednost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763640" y="6093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Kad će biti minimal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948360" y="6093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116000" y="4221000"/>
                <a:ext cx="6480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61578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ALGORIT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262800" y="2133720"/>
            <a:ext cx="3121920" cy="442800"/>
            <a:chOff x="262800" y="2133720"/>
            <a:chExt cx="3121920" cy="442800"/>
          </a:xfrm>
        </p:grpSpPr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684360" y="2133720"/>
                  <a:ext cx="2700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lim>
                          <m:r>
                            <m:t xml:space="preserve">i</m:t>
                          </m:r>
                        </m:lim>
                      </m:limLow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9" name=""/>
            <p:cNvSpPr/>
            <p:nvPr/>
          </p:nvSpPr>
          <p:spPr>
            <a:xfrm>
              <a:off x="262800" y="2133720"/>
              <a:ext cx="37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62800" y="2565360"/>
            <a:ext cx="3156840" cy="438120"/>
            <a:chOff x="262800" y="2565360"/>
            <a:chExt cx="3156840" cy="438120"/>
          </a:xfrm>
        </p:grpSpPr>
        <mc:AlternateContent>
          <mc:Choice xmlns:a14="http://schemas.microsoft.com/office/drawing/2010/main" Requires="a14">
            <p:sp>
              <p:nvSpPr>
                <p:cNvPr id="361" name=""/>
                <p:cNvSpPr txBox="1"/>
                <p:nvPr/>
              </p:nvSpPr>
              <p:spPr>
                <a:xfrm>
                  <a:off x="684360" y="2565360"/>
                  <a:ext cx="273528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lim>
                          <m:r>
                            <m:t xml:space="preserve">i</m:t>
                          </m:r>
                        </m:lim>
                      </m:limLow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2" name=""/>
            <p:cNvSpPr/>
            <p:nvPr/>
          </p:nvSpPr>
          <p:spPr>
            <a:xfrm>
              <a:off x="262800" y="2565360"/>
              <a:ext cx="37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62800" y="3068640"/>
            <a:ext cx="3445560" cy="385920"/>
            <a:chOff x="262800" y="3068640"/>
            <a:chExt cx="3445560" cy="385920"/>
          </a:xfrm>
        </p:grpSpPr>
        <mc:AlternateContent>
          <mc:Choice xmlns:a14="http://schemas.microsoft.com/office/drawing/2010/main" Requires="a14">
            <p:sp>
              <p:nvSpPr>
                <p:cNvPr id="364" name=""/>
                <p:cNvSpPr txBox="1"/>
                <p:nvPr/>
              </p:nvSpPr>
              <p:spPr>
                <a:xfrm>
                  <a:off x="2916360" y="3068640"/>
                  <a:ext cx="79200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65" name=""/>
            <p:cNvSpPr/>
            <p:nvPr/>
          </p:nvSpPr>
          <p:spPr>
            <a:xfrm>
              <a:off x="262800" y="3068640"/>
              <a:ext cx="37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3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1760" y="308448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Uporediti vrem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64240" y="3500280"/>
            <a:ext cx="2363040" cy="431640"/>
            <a:chOff x="264240" y="3500280"/>
            <a:chExt cx="2363040" cy="431640"/>
          </a:xfrm>
        </p:grpSpPr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1619280" y="3500280"/>
                  <a:ext cx="10080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69" name=""/>
            <p:cNvSpPr/>
            <p:nvPr/>
          </p:nvSpPr>
          <p:spPr>
            <a:xfrm>
              <a:off x="264240" y="35002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3720" y="350028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Ako 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354840" y="3500280"/>
            <a:ext cx="4242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1" lang="sr-Latn-CS" sz="1800" spc="-1" strike="noStrike" baseline="-20000">
                <a:solidFill>
                  <a:srgbClr val="333399"/>
                </a:solidFill>
                <a:latin typeface="Tahoma"/>
              </a:rPr>
              <a:t>r</a:t>
            </a: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sr-Latn-CS" sz="1800" spc="-1" strike="noStrike">
                <a:solidFill>
                  <a:srgbClr val="ff0000"/>
                </a:solidFill>
                <a:latin typeface="Tahoma"/>
              </a:rPr>
              <a:t>prethodi</a:t>
            </a: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 svim ostalim poslov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042920" y="3933720"/>
            <a:ext cx="2737080" cy="358920"/>
            <a:chOff x="1042920" y="3933720"/>
            <a:chExt cx="2737080" cy="358920"/>
          </a:xfrm>
        </p:grpSpPr>
        <p:sp>
          <p:nvSpPr>
            <p:cNvPr id="373" name=""/>
            <p:cNvSpPr/>
            <p:nvPr/>
          </p:nvSpPr>
          <p:spPr>
            <a:xfrm>
              <a:off x="1042920" y="3933720"/>
              <a:ext cx="2737080" cy="3589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P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r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	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  .   .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76360" y="3933720"/>
              <a:ext cx="1440" cy="358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79640" y="3933720"/>
              <a:ext cx="1440" cy="358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771640" y="3933720"/>
              <a:ext cx="1800" cy="358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76720" y="3933720"/>
              <a:ext cx="1440" cy="358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64960" y="4365720"/>
            <a:ext cx="2362320" cy="431640"/>
            <a:chOff x="264960" y="4365720"/>
            <a:chExt cx="2362320" cy="431640"/>
          </a:xfrm>
        </p:grpSpPr>
        <mc:AlternateContent>
          <mc:Choice xmlns:a14="http://schemas.microsoft.com/office/drawing/2010/main" Requires="a14">
            <p:sp>
              <p:nvSpPr>
                <p:cNvPr id="379" name=""/>
                <p:cNvSpPr txBox="1"/>
                <p:nvPr/>
              </p:nvSpPr>
              <p:spPr>
                <a:xfrm>
                  <a:off x="1619280" y="4365720"/>
                  <a:ext cx="10080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"/>
            <p:cNvSpPr/>
            <p:nvPr/>
          </p:nvSpPr>
          <p:spPr>
            <a:xfrm>
              <a:off x="264960" y="4365720"/>
              <a:ext cx="40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93720" y="4365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Ako 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373920" y="4365720"/>
            <a:ext cx="4923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1" lang="sr-Latn-CS" sz="1800" spc="-1" strike="noStrike" baseline="-20000">
                <a:solidFill>
                  <a:srgbClr val="333399"/>
                </a:solidFill>
                <a:latin typeface="Tahoma"/>
              </a:rPr>
              <a:t>s</a:t>
            </a: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  treba rasporediti na</a:t>
            </a:r>
            <a:r>
              <a:rPr b="1" lang="sr-Latn-CS" sz="1800" spc="-1" strike="noStrike">
                <a:solidFill>
                  <a:srgbClr val="ff0000"/>
                </a:solidFill>
                <a:latin typeface="Tahoma"/>
              </a:rPr>
              <a:t> poslednju </a:t>
            </a: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pozi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042920" y="4797360"/>
            <a:ext cx="2737080" cy="360360"/>
            <a:chOff x="1042920" y="4797360"/>
            <a:chExt cx="2737080" cy="360360"/>
          </a:xfrm>
        </p:grpSpPr>
        <p:sp>
          <p:nvSpPr>
            <p:cNvPr id="384" name=""/>
            <p:cNvSpPr/>
            <p:nvPr/>
          </p:nvSpPr>
          <p:spPr>
            <a:xfrm>
              <a:off x="1042920" y="4797360"/>
              <a:ext cx="2737080" cy="3603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	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  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.   .  .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	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           </a:t>
              </a: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P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76360" y="4797360"/>
              <a:ext cx="144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79640" y="4797360"/>
              <a:ext cx="144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71640" y="4797360"/>
              <a:ext cx="180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76720" y="4797360"/>
              <a:ext cx="144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66760" y="5373720"/>
            <a:ext cx="2216160" cy="431640"/>
            <a:chOff x="266760" y="5373720"/>
            <a:chExt cx="2216160" cy="431640"/>
          </a:xfrm>
        </p:grpSpPr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1474920" y="5373720"/>
                  <a:ext cx="10080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91" name=""/>
            <p:cNvSpPr/>
            <p:nvPr/>
          </p:nvSpPr>
          <p:spPr>
            <a:xfrm>
              <a:off x="266760" y="5373720"/>
              <a:ext cx="37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0640" y="537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Ako 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2411280" y="5373720"/>
            <a:ext cx="5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21280" y="5229360"/>
            <a:ext cx="23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Pr  na</a:t>
            </a:r>
            <a:r>
              <a:rPr b="1" lang="sr-Latn-CS" sz="1800" spc="-1" strike="noStrike">
                <a:solidFill>
                  <a:srgbClr val="ff0000"/>
                </a:solidFill>
                <a:latin typeface="Tahoma"/>
              </a:rPr>
              <a:t> prvu </a:t>
            </a: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pozi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31720" y="5589720"/>
            <a:ext cx="29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Ps  na</a:t>
            </a:r>
            <a:r>
              <a:rPr b="1" lang="sr-Latn-CS" sz="1800" spc="-1" strike="noStrike">
                <a:solidFill>
                  <a:srgbClr val="ff0000"/>
                </a:solidFill>
                <a:latin typeface="Tahoma"/>
              </a:rPr>
              <a:t> poslednju </a:t>
            </a: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pozi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986200" y="5302080"/>
            <a:ext cx="144360" cy="64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042920" y="6093000"/>
            <a:ext cx="2737080" cy="360360"/>
            <a:chOff x="1042920" y="6093000"/>
            <a:chExt cx="2737080" cy="360360"/>
          </a:xfrm>
        </p:grpSpPr>
        <p:sp>
          <p:nvSpPr>
            <p:cNvPr id="398" name=""/>
            <p:cNvSpPr/>
            <p:nvPr/>
          </p:nvSpPr>
          <p:spPr>
            <a:xfrm>
              <a:off x="1042920" y="6093000"/>
              <a:ext cx="2737080" cy="3603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P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r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	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  .   .  .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	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          </a:t>
              </a: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P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76360" y="6093000"/>
              <a:ext cx="144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79640" y="6093000"/>
              <a:ext cx="144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71640" y="6093000"/>
              <a:ext cx="180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76720" y="6093000"/>
              <a:ext cx="144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5280" y="2492280"/>
            <a:ext cx="0" cy="144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5280" y="292428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5280" y="335772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5280" y="573408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809080" y="3500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09080" y="43657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ALGORIT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Ako više poslova konkuriše za jednu poziciju tada postoj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Tahoma"/>
              </a:rPr>
              <a:t>više optimalnih rešenj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Tahoma"/>
              </a:rPr>
              <a:t>PRIME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551880" y="206064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00000" y="2060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Raspoređeni posao (raspoređene poslove) isključiti iz daljeg posmatranja i </a:t>
            </a:r>
            <a:r>
              <a:rPr b="1" lang="sr-Latn-CS" sz="1800" spc="-1" strike="noStrike">
                <a:solidFill>
                  <a:srgbClr val="ff0000"/>
                </a:solidFill>
                <a:latin typeface="Tahoma"/>
              </a:rPr>
              <a:t>ponoviti</a:t>
            </a: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 postu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0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385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1" dur="385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3" dur="385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5" dur="385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ORGANIZACIJA IZVRŠENJA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349360"/>
            <a:ext cx="83678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VIŠE POSLOV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VIŠE AKTIVNOSTI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VIŠE PROJEKATA,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U OKVIRU NEKOLIKO ORGANIZACIONIH CELI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37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sl-SI" sz="3200" spc="-1" strike="noStrike">
                <a:solidFill>
                  <a:srgbClr val="ff0000"/>
                </a:solidFill>
                <a:latin typeface="Tahoma"/>
              </a:rPr>
              <a:t>ODREĐIVANJE OPTIMALNOG REDOSLEDA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 -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92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192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192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192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Šta je proble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drediti takav redosled izvršenja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poslova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u okviru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organizacionih celina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&gt;&gt;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) kome će odgovarati minimalno ukupno vreme izvršenja svih poslova. </a:t>
            </a:r>
            <a:r>
              <a:rPr b="0" lang="fr-FR" sz="2400" spc="-1" strike="noStrike">
                <a:solidFill>
                  <a:srgbClr val="333399"/>
                </a:solidFill>
                <a:latin typeface="Tahoma"/>
              </a:rPr>
              <a:t>Redosled organizacionih celina pri izvršenju svakog posla je poznat, isti je za sve poslove i ne može se menjati. Isto tako vremena trajanja poslova po organizacionim celinama poznata su i konstantne su velič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Tahoma"/>
              </a:rPr>
              <a:t>Odrediti takav redosled </a:t>
            </a:r>
            <a:r>
              <a:rPr b="0" i="1" lang="fr-FR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 organizacionih celina</a:t>
            </a:r>
            <a:r>
              <a:rPr b="0" lang="fr-FR" sz="2400" spc="-1" strike="noStrike">
                <a:solidFill>
                  <a:srgbClr val="333399"/>
                </a:solidFill>
                <a:latin typeface="Tahoma"/>
              </a:rPr>
              <a:t> pri izvršenju </a:t>
            </a:r>
            <a:r>
              <a:rPr b="0" i="1" lang="fr-FR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 poslova</a:t>
            </a:r>
            <a:r>
              <a:rPr b="0" lang="fr-FR" sz="2400" spc="-1" strike="noStrike">
                <a:solidFill>
                  <a:srgbClr val="333399"/>
                </a:solidFill>
                <a:latin typeface="Tahoma"/>
              </a:rPr>
              <a:t> (</a:t>
            </a:r>
            <a:r>
              <a:rPr b="0" i="1" lang="fr-FR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&gt;&gt;</a:t>
            </a:r>
            <a:r>
              <a:rPr b="0" i="1" lang="fr-FR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fr-FR" sz="2400" spc="-1" strike="noStrike">
                <a:solidFill>
                  <a:srgbClr val="333399"/>
                </a:solidFill>
                <a:latin typeface="Tahoma"/>
              </a:rPr>
              <a:t>) kome će odgovarati najmanje ukupno vreme trajanja svih poslova. U ovom slučaju poznat je redosled poslova i ne može se menjati. Isto tako vremena trajanja poslova po organizacionim celinama poznata su i konstantne su velič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Struktura problema određivanja optimalnog rasporeda izvršenja 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poslova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 u okviru 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organizacionih cel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59092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ORGANIZACIONE C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radna m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grupe radnih m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deljenja ili služ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radio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ogoni, fabr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reduzeća, ustan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5909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 algn="ctr"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PREDMET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oslovi, aktivnosti, operaci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izrada delova, proizvoda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izgradnja objek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brada zemlji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izgradnja puteva i druge infrastruktu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27432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761760"/>
            <a:ext cx="66978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Tahoma"/>
              </a:rPr>
              <a:t>ŠTA JE CILJ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895480"/>
            <a:ext cx="76201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ORGANIZOVATI RAD TAKO DA SE SVE ZAVRŠI ZA NAJKRAĆE VR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Tahoma"/>
              </a:rPr>
              <a:t>min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92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192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192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192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Od čega se polazi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895480"/>
            <a:ext cx="861048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edmeta rada 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sl-SI" sz="28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, i=1,...,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Tehnologije rada (redosleda organizacionih celina 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OC</a:t>
            </a:r>
            <a:r>
              <a:rPr b="0" lang="sl-SI" sz="2800" spc="-1" strike="noStrike" baseline="-20000">
                <a:solidFill>
                  <a:srgbClr val="ff0000"/>
                </a:solidFill>
                <a:latin typeface="Tahoma"/>
              </a:rPr>
              <a:t>j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,  j= 1,...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(m&gt;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Vremena trajanja poslova 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sl-SI" sz="2800" spc="-1" strike="noStrike" baseline="-20000">
                <a:solidFill>
                  <a:srgbClr val="ff0000"/>
                </a:solidFill>
                <a:latin typeface="Tahoma"/>
              </a:rPr>
              <a:t>ij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=const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Šta treba odrediti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514600"/>
            <a:ext cx="83822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84320" indent="-18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Redosled predmeta rada P</a:t>
            </a:r>
            <a:r>
              <a:rPr b="0" lang="sl-SI" sz="2800" spc="-1" strike="noStrike" baseline="-18000">
                <a:solidFill>
                  <a:srgbClr val="ff0000"/>
                </a:solidFill>
                <a:latin typeface="Tahoma"/>
              </a:rPr>
              <a:t>i 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(optimal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Redosled organizacionih celina OC</a:t>
            </a:r>
            <a:r>
              <a:rPr b="0" lang="sl-SI" sz="2800" spc="-1" strike="noStrike" baseline="-18000">
                <a:solidFill>
                  <a:srgbClr val="ff0000"/>
                </a:solidFill>
                <a:latin typeface="Tahoma"/>
              </a:rPr>
              <a:t>j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; (j = 1,...,n) 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(optimal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min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Zastoje ili čekanja predmeta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Čekanja ili zastoje organizacionih ce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Struktura problema određivanja optimalnog rasporeda izvršenja </a:t>
            </a:r>
            <a:r>
              <a:rPr b="0" lang="sl-SI" sz="3200" spc="-1" strike="noStrike">
                <a:solidFill>
                  <a:srgbClr val="ff0000"/>
                </a:solidFill>
                <a:latin typeface="Tahoma"/>
              </a:rPr>
              <a:t>m poslova</a:t>
            </a: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 u okviru </a:t>
            </a:r>
            <a:r>
              <a:rPr b="0" lang="sl-SI" sz="3200" spc="-1" strike="noStrike">
                <a:solidFill>
                  <a:srgbClr val="ff0000"/>
                </a:solidFill>
                <a:latin typeface="Tahoma"/>
              </a:rPr>
              <a:t>n organizacionih celin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084320" y="1841400"/>
            <a:ext cx="7432560" cy="4759560"/>
            <a:chOff x="1084320" y="1841400"/>
            <a:chExt cx="7432560" cy="4759560"/>
          </a:xfrm>
        </p:grpSpPr>
        <p:sp>
          <p:nvSpPr>
            <p:cNvPr id="118" name=""/>
            <p:cNvSpPr/>
            <p:nvPr/>
          </p:nvSpPr>
          <p:spPr>
            <a:xfrm>
              <a:off x="1882800" y="2043000"/>
              <a:ext cx="1325520" cy="180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47640" y="2060640"/>
              <a:ext cx="1800" cy="19796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03640" y="2060640"/>
              <a:ext cx="1440" cy="19796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19640" y="2059920"/>
              <a:ext cx="156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ORGANIZAC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51280" y="2205000"/>
              <a:ext cx="68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CE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89480" y="2565360"/>
              <a:ext cx="105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radna mesta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88760" y="2724120"/>
              <a:ext cx="1067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grupe radni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26200" y="2892600"/>
              <a:ext cx="49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mesta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87320" y="304164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odeljenja i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25840" y="3181320"/>
              <a:ext cx="522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slu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žb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89120" y="3357720"/>
              <a:ext cx="82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radionic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89120" y="3514680"/>
              <a:ext cx="62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pogoni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89840" y="3675240"/>
              <a:ext cx="66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fabrik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353600" y="2043000"/>
              <a:ext cx="528840" cy="180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53960" y="2043000"/>
              <a:ext cx="1800" cy="1979640"/>
            </a:xfrm>
            <a:custGeom>
              <a:avLst/>
              <a:gdLst/>
              <a:ahLst/>
              <a:rect l="l" t="t" r="r" b="b"/>
              <a:pathLst>
                <a:path w="0" h="2494">
                  <a:moveTo>
                    <a:pt x="0" y="0"/>
                  </a:moveTo>
                  <a:lnTo>
                    <a:pt x="0" y="2494"/>
                  </a:lnTo>
                  <a:lnTo>
                    <a:pt x="0" y="2267"/>
                  </a:lnTo>
                </a:path>
              </a:pathLst>
            </a:custGeom>
            <a:noFill/>
            <a:ln w="11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98240" y="2205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89240" y="2363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83840" y="25225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89240" y="2681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93560" y="2838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02920" y="299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89240" y="3314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89240" y="3471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89240" y="36306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89240" y="3789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40040" y="2043000"/>
              <a:ext cx="1854360" cy="180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40040" y="2043000"/>
              <a:ext cx="1800" cy="19796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94400" y="2043000"/>
              <a:ext cx="1440" cy="19796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40040" y="2438280"/>
              <a:ext cx="1854360" cy="180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83320" y="2162160"/>
              <a:ext cx="1477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PREDMET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R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20760" y="2708280"/>
              <a:ext cx="64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poslovi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09960" y="2865600"/>
              <a:ext cx="861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aktivnosti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12120" y="3022560"/>
              <a:ext cx="810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operacij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09240" y="3181320"/>
              <a:ext cx="1358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izrada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 proizvo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18600" y="3357720"/>
              <a:ext cx="1416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izgradnja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 objek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26120" y="2043000"/>
              <a:ext cx="1800" cy="19796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26120" y="2043000"/>
              <a:ext cx="2119320" cy="180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245440" y="2043000"/>
              <a:ext cx="1800" cy="19796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26120" y="2440080"/>
              <a:ext cx="2119320" cy="1440"/>
            </a:xfrm>
            <a:custGeom>
              <a:avLst/>
              <a:gdLst/>
              <a:ahLst/>
              <a:rect l="l" t="t" r="r" b="b"/>
              <a:pathLst>
                <a:path w="2671" h="0">
                  <a:moveTo>
                    <a:pt x="84" y="0"/>
                  </a:moveTo>
                  <a:lnTo>
                    <a:pt x="0" y="0"/>
                  </a:lnTo>
                  <a:lnTo>
                    <a:pt x="2671" y="0"/>
                  </a:lnTo>
                </a:path>
              </a:pathLst>
            </a:custGeom>
            <a:solidFill>
              <a:srgbClr val="333399"/>
            </a:solidFill>
            <a:ln w="11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720" y="2119320"/>
              <a:ext cx="66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CILJ 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0720" y="2637000"/>
              <a:ext cx="1733760" cy="12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ORGANIZOVATI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 PROCES RADA TAKO DA SE SVI POSLOVI IZVRŠE ZA NAJKRAĆE MOGUĆE VRE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53960" y="4022640"/>
              <a:ext cx="1854360" cy="180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41520" y="3033720"/>
              <a:ext cx="20016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30520" y="2997360"/>
              <a:ext cx="142920" cy="71280"/>
            </a:xfrm>
            <a:custGeom>
              <a:avLst/>
              <a:gdLst/>
              <a:ahLst/>
              <a:rect l="l" t="t" r="r" b="b"/>
              <a:pathLst>
                <a:path w="181" h="91">
                  <a:moveTo>
                    <a:pt x="0" y="0"/>
                  </a:moveTo>
                  <a:lnTo>
                    <a:pt x="181" y="45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61000" y="3033720"/>
              <a:ext cx="20160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50000" y="2997360"/>
              <a:ext cx="142920" cy="7128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0" y="0"/>
                  </a:moveTo>
                  <a:lnTo>
                    <a:pt x="181" y="44"/>
                  </a:lnTo>
                  <a:lnTo>
                    <a:pt x="0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40040" y="4022640"/>
              <a:ext cx="1854360" cy="180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26120" y="4022640"/>
              <a:ext cx="2119320" cy="180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53960" y="4417920"/>
              <a:ext cx="1854360" cy="180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53960" y="4419720"/>
              <a:ext cx="1800" cy="19796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53960" y="6399360"/>
              <a:ext cx="185580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09760" y="4419720"/>
              <a:ext cx="1800" cy="19796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53960" y="4815000"/>
              <a:ext cx="185436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40040" y="4419720"/>
              <a:ext cx="1854360" cy="1979640"/>
            </a:xfrm>
            <a:custGeom>
              <a:avLst/>
              <a:gdLst/>
              <a:ahLst/>
              <a:rect l="l" t="t" r="r" b="b"/>
              <a:pathLst>
                <a:path w="2337" h="2494">
                  <a:moveTo>
                    <a:pt x="2337" y="0"/>
                  </a:moveTo>
                  <a:lnTo>
                    <a:pt x="0" y="0"/>
                  </a:lnTo>
                  <a:lnTo>
                    <a:pt x="0" y="2494"/>
                  </a:lnTo>
                </a:path>
              </a:pathLst>
            </a:custGeom>
            <a:noFill/>
            <a:ln w="11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94400" y="4419720"/>
              <a:ext cx="1440" cy="19796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40040" y="6399360"/>
              <a:ext cx="185436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40040" y="4815000"/>
              <a:ext cx="185436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26120" y="4419720"/>
              <a:ext cx="1800" cy="19796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26120" y="4419720"/>
              <a:ext cx="211932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45440" y="4419720"/>
              <a:ext cx="1800" cy="19796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6120" y="6399360"/>
              <a:ext cx="211932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26120" y="4815000"/>
              <a:ext cx="211932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06320" y="4537080"/>
              <a:ext cx="1256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POLAZI SE 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10480" y="4952880"/>
              <a:ext cx="8798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oslova P</a:t>
              </a:r>
              <a:r>
                <a:rPr b="1" lang="sr-Latn-CS" sz="1400" spc="-1" strike="noStrike" baseline="-20000">
                  <a:solidFill>
                    <a:srgbClr val="333399"/>
                  </a:solidFill>
                  <a:latin typeface="Times New Roman"/>
                </a:rPr>
                <a:t>i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10200" y="4941720"/>
              <a:ext cx="612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i=1,...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06520" y="5111640"/>
              <a:ext cx="164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tehnologij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e</a:t>
              </a: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 izvr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šen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10120" y="52704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redosled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69520" y="5445000"/>
              <a:ext cx="162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organizacionih ce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76720" y="5624640"/>
              <a:ext cx="4212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(OC</a:t>
              </a:r>
              <a:r>
                <a:rPr b="1" lang="sr-Latn-CS" sz="1400" spc="-1" strike="noStrike" baseline="-20000">
                  <a:solidFill>
                    <a:srgbClr val="333399"/>
                  </a:solidFill>
                  <a:latin typeface="Times New Roman"/>
                </a:rPr>
                <a:t>j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78200" y="5624640"/>
              <a:ext cx="63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j=1,...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98600" y="5805360"/>
              <a:ext cx="139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vremena trajan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75640" y="5950080"/>
              <a:ext cx="747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poslova t</a:t>
              </a:r>
              <a:r>
                <a:rPr b="1" lang="sr-Latn-CS" sz="1400" spc="-1" strike="noStrike" baseline="-20000">
                  <a:solidFill>
                    <a:srgbClr val="333399"/>
                  </a:solidFill>
                  <a:latin typeface="Times New Roman"/>
                </a:rPr>
                <a:t>i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11640" y="4400640"/>
              <a:ext cx="86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POZN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67640" y="4581360"/>
              <a:ext cx="115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VELI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ČINE S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76400" y="4941720"/>
              <a:ext cx="1796040" cy="11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r>
                <a:rPr b="1" lang="sr-Latn-CS" sz="1400" spc="-1" strike="noStrike" baseline="-20000">
                  <a:solidFill>
                    <a:srgbClr val="333399"/>
                  </a:solidFill>
                  <a:latin typeface="Times New Roman"/>
                </a:rPr>
                <a:t>i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, (i=1,...,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(OC</a:t>
              </a:r>
              <a:r>
                <a:rPr b="1" lang="sr-Latn-CS" sz="1400" spc="-1" strike="noStrike" baseline="-20000">
                  <a:solidFill>
                    <a:srgbClr val="333399"/>
                  </a:solidFill>
                  <a:latin typeface="Times New Roman"/>
                </a:rPr>
                <a:t>j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, j=1,...,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t</a:t>
              </a:r>
              <a:r>
                <a:rPr b="1" lang="sr-Latn-CS" sz="1400" spc="-1" strike="noStrike" baseline="-20000">
                  <a:solidFill>
                    <a:srgbClr val="333399"/>
                  </a:solidFill>
                  <a:latin typeface="Times New Roman"/>
                </a:rPr>
                <a:t>ij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=cons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redosled (OCj, j=1,...,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n&lt;&lt;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73080" y="4508640"/>
              <a:ext cx="155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TREBA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 ODERDI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27640" y="4869000"/>
              <a:ext cx="187344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Redosled poslova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r>
                <a:rPr b="1" lang="sr-Latn-CS" sz="1400" spc="-1" strike="noStrike" baseline="-20000">
                  <a:solidFill>
                    <a:srgbClr val="333399"/>
                  </a:solidFill>
                  <a:latin typeface="Times New Roman"/>
                </a:rPr>
                <a:t>i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, (i=1,...,m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min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Zoc – zastoje ili čekanja organizacionih ce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Č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p – čekanje poslova na izvrše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41520" y="5408640"/>
              <a:ext cx="16380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30520" y="5373720"/>
              <a:ext cx="142920" cy="7128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0" y="0"/>
                  </a:moveTo>
                  <a:lnTo>
                    <a:pt x="181" y="45"/>
                  </a:lnTo>
                  <a:lnTo>
                    <a:pt x="0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61000" y="5408640"/>
              <a:ext cx="20160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50000" y="5373720"/>
              <a:ext cx="142920" cy="7128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0" y="0"/>
                  </a:moveTo>
                  <a:lnTo>
                    <a:pt x="181" y="45"/>
                  </a:lnTo>
                  <a:lnTo>
                    <a:pt x="0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16960" y="4022640"/>
              <a:ext cx="1440" cy="19836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414160" y="4221000"/>
              <a:ext cx="5302440" cy="180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14520" y="4221000"/>
              <a:ext cx="1800" cy="10008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67000" y="4311720"/>
              <a:ext cx="95040" cy="106200"/>
            </a:xfrm>
            <a:custGeom>
              <a:avLst/>
              <a:gdLst/>
              <a:ahLst/>
              <a:rect l="l" t="t" r="r" b="b"/>
              <a:pathLst>
                <a:path w="120" h="134">
                  <a:moveTo>
                    <a:pt x="120" y="0"/>
                  </a:moveTo>
                  <a:lnTo>
                    <a:pt x="61" y="134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4320" y="1841400"/>
              <a:ext cx="7432560" cy="7920"/>
            </a:xfrm>
            <a:custGeom>
              <a:avLst/>
              <a:gdLst/>
              <a:ahLst/>
              <a:rect l="l" t="t" r="r" b="b"/>
              <a:pathLst>
                <a:path w="9366" h="10">
                  <a:moveTo>
                    <a:pt x="7" y="0"/>
                  </a:move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2" y="2"/>
                  </a:lnTo>
                  <a:lnTo>
                    <a:pt x="214" y="5"/>
                  </a:lnTo>
                  <a:lnTo>
                    <a:pt x="212" y="7"/>
                  </a:lnTo>
                  <a:lnTo>
                    <a:pt x="212" y="9"/>
                  </a:lnTo>
                  <a:lnTo>
                    <a:pt x="209" y="10"/>
                  </a:lnTo>
                  <a:lnTo>
                    <a:pt x="207" y="10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close/>
                  <a:moveTo>
                    <a:pt x="327" y="0"/>
                  </a:moveTo>
                  <a:lnTo>
                    <a:pt x="528" y="0"/>
                  </a:lnTo>
                  <a:lnTo>
                    <a:pt x="530" y="0"/>
                  </a:lnTo>
                  <a:lnTo>
                    <a:pt x="533" y="1"/>
                  </a:lnTo>
                  <a:lnTo>
                    <a:pt x="535" y="2"/>
                  </a:lnTo>
                  <a:lnTo>
                    <a:pt x="535" y="5"/>
                  </a:lnTo>
                  <a:lnTo>
                    <a:pt x="535" y="7"/>
                  </a:lnTo>
                  <a:lnTo>
                    <a:pt x="533" y="9"/>
                  </a:lnTo>
                  <a:lnTo>
                    <a:pt x="530" y="10"/>
                  </a:lnTo>
                  <a:lnTo>
                    <a:pt x="528" y="10"/>
                  </a:lnTo>
                  <a:lnTo>
                    <a:pt x="327" y="10"/>
                  </a:lnTo>
                  <a:lnTo>
                    <a:pt x="324" y="10"/>
                  </a:lnTo>
                  <a:lnTo>
                    <a:pt x="323" y="9"/>
                  </a:lnTo>
                  <a:lnTo>
                    <a:pt x="321" y="7"/>
                  </a:lnTo>
                  <a:lnTo>
                    <a:pt x="321" y="5"/>
                  </a:lnTo>
                  <a:lnTo>
                    <a:pt x="321" y="2"/>
                  </a:lnTo>
                  <a:lnTo>
                    <a:pt x="323" y="1"/>
                  </a:lnTo>
                  <a:lnTo>
                    <a:pt x="324" y="0"/>
                  </a:lnTo>
                  <a:lnTo>
                    <a:pt x="327" y="0"/>
                  </a:lnTo>
                  <a:lnTo>
                    <a:pt x="327" y="0"/>
                  </a:lnTo>
                  <a:close/>
                  <a:moveTo>
                    <a:pt x="648" y="0"/>
                  </a:moveTo>
                  <a:lnTo>
                    <a:pt x="848" y="0"/>
                  </a:lnTo>
                  <a:lnTo>
                    <a:pt x="852" y="0"/>
                  </a:lnTo>
                  <a:lnTo>
                    <a:pt x="853" y="1"/>
                  </a:lnTo>
                  <a:lnTo>
                    <a:pt x="855" y="2"/>
                  </a:lnTo>
                  <a:lnTo>
                    <a:pt x="855" y="5"/>
                  </a:lnTo>
                  <a:lnTo>
                    <a:pt x="855" y="7"/>
                  </a:lnTo>
                  <a:lnTo>
                    <a:pt x="853" y="9"/>
                  </a:lnTo>
                  <a:lnTo>
                    <a:pt x="852" y="10"/>
                  </a:lnTo>
                  <a:lnTo>
                    <a:pt x="848" y="10"/>
                  </a:lnTo>
                  <a:lnTo>
                    <a:pt x="648" y="10"/>
                  </a:lnTo>
                  <a:lnTo>
                    <a:pt x="645" y="10"/>
                  </a:lnTo>
                  <a:lnTo>
                    <a:pt x="643" y="9"/>
                  </a:lnTo>
                  <a:lnTo>
                    <a:pt x="641" y="7"/>
                  </a:lnTo>
                  <a:lnTo>
                    <a:pt x="641" y="5"/>
                  </a:lnTo>
                  <a:lnTo>
                    <a:pt x="641" y="2"/>
                  </a:lnTo>
                  <a:lnTo>
                    <a:pt x="643" y="1"/>
                  </a:lnTo>
                  <a:lnTo>
                    <a:pt x="645" y="0"/>
                  </a:lnTo>
                  <a:lnTo>
                    <a:pt x="648" y="0"/>
                  </a:lnTo>
                  <a:lnTo>
                    <a:pt x="648" y="0"/>
                  </a:lnTo>
                  <a:close/>
                  <a:moveTo>
                    <a:pt x="968" y="0"/>
                  </a:moveTo>
                  <a:lnTo>
                    <a:pt x="1169" y="0"/>
                  </a:lnTo>
                  <a:lnTo>
                    <a:pt x="1172" y="0"/>
                  </a:lnTo>
                  <a:lnTo>
                    <a:pt x="1174" y="1"/>
                  </a:lnTo>
                  <a:lnTo>
                    <a:pt x="1176" y="2"/>
                  </a:lnTo>
                  <a:lnTo>
                    <a:pt x="1176" y="5"/>
                  </a:lnTo>
                  <a:lnTo>
                    <a:pt x="1176" y="7"/>
                  </a:lnTo>
                  <a:lnTo>
                    <a:pt x="1174" y="9"/>
                  </a:lnTo>
                  <a:lnTo>
                    <a:pt x="1172" y="10"/>
                  </a:lnTo>
                  <a:lnTo>
                    <a:pt x="1169" y="10"/>
                  </a:lnTo>
                  <a:lnTo>
                    <a:pt x="968" y="10"/>
                  </a:lnTo>
                  <a:lnTo>
                    <a:pt x="965" y="10"/>
                  </a:lnTo>
                  <a:lnTo>
                    <a:pt x="964" y="9"/>
                  </a:lnTo>
                  <a:lnTo>
                    <a:pt x="962" y="7"/>
                  </a:lnTo>
                  <a:lnTo>
                    <a:pt x="962" y="5"/>
                  </a:lnTo>
                  <a:lnTo>
                    <a:pt x="962" y="2"/>
                  </a:lnTo>
                  <a:lnTo>
                    <a:pt x="964" y="1"/>
                  </a:lnTo>
                  <a:lnTo>
                    <a:pt x="965" y="0"/>
                  </a:lnTo>
                  <a:lnTo>
                    <a:pt x="968" y="0"/>
                  </a:lnTo>
                  <a:lnTo>
                    <a:pt x="968" y="0"/>
                  </a:lnTo>
                  <a:close/>
                  <a:moveTo>
                    <a:pt x="1289" y="0"/>
                  </a:moveTo>
                  <a:lnTo>
                    <a:pt x="1489" y="0"/>
                  </a:lnTo>
                  <a:lnTo>
                    <a:pt x="1493" y="0"/>
                  </a:lnTo>
                  <a:lnTo>
                    <a:pt x="1494" y="1"/>
                  </a:lnTo>
                  <a:lnTo>
                    <a:pt x="1496" y="2"/>
                  </a:lnTo>
                  <a:lnTo>
                    <a:pt x="1496" y="5"/>
                  </a:lnTo>
                  <a:lnTo>
                    <a:pt x="1496" y="7"/>
                  </a:lnTo>
                  <a:lnTo>
                    <a:pt x="1494" y="9"/>
                  </a:lnTo>
                  <a:lnTo>
                    <a:pt x="1493" y="10"/>
                  </a:lnTo>
                  <a:lnTo>
                    <a:pt x="1489" y="10"/>
                  </a:lnTo>
                  <a:lnTo>
                    <a:pt x="1289" y="10"/>
                  </a:lnTo>
                  <a:lnTo>
                    <a:pt x="1287" y="10"/>
                  </a:lnTo>
                  <a:lnTo>
                    <a:pt x="1284" y="9"/>
                  </a:lnTo>
                  <a:lnTo>
                    <a:pt x="1282" y="7"/>
                  </a:lnTo>
                  <a:lnTo>
                    <a:pt x="1282" y="5"/>
                  </a:lnTo>
                  <a:lnTo>
                    <a:pt x="1282" y="2"/>
                  </a:lnTo>
                  <a:lnTo>
                    <a:pt x="1284" y="1"/>
                  </a:lnTo>
                  <a:lnTo>
                    <a:pt x="1287" y="0"/>
                  </a:lnTo>
                  <a:lnTo>
                    <a:pt x="1289" y="0"/>
                  </a:lnTo>
                  <a:lnTo>
                    <a:pt x="1289" y="0"/>
                  </a:lnTo>
                  <a:close/>
                  <a:moveTo>
                    <a:pt x="1609" y="0"/>
                  </a:moveTo>
                  <a:lnTo>
                    <a:pt x="1810" y="0"/>
                  </a:lnTo>
                  <a:lnTo>
                    <a:pt x="1813" y="0"/>
                  </a:lnTo>
                  <a:lnTo>
                    <a:pt x="1815" y="1"/>
                  </a:lnTo>
                  <a:lnTo>
                    <a:pt x="1817" y="2"/>
                  </a:lnTo>
                  <a:lnTo>
                    <a:pt x="1817" y="5"/>
                  </a:lnTo>
                  <a:lnTo>
                    <a:pt x="1817" y="7"/>
                  </a:lnTo>
                  <a:lnTo>
                    <a:pt x="1815" y="9"/>
                  </a:lnTo>
                  <a:lnTo>
                    <a:pt x="1813" y="10"/>
                  </a:lnTo>
                  <a:lnTo>
                    <a:pt x="1810" y="10"/>
                  </a:lnTo>
                  <a:lnTo>
                    <a:pt x="1609" y="10"/>
                  </a:lnTo>
                  <a:lnTo>
                    <a:pt x="1608" y="10"/>
                  </a:lnTo>
                  <a:lnTo>
                    <a:pt x="1605" y="9"/>
                  </a:lnTo>
                  <a:lnTo>
                    <a:pt x="1605" y="7"/>
                  </a:lnTo>
                  <a:lnTo>
                    <a:pt x="1603" y="5"/>
                  </a:lnTo>
                  <a:lnTo>
                    <a:pt x="1605" y="2"/>
                  </a:lnTo>
                  <a:lnTo>
                    <a:pt x="1605" y="1"/>
                  </a:lnTo>
                  <a:lnTo>
                    <a:pt x="1608" y="0"/>
                  </a:lnTo>
                  <a:lnTo>
                    <a:pt x="1609" y="0"/>
                  </a:lnTo>
                  <a:lnTo>
                    <a:pt x="1609" y="0"/>
                  </a:lnTo>
                  <a:close/>
                  <a:moveTo>
                    <a:pt x="1930" y="0"/>
                  </a:moveTo>
                  <a:lnTo>
                    <a:pt x="2130" y="0"/>
                  </a:lnTo>
                  <a:lnTo>
                    <a:pt x="2134" y="0"/>
                  </a:lnTo>
                  <a:lnTo>
                    <a:pt x="2135" y="1"/>
                  </a:lnTo>
                  <a:lnTo>
                    <a:pt x="2137" y="2"/>
                  </a:lnTo>
                  <a:lnTo>
                    <a:pt x="2137" y="5"/>
                  </a:lnTo>
                  <a:lnTo>
                    <a:pt x="2137" y="7"/>
                  </a:lnTo>
                  <a:lnTo>
                    <a:pt x="2135" y="9"/>
                  </a:lnTo>
                  <a:lnTo>
                    <a:pt x="2134" y="10"/>
                  </a:lnTo>
                  <a:lnTo>
                    <a:pt x="2130" y="10"/>
                  </a:lnTo>
                  <a:lnTo>
                    <a:pt x="1930" y="10"/>
                  </a:lnTo>
                  <a:lnTo>
                    <a:pt x="1928" y="10"/>
                  </a:lnTo>
                  <a:lnTo>
                    <a:pt x="1925" y="9"/>
                  </a:lnTo>
                  <a:lnTo>
                    <a:pt x="1925" y="7"/>
                  </a:lnTo>
                  <a:lnTo>
                    <a:pt x="1923" y="5"/>
                  </a:lnTo>
                  <a:lnTo>
                    <a:pt x="1925" y="2"/>
                  </a:lnTo>
                  <a:lnTo>
                    <a:pt x="1925" y="1"/>
                  </a:lnTo>
                  <a:lnTo>
                    <a:pt x="1928" y="0"/>
                  </a:lnTo>
                  <a:lnTo>
                    <a:pt x="1930" y="0"/>
                  </a:lnTo>
                  <a:lnTo>
                    <a:pt x="1930" y="0"/>
                  </a:lnTo>
                  <a:close/>
                  <a:moveTo>
                    <a:pt x="2252" y="0"/>
                  </a:moveTo>
                  <a:lnTo>
                    <a:pt x="2451" y="0"/>
                  </a:lnTo>
                  <a:lnTo>
                    <a:pt x="2454" y="0"/>
                  </a:lnTo>
                  <a:lnTo>
                    <a:pt x="2456" y="1"/>
                  </a:lnTo>
                  <a:lnTo>
                    <a:pt x="2458" y="2"/>
                  </a:lnTo>
                  <a:lnTo>
                    <a:pt x="2458" y="5"/>
                  </a:lnTo>
                  <a:lnTo>
                    <a:pt x="2458" y="7"/>
                  </a:lnTo>
                  <a:lnTo>
                    <a:pt x="2456" y="9"/>
                  </a:lnTo>
                  <a:lnTo>
                    <a:pt x="2454" y="10"/>
                  </a:lnTo>
                  <a:lnTo>
                    <a:pt x="2451" y="10"/>
                  </a:lnTo>
                  <a:lnTo>
                    <a:pt x="2252" y="10"/>
                  </a:lnTo>
                  <a:lnTo>
                    <a:pt x="2249" y="10"/>
                  </a:lnTo>
                  <a:lnTo>
                    <a:pt x="2247" y="9"/>
                  </a:lnTo>
                  <a:lnTo>
                    <a:pt x="2246" y="7"/>
                  </a:lnTo>
                  <a:lnTo>
                    <a:pt x="2244" y="5"/>
                  </a:lnTo>
                  <a:lnTo>
                    <a:pt x="2246" y="2"/>
                  </a:lnTo>
                  <a:lnTo>
                    <a:pt x="2247" y="1"/>
                  </a:lnTo>
                  <a:lnTo>
                    <a:pt x="2249" y="0"/>
                  </a:lnTo>
                  <a:lnTo>
                    <a:pt x="2252" y="0"/>
                  </a:lnTo>
                  <a:lnTo>
                    <a:pt x="2252" y="0"/>
                  </a:lnTo>
                  <a:close/>
                  <a:moveTo>
                    <a:pt x="2573" y="0"/>
                  </a:moveTo>
                  <a:lnTo>
                    <a:pt x="2773" y="0"/>
                  </a:lnTo>
                  <a:lnTo>
                    <a:pt x="2775" y="0"/>
                  </a:lnTo>
                  <a:lnTo>
                    <a:pt x="2776" y="1"/>
                  </a:lnTo>
                  <a:lnTo>
                    <a:pt x="2778" y="2"/>
                  </a:lnTo>
                  <a:lnTo>
                    <a:pt x="2780" y="5"/>
                  </a:lnTo>
                  <a:lnTo>
                    <a:pt x="2778" y="7"/>
                  </a:lnTo>
                  <a:lnTo>
                    <a:pt x="2776" y="9"/>
                  </a:lnTo>
                  <a:lnTo>
                    <a:pt x="2775" y="10"/>
                  </a:lnTo>
                  <a:lnTo>
                    <a:pt x="2773" y="10"/>
                  </a:lnTo>
                  <a:lnTo>
                    <a:pt x="2573" y="10"/>
                  </a:lnTo>
                  <a:lnTo>
                    <a:pt x="2569" y="10"/>
                  </a:lnTo>
                  <a:lnTo>
                    <a:pt x="2568" y="9"/>
                  </a:lnTo>
                  <a:lnTo>
                    <a:pt x="2566" y="7"/>
                  </a:lnTo>
                  <a:lnTo>
                    <a:pt x="2566" y="5"/>
                  </a:lnTo>
                  <a:lnTo>
                    <a:pt x="2566" y="2"/>
                  </a:lnTo>
                  <a:lnTo>
                    <a:pt x="2568" y="1"/>
                  </a:lnTo>
                  <a:lnTo>
                    <a:pt x="2569" y="0"/>
                  </a:lnTo>
                  <a:lnTo>
                    <a:pt x="2573" y="0"/>
                  </a:lnTo>
                  <a:lnTo>
                    <a:pt x="2573" y="0"/>
                  </a:lnTo>
                  <a:close/>
                  <a:moveTo>
                    <a:pt x="2893" y="0"/>
                  </a:moveTo>
                  <a:lnTo>
                    <a:pt x="3094" y="0"/>
                  </a:lnTo>
                  <a:lnTo>
                    <a:pt x="3095" y="0"/>
                  </a:lnTo>
                  <a:lnTo>
                    <a:pt x="3097" y="1"/>
                  </a:lnTo>
                  <a:lnTo>
                    <a:pt x="3099" y="2"/>
                  </a:lnTo>
                  <a:lnTo>
                    <a:pt x="3100" y="5"/>
                  </a:lnTo>
                  <a:lnTo>
                    <a:pt x="3099" y="7"/>
                  </a:lnTo>
                  <a:lnTo>
                    <a:pt x="3097" y="9"/>
                  </a:lnTo>
                  <a:lnTo>
                    <a:pt x="3095" y="10"/>
                  </a:lnTo>
                  <a:lnTo>
                    <a:pt x="3094" y="10"/>
                  </a:lnTo>
                  <a:lnTo>
                    <a:pt x="2893" y="10"/>
                  </a:lnTo>
                  <a:lnTo>
                    <a:pt x="2890" y="10"/>
                  </a:lnTo>
                  <a:lnTo>
                    <a:pt x="2888" y="9"/>
                  </a:lnTo>
                  <a:lnTo>
                    <a:pt x="2887" y="7"/>
                  </a:lnTo>
                  <a:lnTo>
                    <a:pt x="2887" y="5"/>
                  </a:lnTo>
                  <a:lnTo>
                    <a:pt x="2887" y="2"/>
                  </a:lnTo>
                  <a:lnTo>
                    <a:pt x="2888" y="1"/>
                  </a:lnTo>
                  <a:lnTo>
                    <a:pt x="2890" y="0"/>
                  </a:lnTo>
                  <a:lnTo>
                    <a:pt x="2893" y="0"/>
                  </a:lnTo>
                  <a:lnTo>
                    <a:pt x="2893" y="0"/>
                  </a:lnTo>
                  <a:close/>
                  <a:moveTo>
                    <a:pt x="3214" y="0"/>
                  </a:moveTo>
                  <a:lnTo>
                    <a:pt x="3414" y="0"/>
                  </a:lnTo>
                  <a:lnTo>
                    <a:pt x="3416" y="0"/>
                  </a:lnTo>
                  <a:lnTo>
                    <a:pt x="3417" y="1"/>
                  </a:lnTo>
                  <a:lnTo>
                    <a:pt x="3419" y="2"/>
                  </a:lnTo>
                  <a:lnTo>
                    <a:pt x="3421" y="5"/>
                  </a:lnTo>
                  <a:lnTo>
                    <a:pt x="3419" y="7"/>
                  </a:lnTo>
                  <a:lnTo>
                    <a:pt x="3417" y="9"/>
                  </a:lnTo>
                  <a:lnTo>
                    <a:pt x="3416" y="10"/>
                  </a:lnTo>
                  <a:lnTo>
                    <a:pt x="3414" y="10"/>
                  </a:lnTo>
                  <a:lnTo>
                    <a:pt x="3214" y="10"/>
                  </a:lnTo>
                  <a:lnTo>
                    <a:pt x="3210" y="10"/>
                  </a:lnTo>
                  <a:lnTo>
                    <a:pt x="3209" y="9"/>
                  </a:lnTo>
                  <a:lnTo>
                    <a:pt x="3207" y="7"/>
                  </a:lnTo>
                  <a:lnTo>
                    <a:pt x="3207" y="5"/>
                  </a:lnTo>
                  <a:lnTo>
                    <a:pt x="3207" y="2"/>
                  </a:lnTo>
                  <a:lnTo>
                    <a:pt x="3209" y="1"/>
                  </a:lnTo>
                  <a:lnTo>
                    <a:pt x="3210" y="0"/>
                  </a:lnTo>
                  <a:lnTo>
                    <a:pt x="3214" y="0"/>
                  </a:lnTo>
                  <a:lnTo>
                    <a:pt x="3214" y="0"/>
                  </a:lnTo>
                  <a:close/>
                  <a:moveTo>
                    <a:pt x="3534" y="0"/>
                  </a:moveTo>
                  <a:lnTo>
                    <a:pt x="3735" y="0"/>
                  </a:lnTo>
                  <a:lnTo>
                    <a:pt x="3736" y="0"/>
                  </a:lnTo>
                  <a:lnTo>
                    <a:pt x="3738" y="1"/>
                  </a:lnTo>
                  <a:lnTo>
                    <a:pt x="3740" y="2"/>
                  </a:lnTo>
                  <a:lnTo>
                    <a:pt x="3741" y="5"/>
                  </a:lnTo>
                  <a:lnTo>
                    <a:pt x="3740" y="7"/>
                  </a:lnTo>
                  <a:lnTo>
                    <a:pt x="3738" y="9"/>
                  </a:lnTo>
                  <a:lnTo>
                    <a:pt x="3736" y="10"/>
                  </a:lnTo>
                  <a:lnTo>
                    <a:pt x="3735" y="10"/>
                  </a:lnTo>
                  <a:lnTo>
                    <a:pt x="3534" y="10"/>
                  </a:lnTo>
                  <a:lnTo>
                    <a:pt x="3531" y="10"/>
                  </a:lnTo>
                  <a:lnTo>
                    <a:pt x="3529" y="9"/>
                  </a:lnTo>
                  <a:lnTo>
                    <a:pt x="3528" y="7"/>
                  </a:lnTo>
                  <a:lnTo>
                    <a:pt x="3528" y="5"/>
                  </a:lnTo>
                  <a:lnTo>
                    <a:pt x="3528" y="2"/>
                  </a:lnTo>
                  <a:lnTo>
                    <a:pt x="3529" y="1"/>
                  </a:lnTo>
                  <a:lnTo>
                    <a:pt x="3531" y="0"/>
                  </a:lnTo>
                  <a:lnTo>
                    <a:pt x="3534" y="0"/>
                  </a:lnTo>
                  <a:lnTo>
                    <a:pt x="3534" y="0"/>
                  </a:lnTo>
                  <a:close/>
                  <a:moveTo>
                    <a:pt x="3855" y="0"/>
                  </a:moveTo>
                  <a:lnTo>
                    <a:pt x="4055" y="0"/>
                  </a:lnTo>
                  <a:lnTo>
                    <a:pt x="4057" y="0"/>
                  </a:lnTo>
                  <a:lnTo>
                    <a:pt x="4060" y="1"/>
                  </a:lnTo>
                  <a:lnTo>
                    <a:pt x="4060" y="2"/>
                  </a:lnTo>
                  <a:lnTo>
                    <a:pt x="4062" y="5"/>
                  </a:lnTo>
                  <a:lnTo>
                    <a:pt x="4060" y="7"/>
                  </a:lnTo>
                  <a:lnTo>
                    <a:pt x="4060" y="9"/>
                  </a:lnTo>
                  <a:lnTo>
                    <a:pt x="4057" y="10"/>
                  </a:lnTo>
                  <a:lnTo>
                    <a:pt x="4055" y="10"/>
                  </a:lnTo>
                  <a:lnTo>
                    <a:pt x="3855" y="10"/>
                  </a:lnTo>
                  <a:lnTo>
                    <a:pt x="3851" y="10"/>
                  </a:lnTo>
                  <a:lnTo>
                    <a:pt x="3850" y="9"/>
                  </a:lnTo>
                  <a:lnTo>
                    <a:pt x="3848" y="7"/>
                  </a:lnTo>
                  <a:lnTo>
                    <a:pt x="3848" y="5"/>
                  </a:lnTo>
                  <a:lnTo>
                    <a:pt x="3848" y="2"/>
                  </a:lnTo>
                  <a:lnTo>
                    <a:pt x="3850" y="1"/>
                  </a:lnTo>
                  <a:lnTo>
                    <a:pt x="3851" y="0"/>
                  </a:lnTo>
                  <a:lnTo>
                    <a:pt x="3855" y="0"/>
                  </a:lnTo>
                  <a:lnTo>
                    <a:pt x="3855" y="0"/>
                  </a:lnTo>
                  <a:close/>
                  <a:moveTo>
                    <a:pt x="4175" y="0"/>
                  </a:moveTo>
                  <a:lnTo>
                    <a:pt x="4376" y="0"/>
                  </a:lnTo>
                  <a:lnTo>
                    <a:pt x="4377" y="0"/>
                  </a:lnTo>
                  <a:lnTo>
                    <a:pt x="4381" y="1"/>
                  </a:lnTo>
                  <a:lnTo>
                    <a:pt x="4381" y="2"/>
                  </a:lnTo>
                  <a:lnTo>
                    <a:pt x="4382" y="5"/>
                  </a:lnTo>
                  <a:lnTo>
                    <a:pt x="4381" y="7"/>
                  </a:lnTo>
                  <a:lnTo>
                    <a:pt x="4381" y="9"/>
                  </a:lnTo>
                  <a:lnTo>
                    <a:pt x="4377" y="10"/>
                  </a:lnTo>
                  <a:lnTo>
                    <a:pt x="4376" y="10"/>
                  </a:lnTo>
                  <a:lnTo>
                    <a:pt x="4175" y="10"/>
                  </a:lnTo>
                  <a:lnTo>
                    <a:pt x="4172" y="10"/>
                  </a:lnTo>
                  <a:lnTo>
                    <a:pt x="4170" y="9"/>
                  </a:lnTo>
                  <a:lnTo>
                    <a:pt x="4169" y="7"/>
                  </a:lnTo>
                  <a:lnTo>
                    <a:pt x="4169" y="5"/>
                  </a:lnTo>
                  <a:lnTo>
                    <a:pt x="4169" y="2"/>
                  </a:lnTo>
                  <a:lnTo>
                    <a:pt x="4170" y="1"/>
                  </a:lnTo>
                  <a:lnTo>
                    <a:pt x="4172" y="0"/>
                  </a:lnTo>
                  <a:lnTo>
                    <a:pt x="4175" y="0"/>
                  </a:lnTo>
                  <a:lnTo>
                    <a:pt x="4175" y="0"/>
                  </a:lnTo>
                  <a:close/>
                  <a:moveTo>
                    <a:pt x="4496" y="0"/>
                  </a:moveTo>
                  <a:lnTo>
                    <a:pt x="4696" y="0"/>
                  </a:lnTo>
                  <a:lnTo>
                    <a:pt x="4698" y="0"/>
                  </a:lnTo>
                  <a:lnTo>
                    <a:pt x="4701" y="1"/>
                  </a:lnTo>
                  <a:lnTo>
                    <a:pt x="4703" y="2"/>
                  </a:lnTo>
                  <a:lnTo>
                    <a:pt x="4703" y="5"/>
                  </a:lnTo>
                  <a:lnTo>
                    <a:pt x="4703" y="7"/>
                  </a:lnTo>
                  <a:lnTo>
                    <a:pt x="4701" y="9"/>
                  </a:lnTo>
                  <a:lnTo>
                    <a:pt x="4698" y="10"/>
                  </a:lnTo>
                  <a:lnTo>
                    <a:pt x="4696" y="10"/>
                  </a:lnTo>
                  <a:lnTo>
                    <a:pt x="4496" y="10"/>
                  </a:lnTo>
                  <a:lnTo>
                    <a:pt x="4492" y="10"/>
                  </a:lnTo>
                  <a:lnTo>
                    <a:pt x="4491" y="9"/>
                  </a:lnTo>
                  <a:lnTo>
                    <a:pt x="4489" y="7"/>
                  </a:lnTo>
                  <a:lnTo>
                    <a:pt x="4489" y="5"/>
                  </a:lnTo>
                  <a:lnTo>
                    <a:pt x="4489" y="2"/>
                  </a:lnTo>
                  <a:lnTo>
                    <a:pt x="4491" y="1"/>
                  </a:lnTo>
                  <a:lnTo>
                    <a:pt x="4492" y="0"/>
                  </a:lnTo>
                  <a:lnTo>
                    <a:pt x="4496" y="0"/>
                  </a:lnTo>
                  <a:lnTo>
                    <a:pt x="4496" y="0"/>
                  </a:lnTo>
                  <a:close/>
                  <a:moveTo>
                    <a:pt x="4816" y="0"/>
                  </a:moveTo>
                  <a:lnTo>
                    <a:pt x="5017" y="0"/>
                  </a:lnTo>
                  <a:lnTo>
                    <a:pt x="5020" y="0"/>
                  </a:lnTo>
                  <a:lnTo>
                    <a:pt x="5022" y="1"/>
                  </a:lnTo>
                  <a:lnTo>
                    <a:pt x="5023" y="2"/>
                  </a:lnTo>
                  <a:lnTo>
                    <a:pt x="5023" y="5"/>
                  </a:lnTo>
                  <a:lnTo>
                    <a:pt x="5023" y="7"/>
                  </a:lnTo>
                  <a:lnTo>
                    <a:pt x="5022" y="9"/>
                  </a:lnTo>
                  <a:lnTo>
                    <a:pt x="5020" y="10"/>
                  </a:lnTo>
                  <a:lnTo>
                    <a:pt x="5017" y="10"/>
                  </a:lnTo>
                  <a:lnTo>
                    <a:pt x="4816" y="10"/>
                  </a:lnTo>
                  <a:lnTo>
                    <a:pt x="4813" y="10"/>
                  </a:lnTo>
                  <a:lnTo>
                    <a:pt x="4811" y="9"/>
                  </a:lnTo>
                  <a:lnTo>
                    <a:pt x="4810" y="7"/>
                  </a:lnTo>
                  <a:lnTo>
                    <a:pt x="4810" y="5"/>
                  </a:lnTo>
                  <a:lnTo>
                    <a:pt x="4810" y="2"/>
                  </a:lnTo>
                  <a:lnTo>
                    <a:pt x="4811" y="1"/>
                  </a:lnTo>
                  <a:lnTo>
                    <a:pt x="4813" y="0"/>
                  </a:lnTo>
                  <a:lnTo>
                    <a:pt x="4816" y="0"/>
                  </a:lnTo>
                  <a:lnTo>
                    <a:pt x="4816" y="0"/>
                  </a:lnTo>
                  <a:close/>
                  <a:moveTo>
                    <a:pt x="5137" y="0"/>
                  </a:moveTo>
                  <a:lnTo>
                    <a:pt x="5337" y="0"/>
                  </a:lnTo>
                  <a:lnTo>
                    <a:pt x="5340" y="0"/>
                  </a:lnTo>
                  <a:lnTo>
                    <a:pt x="5342" y="1"/>
                  </a:lnTo>
                  <a:lnTo>
                    <a:pt x="5344" y="2"/>
                  </a:lnTo>
                  <a:lnTo>
                    <a:pt x="5344" y="5"/>
                  </a:lnTo>
                  <a:lnTo>
                    <a:pt x="5344" y="7"/>
                  </a:lnTo>
                  <a:lnTo>
                    <a:pt x="5342" y="9"/>
                  </a:lnTo>
                  <a:lnTo>
                    <a:pt x="5340" y="10"/>
                  </a:lnTo>
                  <a:lnTo>
                    <a:pt x="5337" y="10"/>
                  </a:lnTo>
                  <a:lnTo>
                    <a:pt x="5137" y="10"/>
                  </a:lnTo>
                  <a:lnTo>
                    <a:pt x="5133" y="10"/>
                  </a:lnTo>
                  <a:lnTo>
                    <a:pt x="5132" y="9"/>
                  </a:lnTo>
                  <a:lnTo>
                    <a:pt x="5130" y="7"/>
                  </a:lnTo>
                  <a:lnTo>
                    <a:pt x="5130" y="5"/>
                  </a:lnTo>
                  <a:lnTo>
                    <a:pt x="5130" y="2"/>
                  </a:lnTo>
                  <a:lnTo>
                    <a:pt x="5132" y="1"/>
                  </a:lnTo>
                  <a:lnTo>
                    <a:pt x="5133" y="0"/>
                  </a:lnTo>
                  <a:lnTo>
                    <a:pt x="5137" y="0"/>
                  </a:lnTo>
                  <a:lnTo>
                    <a:pt x="5137" y="0"/>
                  </a:lnTo>
                  <a:close/>
                  <a:moveTo>
                    <a:pt x="5457" y="0"/>
                  </a:moveTo>
                  <a:lnTo>
                    <a:pt x="5658" y="0"/>
                  </a:lnTo>
                  <a:lnTo>
                    <a:pt x="5661" y="0"/>
                  </a:lnTo>
                  <a:lnTo>
                    <a:pt x="5663" y="1"/>
                  </a:lnTo>
                  <a:lnTo>
                    <a:pt x="5664" y="2"/>
                  </a:lnTo>
                  <a:lnTo>
                    <a:pt x="5664" y="5"/>
                  </a:lnTo>
                  <a:lnTo>
                    <a:pt x="5664" y="7"/>
                  </a:lnTo>
                  <a:lnTo>
                    <a:pt x="5663" y="9"/>
                  </a:lnTo>
                  <a:lnTo>
                    <a:pt x="5661" y="10"/>
                  </a:lnTo>
                  <a:lnTo>
                    <a:pt x="5658" y="10"/>
                  </a:lnTo>
                  <a:lnTo>
                    <a:pt x="5457" y="10"/>
                  </a:lnTo>
                  <a:lnTo>
                    <a:pt x="5454" y="10"/>
                  </a:lnTo>
                  <a:lnTo>
                    <a:pt x="5452" y="9"/>
                  </a:lnTo>
                  <a:lnTo>
                    <a:pt x="5451" y="7"/>
                  </a:lnTo>
                  <a:lnTo>
                    <a:pt x="5451" y="5"/>
                  </a:lnTo>
                  <a:lnTo>
                    <a:pt x="5451" y="2"/>
                  </a:lnTo>
                  <a:lnTo>
                    <a:pt x="5452" y="1"/>
                  </a:lnTo>
                  <a:lnTo>
                    <a:pt x="5454" y="0"/>
                  </a:lnTo>
                  <a:lnTo>
                    <a:pt x="5457" y="0"/>
                  </a:lnTo>
                  <a:lnTo>
                    <a:pt x="5457" y="0"/>
                  </a:lnTo>
                  <a:close/>
                  <a:moveTo>
                    <a:pt x="5778" y="0"/>
                  </a:moveTo>
                  <a:lnTo>
                    <a:pt x="5978" y="0"/>
                  </a:lnTo>
                  <a:lnTo>
                    <a:pt x="5981" y="0"/>
                  </a:lnTo>
                  <a:lnTo>
                    <a:pt x="5983" y="1"/>
                  </a:lnTo>
                  <a:lnTo>
                    <a:pt x="5985" y="2"/>
                  </a:lnTo>
                  <a:lnTo>
                    <a:pt x="5985" y="5"/>
                  </a:lnTo>
                  <a:lnTo>
                    <a:pt x="5985" y="7"/>
                  </a:lnTo>
                  <a:lnTo>
                    <a:pt x="5983" y="9"/>
                  </a:lnTo>
                  <a:lnTo>
                    <a:pt x="5981" y="10"/>
                  </a:lnTo>
                  <a:lnTo>
                    <a:pt x="5978" y="10"/>
                  </a:lnTo>
                  <a:lnTo>
                    <a:pt x="5778" y="10"/>
                  </a:lnTo>
                  <a:lnTo>
                    <a:pt x="5776" y="10"/>
                  </a:lnTo>
                  <a:lnTo>
                    <a:pt x="5773" y="9"/>
                  </a:lnTo>
                  <a:lnTo>
                    <a:pt x="5771" y="7"/>
                  </a:lnTo>
                  <a:lnTo>
                    <a:pt x="5771" y="5"/>
                  </a:lnTo>
                  <a:lnTo>
                    <a:pt x="5771" y="2"/>
                  </a:lnTo>
                  <a:lnTo>
                    <a:pt x="5773" y="1"/>
                  </a:lnTo>
                  <a:lnTo>
                    <a:pt x="5776" y="0"/>
                  </a:lnTo>
                  <a:lnTo>
                    <a:pt x="5778" y="0"/>
                  </a:lnTo>
                  <a:lnTo>
                    <a:pt x="5778" y="0"/>
                  </a:lnTo>
                  <a:close/>
                  <a:moveTo>
                    <a:pt x="6098" y="0"/>
                  </a:moveTo>
                  <a:lnTo>
                    <a:pt x="6299" y="0"/>
                  </a:lnTo>
                  <a:lnTo>
                    <a:pt x="6302" y="0"/>
                  </a:lnTo>
                  <a:lnTo>
                    <a:pt x="6304" y="1"/>
                  </a:lnTo>
                  <a:lnTo>
                    <a:pt x="6305" y="2"/>
                  </a:lnTo>
                  <a:lnTo>
                    <a:pt x="6305" y="5"/>
                  </a:lnTo>
                  <a:lnTo>
                    <a:pt x="6305" y="7"/>
                  </a:lnTo>
                  <a:lnTo>
                    <a:pt x="6304" y="9"/>
                  </a:lnTo>
                  <a:lnTo>
                    <a:pt x="6302" y="10"/>
                  </a:lnTo>
                  <a:lnTo>
                    <a:pt x="6299" y="10"/>
                  </a:lnTo>
                  <a:lnTo>
                    <a:pt x="6098" y="10"/>
                  </a:lnTo>
                  <a:lnTo>
                    <a:pt x="6097" y="10"/>
                  </a:lnTo>
                  <a:lnTo>
                    <a:pt x="6093" y="9"/>
                  </a:lnTo>
                  <a:lnTo>
                    <a:pt x="6093" y="7"/>
                  </a:lnTo>
                  <a:lnTo>
                    <a:pt x="6092" y="5"/>
                  </a:lnTo>
                  <a:lnTo>
                    <a:pt x="6093" y="2"/>
                  </a:lnTo>
                  <a:lnTo>
                    <a:pt x="6093" y="1"/>
                  </a:lnTo>
                  <a:lnTo>
                    <a:pt x="6097" y="0"/>
                  </a:lnTo>
                  <a:lnTo>
                    <a:pt x="6098" y="0"/>
                  </a:lnTo>
                  <a:lnTo>
                    <a:pt x="6098" y="0"/>
                  </a:lnTo>
                  <a:close/>
                  <a:moveTo>
                    <a:pt x="6419" y="0"/>
                  </a:moveTo>
                  <a:lnTo>
                    <a:pt x="6619" y="0"/>
                  </a:lnTo>
                  <a:lnTo>
                    <a:pt x="6622" y="0"/>
                  </a:lnTo>
                  <a:lnTo>
                    <a:pt x="6624" y="1"/>
                  </a:lnTo>
                  <a:lnTo>
                    <a:pt x="6626" y="2"/>
                  </a:lnTo>
                  <a:lnTo>
                    <a:pt x="6626" y="5"/>
                  </a:lnTo>
                  <a:lnTo>
                    <a:pt x="6626" y="7"/>
                  </a:lnTo>
                  <a:lnTo>
                    <a:pt x="6624" y="9"/>
                  </a:lnTo>
                  <a:lnTo>
                    <a:pt x="6622" y="10"/>
                  </a:lnTo>
                  <a:lnTo>
                    <a:pt x="6619" y="10"/>
                  </a:lnTo>
                  <a:lnTo>
                    <a:pt x="6419" y="10"/>
                  </a:lnTo>
                  <a:lnTo>
                    <a:pt x="6417" y="10"/>
                  </a:lnTo>
                  <a:lnTo>
                    <a:pt x="6414" y="9"/>
                  </a:lnTo>
                  <a:lnTo>
                    <a:pt x="6414" y="7"/>
                  </a:lnTo>
                  <a:lnTo>
                    <a:pt x="6412" y="5"/>
                  </a:lnTo>
                  <a:lnTo>
                    <a:pt x="6414" y="2"/>
                  </a:lnTo>
                  <a:lnTo>
                    <a:pt x="6414" y="1"/>
                  </a:lnTo>
                  <a:lnTo>
                    <a:pt x="6417" y="0"/>
                  </a:lnTo>
                  <a:lnTo>
                    <a:pt x="6419" y="0"/>
                  </a:lnTo>
                  <a:lnTo>
                    <a:pt x="6419" y="0"/>
                  </a:lnTo>
                  <a:close/>
                  <a:moveTo>
                    <a:pt x="6741" y="0"/>
                  </a:moveTo>
                  <a:lnTo>
                    <a:pt x="6940" y="0"/>
                  </a:lnTo>
                  <a:lnTo>
                    <a:pt x="6943" y="0"/>
                  </a:lnTo>
                  <a:lnTo>
                    <a:pt x="6945" y="1"/>
                  </a:lnTo>
                  <a:lnTo>
                    <a:pt x="6946" y="2"/>
                  </a:lnTo>
                  <a:lnTo>
                    <a:pt x="6948" y="5"/>
                  </a:lnTo>
                  <a:lnTo>
                    <a:pt x="6946" y="7"/>
                  </a:lnTo>
                  <a:lnTo>
                    <a:pt x="6945" y="9"/>
                  </a:lnTo>
                  <a:lnTo>
                    <a:pt x="6943" y="10"/>
                  </a:lnTo>
                  <a:lnTo>
                    <a:pt x="6940" y="10"/>
                  </a:lnTo>
                  <a:lnTo>
                    <a:pt x="6741" y="10"/>
                  </a:lnTo>
                  <a:lnTo>
                    <a:pt x="6738" y="10"/>
                  </a:lnTo>
                  <a:lnTo>
                    <a:pt x="6736" y="9"/>
                  </a:lnTo>
                  <a:lnTo>
                    <a:pt x="6734" y="7"/>
                  </a:lnTo>
                  <a:lnTo>
                    <a:pt x="6733" y="5"/>
                  </a:lnTo>
                  <a:lnTo>
                    <a:pt x="6734" y="2"/>
                  </a:lnTo>
                  <a:lnTo>
                    <a:pt x="6736" y="1"/>
                  </a:lnTo>
                  <a:lnTo>
                    <a:pt x="6738" y="0"/>
                  </a:lnTo>
                  <a:lnTo>
                    <a:pt x="6741" y="0"/>
                  </a:lnTo>
                  <a:lnTo>
                    <a:pt x="6741" y="0"/>
                  </a:lnTo>
                  <a:close/>
                  <a:moveTo>
                    <a:pt x="7061" y="0"/>
                  </a:moveTo>
                  <a:lnTo>
                    <a:pt x="7262" y="0"/>
                  </a:lnTo>
                  <a:lnTo>
                    <a:pt x="7263" y="0"/>
                  </a:lnTo>
                  <a:lnTo>
                    <a:pt x="7265" y="1"/>
                  </a:lnTo>
                  <a:lnTo>
                    <a:pt x="7267" y="2"/>
                  </a:lnTo>
                  <a:lnTo>
                    <a:pt x="7268" y="5"/>
                  </a:lnTo>
                  <a:lnTo>
                    <a:pt x="7267" y="7"/>
                  </a:lnTo>
                  <a:lnTo>
                    <a:pt x="7265" y="9"/>
                  </a:lnTo>
                  <a:lnTo>
                    <a:pt x="7263" y="10"/>
                  </a:lnTo>
                  <a:lnTo>
                    <a:pt x="7262" y="10"/>
                  </a:lnTo>
                  <a:lnTo>
                    <a:pt x="7061" y="10"/>
                  </a:lnTo>
                  <a:lnTo>
                    <a:pt x="7058" y="10"/>
                  </a:lnTo>
                  <a:lnTo>
                    <a:pt x="7056" y="9"/>
                  </a:lnTo>
                  <a:lnTo>
                    <a:pt x="7055" y="7"/>
                  </a:lnTo>
                  <a:lnTo>
                    <a:pt x="7055" y="5"/>
                  </a:lnTo>
                  <a:lnTo>
                    <a:pt x="7055" y="2"/>
                  </a:lnTo>
                  <a:lnTo>
                    <a:pt x="7056" y="1"/>
                  </a:lnTo>
                  <a:lnTo>
                    <a:pt x="7058" y="0"/>
                  </a:lnTo>
                  <a:lnTo>
                    <a:pt x="7061" y="0"/>
                  </a:lnTo>
                  <a:lnTo>
                    <a:pt x="7061" y="0"/>
                  </a:lnTo>
                  <a:close/>
                  <a:moveTo>
                    <a:pt x="7382" y="0"/>
                  </a:moveTo>
                  <a:lnTo>
                    <a:pt x="7582" y="0"/>
                  </a:lnTo>
                  <a:lnTo>
                    <a:pt x="7584" y="0"/>
                  </a:lnTo>
                  <a:lnTo>
                    <a:pt x="7586" y="1"/>
                  </a:lnTo>
                  <a:lnTo>
                    <a:pt x="7587" y="2"/>
                  </a:lnTo>
                  <a:lnTo>
                    <a:pt x="7589" y="5"/>
                  </a:lnTo>
                  <a:lnTo>
                    <a:pt x="7587" y="7"/>
                  </a:lnTo>
                  <a:lnTo>
                    <a:pt x="7586" y="9"/>
                  </a:lnTo>
                  <a:lnTo>
                    <a:pt x="7584" y="10"/>
                  </a:lnTo>
                  <a:lnTo>
                    <a:pt x="7582" y="10"/>
                  </a:lnTo>
                  <a:lnTo>
                    <a:pt x="7382" y="10"/>
                  </a:lnTo>
                  <a:lnTo>
                    <a:pt x="7379" y="10"/>
                  </a:lnTo>
                  <a:lnTo>
                    <a:pt x="7377" y="9"/>
                  </a:lnTo>
                  <a:lnTo>
                    <a:pt x="7375" y="7"/>
                  </a:lnTo>
                  <a:lnTo>
                    <a:pt x="7375" y="5"/>
                  </a:lnTo>
                  <a:lnTo>
                    <a:pt x="7375" y="2"/>
                  </a:lnTo>
                  <a:lnTo>
                    <a:pt x="7377" y="1"/>
                  </a:lnTo>
                  <a:lnTo>
                    <a:pt x="7379" y="0"/>
                  </a:lnTo>
                  <a:lnTo>
                    <a:pt x="7382" y="0"/>
                  </a:lnTo>
                  <a:lnTo>
                    <a:pt x="7382" y="0"/>
                  </a:lnTo>
                  <a:close/>
                  <a:moveTo>
                    <a:pt x="7702" y="0"/>
                  </a:moveTo>
                  <a:lnTo>
                    <a:pt x="7903" y="0"/>
                  </a:lnTo>
                  <a:lnTo>
                    <a:pt x="7904" y="0"/>
                  </a:lnTo>
                  <a:lnTo>
                    <a:pt x="7906" y="1"/>
                  </a:lnTo>
                  <a:lnTo>
                    <a:pt x="7908" y="2"/>
                  </a:lnTo>
                  <a:lnTo>
                    <a:pt x="7909" y="5"/>
                  </a:lnTo>
                  <a:lnTo>
                    <a:pt x="7908" y="7"/>
                  </a:lnTo>
                  <a:lnTo>
                    <a:pt x="7906" y="9"/>
                  </a:lnTo>
                  <a:lnTo>
                    <a:pt x="7904" y="10"/>
                  </a:lnTo>
                  <a:lnTo>
                    <a:pt x="7903" y="10"/>
                  </a:lnTo>
                  <a:lnTo>
                    <a:pt x="7702" y="10"/>
                  </a:lnTo>
                  <a:lnTo>
                    <a:pt x="7699" y="10"/>
                  </a:lnTo>
                  <a:lnTo>
                    <a:pt x="7697" y="9"/>
                  </a:lnTo>
                  <a:lnTo>
                    <a:pt x="7696" y="7"/>
                  </a:lnTo>
                  <a:lnTo>
                    <a:pt x="7696" y="5"/>
                  </a:lnTo>
                  <a:lnTo>
                    <a:pt x="7696" y="2"/>
                  </a:lnTo>
                  <a:lnTo>
                    <a:pt x="7697" y="1"/>
                  </a:lnTo>
                  <a:lnTo>
                    <a:pt x="7699" y="0"/>
                  </a:lnTo>
                  <a:lnTo>
                    <a:pt x="7702" y="0"/>
                  </a:lnTo>
                  <a:lnTo>
                    <a:pt x="7702" y="0"/>
                  </a:lnTo>
                  <a:close/>
                  <a:moveTo>
                    <a:pt x="8023" y="0"/>
                  </a:moveTo>
                  <a:lnTo>
                    <a:pt x="8223" y="0"/>
                  </a:lnTo>
                  <a:lnTo>
                    <a:pt x="8225" y="0"/>
                  </a:lnTo>
                  <a:lnTo>
                    <a:pt x="8227" y="1"/>
                  </a:lnTo>
                  <a:lnTo>
                    <a:pt x="8228" y="2"/>
                  </a:lnTo>
                  <a:lnTo>
                    <a:pt x="8230" y="5"/>
                  </a:lnTo>
                  <a:lnTo>
                    <a:pt x="8228" y="7"/>
                  </a:lnTo>
                  <a:lnTo>
                    <a:pt x="8227" y="9"/>
                  </a:lnTo>
                  <a:lnTo>
                    <a:pt x="8225" y="10"/>
                  </a:lnTo>
                  <a:lnTo>
                    <a:pt x="8223" y="10"/>
                  </a:lnTo>
                  <a:lnTo>
                    <a:pt x="8023" y="10"/>
                  </a:lnTo>
                  <a:lnTo>
                    <a:pt x="8020" y="10"/>
                  </a:lnTo>
                  <a:lnTo>
                    <a:pt x="8018" y="9"/>
                  </a:lnTo>
                  <a:lnTo>
                    <a:pt x="8016" y="7"/>
                  </a:lnTo>
                  <a:lnTo>
                    <a:pt x="8016" y="5"/>
                  </a:lnTo>
                  <a:lnTo>
                    <a:pt x="8016" y="2"/>
                  </a:lnTo>
                  <a:lnTo>
                    <a:pt x="8018" y="1"/>
                  </a:lnTo>
                  <a:lnTo>
                    <a:pt x="8020" y="0"/>
                  </a:lnTo>
                  <a:lnTo>
                    <a:pt x="8023" y="0"/>
                  </a:lnTo>
                  <a:lnTo>
                    <a:pt x="8023" y="0"/>
                  </a:lnTo>
                  <a:close/>
                  <a:moveTo>
                    <a:pt x="8343" y="0"/>
                  </a:moveTo>
                  <a:lnTo>
                    <a:pt x="8544" y="0"/>
                  </a:lnTo>
                  <a:lnTo>
                    <a:pt x="8545" y="0"/>
                  </a:lnTo>
                  <a:lnTo>
                    <a:pt x="8549" y="1"/>
                  </a:lnTo>
                  <a:lnTo>
                    <a:pt x="8549" y="2"/>
                  </a:lnTo>
                  <a:lnTo>
                    <a:pt x="8550" y="5"/>
                  </a:lnTo>
                  <a:lnTo>
                    <a:pt x="8549" y="7"/>
                  </a:lnTo>
                  <a:lnTo>
                    <a:pt x="8549" y="9"/>
                  </a:lnTo>
                  <a:lnTo>
                    <a:pt x="8545" y="10"/>
                  </a:lnTo>
                  <a:lnTo>
                    <a:pt x="8544" y="10"/>
                  </a:lnTo>
                  <a:lnTo>
                    <a:pt x="8343" y="10"/>
                  </a:lnTo>
                  <a:lnTo>
                    <a:pt x="8340" y="10"/>
                  </a:lnTo>
                  <a:lnTo>
                    <a:pt x="8338" y="9"/>
                  </a:lnTo>
                  <a:lnTo>
                    <a:pt x="8337" y="7"/>
                  </a:lnTo>
                  <a:lnTo>
                    <a:pt x="8337" y="5"/>
                  </a:lnTo>
                  <a:lnTo>
                    <a:pt x="8337" y="2"/>
                  </a:lnTo>
                  <a:lnTo>
                    <a:pt x="8338" y="1"/>
                  </a:lnTo>
                  <a:lnTo>
                    <a:pt x="8340" y="0"/>
                  </a:lnTo>
                  <a:lnTo>
                    <a:pt x="8343" y="0"/>
                  </a:lnTo>
                  <a:lnTo>
                    <a:pt x="8343" y="0"/>
                  </a:lnTo>
                  <a:close/>
                  <a:moveTo>
                    <a:pt x="8664" y="0"/>
                  </a:moveTo>
                  <a:lnTo>
                    <a:pt x="8864" y="0"/>
                  </a:lnTo>
                  <a:lnTo>
                    <a:pt x="8866" y="0"/>
                  </a:lnTo>
                  <a:lnTo>
                    <a:pt x="8869" y="1"/>
                  </a:lnTo>
                  <a:lnTo>
                    <a:pt x="8869" y="2"/>
                  </a:lnTo>
                  <a:lnTo>
                    <a:pt x="8871" y="5"/>
                  </a:lnTo>
                  <a:lnTo>
                    <a:pt x="8869" y="7"/>
                  </a:lnTo>
                  <a:lnTo>
                    <a:pt x="8869" y="9"/>
                  </a:lnTo>
                  <a:lnTo>
                    <a:pt x="8866" y="10"/>
                  </a:lnTo>
                  <a:lnTo>
                    <a:pt x="8864" y="10"/>
                  </a:lnTo>
                  <a:lnTo>
                    <a:pt x="8664" y="10"/>
                  </a:lnTo>
                  <a:lnTo>
                    <a:pt x="8661" y="10"/>
                  </a:lnTo>
                  <a:lnTo>
                    <a:pt x="8659" y="9"/>
                  </a:lnTo>
                  <a:lnTo>
                    <a:pt x="8657" y="7"/>
                  </a:lnTo>
                  <a:lnTo>
                    <a:pt x="8657" y="5"/>
                  </a:lnTo>
                  <a:lnTo>
                    <a:pt x="8657" y="2"/>
                  </a:lnTo>
                  <a:lnTo>
                    <a:pt x="8659" y="1"/>
                  </a:lnTo>
                  <a:lnTo>
                    <a:pt x="8661" y="0"/>
                  </a:lnTo>
                  <a:lnTo>
                    <a:pt x="8664" y="0"/>
                  </a:lnTo>
                  <a:lnTo>
                    <a:pt x="8664" y="0"/>
                  </a:lnTo>
                  <a:close/>
                  <a:moveTo>
                    <a:pt x="8984" y="0"/>
                  </a:moveTo>
                  <a:lnTo>
                    <a:pt x="9185" y="0"/>
                  </a:lnTo>
                  <a:lnTo>
                    <a:pt x="9186" y="0"/>
                  </a:lnTo>
                  <a:lnTo>
                    <a:pt x="9190" y="1"/>
                  </a:lnTo>
                  <a:lnTo>
                    <a:pt x="9191" y="2"/>
                  </a:lnTo>
                  <a:lnTo>
                    <a:pt x="9191" y="5"/>
                  </a:lnTo>
                  <a:lnTo>
                    <a:pt x="9191" y="7"/>
                  </a:lnTo>
                  <a:lnTo>
                    <a:pt x="9190" y="9"/>
                  </a:lnTo>
                  <a:lnTo>
                    <a:pt x="9186" y="10"/>
                  </a:lnTo>
                  <a:lnTo>
                    <a:pt x="9185" y="10"/>
                  </a:lnTo>
                  <a:lnTo>
                    <a:pt x="8984" y="10"/>
                  </a:lnTo>
                  <a:lnTo>
                    <a:pt x="8981" y="10"/>
                  </a:lnTo>
                  <a:lnTo>
                    <a:pt x="8979" y="9"/>
                  </a:lnTo>
                  <a:lnTo>
                    <a:pt x="8978" y="7"/>
                  </a:lnTo>
                  <a:lnTo>
                    <a:pt x="8978" y="5"/>
                  </a:lnTo>
                  <a:lnTo>
                    <a:pt x="8978" y="2"/>
                  </a:lnTo>
                  <a:lnTo>
                    <a:pt x="8979" y="1"/>
                  </a:lnTo>
                  <a:lnTo>
                    <a:pt x="8981" y="0"/>
                  </a:lnTo>
                  <a:lnTo>
                    <a:pt x="8984" y="0"/>
                  </a:lnTo>
                  <a:lnTo>
                    <a:pt x="8984" y="0"/>
                  </a:lnTo>
                  <a:close/>
                  <a:moveTo>
                    <a:pt x="9305" y="0"/>
                  </a:moveTo>
                  <a:lnTo>
                    <a:pt x="9359" y="0"/>
                  </a:lnTo>
                  <a:lnTo>
                    <a:pt x="9361" y="0"/>
                  </a:lnTo>
                  <a:lnTo>
                    <a:pt x="9362" y="1"/>
                  </a:lnTo>
                  <a:lnTo>
                    <a:pt x="9364" y="2"/>
                  </a:lnTo>
                  <a:lnTo>
                    <a:pt x="9366" y="5"/>
                  </a:lnTo>
                  <a:lnTo>
                    <a:pt x="9364" y="7"/>
                  </a:lnTo>
                  <a:lnTo>
                    <a:pt x="9362" y="9"/>
                  </a:lnTo>
                  <a:lnTo>
                    <a:pt x="9361" y="10"/>
                  </a:lnTo>
                  <a:lnTo>
                    <a:pt x="9359" y="10"/>
                  </a:lnTo>
                  <a:lnTo>
                    <a:pt x="9305" y="10"/>
                  </a:lnTo>
                  <a:lnTo>
                    <a:pt x="9302" y="10"/>
                  </a:lnTo>
                  <a:lnTo>
                    <a:pt x="9300" y="9"/>
                  </a:lnTo>
                  <a:lnTo>
                    <a:pt x="9298" y="7"/>
                  </a:lnTo>
                  <a:lnTo>
                    <a:pt x="9298" y="5"/>
                  </a:lnTo>
                  <a:lnTo>
                    <a:pt x="9298" y="2"/>
                  </a:lnTo>
                  <a:lnTo>
                    <a:pt x="9300" y="1"/>
                  </a:lnTo>
                  <a:lnTo>
                    <a:pt x="9302" y="0"/>
                  </a:lnTo>
                  <a:lnTo>
                    <a:pt x="9305" y="0"/>
                  </a:lnTo>
                  <a:lnTo>
                    <a:pt x="930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507520" y="1841400"/>
              <a:ext cx="9360" cy="4687920"/>
            </a:xfrm>
            <a:custGeom>
              <a:avLst/>
              <a:gdLst/>
              <a:ahLst/>
              <a:rect l="l" t="t" r="r" b="b"/>
              <a:pathLst>
                <a:path w="14" h="5906">
                  <a:moveTo>
                    <a:pt x="14" y="5"/>
                  </a:moveTo>
                  <a:lnTo>
                    <a:pt x="14" y="155"/>
                  </a:lnTo>
                  <a:lnTo>
                    <a:pt x="12" y="156"/>
                  </a:lnTo>
                  <a:lnTo>
                    <a:pt x="10" y="158"/>
                  </a:lnTo>
                  <a:lnTo>
                    <a:pt x="9" y="158"/>
                  </a:lnTo>
                  <a:lnTo>
                    <a:pt x="7" y="160"/>
                  </a:lnTo>
                  <a:lnTo>
                    <a:pt x="4" y="158"/>
                  </a:lnTo>
                  <a:lnTo>
                    <a:pt x="2" y="158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4" y="5"/>
                  </a:lnTo>
                  <a:close/>
                  <a:moveTo>
                    <a:pt x="14" y="244"/>
                  </a:moveTo>
                  <a:lnTo>
                    <a:pt x="14" y="394"/>
                  </a:lnTo>
                  <a:lnTo>
                    <a:pt x="12" y="395"/>
                  </a:lnTo>
                  <a:lnTo>
                    <a:pt x="10" y="398"/>
                  </a:lnTo>
                  <a:lnTo>
                    <a:pt x="9" y="399"/>
                  </a:lnTo>
                  <a:lnTo>
                    <a:pt x="7" y="399"/>
                  </a:lnTo>
                  <a:lnTo>
                    <a:pt x="4" y="399"/>
                  </a:lnTo>
                  <a:lnTo>
                    <a:pt x="2" y="398"/>
                  </a:lnTo>
                  <a:lnTo>
                    <a:pt x="0" y="395"/>
                  </a:lnTo>
                  <a:lnTo>
                    <a:pt x="0" y="394"/>
                  </a:lnTo>
                  <a:lnTo>
                    <a:pt x="0" y="244"/>
                  </a:lnTo>
                  <a:lnTo>
                    <a:pt x="0" y="242"/>
                  </a:lnTo>
                  <a:lnTo>
                    <a:pt x="2" y="241"/>
                  </a:lnTo>
                  <a:lnTo>
                    <a:pt x="4" y="239"/>
                  </a:lnTo>
                  <a:lnTo>
                    <a:pt x="7" y="239"/>
                  </a:lnTo>
                  <a:lnTo>
                    <a:pt x="9" y="239"/>
                  </a:lnTo>
                  <a:lnTo>
                    <a:pt x="10" y="241"/>
                  </a:lnTo>
                  <a:lnTo>
                    <a:pt x="12" y="242"/>
                  </a:lnTo>
                  <a:lnTo>
                    <a:pt x="14" y="244"/>
                  </a:lnTo>
                  <a:lnTo>
                    <a:pt x="14" y="244"/>
                  </a:lnTo>
                  <a:close/>
                  <a:moveTo>
                    <a:pt x="14" y="484"/>
                  </a:moveTo>
                  <a:lnTo>
                    <a:pt x="14" y="633"/>
                  </a:lnTo>
                  <a:lnTo>
                    <a:pt x="12" y="636"/>
                  </a:lnTo>
                  <a:lnTo>
                    <a:pt x="10" y="637"/>
                  </a:lnTo>
                  <a:lnTo>
                    <a:pt x="9" y="638"/>
                  </a:lnTo>
                  <a:lnTo>
                    <a:pt x="7" y="638"/>
                  </a:lnTo>
                  <a:lnTo>
                    <a:pt x="4" y="638"/>
                  </a:lnTo>
                  <a:lnTo>
                    <a:pt x="2" y="637"/>
                  </a:lnTo>
                  <a:lnTo>
                    <a:pt x="0" y="636"/>
                  </a:lnTo>
                  <a:lnTo>
                    <a:pt x="0" y="633"/>
                  </a:lnTo>
                  <a:lnTo>
                    <a:pt x="0" y="484"/>
                  </a:lnTo>
                  <a:lnTo>
                    <a:pt x="0" y="481"/>
                  </a:lnTo>
                  <a:lnTo>
                    <a:pt x="2" y="480"/>
                  </a:lnTo>
                  <a:lnTo>
                    <a:pt x="4" y="479"/>
                  </a:lnTo>
                  <a:lnTo>
                    <a:pt x="7" y="479"/>
                  </a:lnTo>
                  <a:lnTo>
                    <a:pt x="9" y="479"/>
                  </a:lnTo>
                  <a:lnTo>
                    <a:pt x="10" y="480"/>
                  </a:lnTo>
                  <a:lnTo>
                    <a:pt x="12" y="481"/>
                  </a:lnTo>
                  <a:lnTo>
                    <a:pt x="14" y="484"/>
                  </a:lnTo>
                  <a:lnTo>
                    <a:pt x="14" y="484"/>
                  </a:lnTo>
                  <a:close/>
                  <a:moveTo>
                    <a:pt x="14" y="723"/>
                  </a:moveTo>
                  <a:lnTo>
                    <a:pt x="14" y="873"/>
                  </a:lnTo>
                  <a:lnTo>
                    <a:pt x="12" y="875"/>
                  </a:lnTo>
                  <a:lnTo>
                    <a:pt x="10" y="876"/>
                  </a:lnTo>
                  <a:lnTo>
                    <a:pt x="9" y="878"/>
                  </a:lnTo>
                  <a:lnTo>
                    <a:pt x="7" y="878"/>
                  </a:lnTo>
                  <a:lnTo>
                    <a:pt x="4" y="878"/>
                  </a:lnTo>
                  <a:lnTo>
                    <a:pt x="2" y="876"/>
                  </a:lnTo>
                  <a:lnTo>
                    <a:pt x="0" y="875"/>
                  </a:lnTo>
                  <a:lnTo>
                    <a:pt x="0" y="873"/>
                  </a:lnTo>
                  <a:lnTo>
                    <a:pt x="0" y="723"/>
                  </a:lnTo>
                  <a:lnTo>
                    <a:pt x="0" y="720"/>
                  </a:lnTo>
                  <a:lnTo>
                    <a:pt x="2" y="719"/>
                  </a:lnTo>
                  <a:lnTo>
                    <a:pt x="4" y="718"/>
                  </a:lnTo>
                  <a:lnTo>
                    <a:pt x="7" y="718"/>
                  </a:lnTo>
                  <a:lnTo>
                    <a:pt x="9" y="718"/>
                  </a:lnTo>
                  <a:lnTo>
                    <a:pt x="10" y="719"/>
                  </a:lnTo>
                  <a:lnTo>
                    <a:pt x="12" y="720"/>
                  </a:lnTo>
                  <a:lnTo>
                    <a:pt x="14" y="723"/>
                  </a:lnTo>
                  <a:lnTo>
                    <a:pt x="14" y="723"/>
                  </a:lnTo>
                  <a:close/>
                  <a:moveTo>
                    <a:pt x="14" y="962"/>
                  </a:moveTo>
                  <a:lnTo>
                    <a:pt x="14" y="1112"/>
                  </a:lnTo>
                  <a:lnTo>
                    <a:pt x="12" y="1114"/>
                  </a:lnTo>
                  <a:lnTo>
                    <a:pt x="10" y="1116"/>
                  </a:lnTo>
                  <a:lnTo>
                    <a:pt x="9" y="1117"/>
                  </a:lnTo>
                  <a:lnTo>
                    <a:pt x="7" y="1117"/>
                  </a:lnTo>
                  <a:lnTo>
                    <a:pt x="4" y="1117"/>
                  </a:lnTo>
                  <a:lnTo>
                    <a:pt x="2" y="1116"/>
                  </a:lnTo>
                  <a:lnTo>
                    <a:pt x="0" y="1114"/>
                  </a:lnTo>
                  <a:lnTo>
                    <a:pt x="0" y="1112"/>
                  </a:lnTo>
                  <a:lnTo>
                    <a:pt x="0" y="962"/>
                  </a:lnTo>
                  <a:lnTo>
                    <a:pt x="0" y="961"/>
                  </a:lnTo>
                  <a:lnTo>
                    <a:pt x="2" y="959"/>
                  </a:lnTo>
                  <a:lnTo>
                    <a:pt x="4" y="957"/>
                  </a:lnTo>
                  <a:lnTo>
                    <a:pt x="7" y="957"/>
                  </a:lnTo>
                  <a:lnTo>
                    <a:pt x="9" y="957"/>
                  </a:lnTo>
                  <a:lnTo>
                    <a:pt x="10" y="959"/>
                  </a:lnTo>
                  <a:lnTo>
                    <a:pt x="12" y="961"/>
                  </a:lnTo>
                  <a:lnTo>
                    <a:pt x="14" y="962"/>
                  </a:lnTo>
                  <a:lnTo>
                    <a:pt x="14" y="962"/>
                  </a:lnTo>
                  <a:close/>
                  <a:moveTo>
                    <a:pt x="14" y="1202"/>
                  </a:moveTo>
                  <a:lnTo>
                    <a:pt x="14" y="1351"/>
                  </a:lnTo>
                  <a:lnTo>
                    <a:pt x="12" y="1354"/>
                  </a:lnTo>
                  <a:lnTo>
                    <a:pt x="10" y="1355"/>
                  </a:lnTo>
                  <a:lnTo>
                    <a:pt x="9" y="1356"/>
                  </a:lnTo>
                  <a:lnTo>
                    <a:pt x="7" y="1356"/>
                  </a:lnTo>
                  <a:lnTo>
                    <a:pt x="4" y="1356"/>
                  </a:lnTo>
                  <a:lnTo>
                    <a:pt x="2" y="1355"/>
                  </a:lnTo>
                  <a:lnTo>
                    <a:pt x="0" y="1354"/>
                  </a:lnTo>
                  <a:lnTo>
                    <a:pt x="0" y="1351"/>
                  </a:lnTo>
                  <a:lnTo>
                    <a:pt x="0" y="1202"/>
                  </a:lnTo>
                  <a:lnTo>
                    <a:pt x="0" y="1200"/>
                  </a:lnTo>
                  <a:lnTo>
                    <a:pt x="2" y="1198"/>
                  </a:lnTo>
                  <a:lnTo>
                    <a:pt x="4" y="1198"/>
                  </a:lnTo>
                  <a:lnTo>
                    <a:pt x="7" y="1197"/>
                  </a:lnTo>
                  <a:lnTo>
                    <a:pt x="9" y="1198"/>
                  </a:lnTo>
                  <a:lnTo>
                    <a:pt x="10" y="1198"/>
                  </a:lnTo>
                  <a:lnTo>
                    <a:pt x="12" y="1200"/>
                  </a:lnTo>
                  <a:lnTo>
                    <a:pt x="14" y="1202"/>
                  </a:lnTo>
                  <a:lnTo>
                    <a:pt x="14" y="1202"/>
                  </a:lnTo>
                  <a:close/>
                  <a:moveTo>
                    <a:pt x="14" y="1441"/>
                  </a:moveTo>
                  <a:lnTo>
                    <a:pt x="14" y="1591"/>
                  </a:lnTo>
                  <a:lnTo>
                    <a:pt x="12" y="1593"/>
                  </a:lnTo>
                  <a:lnTo>
                    <a:pt x="10" y="1594"/>
                  </a:lnTo>
                  <a:lnTo>
                    <a:pt x="9" y="1596"/>
                  </a:lnTo>
                  <a:lnTo>
                    <a:pt x="7" y="1596"/>
                  </a:lnTo>
                  <a:lnTo>
                    <a:pt x="4" y="1596"/>
                  </a:lnTo>
                  <a:lnTo>
                    <a:pt x="2" y="1594"/>
                  </a:lnTo>
                  <a:lnTo>
                    <a:pt x="0" y="1593"/>
                  </a:lnTo>
                  <a:lnTo>
                    <a:pt x="0" y="1591"/>
                  </a:lnTo>
                  <a:lnTo>
                    <a:pt x="0" y="1441"/>
                  </a:lnTo>
                  <a:lnTo>
                    <a:pt x="0" y="1440"/>
                  </a:lnTo>
                  <a:lnTo>
                    <a:pt x="2" y="1437"/>
                  </a:lnTo>
                  <a:lnTo>
                    <a:pt x="4" y="1437"/>
                  </a:lnTo>
                  <a:lnTo>
                    <a:pt x="7" y="1436"/>
                  </a:lnTo>
                  <a:lnTo>
                    <a:pt x="9" y="1437"/>
                  </a:lnTo>
                  <a:lnTo>
                    <a:pt x="10" y="1437"/>
                  </a:lnTo>
                  <a:lnTo>
                    <a:pt x="12" y="1440"/>
                  </a:lnTo>
                  <a:lnTo>
                    <a:pt x="14" y="1441"/>
                  </a:lnTo>
                  <a:lnTo>
                    <a:pt x="14" y="1441"/>
                  </a:lnTo>
                  <a:close/>
                  <a:moveTo>
                    <a:pt x="14" y="1682"/>
                  </a:moveTo>
                  <a:lnTo>
                    <a:pt x="14" y="1830"/>
                  </a:lnTo>
                  <a:lnTo>
                    <a:pt x="12" y="1833"/>
                  </a:lnTo>
                  <a:lnTo>
                    <a:pt x="10" y="1834"/>
                  </a:lnTo>
                  <a:lnTo>
                    <a:pt x="9" y="1835"/>
                  </a:lnTo>
                  <a:lnTo>
                    <a:pt x="7" y="1835"/>
                  </a:lnTo>
                  <a:lnTo>
                    <a:pt x="4" y="1835"/>
                  </a:lnTo>
                  <a:lnTo>
                    <a:pt x="2" y="1834"/>
                  </a:lnTo>
                  <a:lnTo>
                    <a:pt x="0" y="1833"/>
                  </a:lnTo>
                  <a:lnTo>
                    <a:pt x="0" y="1830"/>
                  </a:lnTo>
                  <a:lnTo>
                    <a:pt x="0" y="1682"/>
                  </a:lnTo>
                  <a:lnTo>
                    <a:pt x="0" y="1679"/>
                  </a:lnTo>
                  <a:lnTo>
                    <a:pt x="2" y="1678"/>
                  </a:lnTo>
                  <a:lnTo>
                    <a:pt x="4" y="1677"/>
                  </a:lnTo>
                  <a:lnTo>
                    <a:pt x="7" y="1675"/>
                  </a:lnTo>
                  <a:lnTo>
                    <a:pt x="9" y="1677"/>
                  </a:lnTo>
                  <a:lnTo>
                    <a:pt x="10" y="1678"/>
                  </a:lnTo>
                  <a:lnTo>
                    <a:pt x="12" y="1679"/>
                  </a:lnTo>
                  <a:lnTo>
                    <a:pt x="14" y="1682"/>
                  </a:lnTo>
                  <a:lnTo>
                    <a:pt x="14" y="1682"/>
                  </a:lnTo>
                  <a:close/>
                  <a:moveTo>
                    <a:pt x="14" y="1921"/>
                  </a:moveTo>
                  <a:lnTo>
                    <a:pt x="14" y="2071"/>
                  </a:lnTo>
                  <a:lnTo>
                    <a:pt x="12" y="2072"/>
                  </a:lnTo>
                  <a:lnTo>
                    <a:pt x="10" y="2073"/>
                  </a:lnTo>
                  <a:lnTo>
                    <a:pt x="9" y="2074"/>
                  </a:lnTo>
                  <a:lnTo>
                    <a:pt x="7" y="2076"/>
                  </a:lnTo>
                  <a:lnTo>
                    <a:pt x="4" y="2074"/>
                  </a:lnTo>
                  <a:lnTo>
                    <a:pt x="2" y="2073"/>
                  </a:lnTo>
                  <a:lnTo>
                    <a:pt x="0" y="2072"/>
                  </a:lnTo>
                  <a:lnTo>
                    <a:pt x="0" y="2071"/>
                  </a:lnTo>
                  <a:lnTo>
                    <a:pt x="0" y="1921"/>
                  </a:lnTo>
                  <a:lnTo>
                    <a:pt x="0" y="1918"/>
                  </a:lnTo>
                  <a:lnTo>
                    <a:pt x="2" y="1917"/>
                  </a:lnTo>
                  <a:lnTo>
                    <a:pt x="4" y="1916"/>
                  </a:lnTo>
                  <a:lnTo>
                    <a:pt x="7" y="1916"/>
                  </a:lnTo>
                  <a:lnTo>
                    <a:pt x="9" y="1916"/>
                  </a:lnTo>
                  <a:lnTo>
                    <a:pt x="10" y="1917"/>
                  </a:lnTo>
                  <a:lnTo>
                    <a:pt x="12" y="1918"/>
                  </a:lnTo>
                  <a:lnTo>
                    <a:pt x="14" y="1921"/>
                  </a:lnTo>
                  <a:lnTo>
                    <a:pt x="14" y="1921"/>
                  </a:lnTo>
                  <a:close/>
                  <a:moveTo>
                    <a:pt x="14" y="2160"/>
                  </a:moveTo>
                  <a:lnTo>
                    <a:pt x="14" y="2310"/>
                  </a:lnTo>
                  <a:lnTo>
                    <a:pt x="12" y="2311"/>
                  </a:lnTo>
                  <a:lnTo>
                    <a:pt x="10" y="2312"/>
                  </a:lnTo>
                  <a:lnTo>
                    <a:pt x="9" y="2314"/>
                  </a:lnTo>
                  <a:lnTo>
                    <a:pt x="7" y="2315"/>
                  </a:lnTo>
                  <a:lnTo>
                    <a:pt x="4" y="2314"/>
                  </a:lnTo>
                  <a:lnTo>
                    <a:pt x="2" y="2312"/>
                  </a:lnTo>
                  <a:lnTo>
                    <a:pt x="0" y="2311"/>
                  </a:lnTo>
                  <a:lnTo>
                    <a:pt x="0" y="2310"/>
                  </a:lnTo>
                  <a:lnTo>
                    <a:pt x="0" y="2160"/>
                  </a:lnTo>
                  <a:lnTo>
                    <a:pt x="0" y="2158"/>
                  </a:lnTo>
                  <a:lnTo>
                    <a:pt x="2" y="2157"/>
                  </a:lnTo>
                  <a:lnTo>
                    <a:pt x="4" y="2155"/>
                  </a:lnTo>
                  <a:lnTo>
                    <a:pt x="7" y="2155"/>
                  </a:lnTo>
                  <a:lnTo>
                    <a:pt x="9" y="2155"/>
                  </a:lnTo>
                  <a:lnTo>
                    <a:pt x="10" y="2157"/>
                  </a:lnTo>
                  <a:lnTo>
                    <a:pt x="12" y="2158"/>
                  </a:lnTo>
                  <a:lnTo>
                    <a:pt x="14" y="2160"/>
                  </a:lnTo>
                  <a:lnTo>
                    <a:pt x="14" y="2160"/>
                  </a:lnTo>
                  <a:close/>
                  <a:moveTo>
                    <a:pt x="14" y="2400"/>
                  </a:moveTo>
                  <a:lnTo>
                    <a:pt x="14" y="2549"/>
                  </a:lnTo>
                  <a:lnTo>
                    <a:pt x="12" y="2551"/>
                  </a:lnTo>
                  <a:lnTo>
                    <a:pt x="10" y="2552"/>
                  </a:lnTo>
                  <a:lnTo>
                    <a:pt x="9" y="2553"/>
                  </a:lnTo>
                  <a:lnTo>
                    <a:pt x="7" y="2554"/>
                  </a:lnTo>
                  <a:lnTo>
                    <a:pt x="4" y="2553"/>
                  </a:lnTo>
                  <a:lnTo>
                    <a:pt x="2" y="2552"/>
                  </a:lnTo>
                  <a:lnTo>
                    <a:pt x="0" y="2551"/>
                  </a:lnTo>
                  <a:lnTo>
                    <a:pt x="0" y="2549"/>
                  </a:lnTo>
                  <a:lnTo>
                    <a:pt x="0" y="2400"/>
                  </a:lnTo>
                  <a:lnTo>
                    <a:pt x="0" y="2397"/>
                  </a:lnTo>
                  <a:lnTo>
                    <a:pt x="2" y="2396"/>
                  </a:lnTo>
                  <a:lnTo>
                    <a:pt x="4" y="2395"/>
                  </a:lnTo>
                  <a:lnTo>
                    <a:pt x="7" y="2395"/>
                  </a:lnTo>
                  <a:lnTo>
                    <a:pt x="9" y="2395"/>
                  </a:lnTo>
                  <a:lnTo>
                    <a:pt x="10" y="2396"/>
                  </a:lnTo>
                  <a:lnTo>
                    <a:pt x="12" y="2397"/>
                  </a:lnTo>
                  <a:lnTo>
                    <a:pt x="14" y="2400"/>
                  </a:lnTo>
                  <a:lnTo>
                    <a:pt x="14" y="2400"/>
                  </a:lnTo>
                  <a:close/>
                  <a:moveTo>
                    <a:pt x="14" y="2639"/>
                  </a:moveTo>
                  <a:lnTo>
                    <a:pt x="14" y="2789"/>
                  </a:lnTo>
                  <a:lnTo>
                    <a:pt x="12" y="2790"/>
                  </a:lnTo>
                  <a:lnTo>
                    <a:pt x="10" y="2791"/>
                  </a:lnTo>
                  <a:lnTo>
                    <a:pt x="9" y="2792"/>
                  </a:lnTo>
                  <a:lnTo>
                    <a:pt x="7" y="2794"/>
                  </a:lnTo>
                  <a:lnTo>
                    <a:pt x="4" y="2792"/>
                  </a:lnTo>
                  <a:lnTo>
                    <a:pt x="2" y="2791"/>
                  </a:lnTo>
                  <a:lnTo>
                    <a:pt x="0" y="2790"/>
                  </a:lnTo>
                  <a:lnTo>
                    <a:pt x="0" y="2789"/>
                  </a:lnTo>
                  <a:lnTo>
                    <a:pt x="0" y="2639"/>
                  </a:lnTo>
                  <a:lnTo>
                    <a:pt x="0" y="2637"/>
                  </a:lnTo>
                  <a:lnTo>
                    <a:pt x="2" y="2635"/>
                  </a:lnTo>
                  <a:lnTo>
                    <a:pt x="4" y="2634"/>
                  </a:lnTo>
                  <a:lnTo>
                    <a:pt x="7" y="2634"/>
                  </a:lnTo>
                  <a:lnTo>
                    <a:pt x="9" y="2634"/>
                  </a:lnTo>
                  <a:lnTo>
                    <a:pt x="10" y="2635"/>
                  </a:lnTo>
                  <a:lnTo>
                    <a:pt x="12" y="2637"/>
                  </a:lnTo>
                  <a:lnTo>
                    <a:pt x="14" y="2639"/>
                  </a:lnTo>
                  <a:lnTo>
                    <a:pt x="14" y="2639"/>
                  </a:lnTo>
                  <a:close/>
                  <a:moveTo>
                    <a:pt x="14" y="2878"/>
                  </a:moveTo>
                  <a:lnTo>
                    <a:pt x="14" y="3028"/>
                  </a:lnTo>
                  <a:lnTo>
                    <a:pt x="12" y="3029"/>
                  </a:lnTo>
                  <a:lnTo>
                    <a:pt x="10" y="3032"/>
                  </a:lnTo>
                  <a:lnTo>
                    <a:pt x="9" y="3032"/>
                  </a:lnTo>
                  <a:lnTo>
                    <a:pt x="7" y="3033"/>
                  </a:lnTo>
                  <a:lnTo>
                    <a:pt x="4" y="3032"/>
                  </a:lnTo>
                  <a:lnTo>
                    <a:pt x="2" y="3032"/>
                  </a:lnTo>
                  <a:lnTo>
                    <a:pt x="0" y="3029"/>
                  </a:lnTo>
                  <a:lnTo>
                    <a:pt x="0" y="3028"/>
                  </a:lnTo>
                  <a:lnTo>
                    <a:pt x="0" y="2878"/>
                  </a:lnTo>
                  <a:lnTo>
                    <a:pt x="0" y="2876"/>
                  </a:lnTo>
                  <a:lnTo>
                    <a:pt x="2" y="2875"/>
                  </a:lnTo>
                  <a:lnTo>
                    <a:pt x="4" y="2873"/>
                  </a:lnTo>
                  <a:lnTo>
                    <a:pt x="7" y="2873"/>
                  </a:lnTo>
                  <a:lnTo>
                    <a:pt x="9" y="2873"/>
                  </a:lnTo>
                  <a:lnTo>
                    <a:pt x="10" y="2875"/>
                  </a:lnTo>
                  <a:lnTo>
                    <a:pt x="12" y="2876"/>
                  </a:lnTo>
                  <a:lnTo>
                    <a:pt x="14" y="2878"/>
                  </a:lnTo>
                  <a:lnTo>
                    <a:pt x="14" y="2878"/>
                  </a:lnTo>
                  <a:close/>
                  <a:moveTo>
                    <a:pt x="14" y="3118"/>
                  </a:moveTo>
                  <a:lnTo>
                    <a:pt x="14" y="3267"/>
                  </a:lnTo>
                  <a:lnTo>
                    <a:pt x="12" y="3269"/>
                  </a:lnTo>
                  <a:lnTo>
                    <a:pt x="10" y="3271"/>
                  </a:lnTo>
                  <a:lnTo>
                    <a:pt x="9" y="3271"/>
                  </a:lnTo>
                  <a:lnTo>
                    <a:pt x="7" y="3272"/>
                  </a:lnTo>
                  <a:lnTo>
                    <a:pt x="4" y="3271"/>
                  </a:lnTo>
                  <a:lnTo>
                    <a:pt x="2" y="3271"/>
                  </a:lnTo>
                  <a:lnTo>
                    <a:pt x="0" y="3269"/>
                  </a:lnTo>
                  <a:lnTo>
                    <a:pt x="0" y="3267"/>
                  </a:lnTo>
                  <a:lnTo>
                    <a:pt x="0" y="3118"/>
                  </a:lnTo>
                  <a:lnTo>
                    <a:pt x="0" y="3115"/>
                  </a:lnTo>
                  <a:lnTo>
                    <a:pt x="2" y="3114"/>
                  </a:lnTo>
                  <a:lnTo>
                    <a:pt x="4" y="3113"/>
                  </a:lnTo>
                  <a:lnTo>
                    <a:pt x="7" y="3113"/>
                  </a:lnTo>
                  <a:lnTo>
                    <a:pt x="9" y="3113"/>
                  </a:lnTo>
                  <a:lnTo>
                    <a:pt x="10" y="3114"/>
                  </a:lnTo>
                  <a:lnTo>
                    <a:pt x="12" y="3115"/>
                  </a:lnTo>
                  <a:lnTo>
                    <a:pt x="14" y="3118"/>
                  </a:lnTo>
                  <a:lnTo>
                    <a:pt x="14" y="3118"/>
                  </a:lnTo>
                  <a:close/>
                  <a:moveTo>
                    <a:pt x="14" y="3357"/>
                  </a:moveTo>
                  <a:lnTo>
                    <a:pt x="14" y="3507"/>
                  </a:lnTo>
                  <a:lnTo>
                    <a:pt x="12" y="3508"/>
                  </a:lnTo>
                  <a:lnTo>
                    <a:pt x="10" y="3510"/>
                  </a:lnTo>
                  <a:lnTo>
                    <a:pt x="9" y="3512"/>
                  </a:lnTo>
                  <a:lnTo>
                    <a:pt x="7" y="3512"/>
                  </a:lnTo>
                  <a:lnTo>
                    <a:pt x="4" y="3512"/>
                  </a:lnTo>
                  <a:lnTo>
                    <a:pt x="2" y="3510"/>
                  </a:lnTo>
                  <a:lnTo>
                    <a:pt x="0" y="3508"/>
                  </a:lnTo>
                  <a:lnTo>
                    <a:pt x="0" y="3507"/>
                  </a:lnTo>
                  <a:lnTo>
                    <a:pt x="0" y="3357"/>
                  </a:lnTo>
                  <a:lnTo>
                    <a:pt x="0" y="3355"/>
                  </a:lnTo>
                  <a:lnTo>
                    <a:pt x="2" y="3353"/>
                  </a:lnTo>
                  <a:lnTo>
                    <a:pt x="4" y="3352"/>
                  </a:lnTo>
                  <a:lnTo>
                    <a:pt x="7" y="3352"/>
                  </a:lnTo>
                  <a:lnTo>
                    <a:pt x="9" y="3352"/>
                  </a:lnTo>
                  <a:lnTo>
                    <a:pt x="10" y="3353"/>
                  </a:lnTo>
                  <a:lnTo>
                    <a:pt x="12" y="3355"/>
                  </a:lnTo>
                  <a:lnTo>
                    <a:pt x="14" y="3357"/>
                  </a:lnTo>
                  <a:lnTo>
                    <a:pt x="14" y="3357"/>
                  </a:lnTo>
                  <a:close/>
                  <a:moveTo>
                    <a:pt x="14" y="3596"/>
                  </a:moveTo>
                  <a:lnTo>
                    <a:pt x="14" y="3746"/>
                  </a:lnTo>
                  <a:lnTo>
                    <a:pt x="12" y="3749"/>
                  </a:lnTo>
                  <a:lnTo>
                    <a:pt x="10" y="3750"/>
                  </a:lnTo>
                  <a:lnTo>
                    <a:pt x="9" y="3751"/>
                  </a:lnTo>
                  <a:lnTo>
                    <a:pt x="7" y="3751"/>
                  </a:lnTo>
                  <a:lnTo>
                    <a:pt x="4" y="3751"/>
                  </a:lnTo>
                  <a:lnTo>
                    <a:pt x="2" y="3750"/>
                  </a:lnTo>
                  <a:lnTo>
                    <a:pt x="0" y="3749"/>
                  </a:lnTo>
                  <a:lnTo>
                    <a:pt x="0" y="3746"/>
                  </a:lnTo>
                  <a:lnTo>
                    <a:pt x="0" y="3596"/>
                  </a:lnTo>
                  <a:lnTo>
                    <a:pt x="0" y="3594"/>
                  </a:lnTo>
                  <a:lnTo>
                    <a:pt x="2" y="3593"/>
                  </a:lnTo>
                  <a:lnTo>
                    <a:pt x="4" y="3591"/>
                  </a:lnTo>
                  <a:lnTo>
                    <a:pt x="7" y="3591"/>
                  </a:lnTo>
                  <a:lnTo>
                    <a:pt x="9" y="3591"/>
                  </a:lnTo>
                  <a:lnTo>
                    <a:pt x="10" y="3593"/>
                  </a:lnTo>
                  <a:lnTo>
                    <a:pt x="12" y="3594"/>
                  </a:lnTo>
                  <a:lnTo>
                    <a:pt x="14" y="3596"/>
                  </a:lnTo>
                  <a:lnTo>
                    <a:pt x="14" y="3596"/>
                  </a:lnTo>
                  <a:close/>
                  <a:moveTo>
                    <a:pt x="14" y="3836"/>
                  </a:moveTo>
                  <a:lnTo>
                    <a:pt x="14" y="3985"/>
                  </a:lnTo>
                  <a:lnTo>
                    <a:pt x="12" y="3988"/>
                  </a:lnTo>
                  <a:lnTo>
                    <a:pt x="10" y="3989"/>
                  </a:lnTo>
                  <a:lnTo>
                    <a:pt x="9" y="3990"/>
                  </a:lnTo>
                  <a:lnTo>
                    <a:pt x="7" y="3990"/>
                  </a:lnTo>
                  <a:lnTo>
                    <a:pt x="4" y="3990"/>
                  </a:lnTo>
                  <a:lnTo>
                    <a:pt x="2" y="3989"/>
                  </a:lnTo>
                  <a:lnTo>
                    <a:pt x="0" y="3988"/>
                  </a:lnTo>
                  <a:lnTo>
                    <a:pt x="0" y="3985"/>
                  </a:lnTo>
                  <a:lnTo>
                    <a:pt x="0" y="3836"/>
                  </a:lnTo>
                  <a:lnTo>
                    <a:pt x="0" y="3833"/>
                  </a:lnTo>
                  <a:lnTo>
                    <a:pt x="2" y="3832"/>
                  </a:lnTo>
                  <a:lnTo>
                    <a:pt x="4" y="3831"/>
                  </a:lnTo>
                  <a:lnTo>
                    <a:pt x="7" y="3831"/>
                  </a:lnTo>
                  <a:lnTo>
                    <a:pt x="9" y="3831"/>
                  </a:lnTo>
                  <a:lnTo>
                    <a:pt x="10" y="3832"/>
                  </a:lnTo>
                  <a:lnTo>
                    <a:pt x="12" y="3833"/>
                  </a:lnTo>
                  <a:lnTo>
                    <a:pt x="14" y="3836"/>
                  </a:lnTo>
                  <a:lnTo>
                    <a:pt x="14" y="3836"/>
                  </a:lnTo>
                  <a:close/>
                  <a:moveTo>
                    <a:pt x="14" y="4075"/>
                  </a:moveTo>
                  <a:lnTo>
                    <a:pt x="14" y="4225"/>
                  </a:lnTo>
                  <a:lnTo>
                    <a:pt x="12" y="4227"/>
                  </a:lnTo>
                  <a:lnTo>
                    <a:pt x="10" y="4229"/>
                  </a:lnTo>
                  <a:lnTo>
                    <a:pt x="9" y="4230"/>
                  </a:lnTo>
                  <a:lnTo>
                    <a:pt x="7" y="4230"/>
                  </a:lnTo>
                  <a:lnTo>
                    <a:pt x="4" y="4230"/>
                  </a:lnTo>
                  <a:lnTo>
                    <a:pt x="2" y="4229"/>
                  </a:lnTo>
                  <a:lnTo>
                    <a:pt x="0" y="4227"/>
                  </a:lnTo>
                  <a:lnTo>
                    <a:pt x="0" y="4225"/>
                  </a:lnTo>
                  <a:lnTo>
                    <a:pt x="0" y="4075"/>
                  </a:lnTo>
                  <a:lnTo>
                    <a:pt x="0" y="4073"/>
                  </a:lnTo>
                  <a:lnTo>
                    <a:pt x="2" y="4071"/>
                  </a:lnTo>
                  <a:lnTo>
                    <a:pt x="4" y="4070"/>
                  </a:lnTo>
                  <a:lnTo>
                    <a:pt x="7" y="4070"/>
                  </a:lnTo>
                  <a:lnTo>
                    <a:pt x="9" y="4070"/>
                  </a:lnTo>
                  <a:lnTo>
                    <a:pt x="10" y="4071"/>
                  </a:lnTo>
                  <a:lnTo>
                    <a:pt x="12" y="4073"/>
                  </a:lnTo>
                  <a:lnTo>
                    <a:pt x="14" y="4075"/>
                  </a:lnTo>
                  <a:lnTo>
                    <a:pt x="14" y="4075"/>
                  </a:lnTo>
                  <a:close/>
                  <a:moveTo>
                    <a:pt x="14" y="4314"/>
                  </a:moveTo>
                  <a:lnTo>
                    <a:pt x="14" y="4464"/>
                  </a:lnTo>
                  <a:lnTo>
                    <a:pt x="12" y="4467"/>
                  </a:lnTo>
                  <a:lnTo>
                    <a:pt x="10" y="4468"/>
                  </a:lnTo>
                  <a:lnTo>
                    <a:pt x="9" y="4469"/>
                  </a:lnTo>
                  <a:lnTo>
                    <a:pt x="7" y="4469"/>
                  </a:lnTo>
                  <a:lnTo>
                    <a:pt x="4" y="4469"/>
                  </a:lnTo>
                  <a:lnTo>
                    <a:pt x="2" y="4468"/>
                  </a:lnTo>
                  <a:lnTo>
                    <a:pt x="0" y="4467"/>
                  </a:lnTo>
                  <a:lnTo>
                    <a:pt x="0" y="4464"/>
                  </a:lnTo>
                  <a:lnTo>
                    <a:pt x="0" y="4314"/>
                  </a:lnTo>
                  <a:lnTo>
                    <a:pt x="0" y="4313"/>
                  </a:lnTo>
                  <a:lnTo>
                    <a:pt x="2" y="4311"/>
                  </a:lnTo>
                  <a:lnTo>
                    <a:pt x="4" y="4310"/>
                  </a:lnTo>
                  <a:lnTo>
                    <a:pt x="7" y="4310"/>
                  </a:lnTo>
                  <a:lnTo>
                    <a:pt x="9" y="4310"/>
                  </a:lnTo>
                  <a:lnTo>
                    <a:pt x="10" y="4311"/>
                  </a:lnTo>
                  <a:lnTo>
                    <a:pt x="12" y="4313"/>
                  </a:lnTo>
                  <a:lnTo>
                    <a:pt x="14" y="4314"/>
                  </a:lnTo>
                  <a:lnTo>
                    <a:pt x="14" y="4314"/>
                  </a:lnTo>
                  <a:close/>
                  <a:moveTo>
                    <a:pt x="14" y="4554"/>
                  </a:moveTo>
                  <a:lnTo>
                    <a:pt x="14" y="4704"/>
                  </a:lnTo>
                  <a:lnTo>
                    <a:pt x="12" y="4706"/>
                  </a:lnTo>
                  <a:lnTo>
                    <a:pt x="10" y="4707"/>
                  </a:lnTo>
                  <a:lnTo>
                    <a:pt x="9" y="4708"/>
                  </a:lnTo>
                  <a:lnTo>
                    <a:pt x="7" y="4708"/>
                  </a:lnTo>
                  <a:lnTo>
                    <a:pt x="4" y="4708"/>
                  </a:lnTo>
                  <a:lnTo>
                    <a:pt x="2" y="4707"/>
                  </a:lnTo>
                  <a:lnTo>
                    <a:pt x="0" y="4706"/>
                  </a:lnTo>
                  <a:lnTo>
                    <a:pt x="0" y="4704"/>
                  </a:lnTo>
                  <a:lnTo>
                    <a:pt x="0" y="4554"/>
                  </a:lnTo>
                  <a:lnTo>
                    <a:pt x="0" y="4553"/>
                  </a:lnTo>
                  <a:lnTo>
                    <a:pt x="2" y="4550"/>
                  </a:lnTo>
                  <a:lnTo>
                    <a:pt x="4" y="4550"/>
                  </a:lnTo>
                  <a:lnTo>
                    <a:pt x="7" y="4549"/>
                  </a:lnTo>
                  <a:lnTo>
                    <a:pt x="9" y="4550"/>
                  </a:lnTo>
                  <a:lnTo>
                    <a:pt x="10" y="4550"/>
                  </a:lnTo>
                  <a:lnTo>
                    <a:pt x="12" y="4553"/>
                  </a:lnTo>
                  <a:lnTo>
                    <a:pt x="14" y="4554"/>
                  </a:lnTo>
                  <a:lnTo>
                    <a:pt x="14" y="4554"/>
                  </a:lnTo>
                  <a:close/>
                  <a:moveTo>
                    <a:pt x="14" y="4793"/>
                  </a:moveTo>
                  <a:lnTo>
                    <a:pt x="14" y="4943"/>
                  </a:lnTo>
                  <a:lnTo>
                    <a:pt x="12" y="4945"/>
                  </a:lnTo>
                  <a:lnTo>
                    <a:pt x="10" y="4947"/>
                  </a:lnTo>
                  <a:lnTo>
                    <a:pt x="9" y="4948"/>
                  </a:lnTo>
                  <a:lnTo>
                    <a:pt x="7" y="4948"/>
                  </a:lnTo>
                  <a:lnTo>
                    <a:pt x="4" y="4948"/>
                  </a:lnTo>
                  <a:lnTo>
                    <a:pt x="2" y="4947"/>
                  </a:lnTo>
                  <a:lnTo>
                    <a:pt x="0" y="4945"/>
                  </a:lnTo>
                  <a:lnTo>
                    <a:pt x="0" y="4943"/>
                  </a:lnTo>
                  <a:lnTo>
                    <a:pt x="0" y="4793"/>
                  </a:lnTo>
                  <a:lnTo>
                    <a:pt x="0" y="4792"/>
                  </a:lnTo>
                  <a:lnTo>
                    <a:pt x="2" y="4789"/>
                  </a:lnTo>
                  <a:lnTo>
                    <a:pt x="4" y="4789"/>
                  </a:lnTo>
                  <a:lnTo>
                    <a:pt x="7" y="4788"/>
                  </a:lnTo>
                  <a:lnTo>
                    <a:pt x="9" y="4789"/>
                  </a:lnTo>
                  <a:lnTo>
                    <a:pt x="10" y="4789"/>
                  </a:lnTo>
                  <a:lnTo>
                    <a:pt x="12" y="4792"/>
                  </a:lnTo>
                  <a:lnTo>
                    <a:pt x="14" y="4793"/>
                  </a:lnTo>
                  <a:lnTo>
                    <a:pt x="14" y="4793"/>
                  </a:lnTo>
                  <a:close/>
                  <a:moveTo>
                    <a:pt x="14" y="5034"/>
                  </a:moveTo>
                  <a:lnTo>
                    <a:pt x="14" y="5182"/>
                  </a:lnTo>
                  <a:lnTo>
                    <a:pt x="12" y="5185"/>
                  </a:lnTo>
                  <a:lnTo>
                    <a:pt x="10" y="5186"/>
                  </a:lnTo>
                  <a:lnTo>
                    <a:pt x="9" y="5187"/>
                  </a:lnTo>
                  <a:lnTo>
                    <a:pt x="7" y="5188"/>
                  </a:lnTo>
                  <a:lnTo>
                    <a:pt x="4" y="5187"/>
                  </a:lnTo>
                  <a:lnTo>
                    <a:pt x="2" y="5186"/>
                  </a:lnTo>
                  <a:lnTo>
                    <a:pt x="0" y="5185"/>
                  </a:lnTo>
                  <a:lnTo>
                    <a:pt x="0" y="5182"/>
                  </a:lnTo>
                  <a:lnTo>
                    <a:pt x="0" y="5034"/>
                  </a:lnTo>
                  <a:lnTo>
                    <a:pt x="0" y="5031"/>
                  </a:lnTo>
                  <a:lnTo>
                    <a:pt x="2" y="5030"/>
                  </a:lnTo>
                  <a:lnTo>
                    <a:pt x="4" y="5029"/>
                  </a:lnTo>
                  <a:lnTo>
                    <a:pt x="7" y="5028"/>
                  </a:lnTo>
                  <a:lnTo>
                    <a:pt x="9" y="5029"/>
                  </a:lnTo>
                  <a:lnTo>
                    <a:pt x="10" y="5030"/>
                  </a:lnTo>
                  <a:lnTo>
                    <a:pt x="12" y="5031"/>
                  </a:lnTo>
                  <a:lnTo>
                    <a:pt x="14" y="5034"/>
                  </a:lnTo>
                  <a:lnTo>
                    <a:pt x="14" y="5034"/>
                  </a:lnTo>
                  <a:close/>
                  <a:moveTo>
                    <a:pt x="14" y="5273"/>
                  </a:moveTo>
                  <a:lnTo>
                    <a:pt x="14" y="5423"/>
                  </a:lnTo>
                  <a:lnTo>
                    <a:pt x="12" y="5424"/>
                  </a:lnTo>
                  <a:lnTo>
                    <a:pt x="10" y="5425"/>
                  </a:lnTo>
                  <a:lnTo>
                    <a:pt x="9" y="5427"/>
                  </a:lnTo>
                  <a:lnTo>
                    <a:pt x="7" y="5428"/>
                  </a:lnTo>
                  <a:lnTo>
                    <a:pt x="4" y="5427"/>
                  </a:lnTo>
                  <a:lnTo>
                    <a:pt x="2" y="5425"/>
                  </a:lnTo>
                  <a:lnTo>
                    <a:pt x="0" y="5424"/>
                  </a:lnTo>
                  <a:lnTo>
                    <a:pt x="0" y="5423"/>
                  </a:lnTo>
                  <a:lnTo>
                    <a:pt x="0" y="5273"/>
                  </a:lnTo>
                  <a:lnTo>
                    <a:pt x="0" y="5271"/>
                  </a:lnTo>
                  <a:lnTo>
                    <a:pt x="2" y="5269"/>
                  </a:lnTo>
                  <a:lnTo>
                    <a:pt x="4" y="5268"/>
                  </a:lnTo>
                  <a:lnTo>
                    <a:pt x="7" y="5268"/>
                  </a:lnTo>
                  <a:lnTo>
                    <a:pt x="9" y="5268"/>
                  </a:lnTo>
                  <a:lnTo>
                    <a:pt x="10" y="5269"/>
                  </a:lnTo>
                  <a:lnTo>
                    <a:pt x="12" y="5271"/>
                  </a:lnTo>
                  <a:lnTo>
                    <a:pt x="14" y="5273"/>
                  </a:lnTo>
                  <a:lnTo>
                    <a:pt x="14" y="5273"/>
                  </a:lnTo>
                  <a:close/>
                  <a:moveTo>
                    <a:pt x="14" y="5512"/>
                  </a:moveTo>
                  <a:lnTo>
                    <a:pt x="14" y="5662"/>
                  </a:lnTo>
                  <a:lnTo>
                    <a:pt x="12" y="5663"/>
                  </a:lnTo>
                  <a:lnTo>
                    <a:pt x="10" y="5665"/>
                  </a:lnTo>
                  <a:lnTo>
                    <a:pt x="9" y="5666"/>
                  </a:lnTo>
                  <a:lnTo>
                    <a:pt x="7" y="5667"/>
                  </a:lnTo>
                  <a:lnTo>
                    <a:pt x="4" y="5666"/>
                  </a:lnTo>
                  <a:lnTo>
                    <a:pt x="2" y="5665"/>
                  </a:lnTo>
                  <a:lnTo>
                    <a:pt x="0" y="5663"/>
                  </a:lnTo>
                  <a:lnTo>
                    <a:pt x="0" y="5662"/>
                  </a:lnTo>
                  <a:lnTo>
                    <a:pt x="0" y="5512"/>
                  </a:lnTo>
                  <a:lnTo>
                    <a:pt x="0" y="5510"/>
                  </a:lnTo>
                  <a:lnTo>
                    <a:pt x="2" y="5509"/>
                  </a:lnTo>
                  <a:lnTo>
                    <a:pt x="4" y="5508"/>
                  </a:lnTo>
                  <a:lnTo>
                    <a:pt x="7" y="5508"/>
                  </a:lnTo>
                  <a:lnTo>
                    <a:pt x="9" y="5508"/>
                  </a:lnTo>
                  <a:lnTo>
                    <a:pt x="10" y="5509"/>
                  </a:lnTo>
                  <a:lnTo>
                    <a:pt x="12" y="5510"/>
                  </a:lnTo>
                  <a:lnTo>
                    <a:pt x="14" y="5512"/>
                  </a:lnTo>
                  <a:lnTo>
                    <a:pt x="14" y="5512"/>
                  </a:lnTo>
                  <a:close/>
                  <a:moveTo>
                    <a:pt x="14" y="5752"/>
                  </a:moveTo>
                  <a:lnTo>
                    <a:pt x="14" y="5902"/>
                  </a:lnTo>
                  <a:lnTo>
                    <a:pt x="12" y="5903"/>
                  </a:lnTo>
                  <a:lnTo>
                    <a:pt x="10" y="5904"/>
                  </a:lnTo>
                  <a:lnTo>
                    <a:pt x="9" y="5905"/>
                  </a:lnTo>
                  <a:lnTo>
                    <a:pt x="7" y="5906"/>
                  </a:lnTo>
                  <a:lnTo>
                    <a:pt x="4" y="5905"/>
                  </a:lnTo>
                  <a:lnTo>
                    <a:pt x="2" y="5904"/>
                  </a:lnTo>
                  <a:lnTo>
                    <a:pt x="0" y="5903"/>
                  </a:lnTo>
                  <a:lnTo>
                    <a:pt x="0" y="5902"/>
                  </a:lnTo>
                  <a:lnTo>
                    <a:pt x="0" y="5752"/>
                  </a:lnTo>
                  <a:lnTo>
                    <a:pt x="0" y="5749"/>
                  </a:lnTo>
                  <a:lnTo>
                    <a:pt x="2" y="5748"/>
                  </a:lnTo>
                  <a:lnTo>
                    <a:pt x="4" y="5747"/>
                  </a:lnTo>
                  <a:lnTo>
                    <a:pt x="7" y="5747"/>
                  </a:lnTo>
                  <a:lnTo>
                    <a:pt x="9" y="5747"/>
                  </a:lnTo>
                  <a:lnTo>
                    <a:pt x="10" y="5748"/>
                  </a:lnTo>
                  <a:lnTo>
                    <a:pt x="12" y="5749"/>
                  </a:lnTo>
                  <a:lnTo>
                    <a:pt x="14" y="5752"/>
                  </a:lnTo>
                  <a:lnTo>
                    <a:pt x="14" y="5752"/>
                  </a:lnTo>
                  <a:close/>
                </a:path>
              </a:pathLst>
            </a:custGeom>
            <a:solidFill>
              <a:srgbClr val="333399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84320" y="6593040"/>
              <a:ext cx="7432560" cy="7920"/>
            </a:xfrm>
            <a:custGeom>
              <a:avLst/>
              <a:gdLst/>
              <a:ahLst/>
              <a:rect l="l" t="t" r="r" b="b"/>
              <a:pathLst>
                <a:path w="9366" h="10">
                  <a:moveTo>
                    <a:pt x="9359" y="10"/>
                  </a:moveTo>
                  <a:lnTo>
                    <a:pt x="9159" y="10"/>
                  </a:lnTo>
                  <a:lnTo>
                    <a:pt x="9155" y="9"/>
                  </a:lnTo>
                  <a:lnTo>
                    <a:pt x="9154" y="9"/>
                  </a:lnTo>
                  <a:lnTo>
                    <a:pt x="9152" y="6"/>
                  </a:lnTo>
                  <a:lnTo>
                    <a:pt x="9152" y="5"/>
                  </a:lnTo>
                  <a:lnTo>
                    <a:pt x="9152" y="3"/>
                  </a:lnTo>
                  <a:lnTo>
                    <a:pt x="9154" y="1"/>
                  </a:lnTo>
                  <a:lnTo>
                    <a:pt x="9155" y="0"/>
                  </a:lnTo>
                  <a:lnTo>
                    <a:pt x="9159" y="0"/>
                  </a:lnTo>
                  <a:lnTo>
                    <a:pt x="9359" y="0"/>
                  </a:lnTo>
                  <a:lnTo>
                    <a:pt x="9361" y="0"/>
                  </a:lnTo>
                  <a:lnTo>
                    <a:pt x="9362" y="1"/>
                  </a:lnTo>
                  <a:lnTo>
                    <a:pt x="9364" y="3"/>
                  </a:lnTo>
                  <a:lnTo>
                    <a:pt x="9366" y="5"/>
                  </a:lnTo>
                  <a:lnTo>
                    <a:pt x="9364" y="6"/>
                  </a:lnTo>
                  <a:lnTo>
                    <a:pt x="9362" y="9"/>
                  </a:lnTo>
                  <a:lnTo>
                    <a:pt x="9361" y="9"/>
                  </a:lnTo>
                  <a:lnTo>
                    <a:pt x="9359" y="10"/>
                  </a:lnTo>
                  <a:lnTo>
                    <a:pt x="9359" y="10"/>
                  </a:lnTo>
                  <a:close/>
                  <a:moveTo>
                    <a:pt x="9039" y="10"/>
                  </a:moveTo>
                  <a:lnTo>
                    <a:pt x="8838" y="10"/>
                  </a:lnTo>
                  <a:lnTo>
                    <a:pt x="8835" y="9"/>
                  </a:lnTo>
                  <a:lnTo>
                    <a:pt x="8833" y="9"/>
                  </a:lnTo>
                  <a:lnTo>
                    <a:pt x="8831" y="6"/>
                  </a:lnTo>
                  <a:lnTo>
                    <a:pt x="8831" y="5"/>
                  </a:lnTo>
                  <a:lnTo>
                    <a:pt x="8831" y="3"/>
                  </a:lnTo>
                  <a:lnTo>
                    <a:pt x="8833" y="1"/>
                  </a:lnTo>
                  <a:lnTo>
                    <a:pt x="8835" y="0"/>
                  </a:lnTo>
                  <a:lnTo>
                    <a:pt x="8838" y="0"/>
                  </a:lnTo>
                  <a:lnTo>
                    <a:pt x="9039" y="0"/>
                  </a:lnTo>
                  <a:lnTo>
                    <a:pt x="9040" y="0"/>
                  </a:lnTo>
                  <a:lnTo>
                    <a:pt x="9042" y="1"/>
                  </a:lnTo>
                  <a:lnTo>
                    <a:pt x="9043" y="3"/>
                  </a:lnTo>
                  <a:lnTo>
                    <a:pt x="9045" y="5"/>
                  </a:lnTo>
                  <a:lnTo>
                    <a:pt x="9043" y="6"/>
                  </a:lnTo>
                  <a:lnTo>
                    <a:pt x="9042" y="9"/>
                  </a:lnTo>
                  <a:lnTo>
                    <a:pt x="9040" y="9"/>
                  </a:lnTo>
                  <a:lnTo>
                    <a:pt x="9039" y="10"/>
                  </a:lnTo>
                  <a:lnTo>
                    <a:pt x="9039" y="10"/>
                  </a:lnTo>
                  <a:close/>
                  <a:moveTo>
                    <a:pt x="8716" y="10"/>
                  </a:moveTo>
                  <a:lnTo>
                    <a:pt x="8518" y="10"/>
                  </a:lnTo>
                  <a:lnTo>
                    <a:pt x="8514" y="9"/>
                  </a:lnTo>
                  <a:lnTo>
                    <a:pt x="8513" y="9"/>
                  </a:lnTo>
                  <a:lnTo>
                    <a:pt x="8511" y="6"/>
                  </a:lnTo>
                  <a:lnTo>
                    <a:pt x="8509" y="5"/>
                  </a:lnTo>
                  <a:lnTo>
                    <a:pt x="8511" y="3"/>
                  </a:lnTo>
                  <a:lnTo>
                    <a:pt x="8513" y="1"/>
                  </a:lnTo>
                  <a:lnTo>
                    <a:pt x="8514" y="0"/>
                  </a:lnTo>
                  <a:lnTo>
                    <a:pt x="8518" y="0"/>
                  </a:lnTo>
                  <a:lnTo>
                    <a:pt x="8716" y="0"/>
                  </a:lnTo>
                  <a:lnTo>
                    <a:pt x="8720" y="0"/>
                  </a:lnTo>
                  <a:lnTo>
                    <a:pt x="8721" y="1"/>
                  </a:lnTo>
                  <a:lnTo>
                    <a:pt x="8723" y="3"/>
                  </a:lnTo>
                  <a:lnTo>
                    <a:pt x="8725" y="5"/>
                  </a:lnTo>
                  <a:lnTo>
                    <a:pt x="8723" y="6"/>
                  </a:lnTo>
                  <a:lnTo>
                    <a:pt x="8721" y="9"/>
                  </a:lnTo>
                  <a:lnTo>
                    <a:pt x="8720" y="9"/>
                  </a:lnTo>
                  <a:lnTo>
                    <a:pt x="8716" y="10"/>
                  </a:lnTo>
                  <a:lnTo>
                    <a:pt x="8716" y="10"/>
                  </a:lnTo>
                  <a:close/>
                  <a:moveTo>
                    <a:pt x="8396" y="10"/>
                  </a:moveTo>
                  <a:lnTo>
                    <a:pt x="8195" y="10"/>
                  </a:lnTo>
                  <a:lnTo>
                    <a:pt x="8194" y="9"/>
                  </a:lnTo>
                  <a:lnTo>
                    <a:pt x="8190" y="9"/>
                  </a:lnTo>
                  <a:lnTo>
                    <a:pt x="8190" y="6"/>
                  </a:lnTo>
                  <a:lnTo>
                    <a:pt x="8189" y="5"/>
                  </a:lnTo>
                  <a:lnTo>
                    <a:pt x="8190" y="3"/>
                  </a:lnTo>
                  <a:lnTo>
                    <a:pt x="8190" y="1"/>
                  </a:lnTo>
                  <a:lnTo>
                    <a:pt x="8194" y="0"/>
                  </a:lnTo>
                  <a:lnTo>
                    <a:pt x="8195" y="0"/>
                  </a:lnTo>
                  <a:lnTo>
                    <a:pt x="8396" y="0"/>
                  </a:lnTo>
                  <a:lnTo>
                    <a:pt x="8399" y="0"/>
                  </a:lnTo>
                  <a:lnTo>
                    <a:pt x="8401" y="1"/>
                  </a:lnTo>
                  <a:lnTo>
                    <a:pt x="8402" y="3"/>
                  </a:lnTo>
                  <a:lnTo>
                    <a:pt x="8402" y="5"/>
                  </a:lnTo>
                  <a:lnTo>
                    <a:pt x="8402" y="6"/>
                  </a:lnTo>
                  <a:lnTo>
                    <a:pt x="8401" y="9"/>
                  </a:lnTo>
                  <a:lnTo>
                    <a:pt x="8399" y="9"/>
                  </a:lnTo>
                  <a:lnTo>
                    <a:pt x="8396" y="10"/>
                  </a:lnTo>
                  <a:lnTo>
                    <a:pt x="8396" y="10"/>
                  </a:lnTo>
                  <a:close/>
                  <a:moveTo>
                    <a:pt x="8075" y="10"/>
                  </a:moveTo>
                  <a:lnTo>
                    <a:pt x="7875" y="10"/>
                  </a:lnTo>
                  <a:lnTo>
                    <a:pt x="7873" y="9"/>
                  </a:lnTo>
                  <a:lnTo>
                    <a:pt x="7870" y="9"/>
                  </a:lnTo>
                  <a:lnTo>
                    <a:pt x="7870" y="6"/>
                  </a:lnTo>
                  <a:lnTo>
                    <a:pt x="7868" y="5"/>
                  </a:lnTo>
                  <a:lnTo>
                    <a:pt x="7870" y="3"/>
                  </a:lnTo>
                  <a:lnTo>
                    <a:pt x="7870" y="1"/>
                  </a:lnTo>
                  <a:lnTo>
                    <a:pt x="7873" y="0"/>
                  </a:lnTo>
                  <a:lnTo>
                    <a:pt x="7875" y="0"/>
                  </a:lnTo>
                  <a:lnTo>
                    <a:pt x="8075" y="0"/>
                  </a:lnTo>
                  <a:lnTo>
                    <a:pt x="8079" y="0"/>
                  </a:lnTo>
                  <a:lnTo>
                    <a:pt x="8080" y="1"/>
                  </a:lnTo>
                  <a:lnTo>
                    <a:pt x="8082" y="3"/>
                  </a:lnTo>
                  <a:lnTo>
                    <a:pt x="8082" y="5"/>
                  </a:lnTo>
                  <a:lnTo>
                    <a:pt x="8082" y="6"/>
                  </a:lnTo>
                  <a:lnTo>
                    <a:pt x="8080" y="9"/>
                  </a:lnTo>
                  <a:lnTo>
                    <a:pt x="8079" y="9"/>
                  </a:lnTo>
                  <a:lnTo>
                    <a:pt x="8075" y="10"/>
                  </a:lnTo>
                  <a:lnTo>
                    <a:pt x="8075" y="10"/>
                  </a:lnTo>
                  <a:close/>
                  <a:moveTo>
                    <a:pt x="7755" y="10"/>
                  </a:moveTo>
                  <a:lnTo>
                    <a:pt x="7554" y="10"/>
                  </a:lnTo>
                  <a:lnTo>
                    <a:pt x="7553" y="9"/>
                  </a:lnTo>
                  <a:lnTo>
                    <a:pt x="7549" y="9"/>
                  </a:lnTo>
                  <a:lnTo>
                    <a:pt x="7549" y="6"/>
                  </a:lnTo>
                  <a:lnTo>
                    <a:pt x="7548" y="5"/>
                  </a:lnTo>
                  <a:lnTo>
                    <a:pt x="7549" y="3"/>
                  </a:lnTo>
                  <a:lnTo>
                    <a:pt x="7549" y="1"/>
                  </a:lnTo>
                  <a:lnTo>
                    <a:pt x="7553" y="0"/>
                  </a:lnTo>
                  <a:lnTo>
                    <a:pt x="7554" y="0"/>
                  </a:lnTo>
                  <a:lnTo>
                    <a:pt x="7755" y="0"/>
                  </a:lnTo>
                  <a:lnTo>
                    <a:pt x="7758" y="0"/>
                  </a:lnTo>
                  <a:lnTo>
                    <a:pt x="7760" y="1"/>
                  </a:lnTo>
                  <a:lnTo>
                    <a:pt x="7761" y="3"/>
                  </a:lnTo>
                  <a:lnTo>
                    <a:pt x="7761" y="5"/>
                  </a:lnTo>
                  <a:lnTo>
                    <a:pt x="7761" y="6"/>
                  </a:lnTo>
                  <a:lnTo>
                    <a:pt x="7760" y="9"/>
                  </a:lnTo>
                  <a:lnTo>
                    <a:pt x="7758" y="9"/>
                  </a:lnTo>
                  <a:lnTo>
                    <a:pt x="7755" y="10"/>
                  </a:lnTo>
                  <a:lnTo>
                    <a:pt x="7755" y="10"/>
                  </a:lnTo>
                  <a:close/>
                  <a:moveTo>
                    <a:pt x="7434" y="10"/>
                  </a:moveTo>
                  <a:lnTo>
                    <a:pt x="7234" y="10"/>
                  </a:lnTo>
                  <a:lnTo>
                    <a:pt x="7232" y="9"/>
                  </a:lnTo>
                  <a:lnTo>
                    <a:pt x="7229" y="9"/>
                  </a:lnTo>
                  <a:lnTo>
                    <a:pt x="7227" y="6"/>
                  </a:lnTo>
                  <a:lnTo>
                    <a:pt x="7227" y="5"/>
                  </a:lnTo>
                  <a:lnTo>
                    <a:pt x="7227" y="3"/>
                  </a:lnTo>
                  <a:lnTo>
                    <a:pt x="7229" y="1"/>
                  </a:lnTo>
                  <a:lnTo>
                    <a:pt x="7232" y="0"/>
                  </a:lnTo>
                  <a:lnTo>
                    <a:pt x="7234" y="0"/>
                  </a:lnTo>
                  <a:lnTo>
                    <a:pt x="7434" y="0"/>
                  </a:lnTo>
                  <a:lnTo>
                    <a:pt x="7438" y="0"/>
                  </a:lnTo>
                  <a:lnTo>
                    <a:pt x="7439" y="1"/>
                  </a:lnTo>
                  <a:lnTo>
                    <a:pt x="7441" y="3"/>
                  </a:lnTo>
                  <a:lnTo>
                    <a:pt x="7441" y="5"/>
                  </a:lnTo>
                  <a:lnTo>
                    <a:pt x="7441" y="6"/>
                  </a:lnTo>
                  <a:lnTo>
                    <a:pt x="7439" y="9"/>
                  </a:lnTo>
                  <a:lnTo>
                    <a:pt x="7438" y="9"/>
                  </a:lnTo>
                  <a:lnTo>
                    <a:pt x="7434" y="10"/>
                  </a:lnTo>
                  <a:lnTo>
                    <a:pt x="7434" y="10"/>
                  </a:lnTo>
                  <a:close/>
                  <a:moveTo>
                    <a:pt x="7114" y="10"/>
                  </a:moveTo>
                  <a:lnTo>
                    <a:pt x="6913" y="10"/>
                  </a:lnTo>
                  <a:lnTo>
                    <a:pt x="6910" y="9"/>
                  </a:lnTo>
                  <a:lnTo>
                    <a:pt x="6908" y="9"/>
                  </a:lnTo>
                  <a:lnTo>
                    <a:pt x="6907" y="6"/>
                  </a:lnTo>
                  <a:lnTo>
                    <a:pt x="6907" y="5"/>
                  </a:lnTo>
                  <a:lnTo>
                    <a:pt x="6907" y="3"/>
                  </a:lnTo>
                  <a:lnTo>
                    <a:pt x="6908" y="1"/>
                  </a:lnTo>
                  <a:lnTo>
                    <a:pt x="6910" y="0"/>
                  </a:lnTo>
                  <a:lnTo>
                    <a:pt x="6913" y="0"/>
                  </a:lnTo>
                  <a:lnTo>
                    <a:pt x="7114" y="0"/>
                  </a:lnTo>
                  <a:lnTo>
                    <a:pt x="7117" y="0"/>
                  </a:lnTo>
                  <a:lnTo>
                    <a:pt x="7119" y="1"/>
                  </a:lnTo>
                  <a:lnTo>
                    <a:pt x="7120" y="3"/>
                  </a:lnTo>
                  <a:lnTo>
                    <a:pt x="7120" y="5"/>
                  </a:lnTo>
                  <a:lnTo>
                    <a:pt x="7120" y="6"/>
                  </a:lnTo>
                  <a:lnTo>
                    <a:pt x="7119" y="9"/>
                  </a:lnTo>
                  <a:lnTo>
                    <a:pt x="7117" y="9"/>
                  </a:lnTo>
                  <a:lnTo>
                    <a:pt x="7114" y="10"/>
                  </a:lnTo>
                  <a:lnTo>
                    <a:pt x="7114" y="10"/>
                  </a:lnTo>
                  <a:close/>
                  <a:moveTo>
                    <a:pt x="6793" y="10"/>
                  </a:moveTo>
                  <a:lnTo>
                    <a:pt x="6593" y="10"/>
                  </a:lnTo>
                  <a:lnTo>
                    <a:pt x="6590" y="9"/>
                  </a:lnTo>
                  <a:lnTo>
                    <a:pt x="6588" y="9"/>
                  </a:lnTo>
                  <a:lnTo>
                    <a:pt x="6586" y="6"/>
                  </a:lnTo>
                  <a:lnTo>
                    <a:pt x="6586" y="5"/>
                  </a:lnTo>
                  <a:lnTo>
                    <a:pt x="6586" y="3"/>
                  </a:lnTo>
                  <a:lnTo>
                    <a:pt x="6588" y="1"/>
                  </a:lnTo>
                  <a:lnTo>
                    <a:pt x="6590" y="0"/>
                  </a:lnTo>
                  <a:lnTo>
                    <a:pt x="6593" y="0"/>
                  </a:lnTo>
                  <a:lnTo>
                    <a:pt x="6793" y="0"/>
                  </a:lnTo>
                  <a:lnTo>
                    <a:pt x="6797" y="0"/>
                  </a:lnTo>
                  <a:lnTo>
                    <a:pt x="6798" y="1"/>
                  </a:lnTo>
                  <a:lnTo>
                    <a:pt x="6800" y="3"/>
                  </a:lnTo>
                  <a:lnTo>
                    <a:pt x="6800" y="5"/>
                  </a:lnTo>
                  <a:lnTo>
                    <a:pt x="6800" y="6"/>
                  </a:lnTo>
                  <a:lnTo>
                    <a:pt x="6798" y="9"/>
                  </a:lnTo>
                  <a:lnTo>
                    <a:pt x="6797" y="9"/>
                  </a:lnTo>
                  <a:lnTo>
                    <a:pt x="6793" y="10"/>
                  </a:lnTo>
                  <a:lnTo>
                    <a:pt x="6793" y="10"/>
                  </a:lnTo>
                  <a:close/>
                  <a:moveTo>
                    <a:pt x="6473" y="10"/>
                  </a:moveTo>
                  <a:lnTo>
                    <a:pt x="6272" y="10"/>
                  </a:lnTo>
                  <a:lnTo>
                    <a:pt x="6269" y="9"/>
                  </a:lnTo>
                  <a:lnTo>
                    <a:pt x="6267" y="9"/>
                  </a:lnTo>
                  <a:lnTo>
                    <a:pt x="6266" y="6"/>
                  </a:lnTo>
                  <a:lnTo>
                    <a:pt x="6266" y="5"/>
                  </a:lnTo>
                  <a:lnTo>
                    <a:pt x="6266" y="3"/>
                  </a:lnTo>
                  <a:lnTo>
                    <a:pt x="6267" y="1"/>
                  </a:lnTo>
                  <a:lnTo>
                    <a:pt x="6269" y="0"/>
                  </a:lnTo>
                  <a:lnTo>
                    <a:pt x="6272" y="0"/>
                  </a:lnTo>
                  <a:lnTo>
                    <a:pt x="6473" y="0"/>
                  </a:lnTo>
                  <a:lnTo>
                    <a:pt x="6475" y="0"/>
                  </a:lnTo>
                  <a:lnTo>
                    <a:pt x="6478" y="1"/>
                  </a:lnTo>
                  <a:lnTo>
                    <a:pt x="6479" y="3"/>
                  </a:lnTo>
                  <a:lnTo>
                    <a:pt x="6479" y="5"/>
                  </a:lnTo>
                  <a:lnTo>
                    <a:pt x="6479" y="6"/>
                  </a:lnTo>
                  <a:lnTo>
                    <a:pt x="6478" y="9"/>
                  </a:lnTo>
                  <a:lnTo>
                    <a:pt x="6475" y="9"/>
                  </a:lnTo>
                  <a:lnTo>
                    <a:pt x="6473" y="10"/>
                  </a:lnTo>
                  <a:lnTo>
                    <a:pt x="6473" y="10"/>
                  </a:lnTo>
                  <a:close/>
                  <a:moveTo>
                    <a:pt x="6152" y="10"/>
                  </a:moveTo>
                  <a:lnTo>
                    <a:pt x="5952" y="10"/>
                  </a:lnTo>
                  <a:lnTo>
                    <a:pt x="5949" y="9"/>
                  </a:lnTo>
                  <a:lnTo>
                    <a:pt x="5947" y="9"/>
                  </a:lnTo>
                  <a:lnTo>
                    <a:pt x="5945" y="6"/>
                  </a:lnTo>
                  <a:lnTo>
                    <a:pt x="5945" y="5"/>
                  </a:lnTo>
                  <a:lnTo>
                    <a:pt x="5945" y="3"/>
                  </a:lnTo>
                  <a:lnTo>
                    <a:pt x="5947" y="1"/>
                  </a:lnTo>
                  <a:lnTo>
                    <a:pt x="5949" y="0"/>
                  </a:lnTo>
                  <a:lnTo>
                    <a:pt x="5952" y="0"/>
                  </a:lnTo>
                  <a:lnTo>
                    <a:pt x="6152" y="0"/>
                  </a:lnTo>
                  <a:lnTo>
                    <a:pt x="6154" y="0"/>
                  </a:lnTo>
                  <a:lnTo>
                    <a:pt x="6157" y="1"/>
                  </a:lnTo>
                  <a:lnTo>
                    <a:pt x="6157" y="3"/>
                  </a:lnTo>
                  <a:lnTo>
                    <a:pt x="6159" y="5"/>
                  </a:lnTo>
                  <a:lnTo>
                    <a:pt x="6157" y="6"/>
                  </a:lnTo>
                  <a:lnTo>
                    <a:pt x="6157" y="9"/>
                  </a:lnTo>
                  <a:lnTo>
                    <a:pt x="6154" y="9"/>
                  </a:lnTo>
                  <a:lnTo>
                    <a:pt x="6152" y="10"/>
                  </a:lnTo>
                  <a:lnTo>
                    <a:pt x="6152" y="10"/>
                  </a:lnTo>
                  <a:close/>
                  <a:moveTo>
                    <a:pt x="5832" y="10"/>
                  </a:moveTo>
                  <a:lnTo>
                    <a:pt x="5631" y="10"/>
                  </a:lnTo>
                  <a:lnTo>
                    <a:pt x="5628" y="9"/>
                  </a:lnTo>
                  <a:lnTo>
                    <a:pt x="5626" y="9"/>
                  </a:lnTo>
                  <a:lnTo>
                    <a:pt x="5625" y="6"/>
                  </a:lnTo>
                  <a:lnTo>
                    <a:pt x="5625" y="5"/>
                  </a:lnTo>
                  <a:lnTo>
                    <a:pt x="5625" y="3"/>
                  </a:lnTo>
                  <a:lnTo>
                    <a:pt x="5626" y="1"/>
                  </a:lnTo>
                  <a:lnTo>
                    <a:pt x="5628" y="0"/>
                  </a:lnTo>
                  <a:lnTo>
                    <a:pt x="5631" y="0"/>
                  </a:lnTo>
                  <a:lnTo>
                    <a:pt x="5832" y="0"/>
                  </a:lnTo>
                  <a:lnTo>
                    <a:pt x="5834" y="0"/>
                  </a:lnTo>
                  <a:lnTo>
                    <a:pt x="5837" y="1"/>
                  </a:lnTo>
                  <a:lnTo>
                    <a:pt x="5837" y="3"/>
                  </a:lnTo>
                  <a:lnTo>
                    <a:pt x="5838" y="5"/>
                  </a:lnTo>
                  <a:lnTo>
                    <a:pt x="5837" y="6"/>
                  </a:lnTo>
                  <a:lnTo>
                    <a:pt x="5837" y="9"/>
                  </a:lnTo>
                  <a:lnTo>
                    <a:pt x="5834" y="9"/>
                  </a:lnTo>
                  <a:lnTo>
                    <a:pt x="5832" y="10"/>
                  </a:lnTo>
                  <a:lnTo>
                    <a:pt x="5832" y="10"/>
                  </a:lnTo>
                  <a:close/>
                  <a:moveTo>
                    <a:pt x="5511" y="10"/>
                  </a:moveTo>
                  <a:lnTo>
                    <a:pt x="5311" y="10"/>
                  </a:lnTo>
                  <a:lnTo>
                    <a:pt x="5308" y="9"/>
                  </a:lnTo>
                  <a:lnTo>
                    <a:pt x="5306" y="9"/>
                  </a:lnTo>
                  <a:lnTo>
                    <a:pt x="5304" y="6"/>
                  </a:lnTo>
                  <a:lnTo>
                    <a:pt x="5304" y="5"/>
                  </a:lnTo>
                  <a:lnTo>
                    <a:pt x="5304" y="3"/>
                  </a:lnTo>
                  <a:lnTo>
                    <a:pt x="5306" y="1"/>
                  </a:lnTo>
                  <a:lnTo>
                    <a:pt x="5308" y="0"/>
                  </a:lnTo>
                  <a:lnTo>
                    <a:pt x="5311" y="0"/>
                  </a:lnTo>
                  <a:lnTo>
                    <a:pt x="5511" y="0"/>
                  </a:lnTo>
                  <a:lnTo>
                    <a:pt x="5513" y="0"/>
                  </a:lnTo>
                  <a:lnTo>
                    <a:pt x="5515" y="1"/>
                  </a:lnTo>
                  <a:lnTo>
                    <a:pt x="5516" y="3"/>
                  </a:lnTo>
                  <a:lnTo>
                    <a:pt x="5518" y="5"/>
                  </a:lnTo>
                  <a:lnTo>
                    <a:pt x="5516" y="6"/>
                  </a:lnTo>
                  <a:lnTo>
                    <a:pt x="5515" y="9"/>
                  </a:lnTo>
                  <a:lnTo>
                    <a:pt x="5513" y="9"/>
                  </a:lnTo>
                  <a:lnTo>
                    <a:pt x="5511" y="10"/>
                  </a:lnTo>
                  <a:lnTo>
                    <a:pt x="5511" y="10"/>
                  </a:lnTo>
                  <a:close/>
                  <a:moveTo>
                    <a:pt x="5191" y="10"/>
                  </a:moveTo>
                  <a:lnTo>
                    <a:pt x="4990" y="10"/>
                  </a:lnTo>
                  <a:lnTo>
                    <a:pt x="4987" y="9"/>
                  </a:lnTo>
                  <a:lnTo>
                    <a:pt x="4985" y="9"/>
                  </a:lnTo>
                  <a:lnTo>
                    <a:pt x="4984" y="6"/>
                  </a:lnTo>
                  <a:lnTo>
                    <a:pt x="4984" y="5"/>
                  </a:lnTo>
                  <a:lnTo>
                    <a:pt x="4984" y="3"/>
                  </a:lnTo>
                  <a:lnTo>
                    <a:pt x="4985" y="1"/>
                  </a:lnTo>
                  <a:lnTo>
                    <a:pt x="4987" y="0"/>
                  </a:lnTo>
                  <a:lnTo>
                    <a:pt x="4990" y="0"/>
                  </a:lnTo>
                  <a:lnTo>
                    <a:pt x="5191" y="0"/>
                  </a:lnTo>
                  <a:lnTo>
                    <a:pt x="5193" y="0"/>
                  </a:lnTo>
                  <a:lnTo>
                    <a:pt x="5194" y="1"/>
                  </a:lnTo>
                  <a:lnTo>
                    <a:pt x="5196" y="3"/>
                  </a:lnTo>
                  <a:lnTo>
                    <a:pt x="5197" y="5"/>
                  </a:lnTo>
                  <a:lnTo>
                    <a:pt x="5196" y="6"/>
                  </a:lnTo>
                  <a:lnTo>
                    <a:pt x="5194" y="9"/>
                  </a:lnTo>
                  <a:lnTo>
                    <a:pt x="5193" y="9"/>
                  </a:lnTo>
                  <a:lnTo>
                    <a:pt x="5191" y="10"/>
                  </a:lnTo>
                  <a:lnTo>
                    <a:pt x="5191" y="10"/>
                  </a:lnTo>
                  <a:close/>
                  <a:moveTo>
                    <a:pt x="4870" y="10"/>
                  </a:moveTo>
                  <a:lnTo>
                    <a:pt x="4670" y="10"/>
                  </a:lnTo>
                  <a:lnTo>
                    <a:pt x="4667" y="9"/>
                  </a:lnTo>
                  <a:lnTo>
                    <a:pt x="4665" y="9"/>
                  </a:lnTo>
                  <a:lnTo>
                    <a:pt x="4663" y="6"/>
                  </a:lnTo>
                  <a:lnTo>
                    <a:pt x="4663" y="5"/>
                  </a:lnTo>
                  <a:lnTo>
                    <a:pt x="4663" y="3"/>
                  </a:lnTo>
                  <a:lnTo>
                    <a:pt x="4665" y="1"/>
                  </a:lnTo>
                  <a:lnTo>
                    <a:pt x="4667" y="0"/>
                  </a:lnTo>
                  <a:lnTo>
                    <a:pt x="4670" y="0"/>
                  </a:lnTo>
                  <a:lnTo>
                    <a:pt x="4870" y="0"/>
                  </a:lnTo>
                  <a:lnTo>
                    <a:pt x="4872" y="0"/>
                  </a:lnTo>
                  <a:lnTo>
                    <a:pt x="4874" y="1"/>
                  </a:lnTo>
                  <a:lnTo>
                    <a:pt x="4875" y="3"/>
                  </a:lnTo>
                  <a:lnTo>
                    <a:pt x="4877" y="5"/>
                  </a:lnTo>
                  <a:lnTo>
                    <a:pt x="4875" y="6"/>
                  </a:lnTo>
                  <a:lnTo>
                    <a:pt x="4874" y="9"/>
                  </a:lnTo>
                  <a:lnTo>
                    <a:pt x="4872" y="9"/>
                  </a:lnTo>
                  <a:lnTo>
                    <a:pt x="4870" y="10"/>
                  </a:lnTo>
                  <a:lnTo>
                    <a:pt x="4870" y="10"/>
                  </a:lnTo>
                  <a:close/>
                  <a:moveTo>
                    <a:pt x="4550" y="10"/>
                  </a:moveTo>
                  <a:lnTo>
                    <a:pt x="4349" y="10"/>
                  </a:lnTo>
                  <a:lnTo>
                    <a:pt x="4346" y="9"/>
                  </a:lnTo>
                  <a:lnTo>
                    <a:pt x="4344" y="9"/>
                  </a:lnTo>
                  <a:lnTo>
                    <a:pt x="4343" y="6"/>
                  </a:lnTo>
                  <a:lnTo>
                    <a:pt x="4343" y="5"/>
                  </a:lnTo>
                  <a:lnTo>
                    <a:pt x="4343" y="3"/>
                  </a:lnTo>
                  <a:lnTo>
                    <a:pt x="4344" y="1"/>
                  </a:lnTo>
                  <a:lnTo>
                    <a:pt x="4346" y="0"/>
                  </a:lnTo>
                  <a:lnTo>
                    <a:pt x="4349" y="0"/>
                  </a:lnTo>
                  <a:lnTo>
                    <a:pt x="4550" y="0"/>
                  </a:lnTo>
                  <a:lnTo>
                    <a:pt x="4552" y="0"/>
                  </a:lnTo>
                  <a:lnTo>
                    <a:pt x="4553" y="1"/>
                  </a:lnTo>
                  <a:lnTo>
                    <a:pt x="4555" y="3"/>
                  </a:lnTo>
                  <a:lnTo>
                    <a:pt x="4556" y="5"/>
                  </a:lnTo>
                  <a:lnTo>
                    <a:pt x="4555" y="6"/>
                  </a:lnTo>
                  <a:lnTo>
                    <a:pt x="4553" y="9"/>
                  </a:lnTo>
                  <a:lnTo>
                    <a:pt x="4552" y="9"/>
                  </a:lnTo>
                  <a:lnTo>
                    <a:pt x="4550" y="10"/>
                  </a:lnTo>
                  <a:lnTo>
                    <a:pt x="4550" y="10"/>
                  </a:lnTo>
                  <a:close/>
                  <a:moveTo>
                    <a:pt x="4228" y="10"/>
                  </a:moveTo>
                  <a:lnTo>
                    <a:pt x="4029" y="10"/>
                  </a:lnTo>
                  <a:lnTo>
                    <a:pt x="4026" y="9"/>
                  </a:lnTo>
                  <a:lnTo>
                    <a:pt x="4024" y="9"/>
                  </a:lnTo>
                  <a:lnTo>
                    <a:pt x="4022" y="6"/>
                  </a:lnTo>
                  <a:lnTo>
                    <a:pt x="4021" y="5"/>
                  </a:lnTo>
                  <a:lnTo>
                    <a:pt x="4022" y="3"/>
                  </a:lnTo>
                  <a:lnTo>
                    <a:pt x="4024" y="1"/>
                  </a:lnTo>
                  <a:lnTo>
                    <a:pt x="4026" y="0"/>
                  </a:lnTo>
                  <a:lnTo>
                    <a:pt x="4029" y="0"/>
                  </a:lnTo>
                  <a:lnTo>
                    <a:pt x="4228" y="0"/>
                  </a:lnTo>
                  <a:lnTo>
                    <a:pt x="4231" y="0"/>
                  </a:lnTo>
                  <a:lnTo>
                    <a:pt x="4233" y="1"/>
                  </a:lnTo>
                  <a:lnTo>
                    <a:pt x="4234" y="3"/>
                  </a:lnTo>
                  <a:lnTo>
                    <a:pt x="4236" y="5"/>
                  </a:lnTo>
                  <a:lnTo>
                    <a:pt x="4234" y="6"/>
                  </a:lnTo>
                  <a:lnTo>
                    <a:pt x="4233" y="9"/>
                  </a:lnTo>
                  <a:lnTo>
                    <a:pt x="4231" y="9"/>
                  </a:lnTo>
                  <a:lnTo>
                    <a:pt x="4228" y="10"/>
                  </a:lnTo>
                  <a:lnTo>
                    <a:pt x="4228" y="10"/>
                  </a:lnTo>
                  <a:close/>
                  <a:moveTo>
                    <a:pt x="3907" y="10"/>
                  </a:moveTo>
                  <a:lnTo>
                    <a:pt x="3707" y="10"/>
                  </a:lnTo>
                  <a:lnTo>
                    <a:pt x="3705" y="9"/>
                  </a:lnTo>
                  <a:lnTo>
                    <a:pt x="3702" y="9"/>
                  </a:lnTo>
                  <a:lnTo>
                    <a:pt x="3702" y="6"/>
                  </a:lnTo>
                  <a:lnTo>
                    <a:pt x="3700" y="5"/>
                  </a:lnTo>
                  <a:lnTo>
                    <a:pt x="3702" y="3"/>
                  </a:lnTo>
                  <a:lnTo>
                    <a:pt x="3702" y="1"/>
                  </a:lnTo>
                  <a:lnTo>
                    <a:pt x="3705" y="0"/>
                  </a:lnTo>
                  <a:lnTo>
                    <a:pt x="3707" y="0"/>
                  </a:lnTo>
                  <a:lnTo>
                    <a:pt x="3907" y="0"/>
                  </a:lnTo>
                  <a:lnTo>
                    <a:pt x="3911" y="0"/>
                  </a:lnTo>
                  <a:lnTo>
                    <a:pt x="3912" y="1"/>
                  </a:lnTo>
                  <a:lnTo>
                    <a:pt x="3914" y="3"/>
                  </a:lnTo>
                  <a:lnTo>
                    <a:pt x="3914" y="5"/>
                  </a:lnTo>
                  <a:lnTo>
                    <a:pt x="3914" y="6"/>
                  </a:lnTo>
                  <a:lnTo>
                    <a:pt x="3912" y="9"/>
                  </a:lnTo>
                  <a:lnTo>
                    <a:pt x="3911" y="9"/>
                  </a:lnTo>
                  <a:lnTo>
                    <a:pt x="3907" y="10"/>
                  </a:lnTo>
                  <a:lnTo>
                    <a:pt x="3907" y="10"/>
                  </a:lnTo>
                  <a:close/>
                  <a:moveTo>
                    <a:pt x="3587" y="10"/>
                  </a:moveTo>
                  <a:lnTo>
                    <a:pt x="3386" y="10"/>
                  </a:lnTo>
                  <a:lnTo>
                    <a:pt x="3385" y="9"/>
                  </a:lnTo>
                  <a:lnTo>
                    <a:pt x="3381" y="9"/>
                  </a:lnTo>
                  <a:lnTo>
                    <a:pt x="3381" y="6"/>
                  </a:lnTo>
                  <a:lnTo>
                    <a:pt x="3380" y="5"/>
                  </a:lnTo>
                  <a:lnTo>
                    <a:pt x="3381" y="3"/>
                  </a:lnTo>
                  <a:lnTo>
                    <a:pt x="3381" y="1"/>
                  </a:lnTo>
                  <a:lnTo>
                    <a:pt x="3385" y="0"/>
                  </a:lnTo>
                  <a:lnTo>
                    <a:pt x="3386" y="0"/>
                  </a:lnTo>
                  <a:lnTo>
                    <a:pt x="3587" y="0"/>
                  </a:lnTo>
                  <a:lnTo>
                    <a:pt x="3590" y="0"/>
                  </a:lnTo>
                  <a:lnTo>
                    <a:pt x="3592" y="1"/>
                  </a:lnTo>
                  <a:lnTo>
                    <a:pt x="3593" y="3"/>
                  </a:lnTo>
                  <a:lnTo>
                    <a:pt x="3593" y="5"/>
                  </a:lnTo>
                  <a:lnTo>
                    <a:pt x="3593" y="6"/>
                  </a:lnTo>
                  <a:lnTo>
                    <a:pt x="3592" y="9"/>
                  </a:lnTo>
                  <a:lnTo>
                    <a:pt x="3590" y="9"/>
                  </a:lnTo>
                  <a:lnTo>
                    <a:pt x="3587" y="10"/>
                  </a:lnTo>
                  <a:lnTo>
                    <a:pt x="3587" y="10"/>
                  </a:lnTo>
                  <a:close/>
                  <a:moveTo>
                    <a:pt x="3266" y="10"/>
                  </a:moveTo>
                  <a:lnTo>
                    <a:pt x="3066" y="10"/>
                  </a:lnTo>
                  <a:lnTo>
                    <a:pt x="3064" y="9"/>
                  </a:lnTo>
                  <a:lnTo>
                    <a:pt x="3061" y="9"/>
                  </a:lnTo>
                  <a:lnTo>
                    <a:pt x="3059" y="6"/>
                  </a:lnTo>
                  <a:lnTo>
                    <a:pt x="3059" y="5"/>
                  </a:lnTo>
                  <a:lnTo>
                    <a:pt x="3059" y="3"/>
                  </a:lnTo>
                  <a:lnTo>
                    <a:pt x="3061" y="1"/>
                  </a:lnTo>
                  <a:lnTo>
                    <a:pt x="3064" y="0"/>
                  </a:lnTo>
                  <a:lnTo>
                    <a:pt x="3066" y="0"/>
                  </a:lnTo>
                  <a:lnTo>
                    <a:pt x="3266" y="0"/>
                  </a:lnTo>
                  <a:lnTo>
                    <a:pt x="3269" y="0"/>
                  </a:lnTo>
                  <a:lnTo>
                    <a:pt x="3271" y="1"/>
                  </a:lnTo>
                  <a:lnTo>
                    <a:pt x="3273" y="3"/>
                  </a:lnTo>
                  <a:lnTo>
                    <a:pt x="3273" y="5"/>
                  </a:lnTo>
                  <a:lnTo>
                    <a:pt x="3273" y="6"/>
                  </a:lnTo>
                  <a:lnTo>
                    <a:pt x="3271" y="9"/>
                  </a:lnTo>
                  <a:lnTo>
                    <a:pt x="3269" y="9"/>
                  </a:lnTo>
                  <a:lnTo>
                    <a:pt x="3266" y="10"/>
                  </a:lnTo>
                  <a:lnTo>
                    <a:pt x="3266" y="10"/>
                  </a:lnTo>
                  <a:close/>
                  <a:moveTo>
                    <a:pt x="2946" y="10"/>
                  </a:moveTo>
                  <a:lnTo>
                    <a:pt x="2745" y="10"/>
                  </a:lnTo>
                  <a:lnTo>
                    <a:pt x="2742" y="9"/>
                  </a:lnTo>
                  <a:lnTo>
                    <a:pt x="2740" y="9"/>
                  </a:lnTo>
                  <a:lnTo>
                    <a:pt x="2739" y="6"/>
                  </a:lnTo>
                  <a:lnTo>
                    <a:pt x="2739" y="5"/>
                  </a:lnTo>
                  <a:lnTo>
                    <a:pt x="2739" y="3"/>
                  </a:lnTo>
                  <a:lnTo>
                    <a:pt x="2740" y="1"/>
                  </a:lnTo>
                  <a:lnTo>
                    <a:pt x="2742" y="0"/>
                  </a:lnTo>
                  <a:lnTo>
                    <a:pt x="2745" y="0"/>
                  </a:lnTo>
                  <a:lnTo>
                    <a:pt x="2946" y="0"/>
                  </a:lnTo>
                  <a:lnTo>
                    <a:pt x="2949" y="0"/>
                  </a:lnTo>
                  <a:lnTo>
                    <a:pt x="2951" y="1"/>
                  </a:lnTo>
                  <a:lnTo>
                    <a:pt x="2952" y="3"/>
                  </a:lnTo>
                  <a:lnTo>
                    <a:pt x="2952" y="5"/>
                  </a:lnTo>
                  <a:lnTo>
                    <a:pt x="2952" y="6"/>
                  </a:lnTo>
                  <a:lnTo>
                    <a:pt x="2951" y="9"/>
                  </a:lnTo>
                  <a:lnTo>
                    <a:pt x="2949" y="9"/>
                  </a:lnTo>
                  <a:lnTo>
                    <a:pt x="2946" y="10"/>
                  </a:lnTo>
                  <a:lnTo>
                    <a:pt x="2946" y="10"/>
                  </a:lnTo>
                  <a:close/>
                  <a:moveTo>
                    <a:pt x="2625" y="10"/>
                  </a:moveTo>
                  <a:lnTo>
                    <a:pt x="2425" y="10"/>
                  </a:lnTo>
                  <a:lnTo>
                    <a:pt x="2421" y="9"/>
                  </a:lnTo>
                  <a:lnTo>
                    <a:pt x="2420" y="9"/>
                  </a:lnTo>
                  <a:lnTo>
                    <a:pt x="2418" y="6"/>
                  </a:lnTo>
                  <a:lnTo>
                    <a:pt x="2418" y="5"/>
                  </a:lnTo>
                  <a:lnTo>
                    <a:pt x="2418" y="3"/>
                  </a:lnTo>
                  <a:lnTo>
                    <a:pt x="2420" y="1"/>
                  </a:lnTo>
                  <a:lnTo>
                    <a:pt x="2421" y="0"/>
                  </a:lnTo>
                  <a:lnTo>
                    <a:pt x="2425" y="0"/>
                  </a:lnTo>
                  <a:lnTo>
                    <a:pt x="2625" y="0"/>
                  </a:lnTo>
                  <a:lnTo>
                    <a:pt x="2628" y="0"/>
                  </a:lnTo>
                  <a:lnTo>
                    <a:pt x="2630" y="1"/>
                  </a:lnTo>
                  <a:lnTo>
                    <a:pt x="2632" y="3"/>
                  </a:lnTo>
                  <a:lnTo>
                    <a:pt x="2632" y="5"/>
                  </a:lnTo>
                  <a:lnTo>
                    <a:pt x="2632" y="6"/>
                  </a:lnTo>
                  <a:lnTo>
                    <a:pt x="2630" y="9"/>
                  </a:lnTo>
                  <a:lnTo>
                    <a:pt x="2628" y="9"/>
                  </a:lnTo>
                  <a:lnTo>
                    <a:pt x="2625" y="10"/>
                  </a:lnTo>
                  <a:lnTo>
                    <a:pt x="2625" y="10"/>
                  </a:lnTo>
                  <a:close/>
                  <a:moveTo>
                    <a:pt x="2305" y="10"/>
                  </a:moveTo>
                  <a:lnTo>
                    <a:pt x="2104" y="10"/>
                  </a:lnTo>
                  <a:lnTo>
                    <a:pt x="2101" y="9"/>
                  </a:lnTo>
                  <a:lnTo>
                    <a:pt x="2099" y="9"/>
                  </a:lnTo>
                  <a:lnTo>
                    <a:pt x="2098" y="6"/>
                  </a:lnTo>
                  <a:lnTo>
                    <a:pt x="2098" y="5"/>
                  </a:lnTo>
                  <a:lnTo>
                    <a:pt x="2098" y="3"/>
                  </a:lnTo>
                  <a:lnTo>
                    <a:pt x="2099" y="1"/>
                  </a:lnTo>
                  <a:lnTo>
                    <a:pt x="2101" y="0"/>
                  </a:lnTo>
                  <a:lnTo>
                    <a:pt x="2104" y="0"/>
                  </a:lnTo>
                  <a:lnTo>
                    <a:pt x="2305" y="0"/>
                  </a:lnTo>
                  <a:lnTo>
                    <a:pt x="2308" y="0"/>
                  </a:lnTo>
                  <a:lnTo>
                    <a:pt x="2310" y="1"/>
                  </a:lnTo>
                  <a:lnTo>
                    <a:pt x="2311" y="3"/>
                  </a:lnTo>
                  <a:lnTo>
                    <a:pt x="2311" y="5"/>
                  </a:lnTo>
                  <a:lnTo>
                    <a:pt x="2311" y="6"/>
                  </a:lnTo>
                  <a:lnTo>
                    <a:pt x="2310" y="9"/>
                  </a:lnTo>
                  <a:lnTo>
                    <a:pt x="2308" y="9"/>
                  </a:lnTo>
                  <a:lnTo>
                    <a:pt x="2305" y="10"/>
                  </a:lnTo>
                  <a:lnTo>
                    <a:pt x="2305" y="10"/>
                  </a:lnTo>
                  <a:close/>
                  <a:moveTo>
                    <a:pt x="1984" y="10"/>
                  </a:moveTo>
                  <a:lnTo>
                    <a:pt x="1784" y="10"/>
                  </a:lnTo>
                  <a:lnTo>
                    <a:pt x="1780" y="9"/>
                  </a:lnTo>
                  <a:lnTo>
                    <a:pt x="1779" y="9"/>
                  </a:lnTo>
                  <a:lnTo>
                    <a:pt x="1777" y="6"/>
                  </a:lnTo>
                  <a:lnTo>
                    <a:pt x="1777" y="5"/>
                  </a:lnTo>
                  <a:lnTo>
                    <a:pt x="1777" y="3"/>
                  </a:lnTo>
                  <a:lnTo>
                    <a:pt x="1779" y="1"/>
                  </a:lnTo>
                  <a:lnTo>
                    <a:pt x="1780" y="0"/>
                  </a:lnTo>
                  <a:lnTo>
                    <a:pt x="1784" y="0"/>
                  </a:lnTo>
                  <a:lnTo>
                    <a:pt x="1984" y="0"/>
                  </a:lnTo>
                  <a:lnTo>
                    <a:pt x="1986" y="0"/>
                  </a:lnTo>
                  <a:lnTo>
                    <a:pt x="1989" y="1"/>
                  </a:lnTo>
                  <a:lnTo>
                    <a:pt x="1991" y="3"/>
                  </a:lnTo>
                  <a:lnTo>
                    <a:pt x="1991" y="5"/>
                  </a:lnTo>
                  <a:lnTo>
                    <a:pt x="1991" y="6"/>
                  </a:lnTo>
                  <a:lnTo>
                    <a:pt x="1989" y="9"/>
                  </a:lnTo>
                  <a:lnTo>
                    <a:pt x="1986" y="9"/>
                  </a:lnTo>
                  <a:lnTo>
                    <a:pt x="1984" y="10"/>
                  </a:lnTo>
                  <a:lnTo>
                    <a:pt x="1984" y="10"/>
                  </a:lnTo>
                  <a:close/>
                  <a:moveTo>
                    <a:pt x="1664" y="10"/>
                  </a:moveTo>
                  <a:lnTo>
                    <a:pt x="1463" y="10"/>
                  </a:lnTo>
                  <a:lnTo>
                    <a:pt x="1460" y="9"/>
                  </a:lnTo>
                  <a:lnTo>
                    <a:pt x="1458" y="9"/>
                  </a:lnTo>
                  <a:lnTo>
                    <a:pt x="1457" y="6"/>
                  </a:lnTo>
                  <a:lnTo>
                    <a:pt x="1457" y="5"/>
                  </a:lnTo>
                  <a:lnTo>
                    <a:pt x="1457" y="3"/>
                  </a:lnTo>
                  <a:lnTo>
                    <a:pt x="1458" y="1"/>
                  </a:lnTo>
                  <a:lnTo>
                    <a:pt x="1460" y="0"/>
                  </a:lnTo>
                  <a:lnTo>
                    <a:pt x="1463" y="0"/>
                  </a:lnTo>
                  <a:lnTo>
                    <a:pt x="1664" y="0"/>
                  </a:lnTo>
                  <a:lnTo>
                    <a:pt x="1665" y="0"/>
                  </a:lnTo>
                  <a:lnTo>
                    <a:pt x="1669" y="1"/>
                  </a:lnTo>
                  <a:lnTo>
                    <a:pt x="1669" y="3"/>
                  </a:lnTo>
                  <a:lnTo>
                    <a:pt x="1670" y="5"/>
                  </a:lnTo>
                  <a:lnTo>
                    <a:pt x="1669" y="6"/>
                  </a:lnTo>
                  <a:lnTo>
                    <a:pt x="1669" y="9"/>
                  </a:lnTo>
                  <a:lnTo>
                    <a:pt x="1665" y="9"/>
                  </a:lnTo>
                  <a:lnTo>
                    <a:pt x="1664" y="10"/>
                  </a:lnTo>
                  <a:lnTo>
                    <a:pt x="1664" y="10"/>
                  </a:lnTo>
                  <a:close/>
                  <a:moveTo>
                    <a:pt x="1343" y="10"/>
                  </a:moveTo>
                  <a:lnTo>
                    <a:pt x="1143" y="10"/>
                  </a:lnTo>
                  <a:lnTo>
                    <a:pt x="1139" y="9"/>
                  </a:lnTo>
                  <a:lnTo>
                    <a:pt x="1138" y="9"/>
                  </a:lnTo>
                  <a:lnTo>
                    <a:pt x="1136" y="6"/>
                  </a:lnTo>
                  <a:lnTo>
                    <a:pt x="1136" y="5"/>
                  </a:lnTo>
                  <a:lnTo>
                    <a:pt x="1136" y="3"/>
                  </a:lnTo>
                  <a:lnTo>
                    <a:pt x="1138" y="1"/>
                  </a:lnTo>
                  <a:lnTo>
                    <a:pt x="1139" y="0"/>
                  </a:lnTo>
                  <a:lnTo>
                    <a:pt x="1143" y="0"/>
                  </a:lnTo>
                  <a:lnTo>
                    <a:pt x="1343" y="0"/>
                  </a:lnTo>
                  <a:lnTo>
                    <a:pt x="1345" y="0"/>
                  </a:lnTo>
                  <a:lnTo>
                    <a:pt x="1348" y="1"/>
                  </a:lnTo>
                  <a:lnTo>
                    <a:pt x="1348" y="3"/>
                  </a:lnTo>
                  <a:lnTo>
                    <a:pt x="1350" y="5"/>
                  </a:lnTo>
                  <a:lnTo>
                    <a:pt x="1348" y="6"/>
                  </a:lnTo>
                  <a:lnTo>
                    <a:pt x="1348" y="9"/>
                  </a:lnTo>
                  <a:lnTo>
                    <a:pt x="1345" y="9"/>
                  </a:lnTo>
                  <a:lnTo>
                    <a:pt x="1343" y="10"/>
                  </a:lnTo>
                  <a:lnTo>
                    <a:pt x="1343" y="10"/>
                  </a:lnTo>
                  <a:close/>
                  <a:moveTo>
                    <a:pt x="1023" y="10"/>
                  </a:moveTo>
                  <a:lnTo>
                    <a:pt x="822" y="10"/>
                  </a:lnTo>
                  <a:lnTo>
                    <a:pt x="819" y="9"/>
                  </a:lnTo>
                  <a:lnTo>
                    <a:pt x="817" y="9"/>
                  </a:lnTo>
                  <a:lnTo>
                    <a:pt x="816" y="6"/>
                  </a:lnTo>
                  <a:lnTo>
                    <a:pt x="816" y="5"/>
                  </a:lnTo>
                  <a:lnTo>
                    <a:pt x="816" y="3"/>
                  </a:lnTo>
                  <a:lnTo>
                    <a:pt x="817" y="1"/>
                  </a:lnTo>
                  <a:lnTo>
                    <a:pt x="819" y="0"/>
                  </a:lnTo>
                  <a:lnTo>
                    <a:pt x="822" y="0"/>
                  </a:lnTo>
                  <a:lnTo>
                    <a:pt x="1023" y="0"/>
                  </a:lnTo>
                  <a:lnTo>
                    <a:pt x="1024" y="0"/>
                  </a:lnTo>
                  <a:lnTo>
                    <a:pt x="1026" y="1"/>
                  </a:lnTo>
                  <a:lnTo>
                    <a:pt x="1028" y="3"/>
                  </a:lnTo>
                  <a:lnTo>
                    <a:pt x="1029" y="5"/>
                  </a:lnTo>
                  <a:lnTo>
                    <a:pt x="1028" y="6"/>
                  </a:lnTo>
                  <a:lnTo>
                    <a:pt x="1026" y="9"/>
                  </a:lnTo>
                  <a:lnTo>
                    <a:pt x="1024" y="9"/>
                  </a:lnTo>
                  <a:lnTo>
                    <a:pt x="1023" y="10"/>
                  </a:lnTo>
                  <a:lnTo>
                    <a:pt x="1023" y="10"/>
                  </a:lnTo>
                  <a:close/>
                  <a:moveTo>
                    <a:pt x="702" y="10"/>
                  </a:moveTo>
                  <a:lnTo>
                    <a:pt x="502" y="10"/>
                  </a:lnTo>
                  <a:lnTo>
                    <a:pt x="498" y="9"/>
                  </a:lnTo>
                  <a:lnTo>
                    <a:pt x="497" y="9"/>
                  </a:lnTo>
                  <a:lnTo>
                    <a:pt x="495" y="6"/>
                  </a:lnTo>
                  <a:lnTo>
                    <a:pt x="495" y="5"/>
                  </a:lnTo>
                  <a:lnTo>
                    <a:pt x="495" y="3"/>
                  </a:lnTo>
                  <a:lnTo>
                    <a:pt x="497" y="1"/>
                  </a:lnTo>
                  <a:lnTo>
                    <a:pt x="498" y="0"/>
                  </a:lnTo>
                  <a:lnTo>
                    <a:pt x="502" y="0"/>
                  </a:lnTo>
                  <a:lnTo>
                    <a:pt x="702" y="0"/>
                  </a:lnTo>
                  <a:lnTo>
                    <a:pt x="704" y="0"/>
                  </a:lnTo>
                  <a:lnTo>
                    <a:pt x="705" y="1"/>
                  </a:lnTo>
                  <a:lnTo>
                    <a:pt x="707" y="3"/>
                  </a:lnTo>
                  <a:lnTo>
                    <a:pt x="709" y="5"/>
                  </a:lnTo>
                  <a:lnTo>
                    <a:pt x="707" y="6"/>
                  </a:lnTo>
                  <a:lnTo>
                    <a:pt x="705" y="9"/>
                  </a:lnTo>
                  <a:lnTo>
                    <a:pt x="704" y="9"/>
                  </a:lnTo>
                  <a:lnTo>
                    <a:pt x="702" y="10"/>
                  </a:lnTo>
                  <a:lnTo>
                    <a:pt x="702" y="10"/>
                  </a:lnTo>
                  <a:close/>
                  <a:moveTo>
                    <a:pt x="382" y="10"/>
                  </a:moveTo>
                  <a:lnTo>
                    <a:pt x="181" y="10"/>
                  </a:lnTo>
                  <a:lnTo>
                    <a:pt x="178" y="9"/>
                  </a:lnTo>
                  <a:lnTo>
                    <a:pt x="176" y="9"/>
                  </a:lnTo>
                  <a:lnTo>
                    <a:pt x="175" y="6"/>
                  </a:lnTo>
                  <a:lnTo>
                    <a:pt x="175" y="5"/>
                  </a:lnTo>
                  <a:lnTo>
                    <a:pt x="175" y="3"/>
                  </a:lnTo>
                  <a:lnTo>
                    <a:pt x="176" y="1"/>
                  </a:lnTo>
                  <a:lnTo>
                    <a:pt x="178" y="0"/>
                  </a:lnTo>
                  <a:lnTo>
                    <a:pt x="181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5" y="1"/>
                  </a:lnTo>
                  <a:lnTo>
                    <a:pt x="387" y="3"/>
                  </a:lnTo>
                  <a:lnTo>
                    <a:pt x="388" y="5"/>
                  </a:lnTo>
                  <a:lnTo>
                    <a:pt x="387" y="6"/>
                  </a:lnTo>
                  <a:lnTo>
                    <a:pt x="385" y="9"/>
                  </a:lnTo>
                  <a:lnTo>
                    <a:pt x="383" y="9"/>
                  </a:lnTo>
                  <a:lnTo>
                    <a:pt x="382" y="10"/>
                  </a:lnTo>
                  <a:lnTo>
                    <a:pt x="382" y="10"/>
                  </a:lnTo>
                  <a:close/>
                  <a:moveTo>
                    <a:pt x="61" y="10"/>
                  </a:moveTo>
                  <a:lnTo>
                    <a:pt x="7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4" y="1"/>
                  </a:lnTo>
                  <a:lnTo>
                    <a:pt x="66" y="3"/>
                  </a:lnTo>
                  <a:lnTo>
                    <a:pt x="68" y="5"/>
                  </a:lnTo>
                  <a:lnTo>
                    <a:pt x="66" y="6"/>
                  </a:lnTo>
                  <a:lnTo>
                    <a:pt x="64" y="9"/>
                  </a:lnTo>
                  <a:lnTo>
                    <a:pt x="63" y="9"/>
                  </a:lnTo>
                  <a:lnTo>
                    <a:pt x="61" y="10"/>
                  </a:lnTo>
                  <a:lnTo>
                    <a:pt x="61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84320" y="1841400"/>
              <a:ext cx="9360" cy="4687920"/>
            </a:xfrm>
            <a:custGeom>
              <a:avLst/>
              <a:gdLst/>
              <a:ahLst/>
              <a:rect l="l" t="t" r="r" b="b"/>
              <a:pathLst>
                <a:path w="14" h="5906">
                  <a:moveTo>
                    <a:pt x="14" y="5"/>
                  </a:moveTo>
                  <a:lnTo>
                    <a:pt x="14" y="155"/>
                  </a:lnTo>
                  <a:lnTo>
                    <a:pt x="14" y="156"/>
                  </a:lnTo>
                  <a:lnTo>
                    <a:pt x="12" y="158"/>
                  </a:lnTo>
                  <a:lnTo>
                    <a:pt x="10" y="158"/>
                  </a:lnTo>
                  <a:lnTo>
                    <a:pt x="7" y="160"/>
                  </a:lnTo>
                  <a:lnTo>
                    <a:pt x="4" y="158"/>
                  </a:lnTo>
                  <a:lnTo>
                    <a:pt x="2" y="158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5"/>
                  </a:lnTo>
                  <a:lnTo>
                    <a:pt x="14" y="5"/>
                  </a:lnTo>
                  <a:close/>
                  <a:moveTo>
                    <a:pt x="14" y="244"/>
                  </a:moveTo>
                  <a:lnTo>
                    <a:pt x="14" y="394"/>
                  </a:lnTo>
                  <a:lnTo>
                    <a:pt x="14" y="395"/>
                  </a:lnTo>
                  <a:lnTo>
                    <a:pt x="12" y="398"/>
                  </a:lnTo>
                  <a:lnTo>
                    <a:pt x="10" y="399"/>
                  </a:lnTo>
                  <a:lnTo>
                    <a:pt x="7" y="399"/>
                  </a:lnTo>
                  <a:lnTo>
                    <a:pt x="4" y="399"/>
                  </a:lnTo>
                  <a:lnTo>
                    <a:pt x="2" y="398"/>
                  </a:lnTo>
                  <a:lnTo>
                    <a:pt x="0" y="395"/>
                  </a:lnTo>
                  <a:lnTo>
                    <a:pt x="0" y="394"/>
                  </a:lnTo>
                  <a:lnTo>
                    <a:pt x="0" y="244"/>
                  </a:lnTo>
                  <a:lnTo>
                    <a:pt x="0" y="242"/>
                  </a:lnTo>
                  <a:lnTo>
                    <a:pt x="2" y="241"/>
                  </a:lnTo>
                  <a:lnTo>
                    <a:pt x="4" y="239"/>
                  </a:lnTo>
                  <a:lnTo>
                    <a:pt x="7" y="239"/>
                  </a:lnTo>
                  <a:lnTo>
                    <a:pt x="10" y="239"/>
                  </a:lnTo>
                  <a:lnTo>
                    <a:pt x="12" y="241"/>
                  </a:lnTo>
                  <a:lnTo>
                    <a:pt x="14" y="242"/>
                  </a:lnTo>
                  <a:lnTo>
                    <a:pt x="14" y="244"/>
                  </a:lnTo>
                  <a:lnTo>
                    <a:pt x="14" y="244"/>
                  </a:lnTo>
                  <a:close/>
                  <a:moveTo>
                    <a:pt x="14" y="484"/>
                  </a:moveTo>
                  <a:lnTo>
                    <a:pt x="14" y="633"/>
                  </a:lnTo>
                  <a:lnTo>
                    <a:pt x="14" y="636"/>
                  </a:lnTo>
                  <a:lnTo>
                    <a:pt x="12" y="637"/>
                  </a:lnTo>
                  <a:lnTo>
                    <a:pt x="10" y="638"/>
                  </a:lnTo>
                  <a:lnTo>
                    <a:pt x="7" y="638"/>
                  </a:lnTo>
                  <a:lnTo>
                    <a:pt x="4" y="638"/>
                  </a:lnTo>
                  <a:lnTo>
                    <a:pt x="2" y="637"/>
                  </a:lnTo>
                  <a:lnTo>
                    <a:pt x="0" y="636"/>
                  </a:lnTo>
                  <a:lnTo>
                    <a:pt x="0" y="633"/>
                  </a:lnTo>
                  <a:lnTo>
                    <a:pt x="0" y="484"/>
                  </a:lnTo>
                  <a:lnTo>
                    <a:pt x="0" y="481"/>
                  </a:lnTo>
                  <a:lnTo>
                    <a:pt x="2" y="480"/>
                  </a:lnTo>
                  <a:lnTo>
                    <a:pt x="4" y="479"/>
                  </a:lnTo>
                  <a:lnTo>
                    <a:pt x="7" y="479"/>
                  </a:lnTo>
                  <a:lnTo>
                    <a:pt x="10" y="479"/>
                  </a:lnTo>
                  <a:lnTo>
                    <a:pt x="12" y="480"/>
                  </a:lnTo>
                  <a:lnTo>
                    <a:pt x="14" y="481"/>
                  </a:lnTo>
                  <a:lnTo>
                    <a:pt x="14" y="484"/>
                  </a:lnTo>
                  <a:lnTo>
                    <a:pt x="14" y="484"/>
                  </a:lnTo>
                  <a:close/>
                  <a:moveTo>
                    <a:pt x="14" y="723"/>
                  </a:moveTo>
                  <a:lnTo>
                    <a:pt x="14" y="873"/>
                  </a:lnTo>
                  <a:lnTo>
                    <a:pt x="14" y="875"/>
                  </a:lnTo>
                  <a:lnTo>
                    <a:pt x="12" y="876"/>
                  </a:lnTo>
                  <a:lnTo>
                    <a:pt x="10" y="878"/>
                  </a:lnTo>
                  <a:lnTo>
                    <a:pt x="7" y="878"/>
                  </a:lnTo>
                  <a:lnTo>
                    <a:pt x="4" y="878"/>
                  </a:lnTo>
                  <a:lnTo>
                    <a:pt x="2" y="876"/>
                  </a:lnTo>
                  <a:lnTo>
                    <a:pt x="0" y="875"/>
                  </a:lnTo>
                  <a:lnTo>
                    <a:pt x="0" y="873"/>
                  </a:lnTo>
                  <a:lnTo>
                    <a:pt x="0" y="723"/>
                  </a:lnTo>
                  <a:lnTo>
                    <a:pt x="0" y="720"/>
                  </a:lnTo>
                  <a:lnTo>
                    <a:pt x="2" y="719"/>
                  </a:lnTo>
                  <a:lnTo>
                    <a:pt x="4" y="718"/>
                  </a:lnTo>
                  <a:lnTo>
                    <a:pt x="7" y="718"/>
                  </a:lnTo>
                  <a:lnTo>
                    <a:pt x="10" y="718"/>
                  </a:lnTo>
                  <a:lnTo>
                    <a:pt x="12" y="719"/>
                  </a:lnTo>
                  <a:lnTo>
                    <a:pt x="14" y="720"/>
                  </a:lnTo>
                  <a:lnTo>
                    <a:pt x="14" y="723"/>
                  </a:lnTo>
                  <a:lnTo>
                    <a:pt x="14" y="723"/>
                  </a:lnTo>
                  <a:close/>
                  <a:moveTo>
                    <a:pt x="14" y="962"/>
                  </a:moveTo>
                  <a:lnTo>
                    <a:pt x="14" y="1112"/>
                  </a:lnTo>
                  <a:lnTo>
                    <a:pt x="14" y="1114"/>
                  </a:lnTo>
                  <a:lnTo>
                    <a:pt x="12" y="1116"/>
                  </a:lnTo>
                  <a:lnTo>
                    <a:pt x="10" y="1117"/>
                  </a:lnTo>
                  <a:lnTo>
                    <a:pt x="7" y="1117"/>
                  </a:lnTo>
                  <a:lnTo>
                    <a:pt x="4" y="1117"/>
                  </a:lnTo>
                  <a:lnTo>
                    <a:pt x="2" y="1116"/>
                  </a:lnTo>
                  <a:lnTo>
                    <a:pt x="0" y="1114"/>
                  </a:lnTo>
                  <a:lnTo>
                    <a:pt x="0" y="1112"/>
                  </a:lnTo>
                  <a:lnTo>
                    <a:pt x="0" y="962"/>
                  </a:lnTo>
                  <a:lnTo>
                    <a:pt x="0" y="961"/>
                  </a:lnTo>
                  <a:lnTo>
                    <a:pt x="2" y="959"/>
                  </a:lnTo>
                  <a:lnTo>
                    <a:pt x="4" y="957"/>
                  </a:lnTo>
                  <a:lnTo>
                    <a:pt x="7" y="957"/>
                  </a:lnTo>
                  <a:lnTo>
                    <a:pt x="10" y="957"/>
                  </a:lnTo>
                  <a:lnTo>
                    <a:pt x="12" y="959"/>
                  </a:lnTo>
                  <a:lnTo>
                    <a:pt x="14" y="961"/>
                  </a:lnTo>
                  <a:lnTo>
                    <a:pt x="14" y="962"/>
                  </a:lnTo>
                  <a:lnTo>
                    <a:pt x="14" y="962"/>
                  </a:lnTo>
                  <a:close/>
                  <a:moveTo>
                    <a:pt x="14" y="1202"/>
                  </a:moveTo>
                  <a:lnTo>
                    <a:pt x="14" y="1351"/>
                  </a:lnTo>
                  <a:lnTo>
                    <a:pt x="14" y="1354"/>
                  </a:lnTo>
                  <a:lnTo>
                    <a:pt x="12" y="1355"/>
                  </a:lnTo>
                  <a:lnTo>
                    <a:pt x="10" y="1356"/>
                  </a:lnTo>
                  <a:lnTo>
                    <a:pt x="7" y="1356"/>
                  </a:lnTo>
                  <a:lnTo>
                    <a:pt x="4" y="1356"/>
                  </a:lnTo>
                  <a:lnTo>
                    <a:pt x="2" y="1355"/>
                  </a:lnTo>
                  <a:lnTo>
                    <a:pt x="0" y="1354"/>
                  </a:lnTo>
                  <a:lnTo>
                    <a:pt x="0" y="1351"/>
                  </a:lnTo>
                  <a:lnTo>
                    <a:pt x="0" y="1202"/>
                  </a:lnTo>
                  <a:lnTo>
                    <a:pt x="0" y="1200"/>
                  </a:lnTo>
                  <a:lnTo>
                    <a:pt x="2" y="1198"/>
                  </a:lnTo>
                  <a:lnTo>
                    <a:pt x="4" y="1198"/>
                  </a:lnTo>
                  <a:lnTo>
                    <a:pt x="7" y="1197"/>
                  </a:lnTo>
                  <a:lnTo>
                    <a:pt x="10" y="1198"/>
                  </a:lnTo>
                  <a:lnTo>
                    <a:pt x="12" y="1198"/>
                  </a:lnTo>
                  <a:lnTo>
                    <a:pt x="14" y="1200"/>
                  </a:lnTo>
                  <a:lnTo>
                    <a:pt x="14" y="1202"/>
                  </a:lnTo>
                  <a:lnTo>
                    <a:pt x="14" y="1202"/>
                  </a:lnTo>
                  <a:close/>
                  <a:moveTo>
                    <a:pt x="14" y="1441"/>
                  </a:moveTo>
                  <a:lnTo>
                    <a:pt x="14" y="1591"/>
                  </a:lnTo>
                  <a:lnTo>
                    <a:pt x="14" y="1593"/>
                  </a:lnTo>
                  <a:lnTo>
                    <a:pt x="12" y="1594"/>
                  </a:lnTo>
                  <a:lnTo>
                    <a:pt x="10" y="1596"/>
                  </a:lnTo>
                  <a:lnTo>
                    <a:pt x="7" y="1596"/>
                  </a:lnTo>
                  <a:lnTo>
                    <a:pt x="4" y="1596"/>
                  </a:lnTo>
                  <a:lnTo>
                    <a:pt x="2" y="1594"/>
                  </a:lnTo>
                  <a:lnTo>
                    <a:pt x="0" y="1593"/>
                  </a:lnTo>
                  <a:lnTo>
                    <a:pt x="0" y="1591"/>
                  </a:lnTo>
                  <a:lnTo>
                    <a:pt x="0" y="1441"/>
                  </a:lnTo>
                  <a:lnTo>
                    <a:pt x="0" y="1440"/>
                  </a:lnTo>
                  <a:lnTo>
                    <a:pt x="2" y="1437"/>
                  </a:lnTo>
                  <a:lnTo>
                    <a:pt x="4" y="1437"/>
                  </a:lnTo>
                  <a:lnTo>
                    <a:pt x="7" y="1436"/>
                  </a:lnTo>
                  <a:lnTo>
                    <a:pt x="10" y="1437"/>
                  </a:lnTo>
                  <a:lnTo>
                    <a:pt x="12" y="1437"/>
                  </a:lnTo>
                  <a:lnTo>
                    <a:pt x="14" y="1440"/>
                  </a:lnTo>
                  <a:lnTo>
                    <a:pt x="14" y="1441"/>
                  </a:lnTo>
                  <a:lnTo>
                    <a:pt x="14" y="1441"/>
                  </a:lnTo>
                  <a:close/>
                  <a:moveTo>
                    <a:pt x="14" y="1682"/>
                  </a:moveTo>
                  <a:lnTo>
                    <a:pt x="14" y="1830"/>
                  </a:lnTo>
                  <a:lnTo>
                    <a:pt x="14" y="1833"/>
                  </a:lnTo>
                  <a:lnTo>
                    <a:pt x="12" y="1834"/>
                  </a:lnTo>
                  <a:lnTo>
                    <a:pt x="10" y="1835"/>
                  </a:lnTo>
                  <a:lnTo>
                    <a:pt x="7" y="1835"/>
                  </a:lnTo>
                  <a:lnTo>
                    <a:pt x="4" y="1835"/>
                  </a:lnTo>
                  <a:lnTo>
                    <a:pt x="2" y="1834"/>
                  </a:lnTo>
                  <a:lnTo>
                    <a:pt x="0" y="1833"/>
                  </a:lnTo>
                  <a:lnTo>
                    <a:pt x="0" y="1830"/>
                  </a:lnTo>
                  <a:lnTo>
                    <a:pt x="0" y="1682"/>
                  </a:lnTo>
                  <a:lnTo>
                    <a:pt x="0" y="1679"/>
                  </a:lnTo>
                  <a:lnTo>
                    <a:pt x="2" y="1678"/>
                  </a:lnTo>
                  <a:lnTo>
                    <a:pt x="4" y="1677"/>
                  </a:lnTo>
                  <a:lnTo>
                    <a:pt x="7" y="1675"/>
                  </a:lnTo>
                  <a:lnTo>
                    <a:pt x="10" y="1677"/>
                  </a:lnTo>
                  <a:lnTo>
                    <a:pt x="12" y="1678"/>
                  </a:lnTo>
                  <a:lnTo>
                    <a:pt x="14" y="1679"/>
                  </a:lnTo>
                  <a:lnTo>
                    <a:pt x="14" y="1682"/>
                  </a:lnTo>
                  <a:lnTo>
                    <a:pt x="14" y="1682"/>
                  </a:lnTo>
                  <a:close/>
                  <a:moveTo>
                    <a:pt x="14" y="1921"/>
                  </a:moveTo>
                  <a:lnTo>
                    <a:pt x="14" y="2071"/>
                  </a:lnTo>
                  <a:lnTo>
                    <a:pt x="14" y="2072"/>
                  </a:lnTo>
                  <a:lnTo>
                    <a:pt x="12" y="2073"/>
                  </a:lnTo>
                  <a:lnTo>
                    <a:pt x="10" y="2074"/>
                  </a:lnTo>
                  <a:lnTo>
                    <a:pt x="7" y="2076"/>
                  </a:lnTo>
                  <a:lnTo>
                    <a:pt x="4" y="2074"/>
                  </a:lnTo>
                  <a:lnTo>
                    <a:pt x="2" y="2073"/>
                  </a:lnTo>
                  <a:lnTo>
                    <a:pt x="0" y="2072"/>
                  </a:lnTo>
                  <a:lnTo>
                    <a:pt x="0" y="2071"/>
                  </a:lnTo>
                  <a:lnTo>
                    <a:pt x="0" y="1921"/>
                  </a:lnTo>
                  <a:lnTo>
                    <a:pt x="0" y="1918"/>
                  </a:lnTo>
                  <a:lnTo>
                    <a:pt x="2" y="1917"/>
                  </a:lnTo>
                  <a:lnTo>
                    <a:pt x="4" y="1916"/>
                  </a:lnTo>
                  <a:lnTo>
                    <a:pt x="7" y="1916"/>
                  </a:lnTo>
                  <a:lnTo>
                    <a:pt x="10" y="1916"/>
                  </a:lnTo>
                  <a:lnTo>
                    <a:pt x="12" y="1917"/>
                  </a:lnTo>
                  <a:lnTo>
                    <a:pt x="14" y="1918"/>
                  </a:lnTo>
                  <a:lnTo>
                    <a:pt x="14" y="1921"/>
                  </a:lnTo>
                  <a:lnTo>
                    <a:pt x="14" y="1921"/>
                  </a:lnTo>
                  <a:close/>
                  <a:moveTo>
                    <a:pt x="14" y="2160"/>
                  </a:moveTo>
                  <a:lnTo>
                    <a:pt x="14" y="2310"/>
                  </a:lnTo>
                  <a:lnTo>
                    <a:pt x="14" y="2311"/>
                  </a:lnTo>
                  <a:lnTo>
                    <a:pt x="12" y="2312"/>
                  </a:lnTo>
                  <a:lnTo>
                    <a:pt x="10" y="2314"/>
                  </a:lnTo>
                  <a:lnTo>
                    <a:pt x="7" y="2315"/>
                  </a:lnTo>
                  <a:lnTo>
                    <a:pt x="4" y="2314"/>
                  </a:lnTo>
                  <a:lnTo>
                    <a:pt x="2" y="2312"/>
                  </a:lnTo>
                  <a:lnTo>
                    <a:pt x="0" y="2311"/>
                  </a:lnTo>
                  <a:lnTo>
                    <a:pt x="0" y="2310"/>
                  </a:lnTo>
                  <a:lnTo>
                    <a:pt x="0" y="2160"/>
                  </a:lnTo>
                  <a:lnTo>
                    <a:pt x="0" y="2158"/>
                  </a:lnTo>
                  <a:lnTo>
                    <a:pt x="2" y="2157"/>
                  </a:lnTo>
                  <a:lnTo>
                    <a:pt x="4" y="2155"/>
                  </a:lnTo>
                  <a:lnTo>
                    <a:pt x="7" y="2155"/>
                  </a:lnTo>
                  <a:lnTo>
                    <a:pt x="10" y="2155"/>
                  </a:lnTo>
                  <a:lnTo>
                    <a:pt x="12" y="2157"/>
                  </a:lnTo>
                  <a:lnTo>
                    <a:pt x="14" y="2158"/>
                  </a:lnTo>
                  <a:lnTo>
                    <a:pt x="14" y="2160"/>
                  </a:lnTo>
                  <a:lnTo>
                    <a:pt x="14" y="2160"/>
                  </a:lnTo>
                  <a:close/>
                  <a:moveTo>
                    <a:pt x="14" y="2400"/>
                  </a:moveTo>
                  <a:lnTo>
                    <a:pt x="14" y="2549"/>
                  </a:lnTo>
                  <a:lnTo>
                    <a:pt x="14" y="2551"/>
                  </a:lnTo>
                  <a:lnTo>
                    <a:pt x="12" y="2552"/>
                  </a:lnTo>
                  <a:lnTo>
                    <a:pt x="10" y="2553"/>
                  </a:lnTo>
                  <a:lnTo>
                    <a:pt x="7" y="2554"/>
                  </a:lnTo>
                  <a:lnTo>
                    <a:pt x="4" y="2553"/>
                  </a:lnTo>
                  <a:lnTo>
                    <a:pt x="2" y="2552"/>
                  </a:lnTo>
                  <a:lnTo>
                    <a:pt x="0" y="2551"/>
                  </a:lnTo>
                  <a:lnTo>
                    <a:pt x="0" y="2549"/>
                  </a:lnTo>
                  <a:lnTo>
                    <a:pt x="0" y="2400"/>
                  </a:lnTo>
                  <a:lnTo>
                    <a:pt x="0" y="2397"/>
                  </a:lnTo>
                  <a:lnTo>
                    <a:pt x="2" y="2396"/>
                  </a:lnTo>
                  <a:lnTo>
                    <a:pt x="4" y="2395"/>
                  </a:lnTo>
                  <a:lnTo>
                    <a:pt x="7" y="2395"/>
                  </a:lnTo>
                  <a:lnTo>
                    <a:pt x="10" y="2395"/>
                  </a:lnTo>
                  <a:lnTo>
                    <a:pt x="12" y="2396"/>
                  </a:lnTo>
                  <a:lnTo>
                    <a:pt x="14" y="2397"/>
                  </a:lnTo>
                  <a:lnTo>
                    <a:pt x="14" y="2400"/>
                  </a:lnTo>
                  <a:lnTo>
                    <a:pt x="14" y="2400"/>
                  </a:lnTo>
                  <a:close/>
                  <a:moveTo>
                    <a:pt x="14" y="2639"/>
                  </a:moveTo>
                  <a:lnTo>
                    <a:pt x="14" y="2789"/>
                  </a:lnTo>
                  <a:lnTo>
                    <a:pt x="14" y="2790"/>
                  </a:lnTo>
                  <a:lnTo>
                    <a:pt x="12" y="2791"/>
                  </a:lnTo>
                  <a:lnTo>
                    <a:pt x="10" y="2792"/>
                  </a:lnTo>
                  <a:lnTo>
                    <a:pt x="7" y="2794"/>
                  </a:lnTo>
                  <a:lnTo>
                    <a:pt x="4" y="2792"/>
                  </a:lnTo>
                  <a:lnTo>
                    <a:pt x="2" y="2791"/>
                  </a:lnTo>
                  <a:lnTo>
                    <a:pt x="0" y="2790"/>
                  </a:lnTo>
                  <a:lnTo>
                    <a:pt x="0" y="2789"/>
                  </a:lnTo>
                  <a:lnTo>
                    <a:pt x="0" y="2639"/>
                  </a:lnTo>
                  <a:lnTo>
                    <a:pt x="0" y="2637"/>
                  </a:lnTo>
                  <a:lnTo>
                    <a:pt x="2" y="2635"/>
                  </a:lnTo>
                  <a:lnTo>
                    <a:pt x="4" y="2634"/>
                  </a:lnTo>
                  <a:lnTo>
                    <a:pt x="7" y="2634"/>
                  </a:lnTo>
                  <a:lnTo>
                    <a:pt x="10" y="2634"/>
                  </a:lnTo>
                  <a:lnTo>
                    <a:pt x="12" y="2635"/>
                  </a:lnTo>
                  <a:lnTo>
                    <a:pt x="14" y="2637"/>
                  </a:lnTo>
                  <a:lnTo>
                    <a:pt x="14" y="2639"/>
                  </a:lnTo>
                  <a:lnTo>
                    <a:pt x="14" y="2639"/>
                  </a:lnTo>
                  <a:close/>
                  <a:moveTo>
                    <a:pt x="14" y="2878"/>
                  </a:moveTo>
                  <a:lnTo>
                    <a:pt x="14" y="3028"/>
                  </a:lnTo>
                  <a:lnTo>
                    <a:pt x="14" y="3029"/>
                  </a:lnTo>
                  <a:lnTo>
                    <a:pt x="12" y="3032"/>
                  </a:lnTo>
                  <a:lnTo>
                    <a:pt x="10" y="3032"/>
                  </a:lnTo>
                  <a:lnTo>
                    <a:pt x="7" y="3033"/>
                  </a:lnTo>
                  <a:lnTo>
                    <a:pt x="4" y="3032"/>
                  </a:lnTo>
                  <a:lnTo>
                    <a:pt x="2" y="3032"/>
                  </a:lnTo>
                  <a:lnTo>
                    <a:pt x="0" y="3029"/>
                  </a:lnTo>
                  <a:lnTo>
                    <a:pt x="0" y="3028"/>
                  </a:lnTo>
                  <a:lnTo>
                    <a:pt x="0" y="2878"/>
                  </a:lnTo>
                  <a:lnTo>
                    <a:pt x="0" y="2876"/>
                  </a:lnTo>
                  <a:lnTo>
                    <a:pt x="2" y="2875"/>
                  </a:lnTo>
                  <a:lnTo>
                    <a:pt x="4" y="2873"/>
                  </a:lnTo>
                  <a:lnTo>
                    <a:pt x="7" y="2873"/>
                  </a:lnTo>
                  <a:lnTo>
                    <a:pt x="10" y="2873"/>
                  </a:lnTo>
                  <a:lnTo>
                    <a:pt x="12" y="2875"/>
                  </a:lnTo>
                  <a:lnTo>
                    <a:pt x="14" y="2876"/>
                  </a:lnTo>
                  <a:lnTo>
                    <a:pt x="14" y="2878"/>
                  </a:lnTo>
                  <a:lnTo>
                    <a:pt x="14" y="2878"/>
                  </a:lnTo>
                  <a:close/>
                  <a:moveTo>
                    <a:pt x="14" y="3118"/>
                  </a:moveTo>
                  <a:lnTo>
                    <a:pt x="14" y="3267"/>
                  </a:lnTo>
                  <a:lnTo>
                    <a:pt x="14" y="3269"/>
                  </a:lnTo>
                  <a:lnTo>
                    <a:pt x="12" y="3271"/>
                  </a:lnTo>
                  <a:lnTo>
                    <a:pt x="10" y="3271"/>
                  </a:lnTo>
                  <a:lnTo>
                    <a:pt x="7" y="3272"/>
                  </a:lnTo>
                  <a:lnTo>
                    <a:pt x="4" y="3271"/>
                  </a:lnTo>
                  <a:lnTo>
                    <a:pt x="2" y="3271"/>
                  </a:lnTo>
                  <a:lnTo>
                    <a:pt x="0" y="3269"/>
                  </a:lnTo>
                  <a:lnTo>
                    <a:pt x="0" y="3267"/>
                  </a:lnTo>
                  <a:lnTo>
                    <a:pt x="0" y="3118"/>
                  </a:lnTo>
                  <a:lnTo>
                    <a:pt x="0" y="3115"/>
                  </a:lnTo>
                  <a:lnTo>
                    <a:pt x="2" y="3114"/>
                  </a:lnTo>
                  <a:lnTo>
                    <a:pt x="4" y="3113"/>
                  </a:lnTo>
                  <a:lnTo>
                    <a:pt x="7" y="3113"/>
                  </a:lnTo>
                  <a:lnTo>
                    <a:pt x="10" y="3113"/>
                  </a:lnTo>
                  <a:lnTo>
                    <a:pt x="12" y="3114"/>
                  </a:lnTo>
                  <a:lnTo>
                    <a:pt x="14" y="3115"/>
                  </a:lnTo>
                  <a:lnTo>
                    <a:pt x="14" y="3118"/>
                  </a:lnTo>
                  <a:lnTo>
                    <a:pt x="14" y="3118"/>
                  </a:lnTo>
                  <a:close/>
                  <a:moveTo>
                    <a:pt x="14" y="3357"/>
                  </a:moveTo>
                  <a:lnTo>
                    <a:pt x="14" y="3507"/>
                  </a:lnTo>
                  <a:lnTo>
                    <a:pt x="14" y="3508"/>
                  </a:lnTo>
                  <a:lnTo>
                    <a:pt x="12" y="3510"/>
                  </a:lnTo>
                  <a:lnTo>
                    <a:pt x="10" y="3512"/>
                  </a:lnTo>
                  <a:lnTo>
                    <a:pt x="7" y="3512"/>
                  </a:lnTo>
                  <a:lnTo>
                    <a:pt x="4" y="3512"/>
                  </a:lnTo>
                  <a:lnTo>
                    <a:pt x="2" y="3510"/>
                  </a:lnTo>
                  <a:lnTo>
                    <a:pt x="0" y="3508"/>
                  </a:lnTo>
                  <a:lnTo>
                    <a:pt x="0" y="3507"/>
                  </a:lnTo>
                  <a:lnTo>
                    <a:pt x="0" y="3357"/>
                  </a:lnTo>
                  <a:lnTo>
                    <a:pt x="0" y="3355"/>
                  </a:lnTo>
                  <a:lnTo>
                    <a:pt x="2" y="3353"/>
                  </a:lnTo>
                  <a:lnTo>
                    <a:pt x="4" y="3352"/>
                  </a:lnTo>
                  <a:lnTo>
                    <a:pt x="7" y="3352"/>
                  </a:lnTo>
                  <a:lnTo>
                    <a:pt x="10" y="3352"/>
                  </a:lnTo>
                  <a:lnTo>
                    <a:pt x="12" y="3353"/>
                  </a:lnTo>
                  <a:lnTo>
                    <a:pt x="14" y="3355"/>
                  </a:lnTo>
                  <a:lnTo>
                    <a:pt x="14" y="3357"/>
                  </a:lnTo>
                  <a:lnTo>
                    <a:pt x="14" y="3357"/>
                  </a:lnTo>
                  <a:close/>
                  <a:moveTo>
                    <a:pt x="14" y="3596"/>
                  </a:moveTo>
                  <a:lnTo>
                    <a:pt x="14" y="3746"/>
                  </a:lnTo>
                  <a:lnTo>
                    <a:pt x="14" y="3749"/>
                  </a:lnTo>
                  <a:lnTo>
                    <a:pt x="12" y="3750"/>
                  </a:lnTo>
                  <a:lnTo>
                    <a:pt x="10" y="3751"/>
                  </a:lnTo>
                  <a:lnTo>
                    <a:pt x="7" y="3751"/>
                  </a:lnTo>
                  <a:lnTo>
                    <a:pt x="4" y="3751"/>
                  </a:lnTo>
                  <a:lnTo>
                    <a:pt x="2" y="3750"/>
                  </a:lnTo>
                  <a:lnTo>
                    <a:pt x="0" y="3749"/>
                  </a:lnTo>
                  <a:lnTo>
                    <a:pt x="0" y="3746"/>
                  </a:lnTo>
                  <a:lnTo>
                    <a:pt x="0" y="3596"/>
                  </a:lnTo>
                  <a:lnTo>
                    <a:pt x="0" y="3594"/>
                  </a:lnTo>
                  <a:lnTo>
                    <a:pt x="2" y="3593"/>
                  </a:lnTo>
                  <a:lnTo>
                    <a:pt x="4" y="3591"/>
                  </a:lnTo>
                  <a:lnTo>
                    <a:pt x="7" y="3591"/>
                  </a:lnTo>
                  <a:lnTo>
                    <a:pt x="10" y="3591"/>
                  </a:lnTo>
                  <a:lnTo>
                    <a:pt x="12" y="3593"/>
                  </a:lnTo>
                  <a:lnTo>
                    <a:pt x="14" y="3594"/>
                  </a:lnTo>
                  <a:lnTo>
                    <a:pt x="14" y="3596"/>
                  </a:lnTo>
                  <a:lnTo>
                    <a:pt x="14" y="3596"/>
                  </a:lnTo>
                  <a:close/>
                  <a:moveTo>
                    <a:pt x="14" y="3836"/>
                  </a:moveTo>
                  <a:lnTo>
                    <a:pt x="14" y="3985"/>
                  </a:lnTo>
                  <a:lnTo>
                    <a:pt x="14" y="3988"/>
                  </a:lnTo>
                  <a:lnTo>
                    <a:pt x="12" y="3989"/>
                  </a:lnTo>
                  <a:lnTo>
                    <a:pt x="10" y="3990"/>
                  </a:lnTo>
                  <a:lnTo>
                    <a:pt x="7" y="3990"/>
                  </a:lnTo>
                  <a:lnTo>
                    <a:pt x="4" y="3990"/>
                  </a:lnTo>
                  <a:lnTo>
                    <a:pt x="2" y="3989"/>
                  </a:lnTo>
                  <a:lnTo>
                    <a:pt x="0" y="3988"/>
                  </a:lnTo>
                  <a:lnTo>
                    <a:pt x="0" y="3985"/>
                  </a:lnTo>
                  <a:lnTo>
                    <a:pt x="0" y="3836"/>
                  </a:lnTo>
                  <a:lnTo>
                    <a:pt x="0" y="3833"/>
                  </a:lnTo>
                  <a:lnTo>
                    <a:pt x="2" y="3832"/>
                  </a:lnTo>
                  <a:lnTo>
                    <a:pt x="4" y="3831"/>
                  </a:lnTo>
                  <a:lnTo>
                    <a:pt x="7" y="3831"/>
                  </a:lnTo>
                  <a:lnTo>
                    <a:pt x="10" y="3831"/>
                  </a:lnTo>
                  <a:lnTo>
                    <a:pt x="12" y="3832"/>
                  </a:lnTo>
                  <a:lnTo>
                    <a:pt x="14" y="3833"/>
                  </a:lnTo>
                  <a:lnTo>
                    <a:pt x="14" y="3836"/>
                  </a:lnTo>
                  <a:lnTo>
                    <a:pt x="14" y="3836"/>
                  </a:lnTo>
                  <a:close/>
                  <a:moveTo>
                    <a:pt x="14" y="4075"/>
                  </a:moveTo>
                  <a:lnTo>
                    <a:pt x="14" y="4225"/>
                  </a:lnTo>
                  <a:lnTo>
                    <a:pt x="14" y="4227"/>
                  </a:lnTo>
                  <a:lnTo>
                    <a:pt x="12" y="4229"/>
                  </a:lnTo>
                  <a:lnTo>
                    <a:pt x="10" y="4230"/>
                  </a:lnTo>
                  <a:lnTo>
                    <a:pt x="7" y="4230"/>
                  </a:lnTo>
                  <a:lnTo>
                    <a:pt x="4" y="4230"/>
                  </a:lnTo>
                  <a:lnTo>
                    <a:pt x="2" y="4229"/>
                  </a:lnTo>
                  <a:lnTo>
                    <a:pt x="0" y="4227"/>
                  </a:lnTo>
                  <a:lnTo>
                    <a:pt x="0" y="4225"/>
                  </a:lnTo>
                  <a:lnTo>
                    <a:pt x="0" y="4075"/>
                  </a:lnTo>
                  <a:lnTo>
                    <a:pt x="0" y="4073"/>
                  </a:lnTo>
                  <a:lnTo>
                    <a:pt x="2" y="4071"/>
                  </a:lnTo>
                  <a:lnTo>
                    <a:pt x="4" y="4070"/>
                  </a:lnTo>
                  <a:lnTo>
                    <a:pt x="7" y="4070"/>
                  </a:lnTo>
                  <a:lnTo>
                    <a:pt x="10" y="4070"/>
                  </a:lnTo>
                  <a:lnTo>
                    <a:pt x="12" y="4071"/>
                  </a:lnTo>
                  <a:lnTo>
                    <a:pt x="14" y="4073"/>
                  </a:lnTo>
                  <a:lnTo>
                    <a:pt x="14" y="4075"/>
                  </a:lnTo>
                  <a:lnTo>
                    <a:pt x="14" y="4075"/>
                  </a:lnTo>
                  <a:close/>
                  <a:moveTo>
                    <a:pt x="14" y="4314"/>
                  </a:moveTo>
                  <a:lnTo>
                    <a:pt x="14" y="4464"/>
                  </a:lnTo>
                  <a:lnTo>
                    <a:pt x="14" y="4467"/>
                  </a:lnTo>
                  <a:lnTo>
                    <a:pt x="12" y="4468"/>
                  </a:lnTo>
                  <a:lnTo>
                    <a:pt x="10" y="4469"/>
                  </a:lnTo>
                  <a:lnTo>
                    <a:pt x="7" y="4469"/>
                  </a:lnTo>
                  <a:lnTo>
                    <a:pt x="4" y="4469"/>
                  </a:lnTo>
                  <a:lnTo>
                    <a:pt x="2" y="4468"/>
                  </a:lnTo>
                  <a:lnTo>
                    <a:pt x="0" y="4467"/>
                  </a:lnTo>
                  <a:lnTo>
                    <a:pt x="0" y="4464"/>
                  </a:lnTo>
                  <a:lnTo>
                    <a:pt x="0" y="4314"/>
                  </a:lnTo>
                  <a:lnTo>
                    <a:pt x="0" y="4313"/>
                  </a:lnTo>
                  <a:lnTo>
                    <a:pt x="2" y="4311"/>
                  </a:lnTo>
                  <a:lnTo>
                    <a:pt x="4" y="4310"/>
                  </a:lnTo>
                  <a:lnTo>
                    <a:pt x="7" y="4310"/>
                  </a:lnTo>
                  <a:lnTo>
                    <a:pt x="10" y="4310"/>
                  </a:lnTo>
                  <a:lnTo>
                    <a:pt x="12" y="4311"/>
                  </a:lnTo>
                  <a:lnTo>
                    <a:pt x="14" y="4313"/>
                  </a:lnTo>
                  <a:lnTo>
                    <a:pt x="14" y="4314"/>
                  </a:lnTo>
                  <a:lnTo>
                    <a:pt x="14" y="4314"/>
                  </a:lnTo>
                  <a:close/>
                  <a:moveTo>
                    <a:pt x="14" y="4554"/>
                  </a:moveTo>
                  <a:lnTo>
                    <a:pt x="14" y="4704"/>
                  </a:lnTo>
                  <a:lnTo>
                    <a:pt x="14" y="4706"/>
                  </a:lnTo>
                  <a:lnTo>
                    <a:pt x="12" y="4707"/>
                  </a:lnTo>
                  <a:lnTo>
                    <a:pt x="10" y="4708"/>
                  </a:lnTo>
                  <a:lnTo>
                    <a:pt x="7" y="4708"/>
                  </a:lnTo>
                  <a:lnTo>
                    <a:pt x="4" y="4708"/>
                  </a:lnTo>
                  <a:lnTo>
                    <a:pt x="2" y="4707"/>
                  </a:lnTo>
                  <a:lnTo>
                    <a:pt x="0" y="4706"/>
                  </a:lnTo>
                  <a:lnTo>
                    <a:pt x="0" y="4704"/>
                  </a:lnTo>
                  <a:lnTo>
                    <a:pt x="0" y="4554"/>
                  </a:lnTo>
                  <a:lnTo>
                    <a:pt x="0" y="4553"/>
                  </a:lnTo>
                  <a:lnTo>
                    <a:pt x="2" y="4550"/>
                  </a:lnTo>
                  <a:lnTo>
                    <a:pt x="4" y="4550"/>
                  </a:lnTo>
                  <a:lnTo>
                    <a:pt x="7" y="4549"/>
                  </a:lnTo>
                  <a:lnTo>
                    <a:pt x="10" y="4550"/>
                  </a:lnTo>
                  <a:lnTo>
                    <a:pt x="12" y="4550"/>
                  </a:lnTo>
                  <a:lnTo>
                    <a:pt x="14" y="4553"/>
                  </a:lnTo>
                  <a:lnTo>
                    <a:pt x="14" y="4554"/>
                  </a:lnTo>
                  <a:lnTo>
                    <a:pt x="14" y="4554"/>
                  </a:lnTo>
                  <a:close/>
                  <a:moveTo>
                    <a:pt x="14" y="4793"/>
                  </a:moveTo>
                  <a:lnTo>
                    <a:pt x="14" y="4943"/>
                  </a:lnTo>
                  <a:lnTo>
                    <a:pt x="14" y="4945"/>
                  </a:lnTo>
                  <a:lnTo>
                    <a:pt x="12" y="4947"/>
                  </a:lnTo>
                  <a:lnTo>
                    <a:pt x="10" y="4948"/>
                  </a:lnTo>
                  <a:lnTo>
                    <a:pt x="7" y="4948"/>
                  </a:lnTo>
                  <a:lnTo>
                    <a:pt x="4" y="4948"/>
                  </a:lnTo>
                  <a:lnTo>
                    <a:pt x="2" y="4947"/>
                  </a:lnTo>
                  <a:lnTo>
                    <a:pt x="0" y="4945"/>
                  </a:lnTo>
                  <a:lnTo>
                    <a:pt x="0" y="4943"/>
                  </a:lnTo>
                  <a:lnTo>
                    <a:pt x="0" y="4793"/>
                  </a:lnTo>
                  <a:lnTo>
                    <a:pt x="0" y="4792"/>
                  </a:lnTo>
                  <a:lnTo>
                    <a:pt x="2" y="4789"/>
                  </a:lnTo>
                  <a:lnTo>
                    <a:pt x="4" y="4789"/>
                  </a:lnTo>
                  <a:lnTo>
                    <a:pt x="7" y="4788"/>
                  </a:lnTo>
                  <a:lnTo>
                    <a:pt x="10" y="4789"/>
                  </a:lnTo>
                  <a:lnTo>
                    <a:pt x="12" y="4789"/>
                  </a:lnTo>
                  <a:lnTo>
                    <a:pt x="14" y="4792"/>
                  </a:lnTo>
                  <a:lnTo>
                    <a:pt x="14" y="4793"/>
                  </a:lnTo>
                  <a:lnTo>
                    <a:pt x="14" y="4793"/>
                  </a:lnTo>
                  <a:close/>
                  <a:moveTo>
                    <a:pt x="14" y="5034"/>
                  </a:moveTo>
                  <a:lnTo>
                    <a:pt x="14" y="5182"/>
                  </a:lnTo>
                  <a:lnTo>
                    <a:pt x="14" y="5185"/>
                  </a:lnTo>
                  <a:lnTo>
                    <a:pt x="12" y="5186"/>
                  </a:lnTo>
                  <a:lnTo>
                    <a:pt x="10" y="5187"/>
                  </a:lnTo>
                  <a:lnTo>
                    <a:pt x="7" y="5188"/>
                  </a:lnTo>
                  <a:lnTo>
                    <a:pt x="4" y="5187"/>
                  </a:lnTo>
                  <a:lnTo>
                    <a:pt x="2" y="5186"/>
                  </a:lnTo>
                  <a:lnTo>
                    <a:pt x="0" y="5185"/>
                  </a:lnTo>
                  <a:lnTo>
                    <a:pt x="0" y="5182"/>
                  </a:lnTo>
                  <a:lnTo>
                    <a:pt x="0" y="5034"/>
                  </a:lnTo>
                  <a:lnTo>
                    <a:pt x="0" y="5031"/>
                  </a:lnTo>
                  <a:lnTo>
                    <a:pt x="2" y="5030"/>
                  </a:lnTo>
                  <a:lnTo>
                    <a:pt x="4" y="5029"/>
                  </a:lnTo>
                  <a:lnTo>
                    <a:pt x="7" y="5028"/>
                  </a:lnTo>
                  <a:lnTo>
                    <a:pt x="10" y="5029"/>
                  </a:lnTo>
                  <a:lnTo>
                    <a:pt x="12" y="5030"/>
                  </a:lnTo>
                  <a:lnTo>
                    <a:pt x="14" y="5031"/>
                  </a:lnTo>
                  <a:lnTo>
                    <a:pt x="14" y="5034"/>
                  </a:lnTo>
                  <a:lnTo>
                    <a:pt x="14" y="5034"/>
                  </a:lnTo>
                  <a:close/>
                  <a:moveTo>
                    <a:pt x="14" y="5273"/>
                  </a:moveTo>
                  <a:lnTo>
                    <a:pt x="14" y="5423"/>
                  </a:lnTo>
                  <a:lnTo>
                    <a:pt x="14" y="5424"/>
                  </a:lnTo>
                  <a:lnTo>
                    <a:pt x="12" y="5425"/>
                  </a:lnTo>
                  <a:lnTo>
                    <a:pt x="10" y="5427"/>
                  </a:lnTo>
                  <a:lnTo>
                    <a:pt x="7" y="5428"/>
                  </a:lnTo>
                  <a:lnTo>
                    <a:pt x="4" y="5427"/>
                  </a:lnTo>
                  <a:lnTo>
                    <a:pt x="2" y="5425"/>
                  </a:lnTo>
                  <a:lnTo>
                    <a:pt x="0" y="5424"/>
                  </a:lnTo>
                  <a:lnTo>
                    <a:pt x="0" y="5423"/>
                  </a:lnTo>
                  <a:lnTo>
                    <a:pt x="0" y="5273"/>
                  </a:lnTo>
                  <a:lnTo>
                    <a:pt x="0" y="5271"/>
                  </a:lnTo>
                  <a:lnTo>
                    <a:pt x="2" y="5269"/>
                  </a:lnTo>
                  <a:lnTo>
                    <a:pt x="4" y="5268"/>
                  </a:lnTo>
                  <a:lnTo>
                    <a:pt x="7" y="5268"/>
                  </a:lnTo>
                  <a:lnTo>
                    <a:pt x="10" y="5268"/>
                  </a:lnTo>
                  <a:lnTo>
                    <a:pt x="12" y="5269"/>
                  </a:lnTo>
                  <a:lnTo>
                    <a:pt x="14" y="5271"/>
                  </a:lnTo>
                  <a:lnTo>
                    <a:pt x="14" y="5273"/>
                  </a:lnTo>
                  <a:lnTo>
                    <a:pt x="14" y="5273"/>
                  </a:lnTo>
                  <a:close/>
                  <a:moveTo>
                    <a:pt x="14" y="5512"/>
                  </a:moveTo>
                  <a:lnTo>
                    <a:pt x="14" y="5662"/>
                  </a:lnTo>
                  <a:lnTo>
                    <a:pt x="14" y="5663"/>
                  </a:lnTo>
                  <a:lnTo>
                    <a:pt x="12" y="5665"/>
                  </a:lnTo>
                  <a:lnTo>
                    <a:pt x="10" y="5666"/>
                  </a:lnTo>
                  <a:lnTo>
                    <a:pt x="7" y="5667"/>
                  </a:lnTo>
                  <a:lnTo>
                    <a:pt x="4" y="5666"/>
                  </a:lnTo>
                  <a:lnTo>
                    <a:pt x="2" y="5665"/>
                  </a:lnTo>
                  <a:lnTo>
                    <a:pt x="0" y="5663"/>
                  </a:lnTo>
                  <a:lnTo>
                    <a:pt x="0" y="5662"/>
                  </a:lnTo>
                  <a:lnTo>
                    <a:pt x="0" y="5512"/>
                  </a:lnTo>
                  <a:lnTo>
                    <a:pt x="0" y="5510"/>
                  </a:lnTo>
                  <a:lnTo>
                    <a:pt x="2" y="5509"/>
                  </a:lnTo>
                  <a:lnTo>
                    <a:pt x="4" y="5508"/>
                  </a:lnTo>
                  <a:lnTo>
                    <a:pt x="7" y="5508"/>
                  </a:lnTo>
                  <a:lnTo>
                    <a:pt x="10" y="5508"/>
                  </a:lnTo>
                  <a:lnTo>
                    <a:pt x="12" y="5509"/>
                  </a:lnTo>
                  <a:lnTo>
                    <a:pt x="14" y="5510"/>
                  </a:lnTo>
                  <a:lnTo>
                    <a:pt x="14" y="5512"/>
                  </a:lnTo>
                  <a:lnTo>
                    <a:pt x="14" y="5512"/>
                  </a:lnTo>
                  <a:close/>
                  <a:moveTo>
                    <a:pt x="14" y="5752"/>
                  </a:moveTo>
                  <a:lnTo>
                    <a:pt x="14" y="5902"/>
                  </a:lnTo>
                  <a:lnTo>
                    <a:pt x="14" y="5903"/>
                  </a:lnTo>
                  <a:lnTo>
                    <a:pt x="12" y="5904"/>
                  </a:lnTo>
                  <a:lnTo>
                    <a:pt x="10" y="5905"/>
                  </a:lnTo>
                  <a:lnTo>
                    <a:pt x="7" y="5906"/>
                  </a:lnTo>
                  <a:lnTo>
                    <a:pt x="4" y="5905"/>
                  </a:lnTo>
                  <a:lnTo>
                    <a:pt x="2" y="5904"/>
                  </a:lnTo>
                  <a:lnTo>
                    <a:pt x="0" y="5903"/>
                  </a:lnTo>
                  <a:lnTo>
                    <a:pt x="0" y="5902"/>
                  </a:lnTo>
                  <a:lnTo>
                    <a:pt x="0" y="5752"/>
                  </a:lnTo>
                  <a:lnTo>
                    <a:pt x="0" y="5749"/>
                  </a:lnTo>
                  <a:lnTo>
                    <a:pt x="2" y="5748"/>
                  </a:lnTo>
                  <a:lnTo>
                    <a:pt x="4" y="5747"/>
                  </a:lnTo>
                  <a:lnTo>
                    <a:pt x="7" y="5747"/>
                  </a:lnTo>
                  <a:lnTo>
                    <a:pt x="10" y="5747"/>
                  </a:lnTo>
                  <a:lnTo>
                    <a:pt x="12" y="5748"/>
                  </a:lnTo>
                  <a:lnTo>
                    <a:pt x="14" y="5749"/>
                  </a:lnTo>
                  <a:lnTo>
                    <a:pt x="14" y="5752"/>
                  </a:lnTo>
                  <a:lnTo>
                    <a:pt x="14" y="575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47640" y="2421000"/>
              <a:ext cx="163836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Problem sa </a:t>
            </a:r>
            <a:br>
              <a:rPr sz="3600"/>
            </a:br>
            <a:r>
              <a:rPr b="0" lang="sl-SI" sz="3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 organizacione celine i </a:t>
            </a:r>
            <a:br>
              <a:rPr sz="3600"/>
            </a:br>
            <a:r>
              <a:rPr b="0" lang="sl-SI" sz="3600" spc="-1" strike="noStrike">
                <a:solidFill>
                  <a:srgbClr val="ff0000"/>
                </a:solidFill>
                <a:latin typeface="Tahoma"/>
              </a:rPr>
              <a:t>m </a:t>
            </a: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poslova (predmeta rada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867280" y="5805360"/>
                <a:ext cx="86364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371600" y="1887480"/>
            <a:ext cx="5848200" cy="4741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46160" y="1901880"/>
            <a:ext cx="14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Org. c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67000" y="22255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Poslo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1916280"/>
            <a:ext cx="2205000" cy="593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76600" y="1887480"/>
            <a:ext cx="4680" cy="4741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657600" y="1887480"/>
            <a:ext cx="14400" cy="4741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2565360"/>
            <a:ext cx="5848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2649600"/>
            <a:ext cx="5848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5781600"/>
            <a:ext cx="5848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6553080"/>
            <a:ext cx="5848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5867280"/>
            <a:ext cx="5848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3106800"/>
            <a:ext cx="5848200" cy="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2649600"/>
            <a:ext cx="3826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2654280"/>
            <a:ext cx="6699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1320" y="3182760"/>
            <a:ext cx="5745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2649600"/>
            <a:ext cx="574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1320" y="4249800"/>
            <a:ext cx="384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5316480"/>
            <a:ext cx="576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3716280"/>
            <a:ext cx="4795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4782960"/>
            <a:ext cx="4795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3639960"/>
            <a:ext cx="5848200" cy="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4707000"/>
            <a:ext cx="5848200" cy="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5240160"/>
            <a:ext cx="5848200" cy="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4249800"/>
            <a:ext cx="5848200" cy="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7960" y="4249800"/>
            <a:ext cx="574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87960" y="3182760"/>
            <a:ext cx="4572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3176640"/>
            <a:ext cx="574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64200" y="4253040"/>
            <a:ext cx="5745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67080" y="5316480"/>
            <a:ext cx="574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5321160"/>
            <a:ext cx="574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1887480"/>
            <a:ext cx="0" cy="4741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60958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Ukup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9920" y="2116080"/>
            <a:ext cx="8380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C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2116080"/>
            <a:ext cx="6858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C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23446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2440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140360" y="5805360"/>
                <a:ext cx="7920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05:09Z</dcterms:created>
  <dc:creator>Barbara</dc:creator>
  <dc:description/>
  <dc:language>en-US</dc:language>
  <cp:lastModifiedBy>nn</cp:lastModifiedBy>
  <dcterms:modified xsi:type="dcterms:W3CDTF">2005-05-26T14:00:01Z</dcterms:modified>
  <cp:revision>60</cp:revision>
  <dc:subject/>
  <dc:title>Slide 1</dc:title>
</cp:coreProperties>
</file>