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E01-2618-4822-B79D-56D12637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E71-6D09-4420-9172-70A19890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AF9-B6BF-4BF1-AFB0-3BBB5A22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52D-15B6-44EB-B7C5-F1042F06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BDD4-3CB4-4819-B110-4C5D2971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49A-E9B1-4C71-8EF7-351A4B46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6550-9130-4B39-B75C-BCA28C0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9AC2-7A05-4CD3-A8E0-BCA1DF26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646-E569-42C0-97E0-4109252D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2B5B-72BF-428C-910A-01287C30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18E-4DB9-4CC7-8982-E863F50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F1F-0B23-480E-8F89-CCC9A2B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34B7-8028-4816-8FDB-7A6A3E1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7C01-7E25-4B4B-99E9-8406A05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42A-B9D2-41EB-AA37-2EAB97C1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BFD-C7D3-448B-9662-8C558982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7D79-A1AB-4FAE-8A21-1B4105A1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6A8-3068-4D6D-85B3-EAF1EC0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34D-11BA-457A-A839-11C4502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1B2-7413-4738-933A-5EEAE79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A7C-47BF-4C75-9B69-58DDDC5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631-7F64-4250-A441-5A0C66B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509-82D5-44EF-AE3C-3A5AF22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EF9-C13A-4023-B0DD-D88EBF1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11D-50C1-4F4A-8BA3-84B636A265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028-A772-4E6E-A698-8792531C72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3    Complete the sentences below using the following verbs in the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tak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make up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transmit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mak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 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store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use 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   display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   operate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6767ff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chine _________of four basic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 _________of lightweight pla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_________by a small electric mo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_________by pressing this small orange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_________for measuring levels of static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s _________by a small electronic sen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_________to the machine's inbuilt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_________by the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dings _________on the visual display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readings _________in the computer'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45  The following are extracts from the minutes of a meeting. All the missing verbs should be in the passive for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utes, which ______ prior to the meeting, were duly signed as an accurate record. (circu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______by all present that Bill Wilson take the chair in the absence of the MD. (ag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______that some members of the group were dissatisfied with the format of the reports.  (re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re was an increasing level of complaints about the cleanliness of the staff restaurant, it ______to call the catering manager to the next meeting of the group. (dec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45  The following are extracts from the minutes of a meeting. All the missing verbs should be in the passive for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ystem ______whereby each member of the group took it in turn to chair the meeting.  (prop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 on the future of the RB150 project ______ after a heated debate lasting over an hour.  (r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rumours about a possible hostile takeover of the company, but this ______by headquarters in Zurich. (de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coming to any agreement on Point 8 on the agenda, the meeting ______, when the fire alarm went off unexpectedly. (adjou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6  Rewrite each sentence using the verb given in the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ts think that Smiths is one of the UK's leading chains. (reg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ot the information from a reliable inside source. (ob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K'd the budget at our last meeting. (cl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accepted the idea. (agree, unanim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XT 1 (Computers)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l in the missing wor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600200"/>
          <a:ext cx="6782040" cy="4251240"/>
        </p:xfrm>
        <a:graphic>
          <a:graphicData uri="http://schemas.openxmlformats.org/drawingml/2006/table">
            <a:tbl>
              <a:tblPr/>
              <a:tblGrid>
                <a:gridCol w="2049480"/>
                <a:gridCol w="2049480"/>
                <a:gridCol w="26830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mpl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XT 2 (Information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295280"/>
          <a:ext cx="8229600" cy="5504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ad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iv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/ supp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qu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valu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/Evalu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8ec"/>
                </a:solidFill>
                <a:latin typeface="Arial"/>
              </a:rPr>
              <a:t>Insert the right wor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 is only _________ (access) by b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y has undergone a period of rapid ______ (expa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 is an intensely ________ (compete)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previous experience gives her a big _______(advance) over other ______(a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t in interest rates is ______(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sert the right word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This document represents an intensive _________(evaluate) of the health care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formation systems provide ______ (compare)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t is impossible to predict the weather _____ (accura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ease meet our ______(supply) – Mr. J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he hospital was well - _______(equ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Passive versus 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4360"/>
            <a:ext cx="80755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ctive sentence, the emphasis is on the performer of the a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6640" y="2666880"/>
          <a:ext cx="7850160" cy="2546640"/>
        </p:xfrm>
        <a:graphic>
          <a:graphicData uri="http://schemas.openxmlformats.org/drawingml/2006/table">
            <a:tbl>
              <a:tblPr/>
              <a:tblGrid>
                <a:gridCol w="2616120"/>
                <a:gridCol w="2617920"/>
                <a:gridCol w="2616120"/>
              </a:tblGrid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Jake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has sto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n expensive paint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the ag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active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the recipi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Passive versus 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passive sentence the emphasis is on the action itself, not on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ay be unknown or un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ransitive verbs can form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89120" y="3733920"/>
          <a:ext cx="7778520" cy="2288880"/>
        </p:xfrm>
        <a:graphic>
          <a:graphicData uri="http://schemas.openxmlformats.org/drawingml/2006/table">
            <a:tbl>
              <a:tblPr/>
              <a:tblGrid>
                <a:gridCol w="2592360"/>
                <a:gridCol w="2593800"/>
                <a:gridCol w="259236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n expensive paint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has been sto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(by Jake Brown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the recip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passive f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767ff"/>
                          </a:solidFill>
                          <a:latin typeface="Arial"/>
                        </a:rPr>
                        <a:t>(by +the age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he form of the Passive 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            +       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the appropriate tense)                     (of the main 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esen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is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hi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ntinuous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is being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imp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as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a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as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ntinuous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as being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sen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erfect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has been 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Futur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impl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will be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erfect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nfinitiv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o have b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odal+Present Infinitiv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rniture can be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odal+Perfect Infini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urniture must have been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ransferring Sentences from Active to Passive</a:t>
            </a:r>
            <a:br>
              <a:rPr sz="32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of the active sentence becomes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ject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f the passive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209680"/>
          <a:ext cx="8229600" cy="4281480"/>
        </p:xfrm>
        <a:graphic>
          <a:graphicData uri="http://schemas.openxmlformats.org/drawingml/2006/table">
            <a:tbl>
              <a:tblPr/>
              <a:tblGrid>
                <a:gridCol w="2743200"/>
                <a:gridCol w="2514600"/>
                <a:gridCol w="2971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ctive v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sive v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impl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imple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esent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erfect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Modal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keeps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 keeping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kept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as keeping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kept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ill keep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likes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keep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eems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have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ep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hould ke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are kept (by hi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are being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ere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ere being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have been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will be 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like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be kep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seem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have bee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hould be kep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assive Voice of Ditransitive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ransitive verbs can have two objects (an indirect and a direct object) and can have two pass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e.g. Someone gave </a:t>
            </a:r>
            <a:r>
              <a:rPr b="0" i="1" lang="sr-Latn-CS" sz="2800" spc="-1" strike="noStrike">
                <a:solidFill>
                  <a:srgbClr val="a50021"/>
                </a:solidFill>
                <a:latin typeface="Arial"/>
              </a:rPr>
              <a:t>her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9900"/>
                </a:solidFill>
                <a:latin typeface="Arial"/>
              </a:rPr>
              <a:t>a bull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i="1" lang="sr-Latn-CS" sz="2800" spc="-1" strike="noStrike">
                <a:solidFill>
                  <a:srgbClr val="009900"/>
                </a:solidFill>
                <a:latin typeface="Arial"/>
              </a:rPr>
              <a:t>A bulld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was given to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i="1" lang="sr-Latn-CS" sz="2800" spc="-1" strike="noStrike">
                <a:solidFill>
                  <a:srgbClr val="a50021"/>
                </a:solidFill>
                <a:latin typeface="Arial"/>
              </a:rPr>
              <a:t>She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was given a bull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Use of Passive to Express General Bel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Impersonal subject “IT” + passive reporting ver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t is assumed that the government will stay in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was said that he could speak three languag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recipient + passive reporting verb + to- infinitiv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is believed to have fled to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ome reporting verbs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                                        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ite                                 expla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                                  agr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                               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aten    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m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                                              de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ggest                                               accu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ratulate                                 apologiz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i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n                                               agre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42 Change the following questions from active to pass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y speak English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r mistakes sometimes frustrat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someone invent the whe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nyone cancelled the press con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y inform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hotel provide clean tow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d they fire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paid the rent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y tell you what had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he general manager sign this let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n't anyone tell me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anyone disturb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43:02Z</dcterms:created>
  <dc:creator>http://eng.fon.rs</dc:creator>
  <dc:description/>
  <dc:language>en-US</dc:language>
  <cp:lastModifiedBy>Jelena Plecas</cp:lastModifiedBy>
  <dcterms:modified xsi:type="dcterms:W3CDTF">2009-03-19T09:07:00Z</dcterms:modified>
  <cp:revision>9</cp:revision>
  <dc:subject/>
  <dc:title>Slide 1</dc:title>
</cp:coreProperties>
</file>