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C39-C111-44A3-98D7-F7BB7B19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A434-15AA-450D-861C-370A06E7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B0F6-78FF-4B8B-849F-E3FF78B3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E4E4-DADF-470A-B81E-CCC75966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329EA-A13C-45B8-B580-3309AFB6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D8FC6-01CD-4832-AA9C-A644ED81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95508-3576-42F2-A88E-B8215CFA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A34AE-D37E-4254-8136-FC72B10F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72A75-FCBF-4DB8-948A-3021E51A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64518-54B0-4C9C-93CA-FB8F4713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AA1F5-ECE2-4DB7-916C-DD538F36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C49-38E1-4399-BB04-723FC5FF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F9E66-5F5E-4517-AE1C-3F8AD6DA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762D0-D737-43F9-97FA-9D3C6B8C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87FDE-62A4-432F-ACE7-288012F8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0EC84-9788-424A-81F9-69809E08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B72CE-C0D7-48AE-AA21-117ED7A2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3A4-E62C-43BE-9A78-29963D43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19A5-D3A9-4015-BA4C-FED38093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CD2D-FC4A-467D-83B8-52B1F63E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3E8-9D27-46B3-9F1E-7C2AC38A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7C9-BD67-462D-A473-DE016C58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8A08-EF0D-4BC9-8678-E038F28A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7790-E5D9-4F17-A55A-E673BB6E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B8A7-9A29-4FC6-88B2-4C6BAACF0B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A91D-6854-4CDE-B1BD-7EBA10A704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Invers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Inversion in Conditional Claus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f you (should) see him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 please give him my regar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hould you see him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 please give him my rega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f you do not wish our agent to call you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hould you not wish our agent to call you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ay, the condition is made more doubt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in clause is usually in the imper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Inversion in Conditional Claus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f it weren’t for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your help, I would still be homel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ere it not for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your help, I would still ne homele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expression explains why something has or hasn’t happe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Inversion after Adverb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rsion of the normal subject-verb order happens after the following adverbs/ adverbial express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never, rarely, seldom, little, on no account, so, such, under no circumstances, only 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ittle does he realiz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how important this meeting 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n no account must you accept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any money if he offers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uch was his strength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that he could bend iron b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Rewrite the sentences, placing the adverbs or adverbial phrases in italics at the beginning of their sentence or clause and making the necessary inversions.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ha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 soon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ut down the receiver with a great sigh of relief than the telephone rang ag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ieve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itt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alized that the police had already thrown a cordon round the bank, and that all means of escape had been cut of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octor told his patient that he shoul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n 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ccou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turn to work until he had made a complete recov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ouldn’t doubt his integrity for one moment.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‘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…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hole truth didn’t become known until many years later.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‘Not until…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Rewrite the sentences, placing the adverbs or adverbial phrases in italics at the beginning of their sentence or clause and making the necessary inversions.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moke wa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o den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even breathing-apparatus proved ineffective against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fear of failing the examination wa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u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he resorted to che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re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en such public interest as in being shown in the appeal for funds to save the cathed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h a situation shoul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ev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gain be allowed to ari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asting peace will be established in the area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nly 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th sides accept the agre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For each of the following sentences, write another sentence as similar as possible in meaning, beginning with the word(s) in brackets.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.g. He wouldn’t accept my suggestion until I pointed out the altern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when I pointed out the alternatives would he accept my sugges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Remote villages don’t have a regular bus service any more. (no long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It’s unusual for the temperature to fall below freezing in the south of the country. (seld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It was the first time he had ever been in such a situation. (ne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You won’t succeed unless you work hard (on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It started raining as soon as we stepped outside the door. (no soon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You don’t care very much about the problems he’s facing. (litt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2:55:49Z</dcterms:created>
  <dc:creator>http://eng.fon.rs</dc:creator>
  <dc:description/>
  <dc:language>en-US</dc:language>
  <cp:lastModifiedBy>she</cp:lastModifiedBy>
  <dcterms:modified xsi:type="dcterms:W3CDTF">2009-04-05T13:12:23Z</dcterms:modified>
  <cp:revision>3</cp:revision>
  <dc:subject/>
  <dc:title>Inversion</dc:title>
</cp:coreProperties>
</file>