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616-02D8-428B-A770-7794D816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FD6-871D-4EE6-B433-4FD42281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4F4-E952-4C36-8A43-14B43E2A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21E3-171E-48E0-BED2-CBF19511F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288-BF23-4A08-A61B-B9CE2148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B4B-376D-41E8-BC30-688F9A9F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E18-CE88-4E32-9EEE-2FA253F2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B106-14CE-431E-A497-60710D00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EC6-E869-461B-9C8B-ACCC74EA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1A1-C697-4810-B43B-010D3CC6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4C54-E7C1-4638-B7CD-5BA4D104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DE6-621A-4848-977F-9762EAF9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38D4-9B30-4EC0-87DC-A46EA89BA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HE PAST PERFEC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orm:  Past tense of TO HAVE (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ha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+ pas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2209680"/>
          <a:ext cx="8153280" cy="3641760"/>
        </p:xfrm>
        <a:graphic>
          <a:graphicData uri="http://schemas.openxmlformats.org/drawingml/2006/table">
            <a:tbl>
              <a:tblPr/>
              <a:tblGrid>
                <a:gridCol w="990360"/>
                <a:gridCol w="2286000"/>
                <a:gridCol w="2362320"/>
                <a:gridCol w="251460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irm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I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you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sh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h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it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or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work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we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you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they work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ope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oor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se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man on his knees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clearl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liste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our conversation and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wond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w much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hear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as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m what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do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sa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dro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50p piece outside the door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loo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it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not se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sign of the money, but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fin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mall notebook and pencil which he probabl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dro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the door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ope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ddenly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tak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tes of our conversation!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note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ritten in a foreign language, so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tur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stranger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as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m to translate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ut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pul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y hat over my eyes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ru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f down the corridor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 time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recov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shock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disappea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 the corner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uriously enough, when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mo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y foot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fin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stan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50p piece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haps 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tel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uth after all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which began in the past before the time of speaking in the past 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still continuing at tha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Bill was in uniform when I met him. He had been a soldier since he was 17, and planned to stay in the army till he was thi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) Stopped at that time or just befor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Peter, who had waited for an hour, was very angry when his sister finally appe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) Stopped some time before sp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He had served in the army for 10 years. Then he retired and ma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which began in the past before some other past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On the New York Stock Exchange the Nasaq inde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d ope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higher, bu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ll bac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o 1,578 in morning tr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/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police caught the thieve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fte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y had left the ho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thieves had tied the old lad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befo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hey left the ho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past perfect is often used with verbs of thinking (know, realise, remember, be sure, th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David knew he’d seen her somewhere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 got to the office I realised I’d left all my papers beh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2 pm. W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her office at 2.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Sue’s office, s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d l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ST PERFECT CONTINUOUS TENS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been + present participle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3520" y="2286000"/>
          <a:ext cx="8229600" cy="3641760"/>
        </p:xfrm>
        <a:graphic>
          <a:graphicData uri="http://schemas.openxmlformats.org/drawingml/2006/table">
            <a:tbl>
              <a:tblPr/>
              <a:tblGrid>
                <a:gridCol w="1000080"/>
                <a:gridCol w="1971720"/>
                <a:gridCol w="2514600"/>
                <a:gridCol w="274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firm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rog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</a:t>
                      </a: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een working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I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you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</a:t>
                      </a: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een working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she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he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it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been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een wo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(hadn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’t </a:t>
                      </a:r>
                      <a:r>
                        <a:rPr b="0" lang="sr-Latn-C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been working</a:t>
                      </a: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we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you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 they been work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tuation that was in progress up to a certain point in the past. It often emphasises the duration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fore he left IB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lattane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d been putting togeth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 software package for the UK-based chemical company IC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back from a point of time in the past. The past perfect continuous looks back at a situation in prog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he economic situation was quite healthy. The central bank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d lower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nterest rates because inflati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ad been fall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teadily for several y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line the correct words. This exercise includes example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st perfect. used to, the past simple and past continuo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oked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/was loo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my keys, I suddenly remembered 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ft/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d le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m at ho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In those days the union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/had used 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on strike whenever t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s/was be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bl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After the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ere buying/had bough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any, the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rted/were start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a lot of people redund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   Jack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 have/was hav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c, but then 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 change/chang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 Pc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sked about my package in reception, but the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id/were say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t stil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dn't arrived/wasn't arriving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was sure that 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 lock/had lock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or to my office last night, but i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s/ha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en 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is morning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'm sure that the winter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 be/had b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er when I was a child. I remember that w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d to walk/were walk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chool in the snow every winte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d gone/went bac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staurant to look for my umbrella, bu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und/was find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someon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o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d tak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Geor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w/was see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ne at the seminar, 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ew/was know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t/had me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 somewhere bef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360" indent="-369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d/was hav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fast 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oked/was look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financial pages to see the share prices. 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aw/was see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my original investmen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ew/had grow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over 4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arriv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ngland in the middle of July.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ld that England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rouded in fog all year round, so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ite surprised to find that it was merely raining. 2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ask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other passenger, an Englishman, about the fog and h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sa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ther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not b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 since the previous February. 3 If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wan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g, he said, I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com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quite the wrong time. 4 However, h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tel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that I could buy tinned fog at a shop in Shaftsbury Avenue. 5 H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admi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he never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bu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g there himself but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assur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that they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sell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od quality fog and that it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not b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nsive. I suppose he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(jok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When the old lad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retur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her flat s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se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once that burglar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reak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during her absence, because the front door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n and everything in the flat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side down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burglars themselve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longer there, but they probably only just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lea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ause a cigarette was still burning on an ornamental table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bably the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hea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ift coming up an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ru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wn the fire escape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hel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mselves to her whisky too but ther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little left, so s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pou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rself out a drink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wond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fin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r jewellery and rather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hop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y had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jewellery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n her by her husband, who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di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me years before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ce his death s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not ha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eart to wear it, yet she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(not lik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ell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1:02:37Z</dcterms:created>
  <dc:creator>http://eng.fon.rs</dc:creator>
  <dc:description/>
  <dc:language>en-US</dc:language>
  <cp:lastModifiedBy>she</cp:lastModifiedBy>
  <dcterms:modified xsi:type="dcterms:W3CDTF">2008-11-03T12:57:18Z</dcterms:modified>
  <cp:revision>5</cp:revision>
  <dc:subject/>
  <dc:title>Slide 1</dc:title>
</cp:coreProperties>
</file>