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0BC-CD6E-4AD9-9126-44983F82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EF34-3D7B-4C29-AE18-932D43DC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961-0C60-4FD8-A761-84BE9F48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6BD-39A3-475C-A0E6-D4A9EE31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8D5-C2E3-4171-A2EA-B81114D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15A-A742-44F9-89C1-7D0F64BB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83B-8B03-44C5-B61B-1D3CA81F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83C-8C5E-441D-9C99-1B0C03C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810-2B77-4CE2-B8D1-4C4D06F7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23A-46A3-42B3-B682-E4064A8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74F-6100-444C-9550-778385F5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697C-7901-4B23-94FC-BED899DE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22C6-95E3-4116-8EDA-1F4D62BCA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XPRESSING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Simple Presen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nouncements, timetables, schedules, organized events. Commonly used verbs – begin, depart, arrive, open, cl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.g. The school starts on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he train leaves at f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Present Continuous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hen we want to express the future using this tense, time must be mentione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 we could confuse present and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e arran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ob and Bill are meeting to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With verbs of movement (arrive, come, drive, travel, leave, go…), position (stay, remain…) and have, do it can express a decision or plan without definite arran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hat are you doing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: Present continuous of the verb TO GO + full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’m going to buy a bi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 in the near future (less formal than w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Look at the clouds. It’s going to 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and instructions (impersonal way of giving instru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You are to stay here, 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y here, 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Conveying a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he is to be married next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OUT +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y are about to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SIMPLE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+ bare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ta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Let’s go. Shall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hall we take a tax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or orders &amp;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hat shall I do with your m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888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ng the speaker’s opinions, assumptions, speculations about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by verbs such as: believe, expect, hope, know, suppose or adverbs: perhaps, possibly, probab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g. Perhaps he will com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will build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is going to build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uture habitual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Spring will com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rds will build n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the verbs not normally used in the continuous forms (senses, thinking, possession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ey will know to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WON’T may express a negative intention. I/we will can express an intention if we emphasi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He won’t go there, whatever you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will do that, no matter what you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CONTINUOUS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: Future Simple of to be + presen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point of time, expressing an action that starts before that time and probably continues after 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This time tomorrow she will be sitting at the sam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Future without i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I will be helping Mary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Polite enqui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Will you be staying in this ev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TURE PERFECT T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+ perfect 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ly used with time expressions beginning with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n, by that time, by the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y the end of next month we will have been here for five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the action which at a given future time will be in the past, or will just have fin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s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£50 a month and I started in January. So by the end of the year I will/shall have saved £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TURE PERFEC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/shall have been + present 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ith time expressions beginning with 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use it instead of the future perfect ten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 By the end of this month I will have been living/working here for ten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the end of this month I will have been climbing mountains for 6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the end of this month I will have climbed 70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2:50:20Z</dcterms:created>
  <dc:creator>http://eng.fon.rs</dc:creator>
  <dc:description/>
  <dc:language>en-US</dc:language>
  <cp:lastModifiedBy>she</cp:lastModifiedBy>
  <dcterms:modified xsi:type="dcterms:W3CDTF">2008-11-03T12:56:59Z</dcterms:modified>
  <cp:revision>3</cp:revision>
  <dc:subject/>
  <dc:title>Slide 1</dc:title>
</cp:coreProperties>
</file>