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3197-B183-4949-94B5-81B69C7E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C0C-D8EB-433A-AFB4-44E942F9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C7C-9387-4AE2-A1FF-13578A1F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24C-5397-4E13-BCD8-57176E6E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45E-CE58-4A87-974A-C174D2FD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1190-3F2E-40BA-83E9-F630C09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E0C-5B25-4277-AB32-010F2AD8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1A43-249F-41AA-9360-C11327B0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BE73-4477-4841-87B7-5AE7ECE1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033A-1119-457B-9CD8-06EA4EEA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E181-D4FA-4C8C-B923-1AD3F6E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E2F-C940-4BC2-8B6A-40360C3E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8934-6A83-49D0-9E82-81E897A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1C84-17EA-431D-9FE7-AEA35E66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1D67-BCCE-45D6-9542-12220B4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7729-B721-4DA1-8CA0-CDC6D5EE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20B-4A85-4B08-B257-8D8B91DF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38BB-D4E6-441A-8312-67DE8D94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9F8-56CB-4830-8A99-5C71F42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77A-3B33-4720-9D14-0C607314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BCF-699E-4D72-88B5-B60A8BEB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74E-5C6D-42D2-B6C5-5DCBE486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58D-21A3-4476-BE2B-F642050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B11-2CE1-4D37-AE59-EA8E66FC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646F-0AF3-4DB2-8120-56BBBD140B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A3A-D1C8-46B3-9E8F-525B906BD4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NOUNS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ns denote the names of a person, animal, object or a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Foreign Plura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foreign words always take the English plur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   areas, encyclopedias, arenas, eras, id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Uncountable Nou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only one form – sing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usually concrete mass nouns or abstract nouns that we do not normally 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-384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219320"/>
          <a:ext cx="8229600" cy="5409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4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id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ni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g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l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g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uble Nouns</a:t>
            </a:r>
            <a:br>
              <a:rPr sz="3500"/>
            </a:b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Can be both countable and uncountable:</a:t>
            </a:r>
            <a:br>
              <a:rPr sz="3500"/>
            </a:br>
            <a:br>
              <a:rPr sz="26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38480"/>
            <a:ext cx="403848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( in gen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( in gener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ffee ( the subst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tball ( the ga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( the subst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on ( met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( the mate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 ( in general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 ( general concep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nalysis ( a particula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siness ( compa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ffee ( a cup of coff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otball ( a b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ron ( for iro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od ( group of t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ience ( a particula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 ( a male per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ific U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ouns are followed by either a singular verb or a plural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army, audience, board, committee, company, family,government, group, media, press, public, staff, team,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think of the group as a whole we use singular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think of its individual members, we use a plural ver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The company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is/ ar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doing very well at the mo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ecific U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llowing nouns ending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–ic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ways take a singular verb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athematics, physics, athletics, gymnastics, lingu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Mathematics deals with space and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nouns ending in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–ic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ake a singular verb when they refer to the science, academic subject or art, but take a plural noun when the reference is specific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e.g. Acoustics is the scientific study of sou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acoustics in this room are not very goo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 nouns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conomics, ceramics, acoustics, electronics, politics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sessive 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055680"/>
            <a:ext cx="403848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g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countant’s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man’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r Jones’s invoice or Mr Jones’ invo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3055680"/>
            <a:ext cx="403848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u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countants’ stat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men’s spee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1447920"/>
            <a:ext cx="815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itive form of noun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how possession with respect to living be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ossessive 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ime phra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six hours’ 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note distan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ten miles’ driv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ixed phra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For goodness’ sak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specific plac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We’ll see you at John’s (place) / at the hairdresser’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lips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 Whose car is this? Mike’s ( c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ntifiers used with nou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3733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untable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/an ( in singul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w / a f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/ a lot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countable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ittle / lit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t of / plenty o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ercises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n’t _______ about this budget i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man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much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much inform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many inform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 can’t work long hours. I have _______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chilr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chil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on’t want to hear such stupid ______. I want the tru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stor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st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_________ with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many lug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any lug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any lugg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ny lug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re are five kinds of nouns in English: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mon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person        bank          cli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roper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Douglas Brown    London    Hung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bstract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information   advice   dema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llective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 team        group         personn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ss ( material) nou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 oil           petrol          suga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always need fresh _______ about the things concern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infor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inform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 informa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files were missing. The _______ already t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police w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police w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) polices w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) polices w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There are no _____ in this work, you have to be a part of the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her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her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H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not _________ in the manufacturing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many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man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much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much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better to be ______ than 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wolfs, she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wolves, she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wolfs,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wolves, she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always get some good ________ from h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adv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ad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adv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o buy _______ for our new off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) some furni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) any furni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 many furni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) many furni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d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lish nouns are classified according to the gender in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eminine nou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woman, girl, female anim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sculine nouns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man, boy, male anima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Neuter nou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inanimate th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institution, scissors, sho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mon nou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nouns of either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baby,  parent, student, pati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untability of Nou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nouns can be classified i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untable nou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ave both singular and plural 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Can be use with the indefinite article (when in   singular) or with nu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  a bank     one bank       two ba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Uncountable nou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have only one form - sing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Plural of Nou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lural of almost all countable nouns is formed by add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pronounced a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s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f the preceding sound is voiceless,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/z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preceding sound is vo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boy – boys       book –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ns ending in 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,–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ch,-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their plural by add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hero – heroes    dish – dishes   fox – f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ly used nouns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 their plural with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tomato – tomatoes   hero – heroes   potato – pot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nouns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either ge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–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–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buffalo – buffalos / buffaloes      cargo – cargos / cargoes    volcano – volcanos / volcan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183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word end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uble –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wel +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ets –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kangaroos, videos, radios, studios, zo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ns ending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ing a consonant form their plural by dropping the y and add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ies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baby – babies       fly – flies        country -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nouns form their plural by changing the root vow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 – men        woman – women        tooth – tee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ot – feet            goose – geese        mouse – mic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uns have the same form in singular and 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.g. sheep        fish        d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85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elve nouns ending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 the endings and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v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nife, wolf, calf, shelf, leaf, loaf, thief, sheaf, half, wife, life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wife – wives    life –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ouns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–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have two ways of making plu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of – hoofs / hooves     scarf – scarfs / sca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uns are used only in plu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scissors, spectacles, breeches, mumps, measles, je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me nouns are plural in form but singular in mean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.g. news, physics, mathematics, statist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re Examples of Irregular Plural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n – 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oman – wom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ild –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x – ox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Foreign Plur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ds which retain their original Greek or Latin forms make their plurals according to the rules of Greek and Lat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tin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xis – axes, medium – media, bacterium – bacteria, radius – rad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ek: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analysis – analyses, basis – bases, crisis – crises, thesis- theses, phenomenon – phenome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ouns have both English and foreign plur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 formula – formulas, formula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rriculum- curriculums, curricul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natorium – sanatoriums, sanator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ximum – maximums, maxi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9:49:59Z</dcterms:created>
  <dc:creator>she</dc:creator>
  <dc:description/>
  <dc:language>en-US</dc:language>
  <cp:lastModifiedBy>she</cp:lastModifiedBy>
  <dcterms:modified xsi:type="dcterms:W3CDTF">2008-12-03T09:22:40Z</dcterms:modified>
  <cp:revision>8</cp:revision>
  <dc:subject/>
  <dc:title>NOUNS</dc:title>
</cp:coreProperties>
</file>