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E1E-94BF-4CA9-8ED5-0F88530E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ED2-169D-48D7-9CEA-A04988F1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C461-00AC-4AC0-BF28-72E4BC95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1F1-0ABC-424D-B702-46EA50A1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0F7-151A-4F0E-9C2B-D086C54D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ECBB-30AD-4E49-A418-70241F30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DA17-C40F-491D-A633-B1D270B4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9A8C-9DF0-493C-BD16-F48C1017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D1B-2286-4728-B054-8E7DB43B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CE5E-C1FB-486A-B23A-55FE0F5A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CDAA-4212-4599-BA23-5D199692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4629-37D7-42E3-812E-21E2D125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30CB-4A56-4658-AF76-7171A939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BA60-AD4D-4A94-BA53-A93B2D5D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4E38-A589-44E4-A77F-E2FB8714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6387-A38F-4F60-A174-429B7AB9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CDDA-4455-4238-BAF3-E02EC10C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7EE-AA95-42C6-85EA-BFBCA35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786-B871-411E-98CA-68A9DD73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746-E1BE-425D-8E38-B01069A5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954F-AECD-4ACF-BCBB-71991A83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5BA-DE82-4680-A695-B00D833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06C-8EE4-4964-8446-84F6AAA8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65A6-C549-4873-9FDE-44880C10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403-1274-47FC-849C-CAF5451DBC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E92E-B21B-46F6-BC64-A9F1D744FB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owl.english.purdue.edu/handouts/esl/eslart.html#definite" TargetMode="External"/><Relationship Id="rId2" Type="http://schemas.openxmlformats.org/officeDocument/2006/relationships/hyperlink" Target="http://owl.english.purdue.edu/handouts/esl/eslart.html#indefinite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712880"/>
            <a:ext cx="76230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cc0000"/>
                </a:solidFill>
                <a:latin typeface="Garamond"/>
              </a:rPr>
              <a:t>ARTICLES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7720" y="266652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has two types of articles: 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defini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ndefinit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, 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these articles depends mainly on whether you are referring to any member of a group, or to a specific member of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superla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is is the worst play I’ve ever s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usical instrument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om plays the flut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omparatives in fixed phr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sooner th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“sa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We are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decades, or groups of yea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he grew up in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the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seve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mountain ranges and groups of islan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Alps   The Canary Is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oceans, seas and riv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Pacific   the River Nile    the Caspian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some geographical ar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Balkans   The Middle East    The Nor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unions, and associa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UK, The USA, The A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some countr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Netherlands    The Philli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asic Uses of Zero Art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give general stat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 Money makes the world go r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Life is short; art is 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Watches have become very accu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fer to a class as a who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Cats do not like cold wea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names of people and their tit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lizabeth Brown    Pope Joh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Madam Miss Jackson      Major Ro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0000"/>
                </a:solidFill>
                <a:latin typeface="Arial"/>
              </a:rPr>
              <a:t>Not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ilson was elected President of the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ilson became ( the ) President of the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days, months, holiday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June    Christmas    Mon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e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Breakfast is served.   Michael’s at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cademic subje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Physics is the most difficult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ranspo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by bus, by air, by boat, by coach, on f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nouns like school, hospital, prison, church, university, college, court etc. when we refer to their “primary purpose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He was sent to prison for four ye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Children went to school early in the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fter “what” and “such” when a plural or an uncountable noun follow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What fools they are!                                                                       We has such problems during the holi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fixed phr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at night, face to face, keep in mind, go on holiday, make friends, make fun of, arm in arm  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names of lakes, towns, islands, mountains and most countr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erbia   Lake Geneva   New Yor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anguages and nationalit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he is French.     I don’t speak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'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essive ca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</a:t>
            </a:r>
            <a:r>
              <a:rPr b="0" lang="en-US" sz="2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His brother's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car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. </a:t>
            </a:r>
            <a:br>
              <a:rPr sz="2000"/>
            </a:b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Peter's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house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sert the right article – a / an / the / or zer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 am from Winchester, Hampshire. Winchester is ______ city in _____ United Kingdom.  I live in _____ town called ______ Taunton which is on ______River Tone. I live in _____ house in _____ quiet street in the countryside._____ street is called "Hudson Street" and _____ house is old - more than 100 years old! I am _____English lecturer at ______college near ______ centre of _______ town. I like  ______ books, music and taking ______photographs. I usually have ______lunch at college. I usually go ______ home by ______car. We have all kinds of food in ______England. I like _______Polish food very much. Sometimes, I go to _______ Polish restaurant in Bath.______ restaurant is called "Magda's". ______Polish food is delicious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61520"/>
            <a:ext cx="815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Indefinite Article: </a:t>
            </a:r>
            <a:r>
              <a:rPr b="1" i="1" lang="en-US" sz="4200" spc="-1" strike="noStrike">
                <a:solidFill>
                  <a:srgbClr val="cc0000"/>
                </a:solidFill>
                <a:latin typeface="Garamond"/>
              </a:rPr>
              <a:t>a</a:t>
            </a: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 and </a:t>
            </a:r>
            <a:r>
              <a:rPr b="1" i="1" lang="en-US" sz="4200" spc="-1" strike="noStrike">
                <a:solidFill>
                  <a:srgbClr val="cc0000"/>
                </a:solidFill>
                <a:latin typeface="Garamond"/>
              </a:rPr>
              <a:t>an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ignal that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he noun modified is indefini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referring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ember of a group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d with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untable nouns in singula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hen the noun is genera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singular noun beginning with a consonant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singular noun beginning with a vowel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e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eph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singular noun beginning with a consonant sound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e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singular noun beginning with a vowel sound: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f the noun is modified by an adjective, the choice between a and an depends on the initial sound of the adjective that immedately follows the artic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oken eg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n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usual proble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cc0000"/>
                </a:solidFill>
                <a:latin typeface="Arial"/>
              </a:rPr>
              <a:t>Eur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opean countr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c0000"/>
                </a:solidFill>
                <a:latin typeface="Garamond"/>
              </a:rPr>
              <a:t>Basic Uses of Indefinite Art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use indefinite article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ass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mething/ someo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y means of general stat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An architect is someone who designs buildings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 form of defini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A cat is a domestic animal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By means of descriptive lab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Origins:        He’s a French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Occupation: She’s a do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Religion:      He’s a Catho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Politics:       She’s a Republi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something is mentioned for the first ti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I looked up and saw a plane. ( The plane flew low over the tree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references of quantity ( in sense of “one”, “only one”, “ any one”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I’d like an apple.   I need a screwdriver to do the jo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reference to measurem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wice a/ per day        80p a/ per kilo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40 km an/ per hour          30 miles a/per ga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“what” and “such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What a surprise!     My boss is such an idi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reference to illnesses/ condi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5f5f5f"/>
                </a:solidFill>
                <a:latin typeface="Arial"/>
              </a:rPr>
              <a:t>e.g. a cold, a headache, a sore throat, a weak heart, a broken le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No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with some conditions, a/ an is op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33"/>
                </a:solidFill>
                <a:latin typeface="Arial"/>
              </a:rPr>
              <a:t>( backache, stomach-ache, toothache) or is not used at all ( flu, hepatiti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finite Article: Th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inite article is us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fore sing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u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ns as well as befo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un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u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the noun is particular or specifi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als that the noun is definite, that it refers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 of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 pronounced /  / before consonant  sounds:  the day,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 pronounced /  / vowel soun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, the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Basic Uses of Definite Artic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refer to the whole class (similar to a/a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cobra is danger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fer to the group as a who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” + nationality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British and the Americans have been allies for a long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” + plur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Liberals want electorial reform.  The Browns are not at home</a:t>
            </a:r>
            <a:r>
              <a:rPr b="0" i="1" lang="en-US" sz="17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” + collective nouns to make general statements about specified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police    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something that has been mentioned before is referred to ag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Singleton is a quiet village. The village has a population of a few hundred people</a:t>
            </a: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phrases noun + “of” + no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life of Napoleon         The freedom of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pecify a person, t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Smith you are looking for no longer lives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letters on the shelf are for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exts which are limited enough for the listener or reader to identify who or what is referr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Pass me the salt, pleas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Who’s at the door? It’s the post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locations which are “one of a kind”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earth, the sky, the moon, the solar system, the galaxy, the unive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“parts of a whole”, assuming the listener/ reader knows what we are talking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human being: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body, the brain, the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room:     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the ceiling, the walls, the flo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ime express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. the beginning, the end, the past, the present. The middle, the morning, the evening, the aftern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fixed phr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e.g</a:t>
            </a:r>
            <a:r>
              <a:rPr b="0" i="1" lang="en-US" sz="2600" spc="-1" strike="noStrike">
                <a:solidFill>
                  <a:srgbClr val="5f5f5f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5f5f5f"/>
                </a:solidFill>
                <a:latin typeface="Arial"/>
              </a:rPr>
              <a:t>Have  a  good time    have  a  rest   have a sh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8:44:54Z</dcterms:created>
  <dc:creator>she</dc:creator>
  <dc:description/>
  <dc:language>en-US</dc:language>
  <cp:lastModifiedBy>she</cp:lastModifiedBy>
  <dcterms:modified xsi:type="dcterms:W3CDTF">2008-11-25T12:00:48Z</dcterms:modified>
  <cp:revision>10</cp:revision>
  <dc:subject/>
  <dc:title>ARTICLES</dc:title>
</cp:coreProperties>
</file>