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5F4-6197-4647-BFD3-BB938805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2D6E-DD58-4977-A8D6-65AD795E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FF3-AEF1-499E-A087-FB9B3321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432-28D3-47D8-9363-C695D91C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274-A130-4735-A187-A27D4847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B7AC-4AF3-4C5E-ABA8-D60CF652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5A7-EFCB-4498-9113-B157993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D33-C527-49C8-8945-8E0D3C06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1C5-8966-4CCA-990D-96111A06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8D8-FEAE-48EC-AA6D-BB1AD50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C60-CF69-481B-B235-0B20548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4E9-90B3-439F-AD45-8802AF2E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2928-4127-447C-844C-61C23CCC1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PRESEN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m: present tense of TO HAVE + past parti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1905120"/>
          <a:ext cx="8153280" cy="3641760"/>
        </p:xfrm>
        <a:graphic>
          <a:graphicData uri="http://schemas.openxmlformats.org/drawingml/2006/table">
            <a:tbl>
              <a:tblPr/>
              <a:tblGrid>
                <a:gridCol w="990360"/>
                <a:gridCol w="2286000"/>
                <a:gridCol w="2362320"/>
                <a:gridCol w="251460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I’ve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He’s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s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it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We’ve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w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they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completed in the past having results in th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valanc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s devasta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skiing industry in th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’v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u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d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nice cup of coff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Tim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’ll ask him as soon as 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s finish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en we do not have definite time in the p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 Brown has arrived. She’s in the staff room and is ready to see you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s Brown arrived half an hour ago. She’s waiting in the staff ro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Action that has been repeated a number of times up to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y have been to China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tions occurring in an incomplete period of time (i.e. today, this morning/afternoon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I haven’t seen him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3962520"/>
          <a:ext cx="8305920" cy="89352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 this morning ends at 1 p.m. 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fternoon at 5 p.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ime mark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, yet, not yet, just, ever, never, since, lately, recently, once, twice, several times, often, for, up till now, so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– From a point in the past to the time of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She has been here since 6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– Period of time , not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We have lived in London fo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819520"/>
          <a:ext cx="8077320" cy="3502080"/>
        </p:xfrm>
        <a:graphic>
          <a:graphicData uri="http://schemas.openxmlformats.org/drawingml/2006/table">
            <a:tbl>
              <a:tblPr/>
              <a:tblGrid>
                <a:gridCol w="981000"/>
                <a:gridCol w="2263680"/>
                <a:gridCol w="2341800"/>
                <a:gridCol w="24908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I’ve been wor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I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He’s been work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sh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it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600" spc="-1" strike="noStrike">
                          <a:solidFill>
                            <a:srgbClr val="0099ff"/>
                          </a:solidFill>
                          <a:latin typeface="Arial"/>
                        </a:rPr>
                        <a:t>We’ve been workin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80880" y="457200"/>
            <a:ext cx="8305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PRESENT PERFEC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TINUOUS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T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rm: present tense of TO HAVE +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t participle of TO BE +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nt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rti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an action or situation in progress from the past, up to the present and still continu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ade between Japan and USA has been increasing steadily since 19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mphasizes the length of time f the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’ve been trying to contact her all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Put the verbs in brackets into the present perfect or the present perfect continuous t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(walk) ten kilo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(walk) three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boy (eat) seven ice-c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   A: What you (d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We (pick) app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How many you (pick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We (pick) ten basketfu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 (sleep) on every bed in this house and I don’t like any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sleep) since ten o’clock. It’s time he woke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only (hear) from him twice since he wen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work) for him for ten years and he never once (say) ‘Good morning’ to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teach) in this school for five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teach) hundreds of students but I never (meet) such a hopeless class as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pump) up three tires. Would you like to do the four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(hope) for a rise in salary for six months but he (not dare) to ask for it y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(look) for mushrooms but I (not find) 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3:25:42Z</dcterms:created>
  <dc:creator>SAŠA</dc:creator>
  <dc:description/>
  <dc:language>en-US</dc:language>
  <cp:lastModifiedBy>FON</cp:lastModifiedBy>
  <dcterms:modified xsi:type="dcterms:W3CDTF">2007-11-15T11:01:34Z</dcterms:modified>
  <cp:revision>10</cp:revision>
  <dc:subject/>
  <dc:title>Slide 1</dc:title>
</cp:coreProperties>
</file>