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669-4DF9-46CA-8197-86975E96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381-B714-4940-B54E-69F1531C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50A2-4F1B-49DF-828F-B09D8D8B2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097-2A89-449C-8182-105A79B9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D384-5071-4EBD-987E-A31C988F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E364-B491-497F-B8E0-6189F7F1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484A-F083-4656-85AA-95D57FB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7AE4-F4BF-44A5-9075-DE676056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07C7-0FE1-46AD-B303-8883CF30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6338-EAB2-4CDE-82E0-EEF41F52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F7FC-819A-46E3-988C-05B32CE6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6CBA-B7D5-4A11-AFDF-786DF00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BB10-C8D2-497C-B9C0-4B22C0C6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9BFA-1158-4732-BAEE-40883B39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8CED-C605-447D-924A-7F1C32EB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845A-2682-4B73-A189-D3DDAB09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407E-DFA6-4F35-BD25-D331E64A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C0BA-690E-453F-8066-A658F8A5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82E28-5C77-4F4C-8D56-0AD3956D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3E390-09FB-49BA-A720-BEAC2CC4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3F90-C73E-4456-90B9-7BFAE27C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3BFF-F3E7-4CAE-A601-EBE4E11B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00F1-FEE2-4F4A-A0ED-48DDED4D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5859-6088-4744-8988-7B4D80B4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EF1C-CD67-4716-AF60-A37668F5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DBAB-81AB-4886-9A04-9FA790B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AE80-46CC-459E-8363-23DFB45E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29384-8F49-482F-B0F5-A042F93B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FE536-2947-4D60-AE75-A208699D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4A969-243E-4578-A934-11AA0AA7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2C2-9F09-45C2-8C6C-5EAD94E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35A-5122-43C1-8A1F-09B5B8CB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0BE-A66B-4484-8836-0E080DAA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A01-FFE5-423A-B718-B2E04609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30B-6FA3-4325-BFD0-F0A110EC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271B-2462-476E-B412-C3A1F95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E68F-5DB6-418A-8EAC-5C64BF54B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2402-50FE-4028-AC3E-CA2DFB27C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506F-B8BE-4E78-8813-DA0D6E501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Асимптотска комплексно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537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а ефикасности алгорит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појмовима везаним за анализирање ефикасности алготир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имптотска комплексност и 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симптотска комплексност 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550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(n) je asimptotski veće od q(n), akk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m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že se i da je q(n) je asimptotski manje od p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že se da su asimptotski jednaki ako ni p(n) niti q)n) je asimptot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eće od onog drug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0550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 1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i 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m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/ (3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=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/(3 + 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)= 0/3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 je asimptotski veće od 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, tj. 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je asimptotski manje od (3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 2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7) i (2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+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m 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/(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=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∞/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→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7) i (2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+ 6) su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imptotski jedna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eliko O notacija (Big O not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tacija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) (čita se “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je veliko o od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”) znači da je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 asimptotski manje ili jednako od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 asimptotskom smislu, g(n) je gornja granica za 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n + 6 = O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6n2 + 3n + 12 = O(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simptotska kompleksn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3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zima se u obzir najveći član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simptotska uređeno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 &lt; n &lt; n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sr-Latn-C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&lt; 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24400" y="1600200"/>
          <a:ext cx="3362400" cy="3689280"/>
        </p:xfrm>
        <a:graphic>
          <a:graphicData uri="http://schemas.openxmlformats.org/drawingml/2006/table">
            <a:tbl>
              <a:tblPr/>
              <a:tblGrid>
                <a:gridCol w="1069920"/>
                <a:gridCol w="2292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z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sta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aritma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er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vadrat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b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i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ksponencijal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ktorij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asimptotska kompleksn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znači O(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ređaj po redosledu asimpotske kompleksnost sledeće izra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6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 + 15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; 6*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; log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13:43:5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