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BA9-6A9A-4BAE-94B8-1F8A63DA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640-F99C-4D6A-9678-514BFDB6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1F7-4898-49E3-8F64-11A9253A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968-BC10-4F90-AB9A-52395E17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FFA3-2E93-44DE-A2E8-391342C8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2DDE-54F6-4739-B5F3-6ECAFF2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9E75-743C-4EEC-9696-BC397D44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7C06-2FA8-4E27-865C-1956713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5E2B-4647-4113-A3D0-B46B1B75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E11A-577F-47E0-85E2-8740925E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B432-F8B4-4E32-B803-C60A2D3E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EE2-E749-4B03-8BF7-1A05AF24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0E3-12D6-42F7-A5A4-3CB5EED2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7D17-CF84-4B96-BF0E-FCED8EA5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8264-1DC6-4968-B80A-0663127F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D4C-4C3A-4321-B35A-C329345B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1854-7E1C-4FBC-AB99-8366CF47C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BB1F9-988D-481C-B9C7-632A4A20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F349A-06B0-4201-B240-8B791C87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7B549-4A44-44E9-BF1D-4144C556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7C43-A5A1-4EC9-95D6-D9E8EA38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C574-BBF4-4DD3-8EBC-E57B2226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57E-52E5-44A2-99FA-AC76FE40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5A1C-AAD5-4EFE-9317-73988A9A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D442-DD85-4A4C-99FE-F756ABE1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F638-C006-4E59-BE83-57571D84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CC2DC-F58B-46F1-83E8-AC5C4D39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79F7-E251-4519-9C8D-93AB56E5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CA52-66E5-40A1-9EC0-6EEDA6CA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AA9D9-13B0-4A0C-8F71-6DB8328E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B82F-45BB-4AE0-8ED1-5BE69C69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7ED-0B9C-49E6-8D9C-BCC21F66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E0DD-50AB-47CA-9487-C7846B85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D9E-29E9-4E33-A5B5-0C252362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BA3-A814-43A9-872F-7FFCE41E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2E8-28C0-4ADF-9AEE-07DB3F48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D4E8-7FA7-4B30-9F90-497649F0D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DE70-985A-423D-8406-9CEDC8275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6553-EA52-4E6F-9CED-4E86B2C40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-304920" y="4680"/>
            <a:ext cx="972036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295280"/>
          <a:ext cx="8229600" cy="5132520"/>
        </p:xfrm>
        <a:graphic>
          <a:graphicData uri="http://schemas.openxmlformats.org/drawingml/2006/table">
            <a:tbl>
              <a:tblPr/>
              <a:tblGrid>
                <a:gridCol w="942840"/>
                <a:gridCol w="1255680"/>
                <a:gridCol w="3486240"/>
                <a:gridCol w="254484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дна 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цел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и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владавање начинима сортирања линеарних структур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атска једин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. Приказ и анализа ефикасности различитих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репродукује начине анализе ефикасности алгоритама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2. Алгоритми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способан да препозна и користи следеће алгоритме за сортирање: метода селекције, метода сортирања убацивањем, мехурасти сорт, брзи сорт, сортирање спајањ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Calibri"/>
              </a:rPr>
              <a:t>Алгоритми за сортира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1676520"/>
          <a:ext cx="8534160" cy="1763640"/>
        </p:xfrm>
        <a:graphic>
          <a:graphicData uri="http://schemas.openxmlformats.org/drawingml/2006/table">
            <a:tbl>
              <a:tblPr/>
              <a:tblGrid>
                <a:gridCol w="990360"/>
                <a:gridCol w="2514600"/>
                <a:gridCol w="50292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Р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недељ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Тематс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једи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333399"/>
                          </a:solidFill>
                          <a:latin typeface="Calibri"/>
                        </a:rPr>
                        <a:t>ЦИЉ УЧЕ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6.</a:t>
                      </a:r>
                      <a:r>
                        <a:rPr b="0" lang="sr-Latn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Поређење 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лгорит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r>
                        <a:rPr b="0" lang="sr-C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 за сортира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тудент ће бит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и да пореди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ледеће алгоритме за сортирање: метода селекције, метода сортирања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метањем,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а замене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сортирање спајањем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рзи с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18"/>
          <p:cNvSpPr/>
          <p:nvPr/>
        </p:nvSpPr>
        <p:spPr>
          <a:xfrm>
            <a:off x="304920" y="3790800"/>
            <a:ext cx="87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99"/>
                </a:solidFill>
                <a:latin typeface="Calibri"/>
              </a:rPr>
              <a:t>НАСТАВНИ МЕТОД: 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ПРЕД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r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đenje 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gori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za sort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lection sor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ubble s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sertion sor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hell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(n log n)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rge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ap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qick s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r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đenje 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gori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za sort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algorit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95280" y="2819520"/>
          <a:ext cx="6774120" cy="1996920"/>
        </p:xfrm>
        <a:graphic>
          <a:graphicData uri="http://schemas.openxmlformats.org/drawingml/2006/table">
            <a:tbl>
              <a:tblPr/>
              <a:tblGrid>
                <a:gridCol w="2514600"/>
                <a:gridCol w="2127240"/>
                <a:gridCol w="213228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jgori sluč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ion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bble s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sertion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ell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fikasnost algorit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r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đenje 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gori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za sortir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(n log n) algorit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(n Log n) je teoretski najbolja moguća prosečna efikasnost algoritma za sort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2438280"/>
          <a:ext cx="6774120" cy="1570320"/>
        </p:xfrm>
        <a:graphic>
          <a:graphicData uri="http://schemas.openxmlformats.org/drawingml/2006/table">
            <a:tbl>
              <a:tblPr/>
              <a:tblGrid>
                <a:gridCol w="2514600"/>
                <a:gridCol w="2127240"/>
                <a:gridCol w="21322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s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jgori sluč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rge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p s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ck 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log 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1193760"/>
            <a:ext cx="83073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da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a metoda sortiranja u jednom prolazu može da detektuje da je niz sortir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 kvadratni algoritam sortiranja ima duplo bolju efikasnost u odnosu na najgori mogući slučaj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ji O(n log n) algoritam može u najgorem slučaju da ima kvadratnu efikasno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kojoj situaciji algoritam iz prethodnog pitanja ima kvadratnu efikasnost i zaš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iniša Nešković</cp:lastModifiedBy>
  <dcterms:modified xsi:type="dcterms:W3CDTF">2010-04-18T00:06:1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