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350-3C3B-4AB4-8516-9B35ACFD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B61-F266-4CB0-A113-0C2C2E15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ED4B-23F3-484D-AF72-978C4783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883-6C61-4261-BA6D-D72C9766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65EB-40D6-41B3-8D7A-C333499C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9BE3-F00F-43DE-BE6D-487EC6C4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08F2-E424-40DB-9207-CD332AB5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1308-CD87-4543-B1A8-5A91E813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FFC8-549F-4900-A57C-197F5579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2A15-1DA9-4FBD-92A3-A372BCE6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9A0A-D81F-4F7D-AFD2-F22164E1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924E-9042-4EF3-8DF5-48778E34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2ADE-A79C-4CEA-A19C-F3D5E4E5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AE1C-91EE-42BB-82D0-9B21C7EC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A5C2-2E07-443E-99C0-E5E0CB7A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D97C-54AD-4F87-82C3-331A48EF1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2CCA-FD82-4795-868D-8FEE8AC0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D46CC-E4FA-407E-AD76-D95BDCF0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58974-AD1A-422B-85FF-DC8A1995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62C9C-34EE-4A31-8544-05E152BB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AD5F-F863-44B6-AED4-39BCBC0A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FEFE-7551-4D70-8214-3FB3CFF7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294-64AE-403E-A229-7DDA6BCD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EFB58-4036-4DC8-A108-23C471AF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AB5C8-CAF2-421F-874A-660ADA7F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E9E0F-513E-4B3B-9631-18F7C289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77CC-130A-4C1F-9BBD-79789AA7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B2229-72AC-4CB3-9AD6-A9CE4F0C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4BE5D-0632-480B-8D64-FB4977CF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F581-4B73-4E2D-8DF6-B86A0930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9C53-568D-4D9D-A366-26890BFA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DB2-B3AA-443B-8DA5-060941D7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25A-5F09-427B-9C4F-27445EE9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B7A-5A66-441B-92F3-AB2843DA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652-81C2-499F-AF7E-CB8C8CC2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F36-DA19-4329-B68C-F798393E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1CBC-8B4C-476A-B912-ADB303FA9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1D8A-1021-4A5C-99F9-173666156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B4C5-A74E-4758-A59F-9A1235C75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 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roj promašaj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renje broja operacija ili koraka je opravdano kada je vreme izvršavanja neuporedivo veće od vremena potrebnog za pribavljanje podat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anas je u mnogim slučajevima obrn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aci se nalaze na disku (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sporiji pristup od operativne memor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oristi se keš mem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 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roj promašaj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vodi se hijerarhija keš mem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 brzinu algoritma najviše utiče koliko podataka je već u keš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dosled i način pristupa podacima je b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pr. da li se u matrici elementima pristupa redovima ili kolo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ri se broj promašaja, tj. koliko puta se mora ići po podatke koji nisu u keš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678204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fikasnost algoritma nije uvek tačno zavisna samo od dimenzije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pr. u slučaju sortiranja utiče i koliko je prethodno niz već uređ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oga se traži najbolji, najgori i prosečan slučaj efikasnosti algorit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 naći prvo pojavljivanje broj x u ni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bolji slučaj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jgori: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sek: (n+1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d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Zašto apsolutno vreme izvršavanje nije objektivna mera za utvrđivanje efikasnosti algorita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a je vremenska, a šta prostorna kompleksnost algorit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a je razlika između merenja broja operacija i broja kora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Kada ima smisla primeniti brojanje promašaja pogodaka u keš memorij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a je razlika između najbolje, prosečne i najgore efikasnosti algorit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О(n) нот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5370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Анализа ефикасности алгорит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појмовима везаним за анализирање ефикасности алготир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јам комплексности алгоритма. Анализа алгорит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познавање с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јмом комплексности алгоритма и начинима како се она утврђу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симптотска комплексност и О(n) нот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познавање са концептом асимптотске комплексноти и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(n)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т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О(n) нот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763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јам комплексности алгоритма. Анализа алгоритам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познавање с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јмом комплексности алгоритма и начинима како се она утврђу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algorit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upoređivanja dva algoritma koji obavljaju isti zadat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psolutno vreme nije objektivna mera upoređ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visi od brzine računara, jezika u kome je napisan algoritam, trenutnih okolnosti u kojima se izvršava dati program, i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rebna je objektivna mera za upoređi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oblem analize efikasnosti algoritama je nalaženje objektivne m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jam kompleks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emenska i prostorna kompleks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trebno vreme i pros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kom algoritmu da obavi zada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vde se daje fokus na vremensku kompleksn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skazuje se kao funkcija veličine problema koji se reš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ortiranje niza dimenzije N je funkcija koja zavisi o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noženje matrice dimenzije MxN je funkcija koja zavisi od parametara M i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 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roj opera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čini za utvrđivanje vremenske komplek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oper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kor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promašenih pogodaka u keš memor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Broj operacija koje treba da se izvrš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dabira se skup pogodnih operacija (npr. sabiranja, množenja, ubacivanja, poređenja, sl) i utvrđuje se koliko se tih operacija obavi bi algoritam uradio dati zadat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 -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Broj operacij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 nalaženje pozicije (indeksa) najvećeg broja u nizu celih broj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 max(int [] a, int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f (n &lt; 1) return -1; // no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t positionOfCurrentMa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or (int i = 1; i &lt; n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f (a[positionOfCurrentMax] &lt; a[i]) positionOfCurrentMax =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turn positionOfCurrentMa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Arial"/>
              </a:rPr>
              <a:t>Broj poređenja: n-1 za n&gt;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liza kompleksnosti - Broj korak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j koraka (instrukcija) koje treba da se izvrš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rak je jedinica koja je nezavisna od veličine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čuna se tako što se analizi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ko se koraka izvrši za svaku nared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oliko se svaka naredba izvršava p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 max(int [] a, int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f (n &lt; 1) return -1; // no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nt positionOfCurrentMa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or (int i = 1; i &lt; n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f (a[positionOfCurrentMax] &lt; a[i]) positionOfCurrentMax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turn positionOfCurrentMa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Broj koraka: 1+1+(n-1)*1 + 1 = n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12:47:00Z</dcterms:modified>
  <cp:revision>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