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F38D9-BBEC-40D1-BB17-4B87CDF72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A04C3-ADFD-47D7-A589-614416928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056B7-199F-4DB6-A010-50A06C573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702EE-02EB-48B7-BBBB-AE7D3971B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908EB-EA21-4414-9A1B-137561F60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D8ABE-CC8D-4628-ACD0-50A4B4A2F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9E2DC-C5AA-4C49-9901-B0B037B05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C1F16-A501-47B4-8867-02CE2E2EB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E8454-DD20-4B49-BAB2-0C9D16F9D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8B141-6D47-45AC-AD78-6BA7C232A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33EF0-B67E-478C-A327-3DB2F946F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9E7D5-BDF9-4393-80A9-1E8A4EF47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CEC41-7520-4C31-9511-FF976A970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62BF9-C84A-462F-A112-1370C57AF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613DC-7C70-4252-BD00-B9A431E56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B0AF7-2DAA-4513-97A5-5DDDAD8AC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7E3AB-435D-4CA8-B676-4A5073A4A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45FD58-FD8C-4072-A979-492D68FF8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7C4C59-1F3B-4CA2-A7D6-4CDBCB119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30DC7C-0494-480E-AB76-44D8FBE65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788A57-7388-4362-A193-F62F3DC0C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EF9DE6-7341-407B-8EBA-8EADDA3AC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01AA8-EFD3-4D71-83A6-420CFA0C4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9F9410-046D-4AFC-822A-D75DB48CC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5342B3-55F7-4B7C-8522-5A11E3323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E93F08-E35C-499E-AE9F-1AC09CA30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B5AC59-42EB-4138-8A6F-336867244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978C45-F314-4808-BAC4-733EFEB16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3192DA-F159-4CE4-A715-34040054E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31F308-8EEF-430F-B1BF-DB890747D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A9E7C-F972-4B53-A9FD-0AF2CF88E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793E4-D442-42B4-BC98-2038E8B83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278CF-49AD-4143-8845-7A6AB8A90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8BB4F-F764-4CE2-982A-DC92689FB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A18DB-A7DC-4302-9873-9CFDC11C2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AAECF-45AF-4B89-99DE-9433C43AC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FFEA3-573A-4025-A2B5-72BDEF6F9F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4" descr=""/>
          <p:cNvPicPr/>
          <p:nvPr/>
        </p:nvPicPr>
        <p:blipFill>
          <a:blip r:embed="rId2"/>
          <a:stretch/>
        </p:blipFill>
        <p:spPr>
          <a:xfrm>
            <a:off x="-304920" y="4680"/>
            <a:ext cx="9720360" cy="6872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2"/>
          <a:stretch/>
        </p:blipFill>
        <p:spPr>
          <a:xfrm>
            <a:off x="0" y="468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80899-E425-417D-9F44-F8D15ED79D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0D201-88B7-4B58-AE62-942ABFD5DF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"/>
          <p:cNvPicPr/>
          <p:nvPr/>
        </p:nvPicPr>
        <p:blipFill>
          <a:blip r:embed="rId2"/>
          <a:stretch/>
        </p:blipFill>
        <p:spPr>
          <a:xfrm>
            <a:off x="-304920" y="4680"/>
            <a:ext cx="9720360" cy="6872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Програмирање засновано на АТП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риступ програмирању заснован на апстрактним типовима и апстракцијама података се  је суштина објектно-оријентисаног програмирањ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Класично програмирање и језици не подржавају АТП и не подржавају све апстракције (нпр. генерализацију, тј. наслеђивање типов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Програмирање засновано на АТП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Развој програма преко АТП се одвија у следећим фаза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Дефинише (тј. специфицира) се скуп АТП који су погодни за проблем који се реша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Апликација (главни програм) се развија помоћу операција дефинисаних АТ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Дефинисани АТП се имплементирају преко других постојећих типова података (укључујући друге претходно развијене АТП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Програмирање засновано на АТП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редности коришћења АТП су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АТП се може формално третирати као алгеб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Развојем програма преко АТП се остварује принцип сакривања информац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остиже се модуларност што за последицу има олакшано организацију развоја и одржавање програ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могућава се поновно коришћење кода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(eng. reuse)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 програмима који користе исте АТ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Задац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Шта је код АТП видљиво а шта ниј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За шта се користи концепт интерфејса, а за шта концепт клас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Да ли интерфејс у потпуности дефинише семантику АТП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Који су основно корици у програмирању заснованом на АТП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Које су основне предности коришћења АТП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-360" y="-7668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Апстрактни типови подата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457200" y="1295280"/>
          <a:ext cx="8229600" cy="5222880"/>
        </p:xfrm>
        <a:graphic>
          <a:graphicData uri="http://schemas.openxmlformats.org/drawingml/2006/table">
            <a:tbl>
              <a:tblPr/>
              <a:tblGrid>
                <a:gridCol w="942840"/>
                <a:gridCol w="1255680"/>
                <a:gridCol w="3486240"/>
                <a:gridCol w="2544840"/>
              </a:tblGrid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адна недељ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ематска цели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Циљ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. Појам структура подата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Овладавање основним концептима структура подата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0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ематска јединиц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1. Врсте структура подата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Студент ће бити способан да препозна и репродукује основне врсте структура подата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0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.2. Апстрактни типови података (АТП)</a:t>
                      </a: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Студент ће бити способан да препозна и репродукује концепт апстрактног типа подата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0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3. </a:t>
                      </a: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еализација структуре података на рачунар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Студент ће бити способан да препозна и репродукује концепте реализације структура података на рачунару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-360" y="-7668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Апстрактни типови подата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304920" y="1676520"/>
          <a:ext cx="8534160" cy="1487520"/>
        </p:xfrm>
        <a:graphic>
          <a:graphicData uri="http://schemas.openxmlformats.org/drawingml/2006/table">
            <a:tbl>
              <a:tblPr/>
              <a:tblGrid>
                <a:gridCol w="990360"/>
                <a:gridCol w="2514600"/>
                <a:gridCol w="5029200"/>
              </a:tblGrid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Рад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недељ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Тематск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јединиц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ЦИЉ УЧЕЊ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.2. Апстрактни типови података (АТП)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Студент ће бити способан да препозна и репродукује концепт апстрактног типа подата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0" name="Text Box 18"/>
          <p:cNvSpPr/>
          <p:nvPr/>
        </p:nvSpPr>
        <p:spPr>
          <a:xfrm>
            <a:off x="304920" y="3790800"/>
            <a:ext cx="876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333399"/>
                </a:solidFill>
                <a:latin typeface="Arial"/>
              </a:rPr>
              <a:t>НАСТАВНИ МЕТОД: 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ПРЕДАВАЊ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Појам апстрактних типов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Апстрактни типови података (АТП) су кориснички типови података код којих је сакривен начин имплементаци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ефинисани су од стране програмера и представљају проширење скупа типова датог програмског јез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Видљива је само спецификација АТ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Раздвајање спецификације од имплементациј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ачин реализације интерне структуре података за представљање и памћење вредности датог АТП и алгоритама за специфициране операције АТП-а је сакриве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Могуће су различите реализације истог АТП!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Појам апстрактних типов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У модерним ОО језицима (нпр. Јава,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#)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спецификација се АТП даје преко концепта интерфеј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Интерфејс дефинише скуп операција које се могу позивати над вредностима датог тип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Операције се могу односити на особине (атрибуте) или представљати неко понашање објеката из реалног све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Појам апстрактних типов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ример спецификације АТП преко Јава интерфеј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nsolas"/>
              </a:rPr>
              <a:t>i</a:t>
            </a:r>
            <a:r>
              <a:rPr b="0" lang="sr-Latn-CS" sz="2800" spc="-1" strike="noStrike">
                <a:solidFill>
                  <a:srgbClr val="000000"/>
                </a:solidFill>
                <a:latin typeface="Consolas"/>
              </a:rPr>
              <a:t>nterface BankovniRacun </a:t>
            </a:r>
            <a:r>
              <a:rPr b="0" lang="en-GB" sz="2800" spc="-1" strike="noStrike">
                <a:solidFill>
                  <a:srgbClr val="000000"/>
                </a:solidFill>
                <a:latin typeface="Consolas"/>
              </a:rPr>
              <a:t>{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olas"/>
              </a:rPr>
              <a:t>double Stanje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olas"/>
              </a:rPr>
              <a:t>void UloziNovac(double iznos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olas"/>
              </a:rPr>
              <a:t>void PodigniNovac(double iznos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Интерфеј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Интерфејс дефинише само синтаксу тј. начин коришћења (позивања) операциј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Семантика (значење) није обухваћена интерфејсом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рава потпуна спецификација обухвата и синтаксу и семантик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пецификација семантике је посебан пробле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Клас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У модерним ОО језицима (Јава,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#)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се АТП реализује преко концепта клас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Класа дефинише скуп метода којима се имплементирају операције датог тип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Обухвата и дефинисање приватних чланова којима се памте вредности датог тип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Једна класа може имплементирати више типова (тј. интерфејс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Класе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ример реализације АТП преко Јава клас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nsolas"/>
              </a:rPr>
              <a:t>class BK implements </a:t>
            </a:r>
            <a:r>
              <a:rPr b="0" lang="sr-Latn-CS" sz="2000" spc="-1" strike="noStrike">
                <a:solidFill>
                  <a:srgbClr val="000000"/>
                </a:solidFill>
                <a:latin typeface="Consolas"/>
              </a:rPr>
              <a:t>BankovniRacun </a:t>
            </a:r>
            <a:r>
              <a:rPr b="0" lang="en-GB" sz="2000" spc="-1" strike="noStrike">
                <a:solidFill>
                  <a:srgbClr val="000000"/>
                </a:solidFill>
                <a:latin typeface="Consolas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nsolas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Consolas"/>
              </a:rPr>
              <a:t>private double _stanj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nsolas"/>
              </a:rPr>
              <a:t>double Stanje() {return _stanje}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nsolas"/>
              </a:rPr>
              <a:t>void UloziNovac(double iznos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nsolas"/>
              </a:rPr>
              <a:t>_stanje += izno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nsolas"/>
              </a:rPr>
              <a:t>void PodigniNovac(double iznos)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nsolas"/>
              </a:rPr>
              <a:t>_stanje -= izno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iniša Nešković</cp:lastModifiedBy>
  <dcterms:modified xsi:type="dcterms:W3CDTF">2010-04-13T00:23:47Z</dcterms:modified>
  <cp:revision>9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