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A0F6-D810-4637-B05D-C91C7C0F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977-549B-4E72-8EB3-FF9D991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FCD4-C60C-4891-B38A-883C66A9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0F4-E554-4234-82AB-4C24DDC9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060D-9FBA-4E70-B0EB-0C01695C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F06F-DCC0-4EEA-9625-9C4F6A15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081A-D9C1-4F6B-90A8-8752CFC3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9308-4348-4B00-986C-15CDDAF2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89BA-3CF3-4A21-A051-C62A0525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F905-9E4D-4290-81E5-5D583332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DFC1-FCFC-4A4B-B37F-836596E6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4AF-6089-4AC1-A245-AA4157EE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4ACB-FBAF-45D7-8FAA-3B27708A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387B-56F4-4980-91A4-BC12ED9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24B7-45EC-4342-988E-43E57FF3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2D7C-1E47-4570-A93E-55A84D8C7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7CAFE-21C5-41BD-8AAC-56E20BBF7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6BAC-668E-4D91-B055-3F9B3C89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69A5-675A-481E-84D6-59E16E7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DAE4-9817-4041-94F4-530440BD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98DA-7DAD-4C40-A91C-58FC49C6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2CCAF-C9BF-4E65-B1FB-54D710B9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C07-3311-4C52-9E41-F2A2B1C6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046D-DE02-4B2A-B847-FBA1BAA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4FB8-D533-4976-9AE1-66B6B5C7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FFC88-0EA0-47A4-A8F6-3E0CFFB9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F4869-0AF7-45EA-984F-CA1A2E1D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44923-C01D-4A5F-943A-D0BC2A85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B8E7-ED88-494A-8364-1B73117F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60719-7E83-469B-8080-4B086B6F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CAB-8E12-46DD-AA66-531B672B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803-8782-4A56-A294-711F8CCB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3D7-1BB9-416F-9DF3-ED8025FE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3AA5-2D65-4B33-B750-5D528EA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5AB-F986-4AC7-9040-2699BEF2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300-8371-4A26-927E-263AB3B3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65B9-72B5-4F68-B25A-8E6C08993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ACC-C843-49F7-8AC5-CCCE7CC9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37F7-A632-4E0A-9CF3-DAC2779C1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1143000"/>
          <a:ext cx="37404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143000"/>
                    <a:ext cx="37404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438280" y="3962520"/>
          <a:ext cx="3740400" cy="15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962520"/>
                    <a:ext cx="37404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666880" y="1676520"/>
          <a:ext cx="3738600" cy="15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76520"/>
                    <a:ext cx="37386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743200" y="3962520"/>
          <a:ext cx="3738600" cy="15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962520"/>
                    <a:ext cx="3738600" cy="15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1371600"/>
          <a:ext cx="374040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371600"/>
                    <a:ext cx="374040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590920" y="4343400"/>
          <a:ext cx="3706560" cy="14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343400"/>
                    <a:ext cx="370656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br>
              <a:rPr sz="3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1143000"/>
            <a:ext cx="87631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void quicksort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] a, int l, int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r &lt;= l) return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i = partition(a, l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sort(a, l, i-1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sort(a, i+1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int partition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[], int l, int r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int i = l-1, j = r;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 = a[r]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(;;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a[++i]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)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v &lt; a[--j]) if (j == l)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i &gt;= j) break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eni(a, i, j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meni(a, i, 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i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Приказ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лгоритама за сортирање методом спајања и брз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, разум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користи следе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горитме за сортирање: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пајањем и брз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rge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stup “podeli pa vladaj” (Divide-and-Conqu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eli niz na pola u dva podn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nizovi se sortiraju na isti nači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uziv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poj podnizove u sortiran n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mpleks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n log 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224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ublic static void MergeSort(int[] a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0, aArray.length -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private static void mergeSort(int[] aArray, int aLeft, int a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f (aRight &gt; aLe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nt middle = (aRight + aLeft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aLeft, midd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Sort(aArray, middle + 1, aR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merge(aArray, aLeft, middle + 1, aRigh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990720"/>
            <a:ext cx="8991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rivate static void merge(int[] aArray, int aLeft, int aMiddle, int aR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nt i, left_end, num_elements, tmp_po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num_elements = aRight - aLeft +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nt[] temp_array = new int[aArray.length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left_end = aMiddle -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mp_pos = aLef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while ((aLeft &lt;= left_end) &amp;&amp; (aMiddle &lt;= aRigh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if (aArray[aLeft] &lt;= aArray[aMiddle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Left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Left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Middle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Middle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12733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hile (aLeft &lt;= left_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Lef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Left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while (aMiddle &lt;= aR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emp_array[tmp_pos] = aArray[aMiddl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tmp_pos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Middle++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for (i = 0; i &lt; num_elements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Array[aRight] = temp_array[aRigh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Right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algori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deli pa vladaj” strategija sa sortiranjem u m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eli niza na dva del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 i D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 “pivot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kurzivno sortirati podnizove L i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66720" y="3556080"/>
          <a:ext cx="468180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6720" y="3556080"/>
                    <a:ext cx="468180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Quick S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ustracija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666880" y="1447920"/>
          <a:ext cx="3757680" cy="14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447920"/>
                    <a:ext cx="3757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Rectangle 3"/>
          <p:cNvGraphicFramePr/>
          <p:nvPr/>
        </p:nvGraphicFramePr>
        <p:xfrm>
          <a:off x="2666880" y="3886200"/>
          <a:ext cx="3740400" cy="15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886200"/>
                    <a:ext cx="374040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7T23:42:57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