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D7F0-03A6-4939-9F55-108EE1F1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E29E-4012-4C89-8789-270C41E7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90E8-8797-43A4-895A-513D7EB9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DDA4-3B07-4A10-A877-7BAA4CF3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6492-22CF-41EA-91BB-AE5DA02E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9072-D8C0-4E97-AEFD-C232AACD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C451-E98D-467F-962C-6FD54B7D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55B7-8E95-4C60-9BBD-9BEE8FE4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B08E-2EBD-4C59-AB6A-CEAC9CEE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A1EB-99A3-4E1F-BC7C-56DA3B3FA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FEF9-27AA-4F59-9147-E3D6FBD1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EB11-2A98-454C-AAD3-D4FC9779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B548-B31D-4378-993B-C98F1F48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CA8FB-E260-4758-9A45-A625652F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D7FF-B7DC-4CC3-A0E7-4058CB4E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B0D2-FABC-47B4-B6FA-C952A722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32EF-D235-4965-9821-996A805F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CFC59-F938-4E6F-A25B-F66A2B9B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DEF35-7F86-419A-B6A1-621285FB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A794A-F0D6-4B6F-973C-551CA3B3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E7DE5-6362-4D30-A3FE-F34A2C85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43B9F-1A7C-4388-8CE1-3B236F67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3CD4-BD66-4217-AC9E-09E54BB2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D91B3-3FCF-4C38-9389-EA3650C7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BB01A-FCF5-4A88-A67F-F29ACB83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F4C05-80BF-468C-AA60-00C679CD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ABC21-F7AC-45DE-B665-2B9EE28F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752CF-D08C-46CE-9F18-CBBBD3801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8A20D-A5F4-4139-8845-659E2F04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1AD3F-F7B0-4F7D-A84C-1274A65E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4278-348A-4E49-8A55-4F926A79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34EE-5A69-42AC-9A96-E71BF02A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924-0536-42B8-B30E-342B7FA6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18F4-A980-4F89-8A6F-C3F44E6B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D058-89C4-4CC0-BEA8-BABEF097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4640-9B78-4AEC-A70C-CA2BADF5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1043-2EB5-4ED5-954F-AD0C3C55B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54CC-499C-4428-96B2-E3229CDE8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7279-C13E-4A36-8F2E-E066DB319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ализација структуре података на рачуна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522288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 Појам структур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владавање основним концептима структур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Врсте структур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основне врсте структур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Апстрактни типови података (АТП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концепт апстрактног тип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3. 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Реализација структуре података на рачуна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концепте реализације структура података на рачун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ализација структуре података на рачуна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51920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3. Реализација структуре података на рачуна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концепте реализације структура података на рачун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ализација структуре података на рачуна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пште опер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ре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њe 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јaлз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j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нструкtori (nе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збацивaњ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купљaч сме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Убa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а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рет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аж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вaњ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билaзa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ализација структуре података на рачуна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пшти начини реализ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тичка реализ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з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ност: једностав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достатак: нерационално коришћење мемо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инамичка реализ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регнут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рук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ност: рационално коришћење мемо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достатак: сложе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дац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је су основне опште операције које се могу дефинисати над структурама подата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Шта је предност статичке реализације у односу на динамич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Шта је предност динамичке реализације у односу на статич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3T01:09:12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