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1413-FE39-4544-88AD-07EA391B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2173-C4ED-4F54-97C1-082EB264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E2C0-CDDF-4A32-ACBF-8C5A2CE0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B8B9-A009-4600-B972-52C77829D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81E4-C530-4280-9ABA-A733F488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35A7-E734-495E-820A-5E2E92E5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72CB4-8871-4325-9BCA-3F20E4EC8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DB4A-EB83-4BBB-85CC-FBB99B42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5BD1-8BBB-4F75-ABF0-DA035FBE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F055-9433-4109-A504-80F28EE0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2CB3-5369-46C8-9A12-20A54926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9D2E-2101-44E8-BAC6-B8CE7BF8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5DBD-6B3C-4F95-A66E-E12C620F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3AC12-1260-4CCB-9151-B79771B7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A5B26-8653-437B-A4C5-C02600C9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D276-45B5-4FFD-90EC-A22D4B87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6EA1-E76B-4A32-BB8A-311C8DC9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55A25-3F94-4386-9778-F51AE540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0FACE-C2DD-4A77-8975-8D61E95D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A7C90-DAE0-4420-84B7-66738046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E7428-67DB-4F6B-943D-690546F2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42D15-82AB-40CD-8AC0-138711BC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5C33-6EA5-4B2F-8402-101F622E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0AB11-6BE7-417B-8977-3EE2AB69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45BA2-AC11-4A80-8C0F-5DFBE591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FDA44-A043-4279-8C7A-D8727F8C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372D9-914E-42BB-8EFE-1562F3AD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1EA9A-1FA9-4A3E-B180-0CDB25E1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2999D-3927-47B1-8A03-ADFE6BCC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4C075-E7DB-4958-9599-7C8C0553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78DE-7DF8-4B29-9D59-EC171DCE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369E-A873-48DB-8B5D-21297851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A8DB-1493-48EE-97B4-CCE7DB4D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4297-54FD-4D39-929F-5F6333DC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8A31-837F-44E4-86B4-2FFEB26D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5547-916B-4BCC-9923-0E24981B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7F98-ECBE-49AB-B895-334972C88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F109-EDC7-4E84-A44D-13540C9C1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1A03-A5B2-42F2-BB7B-50D91F662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Агрег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Добија се агрегирањем в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е типова у један апстрактнији сл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ени ти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бјекти у структури не морају бити истог т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пр. низ знакова (стринг) и цео број у претходном прим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на клас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их програмских језика под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ва агрег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Генерализација и специјализ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вањем зајед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их особина и операција типови се апстрахују у генер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и апстрактнији ти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брнут поступак је специјализ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застопном применом генерализације и специјализације се добија хирерархија тип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перације и особине се насл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ју од над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дтип може имати додатне операције и особ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Генерализација и специјализа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Ос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е, Презиме, Датум рођ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Радник – подтип од Ос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рганизација, Стаж, Пл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тудент – подтип од Ос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Факултет, година студија, прос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тудент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ван буџе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– подтип од Студ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знос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колар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Rectangle 3"/>
          <p:cNvGraphicFramePr/>
          <p:nvPr/>
        </p:nvGraphicFramePr>
        <p:xfrm>
          <a:off x="6324480" y="1828800"/>
          <a:ext cx="2590920" cy="20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828800"/>
                    <a:ext cx="2590920" cy="20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адац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а је разлика између податка и информациј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е су основне врсте апстраховања подата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а су типови подата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 ли типови података могу бити без операциј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кви могу бити типови према начину имплементациј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кви могу бити типови према сложе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адац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Шта је разлика између агрегације и генерализациј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а ли вредности у неком сложеном типу морају бити истог тип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ко настаје хијерархија типова подата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а ли подтип може имати додатне опрерације у односу на свој надтип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пстракције подат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4781520"/>
        </p:xfrm>
        <a:graphic>
          <a:graphicData uri="http://schemas.openxmlformats.org/drawingml/2006/table">
            <a:tbl>
              <a:tblPr/>
              <a:tblGrid>
                <a:gridCol w="942840"/>
                <a:gridCol w="1114560"/>
                <a:gridCol w="3048120"/>
                <a:gridCol w="31240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 Апстракције у програмирањ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умевање појма апстракција,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владавање основним врстама апстракција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схватање појма типа података и структура података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. Апстракције. Процедуралне апстрак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хватање појма и значаја апстраховања и апстракција у програмирању. Разумевање и употреба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цедуралн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х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пстракциј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у програмирањ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1.2. Апстракције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хватање појма и значаја апстракција података, типова података и структура подата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пстракције подат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48752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2. Апстракције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хватање појма и значаја апстракција података, типова података и структура подата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Апстракције подат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датак је носилац информације. Информација је проту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ни подат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онкретна вредност податка се м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третирати као представа неког објекта из реалног систе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 - представља температ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е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ерић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3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009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п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редставља студ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рсте апстракција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дат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стоји три 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ко се подаци могу апстраховат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ласификациј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грегација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енерал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ви начине дефинишу три основне врсте апстракција подат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Класификациј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ви објекти истих особина се класификују у један т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пр.  Цео број (integer), Студ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место да се посматрају појединачне инстанце, довољно је посматрати тип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о се број концепата који се разматра значајно редукује, тј. умањује сложе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ип представља општи, генерички опис особина које свака инстанца 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-766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Класификациј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Тип податка се дефини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ш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е се као скуп објеката (вредности) и операција  над њ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Инт : З, {+, -, *, }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удент: С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{уписиСемстар, полозиИспит, …}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ажно је уочити да дефиниција обавезно укључује и опер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ипови података без операција немају много см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Типов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могу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осматрати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рема 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ну имплемент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рема с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Класификациј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Типови према 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ну имплемента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Физ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и типов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типови под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ни од стране 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нара (хардвер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пр:  инт, цх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Јез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и (виртуелни) типов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типови података који су под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ни од стране имплементационог јез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пр:  запис, н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пстрактни типови података (АТП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р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рење скупа типова имплементационог средств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пр: студент, рад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Класификациј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Типови према сл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рости (примитивни) тип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Вредност простог типа је недељ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пр: инт -&gt;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л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ни (структурни) тип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Добијају се агрегирањем в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других тип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Вредност је с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на, састоји се од других вред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пр: запис  -&gt;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е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ерић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3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009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Структурни типови се називају и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С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труктуре подат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2T23:12:07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