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2BE0-18C1-4E0F-9471-15306C03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CD7B-E001-4C0B-95F7-CDEE012D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830B-FA43-4D95-8A6D-46508C82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F0C1-53AD-467A-AFA6-2AC5A77D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35B3-3A26-4F04-9E12-09DFCF79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78C8-05C5-43B9-AF31-C871AA6B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955C-DDC1-472E-82FA-E34E5FEF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9E3A-E8E7-4B7B-8DA3-3C1CDC7B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E3A0-81FC-41A7-ACBD-313E9F83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4A36-7164-4267-B47D-0C95342F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FE2A-36FD-4E4E-8AC4-2BC80FF2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83DA-E744-4BE6-8253-D6436488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6524-C5F5-446B-87FA-DB1D5E02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B98C-77B9-4438-9D27-9EAA0907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A226-3700-40CC-A3A5-16B5D717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447E-3E03-41D6-903F-E7DF6119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F684-155D-4CBF-B4B9-4AAF352E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08525-8690-499A-A2EB-95E16590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3888A-77D7-4410-B30E-AA9DFDE79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0E8B3-B337-4A14-B950-A2855527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4CC6C-642B-4A27-BD28-FA96B5BD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125D8-5714-469E-93C2-8FF190DF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5A8D-923F-40AC-9D4B-22F4F816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F9BA4-48A4-4BEB-B28D-986BC928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6EE18-B7AA-4F02-AAA2-590E554E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66033-5780-49B5-998F-FCAF852C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79EEE-E3C6-4465-9EB3-8C354DB0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43489-B769-45BB-81E0-1DAAEA5E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94495-5D73-4D8B-AD06-9566ED90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1F172-C070-47FC-B0F6-46B8F879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392F-B949-42E3-A5DC-9F0676D8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3954-60FF-4D59-8A61-8E731689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C5BD-B160-4BEF-9E9D-E072FEDB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4639-789C-4F75-BE01-3B1E0E94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8A05-1735-45BB-BC53-E25E326D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EC50-0F71-4D9F-B69B-47F809CF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F5CD-C391-447E-9AC0-D810EB7E5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6F25-7D13-4DA7-BE46-E1AFB93E8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FE2A-4A08-4A47-B01C-E2E171C65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inarno pretraž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retRek(int [] A, int k, int dg, int gg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 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gg &lt; d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-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/ nije nad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dg+ ((gg - dg) / 2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A[s] &gt;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retRek(A, k, dg, s-1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(A[s] &lt;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inPretRek(A, value, s+1, gg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/ nad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inarno pretraž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retIter(int [] A, int k, 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 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 dg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 gg = N-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gg &lt; d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dg+ ((gg - dg) / 2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A[s] &gt; 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g = s-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if (A[s] &lt; 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g= s+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/ nadj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-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/ nije nadj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inarno pretraž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lgoritam u svakoj iteraciji deli niz na dva jednaka d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zastopno delenje je log fun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kasnost binarnog pretr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ž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jgori slučaj O(log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sečni  O(log(N) 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облем претраживања и основни терми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499428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2982960"/>
                <a:gridCol w="304812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Претраживање линеарних струк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начинима претраживања линеарних структу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1. Проблем претраживања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. O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новни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лгорит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е упознати са проблемом претраживања и научити основне алгоритме за претраживање линераних структура: секвенцијално и бинарно претражив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2.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предни алгорит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удент ће научити неке напредне алгоритме за претраживање линераних структура: интерполационо и индекс-секвенцијално претражив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облем претраживања и основни терми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76364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блем претраживања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 O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новни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лгорит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се упознати са проблемом претраживања и научити основне алгоритме за претраживање линераних структура: секвенцијално и бинарно претражив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облем претражива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наћи елемент у некој структури података на основу његовог кљу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и елементи обично имају неки атрибут чија је вредност јединствена. Овај атрибут се назива кључ или идентифик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ло чест проблем у прак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већини случајева је то најчешћа опера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лгоритам претраживања доста зависи од начина организације елемената унутар струк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ло често се одређена структура података и бира због погодности претраживањ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ekvencijalno pretraž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dnostavan algor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rede se elementi redom počev od početka pa do kraja struk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menljiv i u slučaju realizacije preko niza i li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 slučaju niza se prelazi na sledeći element povećavanjem indek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 slučaju liste, prelazak se ostvaruje preko pokazivača na sledeći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ekvencijalno pretraž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ekvencijalno pretraživanje ni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t(int [] A, int k, 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or (int i=0; i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 N; i++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A[i] == k) return 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 -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/ nije nadj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ikasnost s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kvencijalno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pretraživanj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fikasnost pretraž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jbol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kada je element na 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k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jgo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da je element na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raj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sečn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n+1)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 =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*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3*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… n*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ovatn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su iste, tj. jednake 1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*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3*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… n*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n+1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ekvencijalno pretraž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boljšanja algorit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ređivanje niza prema verovatnoći pretraživ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arijante algorit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etoda transpozi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bacivanje na početak elementa koji je pretraž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etoda zam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amena elementa koji je pretražen sa prethodnikom, tj. pomeranje za 1 mesto unap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etoda transpozicije daje bolje rezul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li u slučaju niza zahteva pomeranje svih elemenata niza – O(n) efikas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Binarno pretraživ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menljiv samo u slučaju sortiranih niz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deja algorit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spitati element koji se nalazi na sredini i na osnovu toga odrediti deo niza koji treba dalje pretraži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lje pretraživanje polovine niza se pretražuje na isti način rekurziv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3T20:28:48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