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AE6-86FE-4038-AA92-6510E3C4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639-59FA-414D-BB72-4FBBD87D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03D-D762-4F76-B85D-45B2A871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F0A-7B8C-47AD-A9E6-C2133C20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D9EF-0BC5-49B2-B9BD-308AAED1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0709-A357-4418-8781-4B37C6C6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27C7-2552-4C14-BB95-9F3CD50C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5027-9489-4020-8CF8-D2DA4D1A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B561-F560-44D5-8797-DF847983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F9E9-5A79-4409-8DD0-957035BD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C014-CEFE-416F-97D7-EDFD7327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7D2-E04B-48CD-A4B1-3AFB9BC1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251F-2F13-4AA1-BEAE-C22B20C5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A9AE-816D-4594-BDF3-7E65ACF5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0A1D-8B44-4C0E-A460-5BB9E3D7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7B1E-1D18-4A8D-8E40-306399B3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179F-E856-4E1D-A5AE-6ACCBF93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9CB00-3A4C-48F4-ACDB-45D92A62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3652-9032-4575-86A4-094BC5C8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77F4E-459D-4504-BCBA-E956662C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2A30-B1A5-426D-BD66-E444FBA0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E4C5A-B66C-4055-B5E4-1F7B3873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1AE-0C93-4DBA-8DDA-CA0010FD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22C12-B84B-4BBE-9B7F-1AE9A03C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DCA6A-9425-4F9F-977C-5558318D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B642D-843B-4BEA-B6B0-9C6119F2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51723-6CBB-4F7F-8A5F-2544EB46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CA974-89F5-4970-B54A-58619BD4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4014A-10AF-4C41-BACE-FCE51AF5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E2817-2B01-4087-BF7F-33260271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702-B0CE-4DB0-97BB-C1293E25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671D-2846-4228-BB82-A73CD0A4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262-D224-4599-88E7-2E030A4B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B5D-C7FD-4045-980C-5D253B38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C93-938E-4631-BE70-68638C8C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D02-B414-47D7-B792-A539D5BC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9468-B1C7-493C-8C31-3311C9235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EE69-7FC7-4A50-83D1-BAB331490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73E4-F548-46DD-8479-805F46941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tatic void shell(int[] a, int l, int 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 in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 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 1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&lt;= (r-l)/9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 3*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1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 ( 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&gt; 0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/= 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 (int i = l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 i &lt;= r; i++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 int j = i;  int v = a[i]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hile (j &gt;= l+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&amp;&amp; v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[j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{ a[j] = a[j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]; j -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 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[j] = v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сортир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. Приказ и анализа ефикасности различитих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репродукује начине анализе ефикасности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2. Алгоритми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следеће алгоритме за сортирање: метода селекције, метода сортирања убацивањем, мехурасти сорт, брзи сорт, сортирање спај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2. Приказ</a:t>
                      </a: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лгоритама за сортирање методом уметањем и Шеловом метод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разуме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користи следеће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лгоритме за сортирање: метода сортирањ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ањем и Шелова мет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sertion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snovan na tehnici koja se koristi u igrama sa kart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lazak kroz nesortiran deo i ubacivanje sledećeg elementa u sortiran 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nostavan za implementa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ikasan na malom broju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pleksnost O(n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4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ređenja i 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4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meranja u prosek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 duplo više u najgorem sluč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sertion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05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1905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38480" y="1905120"/>
            <a:ext cx="2133720" cy="533160"/>
            <a:chOff x="4038480" y="1905120"/>
            <a:chExt cx="2133720" cy="533160"/>
          </a:xfrm>
        </p:grpSpPr>
        <p:sp>
          <p:nvSpPr>
            <p:cNvPr id="137" name=""/>
            <p:cNvSpPr/>
            <p:nvPr/>
          </p:nvSpPr>
          <p:spPr>
            <a:xfrm>
              <a:off x="403848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05520" y="190512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971800" y="2666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6668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2666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572000" y="2666880"/>
            <a:ext cx="1600200" cy="533160"/>
            <a:chOff x="4572000" y="2666880"/>
            <a:chExt cx="1600200" cy="533160"/>
          </a:xfrm>
        </p:grpSpPr>
        <p:sp>
          <p:nvSpPr>
            <p:cNvPr id="145" name=""/>
            <p:cNvSpPr/>
            <p:nvPr/>
          </p:nvSpPr>
          <p:spPr>
            <a:xfrm>
              <a:off x="4572000" y="266688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05520" y="266688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8680" y="266688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03848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3429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429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3868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71800" y="4191120"/>
            <a:ext cx="1600200" cy="533160"/>
            <a:chOff x="2971800" y="4191120"/>
            <a:chExt cx="1600200" cy="533160"/>
          </a:xfrm>
        </p:grpSpPr>
        <p:sp>
          <p:nvSpPr>
            <p:cNvPr id="155" name=""/>
            <p:cNvSpPr/>
            <p:nvPr/>
          </p:nvSpPr>
          <p:spPr>
            <a:xfrm>
              <a:off x="2971800" y="4191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05320" y="419112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8480" y="4191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572000" y="4191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05520" y="4191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4191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69 L -0.01493 0.02893 C -0.01823 0.03541 -0.02292 0.03958 -0.02778 0.03958 C -0.03368 0.03958 -0.03819 0.03541 -0.04149 0.02893 L -0.05625 0.00069 E">
                                      <p:cBhvr>
                                        <p:cTn id="2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07 L 0.01684 -0.02847 C 0.02014 -0.03518 0.02517 -0.03865 0.03003 -0.03865 C 0.03593 -0.03865 0.04045 -0.03518 0.04392 -0.02847 L 0.06007 0.0007 E">
                                      <p:cBhvr>
                                        <p:cTn id="31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5 0.00116 L -0.0151 0.02986 C -0.01857 0.03634 -0.02343 0.04004 -0.02847 0.04004 C -0.03437 0.04004 -0.03906 0.03634 -0.04253 0.02986 L -0.05816 0.00116 E">
                                      <p:cBhvr>
                                        <p:cTn id="5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69 L 0.01563 -0.02824 C 0.01892 -0.03472 0.02413 -0.0382 0.02917 -0.0382 C 0.0349 -0.0382 0.03976 -0.03472 0.04306 -0.02824 L 0.05938 0.00069 E">
                                      <p:cBhvr>
                                        <p:cTn id="57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65 1.11111E-006 L -0.02812 0.04514 C -0.03507 0.05532 -0.04479 0.06111 -0.05521 0.06111 C -0.06701 0.06111 -0.07639 0.05532 -0.08316 0.04514 L -0.11458 1.11111E-006 E">
                                      <p:cBhvr>
                                        <p:cTn id="9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0.01597 -0.02894 C 0.01927 -0.03542 0.0243 -0.03889 0.02969 -0.03889 C 0.03559 -0.03889 0.04045 -0.03542 0.04375 -0.02894 L 0.05989 1.11111E-006 E">
                                      <p:cBhvr>
                                        <p:cTn id="9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1598 -0.02894 C 0.01927 -0.03542 0.02431 -0.03889 0.02969 -0.03889 C 0.03559 -0.03889 0.04045 -0.03542 0.04375 -0.02894 L 0.0599 1.11111E-006 E">
                                      <p:cBhvr>
                                        <p:cTn id="9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1.11022E-016 L -0.02934 0.03681 C -0.03611 0.04514 -0.04635 0.05 -0.05694 0.05 C -0.06892 0.05 -0.07864 0.04514 -0.08541 0.03681 L -0.1177 1.11022E-016 E">
                                      <p:cBhvr>
                                        <p:cTn id="12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1.11022E-016 L 0.01181 -0.02894 C 0.0151 -0.03542 0.02031 -0.03889 0.02552 -0.03889 C 0.0316 -0.03889 0.03663 -0.03542 0.03993 -0.02894 L 0.05625 1.11022E-016 E">
                                      <p:cBhvr>
                                        <p:cTn id="125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1.11022E-016 L 0.01336 -0.02894 C 0.01666 -0.03542 0.02187 -0.03889 0.02708 -0.03889 C 0.03316 -0.03889 0.03819 -0.03542 0.04149 -0.02894 L 0.05781 1.11022E-016 E">
                                      <p:cBhvr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1143000"/>
            <a:ext cx="78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void InsertionSort(int[]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 i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,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j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,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d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for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( i = 1; i &lt;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.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l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ength; i++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dex =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j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while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( (j &gt; 0) &amp;&amp; (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j-1] &gt; index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j] =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j-1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j--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j] = ind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toda umetanja (insertion sort) je spor jer se zamene odnose samo elem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te koji su fizički suse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je najmanji element na kraju niza, potrebno je n koraka da dodje na poče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elova metoda je proširenje metode umetanja koja dozvoljava da se udaljeni elementi zamenju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deja je da svi elementi koji su međusobno k-udaljeni budu sorti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eo niz se sastoji od k podnizova koji su sortirani, ali su međusobno izmeš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Rectangle 3"/>
          <p:cNvGraphicFramePr/>
          <p:nvPr/>
        </p:nvGraphicFramePr>
        <p:xfrm>
          <a:off x="1371600" y="1447920"/>
          <a:ext cx="5334120" cy="19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7920"/>
                    <a:ext cx="533412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Rectangle 3"/>
          <p:cNvGraphicFramePr/>
          <p:nvPr/>
        </p:nvGraphicFramePr>
        <p:xfrm>
          <a:off x="1447920" y="3809880"/>
          <a:ext cx="5333760" cy="193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809880"/>
                    <a:ext cx="5333760" cy="19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lova meto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ko je K veliko, tada ce elementi sa manje koraka brže biti pomerani ka svojim pravim pozic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zastopno sortiranje umetanjem sa smanjivanjem K do 1 je suština Šelove metode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je kako odrediti 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 inkremente njegovog  smanjenja tj. kako generisati sekvencu rastoja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bro je generisana sekvenca rastojanja bude logaritamska, tj. da od k do 1 bude logaritamski broj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ova metod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 jednostavna za implementaciju, a daje dobre rezultate i za velike niz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7T22:25:51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