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F28C-CE39-4C1F-8C6E-47410F46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A78F-AE3B-4900-B4F4-EC960A18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957-97C1-4605-8547-A5629E03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1306-A1AD-46A4-A23B-53667D29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DBE1-2E25-46B2-BF6A-6FCE29BD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BFA1-CE5F-44FF-BAD6-2691585A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76BE-0250-4018-A876-A6BF9CEA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F83E-643A-494F-8976-D414332A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BEE2-AB7D-4FC8-B41E-1A25666AD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EB8E-44DF-48A8-A1DB-58FBD1D8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F9E7-2D8A-41AD-885E-276FD85B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658-1984-4FB3-9A43-8D6E2990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7951-15B0-41D7-B53D-8A018313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21D7-FDAE-4C77-B982-FE54E9F9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0AB9-8136-4E37-A8B9-9BA0DDD8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2D7D-AE9A-4CD0-965C-1C7D1365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1773-2877-482E-B01A-27BD52A3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CF437-21A7-428E-BEB6-57552006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2522B-8EAE-472D-8C52-0FE7CB9D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B67DA-697A-43C5-AAC5-34625E2A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DCF3F-5DD0-4C7E-BEB5-9097F3DA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1469A-2B1A-4357-8581-E65EAD05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99F8-9948-4C36-BE6F-E06AA4440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BA4DD-9A38-47A6-936A-6D5A31E2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EC289-E17C-4258-A1E8-F515F1CF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79E26-B7C3-4683-A8FE-73C23184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B4F61-1D8D-48C1-8A3D-AA4D683C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D48A-90FE-4E75-B5B6-9B210A45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2D26D-9106-4293-B433-4D9F9C9CC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24E2B-D536-4026-A500-24D3733F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5AE6-82F9-4FA8-9827-AD213745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8EF3-C448-4846-8B66-61AE6001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253-ECC7-4BE7-9CB7-F9AE3B7A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055-4B06-4089-9574-E9601274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8D47-5675-485D-AB41-76F1B88A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6014-8984-444C-A744-B5F96D05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8503-B51E-4A67-AAA0-3E9BC87D5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B6411-0478-4BC5-A607-C22F6F2F3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7B2F-A849-41BF-BFF5-6DC08BB34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vostruki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ed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queu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im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Rectangle 3"/>
          <p:cNvGraphicFramePr/>
          <p:nvPr/>
        </p:nvGraphicFramePr>
        <p:xfrm>
          <a:off x="2971800" y="1600200"/>
          <a:ext cx="3341520" cy="442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600200"/>
                    <a:ext cx="334152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ed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queu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novne op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bac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a kraj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end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baci na 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četak (prep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baci sa kraja (delete l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bacisa početka (delete fir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tale op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elem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rati Pr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rati Zadn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ista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list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inerana struktura bez ograničenja na mesto ubacivanja ili izbac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p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baciva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baci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elem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isanje svih elem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d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 čemu se međusobno razlikuju različite vrste linearnih struktur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da će biti izbačen element koji je prvi ubačen u sta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Šta je razlika između reda i dvostrukog r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так, Ред и ли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251000"/>
          <a:ext cx="8686800" cy="4311720"/>
        </p:xfrm>
        <a:graphic>
          <a:graphicData uri="http://schemas.openxmlformats.org/drawingml/2006/table">
            <a:tbl>
              <a:tblPr/>
              <a:tblGrid>
                <a:gridCol w="995400"/>
                <a:gridCol w="1325520"/>
                <a:gridCol w="3317760"/>
                <a:gridCol w="30481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Линеарне структу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основним теоријским концептима линеарних структура подата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. Стак, Ред и ли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репродукује основне концепте линеарних структура и структуре стак, ред и ли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Дефиниција преко АТ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репродукује начине дефинисања основних линеарних структура преко АТ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к, Ред и ли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3.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. Стак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,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Ред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ли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репродукује основне концепте линеарних структура и структуре стак, ред и лис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инеарне структу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ементи у структури су линерано уређени, тј. однос елемената у структури је 1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м елементу претходи тачно један елемент, осим једном посебном елементу који се назива пр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м елементу следи тачно један елемент, осим једном посебном елементу који се назива последњ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Rectangle 3"/>
          <p:cNvGraphicFramePr/>
          <p:nvPr/>
        </p:nvGraphicFramePr>
        <p:xfrm>
          <a:off x="1219320" y="2743200"/>
          <a:ext cx="655308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743200"/>
                    <a:ext cx="655308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рсте линеарних струк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ликују се по месту (локацији) где се врши убацивање и избацивање елемен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к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. sta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баци и избаци са истог кр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д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. que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баци на једном, избаци са другог кр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воструки ред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. double queue - Deq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баци избаци само на крајев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ста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g. 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баци/избаци било 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ak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stack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IFO struktura (Last In First 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er: Držač za Pez bom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505320" y="2705040"/>
            <a:ext cx="1831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ak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stack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novne op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bacivanje (Pu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bacivanje (P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tale op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rati vrh (Pe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azan stak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n sta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elem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3809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ed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queu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IFO struktura (First In First O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imer: Red u prodav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23050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ed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ffffff"/>
                </a:solidFill>
                <a:latin typeface="Arial"/>
              </a:rPr>
              <a:t>queue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novne op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bacivanje (Enque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bacivanje (Deque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tale oper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j elem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azan r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n r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3T01:20:05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