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8DAF-F589-491B-AE9D-CD84D89A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CDB-D397-49D7-960D-62350AE2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2EAD-E004-46FA-A985-9C231312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7202-0951-4A87-94E1-A050360D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B40A-69A8-4E1F-BC79-F8BD7EA9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5744-E2E3-4B2B-9BA0-E54786FD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5D9C8-0B11-4414-B343-CAAEC739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EE6C-E5E8-46D8-B89C-915B92F2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11EE-3C05-4346-A661-2762AE67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82E-E7DB-41F4-AB7C-B75E6C34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B3DA-F3A4-4216-8BFD-12A2E142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DBA-B0B4-41C6-8A8E-6EB148DE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DC31-5C3A-4451-ABBD-E36E21A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52C5-B6DF-4CB5-8707-59E0308C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55D9-14CD-44E9-92A8-A19536DE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C373-9613-4C0E-B12F-5D30C178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65E7-AC54-4843-8005-F221DAE0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C221-B877-4FA6-A0EB-1F37A792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A94A-368C-45F8-9468-B1E3E73E2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EF54-8714-4928-B227-696EE885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ED971-F93C-4A13-AB43-207ED426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7F8E-08B0-4C4D-A927-402154B0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143-2F28-4601-88BC-BF0C8F31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C16E5-B36E-46EA-859B-12B6150B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58282-F823-49F6-B601-71BB4DB1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3A64E-B512-440E-B9C2-02950AB3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2E3F0-044A-4366-B387-377497EB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C384E-4940-41B1-887A-989FD93F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C744F-05FC-4E25-9104-1140EECA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C2EAA-2F4D-4715-BBAC-4A4D619A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166-CF3F-48FC-B2B5-BC7C0F8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AA1-35F3-4C9A-B282-7FEC76A4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C6B4-CED6-4B14-AB93-00BDC8C4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00C-5373-46EE-8D7E-83DFB227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0C0-959F-4D11-8DEB-30F9FFB6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F06-1BCA-4D9B-87A8-D210ED4C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269B-92A7-4CFC-BA62-85672F360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84C4-AC95-47C0-9AA4-23F71F95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5B48-1F9E-43EE-B157-708EC46C3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плементација преко динамичких стру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251000"/>
          <a:ext cx="8686800" cy="4311720"/>
        </p:xfrm>
        <a:graphic>
          <a:graphicData uri="http://schemas.openxmlformats.org/drawingml/2006/table">
            <a:tbl>
              <a:tblPr/>
              <a:tblGrid>
                <a:gridCol w="995400"/>
                <a:gridCol w="1325520"/>
                <a:gridCol w="331776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Линеарне стру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теоријским концептима линеарних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Имплементација преко н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низ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Имплементација преко динамичк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других динамичк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плементација преко динамичких стру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Имплементација преко динамичк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других динамичк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namička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2666880"/>
            <a:ext cx="977760" cy="533520"/>
            <a:chOff x="2286000" y="2666880"/>
            <a:chExt cx="977760" cy="533520"/>
          </a:xfrm>
        </p:grpSpPr>
        <p:sp>
          <p:nvSpPr>
            <p:cNvPr id="134" name=""/>
            <p:cNvSpPr/>
            <p:nvPr/>
          </p:nvSpPr>
          <p:spPr>
            <a:xfrm>
              <a:off x="22860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6536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276720" y="2666880"/>
            <a:ext cx="1523880" cy="533520"/>
            <a:chOff x="3276720" y="2666880"/>
            <a:chExt cx="1523880" cy="533520"/>
          </a:xfrm>
        </p:grpSpPr>
        <p:grpSp>
          <p:nvGrpSpPr>
            <p:cNvPr id="137" name=""/>
            <p:cNvGrpSpPr/>
            <p:nvPr/>
          </p:nvGrpSpPr>
          <p:grpSpPr>
            <a:xfrm>
              <a:off x="3276720" y="2666880"/>
              <a:ext cx="1066680" cy="533520"/>
              <a:chOff x="3276720" y="2666880"/>
              <a:chExt cx="1066680" cy="533520"/>
            </a:xfrm>
          </p:grpSpPr>
          <p:sp>
            <p:nvSpPr>
              <p:cNvPr id="138" name=""/>
              <p:cNvSpPr/>
              <p:nvPr/>
            </p:nvSpPr>
            <p:spPr>
              <a:xfrm>
                <a:off x="3276720" y="26668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9880" y="26668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10220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4800600" y="2666880"/>
            <a:ext cx="1523880" cy="533520"/>
            <a:chOff x="4800600" y="2666880"/>
            <a:chExt cx="1523880" cy="533520"/>
          </a:xfrm>
        </p:grpSpPr>
        <p:grpSp>
          <p:nvGrpSpPr>
            <p:cNvPr id="142" name=""/>
            <p:cNvGrpSpPr/>
            <p:nvPr/>
          </p:nvGrpSpPr>
          <p:grpSpPr>
            <a:xfrm>
              <a:off x="4800600" y="2666880"/>
              <a:ext cx="1066680" cy="533520"/>
              <a:chOff x="4800600" y="2666880"/>
              <a:chExt cx="1066680" cy="533520"/>
            </a:xfrm>
          </p:grpSpPr>
          <p:sp>
            <p:nvSpPr>
              <p:cNvPr id="143" name=""/>
              <p:cNvSpPr/>
              <p:nvPr/>
            </p:nvSpPr>
            <p:spPr>
              <a:xfrm>
                <a:off x="4800600" y="26668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334120" y="26668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562608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324480" y="2666880"/>
            <a:ext cx="1447920" cy="933480"/>
            <a:chOff x="6324480" y="2666880"/>
            <a:chExt cx="1447920" cy="933480"/>
          </a:xfrm>
        </p:grpSpPr>
        <p:sp>
          <p:nvSpPr>
            <p:cNvPr id="147" name=""/>
            <p:cNvSpPr/>
            <p:nvPr/>
          </p:nvSpPr>
          <p:spPr>
            <a:xfrm>
              <a:off x="632448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124760" y="2933640"/>
              <a:ext cx="466560" cy="533520"/>
              <a:chOff x="7124760" y="2933640"/>
              <a:chExt cx="466560" cy="533520"/>
            </a:xfrm>
          </p:grpSpPr>
          <p:sp>
            <p:nvSpPr>
              <p:cNvPr id="150" name=""/>
              <p:cNvSpPr/>
              <p:nvPr/>
            </p:nvSpPr>
            <p:spPr>
              <a:xfrm>
                <a:off x="7124760" y="2933640"/>
                <a:ext cx="46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91320" y="2933640"/>
                <a:ext cx="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391520" y="3505320"/>
              <a:ext cx="380880" cy="95040"/>
              <a:chOff x="7391520" y="3505320"/>
              <a:chExt cx="380880" cy="95040"/>
            </a:xfrm>
          </p:grpSpPr>
          <p:sp>
            <p:nvSpPr>
              <p:cNvPr id="153" name=""/>
              <p:cNvSpPr/>
              <p:nvPr/>
            </p:nvSpPr>
            <p:spPr>
              <a:xfrm>
                <a:off x="7467480" y="3552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543800" y="360036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1520" y="35053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ac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22840" y="2666880"/>
            <a:ext cx="3949560" cy="857160"/>
            <a:chOff x="3822840" y="2666880"/>
            <a:chExt cx="3949560" cy="857160"/>
          </a:xfrm>
        </p:grpSpPr>
        <p:grpSp>
          <p:nvGrpSpPr>
            <p:cNvPr id="159" name=""/>
            <p:cNvGrpSpPr/>
            <p:nvPr/>
          </p:nvGrpSpPr>
          <p:grpSpPr>
            <a:xfrm>
              <a:off x="3822840" y="2666880"/>
              <a:ext cx="977760" cy="533520"/>
              <a:chOff x="3822840" y="2666880"/>
              <a:chExt cx="977760" cy="533520"/>
            </a:xfrm>
          </p:grpSpPr>
          <p:sp>
            <p:nvSpPr>
              <p:cNvPr id="160" name=""/>
              <p:cNvSpPr/>
              <p:nvPr/>
            </p:nvSpPr>
            <p:spPr>
              <a:xfrm>
                <a:off x="3822840" y="26668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02200" y="293364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800600" y="2666880"/>
              <a:ext cx="1523880" cy="533520"/>
              <a:chOff x="4800600" y="2666880"/>
              <a:chExt cx="1523880" cy="533520"/>
            </a:xfrm>
          </p:grpSpPr>
          <p:grpSp>
            <p:nvGrpSpPr>
              <p:cNvPr id="163" name=""/>
              <p:cNvGrpSpPr/>
              <p:nvPr/>
            </p:nvGrpSpPr>
            <p:grpSpPr>
              <a:xfrm>
                <a:off x="4800600" y="2666880"/>
                <a:ext cx="1066680" cy="533520"/>
                <a:chOff x="4800600" y="2666880"/>
                <a:chExt cx="1066680" cy="5335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4800600" y="266688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334120" y="266688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5626080" y="293364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2666880"/>
              <a:ext cx="1447920" cy="857160"/>
              <a:chOff x="6324480" y="2666880"/>
              <a:chExt cx="1447920" cy="85716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7124760" y="2933640"/>
                <a:ext cx="647640" cy="590400"/>
                <a:chOff x="7124760" y="2933640"/>
                <a:chExt cx="647640" cy="5904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7124760" y="2933640"/>
                  <a:ext cx="466560" cy="419040"/>
                  <a:chOff x="7124760" y="2933640"/>
                  <a:chExt cx="466560" cy="419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7124760" y="2933640"/>
                    <a:ext cx="46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7591320" y="2933640"/>
                    <a:ext cx="0" cy="419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391520" y="3429000"/>
                  <a:ext cx="380880" cy="95040"/>
                  <a:chOff x="7391520" y="3429000"/>
                  <a:chExt cx="380880" cy="950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7467480" y="3476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543800" y="352404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7391520" y="342900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" name=""/>
              <p:cNvGrpSpPr/>
              <p:nvPr/>
            </p:nvGrpSpPr>
            <p:grpSpPr>
              <a:xfrm>
                <a:off x="6324480" y="2666880"/>
                <a:ext cx="1067040" cy="533520"/>
                <a:chOff x="6324480" y="2666880"/>
                <a:chExt cx="1067040" cy="53352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6858000" y="266688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324480" y="266688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9" name=""/>
          <p:cNvGrpSpPr/>
          <p:nvPr/>
        </p:nvGrpSpPr>
        <p:grpSpPr>
          <a:xfrm>
            <a:off x="2362320" y="4548240"/>
            <a:ext cx="5486400" cy="856440"/>
            <a:chOff x="2362320" y="4548240"/>
            <a:chExt cx="5486400" cy="856440"/>
          </a:xfrm>
        </p:grpSpPr>
        <p:grpSp>
          <p:nvGrpSpPr>
            <p:cNvPr id="180" name=""/>
            <p:cNvGrpSpPr/>
            <p:nvPr/>
          </p:nvGrpSpPr>
          <p:grpSpPr>
            <a:xfrm>
              <a:off x="2362320" y="4552920"/>
              <a:ext cx="977760" cy="533520"/>
              <a:chOff x="2362320" y="4552920"/>
              <a:chExt cx="977760" cy="533520"/>
            </a:xfrm>
          </p:grpSpPr>
          <p:sp>
            <p:nvSpPr>
              <p:cNvPr id="181" name=""/>
              <p:cNvSpPr/>
              <p:nvPr/>
            </p:nvSpPr>
            <p:spPr>
              <a:xfrm>
                <a:off x="2362320" y="455292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641680" y="481968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352680" y="4552920"/>
              <a:ext cx="1523880" cy="533520"/>
              <a:chOff x="3352680" y="4552920"/>
              <a:chExt cx="1523880" cy="5335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3352680" y="4552920"/>
                <a:ext cx="1066680" cy="533520"/>
                <a:chOff x="3352680" y="4552920"/>
                <a:chExt cx="1066680" cy="53352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352680" y="455292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885840" y="455292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4178160" y="481968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876920" y="4552920"/>
              <a:ext cx="1523880" cy="533520"/>
              <a:chOff x="4876920" y="4552920"/>
              <a:chExt cx="1523880" cy="5335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876920" y="4552920"/>
                <a:ext cx="1066680" cy="533520"/>
                <a:chOff x="4876920" y="4552920"/>
                <a:chExt cx="1066680" cy="533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876920" y="455292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410440" y="455292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5702400" y="481968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400800" y="4548240"/>
              <a:ext cx="1447920" cy="856440"/>
              <a:chOff x="6400800" y="4548240"/>
              <a:chExt cx="1447920" cy="8564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7201080" y="4814640"/>
                <a:ext cx="647640" cy="590040"/>
                <a:chOff x="7201080" y="4814640"/>
                <a:chExt cx="647640" cy="590040"/>
              </a:xfrm>
            </p:grpSpPr>
            <p:grpSp>
              <p:nvGrpSpPr>
                <p:cNvPr id="195" name=""/>
                <p:cNvGrpSpPr/>
                <p:nvPr/>
              </p:nvGrpSpPr>
              <p:grpSpPr>
                <a:xfrm>
                  <a:off x="7201080" y="4814640"/>
                  <a:ext cx="466560" cy="418680"/>
                  <a:chOff x="7201080" y="4814640"/>
                  <a:chExt cx="466560" cy="4186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7201080" y="4814640"/>
                    <a:ext cx="46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667640" y="4814640"/>
                    <a:ext cx="0" cy="418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467840" y="5309640"/>
                  <a:ext cx="380880" cy="95040"/>
                  <a:chOff x="7467840" y="5309640"/>
                  <a:chExt cx="380880" cy="950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>
                    <a:off x="7543800" y="535716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620120" y="540468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467840" y="530964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6400800" y="4548240"/>
                <a:ext cx="1067040" cy="533160"/>
                <a:chOff x="6400800" y="4548240"/>
                <a:chExt cx="1067040" cy="533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934320" y="454824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400800" y="454824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5" name=""/>
          <p:cNvGrpSpPr/>
          <p:nvPr/>
        </p:nvGrpSpPr>
        <p:grpSpPr>
          <a:xfrm>
            <a:off x="3733920" y="3200040"/>
            <a:ext cx="1143000" cy="914760"/>
            <a:chOff x="3733920" y="3200040"/>
            <a:chExt cx="1143000" cy="914760"/>
          </a:xfrm>
        </p:grpSpPr>
        <p:grpSp>
          <p:nvGrpSpPr>
            <p:cNvPr id="206" name=""/>
            <p:cNvGrpSpPr/>
            <p:nvPr/>
          </p:nvGrpSpPr>
          <p:grpSpPr>
            <a:xfrm>
              <a:off x="3733920" y="3581280"/>
              <a:ext cx="1066680" cy="533520"/>
              <a:chOff x="3733920" y="3581280"/>
              <a:chExt cx="1066680" cy="533520"/>
            </a:xfrm>
          </p:grpSpPr>
          <p:sp>
            <p:nvSpPr>
              <p:cNvPr id="207" name=""/>
              <p:cNvSpPr/>
              <p:nvPr/>
            </p:nvSpPr>
            <p:spPr>
              <a:xfrm>
                <a:off x="3733920" y="35812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cc0000"/>
                    </a:solidFill>
                    <a:latin typeface="Tahoma"/>
                    <a:ea typeface="Arial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267080" y="35812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 flipV="1">
              <a:off x="4559400" y="3200040"/>
              <a:ext cx="317520" cy="6476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3965400" y="2933640"/>
            <a:ext cx="138240" cy="64764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371840" y="2790720"/>
            <a:ext cx="304560" cy="304560"/>
            <a:chOff x="4371840" y="2790720"/>
            <a:chExt cx="304560" cy="304560"/>
          </a:xfrm>
        </p:grpSpPr>
        <p:sp>
          <p:nvSpPr>
            <p:cNvPr id="212" name=""/>
            <p:cNvSpPr/>
            <p:nvPr/>
          </p:nvSpPr>
          <p:spPr>
            <a:xfrm>
              <a:off x="4371840" y="279072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371840" y="279072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bac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467160" y="2681280"/>
            <a:ext cx="837360" cy="837360"/>
            <a:chOff x="3467160" y="2681280"/>
            <a:chExt cx="837360" cy="837360"/>
          </a:xfrm>
        </p:grpSpPr>
        <p:sp>
          <p:nvSpPr>
            <p:cNvPr id="217" name=""/>
            <p:cNvSpPr/>
            <p:nvPr/>
          </p:nvSpPr>
          <p:spPr>
            <a:xfrm>
              <a:off x="3467160" y="2681280"/>
              <a:ext cx="837360" cy="8373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467160" y="2681280"/>
              <a:ext cx="837360" cy="8373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362320" y="2819520"/>
            <a:ext cx="5486400" cy="856440"/>
            <a:chOff x="2362320" y="2819520"/>
            <a:chExt cx="5486400" cy="856440"/>
          </a:xfrm>
        </p:grpSpPr>
        <p:grpSp>
          <p:nvGrpSpPr>
            <p:cNvPr id="220" name=""/>
            <p:cNvGrpSpPr/>
            <p:nvPr/>
          </p:nvGrpSpPr>
          <p:grpSpPr>
            <a:xfrm>
              <a:off x="2362320" y="2824200"/>
              <a:ext cx="977760" cy="533520"/>
              <a:chOff x="2362320" y="2824200"/>
              <a:chExt cx="977760" cy="533520"/>
            </a:xfrm>
          </p:grpSpPr>
          <p:sp>
            <p:nvSpPr>
              <p:cNvPr id="221" name=""/>
              <p:cNvSpPr/>
              <p:nvPr/>
            </p:nvSpPr>
            <p:spPr>
              <a:xfrm>
                <a:off x="2362320" y="282420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41680" y="309096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3352680" y="2824200"/>
              <a:ext cx="1523880" cy="533520"/>
              <a:chOff x="3352680" y="2824200"/>
              <a:chExt cx="1523880" cy="53352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3352680" y="2824200"/>
                <a:ext cx="1066680" cy="533520"/>
                <a:chOff x="3352680" y="2824200"/>
                <a:chExt cx="1066680" cy="5335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352680" y="282420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885840" y="282420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4178160" y="309096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876920" y="2824200"/>
              <a:ext cx="1523880" cy="533520"/>
              <a:chOff x="4876920" y="2824200"/>
              <a:chExt cx="1523880" cy="53352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4876920" y="2824200"/>
                <a:ext cx="1066680" cy="533520"/>
                <a:chOff x="4876920" y="2824200"/>
                <a:chExt cx="1066680" cy="53352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876920" y="2824200"/>
                  <a:ext cx="53352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410440" y="2824200"/>
                  <a:ext cx="533160" cy="533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5702400" y="309096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400800" y="2819520"/>
              <a:ext cx="1447920" cy="856440"/>
              <a:chOff x="6400800" y="2819520"/>
              <a:chExt cx="1447920" cy="85644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7201080" y="3085920"/>
                <a:ext cx="647640" cy="590040"/>
                <a:chOff x="7201080" y="3085920"/>
                <a:chExt cx="647640" cy="59004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7201080" y="3085920"/>
                  <a:ext cx="466560" cy="418680"/>
                  <a:chOff x="7201080" y="3085920"/>
                  <a:chExt cx="466560" cy="4186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7201080" y="3085920"/>
                    <a:ext cx="46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667640" y="3085920"/>
                    <a:ext cx="0" cy="418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467840" y="3580920"/>
                  <a:ext cx="380880" cy="95040"/>
                  <a:chOff x="7467840" y="3580920"/>
                  <a:chExt cx="380880" cy="9504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7543800" y="36284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620120" y="367596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467840" y="35809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6400800" y="2819520"/>
                <a:ext cx="1067040" cy="533160"/>
                <a:chOff x="6400800" y="2819520"/>
                <a:chExt cx="1067040" cy="533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934320" y="28195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400800" y="28195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5" name=""/>
          <p:cNvGrpSpPr/>
          <p:nvPr/>
        </p:nvGrpSpPr>
        <p:grpSpPr>
          <a:xfrm>
            <a:off x="2957400" y="2938320"/>
            <a:ext cx="304560" cy="304560"/>
            <a:chOff x="2957400" y="2938320"/>
            <a:chExt cx="304560" cy="304560"/>
          </a:xfrm>
        </p:grpSpPr>
        <p:sp>
          <p:nvSpPr>
            <p:cNvPr id="246" name=""/>
            <p:cNvSpPr/>
            <p:nvPr/>
          </p:nvSpPr>
          <p:spPr>
            <a:xfrm>
              <a:off x="2957400" y="293832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957400" y="293832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643120" y="3090960"/>
            <a:ext cx="2224080" cy="533160"/>
          </a:xfrm>
          <a:custGeom>
            <a:avLst/>
            <a:gdLst/>
            <a:ahLst/>
            <a:rect l="l" t="t" r="r" b="b"/>
            <a:pathLst>
              <a:path w="1392" h="336">
                <a:moveTo>
                  <a:pt x="0" y="0"/>
                </a:moveTo>
                <a:cubicBezTo>
                  <a:pt x="268" y="168"/>
                  <a:pt x="536" y="336"/>
                  <a:pt x="768" y="336"/>
                </a:cubicBezTo>
                <a:cubicBezTo>
                  <a:pt x="1000" y="336"/>
                  <a:pt x="1288" y="40"/>
                  <a:pt x="1392" y="0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98800" y="4552920"/>
            <a:ext cx="3949560" cy="856440"/>
            <a:chOff x="3898800" y="4552920"/>
            <a:chExt cx="3949560" cy="856440"/>
          </a:xfrm>
        </p:grpSpPr>
        <p:grpSp>
          <p:nvGrpSpPr>
            <p:cNvPr id="250" name=""/>
            <p:cNvGrpSpPr/>
            <p:nvPr/>
          </p:nvGrpSpPr>
          <p:grpSpPr>
            <a:xfrm>
              <a:off x="3898800" y="4552920"/>
              <a:ext cx="977760" cy="533160"/>
              <a:chOff x="3898800" y="4552920"/>
              <a:chExt cx="977760" cy="533160"/>
            </a:xfrm>
          </p:grpSpPr>
          <p:sp>
            <p:nvSpPr>
              <p:cNvPr id="251" name=""/>
              <p:cNvSpPr/>
              <p:nvPr/>
            </p:nvSpPr>
            <p:spPr>
              <a:xfrm>
                <a:off x="3898800" y="4552920"/>
                <a:ext cx="533520" cy="533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6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78160" y="481932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4876560" y="4552920"/>
              <a:ext cx="1523880" cy="533160"/>
              <a:chOff x="4876560" y="4552920"/>
              <a:chExt cx="1523880" cy="53316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4876560" y="4552920"/>
                <a:ext cx="1066680" cy="533160"/>
                <a:chOff x="4876560" y="4552920"/>
                <a:chExt cx="1066680" cy="5331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876560" y="45529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410080" y="4552920"/>
                  <a:ext cx="53316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5702040" y="4819320"/>
                <a:ext cx="69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oval" w="med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6400440" y="4552920"/>
              <a:ext cx="1447920" cy="856440"/>
              <a:chOff x="6400440" y="4552920"/>
              <a:chExt cx="1447920" cy="85644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7200720" y="4819320"/>
                <a:ext cx="647640" cy="590040"/>
                <a:chOff x="7200720" y="4819320"/>
                <a:chExt cx="647640" cy="59004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7200720" y="4819320"/>
                  <a:ext cx="466560" cy="418680"/>
                  <a:chOff x="7200720" y="4819320"/>
                  <a:chExt cx="466560" cy="41868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7200720" y="4819320"/>
                    <a:ext cx="466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oval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667280" y="4819320"/>
                    <a:ext cx="0" cy="418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7467480" y="5314320"/>
                  <a:ext cx="380880" cy="95040"/>
                  <a:chOff x="7467480" y="5314320"/>
                  <a:chExt cx="380880" cy="9504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7543440" y="536184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7619760" y="5409360"/>
                    <a:ext cx="7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7467480" y="531432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6400440" y="4552920"/>
                <a:ext cx="1067040" cy="533160"/>
                <a:chOff x="6400440" y="4552920"/>
                <a:chExt cx="1067040" cy="533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933960" y="45529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400440" y="4552920"/>
                  <a:ext cx="533520" cy="533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r-Latn-CS" sz="1800" spc="-1" strike="noStrike">
                      <a:solidFill>
                        <a:srgbClr val="000000"/>
                      </a:solidFill>
                      <a:latin typeface="Tahoma"/>
                      <a:ea typeface="Arial"/>
                    </a:rPr>
                    <a:t>3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Jednostruko spregnuta lista (singly-link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vostruko spregnuta lista (doubly-link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410440" cy="6141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rcRect l="0" t="0" r="5174" b="0"/>
          <a:stretch/>
        </p:blipFill>
        <p:spPr>
          <a:xfrm>
            <a:off x="380880" y="4525920"/>
            <a:ext cx="838224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klična lista (Circularly-linked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166760" y="2666880"/>
            <a:ext cx="6618600" cy="1285920"/>
            <a:chOff x="1166760" y="2666880"/>
            <a:chExt cx="6618600" cy="1285920"/>
          </a:xfrm>
        </p:grpSpPr>
        <p:sp>
          <p:nvSpPr>
            <p:cNvPr id="277" name=""/>
            <p:cNvSpPr/>
            <p:nvPr/>
          </p:nvSpPr>
          <p:spPr>
            <a:xfrm>
              <a:off x="175248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276720" y="266688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988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006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34120" y="266688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2448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58000" y="266688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536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0220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26080" y="2933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"/>
            <p:cNvCxnSpPr>
              <a:stCxn id="284" idx="3"/>
              <a:endCxn id="277" idx="1"/>
            </p:cNvCxnSpPr>
            <p:nvPr/>
          </p:nvCxnSpPr>
          <p:spPr>
            <a:xfrm flipH="1">
              <a:off x="1752120" y="2933280"/>
              <a:ext cx="5639760" cy="2520"/>
            </a:xfrm>
            <a:prstGeom prst="curvedConnector5">
              <a:avLst>
                <a:gd name="adj1" fmla="val -6983"/>
                <a:gd name="adj2" fmla="val 23600000"/>
                <a:gd name="adj3" fmla="val -6983"/>
              </a:avLst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89" name=""/>
            <p:cNvSpPr/>
            <p:nvPr/>
          </p:nvSpPr>
          <p:spPr>
            <a:xfrm flipH="1">
              <a:off x="7143840" y="292428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217160" y="4134600"/>
            <a:ext cx="6621840" cy="1904400"/>
            <a:chOff x="1217160" y="4134600"/>
            <a:chExt cx="6621840" cy="1904400"/>
          </a:xfrm>
        </p:grpSpPr>
        <p:sp>
          <p:nvSpPr>
            <p:cNvPr id="291" name=""/>
            <p:cNvSpPr/>
            <p:nvPr/>
          </p:nvSpPr>
          <p:spPr>
            <a:xfrm>
              <a:off x="2222640" y="461016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5580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6708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060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2448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85800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35160" y="480060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92560" y="4800600"/>
              <a:ext cx="69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143840" y="4791240"/>
              <a:ext cx="24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0" name=""/>
            <p:cNvCxnSpPr/>
            <p:nvPr/>
          </p:nvCxnSpPr>
          <p:spPr>
            <a:xfrm flipH="1">
              <a:off x="1685160" y="4800600"/>
              <a:ext cx="5639400" cy="2160"/>
            </a:xfrm>
            <a:prstGeom prst="curvedConnector5">
              <a:avLst>
                <a:gd name="adj1" fmla="val -7935"/>
                <a:gd name="adj2" fmla="val -18500000"/>
                <a:gd name="adj3" fmla="val -7935"/>
              </a:avLst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301" name=""/>
            <p:cNvSpPr/>
            <p:nvPr/>
          </p:nvSpPr>
          <p:spPr>
            <a:xfrm>
              <a:off x="1689120" y="461016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1320" y="461016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33920" y="461016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4" name=""/>
            <p:cNvCxnSpPr/>
            <p:nvPr/>
          </p:nvCxnSpPr>
          <p:spPr>
            <a:xfrm flipH="1">
              <a:off x="1752120" y="4952520"/>
              <a:ext cx="5639760" cy="2520"/>
            </a:xfrm>
            <a:prstGeom prst="curvedConnector5">
              <a:avLst>
                <a:gd name="adj1" fmla="val -7934"/>
                <a:gd name="adj2" fmla="val 25150000"/>
                <a:gd name="adj3" fmla="val -7934"/>
              </a:avLst>
            </a:prstGeom>
            <a:ln w="9360">
              <a:solidFill>
                <a:srgbClr val="800000"/>
              </a:solidFill>
              <a:miter/>
              <a:headEnd len="lg" type="stealth" w="lg"/>
            </a:ln>
          </p:spPr>
        </p:cxnSp>
        <p:sp>
          <p:nvSpPr>
            <p:cNvPr id="305" name=""/>
            <p:cNvSpPr/>
            <p:nvPr/>
          </p:nvSpPr>
          <p:spPr>
            <a:xfrm flipH="1">
              <a:off x="1676520" y="4952880"/>
              <a:ext cx="247680" cy="0"/>
            </a:xfrm>
            <a:prstGeom prst="line">
              <a:avLst/>
            </a:prstGeom>
            <a:ln w="12600">
              <a:solidFill>
                <a:srgbClr val="8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3276360" y="4952880"/>
              <a:ext cx="68580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5333760" y="4952880"/>
              <a:ext cx="68580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  <a:headEnd len="med" type="oval" w="med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2:45:26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