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A00F-5083-461F-968B-7159E5ACE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FCB4-4601-4280-8299-51980A21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859C-FFAC-4046-A9CE-0B2034CAD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00F7-B015-4232-AC6B-44482C564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8633-9A3F-446E-A266-09059DDED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6A14-49E7-482D-985C-F5143ECB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82CBC-C938-4893-AF6C-D221339C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8CFD-1FB1-4676-B8DC-7C190C5B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394A-9231-4931-BF26-5A054EE4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AF84-1E41-47B6-BCD5-9691841A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2B01-2B2F-4864-ADB3-7794A6CF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A991-BA9E-40CF-8CDF-A9B83F3C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8F20-7FE4-43D8-BD0A-5AEF8521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87F0-FE23-4127-A4ED-11A54394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523F-C887-41E9-9E1A-ACFED1EF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BACC-FF57-4D87-8438-35B586ABD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1578-E600-4074-956E-2BD95754A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4A95B-3775-4743-AA23-AFF99FFAA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FA382-6A1C-4E9E-A1CE-B21C2314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4DF9B-2BA8-47E8-A0FD-1D88528A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C76BB-7E94-471F-80EF-17A664B0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65BBA-8E23-42D5-84AA-6A9E41AFB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B7E9-9DE9-4016-BFA1-98AABC17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36582-FE15-4227-B203-F8C05B67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697AA-AD1E-40BD-B0C2-30B7259B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B273D-4746-413A-9973-209199F5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0A8A3-AA42-49C5-9F10-EFD05738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8DD43-01EE-4312-8E85-14ED0443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EE178-5C2D-49C4-9ED8-1894D604F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8F94D-E31F-4EB1-954A-514889529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F1A7-73B0-4E5A-A2D1-97ABD49E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98FA-6AEF-4EF3-A24B-EEA5BA3A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A008-AAF0-4620-8C4C-95D6C6FB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097A-1E1E-412B-9DD9-E5ED86AF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0BE2-417A-499E-B79B-7845DE96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9B09-7944-4A72-9C32-D30376AA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4483-1508-4F96-8D11-E8D525951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863A-1960-4BA6-A644-1E8C3281C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23FB-F4A4-4437-9006-698DEB820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табла -хијерархијске структу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лементи у структури су хијерархијски уређени, тј. кардиналност релације р је 1: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им једном посебном елементу који се назива корен, сваком елементу претходи тачно један еле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аком елементу може следити више еле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Rectangle 3"/>
          <p:cNvGraphicFramePr/>
          <p:nvPr/>
        </p:nvGraphicFramePr>
        <p:xfrm>
          <a:off x="2514600" y="2286000"/>
          <a:ext cx="4038480" cy="261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286000"/>
                    <a:ext cx="4038480" cy="26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Графови или мреж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лементи у структури су уређени без ограничења, тј. кардиналност релације р је М: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аком елементу може претходити више елемен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аком елементу може следити више еле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Rectangle 3"/>
          <p:cNvGraphicFramePr/>
          <p:nvPr/>
        </p:nvGraphicFramePr>
        <p:xfrm>
          <a:off x="2970360" y="2519280"/>
          <a:ext cx="3127320" cy="21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0360" y="2519280"/>
                    <a:ext cx="3127320" cy="21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Закључа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ведене опште структуре података покривају све могуће случаје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ака конкретна структура података у пракси се своди на неку од наведе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бог тога је за решавање проблема у програмирању довољно познавати како се свака од наведених општих имплемент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о је управо предмет изучавања овог курс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Задац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ведите која ја најважнија особина релације која дефинише уређење елемената у структури подата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чему је разлика између скупа и колекциј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чему је разлика између линераних структура, стабала и графо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 чему је посебан први елемент у линераној структури, а по чему последњ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та је корен стаб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Врсте структура подата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295280"/>
          <a:ext cx="8229600" cy="522288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3486240"/>
                <a:gridCol w="254484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 Појам структура подат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владавање основним концептима структура подат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.1. Врсте структура подат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 и репродукује основне врсте структура подат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 Апстрактни типови података (АТП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 и репродукује концепт апстрактног типа подат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ализација структуре података на рачунар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 и репродукује концепте реализације структура података на рачунар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Врсте структура подата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48752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.1. Врсте структура подат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удент ће бити способан да препозна и репродукује основне врсте структура подат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труктуре подата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руктуре података су сложени типови подат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стају применом апстракције агрегације, тј. обједињавањем више једноставнијих типова подат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вака конкретна вредност структуре података је једна инстанца одговарајућег 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пр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Пер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Перић”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3/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2009”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је једна инстанца структуре података којом се представљају студен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Врсте структура подата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ака конкретна вредност структуре података се састоји од једноставнијих делова, који представљају њене елемен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лементи могу бити прости или сложени, тј. структуре података за се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 тај начин се могу градити структуре произвољно сложене струк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пр. запис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Пер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Перић”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43/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009”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се састоји од три поља елемен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ме - низ знакова (сложен тип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рој индекса-  низ знакова (сложен тип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одина студија – цео број (прост тип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Врсте структура подата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лементи у структури података могу бити у неком међусобном односу (релациј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ога се структура података може формално дефинисати као  уређен пар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 =(E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 је скуп елемен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 је бинарна релација дефинисана над Е којом је уређен скуп 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једине врсте структура података се изводе на основу тога какав је њихов међусобни однос, тј. какве су особине релације 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важнија особина релације р је кардиналност, тј. колико елемената одговара једном елементу у датој структури и обрну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Врсте структура подата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 основу кардиналности релације р могу се дефинисати следеће врсте структу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0:0 (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не постоји ур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њ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- колекциј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и скуп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:1 (линеарно ур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ње) - линеарн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структур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:М - стабл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М:М - графови и мр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олекције и скупов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лементи у структури немају међусобни однос, тј. кардиналност релације р је 0: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мо се може знати да ли је неки елемент у структури или 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лиске су појму скупа из математике, па се тако и назива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куп нема дупликате (један исти елемент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не мож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бити два пута члан скуп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лекција може имати дупликате (један исти елемент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мож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бити два пута члан скуп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Rectangle 3"/>
          <p:cNvGraphicFramePr/>
          <p:nvPr/>
        </p:nvGraphicFramePr>
        <p:xfrm>
          <a:off x="2514600" y="2438280"/>
          <a:ext cx="2895480" cy="12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438280"/>
                    <a:ext cx="289548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Линеарне структу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лементи у структури су линерано уређени, , тј. кардиналност релације р је 1: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им једном посебном елементу који се назива први, сваком елементу претходи тачно један еле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им једном посебном елементу који се назива последњи, сваком елементу следи тачно један еле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Rectangle 3"/>
          <p:cNvGraphicFramePr/>
          <p:nvPr/>
        </p:nvGraphicFramePr>
        <p:xfrm>
          <a:off x="1219320" y="2743200"/>
          <a:ext cx="655308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743200"/>
                    <a:ext cx="655308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12T23:52:47Z</dcterms:modified>
  <cp:revision>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