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1B01-527E-4627-8758-2E538C2A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669B-BBB6-4DD0-B2C8-61AFAB02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A0D-FBC3-4E1F-AC76-681576F0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8A38-D3FC-4D4B-A2D9-61C656D3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0E4B-61E9-4FAA-B2BD-C6A4665CD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26A0-05A9-4FC9-97C7-E01D7AEE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6597-D146-4988-B06C-1D5980C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A990-97EC-4A04-AD04-D6A0D90F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CDB3-85AA-4290-8C0F-D7E2F72C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89C5-B3F6-48F3-A9E2-501B2521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C974-21EB-445B-946E-7A0E1B5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A2AF-0636-47FB-B6D2-E81A9266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83450-A0B4-4C63-A66C-208C73F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7734-C6A9-44B7-8999-E27AC5C0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16EA-0841-4142-A8C9-DD50C42F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1AA8-4B52-4B9A-9EE4-342FE82B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860D-D76A-4480-AFB2-E00A17B7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73A71-F1E3-4052-8675-D3EB0034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786D9-C69D-4D98-837F-8A2A7346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0906-472E-43DC-8EF3-7DF084AE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9ED60-A73A-45EC-B924-BDF7ED8E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3177-60FD-4B1F-97BD-9480C92E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B1A-01A3-491D-A1A2-AA86A80C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D06B7-61B2-4C64-82EC-EAD1AA16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1A0E1-0998-4C60-85C5-E432FD67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4E2A-B8C7-4F4D-A7A1-E5D8ED2D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FB136-4E4E-4F63-8AC2-ECFED17C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CBBAF-A500-4E18-AA32-8BDE1A56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E76B-BCDA-471C-ABC6-CE4CE52C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39372-63E9-4C9F-8103-19BA6B63C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05E-48FD-4A77-992E-86A1D023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931-8322-42A6-9A78-930B3528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381-8E3F-4786-8B9A-5AD195AA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48C2-F8D7-48E2-8128-A6CB8A1E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B4E-93C0-468C-A6CC-996B0821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2B1-0EC2-4D0D-B333-07541ABE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A8CB-42B1-468F-9ABE-DA8A7949A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E45-6208-4F75-8B73-F1DFED2FD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08BF-3656-46B1-8C96-8FAFD5BC3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ефиниција преко АТ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251000"/>
          <a:ext cx="8686800" cy="4311720"/>
        </p:xfrm>
        <a:graphic>
          <a:graphicData uri="http://schemas.openxmlformats.org/drawingml/2006/table">
            <a:tbl>
              <a:tblPr/>
              <a:tblGrid>
                <a:gridCol w="995400"/>
                <a:gridCol w="1325520"/>
                <a:gridCol w="331776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Линеарне стру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теоријским концептима линеарних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Стак, Ред и ли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линеарних структура и структуре стак, ред и 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Дефиниција преко АТ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начине дефинисања основних линеарних структура преко А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ефиниција преко АТ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Дефиниција преко АТ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линеарних структура и структуре стак, ред и 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 prek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public interf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p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ush(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o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ee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efinicija preko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public interfa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I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Empty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Enque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ob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urier New"/>
              </a:rPr>
              <a:t>Dequeu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4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Peek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a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list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efinicija preko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public interfac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Linked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sertBefore(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sertAfter(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Remov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9999"/>
                </a:solidFill>
                <a:latin typeface="Courier New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  <a:ea typeface="Arial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Previous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  <a:ea typeface="Arial"/>
              </a:rPr>
              <a:t>boolea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Nex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oveTo(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inde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9999"/>
                </a:solidFill>
                <a:latin typeface="Courier New"/>
              </a:rPr>
              <a:t>voi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lea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r-Latn-CS" sz="2000" spc="-1" strike="noStrike">
                <a:solidFill>
                  <a:srgbClr val="009999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oun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1:21:33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