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5143-F18B-474F-9871-DB9629F9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D5A9-2461-4FBC-B7C9-07CF2D7D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AA81-01F9-465C-BC36-F12F60D1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325A-6225-45E8-829B-1FE78DEE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702D-0F65-4D10-872A-42779905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0DB3-EE79-45A8-9700-D65C5DD5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73A1-7FC2-40C7-A1EA-B6C18CD3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12A2-49DF-46C5-BB74-942D61E9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E194-43B8-488E-B259-6F550427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884B-5D47-42BF-A1D9-897D779B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F843-8F6C-4D94-8602-57078B83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38F-DF1E-402F-8064-3E006F19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95CF-30BE-4CA0-9B65-83E76DF4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7129-0ABA-495A-A7C5-BD8D2139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35BE-1D8B-45A5-A579-C6E17F3A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51DD-5290-4795-9130-68D2756D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200A-E82D-42BB-9050-2B88EA08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8FEAB-2B98-4C8F-A215-67A9CEA0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24CA9-8874-4511-9B26-87D6141E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A0BEC-5DF7-45D4-AB9B-37017314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40EB2-138A-4C25-9175-A49C1DA8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32616-6A2B-4C68-AF23-15E3249E8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A3AB-8342-4E0C-B028-05E928DB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CF1DD-A8E0-4217-86D3-04C833E0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20473-3368-46DF-9069-DA716047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37ACF-180C-4BA4-A14B-5CF63AB4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EEA9A-9A77-4D3C-8A32-859FC1FB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9410D-06AE-4253-A187-5E324635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79493-27F2-4023-A08C-D85AC4B0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6D5A6-0C80-49BD-AE0E-28B15ED29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D040-EE29-4923-AEFC-C6155642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D013-0978-403E-8382-FB0ED6F8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B17A-B851-4126-B806-CDC100E1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852-60FC-430D-8219-E6216A54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071-6A2B-4FB1-8AC2-9AC89B67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3218-C917-4045-962D-390F2BEB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CC8D-1D96-44A8-B86F-3063DF308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8AD0-B420-40BA-85EF-A121372AA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A2E2-F80C-4A4B-9863-2FEB37595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83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ndeks-sekvencijalno pretraži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3903840" cy="4667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07320" y="1294200"/>
            <a:ext cx="725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risti dodatni pomoćni niz (tabelu) zvani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indek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89120" y="-360"/>
            <a:ext cx="8354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ndeks-sekvencijalno pretraži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traživanje počinje od indeksa traženjem prvog ključa koji je veći ili jednak tražen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da se naiđe na takav ključ onda se preko pokazivača pristupa bloku u kome se zapis pronalazi posle najviše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ređenj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ndeks-sekvencijalno pretraži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sečan broj poređenja prilikom pretraživanja datoteke je jednak prosečnom broju poređenja za pretraživanje indeksa plus prosečnom broju poređenja za pretraživanje blo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258920" y="4221000"/>
                <a:ext cx="3024000" cy="14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292720" y="4581360"/>
                <a:ext cx="93672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0" y="28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427640" y="4868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r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83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ndeks-sekvencijalno pretraži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ptimalna vrednost za k se dobija iz uslo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8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547640" y="3141720"/>
                <a:ext cx="554544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k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83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ndeks-sekvencijalno pretraži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62120" y="1889280"/>
            <a:ext cx="7554960" cy="40701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54200" y="1700280"/>
            <a:ext cx="27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va nivoa indek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ndeks-sekvencijal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blem ažuri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knadno ubacivanje u blok koji je popunjen nije moguć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š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od inicijalnog formiranje indeksa se ostavlja prazan prostor u bloku koji se koristio za naknadna ubac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da se blok napuni, onda se novi zapisi (tzv. prekoračioci) pamte u posebnoj memorijskoj zoni gde se olančavaju u 1-struko spregnutu lis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ada se zona za prekoračioce napuni, vrši se ponovno formiranje indeksa (vrlo skupa operaci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Анализа ефик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600200"/>
          <a:ext cx="8229600" cy="491796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2982960"/>
                <a:gridCol w="3048120"/>
              </a:tblGrid>
              <a:tr h="73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Претраживање линеарних струк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начинима претраживања линеарних структу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. Проблем претраживања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 O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новни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лгорит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се упознати са проблемом претраживања и научити основне алгоритме за претраживање линераних структура: секвенцијално и бинарно претражив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2. Напредни алгорит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удент ће научити неке напредне алгоритме за претраживање линераних структура: интерполационо и индекс-секвенцијално претражив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Анализа ефикас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2. Напредни алгорит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удент ће научити неке напредне алгоритме за претраживање линераних структура: интерполационо и индекс-секвенцијално претражив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nterpolacio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nljiv samo u slučaju sortiranih niz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mulira postupak koji koriste ljudi kod pretraživanja npr. telefonskog ime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se traži neko ko se preziva “Antić” onda će se imenik pokušati otvoriti stranica imenika koja je bliža počet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se traži neko ko se preziva “Džaković” onda će se imenik pokušati otvoriti stranica imenika koja je bliža kraju imene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tpostavka da ako je početno slovo prezimena bliže početku azbuke, onda se dato prezime nalazi bliže početku ime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nterpolacio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deja algorit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stoji veza između pozicije vrednosti ključa u skupu vrednosti ključeva i pozicije u nizu zapisa sa tim ključem, pa se može izračunati (interpolirati) pozicija traženog elemen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pitati element koji se nalazi na interpoliranoj poziciji i na osnovu toga odrediti deo niza koji treba dalje pretraživ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alje pretraživanje polovine niza se pretražuje na isti način rekurzivno (slično kao kod binarnog pretraživa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nterpolacio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688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 vrednost ključ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k pozicija zapisa sa ključ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min (Pmax) pozicija zapisa sa minimalnom (maksimalnom) vrednošću ključ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IN  (MAX) minimalna (maksimalna) vrednost ključ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187280" y="1557360"/>
                <a:ext cx="489744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042920" y="4869000"/>
                <a:ext cx="676908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den>
                    </m:f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nterpolacio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d pretpostavkom da su ključevi uniformno raspoređeni, interpolaciono pretraživanje zahteva prosečno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(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ko ključevi nisu uniformno raspoređeni tad performanse algoritma mogu biti znatno pogoršan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 О(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nterpolacio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Robusno interpolaciono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retraživanje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li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brzo (fast search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ođenje promenljive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azmak (R)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ako da je uvek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k - Pmi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Pmax - Pk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veće od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R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četna vre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643280" y="4076640"/>
                <a:ext cx="27370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87280" y="5013360"/>
                <a:ext cx="52563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den>
                    </m:f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187280" y="5950080"/>
                <a:ext cx="77774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inimu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Maximu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om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nterpolacio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busno interpolaciono pretraživanje u proseku zahteva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(log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 najgorem slučaju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(log2N)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poređen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4T12:24:2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