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52A8-697B-4770-9696-54C15EE7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5F3-1670-473C-B83E-FF0CEC7C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B3F-3EAE-439E-A051-DA61E052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725C-1216-47C2-BE88-7731A6FC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1F87-2069-4153-B049-3DBC39E1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D64E-6FE7-437D-B8F6-C3869AF1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B6ED-10B9-4503-8EFC-CC478B11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F3DA-A958-4156-8C9A-2F31FC20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32E7-AE9C-4043-85AB-6620C30B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B27C-3076-483A-8A5C-AC96BD43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DDC4-9457-4979-B1E1-2F2AF49C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4931-051C-4BA7-98C1-409FBDDF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77B6-7D4C-4441-9FA7-F5C11F4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0384-7D47-4FF0-B4C0-9BE9B913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4F31-1F72-42A5-B511-1A4F2FBC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D01C-40B3-4C97-AF70-FA273B8D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A516-B698-4630-85D3-99A6BDCA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4449-925C-4813-AC53-71A08E14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D3E1-4956-4881-863D-DE1B784D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2115A-41EF-4F57-A909-CCBA5FE5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615F-7EAB-4C5C-BFF6-5BEA9B69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FC15-82CB-42DF-802C-968C99C1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0121-F0C2-4100-B8C6-88389F74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7D90B-4B1C-42C4-A349-154B1EF3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C573-D214-4733-94BB-204F2BA2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9289E-ED61-432C-B4CA-27C733CD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2AE9-A127-48B4-BBC7-EB117E09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6F769-38F8-40FA-AA94-47CDCE8D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58C51-90F9-4501-A4C6-D04B0597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873E-D4AB-4001-866A-4C08CB90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5E7-0B3B-4BF0-BEB8-6E7EAF87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CCFA-682B-48FE-A179-ED51C23F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AFF6-AADD-4649-99B7-41345A12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982D-2B43-4118-846B-3B13C7CB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6462-08CC-4A77-BE2E-C5EBF5BA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80B9-76AD-49C4-B5F5-6A0E7C1E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2784-860C-4800-BF4A-D744D0DF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26DA-D9E5-478D-B645-9123BC6AD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F8A0-B39B-40EC-B465-9043F5E99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Спецификација је о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ис апстр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Имплементација неке апстракције је њена конкретизација на неком имплементационом средст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Неформалне и формалне специфик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пецификације је формална ако је дата на језику чија је синтакса и семантика формално дефинис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оцедуралне 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ширење скупа наредби датог програмског је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воде се због великог семантичког јаза између проблема кољи се решава и нивоа наредби програмског је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Декомпозицијом (топ доwн) се своде на једноставније (на 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м нивоу апстракције) процедуралне апстракције све док се не додје д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итивних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перација имплементационог средст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op-dоwn steпwiсе rеfинеmент поступак развоја прог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та је примитивни ниво зависи од имлементационог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пр. sin(x) је примитивна операције у вишим програмским језицима, а сложена (апстрактна) у машинском јези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роцедуралне апстракције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– Прим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e iz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jPlatuRadnika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uto = iz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jBrutoPrimanja(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bici = iz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jOdbitkeRadnika(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ta = bruto - odbic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e iz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jBrutoPrimanja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uto = brojBodova * vrednostBo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dure iz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ajOdbitkeRadnika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bici = sindikaln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narina(r) + rataKredita(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да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ко се сложеност проблема може савлада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 значи апстрактније, а шта конкретн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 је поступак постепене конкретизац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 је разлика између спецификација и имплементациј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 је нека спецификација формал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 се престаје са поступком постепене конкретизације у случају процедуралних апстракциј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  <a:ea typeface="Calibri"/>
              </a:rPr>
              <a:t>Апстракције у програмирањ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4781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135600"/>
                <a:gridCol w="289548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 Апстракције у програмирањ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авладавање проблема апстраховања и овладавање основним врстама апстракциј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.1. Апстракције. Процедуралне апстрак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ховања и апстракција у програмирању. Разумевање и употреб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цедуралн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х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пстракциј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у програмирањ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328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. Апстракције подат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кција података, типова података и структура подата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"/>
                <a:ea typeface="Calibri"/>
              </a:rPr>
              <a:t>Апстракције у програмирањ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51920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1. Процедуралне апстрак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хватање појма и значаја апстраховања и апстракција у програмирању. Разумевање и употреб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цедуралн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х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пстракциј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у програмирањ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Arial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сновни проблем у програмирању је с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ост пробле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се це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блем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осматрати и 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ти одјед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ост се р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апстракцијама, контролисаним у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м детаљ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Детаљи се занемарују на неком нивоу апстракције како би се број концепата са којима се пројектант су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 свео на разумну м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1196640"/>
            <a:ext cx="8135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имер апстраховања је план г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крива небитно и приказује само битне дета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пстракције представља опис неког феномена за неке потребе у коме су свесно уклоњени детаљи непотребни са аспекта датих потре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4175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80880" y="-7632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гуће је креирати различите апстракције за дати феномен, од којих свака уклања, односно оставља различите детаље за различите потреб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ер: мапа градског превоза, мапа ноћног прев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азличити погледи или асп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666880" y="3505320"/>
            <a:ext cx="33703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7724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Конкретиз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упротно од асптракције, добија се поступком конкретизације (детаљис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пстракција/конкретизаија су релати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но што је на једном нивоу конкретизација, на следећем се може посматрати као апстрак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ијерархијина апстр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застопном применом поступка апстраховања/конкретизо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00000" y="5157720"/>
          <a:ext cx="7667640" cy="9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157720"/>
                    <a:ext cx="766764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У ПРОГРАМИРАЊ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9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авремени приступи развоју софтвера базирају софтверски систем на моделу реалног света у оквиру кога он треба да се изврш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ступак апстракције/конкретизације се користи како би се од корисничких захтева стигло до извршног кода софтверског система који задовољава дате захте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Rectangle 3"/>
          <p:cNvGraphicFramePr/>
          <p:nvPr/>
        </p:nvGraphicFramePr>
        <p:xfrm>
          <a:off x="1763640" y="4030560"/>
          <a:ext cx="57801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4030560"/>
                    <a:ext cx="57801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АПСТРАКЦИЈЕ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У ПРОГРАМИРАЊ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а врху хијерархије су кориснички захтеви као крајња апстракција софтверског система, а на дну је извршна верзија система као крајња конкретизацију датог систе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124000" y="3860640"/>
          <a:ext cx="460872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860640"/>
                    <a:ext cx="460872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2T19:32:05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