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DE92-CA8B-4F1E-8CF5-58CD6A21F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redstavlja se pomoću statičke strukture – ni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DD14-6547-4BA7-8ECF-FA1357B5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33B3-31B7-4A9E-A2F6-95AC3F32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83F2-E07F-438A-B291-49B90E6B7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C45E-64EF-41EA-98DA-4907B4AB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30EA-F55A-4EE8-9FF4-7263430DD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ED6C-E57E-4C97-A042-BE21CE58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6307-B207-491D-8C49-62334C38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4B38-E3A0-4A16-857D-3E4CB8A0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836A-13DB-4710-AD12-1718DA8B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4B9D-2EE2-43FD-A1DA-488CBA52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7024-8BF0-49F3-8C4D-820176CC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F9EA-B9C4-4C24-854A-B433A3C1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4D694-7821-4C86-AFEE-9C3F063B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80BE-2DFC-4908-BA05-C75491F4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912E-5807-478F-AF03-FCE0A99D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A104-288B-4959-B445-01E782C6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F8E1-CE47-4C65-BBCB-A8AD4A7AE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18888-8DE3-4794-A29D-64C47DFE6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26BFA-1A5C-4028-9F70-458B64FC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1D43C-6EF1-4A8C-8D61-1567B45A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CF009-36EB-4221-A75F-5CFE9B4B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ACC5F-3C48-4B20-8A55-F4C3882B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13DC-B1E5-40F3-80D9-D8F2DA85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5CB55-9FE1-492A-BFC8-B1AE9150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5CAA2-AF2F-4971-B6AD-12ADD93D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79DAD-3CE7-4AB7-8C4A-639C5663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60A91-3C50-46C4-965C-8154A172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654B2-091B-4798-AFF5-0EA97DEF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6185C-1C26-4459-8661-E26B3786C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FCF49-1FA2-44C0-A21D-C40C9EF28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B5C8-5279-44E5-85B8-F3F9761E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5F0F-ABE2-4DCB-8C54-A0F8AC2E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8CFC-23C6-40D0-8F05-E7C8FDE0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9209-5FBD-4B78-B854-F9CDB34E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1A0D-7BC2-430C-A882-BB9DFBEB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E2AB-E65B-4363-92EB-502BE74E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9BFA-E3CF-49B2-B3F8-5145B1254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67F7-B786-4B84-BF72-F09B0D303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A87A-419E-4CBE-8777-362C22707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85720" y="2386080"/>
            <a:ext cx="797400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892080" y="2328840"/>
            <a:ext cx="73612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мплементација преко ни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8600" y="1251000"/>
          <a:ext cx="8686800" cy="4311720"/>
        </p:xfrm>
        <a:graphic>
          <a:graphicData uri="http://schemas.openxmlformats.org/drawingml/2006/table">
            <a:tbl>
              <a:tblPr/>
              <a:tblGrid>
                <a:gridCol w="995400"/>
                <a:gridCol w="1325520"/>
                <a:gridCol w="3317760"/>
                <a:gridCol w="304812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Линеарне структу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владавање основним теоријским концептима линеарних структура подата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3.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1. Имплементација преко ни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користи имплементације линеарних структура преко низ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Имплементација преко динамичких струк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користи имплементације линеарних структура преко других динамичких структур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мплементација преко ни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04920" y="1676520"/>
          <a:ext cx="8534160" cy="148752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3.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3. Имплементација преко ни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користи имплементације линеарних структура преко низ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tak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stack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o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atička struk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666880" y="2895480"/>
            <a:ext cx="3200400" cy="1206720"/>
            <a:chOff x="2666880" y="2895480"/>
            <a:chExt cx="3200400" cy="1206720"/>
          </a:xfrm>
        </p:grpSpPr>
        <p:grpSp>
          <p:nvGrpSpPr>
            <p:cNvPr id="141" name=""/>
            <p:cNvGrpSpPr/>
            <p:nvPr/>
          </p:nvGrpSpPr>
          <p:grpSpPr>
            <a:xfrm>
              <a:off x="2666880" y="2895480"/>
              <a:ext cx="3200400" cy="533520"/>
              <a:chOff x="2666880" y="2895480"/>
              <a:chExt cx="3200400" cy="533520"/>
            </a:xfrm>
          </p:grpSpPr>
          <p:sp>
            <p:nvSpPr>
              <p:cNvPr id="142" name=""/>
              <p:cNvSpPr/>
              <p:nvPr/>
            </p:nvSpPr>
            <p:spPr>
              <a:xfrm>
                <a:off x="2666880" y="2895480"/>
                <a:ext cx="53352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733920" y="2895480"/>
                <a:ext cx="53316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4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267080" y="2895480"/>
                <a:ext cx="53352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800600" y="2895480"/>
                <a:ext cx="53352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2895480"/>
                <a:ext cx="53352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3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334120" y="2895480"/>
                <a:ext cx="533160" cy="533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292640" y="3505320"/>
              <a:ext cx="609480" cy="596880"/>
              <a:chOff x="4292640" y="3505320"/>
              <a:chExt cx="609480" cy="596880"/>
            </a:xfrm>
          </p:grpSpPr>
          <p:sp>
            <p:nvSpPr>
              <p:cNvPr id="149" name=""/>
              <p:cNvSpPr/>
              <p:nvPr/>
            </p:nvSpPr>
            <p:spPr>
              <a:xfrm flipV="1">
                <a:off x="4533840" y="350532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292640" y="373392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800" spc="-1" strike="noStrike">
                    <a:solidFill>
                      <a:srgbClr val="000000"/>
                    </a:solidFill>
                    <a:latin typeface="Tahoma"/>
                    <a:ea typeface="Arial"/>
                  </a:rPr>
                  <a:t>to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tak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stack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baci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k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895480" y="2819520"/>
            <a:ext cx="3200400" cy="533160"/>
            <a:chOff x="2895480" y="2819520"/>
            <a:chExt cx="3200400" cy="533160"/>
          </a:xfrm>
        </p:grpSpPr>
        <p:sp>
          <p:nvSpPr>
            <p:cNvPr id="154" name=""/>
            <p:cNvSpPr/>
            <p:nvPr/>
          </p:nvSpPr>
          <p:spPr>
            <a:xfrm>
              <a:off x="2895480" y="2819520"/>
              <a:ext cx="53352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62520" y="2819520"/>
              <a:ext cx="53316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95680" y="2819520"/>
              <a:ext cx="53352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29200" y="2819520"/>
              <a:ext cx="53352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9000" y="2819520"/>
              <a:ext cx="53352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62720" y="2819520"/>
              <a:ext cx="53316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521240" y="3428640"/>
            <a:ext cx="609480" cy="597240"/>
            <a:chOff x="4521240" y="3428640"/>
            <a:chExt cx="609480" cy="597240"/>
          </a:xfrm>
        </p:grpSpPr>
        <p:sp>
          <p:nvSpPr>
            <p:cNvPr id="161" name=""/>
            <p:cNvSpPr/>
            <p:nvPr/>
          </p:nvSpPr>
          <p:spPr>
            <a:xfrm flipV="1">
              <a:off x="4762440" y="34286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21240" y="3657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t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895480" y="4572000"/>
            <a:ext cx="3200400" cy="533520"/>
            <a:chOff x="2895480" y="4572000"/>
            <a:chExt cx="3200400" cy="533520"/>
          </a:xfrm>
        </p:grpSpPr>
        <p:sp>
          <p:nvSpPr>
            <p:cNvPr id="164" name=""/>
            <p:cNvSpPr/>
            <p:nvPr/>
          </p:nvSpPr>
          <p:spPr>
            <a:xfrm>
              <a:off x="2895480" y="457200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62520" y="4572000"/>
              <a:ext cx="53316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95680" y="457200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29200" y="457200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cc0000"/>
                  </a:solidFill>
                  <a:latin typeface="Tahoma"/>
                  <a:ea typeface="Arial"/>
                </a:rPr>
                <a:t>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29000" y="457200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2720" y="4572000"/>
              <a:ext cx="53316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029200" y="5181120"/>
            <a:ext cx="609480" cy="597240"/>
            <a:chOff x="5029200" y="5181120"/>
            <a:chExt cx="609480" cy="597240"/>
          </a:xfrm>
        </p:grpSpPr>
        <p:sp>
          <p:nvSpPr>
            <p:cNvPr id="171" name=""/>
            <p:cNvSpPr/>
            <p:nvPr/>
          </p:nvSpPr>
          <p:spPr>
            <a:xfrm flipV="1">
              <a:off x="5270400" y="51811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29200" y="54100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t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tak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stack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zbaci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k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895480" y="2819520"/>
            <a:ext cx="3200400" cy="533160"/>
            <a:chOff x="2895480" y="2819520"/>
            <a:chExt cx="3200400" cy="533160"/>
          </a:xfrm>
        </p:grpSpPr>
        <p:sp>
          <p:nvSpPr>
            <p:cNvPr id="176" name=""/>
            <p:cNvSpPr/>
            <p:nvPr/>
          </p:nvSpPr>
          <p:spPr>
            <a:xfrm>
              <a:off x="2895480" y="2819520"/>
              <a:ext cx="53352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62520" y="2819520"/>
              <a:ext cx="53316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95680" y="2819520"/>
              <a:ext cx="53352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29200" y="2819520"/>
              <a:ext cx="53352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29000" y="2819520"/>
              <a:ext cx="53352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62720" y="2819520"/>
              <a:ext cx="53316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521240" y="3428640"/>
            <a:ext cx="609480" cy="597240"/>
            <a:chOff x="4521240" y="3428640"/>
            <a:chExt cx="609480" cy="597240"/>
          </a:xfrm>
        </p:grpSpPr>
        <p:sp>
          <p:nvSpPr>
            <p:cNvPr id="183" name=""/>
            <p:cNvSpPr/>
            <p:nvPr/>
          </p:nvSpPr>
          <p:spPr>
            <a:xfrm flipV="1">
              <a:off x="4762440" y="34286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21240" y="3657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t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895480" y="4572000"/>
            <a:ext cx="3200400" cy="533520"/>
            <a:chOff x="2895480" y="4572000"/>
            <a:chExt cx="3200400" cy="533520"/>
          </a:xfrm>
        </p:grpSpPr>
        <p:sp>
          <p:nvSpPr>
            <p:cNvPr id="186" name=""/>
            <p:cNvSpPr/>
            <p:nvPr/>
          </p:nvSpPr>
          <p:spPr>
            <a:xfrm>
              <a:off x="2895480" y="457200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62520" y="4572000"/>
              <a:ext cx="53316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95680" y="457200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29200" y="457200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29000" y="4572000"/>
              <a:ext cx="5335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62720" y="4572000"/>
              <a:ext cx="53316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4038480" y="5181120"/>
            <a:ext cx="609480" cy="597240"/>
            <a:chOff x="4038480" y="5181120"/>
            <a:chExt cx="609480" cy="597240"/>
          </a:xfrm>
        </p:grpSpPr>
        <p:sp>
          <p:nvSpPr>
            <p:cNvPr id="193" name=""/>
            <p:cNvSpPr/>
            <p:nvPr/>
          </p:nvSpPr>
          <p:spPr>
            <a:xfrm flipV="1">
              <a:off x="4279680" y="51811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38480" y="54100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  <a:ea typeface="Arial"/>
                </a:rPr>
                <a:t>t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622760" y="2933640"/>
            <a:ext cx="304560" cy="304560"/>
            <a:chOff x="4622760" y="2933640"/>
            <a:chExt cx="304560" cy="304560"/>
          </a:xfrm>
        </p:grpSpPr>
        <p:sp>
          <p:nvSpPr>
            <p:cNvPr id="196" name=""/>
            <p:cNvSpPr/>
            <p:nvPr/>
          </p:nvSpPr>
          <p:spPr>
            <a:xfrm>
              <a:off x="4622760" y="2933640"/>
              <a:ext cx="304560" cy="3045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622760" y="2933640"/>
              <a:ext cx="304560" cy="3045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 flipH="1">
            <a:off x="4266720" y="3657600"/>
            <a:ext cx="381240" cy="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tak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stack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1776240"/>
            <a:ext cx="761976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ArrayStack 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implemen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ISt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{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protecte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[] da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protecte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to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ArrayStack(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data = 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[capacity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top = -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boolea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IsEmpty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top == -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649116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  <a:ea typeface="Arial"/>
              </a:rPr>
              <a:t>nastavak na sledećoj str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38080" y="1216080"/>
            <a:ext cx="769644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Push(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obj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(top &lt; data.length -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data[++top] = ob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Pop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(IsEmpty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Integer.MIN_I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Obj = data[top--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Ob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Peek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(IsEmpty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Integer.MIN_I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  <a:ea typeface="Arial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data[top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320" y="763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  <a:ea typeface="Arial"/>
              </a:rPr>
              <a:t>nastavak sa prethodne st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828800" y="2805120"/>
            <a:ext cx="54864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3T02:25:31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