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1EE-55DC-45C8-84D6-5D764333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59C-2BF9-45EB-988F-A0B59D9A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0F8-F0DB-4989-B75F-C166EBF7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CDED-91ED-4073-B428-3820670A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6684-97CB-49A4-AEB9-4AB7B942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E540-746B-45EF-A64E-C402230E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1EBD-5C1B-4CB5-AF20-7E3B9CB4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1920-2176-4B6D-8CEF-C33F592E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31E8-4445-4189-B3CC-34228BF3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22AF-5DA8-4EF6-9CDC-D902094C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4FFE-2D19-4C9B-9D75-152CE0F4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92F-EAF5-410B-8515-6F04CE01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8987-A790-4302-83EE-4410DDB8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7C06-73DE-4E60-A04E-92D905AA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B554-6D05-48F0-BFA5-51B2D8B8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CF3D-F082-4768-80A3-56620268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FD71-4CCA-4315-82F3-A9E2460B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1313-C8B7-4703-A39B-BD4B4ED3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ED43-0C7F-4239-AD55-69FED38B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7E154-0D81-431E-B8DB-5880A2CD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781FE-FA79-47A5-91B1-6FF98F8A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5EDF-875F-44E7-93D3-7C8844D3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4B0-FBA7-4061-A5C6-9FFE08EF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FB38-F4C9-43C9-B582-B60CBAE4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6043F-A4EC-455A-B850-535269DC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DFB8F-36B9-41DF-8545-D7BF2C85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44C42-B3B6-4E39-87E6-6C7FD112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C0249-DEEB-473F-95B4-8CBC3D93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CC26-5249-42D5-A888-717D054F5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B9FF-9DEB-4097-8F56-4B755A764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E712-A04E-4F49-A711-3F3DAD96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6BD-185F-4586-9082-8B3E2AF4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F0CB-4B05-4755-9067-2CBD7F73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523-C744-4BD1-B6B4-68F14F8E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023-9F04-4F57-B34C-5A67E7CB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1A6E-09B9-42A5-B125-9DDB8A81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F350-D25B-4B4C-BC74-78A2781F6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2C9C-E238-41C8-921D-336665BBA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BE46-AF6E-4ABD-81CA-8030DBF10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ubble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v od kraja niza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ređuje susedne elemente i zamenjuje ih ukoliko nisu u odgovarajućem 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led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jm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j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vrednosti “isplivava na površinu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eća na izranjanje mehurića iz v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k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v od početka niza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ređuje susedne elemente i zamenjuje ih ukoliko nisu u odgovarajućem r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led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jveć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vrednosti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on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k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2209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743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3276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14600" y="43434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14600" y="3809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14600" y="48769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743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3276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2209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43434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3809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7600" y="48769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3809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43434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2209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3276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2743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48769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43434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48769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22096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3276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943600" y="27432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809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92 L -0.02118 0.01991 C -0.02604 0.02431 -0.02865 0.03125 -0.02865 0.03796 C -0.02865 0.04583 -0.02604 0.05232 -0.02118 0.05695 L 0.00052 0.07847 E">
                                      <p:cBhvr>
                                        <p:cTn id="247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1.11111E-006 L 0.02205 -0.02107 C 0.02691 -0.02546 0.02969 -0.03195 0.02969 -0.03889 C 0.02969 -0.04653 0.02691 -0.05278 0.02205 -0.05718 L 0.00052 -0.07778 E">
                                      <p:cBhvr>
                                        <p:cTn id="249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93 L -0.02118 0.01991 C -0.02604 0.0243 -0.02865 0.03125 -0.02865 0.03796 C -0.02865 0.04583 -0.02604 0.05231 -0.02118 0.05694 L 0.00052 0.07847 E">
                                      <p:cBhvr>
                                        <p:cTn id="27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92 L 0.02205 -0.02014 C 0.02691 -0.02454 0.02969 -0.03102 0.02969 -0.03797 C 0.02969 -0.04561 0.02691 -0.05186 0.02205 -0.05625 L 0.00052 -0.07686 E">
                                      <p:cBhvr>
                                        <p:cTn id="27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92 L -0.02118 0.01991 C -0.02604 0.02431 -0.02865 0.03125 -0.02865 0.03797 C -0.02865 0.04584 -0.02604 0.05232 -0.02118 0.05695 L 0.00052 0.07848 E">
                                      <p:cBhvr>
                                        <p:cTn id="312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93 L 0.02205 -0.02014 C 0.02691 -0.02453 0.02969 -0.03102 0.02969 -0.03796 C 0.02969 -0.0456 0.02691 -0.05185 0.02205 -0.05625 L 0.00052 -0.07685 E">
                                      <p:cBhvr>
                                        <p:cTn id="314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0092 L -0.02118 0.01991 C -0.02604 0.02431 -0.02865 0.03125 -0.02865 0.03797 C -0.02865 0.04584 -0.02604 0.05232 -0.02118 0.05695 L 0.00052 0.07848 E">
                                      <p:cBhvr>
                                        <p:cTn id="34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00093 L 0.02205 -0.02014 C 0.02691 -0.02453 0.02969 -0.03102 0.02969 -0.03796 C 0.02969 -0.0456 0.02691 -0.05185 0.02205 -0.05625 L 0.00052 -0.07685 E">
                                      <p:cBhvr>
                                        <p:cTn id="343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14400" y="1371600"/>
            <a:ext cx="7391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Sink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Sort(int[] 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int i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, 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j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, 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for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 = 0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; i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&lt;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aArray.length -1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i++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for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( j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0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; j &lt;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aArray.length -2 - i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; j++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if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( 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[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j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] &gt; 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[j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+1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]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temp = 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[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j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[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j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] = 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[j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+1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rray[j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+1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] 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ahoma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k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Приказ и анализа ефикасности различитих алгоритама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начинима сортирања линеарн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1. Приказ и анализа ефикасности различитих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репродукује начине анализе ефикасности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. Алгоритми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следеће алгоритме за сортирање: метода селекције, метода сортирања убацивањем, мехурасти сорт, брзи сорт, сортирање спајањ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Приказ и анализа ефикасности различитих алгоритама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1. Приказ и анализа ефикасности различитих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репродукује начине анализе ефикасности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блем сортир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ортирање је операција која уређује све елем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те низ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растућем или опадајућем редосл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i] &lt;= a[i+1] za svako i=1,n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тућ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i] =&gt; a[i+1] za svako i=1,n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адајућ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многим ситуацијама су потребни сортирани низ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р алгоритам за бинарно претражи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oritmi za sort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ода избора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ода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amen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(Sink)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ода уметања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елова метода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ll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ода гомиле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p s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тода спајања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за метода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 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lection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ortiranje element po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lazak kroz nesortiran deo i pronalaženje najmanjeg/najvećeg elem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dnostavan za implementa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fikasan na malom broju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ikasnost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2 poređenja i n zame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ustracija Selection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1905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905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038480" y="1905120"/>
            <a:ext cx="2133720" cy="533160"/>
            <a:chOff x="4038480" y="1905120"/>
            <a:chExt cx="2133720" cy="533160"/>
          </a:xfrm>
        </p:grpSpPr>
        <p:sp>
          <p:nvSpPr>
            <p:cNvPr id="141" name=""/>
            <p:cNvSpPr/>
            <p:nvPr/>
          </p:nvSpPr>
          <p:spPr>
            <a:xfrm>
              <a:off x="4038480" y="1905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1905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05520" y="1905120"/>
              <a:ext cx="5331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38680" y="1905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971800" y="2666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26668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2666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572000" y="2666880"/>
            <a:ext cx="1600200" cy="533160"/>
            <a:chOff x="4572000" y="2666880"/>
            <a:chExt cx="1600200" cy="533160"/>
          </a:xfrm>
        </p:grpSpPr>
        <p:sp>
          <p:nvSpPr>
            <p:cNvPr id="149" name=""/>
            <p:cNvSpPr/>
            <p:nvPr/>
          </p:nvSpPr>
          <p:spPr>
            <a:xfrm>
              <a:off x="4572000" y="266688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5520" y="2666880"/>
              <a:ext cx="5331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38680" y="266688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ahoma"/>
                  <a:ea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038480" y="342900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42900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971800" y="3429000"/>
            <a:ext cx="3200400" cy="533160"/>
            <a:chOff x="2971800" y="3429000"/>
            <a:chExt cx="3200400" cy="533160"/>
          </a:xfrm>
        </p:grpSpPr>
        <p:grpSp>
          <p:nvGrpSpPr>
            <p:cNvPr id="155" name=""/>
            <p:cNvGrpSpPr/>
            <p:nvPr/>
          </p:nvGrpSpPr>
          <p:grpSpPr>
            <a:xfrm>
              <a:off x="2971800" y="3429000"/>
              <a:ext cx="1066680" cy="533160"/>
              <a:chOff x="2971800" y="3429000"/>
              <a:chExt cx="1066680" cy="533160"/>
            </a:xfrm>
          </p:grpSpPr>
          <p:sp>
            <p:nvSpPr>
              <p:cNvPr id="156" name=""/>
              <p:cNvSpPr/>
              <p:nvPr/>
            </p:nvSpPr>
            <p:spPr>
              <a:xfrm>
                <a:off x="2971800" y="3429000"/>
                <a:ext cx="533520" cy="533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003300"/>
                    </a:solidFill>
                    <a:latin typeface="Tahoma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505320" y="3429000"/>
                <a:ext cx="533160" cy="533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003300"/>
                    </a:solidFill>
                    <a:latin typeface="Tahoma"/>
                    <a:ea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572000" y="3429000"/>
              <a:ext cx="1600200" cy="533160"/>
              <a:chOff x="4572000" y="3429000"/>
              <a:chExt cx="1600200" cy="533160"/>
            </a:xfrm>
          </p:grpSpPr>
          <p:sp>
            <p:nvSpPr>
              <p:cNvPr id="159" name=""/>
              <p:cNvSpPr/>
              <p:nvPr/>
            </p:nvSpPr>
            <p:spPr>
              <a:xfrm>
                <a:off x="4572000" y="3429000"/>
                <a:ext cx="533520" cy="533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638680" y="3429000"/>
                <a:ext cx="533520" cy="5331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4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2971800" y="4191120"/>
            <a:ext cx="1600200" cy="533160"/>
            <a:chOff x="2971800" y="4191120"/>
            <a:chExt cx="1600200" cy="533160"/>
          </a:xfrm>
        </p:grpSpPr>
        <p:sp>
          <p:nvSpPr>
            <p:cNvPr id="162" name=""/>
            <p:cNvSpPr/>
            <p:nvPr/>
          </p:nvSpPr>
          <p:spPr>
            <a:xfrm>
              <a:off x="2971800" y="4191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3300"/>
                  </a:solidFill>
                  <a:latin typeface="Tahoma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5320" y="4191120"/>
              <a:ext cx="53316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3300"/>
                  </a:solidFill>
                  <a:latin typeface="Tahoma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38480" y="4191120"/>
              <a:ext cx="533520" cy="533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3300"/>
                  </a:solidFill>
                  <a:latin typeface="Tahoma"/>
                  <a:ea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572000" y="4191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4191120"/>
            <a:ext cx="5331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41911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952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9528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4952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4952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00"/>
                </a:solidFill>
                <a:latin typeface="Tahoma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4952880"/>
            <a:ext cx="5331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4952880"/>
            <a:ext cx="533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69 L -0.01493 0.02893 C -0.01823 0.03541 -0.02292 0.03958 -0.02778 0.03958 C -0.03368 0.03958 -0.03819 0.03541 -0.04149 0.02893 L -0.05625 0.00069 E">
                                      <p:cBhvr>
                                        <p:cTn id="95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0.0007 L 0.01684 -0.02847 C 0.02014 -0.03518 0.02517 -0.03865 0.03003 -0.03865 C 0.03593 -0.03865 0.04045 -0.03518 0.04392 -0.02847 L 0.06007 0.0007 E">
                                      <p:cBhvr>
                                        <p:cTn id="97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116 L -0.01614 0.02986 C -0.01961 0.03635 -0.02448 0.04005 -0.02951 0.04005 C -0.03541 0.04005 -0.0401 0.03635 -0.04357 0.02986 L -0.0592 0.00116 E">
                                      <p:cBhvr>
                                        <p:cTn id="12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0069 L 0.01372 -0.02824 C 0.01701 -0.03472 0.02222 -0.0382 0.02726 -0.0382 C 0.03299 -0.0382 0.03785 -0.03472 0.04115 -0.02824 L 0.05747 0.00069 E">
                                      <p:cBhvr>
                                        <p:cTn id="12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0069 L -0.03142 0.04583 C -0.03785 0.05602 -0.04774 0.0618 -0.05799 0.0618 C -0.06962 0.0618 -0.07899 0.05602 -0.08542 0.04583 L -0.11667 0.00069 E">
                                      <p:cBhvr>
                                        <p:cTn id="14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007 L 0.03177 -0.04467 C 0.03837 -0.05486 0.04792 -0.06041 0.05834 -0.06041 C 0.06997 -0.06041 0.07917 -0.05486 0.08577 -0.04467 L 0.11754 0.0007 E">
                                      <p:cBhvr>
                                        <p:cTn id="14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.00069 L -0.03142 0.04583 C -0.03784 0.05602 -0.04757 0.06181 -0.05764 0.06181 C -0.06944 0.06181 -0.07864 0.05602 -0.08507 0.04583 L -0.11562 0.00069 E">
                                      <p:cBhvr>
                                        <p:cTn id="17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1.11022E-016 L 0.03316 -0.04537 C 0.03958 -0.05556 0.04896 -0.06111 0.05885 -0.06111 C 0.07014 -0.06111 0.07899 -0.05556 0.08541 -0.04537 L 0.11562 1.11022E-016 E">
                                      <p:cBhvr>
                                        <p:cTn id="17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1371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public void SelectionSort(int[]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 i, 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int min,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for (i = 0; i &lt;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.l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ength - 1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min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for (j = i + 1; j &lt;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.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l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ength; j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if (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j] &lt;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min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min = 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temp =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i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i] = 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min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Courier New"/>
                <a:ea typeface="Arial"/>
              </a:rPr>
              <a:t>A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rray[min] = te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goritam Selection s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oda zam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poređuje susedne elemente i zamenjuje ih ukoliko nisu u odgovarajućem re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oje dve verzije algorit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bble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nk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 po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đenja 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zamena u proseku i u najgorem sluča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jsporiji od svih O(n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algorit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6T08:34:56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