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97C-9B1E-4B88-8E7A-DF241BE6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B74-1A48-40F7-A1E6-EADE3080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29B-085C-42BA-881E-8EE5F8D0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756-79D1-4A45-A08E-4D0E5C15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8721-88B7-4ED6-80BF-2C64D996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ABBE-BFAD-4ED1-ABD1-569C7157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A499-7797-4E1C-B76C-6A097AF9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46B7-6D77-416C-8A10-5262AFBC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3B0F-81A6-4F28-B3C0-0EEB3B7F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CD01-AA28-4F98-8454-7E5840D2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DBE9-3762-41CC-9C3F-43BE1717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A06-8D0C-4AE4-9E73-F2F7C41F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FC3D-702D-409F-886D-79DE3F8F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AD45-C92E-45D8-9661-46EDF1B8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01F9-BA79-4CF2-AE99-3E9B5571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1844-C9AB-449C-8B3C-8C3F5797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A4C-35B7-47BC-B0C5-3C2E2550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BF48C-6639-4EB3-BAA9-0CD7B5DA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5319-7A7D-4B97-BE0B-5D770A70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77BD-B9F0-4AC3-9558-30DA5052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D9DB-86AE-4A33-9614-6A04EA9C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44DB-2EDE-4B46-BDAD-437A6D77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40C-56DE-46E1-A236-A02465D1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4E8E-82F5-4AF7-AD72-E7FDF9A3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0988-3E3B-449E-9477-125E42B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B460-3945-4C16-A097-257C5DD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17799-27BC-4AC7-B4EC-123321A8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61DCB-C7C6-4DF7-8F47-6A27BA9D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6F73-8A7E-4AE2-9BA8-5820F42C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2D92-ED12-4D64-8B87-30502181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F8B-FF42-48D5-9571-F479EBCC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7BF-1E9F-491C-9B74-EF8EB36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8E3-B5A0-4910-BA77-20609B83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B33-97D3-4719-A751-1F616C03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622-4957-4B55-B63D-C85EC1C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DFB-D1CE-48B5-AE9C-115EB750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8436-EFCF-4D2C-AED3-96B2D8DED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3C86-65EE-40FB-A2AA-8346C285A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A07D-BB11-4FD3-818C-92A0145EA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vate void MoveRow(int row, int length)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or(int col = 0; col &lt;= length-1; col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djMatrix[row, col] = adjMatrix[row+1, col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vate void MoveCol(int col, int length)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or(int row = 0; row &lt;= length-1; row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djMatrix[row, col] = adjMatrix[row, col+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blic void TopSort()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origVerts = numVert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hile(numVertices &gt; 0)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currVertex = noSuccessor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 (currVertex == -1)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onsole.WriteLine("Error: graph has cycles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Stack.Push(vertices[currVertex].labe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Vertex(currVerte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onsole.Write("Topological sorting order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hile (gStack.Count &g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onsole.Write(gStack.Pop() + "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zitivni zatvara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anzitivni zatvara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af T je tranzitivni zatvarač grafa G akko postoji luk (i,j) u grafu T ako postoji puitanja bilo koje dužine u grafu G između čvorova i i 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 – matrica sused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tanje duzin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P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tanje dužin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PxPx ..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tanje dužine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ranzitivni zatvara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goritam koji stepenuje matricu susedstva na n-ti stepen nije efik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Warshall-ov algor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k(i,j) = 1 ako postoji putanja od i do j koja prolazi kroz čvorove koji su numerisani do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k+1(i,j) = 1 ak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(i,j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k(i,k+1) and Pk(k+1,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fikasnost je O(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Warshall-ov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oid Warshal(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 0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&lt;= numVertices-1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+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= 0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&lt;= numVertices-1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+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 (adjMatrix[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]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&lt;= numVertices-1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jMatrix[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jMatrix[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jMatrix[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и над графов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9942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 Графови и мре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из области графова и мреж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3. Имплементација графова и мр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концепте везане за графове и мреж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.4. Алгоритми над графовим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топологијски сорт, транзитивни затварач и проналазак најкраћег растој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лгоритми над графовим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.4. Алгоритми над графови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, објасни и користи алгоритме за пролазак кроз граф, топологијски сорт, транзитивни затварач и проналазак најкраћег растоја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nearno uređenje čvorova grafa tako da nijedan čvor i koji prethodi nekom čvoru j ne bude u lineranoj listi posle čvora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nljivo samo na orijentisane aciklične graf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pri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plogijski sort: A, C, E, B, D,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81080" y="1600200"/>
          <a:ext cx="381024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381024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pologijski s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ji čvor bez sledb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 ga na li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 iz grafa nađeni čvor i sve njegove luk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novi korake 1-3 sve dok graf ne ostane pra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opologijski sort zahteva dve osnovne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laženje čvora koji nema sledb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vanje čvora i svih njegovih lu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 za realizaciju grafa preko matrice sused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blic int NoSuccessors(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ool isEd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row = 0; row &lt;= numVertices-1; row++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Edge =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col = 0 col &lt;= numVertices-1; col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 (adjMatrix[row, col] &gt; 0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Edge =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 (!(isEdg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turn r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opologijski sort -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ublic void DelVertex(int v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 (vert ! = numVertices-1)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j = vert; j &lt;= numVertices-1; j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rtices[j] = vertices[j+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row = vert; row &lt;= numVertices-1; row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veRow[row, numVertices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(int col = vert; col &lt;= numVertices-1; col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veCol[row, numVertices-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5-20T14:12:56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