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DEA2-8122-4724-A8A9-A1DAC6BB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E309-B8FB-4F3D-8B4E-B7F6B377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979-1559-4873-93D7-9EA104DB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77E-F8D7-4424-8B1A-545AE4D1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730C-AB1D-47BC-83DE-C929EC24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CD8D-82CF-4F2C-A70E-A3E92E77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A42E-1D89-41BC-AE9C-D4DEFDD5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01F7-2DA8-4F8F-9DEE-750BEC91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38B0-E793-4674-A083-E66D17EC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5621-5908-4343-8085-D4F1F58B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92CB-A476-4518-A1EA-B5E8B7D5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2CA-FF62-4503-A1A5-9FFD9F19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E632-D19E-43D9-92AC-D3425FAD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26F3-8B27-4C87-A2F7-993549EA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AF21-A90E-44F8-85A5-0C3EBA60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3D8F-03FB-427A-86D2-1FA81793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EC00-E1DB-4DE1-A793-88F51375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4B304-5828-491F-A05A-B4FB75B1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5E479-211F-434D-9E3C-7E27AC28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283A9-8330-4604-AF60-92C4F241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62026-77CB-4871-B6B6-CFD90C43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F364E-580B-468B-BEAA-918E91A4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1838-5730-419D-B5FA-3688E716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EE590-977C-47A8-A789-683D9E09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F7C53-AC17-4000-A7E3-75DCC860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BD85B-CD45-45A8-B93E-E3C5EEE1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4DF28-1BE4-4BBE-89D4-466D72E4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08A7D-E844-4A86-8B63-45B3C754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2C8E0-6774-4383-AB76-AF823D42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7006D-E3EA-4DB0-8F45-7F0B9840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8447-16D4-48C7-944C-72AF3570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56D0-A2DC-490B-B8C4-78076C6C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9315-F147-4F38-B460-BBC30887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6630-CD98-478F-9709-E2A912C8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993E-310F-4D7E-AFF6-D7CE4E25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F1B9-E656-4D0F-A3E5-4ADCB5E6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6E60-6FA3-40C3-A7EB-A3D1E7EE7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DDFD-3ADE-40BE-A0B2-2913D067C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B1C2-BCA4-4D4E-88B4-66A111BBD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rafovi i mreže – osnovni term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72464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. Графови и мреж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владавање основним концептима из области графова и мреж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1.1. Основни терми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одукује основне концепте везане за графове и мреж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2. Пролази кроз гра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, објасни и користи алгоритме за пролазак кроз гра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rafovi i mreže – osnovni term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.1. Основни терми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основне концепте везане за графове и мреж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v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rafovi su nelinearne strukture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dstavljaju najopštije strukture po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dnos između elemenata nije linearan; jedna element može imati više sledbenika i više prethod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ma ograničenja u pogledu povezivanja elemen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lement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raf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se nazivaju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čvor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eze između čvorova se nazivaju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luk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efini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ruktura podataka B=(K,R); K-skup čvorova i R - binarna relacija nad skupom K i to tako da svaki par čvorova (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€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 kažemo da obrazuje luk gra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uk l = (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 povezuje čvor 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sa čvorom 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i to tako da čvor 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prethodi čvoru 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inarn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vo je definicija tzv.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orijentisanih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graf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graf kažemo da je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neorjentisa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ukoliko va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€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€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snovni term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luk l = (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kažemo da je 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očetni čvor luka l, a za 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 je završni čvor lu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že se i da luk izlazi iz čvora k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da ulazi u čvor k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dva čvora se kaže da su susedni ukoliko postoji luk koji ih sp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dva luka se kaže da su susedni ukoliko imaju jedan zajednički č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vor koji nema susednih čvorova se naziva izolovani č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prethodnom primeru čvor E je izolovani č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uk kod koga su identični završni i početni čvor se naziva petlj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prethodnom primeru luk nad čvorom B je pet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snovni term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ukovi čiji završni čvor jednog je identičan početnom čvoru drugog se naziva put gra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ut kod koga su početni čvor prvog luka i završni čvor poslednjeg luka identični se naziva cik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oj lukova koji obrazuje put se naziva dužinom p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d petlje dužina puta je 1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d neorjentisanog  grafa se umesto termina put koristi termin lana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graf kažemo da je povezan ukoliko između svaka dva čvora postoji lan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graf kažemo da je stogo povezan ukoliko između svaka dva čvora postoji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rafička predstava grafo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Rectangle 3"/>
          <p:cNvGraphicFramePr/>
          <p:nvPr/>
        </p:nvGraphicFramePr>
        <p:xfrm>
          <a:off x="2308320" y="1373040"/>
          <a:ext cx="4284720" cy="35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8320" y="1373040"/>
                    <a:ext cx="428472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rež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79246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rafovi kod kojih se likovima pridružuje neki podatak se naziva mrež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: putna mrež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orijentisan gr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Rectangle 3"/>
          <p:cNvGraphicFramePr/>
          <p:nvPr/>
        </p:nvGraphicFramePr>
        <p:xfrm>
          <a:off x="3962520" y="2133720"/>
          <a:ext cx="40179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133720"/>
                    <a:ext cx="40179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9T20:51:59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