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0690-13CE-4430-AAAD-54D471E3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C9AB-97B9-4BE1-AB03-E78D105F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B6A-3705-49BC-B1A8-69B3BD63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5F4-0F12-42A1-AFAF-3E5971BF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270D-46F8-4A4A-8FA4-C983F99A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C245-41FC-429E-99CA-C047734B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4387-2E90-442B-B5CA-78E50B23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C193-2AA6-4FD3-9DB3-86C17DCD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DB67-9A49-4FD3-A411-08953A6D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0A92-C2CC-4904-A6CB-B95BC9C8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7B55-F873-423D-9905-9E8370D1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4BD1-D22C-4396-9730-F4AE5C7F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D7FF-7A48-4CAE-BC61-40944894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FB72-0E3A-4767-B38E-7D43934C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1870-4EDE-4C58-95EB-CE231473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2124-8E09-4C85-8CAF-4F6976DE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272E-3406-4B5F-8040-A3F035DC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7DCB3-B08E-4BD9-9BE4-BB0633FD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4E31E-3E3C-4BA1-9439-39C919F9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2BA67-4638-40F6-B8F2-E9A4D53F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77186-B5B7-4100-A1AF-F8F76E2E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31B73-09F9-44B4-A07A-AE931373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A68C-43D9-43E7-97FB-CD353023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2193D-C43A-4FB4-AB8A-A8D18F96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50FE8-EF88-4F2D-998E-388D63E0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C1880-4B68-4953-949B-CB42CD55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29573-5FAF-4F61-9AEC-9E685575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DDDB4-989C-448B-B93C-F79E75C9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28F57-3446-41A3-B327-255A6ED5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ABA2B-A504-4E68-BF07-17F59E65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4F86-E8BB-4B38-8EAA-CE6CA261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6726-4005-4C7B-A906-2B1353B9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2134-BB14-48BA-BA8E-73FC4A50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84E1-D997-41A6-BD1C-E6DA4EBF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C95C-CB6C-4403-B318-1DE2C43E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6835-C019-4588-958F-1CD6936C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AB59-024C-4B36-85BA-5E87C1241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0C3B-1E59-4311-A94E-F742D0CC1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4F1C-B3F6-4B4B-8EBF-594E8B01D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zbacivanje iz B-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kon izbacivanja ključa 17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2421000"/>
          <a:ext cx="9001080" cy="40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1000"/>
                    <a:ext cx="9001080" cy="40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fikasnost B-stabal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ka je red stabla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j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kupan broj ključeva u stabl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vaki čvor sadrži najman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q = (m-1) div</a:t>
            </a:r>
            <a:r>
              <a:rPr b="1" i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ključe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80880" y="-76320"/>
            <a:ext cx="82296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fikasnost B-staba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16000" y="1095480"/>
            <a:ext cx="711360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80880" y="-76320"/>
            <a:ext cx="82296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fikasnost B-staba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z minimalnog broja ključeva pronalazimo da je maksimalna visina (d) B-stab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= 2(q+1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d-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garitmujući levu i desnu stranu dobija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g</a:t>
            </a:r>
            <a:r>
              <a:rPr b="0" lang="sr-Latn-C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q+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= log</a:t>
            </a:r>
            <a:r>
              <a:rPr b="0" lang="sr-Latn-C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q+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(q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1 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d-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ređivanjem dobija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g</a:t>
            </a:r>
            <a:r>
              <a:rPr b="0" lang="sr-Latn-C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q+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- log</a:t>
            </a:r>
            <a:r>
              <a:rPr b="0" lang="sr-Latn-C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q+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 = (d-1) log</a:t>
            </a:r>
            <a:r>
              <a:rPr b="0" lang="sr-Latn-C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q+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q+1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iz toga sle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 = log</a:t>
            </a:r>
            <a:r>
              <a:rPr b="0" lang="sr-Latn-C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q+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n/2)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B* sta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* - Pobolj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n algoritam ubac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mesto da se čvor u kome nema mesta za novi ključ odmah cepa, vrše se prethodno pozajmica viška ključeva njegovoj brać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ek ako pozajmica nije moguća (ako su braća popunjena) se vrši cep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B+ sta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mogućava i sekvencijalni prist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2066760"/>
          <a:ext cx="8928000" cy="47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6760"/>
                    <a:ext cx="892800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Алгоритми за претраживање, убацивање и избацивање. Анализа ефик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8880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 Претраживање вишегранских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стандардним алгоритмима за претраживање вишегранских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. Б, Б* и Б</a:t>
                      </a:r>
                      <a:r>
                        <a:rPr b="0" lang="sr-CS" sz="16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објасни принципе функционисања Б, Б* и Б</a:t>
                      </a:r>
                      <a:r>
                        <a:rPr b="0" lang="sr-CS" sz="16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9.2. Алгоритми за претраживање, убацивање и избацивање. Анализа ефикас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објасни и користи алгоритме за претраживање, убацивање, избацивање и анализу ефик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Алгоритми за претраживање, убацивање и избацивање. Анализа ефик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5192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9.2 Алгоритам за избацивање из Б-стабла; Б*-стабла, Б+-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умети поступак избацивања из Б.стабла. Упознати се са концептом Б* и Б+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zbacivanje iz B-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 slučaja izbaciva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se ključ koji se izbacuje nalazi u čvoru koji nije lis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taj čvor l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. Izbacivanje iz čvor koji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nij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odi se na izbacivanje iz čvora koji jest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nalazi se prethodnik (ili sledbenik) datog ključ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thodnik (sledbenik) se nalazi na krajnjoj desnoj (levoj) poziciji u krajnjem desnom (levom) čvoru u levom (desnom) podstablu datog ključ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zbacivanje iz B-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. Izbacivanje iz čvor koji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j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blem se javlja ako nakon izbacivanja u listu ostaje manje od n/2 ključ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manje od n/2 ključ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zjmjuje se od levog ili desnog brata ključe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nijedan brat nema dovoljno ključeva tada se dati čvor spaja sa nekim od svoje braće. Tom prilikom se spušta njihov nadređeni ključ iz nadređenog čv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spuštanje nadređenog ključa narušava integritet onda se postupak izbacivanja rekurzivno ponav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zbacivanje iz B-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mer izbacivanja ključa 1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Rectangle 3"/>
          <p:cNvGraphicFramePr/>
          <p:nvPr/>
        </p:nvGraphicFramePr>
        <p:xfrm>
          <a:off x="826920" y="2492280"/>
          <a:ext cx="7417080" cy="37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492280"/>
                    <a:ext cx="7417080" cy="37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zbacivanje iz B-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kon izbacivanja ključa 1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Rectangle 3"/>
          <p:cNvGraphicFramePr/>
          <p:nvPr/>
        </p:nvGraphicFramePr>
        <p:xfrm>
          <a:off x="750960" y="2484360"/>
          <a:ext cx="6708600" cy="35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2484360"/>
                    <a:ext cx="670860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zbacivanje iz B-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kon izbacivanja ključa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55640" y="2252520"/>
          <a:ext cx="748836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252520"/>
                    <a:ext cx="748836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zbacivanje iz B-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mer izbacivanja ključa 17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2276640"/>
          <a:ext cx="8748720" cy="41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8748720" cy="41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8T16:40:51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