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35F-BD8A-4B67-A8A8-1780A3DF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6D2-6292-42AD-8C6E-7D9527AD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A60-7383-4A86-9ECD-29ED7D5C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6D7-C6CF-4BA0-BC74-466AA100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59B5-E513-4506-8690-83E6ACB7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3366-E863-4F97-84D8-7254DDA8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9C76-65A1-4633-8DBC-728382E3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B6D6-86CB-446E-8E8C-E4789353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BB28-9110-4060-8572-988EDA33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810D-3E9E-4122-A1D7-1CF26657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39FD-FCAB-4E6C-81AF-7657AC0B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800-D163-4180-A1B0-1BEF0E03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9B37-B5C5-459F-8F7A-7964525B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689E-A5A2-427D-A4E3-F5B55638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1379-DAB3-4D18-B6FD-C6D2CD6C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79E3-B48B-472B-8A27-1EE40909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14F3-8C9F-436A-AB7A-C30CD5BB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A3C6-F4AE-418E-9E4C-DDB91A20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2EF68-D801-4088-82A0-6E6D8652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2BF06-1523-44F7-8294-3909A420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496C-7E06-4CDE-90D0-BFE346EF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51BA2-B790-4764-ADF8-E98DE159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992-4C8D-481A-8A4C-A2805255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7944D-B106-4FA9-BB2C-EFD1307E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37E6A-3294-4D5E-9D38-38540837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4D14B-EB94-4A7F-B3D9-0E2FE79A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17851-DD43-402C-A8A3-CD52E0DB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93724-3F3A-4920-9ADA-3D9DB1B8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7F2AF-DB3F-418E-BB8A-B18DF795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1C31-5D88-474F-BFDA-365560CC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E0D-3718-4B09-AA82-F3C8434F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5FC-F059-4EDD-811F-261A15F0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2F4-3C72-46FC-9F6D-D0520CC5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84D-A12E-46F3-ADF2-F8D821FA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216-F26B-4EA3-BB99-652B2D09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BDC-7ED0-4AD2-A439-5D8634A7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B7EB-96C3-47B4-BC32-0C0753584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BA1F-9F0D-48C3-A33B-BEC5C768F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8338-3160-4780-B45C-FE4A3BBF0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r ubaci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e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3200400"/>
          <a:ext cx="327672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327672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724280" y="3048120"/>
          <a:ext cx="327672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048120"/>
                    <a:ext cx="327672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r ubaci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e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2590920"/>
          <a:ext cx="3352680" cy="24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3352680" cy="24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Rectangle 3"/>
          <p:cNvGraphicFramePr/>
          <p:nvPr/>
        </p:nvGraphicFramePr>
        <p:xfrm>
          <a:off x="4495680" y="2514600"/>
          <a:ext cx="3657600" cy="292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514600"/>
                    <a:ext cx="365760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r ubaci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kon 1. rotaci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Rectangle 3"/>
          <p:cNvGraphicFramePr/>
          <p:nvPr/>
        </p:nvGraphicFramePr>
        <p:xfrm>
          <a:off x="685800" y="2971800"/>
          <a:ext cx="3352680" cy="26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71800"/>
                    <a:ext cx="335268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kon 2. rotaci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952880" y="3124080"/>
          <a:ext cx="3505320" cy="20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124080"/>
                    <a:ext cx="350532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bacivanje iz AVL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bacivanje iz AVL stabla se vrši na sledeći nač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. Izbaci se čvor na isti način kao kod B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 sluča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or list – samo se izb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or polu-list – preveže se dete na rodit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or unutrašnji – vrši se zamena sa prethodnikom (sledbenikom) i svodi se na prva dva sluč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. Provri se debalans i vrše potrebne (jedna ili dve) rotacije kao i kod ubac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r izbaci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u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50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23880" y="2962440"/>
          <a:ext cx="309564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2962440"/>
                    <a:ext cx="309564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343400" y="2895480"/>
          <a:ext cx="327672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895480"/>
                    <a:ext cx="327672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r izbaci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kon izbacivanja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09480" y="2438280"/>
          <a:ext cx="4037040" cy="31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8280"/>
                    <a:ext cx="403704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105520" y="2895480"/>
          <a:ext cx="2763720" cy="21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895480"/>
                    <a:ext cx="276372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kon rotac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претраживање, убацивање и избацивање. Анализа ефик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8880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Претраживање бинарн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стандардним алгоритмима за претраживање бинарн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1. Стабло за бинарно претраживање и АВЛ стаб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принципе функционисања стабла за бинарно претраживање и АВЛ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8.2. Алгоритми за претраживање, убацивање и избацивање. Анализа ефик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и користи алгоритме за претраживање, убацивање, избацивање и анализу ефик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alibri"/>
              </a:rPr>
              <a:t>Visinski balansirana stablo - AV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8.2. АВЛ стаб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принципе функционисањ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ВЛ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-766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alibri"/>
              </a:rPr>
              <a:t>Visinski balansirana stablo - AV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ST stablo kod koga za svaki čvor važi da se visina njegovog levog i desnog podstabla ne razlikuje za više od 1 se naziva visinski balansirano stablo ili AVL stab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VL po imenima naučnika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dison,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sky i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din koji su predložili ovakvo stab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ava problem najgoreg slučaja kod B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traživanje garantovano ima efikasnost O(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odnosu na BST ima modifikovani algoritme za ubacivanje i izbac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sniva se na rotaci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tacije mogu biti na levo i na des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otacija na des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otacije na des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23800" y="2743200"/>
          <a:ext cx="3654360" cy="24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743200"/>
                    <a:ext cx="365436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952880" y="2819520"/>
          <a:ext cx="3654720" cy="24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819520"/>
                    <a:ext cx="365472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886200" y="3657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otacija na le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otacije na l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23800" y="2743200"/>
          <a:ext cx="3654360" cy="24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743200"/>
                    <a:ext cx="365436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886200" y="3657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876920" y="2819520"/>
          <a:ext cx="3654360" cy="24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819520"/>
                    <a:ext cx="365436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alansiranje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tacije menjaju visinski balans 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tacija na desno povećava debalans u korist desnog podstab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tacija na levo povećava debalans u korist levog podstab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vo se koristi kod algoritama za ubacivanje i izbac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a operacija naruši visinski balans, tj. stvori se debalans na jednoj strani, primenjuje se odgovarajuća rotacija da koriguje deba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tacije je uvek suprotna debalansu kako bi izjednačila bal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pr, ako je debalans na desno, koristi se leva rotacija i obr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bacivanje u AV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uje se čvor na isti način kao u slučaju B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veri se za svaki čvor u stablu njegov debal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j. 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zlika visina između levog i desnog pod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postoji debalns, onda se vrši odgovarjuća rotacija oko čvora k koji je najbliži mestu ubac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je oznaka debalansa deteta čvora k suprotna, onda se pre rotacije iz koraka 3, vrši suprotna rotacija oko tog deteta čvora 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 ovom slučaju su potrebne dve rotacij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r ubaci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e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40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3520" y="3581280"/>
          <a:ext cx="1716120" cy="18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581280"/>
                    <a:ext cx="1716120" cy="18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895480" y="2971800"/>
          <a:ext cx="2898720" cy="288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971800"/>
                    <a:ext cx="28987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943600" y="3657600"/>
          <a:ext cx="2830680" cy="21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657600"/>
                    <a:ext cx="283068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13:52:50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