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2786-8E38-42B1-B235-43B1BF55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743-E0F2-410F-9576-BAC7AF83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CE0-6615-4F56-9043-0EF4A9A6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F36C-6B12-4303-B4B1-C4D6166D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773A-1200-4E3C-AA46-A409CD73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FB92-7067-40FB-B551-F69F5FBF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64E4-BC05-42A0-AA50-90E7ACF2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3C7D-98E0-4F47-AE25-C3A6CEF5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980F-6DAF-43C9-AE89-24C0641B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2972-04B6-45EB-92E5-35440259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A8B9-C5B6-4634-ABC6-F9B26D54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F61-AB56-4D60-864D-A1FB501B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63B0-C7E2-4087-8641-F998BC30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D185-58D7-4235-8A63-1802D285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95C4-FB3B-4EFA-96F4-05451A2C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4DE6-C302-4A3C-8EB8-7888C2E3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6B4D-3F5F-4EC1-9043-0A301F13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61C9C-AD89-4A27-BEB4-9ECCB060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26BB3-2394-4360-A6C2-8588839C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561BD-459C-4090-9CC2-B37458FE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810A2-468C-4227-862B-F913B224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31767-D310-4C94-B5C5-12FF8B5B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9AE2-779F-4DCE-93FC-E162D74E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4AF34-0DA9-4914-AF61-30E7D880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E81AC-04C3-439C-A672-022A5A0F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099A8-7A28-415E-B7D3-670118FA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5CE0C-B88F-4EFB-AB27-FDBF4ED4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705D9-EEA8-40B6-B8F9-97F48CC8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EE4A3-6F6F-4AE4-9E0D-8E4C7FF5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C8701-7279-4B86-943C-6EC04024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0FE-3A33-497C-BED8-D9DCEB66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D8B7-E08E-4787-AAC6-7BF72383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18C-F286-4618-832D-B4FBFCFF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CA83-19C5-4DE5-9F3D-9B910020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B9E-9738-4E0B-9078-754AE167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AF0A-26B1-46C4-9492-2DDD2C8F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3CC3-5276-4AB7-9954-D83FD5479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AC4E-1CE9-462A-82DC-940F4A12B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6061-4D5A-4C5B-8C6B-409A55CC4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Infiks prola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fiks prolaz (L-K-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vo se posete infiks prolazom svi čvorovi levog podstabla, zatim se poseti koren, a zatim svi čvorovi desnog podsta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, B, E, A, K, H, L, C,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Rectangle 3"/>
          <p:cNvGraphicFramePr/>
          <p:nvPr/>
        </p:nvGraphicFramePr>
        <p:xfrm>
          <a:off x="4724280" y="3124080"/>
          <a:ext cx="39625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124080"/>
                    <a:ext cx="39625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Postfiks prola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stfiks prolaz (L-D-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vo se posete postfiks prolazom svi čvorovi levog podstabla, zatim svi čvorovi desnog podstabla, a zatim se poseti k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, E, B, K, L, H, J, C,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Rectangle 3"/>
          <p:cNvGraphicFramePr/>
          <p:nvPr/>
        </p:nvGraphicFramePr>
        <p:xfrm>
          <a:off x="4724280" y="3124080"/>
          <a:ext cx="39625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124080"/>
                    <a:ext cx="39625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Predstavljanje izraza preko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atematički izrazi sa binarnim operatorima se mogu predstaviti preko striktnog binarnog sta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istovi su operan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nutrašnji čvorovi su binarni operatori (operaci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Rectangle 3"/>
          <p:cNvGraphicFramePr/>
          <p:nvPr/>
        </p:nvGraphicFramePr>
        <p:xfrm>
          <a:off x="2666880" y="3352680"/>
          <a:ext cx="39625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352680"/>
                    <a:ext cx="39625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Notacije za zapisivanja izra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rišćenjem pojedinih prolaza se dobijaju poznate notacije za predstavljanje izr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fiks prolaz: *, +, 2, 4, /, -, 15, 3,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fiks not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stfiks prolaz: 2, 4, +, 15, 3, -, 6, /,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fiks (Inverzna poljska) not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fiks prolaz: 2,+,4, *, 15, -, 3, /,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fiks notacija - uobiča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ophodne zagrade zb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oriteta operatora (2+4)*(15-3)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Rectangle 3"/>
          <p:cNvGraphicFramePr/>
          <p:nvPr/>
        </p:nvGraphicFramePr>
        <p:xfrm>
          <a:off x="5715000" y="3048120"/>
          <a:ext cx="3429000" cy="28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048120"/>
                    <a:ext cx="3429000" cy="28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inarna stabla i prolazi kroz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51325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основним концептима из области нелинеарних структура, са акцентом на стаб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1. Основни термини и врсте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репродукује основне концепте везане за нелинеарне структуре, и посебно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.2.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Бинарна стабла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. Пролази кроз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умевање концепта бинарних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аб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а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и концепта пролаза кроз стабло. Студент може да се служи стандардним алгоритмима за пролазе кроз стаб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inarna stabla i prolazi kroz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.2.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Бинарна стабла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. Пролази кроз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умевање концепта бинарних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аб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а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и концепта пролаза кроз стабло. Студент може да се служи стандардним алгоритмима за пролазе кроз стаб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inarn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inarno stablo se rekurzivno definiše kao konačan skup elemenata koji je ili prazan ili se sastoji od korena i dva binarna podstabla koja se ne preklapaju (tzv. levo i desno podstablo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Rectangle 3"/>
          <p:cNvGraphicFramePr/>
          <p:nvPr/>
        </p:nvGraphicFramePr>
        <p:xfrm>
          <a:off x="2895480" y="3505320"/>
          <a:ext cx="396252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505320"/>
                    <a:ext cx="396252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inarn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riktno binarno stabl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 binarno stablo kod koga svaki čvor nema nijedno podstabla ima tačno d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Rectangle 3"/>
          <p:cNvGraphicFramePr/>
          <p:nvPr/>
        </p:nvGraphicFramePr>
        <p:xfrm>
          <a:off x="2743200" y="2819520"/>
          <a:ext cx="396252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819520"/>
                    <a:ext cx="396252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inarn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ompletno binarno stabl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 striktno binarno stablo kod koga su svi listovi na istom niv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čvorova u kompletnom stablu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1, gde je h visina s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Rectangle 3"/>
          <p:cNvGraphicFramePr/>
          <p:nvPr/>
        </p:nvGraphicFramePr>
        <p:xfrm>
          <a:off x="2590920" y="2590920"/>
          <a:ext cx="4876560" cy="27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590920"/>
                    <a:ext cx="4876560" cy="27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inarn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koro kompletno binarno stabl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 binarno stablo za koga važi da su svi nivoi u stablu popunjeni, osim eventualno zadnjeg, i to tako da se popunjavanje vrši s leva u des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Rectangle 3"/>
          <p:cNvGraphicFramePr/>
          <p:nvPr/>
        </p:nvGraphicFramePr>
        <p:xfrm>
          <a:off x="2286000" y="3505320"/>
          <a:ext cx="4876920" cy="27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505320"/>
                    <a:ext cx="4876920" cy="27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Pr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lazi kroz sta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lazi kroz stab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čin kako se mogu obići čvorovi datog stabla a da se pri tome posete tačno jed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i više načina kako se to može učin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i su standardna nač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fiks prol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fiks prol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fiks (sufiks) prol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Prefiks prola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efiks prolaz (K-L-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vo se poseti koren, zatim prefiks prolazom svi čvorovi levog podstabla, a zatim svi čvorovi desnog podsta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, B, G, E, C, H, K, L,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Rectangle 3"/>
          <p:cNvGraphicFramePr/>
          <p:nvPr/>
        </p:nvGraphicFramePr>
        <p:xfrm>
          <a:off x="4724280" y="3124080"/>
          <a:ext cx="39625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124080"/>
                    <a:ext cx="39625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8T10:01:53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