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F15-593C-425D-96EE-785E95E8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434-6FC4-47E4-A6BF-E823823E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20B-6867-4250-A7EF-6FE4FEAF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8AF-00C3-4FD3-BCB0-5118C490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6F90-1CD2-4311-8230-6E5B54FA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06A5-9A9D-4AAA-BC81-A07A7A29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F855-1BD2-4092-8E5C-6D624CEF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9A20-F209-432D-A45F-191B6171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E54F-FB95-4CC8-AA91-C76405CE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7230-706A-4CF4-B0AD-FF003528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2E68-1ABC-4B13-A53C-7DFBED5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EE4-4807-412D-8852-F2A93945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C0A6-CFE6-4050-9BF4-2846F0CF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01CA-9915-4516-B50B-D083BDD8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94E0-143C-43ED-87F0-121D4997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7D26-3CC2-44BA-8D63-24B6C971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8C26-ADA4-4916-97BA-BA0400FB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BAB34-6C4D-4FAB-BED3-B8778B13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C472-2F73-492A-8F75-55CA391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749C-2488-4218-B394-42884B19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3B1D-383A-4FC1-8B10-5DF6892B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ED6C-913F-43A8-9CF5-D2A762E6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5F3-A006-4C35-AF64-1A7AC73A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1694C-711A-4142-A193-9768D1FA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B57E-E520-47E4-9E9C-0F13B9B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18213-E4DD-42F7-BAF9-0E82B58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CDD3-290E-4F9D-9E60-B65DFC8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9E86-BE02-4AEF-9CE1-BAA100A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FC0B4-DBB8-4E65-87EC-E01F01BC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B1DD-E4F7-433D-8349-0B97B399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447-7B15-47EB-ADCA-01E41D93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C24-D84F-4E99-8BA1-85B26A14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CE1-7070-4690-B5C5-8C7032E7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61B-C100-4AD1-AD3B-4FD4C73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4A4-2889-48BB-8D86-0AE8D8F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63D-CFA3-43CE-B9BE-9BDA5D4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99E6-6F25-4BDC-A4EE-82AE4483A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061E-61F4-4891-95A5-99837D663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AA97-BE54-4081-A59A-C9617E172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konstrukcija stabla originalnog 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kazivač nalevo je pokazivač na prvo d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kazivač na desno je pokazivač na b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362320" y="3200400"/>
          <a:ext cx="3537000" cy="31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00400"/>
                    <a:ext cx="353700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nsformacij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u striktno binarno 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iše bilo koje stablo u striktno binarno stab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a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Prekinu se sve veze između roditelja i dece izuzev krajnje leve ve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Povežu se sva deca ista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Dobijena slika se zarotira za 45st ude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Трансформација вишегранских у бинарна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81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концептима из области нелинеарних структура, са акцентом на стаб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. Бинарнa стабла и специјална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и објасни бинарна стабла и да идентификује специјалне врст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4. Трансформација вишегранских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трансформише вишегранска стабла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Трансформација вишегранских у бинарна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4. Трансформација вишегранских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трансформише вишегранска стабла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nsformiše šumu stabala u jedno binarno stab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a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Povežu se koreni svih stab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Prekinu se sve veze između roditelja i dece izuzev krajnje leve ve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Povežu se sva deca istog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. Dobijena slika se rotira za 45 stepeni ude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 šuma od 2 s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386080"/>
          <a:ext cx="784836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86080"/>
                    <a:ext cx="784836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ak 1. Povežu se koreni svih stab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2817720"/>
          <a:ext cx="622764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817720"/>
                    <a:ext cx="62276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ak 2. Prekinu se sve veze između roditelja i dece izuzev krajnje leve v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43000" y="2895480"/>
          <a:ext cx="622764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62276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rak 3. Povežu se sva deca istog rod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43000" y="2895480"/>
          <a:ext cx="622764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62276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nutova transform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načni rezul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362320" y="2141640"/>
          <a:ext cx="47242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41640"/>
                    <a:ext cx="47242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6T15:00:23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