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C34-174F-4D94-B0CF-BC194FE6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E96-4FF1-4CE6-91CD-2B4AFAC0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2AD-8F3F-46E5-ACFF-9064375B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4108-268D-42C5-8E6A-F8F4AEAA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79EA-3BBC-4598-B3D1-73131241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76C1-404E-4AAB-9A11-A724F108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2F75-CB3A-4546-B5D9-735009B1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8C5B-B07A-4E14-A640-63113A8B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D801-F7A1-4300-AD5E-5249639A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A0EC-D30A-484D-9D13-F73E836A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C43E-28E7-4CBD-B9F9-E1987059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15F-2286-411D-9994-FAB1798E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3B43-1B2B-4FBF-92BA-D9C5B507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2DA1-5DBA-41C2-A019-92A15C37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8965-79B0-4C3F-9A1F-981A32A4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7426-C12F-4F91-B617-451F1375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BC7A-E1FC-4D2E-854B-05ACDC26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B275-83F7-4D8B-BDD8-297D421E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F5E96-8EF8-4E37-98BE-8D8E6817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429B0-499C-473B-BDCE-A11D5619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191D-B43F-4E29-BA16-75E263F2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3A5C-292A-4AA4-A9B6-07A28C43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9B7-01FD-42B7-9F12-643E9EFC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7A4CF-5D65-49DA-9649-603D9B45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73205-0555-4EFC-A2BA-6A1791AB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E9936-D030-4C0E-8275-FE173FE1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74DB2-6271-4CE1-A897-29835CE1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8723E-C00E-4523-832A-968DDA05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D1FDD-D3C6-48CB-AD85-A4DDEB9A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1B5D2-1A2C-4913-B0E8-37D89188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E10-337C-4EC5-9C49-83CA732E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EC14-18C9-48A1-829A-2A141B64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3ECE-3964-4EAD-ACF6-1C8B3CAB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66E-E0F7-4246-81E1-1ABB9821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AB7-4CC9-490A-84DA-A35A5271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F95-A815-4D44-80B5-50EB28C5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B203-7A89-4AAB-8316-41B77CE03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9C77-F8F5-47A7-9878-83147388F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63EB-4F3D-4B26-B884-07A588835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ivanje u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B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tupak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ivanja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B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vo se pretr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i BST da bi se našao traženi čvor za izabac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tim se nadjeni čvor izbucuje na nači koji zavisi od njegove pozi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guće su tri situacije gde se nalazi čv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vor j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vor je polu-list (Ima samo jedno de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vor je unutrašnji (Ima oba dete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tupak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z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civanja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kada je čvor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tuacija 1: Čvor j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sto se izbaci čvor iz stabla i ažurira pokazivač njegovog roditelja da sadrži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ul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: izbaciti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3886200"/>
          <a:ext cx="2050920" cy="24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86200"/>
                    <a:ext cx="205092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886200" y="3886200"/>
          <a:ext cx="2050920" cy="245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886200"/>
                    <a:ext cx="205092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705720" y="3733920"/>
          <a:ext cx="2050920" cy="24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3733920"/>
                    <a:ext cx="2050920" cy="24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tupak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z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civanja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kada je čvor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tuacija 2: Čvor je polu-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baci čvor iz stabla,  a pokazivač njegovog roditelja se ažurira da sadrži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okazivač na dete čvora koji se izbac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: izbaciti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80880" y="3809880"/>
          <a:ext cx="2051280" cy="24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9880"/>
                    <a:ext cx="205128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048120" y="4191120"/>
          <a:ext cx="2303280" cy="21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191120"/>
                    <a:ext cx="230328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172200" y="3809880"/>
          <a:ext cx="2050920" cy="245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809880"/>
                    <a:ext cx="205092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tupak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z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civanja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kada je čvor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tuacija 3: Čvor je unutrašn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nađe se njegov prvi sledbenik (ili prethodnik) koji mora biti na krajnjoj levoj (tj. desnoj) poziciji u desnom (tj. levom) podstablu. Sledbenik (tj. prethodnik) mora biti ili list ili polu-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meni se sadržaj sledbenik (tj. prethodnik) sa sadržajem traženog čv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bacuje se čvor sa pozicije sledbenika (tj. prethodnika). Ovo se svodi na slučajeve 1. i 2. izbac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ivanje u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B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r: Izbaciti 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2514600"/>
          <a:ext cx="23511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23511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2743200" y="2819520"/>
          <a:ext cx="2725560" cy="24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19520"/>
                    <a:ext cx="2725560" cy="24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5748480" y="2813040"/>
          <a:ext cx="2352600" cy="25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48480" y="2813040"/>
                    <a:ext cx="2352600" cy="25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-766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fikasnost pretraživanja B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ko je stablo dobro balansirano efikasnost je O(log 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ko stablo nije balansirano, tada je efikasnost  loš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jgori slučaj je O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da se ubacuje sortirani niz brojeva, BST se degeneriše u lis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Стабло за бинарно претраживање и АВЛ стаб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8880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 Претраживање бинарн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стандардним алгоритмима за претраживање бинарн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8.1. Стабло за бинарно претраживање и АВЛ стаб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принципе функционисања стабла за бинарно претраживање и АВЛ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2. Алгоритми за претраживање, убацивање и избацивање. Анализа ефикас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и користи алгоритме за претраживање, убацивање, избацивање и анализу ефик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alibri"/>
              </a:rPr>
              <a:t>Stablo za binar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8.1. Стабло за бинарно претражи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објасни принципе функционисања стабла за бинарно претражи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-766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Calibri"/>
              </a:rPr>
              <a:t>Stablo za binarno pretraživanje (B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d običnog binarnog stabla pretraživanje se zasniva na nekom od prolaza i ima O(n) efik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ST se zasniva se na ideji da se binarno stablo organizuje tako da omogući pretraživanje slično binarnom pretraživanju n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Definicija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B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ST je binarno stablo kod koga za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svaki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vor važe sledeća 2 uslo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. Svi čvorovi u levom podstablu imaju sadržaj koji je manji ili jednak sadžaju datog čv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Svi čvorovi u desnom podstablu imaju sadržaj koji je veći ili jednak sadžaju datog čv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895480" y="3581280"/>
          <a:ext cx="3505320" cy="29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581280"/>
                    <a:ext cx="3505320" cy="29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traživanje B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upak p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traživanj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B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je sadžaj korena veći od traženog ključa onda se pretražuje levo podstablo rekurziv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je sadžaj korena manji od traženog ključa onda se pretražuje desno podstablo rekurziv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je jednak po sadržaju onda je koren traženi č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8600" y="3733920"/>
          <a:ext cx="2050920" cy="24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733920"/>
                    <a:ext cx="2050920" cy="24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438280" y="3733920"/>
          <a:ext cx="2073240" cy="24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733920"/>
                    <a:ext cx="2073240" cy="24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648320" y="3809880"/>
          <a:ext cx="2054160" cy="246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809880"/>
                    <a:ext cx="20541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858000" y="3733920"/>
          <a:ext cx="2054160" cy="246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0" y="3733920"/>
                    <a:ext cx="20541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kur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vni algoritam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pr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etraživanje B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ublic Cv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traz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vor k, int 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(k == nul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nu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.inf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traz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k.levo,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.inf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traz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k.desno,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 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terativn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goritam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traživanje B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ublic Cv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traz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vor k, int 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k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.inf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 = k.lev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.inf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 = k.des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.inf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=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u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erativni algoritam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pr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traživanje B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bacivanje u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B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tupak ubacivanja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B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vo se pretr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i B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i se novi čvor na mesto nula pokazivača gde se pretraživanje završ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3809880"/>
          <a:ext cx="2050920" cy="24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9880"/>
                    <a:ext cx="2050920" cy="24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362320" y="3784680"/>
          <a:ext cx="2054160" cy="246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784680"/>
                    <a:ext cx="20541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516560" y="3854520"/>
          <a:ext cx="2166840" cy="237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16560" y="3854520"/>
                    <a:ext cx="216684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906560" y="4724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61160" y="3809880"/>
          <a:ext cx="2055960" cy="256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61160" y="3809880"/>
                    <a:ext cx="2055960" cy="25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12:57:53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