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437-DF6F-4FC8-8917-CD685FBC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4F2-2812-449A-B1E0-260CEA69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272-BC1E-43D9-B469-0D5D5433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D0F-9F05-4D2B-9E63-946EA6E0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3806-3176-43E9-B68C-1C0F24BF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8516-F4DE-4AC0-9084-55CFCC7A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3958-8812-4E00-BBAC-6B2FE983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D9B2-44A6-4D61-8A04-968199C6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87BE-B684-4542-B584-AB4CB8A3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85FA-5C75-448A-BF8B-E4A5E60E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8F75-8EBC-4583-A139-A11799A5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BC4-2673-4A66-A832-805E5140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FF0B-860B-4F61-8A36-35C8462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16FF-E4E7-4C62-AF05-A73CA415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55FE-DCDD-410F-B680-B9DE60CD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3FD5-2AAE-4D0D-BA18-15DFBC03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1581-8A8D-4BE0-AE84-C6A1D88C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D6316-DA45-406E-B190-E158D8BF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DECE-1433-40E4-B58E-A1FED793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8D600-973B-457E-BF0B-00022A0F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B652A-4536-420A-B2CE-979800AB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BDDF1-974D-4C92-BEB0-0BEF9624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D0F-079B-42C7-8729-32A71250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E24E7-281D-465B-9D49-1475F01E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7F4D2-7680-40DA-AA67-8E655C8E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A88EB-2129-430D-A2BD-DB9EB23C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64A29-225D-451D-A67B-DD9FD982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F459B-9111-49A2-B094-F897C989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888B7-E079-48AB-9295-EE96FAFA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46F7-FADC-45D9-9FD0-A4EA64CD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255-A0C9-44A2-8E44-CE517C78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5822-6196-4AF7-B407-2887BFA6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792-DAB8-452B-8398-CBF8DC9F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8D7-BC09-4F98-8490-1347A36A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ED9-3CE4-46F6-838E-97DD0E92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24C-00E9-47A3-AD13-19AEAB21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38FB-3F6C-4836-88BF-301C2B8F9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98E3-6855-48E6-A262-DCDBE6F91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04E2-E278-4D23-AE8E-204C5B5C5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r liste sused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Rectangle 3"/>
          <p:cNvGraphicFramePr/>
          <p:nvPr/>
        </p:nvGraphicFramePr>
        <p:xfrm>
          <a:off x="457200" y="2057400"/>
          <a:ext cx="311940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311940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191120" y="1838160"/>
          <a:ext cx="4292640" cy="287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838160"/>
                    <a:ext cx="429264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ređenje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atrice sused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ostavnije za manipula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storna kompleksnost O(n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efikasno korišćenje memorije kod retko posednutih ma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ste sused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loženije za manipulac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storna kompleksnost O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ikasnije korišćenje memor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плементација графова и мре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9942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 Графови и мреж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основним концептима из области графова и мреж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1.3. Имплементација графова и мреж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основне концепте везане за графове и мреж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4. Алгоритми над графови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пролазак кроз гра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топологијски сорт, транзитивни затварач и проналазак најкраћег растоја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плементација графова и мре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.3. Имплементација графова и мреж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основне концепте везане за графове и мреж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mplementacija graf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ndardno se koriste dve tehnike za realizaciju grafo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atrice susedstva (statička implementaci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iste susedstva (dinamička implementaci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atrice sused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atrica susedstva grafa G sa n čvorova je kvadratna matrica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i, 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reda n čiji eleme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SymbolPS"/>
                <a:ea typeface="SymbolPS"/>
              </a:rPr>
              <a:t>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1, ako je čvor i susedan čvoru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Latn-CS" sz="4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SymbolPS"/>
                <a:ea typeface="SymbolPS"/>
              </a:rPr>
              <a:t>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SymbolPS"/>
                <a:ea typeface="SymbolPS"/>
              </a:rPr>
              <a:t>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0, ako čvor i i j nisu sused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ko je graf neorijentisan tada je njegova matrica susedstva simetrič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 = 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r matrice sused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Rectangle 3"/>
          <p:cNvGraphicFramePr/>
          <p:nvPr/>
        </p:nvGraphicFramePr>
        <p:xfrm>
          <a:off x="457200" y="2514600"/>
          <a:ext cx="380988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4600"/>
                    <a:ext cx="380988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876920" y="1981080"/>
          <a:ext cx="2971800" cy="2924280"/>
        </p:xfrm>
        <a:graphic>
          <a:graphicData uri="http://schemas.openxmlformats.org/drawingml/2006/table">
            <a:tbl>
              <a:tblPr/>
              <a:tblGrid>
                <a:gridCol w="484200"/>
                <a:gridCol w="444600"/>
                <a:gridCol w="446040"/>
                <a:gridCol w="444600"/>
                <a:gridCol w="384120"/>
                <a:gridCol w="384120"/>
                <a:gridCol w="384120"/>
              </a:tblGrid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mplementacija matrice sused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atrica je dvodimenzioni n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storna kompleksnost O(n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je broj čvorova grafa veliki, a sadrži mali broj lukova, onda se dobija tzv.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retko posednu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matrica, tj. matrica sa mnog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efikasno korišćenje memo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isti se bit-mat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pamćenje elementa Aij se koristi samo jedan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rebno je manipulisati  bito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dstavljanje mrež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trica susedstva se može iskoristiti za predstavljanje mrež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ement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Latn-CS" sz="4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matrice 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adrže vrednost lu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0" y="3200400"/>
          <a:ext cx="3581280" cy="2209680"/>
        </p:xfrm>
        <a:graphic>
          <a:graphicData uri="http://schemas.openxmlformats.org/drawingml/2006/table">
            <a:tbl>
              <a:tblPr/>
              <a:tblGrid>
                <a:gridCol w="787320"/>
                <a:gridCol w="660600"/>
                <a:gridCol w="787320"/>
                <a:gridCol w="722160"/>
                <a:gridCol w="623880"/>
              </a:tblGrid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838080" y="3276720"/>
          <a:ext cx="289404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276720"/>
                    <a:ext cx="289404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iste sused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sta susedstva je multi-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ista listi, tj. lista čiji elementi su lis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sta čvorova grafa od kojih svaki sadrži listu svojih sus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storna kompleksnost O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broj čvorova O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broj lukova O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ikasno korišćenje memor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20T09:07:29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