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F1D-1F14-44DB-A556-51F49CB7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F92-E012-469D-83E5-624235D1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7C3-F7AC-43C6-831F-03DB305B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DB2-4326-4B66-A370-0FB54284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65C3-716A-4A01-AFA7-60C5CC0D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9012-7030-4733-B6AD-ED8B7561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D90C-5406-40A5-B17F-892214EC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6D77-7776-4EF8-A87B-EFE94F9F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FC73-4D8E-499C-B758-B192D902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1475-59E8-4022-9142-F1A4BD77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E7A8-7AF5-487C-9FDA-54186AB6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E5E-F027-4295-ACC3-9AFD5730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CA4C-E108-4794-A3B2-3BEBBE87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7D52-E695-4BB1-BED2-9974489D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D25C-C0AB-4418-AB54-491202DB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7800-25D7-4B25-9B6F-753B3615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4490-22E8-4385-8F71-07A40712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123B8-9640-49EF-94E2-9F721144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080C-6367-417F-BB8C-DCC4F6FD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87D5C-4E8F-45F3-861B-2846D48D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CB5D-855D-4014-8844-000056ED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B2F9-239F-4E1B-8BC1-6E1684BE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68E-5312-4A3D-A8E1-68A0CA7B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4F67-3F22-4709-9149-BFACBF3C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7AFF-D546-42D9-B28A-476952BA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84EA3-2D6D-4712-87B6-B96BF089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D6548-9AAB-40D6-AFCB-7FFBA1C3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68EE-B7E8-4C2F-A0AC-F791E57E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AFAEF-21C4-42BB-A0D1-ED147147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97BB-CFEA-4B69-B8C6-E9AC75F9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71B-5A8C-47A0-BB50-F7BE03CE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8B4-755C-4924-90DC-C25C74BA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91A-2FBE-4B8F-9118-3F18305D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3F0C-24ED-4A21-B9FA-CA38F4F7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2EE7-2553-4E09-BD7C-4572FACE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63E-E455-4CF6-9399-21FA0225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BB40-2AB1-41FD-BB54-D3656342D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74D2-494E-4098-8CF5-BFB9F8D56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EB2D-35B2-4812-96D1-E5784BF10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lična i ekvivalent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ična s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dva stabla se kaže da su slična ako imaju istu strukturu, tj. tačnije ako su oba prazna ili su sva njihova podstabla slič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vivalentna s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va stabla su ekvivalentna ako su slična  i imaju identičan informacioni sadržaj u odgovarajućim čvorov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lična i ekvivalent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va stabla koja su slič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Rectangle 3"/>
          <p:cNvGraphicFramePr/>
          <p:nvPr/>
        </p:nvGraphicFramePr>
        <p:xfrm>
          <a:off x="914400" y="2362320"/>
          <a:ext cx="3124080" cy="28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124080" cy="28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056200" y="2436840"/>
          <a:ext cx="3375000" cy="28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56200" y="2436840"/>
                    <a:ext cx="337500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lična i ekvivalent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va stabla koja nisu slič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Rectangle 3"/>
          <p:cNvGraphicFramePr/>
          <p:nvPr/>
        </p:nvGraphicFramePr>
        <p:xfrm>
          <a:off x="914400" y="2362320"/>
          <a:ext cx="3124080" cy="28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124080" cy="28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903920" y="2436840"/>
          <a:ext cx="3375000" cy="28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3920" y="2436840"/>
                    <a:ext cx="337500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371600" y="57913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Odgovarajuća podstabla stabla sa korenom C nisu slična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kvivalent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va stabla koja su slična, ali nisu ekvivalent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2514600"/>
          <a:ext cx="320040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320040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976640" y="2436840"/>
          <a:ext cx="3457800" cy="290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6640" y="2436840"/>
                    <a:ext cx="345780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371600" y="57913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Sadržaj čvorova B i C u levom stablu nije identičan sadržaju odgovarajućih čvorova desnog podstabl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rmini vezani z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erminalni čvor ili list je čvor koji nema pod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vor d je dete čvoru k ako je d koren podstabla od čvora k. Čvor k se naziva roditel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epen čvora je broj podstabala datog č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uma je skup stabala koja ne preklapa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rmini vezani z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vo čvora je 1 ako je koren ili jednak broju čvorova koji se prodju na putu od korena do datog čvo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isina (ili dubina) stabla je maksimalni nivo na kome se nalazi neki čvor st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lustracija termina vezanih z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90720" y="1600200"/>
          <a:ext cx="767556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6755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d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o se stablo može rekurzivno definisa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je koren stab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l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je de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 aje nivo stab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je visina stab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su dva stabla slič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su dva stabla ekvivalent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Основни термини и врсте стаб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888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концептима из области нелинеарних структура, са акцентом на стаб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1. Основни термини и врсте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везане за нелинеарне структуре, и посебно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. Дефиниција преко АТП. Пролази кроз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дефинише стабла преко АТП. Такође, биће оспособљен да користи алгоритме за пролазак кроз стаб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Основни термини и врсте стаб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7.1. Основни термини и врсте стаб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везане за нелинеарне структуре, и посебно стаб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Основни термини и врсте стаб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bla su nelinearne strukture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edstavljaju najvažnije nelinearne strukture koje se vrlo često koriste u račun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dnos između elemenata nije linea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maju razgranatu ili hijerarhijsku strukturu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jihov naziv implicira vezu sa stablima (drvećem) u prirodi ili porodičnim stab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ćina terminologije potiče iz ovih iz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efinicije stab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finicija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ruktura podataka B=(K,R); K-skup čvorov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 - binarna relacija prethođenja nad skupom K, predstavlja stablo ako R zadovoljava sledeće usl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samo jedan čvor r, koga nazivamo koren, kome ne prethodi ni jedan drugi č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vaki čvor, izuzev korena, ima samo jednog pretho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svaki čvor k, 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, postoji niz čvor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…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 (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≥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=1,n) koji predstavljaju listu, t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€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 i=1,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efinicije stab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finicija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e može definisati kao poseban oblik nelinearnog graf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nearni graf je skup čvorova i skup relacija (nazivaju se linije grafa) koji opisuju veze između čvorova. Linearni graf je povezan ako je svaki par čvorova u grafu povezan linij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e onda može definisati kao povezan graf koji ne sadrži petlje, odnosno ako važ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ilo koja dva čvora u stablu su povezana lini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a n čvorova ima n-1 lin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efinicije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finicija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e može rekurzivno definisati k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a korenom je konačan skup K od jednog ili više čvorova takvih da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jedan specijalni čvor koji se naziva koren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ostali čvorovi (isključujući koren) se mogu podeliti u 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≥ 0 skupova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…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čiji je presek prazvan skup, a koji svaki predstavlja stablo za sebe. Stabla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…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e nazivaju  podtsbla ko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va rekurzivna definicija je veoma pogodna za predstavljanje stabala u memoriji računara i obavljanje operacija nad stab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efinicije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finicija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e može rekurzivno definisati k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blo sa korenom je konačan skup K od jednog ili više čvorova takvih da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jedan specijalni čvor koji se naziva koren s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ostali čvorovi (isključujući koren) se mogu podeliti u 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≥ 0 skupova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…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čiji je presek prazvan skup, a koji svaki predstavlja stablo za sebe. Stabla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…K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e nazivaju  podtsbla ko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va rekurzivna definicija je veoma pogodna za predstavljanje stabala u memoriji računara i obavljanje operacija nad stab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dstava s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rafička predst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Rectangle 3"/>
          <p:cNvGraphicFramePr/>
          <p:nvPr/>
        </p:nvGraphicFramePr>
        <p:xfrm>
          <a:off x="1676520" y="2057400"/>
          <a:ext cx="4038480" cy="36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4038480" cy="36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01:11:26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