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663A-B46C-43C4-BA21-7CE3AD7B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C9BB-E6C4-438D-8F35-D3128849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F792-A0DF-4A6E-80E6-0F8CF2E4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F58F-54AE-4970-B124-70580995A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AC1F-2821-4E2E-B650-36B682BC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3C4F-B989-4C7F-B7DB-8696C9B3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0AC8-2C77-4005-9E29-C4A5F3D1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6F7C-DA5D-4C92-BEAD-774B0292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F986-ABFC-4C09-9FDB-59632F61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5D6D-C289-41DB-AE19-7E543014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DA4B-051E-4D88-A6F2-A45C8B7A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617-ED10-472C-92E6-F2DDD4CE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F359-6CDD-4E42-8AD8-5276C89C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5212-E179-493D-BAA0-BF6EEB08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EF5F-B883-43C2-AB8C-62A7A03F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88F5-36CD-4871-B241-000D11B5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3784-0A7C-418A-87A5-133E37B3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77A60-A1CA-4DCF-A200-BEE3D31A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98795-8954-4BFA-AF46-FEB8A6F3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D015E-3A38-43C3-B35B-232A54C3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6CAE7-79B0-478C-8A16-B763CED9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B3C88-9D3C-4032-949F-A9C2CFF3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4E7F-4AAE-4A39-BA02-975B7B6A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0833C-A86F-4C9E-8956-79FC8729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6A233-8CF2-43C8-BDA6-8A9E6962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9F279-9ADC-4642-A117-86C23C46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486E1-0089-4E9C-83B9-433D8EA8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A8E0D-3F30-494E-909C-D3AFB3BC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FF4A5-F8B2-4C2E-B7AB-FEFD201A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3AD04-78A6-4A12-B123-734F7598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75D6-D2AD-4EF1-A49B-36A0C518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D5BC-16D7-46C5-8125-1524E683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1136-D481-40B3-BEE7-DE278631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70F5-8D03-472E-A244-49535AA4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0D12-789B-4F9B-A44D-C0E86C61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14DE-E60C-4687-AA8C-45E04AFB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2ECB-5ADA-4AB2-8FA9-2F76EC0E6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1508-0A0B-400E-9D5A-8FB550C87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8FAE-9B81-4231-82B7-95CE75718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inamička implement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void postfiks() { return infiksSt(koren)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vate void postfiksSt(Cvor k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(k == nul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fiks (k.lev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fiks(k.desn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.visi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čka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implement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fikasna implementacija preko niza moguća samo za skoro kompletno binarno stablo (SK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d SKBS je moguće numerisati čvorove da odgovaraju indeksima u nizu i to tako da za svaki čvor važ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deks levog deteta = Indeks *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deks desnog deteta = Indeks * 2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deks roditelja = Indeks /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Rectangle 3"/>
          <p:cNvGraphicFramePr/>
          <p:nvPr/>
        </p:nvGraphicFramePr>
        <p:xfrm>
          <a:off x="3886200" y="2370240"/>
          <a:ext cx="5257800" cy="44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370240"/>
                    <a:ext cx="525780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čka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implement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iz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blo implements binStablo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e class Cvor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 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poseti() {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vo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] cvorov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 visina() {…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id prefiks() {…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id postfiks() {…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id infiks() {…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Rectangle 3"/>
          <p:cNvGraphicFramePr/>
          <p:nvPr/>
        </p:nvGraphicFramePr>
        <p:xfrm>
          <a:off x="3581280" y="1752480"/>
          <a:ext cx="5105520" cy="25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752480"/>
                    <a:ext cx="510552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čka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implement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int visina(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tur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floor (log(n)) +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8000"/>
                </a:solidFill>
                <a:latin typeface="Arial"/>
              </a:rPr>
              <a:t>// n = 2</a:t>
            </a:r>
            <a:r>
              <a:rPr b="0" lang="sr-Latn-CS" sz="2400" spc="-1" strike="noStrike" baseline="30000">
                <a:solidFill>
                  <a:srgbClr val="008000"/>
                </a:solidFill>
                <a:latin typeface="Arial"/>
              </a:rPr>
              <a:t>h</a:t>
            </a:r>
            <a:r>
              <a:rPr b="0" lang="sr-Latn-CS" sz="2400" spc="-1" strike="noStrike">
                <a:solidFill>
                  <a:srgbClr val="008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void prefiks(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&gt;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urn prefiksSt(0); // pocni prefiks prolaz od kor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vate void prefiksSt(int k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(k &lt; 0 or k&gt;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vorovi[k].visi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fiksSt (k*2);  // prefiks l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fiksSt (k*2+1); // prefiks des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Бинарн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стабла и специјална бинарна стаб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478152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основним концептима из области нелинеарних структура, са акцентом на стабл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7.3. Бинарнa стабла и специјална бинарна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и објасни бинарна стабла и да идентификује специјалне врсте бинарних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4. Трансформација вишегранских у бинарна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трансформише вишегранска стабла у бинарна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mplementacija binarnih staba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4875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7.3</a:t>
                      </a:r>
                      <a:r>
                        <a:rPr b="0" lang="sr-Latn-C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плементација бинарних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авладавање техника како се стабло може ефикасно имплементирати у меморији рачун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Calibri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efinicija stabla kao AT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narno stablo se m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že definisati kao apstraktni tip na sledeći nač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blic 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terfac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n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ablo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id ubaci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t 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id izbaci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t 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 visina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id prefik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id postfik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id infik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inarna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inarna stablo se mogu implementirati na dva nači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ko dinamički spregnute struk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ko n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inamička implement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rlo fleksibilna implementacija, lako dodavanje i izbaci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ma ograničenja na broj čvorova i broj nivoa stab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guća primena za sve slučajeve i oblike binarnih stab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mplementacija preko n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fikasna implementacija moguća samo za specijalni slučaj – skoro kompletno binarno stab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roj čvorova i nivo stabla ograničen dimenzijom n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inamička implement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class Stablo implements binStablo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vate class Cvor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 inf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vor lev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vor desn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d poseti() {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vate Cvor kor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 visina() {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id prefiks() {…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id postfiks() {…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id infiks() {…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Rectangle 3"/>
          <p:cNvGraphicFramePr/>
          <p:nvPr/>
        </p:nvGraphicFramePr>
        <p:xfrm>
          <a:off x="3581280" y="1676520"/>
          <a:ext cx="5105520" cy="37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676520"/>
                    <a:ext cx="510552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inamička implement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int visina() { return VisinaSt(koren)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vate int visinaSt(Cvor k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(k == nul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urn  1+ max(visinaSt(k.levo), visinaSt(k.des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inamička implement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void prefiks() { return prefiksSt(koren)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vate void prefiksSt(Cvor k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(k == nul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.visi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fiksSt (k.lev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fiksSt (k.desn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inamička implement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int infiks() { return infiksSt(koren)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vate void infiksSt(Cvor k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(k == nul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iks (k.lev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.visi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iks(k.desn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8T11:22:58Z</dcterms:modified>
  <cp:revision>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