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4E2C-C8B3-4E15-99C6-1586E7496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2D22-2148-41E4-9CF1-AA699941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D230-C734-42C9-A32B-027ED518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3A27-98E9-4315-A69E-D890375B2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038D-A97B-4210-96A1-F7622486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DE6E-47D1-4AE9-B48E-36D5E266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ECF0-9997-41B3-931D-99631FE3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152A-F53D-431D-814D-1FDCC6CB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9FBB-ABEF-4724-A036-0CF02F21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DF77-6622-43DE-BFE7-A89F1FA2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843D-8ED6-4749-9321-FEB2EBA9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E316-DD39-4226-A3A2-00F3813C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0152-7FD0-4BD6-B10B-7FE21813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E8C6-2529-4C83-8B34-3C17A7B6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EF97-B4BE-4F88-B810-D6424EED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037C-3FA2-4E10-82AC-C87B65CE6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9685-03DF-4208-84B4-163578282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A45AA-F388-4AA6-A37D-BC9DDDE5A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383AE-8979-43AF-A7FE-71CC9E78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C57EE-672A-4B49-8008-303856AB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20538-04B8-46CD-BC0D-79A19B66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FF51A-168C-4D3D-83EA-E721C09E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D08C-F6C8-4B6D-9024-A52D23B5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0AF09-7984-4473-9FEA-8A8755FB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BA377-7DC5-4876-84E3-879AE372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CB5F4-16E9-4C50-B524-F1528E7B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77CD9-B5D0-48C4-888B-E04B2115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695B1-B31E-472D-B8F3-64612C2F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3D659-2E42-4829-A6AD-E4DD55C31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0E92B-B84C-4BBE-9A34-2032C1BB9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89A1-D6CA-41C9-B32E-BFDD7E56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3FAC-CABD-45A6-8D94-0D456426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EE61-7D84-4823-8ABF-8958EF81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F4AD-DF7F-4FF2-B4C2-52D2BB60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7759-F860-4B30-8214-81CBD079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D9CA-41AC-46F8-AC6E-EE897A9B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9AF5-3AF8-42B3-980F-D1EFD2AC8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4C68-C51C-4CF2-A336-53E850AED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0320-32C0-402A-8AB1-2ED4C975D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h(k) -Selekcija cifa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9246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bično je ključ numerički, pa se mogu neke cifre iz ključa uzeti kao ad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ažan odabir cifar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pr. skup od 50.000 studen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dresni prostor je 0-50.0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trebno je da indeks ima pet cif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ljuč studenta je MLB – 13 cifa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pr. 14119817126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dabrati pet cifara od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h(k) -Selekcija cifa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04560" y="4571640"/>
            <a:ext cx="838188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ko se uzmu dd,mm,g svi rodjeni istog dana i meseca u istom veku će imati istu adre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olje je ako se uzmu 2 cifre opštine i tri cifre rednog bro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Rectangle 3"/>
          <p:cNvGraphicFramePr/>
          <p:nvPr/>
        </p:nvGraphicFramePr>
        <p:xfrm>
          <a:off x="1905120" y="1066680"/>
          <a:ext cx="5943600" cy="29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066680"/>
                    <a:ext cx="594360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h(k) - Ostatak od celobrojnog delje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h(k) = k mod m =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= b &lt;=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esni prostor od 0 –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e iste adrese ako je k faktor od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pr. ako je m = 25,  svi ključevi koji su deljivi sa 5 će se preslikavati na adrese 0, 5, 10, 15 i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olje ako k i m nemaju zajednički fak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oga za m treba uzeti prost broj blizak veličini adresnog prost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pr. ako je n = 100, m = 1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Zada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ta je ideja na kojoj se zasniva hashing prist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kva je potencijalna teorijska efikasnost hashing pretraživan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ta su problemi kod hashing organizaci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je su metode za transformisanje ključa u adres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 slučaju hash funkcije koja se bazira na moduo funkciji, kakve su preporu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etraživanje 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ransformacijom ključa u adres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513252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етраживање трансформацијом кључа у адрес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владавање концептима претраживања трансформацијом кључа у адрес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.1. Функција трансформа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 и објасни основне функције трансформациј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2.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шавање проблема колизије кључева. Отворено адресирање. Оланчав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, објасни и користи алгоритме за решавање проблема колизије кључева отвореним адресирањем и оланчавањ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Функција трансформа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48752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.1. Функција трансформа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 и објасни основне функције трансформациј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kupovi kao strukture podata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kup kao struktura podat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e postoji uređenje elemenata u skupu, tj.operacije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sledeć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prethodn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prv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zadnj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nemaju smis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amo se zna da je dati element član skupa, tj.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nadjiPoKljuču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jedino ima smis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trebne operacije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ubac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izba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pecifikacija skup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efinicija preko AT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Courier New"/>
              </a:rPr>
              <a:t>public interfac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S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9999"/>
                </a:solidFill>
                <a:latin typeface="Courier New"/>
              </a:rPr>
              <a:t>voi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urier New"/>
              </a:rPr>
              <a:t>izbaci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sr-Latn-CS" sz="2800" spc="-1" strike="noStrike">
                <a:solidFill>
                  <a:srgbClr val="009999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obj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9999"/>
                </a:solidFill>
                <a:latin typeface="Courier New"/>
              </a:rPr>
              <a:t>voi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urier New"/>
              </a:rPr>
              <a:t>ubaci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sr-Latn-CS" sz="2800" spc="-1" strike="noStrike">
                <a:solidFill>
                  <a:srgbClr val="009999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obj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r-Latn-CS" sz="2800" spc="-1" strike="noStrike">
                <a:solidFill>
                  <a:srgbClr val="009999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urier New"/>
              </a:rPr>
              <a:t>nadjiPoKljucu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Courier New"/>
              </a:rPr>
              <a:t>int k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mplementacija skupa pomoću 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ransformacije ključa u adresu (hashing-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iz (tabela) može da pamti elemente sku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ransformacijom ključa u adresu (indeks) se određuje pozicija elementa u ni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unkcija koja vrši transformaciju se haziva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has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funkcija, a ceo ovaj pristup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hashin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trebno je da hash funkcija generiše jedinstvene adr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likom ubacivanje se pomoću hash funkcije odredi adresa i element se smešta na datu adre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likom pretraživanja po ključu hash funkcijom se određuje adresa gde se on nala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rganizacija zasnovana na hashing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eoretski dovoljan samo 1 pris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fikasnost O(1), potencijalno brže od svih drugih metoda pretraži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Rectangle 3"/>
          <p:cNvGraphicFramePr/>
          <p:nvPr/>
        </p:nvGraphicFramePr>
        <p:xfrm>
          <a:off x="2286000" y="2700360"/>
          <a:ext cx="5410080" cy="35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700360"/>
                    <a:ext cx="5410080" cy="35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oblemi hashing organizac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Kako pronaći idealnu hash funkciju h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reba da bude jednoznačna transformacija, tj. bez kolizije (sudaranja ) ključ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Za svako k1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2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→ h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1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≠ h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2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Ako se dogodi kolizija kako je reš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blem ubacivanja: šta uraditi sa elementom koji dobiju adresu koja je već zauz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blem pretraživanja: kako naći traženi element ako nije na adresi dobijenoj pomoću hash funk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Hashing funkcija h(k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dealna (perfektna) h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guće je konstruisati samo ako se unapred znaju svi mogući ključevi i adr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 praksi ovaj uslov često nije ispunj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obre osobine h(k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a se brzo rač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a ima skoro slučajnu (uniformnu) raspodelu adresa, tj. da nema tačke nagomilavanja (sudaran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nogo zapisa dobija istu adr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etode za realizaciju neperfektne h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elekcija cif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statak od celobrojnog delj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8T18:45:48Z</dcterms:modified>
  <cp:revision>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