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075-23AD-4C28-8C3F-F1081E95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A14-A387-4319-B5A8-446DAFAB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371-E0D0-4C79-A472-CEAFB6CA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BB5-722D-4EE9-B49B-6150E7B0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B3E1-9AC2-496F-96C3-09BBFAE5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A4B-BBE5-470F-B7F1-23C5BEF2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5EA7-3F12-419F-8F15-9039E8B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0754-8480-48A7-B627-EE6B62D3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7C6C-39A7-40D3-8064-D3235673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E8E5-2FCA-4705-AE5D-89D600AD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2FE9-0D97-4EBF-B20E-D154687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8E5-400D-4B94-9C20-C92F6AE9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379-5ABB-4067-8E19-83DA9D09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65B9-B049-4A37-BF56-FB85DB0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217B-2130-4801-8A36-5489EC9D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2391-E37C-4E74-BEB3-B0C4EA30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ECD3-AE48-47D1-9277-A03E7C91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2764-5806-4297-94EE-32EFE12B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D1B6-2C52-4A69-93E1-490EB3B6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DEA7-569D-4A57-9AD7-BE526F74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6F90-FBFE-439D-B143-E71636C8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9296-4E0E-4498-861E-BFC9CBAF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E94-DE60-4B95-9495-9433830A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9EB9-C553-4E4A-9538-2AAF4A5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E2CE-1EF0-406A-A7C5-AF5C76A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7051-DAE1-4C71-A3F3-37A36AD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8C85-D9C6-44EE-AB9A-CF510A8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5009-2BDE-4B7D-A221-4ECDAD11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E893-64F6-4BF7-A305-B8ADA55F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1C98-A3CD-4697-A4F0-0EBCEEE3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CE3-84C0-44DA-8D3A-2C64C44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AAE-DE19-4BF2-81A9-679A6A6D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ED2-49CD-41F0-9ED3-B44ECC0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BC2-8F9D-47A4-B152-31B3FA7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CF9-F837-47CD-84AD-D6F3FE96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E28-BB08-443B-93DE-0EA42D84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A40-8DBA-4DC4-B5B1-8D86E825E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3BB1-7B48-4BC9-9469-D77C908EC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B067-B901-472B-BC33-E0208DEE6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dubini - pseudo 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goritam za prolaz po du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 korišćenje ATP Stek (st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 čvor ima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, spreman i obrađ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ilaze se svi čvorovi grafa i ubacuju u stak ako već nisu posećeni ili ubačeni u red (tj. one sa statusom da čeka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ima čvorove iz staka, posećuje ih i menja status da su posećeni, a zatim ubacuje sve njihove susede u stak ako već nisu posećeni ili ubačeni u stak i menja im status u speman (tj. da su ubačeni u 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du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prolazP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ubi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raf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inicij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c u grafu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status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lavna o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c u grafu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c.status =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etiCvor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dubini – psuedo 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void posetiCvor(Cvor 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Red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ew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  //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 kome se ubacuju cvorovi gra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 // ubaci cvor u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le (!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 = r.Uzmi();  // uzmi cvor iz r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.visit(); // poseti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.status == obradjen;  // promeni mu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/ ubaci u stak sve susede od k koji ček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ji je sused cvora k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tatus = čeka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označi da je spreman, tj. da je ubacen u s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status == sprema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лази кроз г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6483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Графови и мре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из области графова и мреж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1. Основни терм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.2. Пролази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лази кроз г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2. Пролази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i kroz gr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ilazak svih čvorova grafa tačno jed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rebni za rešavanje raznih probl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li su dva čvora povez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laženje najkraćeg rasto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stoji više algoritama za obilazak gra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laz po šir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laz po du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šir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vorovi se obilaze po slojevima (nivo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jedna čvor obiđe, onda se obilaze svi njegovi susedi, pa tek onda susedi njegovih suseda,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, B, C, 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Rectangle 3"/>
          <p:cNvGraphicFramePr/>
          <p:nvPr/>
        </p:nvGraphicFramePr>
        <p:xfrm>
          <a:off x="3200400" y="3048120"/>
          <a:ext cx="450684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048120"/>
                    <a:ext cx="450684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širini- pseudo 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goritam za prolaz po ši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hteva korišćen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 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d (que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i čvor ima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, spreman i obrađ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ilaze se svi čvorovi grafa i ubacuju u red ako već nisu posećeni ili ubačeni u red (tj. one sa statusom da čeka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ima čvorove iz reda, posećuje ih i menja status da su posećeni, a zatim ubacuje sve njihove susede u red ako već nisu posećeni ili ubačeni u red i menja im status u speman (tj. da su ubačeni u 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šir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prolazPoSirini(Graf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inicij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c u grafu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status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lavna o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_each (cvor c u grafu g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c.status =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etiCvor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širini – psuedo 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void posetiCvor(Cvor 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Red r = new Red();  // red u kome se ubacuju cvorovi gra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// ubaci cvor u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(!r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= r.Uzmi();  // uzmi cvor iz 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.visit(); // poseti 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.status == obradjen;  // promeni mu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// ubaci u red sve susede od k koji ček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_each (cvor s koji je sused cvora k) 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.status = če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n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status == sprem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laz po du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vorovi se obilaze po du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jedna čvor obiđe, onda se obilazi jedna njegov sused, pa tek kad se on i njegovi susedi obiđu rekurzivno po dubini, prelazi se na obilazak ostalih sus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, B, E, D,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3200400" y="3048120"/>
          <a:ext cx="4506840" cy="33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048120"/>
                    <a:ext cx="4506840" cy="33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9T20:20:1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