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81E-65CE-45A1-9AA1-F83B00DC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3EB-ACCA-4290-AC61-0C070BC7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3EA-DBC9-4206-8B22-7A8C286D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103-E06F-40C2-B1C1-AB2CB95B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CF46-2427-4738-A1DC-8D5861A5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7E12-8416-47E6-8194-1FEE3E5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76A5-DFFB-4FAD-A534-8B2E37CE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730A-5C4E-4882-98BC-87E36B0F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44DD-9792-4249-BA29-852C8A8E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9DE0-DD23-4B4D-84BC-976FA7A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76C0-A1D7-43C6-A2FE-DA35C69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664-81DB-4D43-A925-6354F802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CB2-A55B-4BC0-ABFC-9A3DD98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DD29-ECC1-47CF-9339-DC1E0BFF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49CC-0D86-4D26-AEC2-5119411E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80B7-B178-461D-9253-C1B0CBA6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CBD5-4BA5-46A2-99E4-85EAE6CB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831F-6688-440B-B01A-58D498BA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D3D2-3C8B-47B1-8F22-17B3F6A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755A-A004-4B49-ADC7-8F77AD3F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416A-8174-4E25-8ADF-E6FB712C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DA4D-F120-46D8-A8E1-6886D237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7A6-6193-41B8-9625-922AAF8D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EC9CF-C1F1-4A70-B338-C4E53087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FA1F-308E-4893-8362-1A7B5EC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A7C8-9C04-49EE-A5CC-A3DEDDF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AD6A-239A-4D59-85E3-F8852C3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8812-6277-415F-AA46-57DF5276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5A0B-A03C-4C98-B41F-8732B85F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9F27-48B2-43AF-98BD-071EF08C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B08-A563-41BA-ACC9-C7455C11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57A-78AB-43DD-9078-7A9A7C5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4BD-7CB8-4C64-827B-9A6CB778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372-5534-4AED-9BC4-E0A7B84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E95-626B-46C5-9D6D-27FC0B8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BE4-1E03-4FC3-9AEE-ACD66177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87AD-C41E-48C2-B270-D1DA2F28E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4FC5-25AD-49C6-B2B0-D04048616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742C-F004-429E-9B79-10E492D02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vadratno prob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izbora r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vadratno prob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kcesivno uvećati prethodno dobijenu adresu za kvadrat prethodnog rasto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; j=1,2,…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limično se rešava problem sekundarne koliz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toda olanč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blem primarne kolizije se rešava uvođenjem posebne zone za  zapise koji dobiju istu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pisi koji su u koliziji se olančav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lustracija metoda olanča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Rectangle 3"/>
          <p:cNvGraphicFramePr/>
          <p:nvPr/>
        </p:nvGraphicFramePr>
        <p:xfrm>
          <a:off x="1727280" y="1087560"/>
          <a:ext cx="574020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1087560"/>
                    <a:ext cx="574020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ređenje metoda rešavanja koliz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371600"/>
          <a:ext cx="8076960" cy="4647600"/>
        </p:xfrm>
        <a:graphic>
          <a:graphicData uri="http://schemas.openxmlformats.org/drawingml/2006/table">
            <a:tbl>
              <a:tblPr/>
              <a:tblGrid>
                <a:gridCol w="2692080"/>
                <a:gridCol w="2692440"/>
                <a:gridCol w="2692440"/>
              </a:tblGrid>
              <a:tr h="73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dostat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voreno adresir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a dodatnog memo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skog pros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 sekundarne koliz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a ola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a sekundarne koliz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dodatan memorijski pros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kvencijalno pretraživanje jednostruko spregnute li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Функција трансформ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 Претраживање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концептима претраживања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1. Функција трансформ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објасни основне функције трансформ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0.2. Решавање проблема колизије кључева. Отворено адресирање. Оланча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решавање проблема колизије кључева отвореним адресирањем и оланчав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sformacija ključa u adre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200808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.2. Решавање проблема колизије кључева. Отворено адресирање. Oланча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решавање проблема колизије кључева отвореним адресирањем и оланчавање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blem koli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ansformacijom ključa u adresu (indeks) se određuje pozicija elementa u ni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(k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koliz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1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,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1) =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Rectangle 3"/>
          <p:cNvGraphicFramePr/>
          <p:nvPr/>
        </p:nvGraphicFramePr>
        <p:xfrm>
          <a:off x="2895480" y="2965320"/>
          <a:ext cx="5105520" cy="33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65320"/>
                    <a:ext cx="5105520" cy="33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hvatanje više zapisa na jednu adre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 adresa može da prihvati vi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smeštanja ne postoji sve dok se ne popuni prostor na jednoj adr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2286000" y="2340000"/>
          <a:ext cx="647712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40000"/>
                    <a:ext cx="647712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blem koli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se dogodi kolizija kako je reš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ubacivanja: šta uraditi sa elementom koji dobiju adresu koja je već zauz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pretraživanja: kako naći traženi element ako nije na adresi dobijenoj pomoću hash fun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hvatanje više zapisa na jednu adr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blažava se problem kolizije, tj. problem smešt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va standardna načina rešavanja koliz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tvoreno adre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 olanč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tvoreno adres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tvoreno adresiranje se bazira na ideji da se primeni druga hash funkcija r(k) na adresu dobijenu originalnom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astopna primena r(k) dok se ne dobije slobodna ad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r(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mo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r(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mo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r(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mo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– veličina tab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nearno prob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izbora r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nearno prob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većati prethodno dobijenu adresu z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2666880" y="2800440"/>
          <a:ext cx="617220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800440"/>
                    <a:ext cx="6172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undarna koli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arna kolizija je kada različiti ključevi imaju istu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kundarna kolizija se javlja kada se sudare ključevi koji imaju različite h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tvoreno adresiranje generiše sekundarnu koliz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ećava se broj koli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8:49:13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