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0FE-AE0D-48C0-99F0-B81AC857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5DB-FAAD-40A8-9CE3-E9BFB51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FF2-7ADE-4CD8-AF14-44B9D28E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FC6-A786-4667-9A33-17567E83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FC2D-8C51-4473-B128-E277724D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52D6-F6BD-4B77-8883-A3DB626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8F1A-1121-4A17-8BF9-8436C8C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9445-BC27-4FD5-A30B-512E429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58B-4624-4434-969C-37C0F71A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214E-24D3-47EF-A980-E8DBEDCD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4C5B-6CA0-4777-85E5-2A612DA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ADF-7C26-4AE2-928C-2612897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33BF-3086-4293-8FAE-6003114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D73-E3F1-49A4-BED9-FFF1212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B61-A97D-4C40-A4D6-4282956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9221-FC6B-4E0F-9A6E-AFB10D02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B0E1-9618-4E52-BAED-C3ECFF0D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04E4-63EE-4F75-AA93-06446BD0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70EC-6881-4A77-BCC3-E4EBAB0B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DB78-30F2-4873-A24E-988C7D5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DFEA-B445-43FF-AACF-09B2714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45F3-443A-486F-AF86-3B2DDC5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ED6-274F-4DDC-8733-77EE0C4D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A33A-FE21-42CA-9E4B-2D720F14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6ECE-5FB2-468C-BF44-DE19BC3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3359-23F5-4AAC-BF4E-CB28077E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8415-14DD-49D8-AEAE-AC99031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1B37-9F20-49EC-8DCF-E2EA2AC8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0A8A-A914-4064-A2DF-1E19CEE4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488F-7368-4CED-B133-4608E5E6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3A3-6608-477D-B732-D469B23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BD3-4EDF-470E-B0D7-ED98CA75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8088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97A-C8E0-4E9D-9F6B-8467A4A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DD0-B2C8-407C-928D-D02F116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1B2-1CFC-4A05-8E97-8E21DB0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3A9-DB41-43B2-B2DF-97759D2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8BA-F66D-4ACA-9DDC-0123A8F03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8BA-FDE7-470B-964E-9E7AB6570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36E3-5A48-47BB-90FD-DF8F50312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Primer ubacivanja 382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395280" y="2349360"/>
          <a:ext cx="835344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49360"/>
                    <a:ext cx="835344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Posle ubacivanja 382 (čvor K se pocepao)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181080" y="2492280"/>
          <a:ext cx="93250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492280"/>
                    <a:ext cx="93250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2349360"/>
          <a:ext cx="8893080" cy="39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893080" cy="39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Rectangle 3"/>
          <p:cNvGraphicFramePr/>
          <p:nvPr/>
        </p:nvGraphicFramePr>
        <p:xfrm>
          <a:off x="395280" y="2292480"/>
          <a:ext cx="8424720" cy="37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92480"/>
                    <a:ext cx="842472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Rectangle 3"/>
          <p:cNvGraphicFramePr/>
          <p:nvPr/>
        </p:nvGraphicFramePr>
        <p:xfrm>
          <a:off x="216000" y="2492280"/>
          <a:ext cx="892800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92280"/>
                    <a:ext cx="892800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2421000"/>
          <a:ext cx="8604360" cy="37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21000"/>
                    <a:ext cx="86043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rimer ubacivanja 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Rectangle 3"/>
          <p:cNvGraphicFramePr/>
          <p:nvPr/>
        </p:nvGraphicFramePr>
        <p:xfrm>
          <a:off x="395280" y="1069920"/>
          <a:ext cx="874872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069920"/>
                    <a:ext cx="87487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, Б* и Б+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вишегранск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.1. Б, Б* и Б</a:t>
                      </a:r>
                      <a:r>
                        <a:rPr b="0" lang="sr-CS" sz="16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Б, Б* и Б</a:t>
                      </a:r>
                      <a:r>
                        <a:rPr b="0" lang="sr-CS" sz="16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, Б* и Б+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1.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стабло, Алгоритми за претраживање и убац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умевање концепта Б-стабла и алгоритама за претраживање и убацивањ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gransk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opštenje binarnih stabala pre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oji više ključeva u čv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om ključu pridružena dva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o podstablo je istovremeno levo desno za dva susedna klju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i ključevi u levom podstablu su manji, a u desnom podstablu veći od datog klju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 stabla određuje koliko može svaki čvor imati maksimalno ključ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ximalni broj podstabala je n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gransk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lo red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Rectangle 3"/>
          <p:cNvGraphicFramePr/>
          <p:nvPr/>
        </p:nvGraphicFramePr>
        <p:xfrm>
          <a:off x="755640" y="2852640"/>
          <a:ext cx="7772400" cy="23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777240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etraživanje višegranskog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8372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TreeNode PretVST(TreeNode Root, int klj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TreeNode node = RootV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f (node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z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nt i = PretCvor(node, klju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if (kljuc == k(node, i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z =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return PretVST(s(node, i), klju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-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-Stablo reda n je višegransko stablo reda n kod koga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i listovi su na istoj vis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vaki čvor, izuzev korena, ima minimalno n/2 ključ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-Stablo reda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Rectangle 3"/>
          <p:cNvGraphicFramePr/>
          <p:nvPr/>
        </p:nvGraphicFramePr>
        <p:xfrm>
          <a:off x="755640" y="2997360"/>
          <a:ext cx="7764480" cy="14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997360"/>
                    <a:ext cx="7764480" cy="14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B-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8305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Pronaći čvor gde se vrši u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Koristi se algoritam za pretraž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urier New"/>
              </a:rPr>
              <a:t>Ubaciti novi klju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Ako ima mesta, ključ se prosto ub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Ako nema mesta, o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cepa se dati čvor na dva, i sortirani niz postojećih ključeva (uključujući i novi), osim srednjeg ključa (sredina sortiranog niza) se raspodeljuje u nove čvor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Srednji ključ se ubacuje u nadređeni č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Postupak ubacivanja se rekurzivno ponavlja</a:t>
            </a:r>
            <a:r>
              <a:rPr b="1" lang="sr-Latn-C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5:01:0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