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F27-2F43-43C1-913B-709FB46C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A42-C8B6-4FFB-BFDF-254F23D4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C40-C21B-4BB5-9E81-2C09EA1E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F84-854E-4597-9D59-E4CE1C39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30C8-D461-460B-9CA4-B7119A9D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D24B-F220-4C3B-9843-BC78B245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A887-849D-4AF0-931B-1F24B852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498E-9B8F-4FE5-AADE-FB976CBE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0C24-CD05-41D5-AFB2-C49F1537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8EF6-D5C9-4F0A-B9E2-00A06821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8E56-854F-491B-831A-9DF10414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889-C246-4CCD-B317-DE99315F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C95A-2253-4494-B87E-E3D42C52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E7FE-4978-49F4-B145-FB1D1018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2146-AD8B-42C9-B4D1-6FB7203B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D0B3-5E0A-48CD-BF98-7DC4C1D4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3290-4C15-4EB0-B3F7-65D31A8F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663F-53AA-4394-9162-9D3BE63D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10BFA-AED2-4223-BBC8-80A5EF5E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CA1C-DED6-4932-96EF-47BD0D80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9F57-B292-4C76-BEFC-62A41C95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336E-2571-4C8F-8022-AE3DA6B9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373-4565-4557-B599-8F4A561A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8B38-8109-40AF-A5EE-8DBD1BFA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31B9B-1159-4C21-845C-8826E591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23AB2-C65D-4D9E-BC4A-8E89A534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11A8C-EE27-4CA1-AAF8-938054D0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BE6F-DF67-4AD0-B157-70C7F1B4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6549-EDEA-4ED0-9535-64C0D056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83306-8E8A-4534-982F-4B859918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C09-2249-4079-817A-86EA0DCF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57B-B209-46A1-B945-9AFB53C3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6BF-FCEC-4193-830A-E772CEDE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57E-8F37-488D-A137-C3BAFF5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46B-F3A3-48E1-AF3A-FF89F614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C63-F581-4AEC-86D9-4253199D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EE5C-049A-4ACE-98B4-040811C7D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764B-07E8-41B2-A6F8-613C738C6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E630-2FB6-4149-AD59-88E73BFE6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762120" y="1600200"/>
            <a:ext cx="781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ме се апроксимира подинтегрална функција код трапезног прави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трапезно правило и дати геометријску интерпретацију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оцени грешке код трапезног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гласи уопштено трапезно правило? Навести формулу за оцену грешке тог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ме се апроксимира подинтегрална функција код Симпсоновог прави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 је алгебарски степен тачности Симпсонове форму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Симпсоново прави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основне елементе доказа о оцени грешке Симпсоновог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гласи уопштена Симпсонова формула? Навести формулу за оцену грешке те форму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1066680"/>
          <a:ext cx="8763120" cy="5369040"/>
        </p:xfrm>
        <a:graphic>
          <a:graphicData uri="http://schemas.openxmlformats.org/drawingml/2006/table">
            <a:tbl>
              <a:tblPr/>
              <a:tblGrid>
                <a:gridCol w="1136880"/>
                <a:gridCol w="1203120"/>
                <a:gridCol w="3711600"/>
                <a:gridCol w="27115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о диференцирање и нумеричка интегр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знавање са и овладавање проблема нумеричког диференцирања и интег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пезна форм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у трапеза уз оцену грешке и исту примени на решавање проблема интеграције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псонова форм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у Симпсона уз оцену грешке и исту примени на решавање проблема интеграције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04920" y="1447920"/>
          <a:ext cx="8534160" cy="25876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пезна форм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у трапеза уз оцену грешке и исту примени на решавање проблема интеграције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псонова форм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у Симпсона уз оцену грешке и исту примени на решавање проблема интеграције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8"/>
          <p:cNvSpPr/>
          <p:nvPr/>
        </p:nvSpPr>
        <p:spPr>
          <a:xfrm>
            <a:off x="380880" y="419112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05120" y="874800"/>
            <a:ext cx="3687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8.4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pezna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075040" y="1258920"/>
                <a:ext cx="5262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3" name=""/>
          <p:cNvGrpSpPr/>
          <p:nvPr/>
        </p:nvGrpSpPr>
        <p:grpSpPr>
          <a:xfrm>
            <a:off x="270000" y="1873080"/>
            <a:ext cx="2034720" cy="1525320"/>
            <a:chOff x="270000" y="1873080"/>
            <a:chExt cx="2034720" cy="1525320"/>
          </a:xfrm>
        </p:grpSpPr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1805040" y="1873080"/>
                  <a:ext cx="437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5" name=""/>
            <p:cNvGrpSpPr/>
            <p:nvPr/>
          </p:nvGrpSpPr>
          <p:grpSpPr>
            <a:xfrm>
              <a:off x="270000" y="1950840"/>
              <a:ext cx="2034720" cy="1447560"/>
              <a:chOff x="270000" y="1950840"/>
              <a:chExt cx="2034720" cy="1447560"/>
            </a:xfrm>
          </p:grpSpPr>
          <p:sp>
            <p:nvSpPr>
              <p:cNvPr id="136" name=""/>
              <p:cNvSpPr/>
              <p:nvPr/>
            </p:nvSpPr>
            <p:spPr>
              <a:xfrm flipV="1">
                <a:off x="576360" y="1950840"/>
                <a:ext cx="0" cy="13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0000" y="3179520"/>
                <a:ext cx="19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1081600">
                <a:off x="728280" y="2257200"/>
                <a:ext cx="1226880" cy="355680"/>
              </a:xfrm>
              <a:custGeom>
                <a:avLst/>
                <a:gdLst/>
                <a:ahLst/>
                <a:rect l="l" t="t" r="r" b="b"/>
                <a:pathLst>
                  <a:path w="1016" h="249">
                    <a:moveTo>
                      <a:pt x="0" y="249"/>
                    </a:moveTo>
                    <a:cubicBezTo>
                      <a:pt x="157" y="156"/>
                      <a:pt x="315" y="64"/>
                      <a:pt x="484" y="32"/>
                    </a:cubicBezTo>
                    <a:cubicBezTo>
                      <a:pt x="653" y="0"/>
                      <a:pt x="927" y="52"/>
                      <a:pt x="1016" y="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91920" y="2064600"/>
                <a:ext cx="1536480" cy="61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84160" y="260316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66880" y="2257200"/>
                <a:ext cx="0" cy="9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84160" y="3179520"/>
                <a:ext cx="88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84160" y="2603160"/>
                <a:ext cx="882360" cy="576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9533400">
                <a:off x="958320" y="2403360"/>
                <a:ext cx="960120" cy="690480"/>
              </a:xfrm>
              <a:prstGeom prst="triangle">
                <a:avLst>
                  <a:gd name="adj" fmla="val 28491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1882800" y="2219040"/>
                    <a:ext cx="421920" cy="250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6" name=""/>
                  <p:cNvSpPr txBox="1"/>
                  <p:nvPr/>
                </p:nvSpPr>
                <p:spPr>
                  <a:xfrm>
                    <a:off x="846000" y="3217680"/>
                    <a:ext cx="155160" cy="171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7" name=""/>
                  <p:cNvSpPr txBox="1"/>
                  <p:nvPr/>
                </p:nvSpPr>
                <p:spPr>
                  <a:xfrm>
                    <a:off x="1690560" y="3179520"/>
                    <a:ext cx="155160" cy="21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381480" y="2373480"/>
                <a:ext cx="460836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149720" y="4446720"/>
                <a:ext cx="13827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76720" y="4648320"/>
                <a:ext cx="5382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224320" y="4714920"/>
                <a:ext cx="88452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535200" y="5022720"/>
                <a:ext cx="22273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651040" y="6097680"/>
                <a:ext cx="4800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30600" y="3486240"/>
                <a:ext cx="23414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072040" y="3562200"/>
            <a:ext cx="407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pezno prav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3429000"/>
            <a:ext cx="2490840" cy="65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1880" y="4408560"/>
            <a:ext cx="83725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orem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o oceni greške):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                     dva puta neprekidno diferenci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ilna funkcija na         . Tada postoji                takvo da j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880" y="5675400"/>
            <a:ext cx="2189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apezn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7920" y="1028880"/>
            <a:ext cx="1074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95280" y="914400"/>
                <a:ext cx="3686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43080" y="1503360"/>
                <a:ext cx="8564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  <m:r>
                                                  <m:t xml:space="preserve">+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sSup>
                                                  <m:e>
                                                    <m:r>
                                                      <m:t xml:space="preserve">h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3</m:t>
                                                    </m:r>
                                                  </m:sup>
                                                </m:sSup>
                                              </m:num>
                                              <m:den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den>
                                            </m:f>
                                            <m:sSup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'</m:t>
                                                </m:r>
                                                <m:r>
                                                  <m:t xml:space="preserve">'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η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004760" y="3960720"/>
          <a:ext cx="708516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3960720"/>
                    <a:ext cx="708516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886280" y="1028880"/>
            <a:ext cx="998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09520" y="2655720"/>
                <a:ext cx="3878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911840" y="2808360"/>
            <a:ext cx="3840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opštena trapezna form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33560" y="2577960"/>
            <a:ext cx="4071960" cy="84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760" y="3616200"/>
            <a:ext cx="287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70040" y="4691160"/>
            <a:ext cx="3840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8.5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psonova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103800" y="5132520"/>
            <a:ext cx="2644560" cy="1725120"/>
            <a:chOff x="6103800" y="5132520"/>
            <a:chExt cx="2644560" cy="1725120"/>
          </a:xfrm>
        </p:grpSpPr>
        <p:sp>
          <p:nvSpPr>
            <p:cNvPr id="172" name=""/>
            <p:cNvSpPr/>
            <p:nvPr/>
          </p:nvSpPr>
          <p:spPr>
            <a:xfrm>
              <a:off x="6948360" y="5419440"/>
              <a:ext cx="1112760" cy="3841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95720" y="5649840"/>
              <a:ext cx="1266840" cy="921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11600" y="515160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03800" y="6572160"/>
              <a:ext cx="23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95720" y="5611680"/>
              <a:ext cx="0" cy="960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2560" y="5533920"/>
              <a:ext cx="0" cy="1037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56160" y="5381640"/>
              <a:ext cx="384120" cy="3074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10240" y="5381640"/>
              <a:ext cx="384120" cy="3074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48400" y="5381640"/>
              <a:ext cx="384120" cy="3074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33880" y="5533920"/>
              <a:ext cx="384120" cy="3074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95720" y="5573520"/>
              <a:ext cx="384120" cy="3078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70680" y="5533920"/>
              <a:ext cx="191880" cy="307440"/>
            </a:xfrm>
            <a:prstGeom prst="flowChartManualInpu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87920" y="5343480"/>
              <a:ext cx="1689120" cy="345600"/>
            </a:xfrm>
            <a:custGeom>
              <a:avLst/>
              <a:gdLst/>
              <a:ahLst/>
              <a:rect l="l" t="t" r="r" b="b"/>
              <a:pathLst>
                <a:path w="1064" h="439">
                  <a:moveTo>
                    <a:pt x="0" y="61"/>
                  </a:moveTo>
                  <a:cubicBezTo>
                    <a:pt x="82" y="210"/>
                    <a:pt x="165" y="359"/>
                    <a:pt x="242" y="399"/>
                  </a:cubicBezTo>
                  <a:cubicBezTo>
                    <a:pt x="319" y="439"/>
                    <a:pt x="404" y="339"/>
                    <a:pt x="460" y="303"/>
                  </a:cubicBezTo>
                  <a:cubicBezTo>
                    <a:pt x="516" y="267"/>
                    <a:pt x="529" y="230"/>
                    <a:pt x="581" y="182"/>
                  </a:cubicBezTo>
                  <a:cubicBezTo>
                    <a:pt x="633" y="134"/>
                    <a:pt x="718" y="24"/>
                    <a:pt x="774" y="12"/>
                  </a:cubicBezTo>
                  <a:cubicBezTo>
                    <a:pt x="830" y="0"/>
                    <a:pt x="871" y="48"/>
                    <a:pt x="919" y="109"/>
                  </a:cubicBezTo>
                  <a:cubicBezTo>
                    <a:pt x="967" y="170"/>
                    <a:pt x="1015" y="272"/>
                    <a:pt x="1064" y="3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736000">
              <a:off x="6565680" y="5343480"/>
              <a:ext cx="1766880" cy="566280"/>
            </a:xfrm>
            <a:custGeom>
              <a:avLst/>
              <a:gdLst/>
              <a:ahLst/>
              <a:rect l="l" t="t" r="r" b="b"/>
              <a:pathLst>
                <a:path w="1863" h="843">
                  <a:moveTo>
                    <a:pt x="0" y="287"/>
                  </a:moveTo>
                  <a:cubicBezTo>
                    <a:pt x="377" y="143"/>
                    <a:pt x="754" y="0"/>
                    <a:pt x="1064" y="93"/>
                  </a:cubicBezTo>
                  <a:cubicBezTo>
                    <a:pt x="1374" y="186"/>
                    <a:pt x="1730" y="722"/>
                    <a:pt x="1863" y="8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02120" y="5381640"/>
              <a:ext cx="0" cy="1190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6487920" y="5189400"/>
                  <a:ext cx="439560" cy="25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8276760" y="5449680"/>
                  <a:ext cx="47160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695640" y="6564240"/>
                  <a:ext cx="21132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7494120" y="6580080"/>
                  <a:ext cx="19548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7946640" y="6580080"/>
                  <a:ext cx="21132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225440" y="5057640"/>
                <a:ext cx="3764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25440" y="5805360"/>
                <a:ext cx="45309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Trapezna formula;</a:t>
            </a:r>
            <a:br>
              <a:rPr sz="3000"/>
            </a:b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Simpsonova formu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344760" y="914400"/>
          <a:ext cx="2859120" cy="23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4760" y="914400"/>
                    <a:ext cx="2859120" cy="23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352680" y="3411360"/>
                <a:ext cx="288000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14880" y="5024520"/>
                <a:ext cx="2957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390840" y="4908600"/>
            <a:ext cx="2803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585800" y="5830920"/>
                <a:ext cx="4071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580000" y="5946840"/>
            <a:ext cx="3335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psonovo prav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55760" y="5676840"/>
            <a:ext cx="4359240" cy="92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32680" y="3525840"/>
            <a:ext cx="345960" cy="1382760"/>
          </a:xfrm>
          <a:custGeom>
            <a:avLst/>
            <a:gdLst>
              <a:gd name="textAreaLeft" fmla="*/ 0 w 345960"/>
              <a:gd name="textAreaRight" fmla="*/ 124920 w 345960"/>
              <a:gd name="textAreaTop" fmla="*/ 36000 h 1382760"/>
              <a:gd name="textAreaBottom" fmla="*/ 1346760 h 13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066680"/>
          <a:ext cx="213372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066680"/>
                    <a:ext cx="21337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mpsonov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492360" y="1258920"/>
                <a:ext cx="8827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222720" y="1643040"/>
                <a:ext cx="2421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14640" y="2949480"/>
                <a:ext cx="1266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898640" y="3755880"/>
                <a:ext cx="5607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147760" y="4408560"/>
                <a:ext cx="506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609480" y="5181480"/>
          <a:ext cx="757584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181480"/>
                    <a:ext cx="75758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80880" y="990720"/>
            <a:ext cx="81424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orem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 o oceni g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ške ): Neka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četiri puta neprekidno diferencijabilna funkcija n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[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,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]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Tada postoji               takvo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373480"/>
            <a:ext cx="85647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Lako se dokazuje da Simpsonova formula ima algebarski stepen tačnosti tri, tj.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409920"/>
            <a:ext cx="818064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linom trećeg stepena za koji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178160"/>
            <a:ext cx="5531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kazuje se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4984920"/>
            <a:ext cx="3187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mpsonov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Rectangle 3"/>
          <p:cNvGraphicFramePr/>
          <p:nvPr/>
        </p:nvGraphicFramePr>
        <p:xfrm>
          <a:off x="1600200" y="1181160"/>
          <a:ext cx="25146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181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Rectangle 3"/>
          <p:cNvGraphicFramePr/>
          <p:nvPr/>
        </p:nvGraphicFramePr>
        <p:xfrm>
          <a:off x="990720" y="1752480"/>
          <a:ext cx="7010280" cy="18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752480"/>
                    <a:ext cx="701028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04920" y="12193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aberimo                                           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Rectangle 3"/>
          <p:cNvGraphicFramePr/>
          <p:nvPr/>
        </p:nvGraphicFramePr>
        <p:xfrm>
          <a:off x="990720" y="3956040"/>
          <a:ext cx="6324480" cy="290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956040"/>
                    <a:ext cx="632448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80880" y="358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vrštavanjem u (*) dobij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mpsonov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Rectangle 3"/>
          <p:cNvGraphicFramePr/>
          <p:nvPr/>
        </p:nvGraphicFramePr>
        <p:xfrm>
          <a:off x="3346560" y="1593720"/>
          <a:ext cx="183960" cy="2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1593720"/>
                    <a:ext cx="18396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Rectangle 3"/>
          <p:cNvGraphicFramePr/>
          <p:nvPr/>
        </p:nvGraphicFramePr>
        <p:xfrm>
          <a:off x="2832120" y="1962000"/>
          <a:ext cx="476280" cy="26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2120" y="1962000"/>
                    <a:ext cx="476280" cy="2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Rectangle 3"/>
          <p:cNvGraphicFramePr/>
          <p:nvPr/>
        </p:nvGraphicFramePr>
        <p:xfrm>
          <a:off x="3498840" y="1946160"/>
          <a:ext cx="19512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8840" y="1946160"/>
                    <a:ext cx="1951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04920" y="1143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a Simpsonova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184560" y="1824120"/>
            <a:ext cx="3101760" cy="81000"/>
            <a:chOff x="3184560" y="1824120"/>
            <a:chExt cx="3101760" cy="81000"/>
          </a:xfrm>
        </p:grpSpPr>
        <p:sp>
          <p:nvSpPr>
            <p:cNvPr id="237" name=""/>
            <p:cNvSpPr/>
            <p:nvPr/>
          </p:nvSpPr>
          <p:spPr>
            <a:xfrm>
              <a:off x="3187800" y="1866960"/>
              <a:ext cx="30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84560" y="1828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56080" y="1828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24360" y="1828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05240" y="1828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10360" y="1828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70280" y="1824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22720" y="1824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03960" y="1828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13280" y="1824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7" name="Rectangle 3"/>
          <p:cNvGraphicFramePr/>
          <p:nvPr/>
        </p:nvGraphicFramePr>
        <p:xfrm>
          <a:off x="3843360" y="1951200"/>
          <a:ext cx="225360" cy="31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43360" y="1951200"/>
                    <a:ext cx="22536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5727600" y="1968480"/>
          <a:ext cx="449280" cy="31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27600" y="1968480"/>
                    <a:ext cx="44928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140520" y="1962000"/>
          <a:ext cx="333360" cy="31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40520" y="1962000"/>
                    <a:ext cx="33336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949400" y="2381400"/>
          <a:ext cx="3557520" cy="57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49400" y="2381400"/>
                    <a:ext cx="35575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96880" y="2959200"/>
          <a:ext cx="7386480" cy="1358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6880" y="2959200"/>
                    <a:ext cx="738648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197080" y="4597560"/>
          <a:ext cx="5105520" cy="685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97080" y="4597560"/>
                    <a:ext cx="5105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679320" y="5448240"/>
          <a:ext cx="5600880" cy="1246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9320" y="5448240"/>
                    <a:ext cx="560088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019240" y="4457880"/>
            <a:ext cx="5600880" cy="90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mpsonov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6T13:56:02Z</dcterms:modified>
  <cp:revision>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