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EF74-AED4-4904-AAC4-9F0608DDC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F264-B3A2-4FB3-A44C-7596ABCB8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0878-D5F6-443F-87BD-2ECACD69F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3DD8-FE9A-49E2-A727-2F4B18ACB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0DD0B-C3DE-4CEB-8CDE-B81ADC02E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25B9E-D5BB-40B9-9FEF-B7D1CC6DF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C9CA0-4AEE-4152-AE5A-E96AEEA56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BE16E-5544-4CE2-9099-5715EE9A7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4A21B-CA94-4BBB-AF70-E654EEBDC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7584E-E4D7-4C75-96BA-4484771D7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373CC-781C-41AD-8F6A-BB09591EB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991D-B55B-4229-8D5C-1E864DE4E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D6B2B-8A57-4735-A6B6-0A0143636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43C53-DFB7-414F-ACE2-4E7B3DEBA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77780-0559-4CB0-8C75-01E442EA3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CC551-7CFD-4371-BAF9-302B77281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C7639-A066-452A-AD1D-7A1C09DBD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E0573D-398F-4221-ABDF-2BE360C84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2A1430-5152-4B15-8341-6CC586F2F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C118DA-9015-46DC-AE64-80233B61E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3235E8-7154-4120-99B8-AC6237CEB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2B0A47-733F-4F77-8060-582002C4B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DAF3-B7B7-44CA-BB5D-A609E3E5F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59CACA-A031-4B1D-976A-8BD6A60A0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71EA5C-2074-4F8E-8A0C-7A1B0E52A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20ABDF-831D-4F62-9AA7-DD660C3C0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C0CC8E-9567-43E7-848A-018874688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441947-8039-4BE6-823B-CA8503A8E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FEE7EC-3A74-4859-BBD8-5FED06091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9112B2-3DBD-4817-A1A7-214264728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94E3-8CD4-40F3-9B36-546ECF318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3E05-250E-432E-92DB-CB43BDD8B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B6B7-5A06-496A-B0B6-762380880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CB16-7AC3-427D-99C7-DD6E1DF3F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399E-DA5E-4D9B-8DA9-90CC97603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D471-5240-4CE2-940F-D88DE20A3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40B70-7952-4292-B23A-FCF4BEA5F6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4" descr=""/>
          <p:cNvPicPr/>
          <p:nvPr/>
        </p:nvPicPr>
        <p:blipFill>
          <a:blip r:embed="rId2"/>
          <a:stretch/>
        </p:blipFill>
        <p:spPr>
          <a:xfrm>
            <a:off x="-304920" y="4680"/>
            <a:ext cx="9720360" cy="687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3C762-C35A-4A4F-885C-6CA950B358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6AA59-1FA7-4272-ADD8-4BEE4D28AE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2"/>
          <a:stretch/>
        </p:blipFill>
        <p:spPr>
          <a:xfrm>
            <a:off x="-304920" y="4680"/>
            <a:ext cx="9720360" cy="687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8.wmf"/><Relationship Id="rId9" Type="http://schemas.openxmlformats.org/officeDocument/2006/relationships/slideLayout" Target="../slideLayouts/slideLayout2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2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20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2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2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617400" y="982800"/>
            <a:ext cx="73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Principi jednakih relativnih grešak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Rectangle 3"/>
              <p:cNvSpPr txBox="1"/>
              <p:nvPr/>
            </p:nvSpPr>
            <p:spPr>
              <a:xfrm>
                <a:off x="1143000" y="1295280"/>
                <a:ext cx="5630760" cy="369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  <m:sup/>
                            </m:sSubSup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/>
                            </m:sSubSup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/>
                            </m:sSup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r>
                                      <m:t xml:space="preserve">f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</m:nary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</m:sSubSup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r>
                                      <m:t xml:space="preserve">f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</m:nary>
                        <m:d>
                          <m:dPr>
                            <m:begChr m:val="|"/>
                            <m:endChr m:val="|"/>
                          </m:dPr>
                          <m:e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</m:sSubSup>
                          </m:e>
                        </m:d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</m:sSubSup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  <m:sup/>
                            </m:sSubSup>
                          </m:sub>
                        </m:sSub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r>
                                      <m:t xml:space="preserve">f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</m:nary>
                        <m:d>
                          <m:dPr>
                            <m:begChr m:val="|"/>
                            <m:endChr m:val="|"/>
                          </m:dPr>
                          <m:e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</m:sSubSup>
                          </m:e>
                        </m:d>
                        <m:r>
                          <m:t xml:space="preserve">ε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  <m:sup/>
                            </m:sSubSup>
                          </m:sub>
                        </m:sSub>
                        <m:r>
                          <m:t xml:space="preserve">≤</m:t>
                        </m:r>
                        <m:f>
                          <m:num>
                            <m:r>
                              <m:t xml:space="preserve">ε</m:t>
                            </m:r>
                          </m:num>
                          <m:den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/>
                                    </m:sSubSup>
                                  </m:e>
                                </m:d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f</m:t>
                                        </m:r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</m:e>
                                </m:d>
                              </m:e>
                            </m:nary>
                          </m:den>
                        </m:f>
                        <m:r>
                          <m:t xml:space="preserve">,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  <m:sup/>
                            </m:sSubSup>
                          </m:sub>
                        </m:sSub>
                        <m:r>
                          <m:t xml:space="preserve">≤</m:t>
                        </m:r>
                        <m:f>
                          <m:num>
                            <m:r>
                              <m:t xml:space="preserve">ε</m:t>
                            </m:r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sSub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  <m:sup/>
                                </m:sSubSup>
                              </m:e>
                            </m:d>
                          </m:num>
                          <m:den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/>
                                    </m:sSubSup>
                                  </m:e>
                                </m:d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f</m:t>
                                        </m:r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</m:e>
                                </m:d>
                              </m:e>
                            </m:nary>
                          </m:den>
                        </m:f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-3808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Obratan problem ocene greš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4"/>
          <p:cNvSpPr/>
          <p:nvPr/>
        </p:nvSpPr>
        <p:spPr>
          <a:xfrm>
            <a:off x="762120" y="1600200"/>
            <a:ext cx="7543800" cy="48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ИТАЊ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ефинисати директан проблем оцене грешке приближне вредности функциј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Формулисати и доказати теорему о оцени грешке приближне вредности функц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звести формулу за апсолутну грешку збира и разли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звести формулу зе релативну грешку производа и колични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Ако је            , доказати да је               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Ако је            , доказати да је                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Формулисати обратан проблем оцене грешке приближне вредности функциј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Решити обратан проблем оцене грешке ако се усвој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а) принцип једнаких утица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б) принцип једнаких апсолутних греша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) принцип једнаких релативних греша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Direktan problem ocene greške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; </a:t>
            </a:r>
            <a:br>
              <a:rPr sz="3200"/>
            </a:b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Obratan problem ocene grešk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8" name="Rectangle 3"/>
          <p:cNvGraphicFramePr/>
          <p:nvPr/>
        </p:nvGraphicFramePr>
        <p:xfrm>
          <a:off x="1905120" y="3809880"/>
          <a:ext cx="628560" cy="34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3809880"/>
                    <a:ext cx="62856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Rectangle 3"/>
          <p:cNvGraphicFramePr/>
          <p:nvPr/>
        </p:nvGraphicFramePr>
        <p:xfrm>
          <a:off x="1905120" y="4343400"/>
          <a:ext cx="685800" cy="34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1" name="Rectangle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5120" y="4343400"/>
                    <a:ext cx="68580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Rectangle 3"/>
          <p:cNvGraphicFramePr/>
          <p:nvPr/>
        </p:nvGraphicFramePr>
        <p:xfrm>
          <a:off x="4267080" y="3809880"/>
          <a:ext cx="990720" cy="409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3" name="Rectangle 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67080" y="3809880"/>
                    <a:ext cx="990720" cy="4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4" name="Rectangle 3"/>
          <p:cNvGraphicFramePr/>
          <p:nvPr/>
        </p:nvGraphicFramePr>
        <p:xfrm>
          <a:off x="4267080" y="4267080"/>
          <a:ext cx="1067040" cy="601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5" name="Rectangle 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267080" y="4267080"/>
                    <a:ext cx="1067040" cy="6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" name=""/>
          <p:cNvGraphicFramePr/>
          <p:nvPr/>
        </p:nvGraphicFramePr>
        <p:xfrm>
          <a:off x="457200" y="990720"/>
          <a:ext cx="8229600" cy="5688000"/>
        </p:xfrm>
        <a:graphic>
          <a:graphicData uri="http://schemas.openxmlformats.org/drawingml/2006/table">
            <a:tbl>
              <a:tblPr/>
              <a:tblGrid>
                <a:gridCol w="1066680"/>
                <a:gridCol w="1131840"/>
                <a:gridCol w="3486240"/>
                <a:gridCol w="2544840"/>
              </a:tblGrid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адна недељ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ематска цели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Циљ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256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ближни бројеви и грешк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владавање основним појмовима везаним за приближне бројеве и грешке приближних броје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9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ематска јединиц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ректан проблем оцене грешк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удент ће бити упознат са формулом за ганицу апсолутне грешке приближне вредности функције и способан да је примени на решавање конкретних проблем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01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328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ратан проблем оцене грешк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удент ће бити упознат са обратним проблемом оцене грешке увођењем принципа једнаких утицаја, једнаких апсолутних и једнаких релативних грешак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"/>
          <p:cNvGraphicFramePr/>
          <p:nvPr/>
        </p:nvGraphicFramePr>
        <p:xfrm>
          <a:off x="304920" y="1371600"/>
          <a:ext cx="8534160" cy="2587680"/>
        </p:xfrm>
        <a:graphic>
          <a:graphicData uri="http://schemas.openxmlformats.org/drawingml/2006/table">
            <a:tbl>
              <a:tblPr/>
              <a:tblGrid>
                <a:gridCol w="990360"/>
                <a:gridCol w="2514600"/>
                <a:gridCol w="5029200"/>
              </a:tblGrid>
              <a:tr h="699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Рад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недељ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Тематск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јединиц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ЦИЉ УЧЕЊ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ректан проблем оцене грешк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удент ће бити упознат са формулом за ганицу апсолутне грешке приближне вредности функције и способан да је примени на решавање конкретних проблем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ратан проблем оцене грешк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удент ће бити упознат са обратним проблемом оцене грешке увођењем принципа једнаких утицаја, једнаких апсолутних и једнаких релативних грешак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" name="Text Box 18"/>
          <p:cNvSpPr/>
          <p:nvPr/>
        </p:nvSpPr>
        <p:spPr>
          <a:xfrm>
            <a:off x="380880" y="4419720"/>
            <a:ext cx="8763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333399"/>
                </a:solidFill>
                <a:latin typeface="Arial"/>
              </a:rPr>
              <a:t>НАСТАВНИ МЕТОД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333399"/>
                </a:solidFill>
                <a:latin typeface="Arial"/>
              </a:rPr>
              <a:t>Предавањ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Direktan problem ocene grešk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2" name="Rectangle 3"/>
          <p:cNvGraphicFramePr/>
          <p:nvPr/>
        </p:nvGraphicFramePr>
        <p:xfrm>
          <a:off x="304920" y="4267080"/>
          <a:ext cx="8610480" cy="103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4267080"/>
                    <a:ext cx="8610480" cy="103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"/>
          <p:cNvSpPr/>
          <p:nvPr/>
        </p:nvSpPr>
        <p:spPr>
          <a:xfrm>
            <a:off x="304920" y="1219320"/>
            <a:ext cx="8458200" cy="30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Uvodne napomen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Lagranžova teorema za funkciju jedne promenljiv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Ako je funkcija </a:t>
            </a:r>
            <a:r>
              <a:rPr b="0" i="1" lang="sr-Latn-C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(x) neprekidna na odsečku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+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]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i diferencijabilna na intervalu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+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), onda postoji broj 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1 takav da j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–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sr-Latn-C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‘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x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Θ Δ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Lagran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žova teorema za funkciju </a:t>
            </a:r>
            <a:r>
              <a:rPr b="0" i="1" lang="sr-Latn-C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promenljivih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Ako funkcija </a:t>
            </a:r>
            <a:r>
              <a:rPr b="0" i="1" lang="sr-Latn-C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sr-Latn-C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,...,</a:t>
            </a:r>
            <a:r>
              <a:rPr b="0" i="1" lang="sr-Latn-C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) ima neprekidne parcijalne izvode, onda postoji broj 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1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takav da j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0" y="472428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, gde j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Rectangle 3"/>
          <p:cNvGraphicFramePr/>
          <p:nvPr/>
        </p:nvGraphicFramePr>
        <p:xfrm>
          <a:off x="5486400" y="4724280"/>
          <a:ext cx="2971800" cy="374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7" name="Rectangle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86400" y="4724280"/>
                    <a:ext cx="2971800" cy="37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"/>
          <p:cNvSpPr/>
          <p:nvPr/>
        </p:nvSpPr>
        <p:spPr>
          <a:xfrm>
            <a:off x="380880" y="5257800"/>
            <a:ext cx="8229600" cy="15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3. Ako su </a:t>
            </a:r>
            <a:r>
              <a:rPr b="0" i="1" lang="sr-Latn-C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sr-Latn-CS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0, 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1, …, n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onda za svako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arna nejedn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či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sr-Latn-C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sr-Latn-C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sr-Latn-C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+…+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&lt;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 beskon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čno mnogo rešenja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sr-Latn-C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sr-Latn-C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,...,</a:t>
            </a:r>
            <a:r>
              <a:rPr b="0" i="1" lang="sr-Latn-C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sr-Latn-CS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sa pozitivnim komponentama </a:t>
            </a:r>
            <a:r>
              <a:rPr b="0" i="1" lang="sr-Latn-C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sr-Latn-CS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sr-Latn-C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sr-Latn-C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=1,...,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Rectangle 3"/>
          <p:cNvGraphicFramePr/>
          <p:nvPr/>
        </p:nvGraphicFramePr>
        <p:xfrm>
          <a:off x="3792600" y="1135080"/>
          <a:ext cx="1719360" cy="76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92600" y="1135080"/>
                    <a:ext cx="1719360" cy="76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Rectangle 3"/>
          <p:cNvGraphicFramePr/>
          <p:nvPr/>
        </p:nvGraphicFramePr>
        <p:xfrm>
          <a:off x="1589040" y="1908000"/>
          <a:ext cx="4500720" cy="516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2" name="Rectangle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89040" y="1908000"/>
                    <a:ext cx="4500720" cy="51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Rectangle 3"/>
          <p:cNvGraphicFramePr/>
          <p:nvPr/>
        </p:nvGraphicFramePr>
        <p:xfrm>
          <a:off x="1066680" y="2971800"/>
          <a:ext cx="7202520" cy="1484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4" name="Rectangle 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66680" y="2971800"/>
                    <a:ext cx="7202520" cy="14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554040" y="1960560"/>
            <a:ext cx="228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Neka j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96880" y="2603520"/>
            <a:ext cx="497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Tada j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87520" y="4603680"/>
            <a:ext cx="600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U praksi se obično koristi linearna aproksimacija grešk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Rectangle 3"/>
          <p:cNvGraphicFramePr/>
          <p:nvPr/>
        </p:nvGraphicFramePr>
        <p:xfrm>
          <a:off x="3281400" y="5238720"/>
          <a:ext cx="2566800" cy="781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9" name="Rectangle 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281400" y="5238720"/>
                    <a:ext cx="2566800" cy="78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Direktan problem ocene grešk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486400" y="114300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 tačna vrednost funkci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562720" y="1523880"/>
            <a:ext cx="304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 približna vrednost funkci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23800" y="961920"/>
            <a:ext cx="27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Greška zbir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3429000" y="1295280"/>
                <a:ext cx="1779480" cy="138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z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y</m:t>
                        </m:r>
                      </m:e>
                      <m:e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: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/>
                            </m:sSup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/>
                            </m:sSup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/>
                            </m:sSup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5" name=""/>
          <p:cNvSpPr/>
          <p:nvPr/>
        </p:nvSpPr>
        <p:spPr>
          <a:xfrm>
            <a:off x="550800" y="2908440"/>
            <a:ext cx="628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Greška razlik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3446640" y="3281400"/>
                <a:ext cx="173484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z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y</m:t>
                        </m:r>
                      </m:e>
                      <m:e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: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/>
                            </m:sSup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/>
                            </m:sSup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/>
                            </m:sSup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7" name=""/>
          <p:cNvSpPr/>
          <p:nvPr/>
        </p:nvSpPr>
        <p:spPr>
          <a:xfrm>
            <a:off x="603360" y="4842000"/>
            <a:ext cx="31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Greška proizvod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487680" y="5132520"/>
          <a:ext cx="2005200" cy="142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87680" y="5132520"/>
                    <a:ext cx="2005200" cy="142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"/>
          <p:cNvSpPr/>
          <p:nvPr/>
        </p:nvSpPr>
        <p:spPr>
          <a:xfrm>
            <a:off x="-3808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Direktan problem ocene greš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1" name="Rectangle 3"/>
              <p:cNvSpPr txBox="1"/>
              <p:nvPr/>
            </p:nvSpPr>
            <p:spPr>
              <a:xfrm>
                <a:off x="2695680" y="932040"/>
                <a:ext cx="350028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sSup>
                          <m:e>
                            <m:r>
                              <m:t xml:space="preserve">z</m:t>
                            </m:r>
                          </m:e>
                          <m:sup/>
                        </m:sSup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/>
                            </m:sSup>
                          </m:sub>
                        </m:sSub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/>
                            </m:sSup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/>
                            </m:sSup>
                          </m:e>
                        </m:d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/>
                            </m:sSup>
                          </m:sub>
                        </m:sSub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/>
                            </m:sSup>
                          </m:e>
                        </m:d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/>
                            </m:sSup>
                          </m:sub>
                        </m:sSub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/>
                            </m:sSup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/>
                            </m:sSup>
                          </m:e>
                        </m:d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sSup>
                          <m:e>
                            <m:r>
                              <m:t xml:space="preserve">x</m:t>
                            </m:r>
                          </m:e>
                          <m:sup/>
                        </m:sSup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sSup>
                          <m:e>
                            <m:r>
                              <m:t xml:space="preserve">y</m:t>
                            </m:r>
                          </m:e>
                          <m:sup/>
                        </m:sSup>
                      </m:sub>
                    </m:sSub>
                  </m:oMath>
                </a14:m>
              </a:p>
            </p:txBody>
          </p:sp>
        </mc:Choice>
        <mc:Fallback/>
      </mc:AlternateContent>
      <p:graphicFrame>
        <p:nvGraphicFramePr>
          <p:cNvPr id="162" name="Rectangle 3"/>
          <p:cNvGraphicFramePr/>
          <p:nvPr/>
        </p:nvGraphicFramePr>
        <p:xfrm>
          <a:off x="3276720" y="2438280"/>
          <a:ext cx="2098440" cy="213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2438280"/>
                    <a:ext cx="2098440" cy="21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"/>
          <p:cNvSpPr/>
          <p:nvPr/>
        </p:nvSpPr>
        <p:spPr>
          <a:xfrm>
            <a:off x="747720" y="2251080"/>
            <a:ext cx="33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Greška količni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Rectangle 3"/>
              <p:cNvSpPr txBox="1"/>
              <p:nvPr/>
            </p:nvSpPr>
            <p:spPr>
              <a:xfrm>
                <a:off x="3311640" y="4664160"/>
                <a:ext cx="3138480" cy="15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sSup>
                          <m:e>
                            <m:r>
                              <m:t xml:space="preserve">z</m:t>
                            </m:r>
                          </m:e>
                          <m:sup/>
                        </m:sSup>
                      </m:sub>
                    </m:sSub>
                    <m:r>
                      <m:t xml:space="preserve">=</m:t>
                    </m:r>
                    <m:f>
                      <m:num>
                        <m:f>
                          <m:num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sSup>
                                  <m:e>
                                    <m:r>
                                      <m:t xml:space="preserve">y</m:t>
                                    </m:r>
                                  </m:e>
                                  <m:sup/>
                                </m:sSup>
                              </m:e>
                            </m:d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/>
                                </m:sSup>
                              </m:sub>
                            </m:sSub>
                            <m:r>
                              <m:t xml:space="preserve">+</m:t>
                            </m:r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/>
                                </m:sSup>
                              </m:e>
                            </m:d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y</m:t>
                                    </m:r>
                                  </m:e>
                                  <m:sup/>
                                </m:sSup>
                              </m:sub>
                            </m:sSub>
                          </m:num>
                          <m:den>
                            <m:s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p/>
                                    </m:sSup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f>
                              <m:num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/>
                                </m:sSup>
                              </m:num>
                              <m:den>
                                <m:sSup>
                                  <m:e>
                                    <m:r>
                                      <m:t xml:space="preserve">y</m:t>
                                    </m:r>
                                  </m:e>
                                  <m:sup/>
                                </m:sSup>
                              </m:den>
                            </m:f>
                          </m:e>
                        </m:d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sSup>
                          <m:e>
                            <m:r>
                              <m:t xml:space="preserve">x</m:t>
                            </m:r>
                          </m:e>
                          <m:sup/>
                        </m:sSup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sSup>
                          <m:e>
                            <m:r>
                              <m:t xml:space="preserve">y</m:t>
                            </m:r>
                          </m:e>
                          <m:sup/>
                        </m:sSup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Direktan problem ocene grešk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7" name="Rectangle 3"/>
              <p:cNvSpPr txBox="1"/>
              <p:nvPr/>
            </p:nvSpPr>
            <p:spPr>
              <a:xfrm>
                <a:off x="3597120" y="1467000"/>
                <a:ext cx="1811520" cy="11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/>
                            </m:sSup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r>
                                      <m:t xml:space="preserve">f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</m:nary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sSub>
                                  <m:e/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sub>
                              <m:sup/>
                            </m:sSubSup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Rectangle 3"/>
              <p:cNvSpPr txBox="1"/>
              <p:nvPr/>
            </p:nvSpPr>
            <p:spPr>
              <a:xfrm>
                <a:off x="2473200" y="3440160"/>
                <a:ext cx="231840" cy="25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69" name="Rectangle 3"/>
          <p:cNvGraphicFramePr/>
          <p:nvPr/>
        </p:nvGraphicFramePr>
        <p:xfrm>
          <a:off x="4605480" y="2867040"/>
          <a:ext cx="1277640" cy="35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05480" y="2867040"/>
                    <a:ext cx="1277640" cy="35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"/>
          <p:cNvSpPr/>
          <p:nvPr/>
        </p:nvSpPr>
        <p:spPr>
          <a:xfrm>
            <a:off x="533520" y="2819520"/>
            <a:ext cx="775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Odrediti granice apsolutnih grešaka                       tako da granica apsolutne greške približne vrednosti funkcije bude manja od unapred zadate vrednosti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Rectangle 3"/>
              <p:cNvSpPr txBox="1"/>
              <p:nvPr/>
            </p:nvSpPr>
            <p:spPr>
              <a:xfrm>
                <a:off x="3430440" y="4224240"/>
                <a:ext cx="2225880" cy="95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f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</m:nary>
                    <m:sSub>
                      <m:e>
                        <m:r>
                          <m:t xml:space="preserve">A</m:t>
                        </m:r>
                      </m:e>
                      <m:sub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sSub>
                              <m:e/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sub>
                          <m:sup/>
                        </m:sSubSup>
                      </m:sub>
                    </m:sSub>
                    <m:r>
                      <m:t xml:space="preserve">≤</m:t>
                    </m:r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Obratan problem ocene grešk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773280" y="968400"/>
            <a:ext cx="55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Principi jednakih uticaj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Rectangle 3"/>
          <p:cNvGraphicFramePr/>
          <p:nvPr/>
        </p:nvGraphicFramePr>
        <p:xfrm>
          <a:off x="3443400" y="1463760"/>
          <a:ext cx="2895480" cy="64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43400" y="1463760"/>
                    <a:ext cx="289548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7" name="Rectangle 3"/>
          <p:cNvGraphicFramePr/>
          <p:nvPr/>
        </p:nvGraphicFramePr>
        <p:xfrm>
          <a:off x="3581280" y="2313000"/>
          <a:ext cx="2117880" cy="831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8" name="Rectangle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81280" y="2313000"/>
                    <a:ext cx="2117880" cy="83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"/>
          <p:cNvSpPr/>
          <p:nvPr/>
        </p:nvSpPr>
        <p:spPr>
          <a:xfrm>
            <a:off x="830160" y="3454560"/>
            <a:ext cx="64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Princip jednakih apsolutnih grešak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0" name="Rectangle 3"/>
          <p:cNvGraphicFramePr/>
          <p:nvPr/>
        </p:nvGraphicFramePr>
        <p:xfrm>
          <a:off x="3214800" y="4081320"/>
          <a:ext cx="3201840" cy="1365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1" name="Rectangle 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14800" y="4081320"/>
                    <a:ext cx="3201840" cy="136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Obratan problem ocene grešk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gor</cp:lastModifiedBy>
  <dcterms:modified xsi:type="dcterms:W3CDTF">2010-04-22T09:35:59Z</dcterms:modified>
  <cp:revision>6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