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A68-F307-40C1-BA98-5842BEF8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133-F7FB-48C9-B729-38274B4B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090-7A5C-4F7A-BFB4-0FBE3747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D9-9BBF-4533-AB81-3E95C35F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D5E-EFFF-4688-8751-C3136EA4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E2AC-B678-4CB9-B603-79A2F2BE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53E0-4EBC-4260-9F38-4A29CEDD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83EF-1F43-4633-AE96-BA75AE63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503-2905-477C-B822-1BA434CB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DA1D-1385-4339-A1E6-2D9CB2B8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063C-D5B2-48B7-91C7-93C427B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BD5-8577-4E41-9781-8178A97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6562-BCF4-45D9-8103-F852A7B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ACEE-FAE8-4A2F-BA6B-4187CE91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58C4-1D75-47FC-9AA6-CC83B7D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45B6-F497-4385-91A8-9DCAFAED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A4B-58A3-4E90-AA36-7B713D60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176A-BEF2-43BC-9921-85EC4B1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B943-FC25-4ACA-B922-A731889E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6734-E6D2-4757-BD03-3DB24D04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9F581-43D1-442C-9916-6E2DF3A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DBAD-24EE-40BC-9D8E-17A0F115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B36-39B9-4447-9240-2B83CAD8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AB18-0F17-403D-A1D6-68B25034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D92B-E3EE-45EB-8B3E-9E2735B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70A3-BAA8-49C8-9967-6BDB05F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11DB-6A67-4EF9-94EF-B5E7970C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1117-92EE-4F01-86C0-6DDCC3D8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0BE1-5281-4BEA-AF5D-6826461B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F3476-5868-49F8-A484-A0D914DE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857-9BB8-4681-A171-FE24E88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862-7779-4472-8AD4-B97C4F97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B49-1AB5-44C5-8D11-68DDB88C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097-04FF-4418-9323-2CEA404B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7CA-882A-4DA0-910C-7213C3C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B42-84BD-4D50-B5B7-EC91163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561E-689C-48B7-BA85-4C53DC1A0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9F3D-C26B-493B-894A-07BEDD9F1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565-6C6F-49F9-850E-F0057CD3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номск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шти задатак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општим задатком интерполације са нагласком на решавање практичних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гранжов интерполациони пол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Лагранжов интерполациони полином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1676520"/>
          <a:ext cx="8534160" cy="23428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шти задатак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општим задатком интерполације са нагласком на решавање практичних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гранжов интерполациони пол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Лагранжов интерполациони полином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8"/>
          <p:cNvSpPr/>
          <p:nvPr/>
        </p:nvSpPr>
        <p:spPr>
          <a:xfrm>
            <a:off x="228600" y="41148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809880" y="1182600"/>
                <a:ext cx="1152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3305160" y="1469880"/>
            <a:ext cx="2447640" cy="576000"/>
            <a:chOff x="3305160" y="1469880"/>
            <a:chExt cx="2447640" cy="576000"/>
          </a:xfrm>
        </p:grpSpPr>
        <mc:AlternateContent>
          <mc:Choice xmlns:a14="http://schemas.microsoft.com/office/drawing/2010/main" Requires="a14">
            <p:sp>
              <p:nvSpPr>
                <p:cNvPr id="133" name="Rectangle 3"/>
                <p:cNvSpPr txBox="1"/>
                <p:nvPr/>
              </p:nvSpPr>
              <p:spPr>
                <a:xfrm>
                  <a:off x="3305160" y="1469880"/>
                  <a:ext cx="221832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3687840" y="1469880"/>
              <a:ext cx="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5160" y="17287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Rectangle 3"/>
                <p:cNvSpPr txBox="1"/>
                <p:nvPr/>
              </p:nvSpPr>
              <p:spPr>
                <a:xfrm>
                  <a:off x="3349080" y="1728720"/>
                  <a:ext cx="213084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"/>
          <p:cNvGrpSpPr/>
          <p:nvPr/>
        </p:nvGrpSpPr>
        <p:grpSpPr>
          <a:xfrm>
            <a:off x="2152800" y="2117880"/>
            <a:ext cx="4781520" cy="2677680"/>
            <a:chOff x="2152800" y="2117880"/>
            <a:chExt cx="4781520" cy="2677680"/>
          </a:xfrm>
        </p:grpSpPr>
        <p:grpSp>
          <p:nvGrpSpPr>
            <p:cNvPr id="138" name=""/>
            <p:cNvGrpSpPr/>
            <p:nvPr/>
          </p:nvGrpSpPr>
          <p:grpSpPr>
            <a:xfrm>
              <a:off x="2152800" y="2131920"/>
              <a:ext cx="4753080" cy="2663640"/>
              <a:chOff x="2152800" y="2131920"/>
              <a:chExt cx="4753080" cy="26636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152800" y="2131920"/>
                <a:ext cx="4753080" cy="2663640"/>
                <a:chOff x="2152800" y="2131920"/>
                <a:chExt cx="4753080" cy="266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152800" y="4148280"/>
                  <a:ext cx="47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2945160" y="2131920"/>
                  <a:ext cx="3384360" cy="2663640"/>
                  <a:chOff x="2945160" y="2131920"/>
                  <a:chExt cx="3384360" cy="2663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945160" y="21319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233880" y="2635200"/>
                    <a:ext cx="3095640" cy="82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85" h="635">
                        <a:moveTo>
                          <a:pt x="0" y="522"/>
                        </a:moveTo>
                        <a:cubicBezTo>
                          <a:pt x="94" y="393"/>
                          <a:pt x="189" y="264"/>
                          <a:pt x="317" y="204"/>
                        </a:cubicBezTo>
                        <a:cubicBezTo>
                          <a:pt x="445" y="144"/>
                          <a:pt x="605" y="144"/>
                          <a:pt x="771" y="159"/>
                        </a:cubicBezTo>
                        <a:cubicBezTo>
                          <a:pt x="937" y="174"/>
                          <a:pt x="1164" y="220"/>
                          <a:pt x="1315" y="295"/>
                        </a:cubicBezTo>
                        <a:cubicBezTo>
                          <a:pt x="1466" y="370"/>
                          <a:pt x="1550" y="635"/>
                          <a:pt x="1678" y="612"/>
                        </a:cubicBezTo>
                        <a:cubicBezTo>
                          <a:pt x="1806" y="589"/>
                          <a:pt x="1950" y="257"/>
                          <a:pt x="2086" y="159"/>
                        </a:cubicBezTo>
                        <a:cubicBezTo>
                          <a:pt x="2222" y="61"/>
                          <a:pt x="2412" y="46"/>
                          <a:pt x="2495" y="23"/>
                        </a:cubicBezTo>
                        <a:cubicBezTo>
                          <a:pt x="2578" y="0"/>
                          <a:pt x="2581" y="11"/>
                          <a:pt x="2585" y="2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665880" y="285120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026240" y="2779920"/>
                    <a:ext cx="71280" cy="72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457880" y="285120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89880" y="306720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178600" y="342756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537520" y="299556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69160" y="270828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21520" y="2563920"/>
                    <a:ext cx="273672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2" h="582">
                        <a:moveTo>
                          <a:pt x="0" y="408"/>
                        </a:moveTo>
                        <a:cubicBezTo>
                          <a:pt x="41" y="317"/>
                          <a:pt x="83" y="226"/>
                          <a:pt x="136" y="181"/>
                        </a:cubicBezTo>
                        <a:cubicBezTo>
                          <a:pt x="189" y="136"/>
                          <a:pt x="264" y="128"/>
                          <a:pt x="317" y="136"/>
                        </a:cubicBezTo>
                        <a:cubicBezTo>
                          <a:pt x="370" y="144"/>
                          <a:pt x="370" y="212"/>
                          <a:pt x="453" y="227"/>
                        </a:cubicBezTo>
                        <a:cubicBezTo>
                          <a:pt x="536" y="242"/>
                          <a:pt x="718" y="174"/>
                          <a:pt x="816" y="227"/>
                        </a:cubicBezTo>
                        <a:cubicBezTo>
                          <a:pt x="914" y="280"/>
                          <a:pt x="975" y="506"/>
                          <a:pt x="1043" y="544"/>
                        </a:cubicBezTo>
                        <a:cubicBezTo>
                          <a:pt x="1111" y="582"/>
                          <a:pt x="1172" y="499"/>
                          <a:pt x="1225" y="454"/>
                        </a:cubicBezTo>
                        <a:cubicBezTo>
                          <a:pt x="1278" y="409"/>
                          <a:pt x="1278" y="340"/>
                          <a:pt x="1361" y="272"/>
                        </a:cubicBezTo>
                        <a:cubicBezTo>
                          <a:pt x="1444" y="204"/>
                          <a:pt x="1656" y="90"/>
                          <a:pt x="1724" y="45"/>
                        </a:cubicBezTo>
                        <a:cubicBezTo>
                          <a:pt x="1792" y="0"/>
                          <a:pt x="1762" y="7"/>
                          <a:pt x="176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737160" y="2851200"/>
                    <a:ext cx="0" cy="129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097520" y="2851200"/>
                    <a:ext cx="0" cy="129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457880" y="2924280"/>
                    <a:ext cx="0" cy="12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889880" y="3140280"/>
                    <a:ext cx="0" cy="100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250240" y="3427560"/>
                    <a:ext cx="0" cy="72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537520" y="3067200"/>
                    <a:ext cx="0" cy="108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042240" y="2708280"/>
                    <a:ext cx="0" cy="143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159" name="Rectangle 3"/>
                  <p:cNvSpPr txBox="1"/>
                  <p:nvPr/>
                </p:nvSpPr>
                <p:spPr>
                  <a:xfrm>
                    <a:off x="3664080" y="4148280"/>
                    <a:ext cx="196920" cy="27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4030920" y="4156200"/>
                    <a:ext cx="182520" cy="25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5962680" y="4150080"/>
                    <a:ext cx="211320" cy="272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83480" y="4273920"/>
                  <a:ext cx="15084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649600" y="2117880"/>
                  <a:ext cx="1652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736800" y="5791320"/>
                <a:ext cx="2305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89520" y="4925880"/>
                <a:ext cx="2087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4791240" y="5357880"/>
          <a:ext cx="221292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5357880"/>
                    <a:ext cx="2212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441520" y="4925880"/>
            <a:ext cx="34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i polin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1520" y="5284800"/>
            <a:ext cx="34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i zahte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šti zadatak interpol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47880" y="4764240"/>
                <a:ext cx="4064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554280" y="5925960"/>
                <a:ext cx="2152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520" y="990720"/>
                <a:ext cx="277812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&gt;</m:t>
                        </m:r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65440" y="2476440"/>
                <a:ext cx="2521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80960" y="2430360"/>
            <a:ext cx="230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interpolaci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2760" y="2846520"/>
            <a:ext cx="7886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i polinom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za ne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za 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6120" y="4255920"/>
            <a:ext cx="81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2. LAGRANŽOV INTERPOLACIONI POLI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38200" y="5264280"/>
            <a:ext cx="7356240" cy="583920"/>
            <a:chOff x="538200" y="5264280"/>
            <a:chExt cx="7356240" cy="58392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38200" y="5362560"/>
                  <a:ext cx="5839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914800" y="5264280"/>
                  <a:ext cx="19796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j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j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003320" y="5386320"/>
              <a:ext cx="49147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polinom stepena ne većeg od </a:t>
              </a:r>
              <a:r>
                <a:rPr b="0" i="1" lang="sr-Latn-CS" sz="1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n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a osobino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52680" y="1371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Van der Mondeova determin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Opšti zadatak interpolacije; </a:t>
            </a:r>
            <a:br>
              <a:rPr sz="3000"/>
            </a:b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Lagranžov interpolacioni polin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Rectangle 3"/>
              <p:cNvSpPr txBox="1"/>
              <p:nvPr/>
            </p:nvSpPr>
            <p:spPr>
              <a:xfrm>
                <a:off x="3124080" y="990720"/>
                <a:ext cx="30337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1157400" y="2452680"/>
          <a:ext cx="69958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452680"/>
                    <a:ext cx="69958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340000" y="3216240"/>
          <a:ext cx="4060800" cy="11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216240"/>
                    <a:ext cx="4060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447920" y="5105520"/>
          <a:ext cx="6634080" cy="13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5105520"/>
                    <a:ext cx="663408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198520" y="4422600"/>
          <a:ext cx="422928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8520" y="4422600"/>
                    <a:ext cx="4229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granžov interpolacioni pol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762120" y="160020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основни задатак интерпол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ва је улога интерполационих полино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ко иима интерполационих полинома степена не већег 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 датих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ч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 је основна подела интерполационих полино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Лагранжов интерполациони пол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šti zadatak interpolacij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granžov interpolacioni pol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3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