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35.wmf" ContentType="image/x-wmf"/>
  <Override PartName="/ppt/media/image16.jpeg" ContentType="image/jpeg"/>
  <Override PartName="/ppt/media/image25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8.wmf" ContentType="image/x-wmf"/>
  <Override PartName="/ppt/media/image57.wmf" ContentType="image/x-wmf"/>
  <Override PartName="/ppt/media/image20.wmf" ContentType="image/x-wmf"/>
  <Override PartName="/ppt/media/image5.wmf" ContentType="image/x-wmf"/>
  <Override PartName="/ppt/media/image1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963-62C6-485A-8D2A-0FDC5A4E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B3C-81A7-4CDF-B8B4-1D37871C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41F-DC9F-484C-B505-27FE4694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277-ABD6-49B6-B62B-E22B41E6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3B65-13B5-4732-B70E-A64E65E4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A2F7-7FBE-4530-9942-2A94EF38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4747-D6CB-48B3-BA47-BA0D5F4F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F699-989C-4B23-A9F7-33F14A25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C9B9-00EF-40CE-BDF5-8D488D94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7BC8-0081-468F-850D-9EDCDF62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9A78-C2BD-4BA9-B40C-FCA31C1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E0B-3DE7-4281-8655-FFE4DC19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67D0-9A12-4E29-8B4E-1926CAB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957C-252B-4E16-ADF9-B4F60028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663F-F8EF-4D8B-9BBD-3153F1CE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8244-0A5B-41FF-86DC-5CCBD6B8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4FB9-5295-4F19-9EC8-5CC117AE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2BFE-3D9C-47AB-A692-2A50CF46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9EA9-05E9-4113-AB3E-C31D8EA2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D9EA9-D462-4964-82EB-95B2D8DA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D9C8-8241-4140-B491-01E17B2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5FE3-78FE-4007-BBCA-8439BE72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B83-B3AA-4016-B805-2FDC9C96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74C4-ADB0-40AF-8EDF-BCE4FD12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F883-2485-412A-91BA-A633D502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7A6A-56C9-4CF5-961F-5A878F8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9573-7489-4346-99C4-1A6A66C7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5F89-C72D-459C-8EF0-9569AA53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8127-DCC9-4F92-8187-30330905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A810-0075-4B85-A5D1-EBE0769B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6F0-1A48-4A48-9C47-450AFA5E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DA2-85AA-4A6E-AB91-D14C66D4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792-2300-4EDD-8996-2D208C38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988-6751-4283-8838-3B7979A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02A-CA61-43D1-9D92-3097AD4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079-0CAE-4374-935D-6A861AD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AB0E-FC6F-4F1B-84CE-B4BB591A4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FFDE-3752-438C-832C-CE3255D7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F563-AA3E-4013-8CC6-2855E3722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4.wmf"/><Relationship Id="rId2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9907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ka                    gde je            interval izolacije korena jednačine                 Tada niz                           konvergira korenu jednačine i važ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86000" y="990720"/>
                <a:ext cx="11113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191120" y="990720"/>
                <a:ext cx="630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1579680" y="1303200"/>
          <a:ext cx="10159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1303200"/>
                    <a:ext cx="10159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657600" y="1295280"/>
          <a:ext cx="15908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295280"/>
                    <a:ext cx="1590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13200" y="1865160"/>
                <a:ext cx="2784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58880" y="3236760"/>
                <a:ext cx="551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57200" y="2733840"/>
            <a:ext cx="27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Rectangle 3"/>
          <p:cNvGraphicFramePr/>
          <p:nvPr/>
        </p:nvGraphicFramePr>
        <p:xfrm>
          <a:off x="7391520" y="1295280"/>
          <a:ext cx="23796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1295280"/>
                    <a:ext cx="237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TODA REGULA FAL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Rectangle 3"/>
          <p:cNvGraphicFramePr/>
          <p:nvPr/>
        </p:nvGraphicFramePr>
        <p:xfrm>
          <a:off x="4705200" y="4971960"/>
          <a:ext cx="413892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5200" y="4971960"/>
                    <a:ext cx="41389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Rectangle 3"/>
          <p:cNvGraphicFramePr/>
          <p:nvPr/>
        </p:nvGraphicFramePr>
        <p:xfrm>
          <a:off x="534960" y="1922400"/>
          <a:ext cx="5030640" cy="390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960" y="1922400"/>
                    <a:ext cx="50306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40640" cy="535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914400"/>
            <a:ext cx="83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o izboru fiksne tačke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          neprekidno diferencijabilna na segmentu              i u svakoj tački                 postoji               Dalje, neka su ispunjeni usl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990720"/>
                <a:ext cx="13716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7" name=""/>
          <p:cNvGraphicFramePr/>
          <p:nvPr/>
        </p:nvGraphicFramePr>
        <p:xfrm>
          <a:off x="5791320" y="1219320"/>
          <a:ext cx="93348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219320"/>
                    <a:ext cx="9334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543800" y="1219320"/>
                <a:ext cx="7873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361800" y="1946160"/>
            <a:ext cx="3716640" cy="377640"/>
            <a:chOff x="361800" y="1946160"/>
            <a:chExt cx="3716640" cy="377640"/>
          </a:xfrm>
        </p:grpSpPr>
        <p:sp>
          <p:nvSpPr>
            <p:cNvPr id="201" name=""/>
            <p:cNvSpPr/>
            <p:nvPr/>
          </p:nvSpPr>
          <p:spPr>
            <a:xfrm>
              <a:off x="361800" y="1946160"/>
              <a:ext cx="37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84360" y="1998360"/>
                  <a:ext cx="14731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"/>
          <p:cNvSpPr/>
          <p:nvPr/>
        </p:nvSpPr>
        <p:spPr>
          <a:xfrm>
            <a:off x="361800" y="2338560"/>
            <a:ext cx="80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          i             su stalnog znaka na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5800" y="2362320"/>
                <a:ext cx="620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444680" y="2341440"/>
                <a:ext cx="731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267080" y="2362320"/>
                <a:ext cx="6098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76200" y="277164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                           tačke za koje su zadovoljeni uslo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19320" y="2743200"/>
                <a:ext cx="1687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9" name=""/>
          <p:cNvGraphicFramePr/>
          <p:nvPr/>
        </p:nvGraphicFramePr>
        <p:xfrm>
          <a:off x="2430360" y="3257640"/>
          <a:ext cx="42735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0360" y="3257640"/>
                    <a:ext cx="42735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78000" y="3860640"/>
            <a:ext cx="76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niz        definisan rekurentnom fomu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95280" y="3886200"/>
          <a:ext cx="4971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886200"/>
                    <a:ext cx="4971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428920" y="4344840"/>
          <a:ext cx="3930480" cy="6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8920" y="4344840"/>
                    <a:ext cx="3930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3560" y="5167440"/>
            <a:ext cx="58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ka korenu                  jednačin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768760" y="5159520"/>
          <a:ext cx="1066680" cy="35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8760" y="5159520"/>
                    <a:ext cx="10666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851360" y="5187960"/>
                <a:ext cx="10699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7170840" y="3222720"/>
            <a:ext cx="8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84880" y="4383000"/>
            <a:ext cx="5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429000" y="12193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914400"/>
            <a:ext cx="82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retpostavimo, određenosti rad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a je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11400" y="1389240"/>
          <a:ext cx="3465720" cy="37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1400" y="1389240"/>
                    <a:ext cx="346572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084400" y="1987560"/>
          <a:ext cx="105552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1987560"/>
                    <a:ext cx="10555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66840" y="1973160"/>
            <a:ext cx="69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(1) sledi:                             i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670200" y="1996920"/>
          <a:ext cx="100800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1996920"/>
                    <a:ext cx="10080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66840" y="25257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j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notono rastuća biće            i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86200" y="2514600"/>
          <a:ext cx="69840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514600"/>
                    <a:ext cx="698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724280" y="2514600"/>
          <a:ext cx="72252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2514600"/>
                    <a:ext cx="7225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52440" y="2975040"/>
            <a:ext cx="68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matičkom indukcijom dokazaćem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517920" y="3484440"/>
          <a:ext cx="193356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17920" y="3484440"/>
                    <a:ext cx="19335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39560" y="410688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=0 :                (tačn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50920" y="4125960"/>
          <a:ext cx="698400" cy="361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50920" y="4125960"/>
                    <a:ext cx="698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23720" y="4673520"/>
            <a:ext cx="41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=k :                 (pretpostavk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03480" y="4686480"/>
          <a:ext cx="69840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03480" y="4686480"/>
                    <a:ext cx="698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25520" y="5195880"/>
            <a:ext cx="43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=k+1 : 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462480" y="5226120"/>
          <a:ext cx="2423880" cy="582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2480" y="5226120"/>
                    <a:ext cx="24238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201840" y="6089760"/>
          <a:ext cx="2973600" cy="645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01840" y="6089760"/>
                    <a:ext cx="29736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95280" y="57769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n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m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e dokazati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9560" y="37450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j. da je niz        ograničen odoz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47720" y="3738600"/>
          <a:ext cx="465120" cy="350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47720" y="3738600"/>
                    <a:ext cx="4651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914400"/>
            <a:ext cx="79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                                          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69880" y="932040"/>
                <a:ext cx="37339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8" name=""/>
          <p:cNvGraphicFramePr/>
          <p:nvPr/>
        </p:nvGraphicFramePr>
        <p:xfrm>
          <a:off x="5316480" y="947880"/>
          <a:ext cx="99684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6480" y="947880"/>
                    <a:ext cx="9968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80880" y="2286000"/>
            <a:ext cx="64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t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5920" y="2666880"/>
          <a:ext cx="70894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2666880"/>
                    <a:ext cx="7089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457200" y="5334120"/>
            <a:ext cx="81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ema induktivnoj hipote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52640" y="174312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79560" y="1728720"/>
            <a:ext cx="59040" cy="428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73800" y="1724040"/>
            <a:ext cx="58680" cy="428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679840" y="1733400"/>
          <a:ext cx="29520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1733400"/>
                    <a:ext cx="2952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380200" y="1770120"/>
          <a:ext cx="220680" cy="33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80200" y="1770120"/>
                    <a:ext cx="22068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914640" y="1719360"/>
            <a:ext cx="59040" cy="428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817800" y="1714680"/>
          <a:ext cx="27144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17800" y="1714680"/>
                    <a:ext cx="2714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048120" y="4648320"/>
          <a:ext cx="296856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648320"/>
                    <a:ext cx="2968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0880" y="6019920"/>
            <a:ext cx="55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Kraj dela dokaza matematičkom indukcij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886200" y="5334120"/>
          <a:ext cx="76824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5334120"/>
                    <a:ext cx="7682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njen izv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monotono rastući 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 b], pa je                              i                                . Dakle                      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6629400" y="3733920"/>
          <a:ext cx="184140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3733920"/>
                    <a:ext cx="1841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762120" y="4038480"/>
          <a:ext cx="1941480" cy="3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4038480"/>
                    <a:ext cx="19414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505320" y="4038480"/>
          <a:ext cx="1166760" cy="381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05320" y="4038480"/>
                    <a:ext cx="11667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914400"/>
            <a:ext cx="79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911320" y="1127160"/>
          <a:ext cx="336564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1320" y="1127160"/>
                    <a:ext cx="33656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00040" y="1944720"/>
            <a:ext cx="47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r je               Niz         je konvergentan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089000" y="1989000"/>
          <a:ext cx="93204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9000" y="1989000"/>
                    <a:ext cx="932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2405160" y="1936800"/>
          <a:ext cx="4651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5160" y="1936800"/>
                    <a:ext cx="4651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640400" y="1930320"/>
          <a:ext cx="123804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0400" y="1930320"/>
                    <a:ext cx="12380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00040" y="2408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tom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892680" y="2657520"/>
          <a:ext cx="12794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92680" y="2657520"/>
                    <a:ext cx="12794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42880" y="317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laskom u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na graničnu vrednost kad            dobij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910040" y="3273480"/>
          <a:ext cx="668520" cy="21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10040" y="3273480"/>
                    <a:ext cx="6685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139920" y="3718080"/>
          <a:ext cx="2527560" cy="70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9920" y="3718080"/>
                    <a:ext cx="25275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44680" y="447048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avde sledi da je               , a pošto je     jedini koren jednač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58880" y="4468680"/>
          <a:ext cx="889200" cy="35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58880" y="4468680"/>
                    <a:ext cx="8892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621320" y="4464000"/>
          <a:ext cx="24444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1320" y="4464000"/>
                    <a:ext cx="244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7104240" y="4478400"/>
          <a:ext cx="975960" cy="352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104240" y="4478400"/>
                    <a:ext cx="975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12640" y="4890960"/>
            <a:ext cx="75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, odnos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95480" y="4916520"/>
          <a:ext cx="56664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95480" y="4916520"/>
                    <a:ext cx="566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801960" y="5235480"/>
          <a:ext cx="1143000" cy="474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01960" y="5235480"/>
                    <a:ext cx="1143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30280" y="5834160"/>
            <a:ext cx="47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raj doka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7192800" y="1197000"/>
          <a:ext cx="41292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192800" y="1197000"/>
                    <a:ext cx="4129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0880" y="925560"/>
            <a:ext cx="74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cena greš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535040"/>
            <a:ext cx="76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nom Lagranžove teoreme dobija 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50800" y="2178000"/>
          <a:ext cx="674676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2178000"/>
                    <a:ext cx="67467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92120" y="3103560"/>
          <a:ext cx="343044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120" y="3103560"/>
                    <a:ext cx="34304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3881520" y="3105000"/>
          <a:ext cx="488952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1520" y="3105000"/>
                    <a:ext cx="48895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265480" y="4143240"/>
          <a:ext cx="457992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5480" y="4143240"/>
                    <a:ext cx="45799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11120" y="4873680"/>
            <a:ext cx="61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prethodnog sl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693880" y="5191200"/>
          <a:ext cx="338004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93880" y="5191200"/>
                    <a:ext cx="33800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96720" y="5904000"/>
            <a:ext cx="19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nos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817720" y="6105600"/>
          <a:ext cx="3059280" cy="75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7720" y="6105600"/>
                    <a:ext cx="30592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762120" y="160020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 интервал изолације корена једнач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довољне услове за изолацију кор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аснити идеју методе половљења интерв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конвергенцији методе половљења интерв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аснити идеју мет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 Fal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теорему о конвергенцији мет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 Fals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аћи главне елементе доказа теореме о конвергенцији мет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 Fals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оцену грешке мет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 Fals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Metode zasnovane na sužavanju intervala </a:t>
            </a:r>
            <a:br>
              <a:rPr sz="2200"/>
            </a:b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(Metoda polovljenja intervala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gula falsi)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; </a:t>
            </a:r>
            <a:br>
              <a:rPr sz="2200"/>
            </a:b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ети наслов тематске јединице која се обрађу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990720"/>
          <a:ext cx="8229600" cy="5548320"/>
        </p:xfrm>
        <a:graphic>
          <a:graphicData uri="http://schemas.openxmlformats.org/drawingml/2006/table">
            <a:tbl>
              <a:tblPr/>
              <a:tblGrid>
                <a:gridCol w="1066680"/>
                <a:gridCol w="113184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е методе за решавање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зистенција решења. Изолација кор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епозна егзистенцију решења која ће бити илустрована графичким методама. Биће упознат са довољним условима изолованости корен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е засноване на сужавању интервала (Метода половљења интервала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 fals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суштином метода заснованих на сужавању интервала и биће способан да самостално примени методе половљења интервала 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 falsi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ети наслов тематске јединице која се обрађу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95280"/>
          <a:ext cx="8534160" cy="29034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зистенција решења. Изолација кор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епозна егзистенцију решења која ће бити илустрована графичким методама. Биће упознат са довољним условима изолованости корен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е засноване на сужавању интервала (Метода половљења интервала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 fals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суштином метода заснованих на сужавању интервала и биће способан да самостално примени методе половљења интервала 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 falsi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45720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066680"/>
            <a:ext cx="853452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vodne napom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znak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– skup funkcija koje su neprekidne na ods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– skup funkcij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ji je prvi izvod neprekidan 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va Ko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ši – Bolcanova teor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je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rekidna na od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na krajevima odsečka ima vrednosti različitog znaka, tada postoji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takvo d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c) 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ncip matematičke indukcije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vrđenje T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je tačno za svaki prirodan broj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T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je tačno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 (ili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Iz pretpostavke da je T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tačno za neko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ledi da je tačno i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=k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Rectangle 3"/>
              <p:cNvSpPr txBox="1"/>
              <p:nvPr/>
            </p:nvSpPr>
            <p:spPr>
              <a:xfrm>
                <a:off x="3581280" y="914400"/>
                <a:ext cx="20545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Rectangle 3"/>
              <p:cNvSpPr txBox="1"/>
              <p:nvPr/>
            </p:nvSpPr>
            <p:spPr>
              <a:xfrm>
                <a:off x="779400" y="1476360"/>
                <a:ext cx="1371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" name="Rectangle 3"/>
          <p:cNvGraphicFramePr/>
          <p:nvPr/>
        </p:nvGraphicFramePr>
        <p:xfrm>
          <a:off x="2141640" y="1697040"/>
          <a:ext cx="498456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697040"/>
                    <a:ext cx="49845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01640" y="4813200"/>
            <a:ext cx="80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tap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) izolovanje rešenja (kore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) nalaženje približne vrednosti reš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990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ka je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Tada postoji               za koje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Rectangle 3"/>
              <p:cNvSpPr txBox="1"/>
              <p:nvPr/>
            </p:nvSpPr>
            <p:spPr>
              <a:xfrm>
                <a:off x="2611440" y="1025640"/>
                <a:ext cx="24811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Rectangle 3"/>
              <p:cNvSpPr txBox="1"/>
              <p:nvPr/>
            </p:nvSpPr>
            <p:spPr>
              <a:xfrm>
                <a:off x="6515280" y="1025640"/>
                <a:ext cx="8524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2" name="Rectangle 3"/>
          <p:cNvGraphicFramePr/>
          <p:nvPr/>
        </p:nvGraphicFramePr>
        <p:xfrm>
          <a:off x="1387440" y="1344600"/>
          <a:ext cx="83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7440" y="1344600"/>
                    <a:ext cx="83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Rectangle 3"/>
          <p:cNvGraphicFramePr/>
          <p:nvPr/>
        </p:nvGraphicFramePr>
        <p:xfrm>
          <a:off x="3206880" y="1779480"/>
          <a:ext cx="2987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6880" y="1779480"/>
                    <a:ext cx="2987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200400" y="4114800"/>
          <a:ext cx="3208320" cy="233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114800"/>
                    <a:ext cx="32083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61880" y="37148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edinstvenost reše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11560" y="5954760"/>
                <a:ext cx="25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63244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a, b) – interval izolacije reš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914400"/>
            <a:ext cx="79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o oceni greške)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Neka je     tačna, a       približna vrednost korena jednačine i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Rectangle 3"/>
              <p:cNvSpPr txBox="1"/>
              <p:nvPr/>
            </p:nvSpPr>
            <p:spPr>
              <a:xfrm>
                <a:off x="4419720" y="914400"/>
                <a:ext cx="2840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Rectangle 3"/>
              <p:cNvSpPr txBox="1"/>
              <p:nvPr/>
            </p:nvSpPr>
            <p:spPr>
              <a:xfrm>
                <a:off x="5638680" y="914400"/>
                <a:ext cx="297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5" name="Rectangle 3"/>
          <p:cNvGraphicFramePr/>
          <p:nvPr/>
        </p:nvGraphicFramePr>
        <p:xfrm>
          <a:off x="2671920" y="1192320"/>
          <a:ext cx="45273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1920" y="1192320"/>
                    <a:ext cx="4527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519120" y="15429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22600" y="1917720"/>
                <a:ext cx="3449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ξ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e>
                    </m:d>
                    <m:r>
                      <m:t xml:space="preserve">≤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9" name=""/>
          <p:cNvGraphicFramePr/>
          <p:nvPr/>
        </p:nvGraphicFramePr>
        <p:xfrm>
          <a:off x="2589120" y="3227400"/>
          <a:ext cx="376740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9120" y="3227400"/>
                    <a:ext cx="37674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859040" y="5883120"/>
                <a:ext cx="462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9040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240" y="59151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zna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Lagranžova teore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6200" y="1511280"/>
            <a:ext cx="852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UMERIČKE METODE:   1) metode sužavanja interv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) metode zasnovane na teoremi o fiksnoj t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9144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TODA POLOVLJENJA INTERV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Rectangle 3"/>
          <p:cNvGraphicFramePr/>
          <p:nvPr/>
        </p:nvGraphicFramePr>
        <p:xfrm>
          <a:off x="260280" y="1654200"/>
          <a:ext cx="456084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654200"/>
                    <a:ext cx="456084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Rectangle 3"/>
          <p:cNvGraphicFramePr/>
          <p:nvPr/>
        </p:nvGraphicFramePr>
        <p:xfrm>
          <a:off x="4921200" y="3575160"/>
          <a:ext cx="4035600" cy="305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1200" y="3575160"/>
                    <a:ext cx="40356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6T08:08:47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