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42E-A00A-47A9-9698-BE8C00E4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2D4-C192-436F-80B0-800294A8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CEB-78CE-46F1-863B-A02E56E0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3DB-5CCB-4815-BF1C-936E80EC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1919-1BB9-4558-807B-26B40738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C183-9F1C-4723-B41E-A81BB1B6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B027-24B3-48DC-A626-39D39BDC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EB16-6D3B-4CEC-91E0-D222425A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1E3F-A47D-47F1-A86A-2D887CD5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B3B4-1571-4398-8CEB-0AAF6FF0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D277-A8D7-48D8-884F-9761BE45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8F7-2118-4A1B-AB9E-5398C3AA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641E-83CC-4ACE-8244-B817396D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F80C-EB73-4872-B443-8362E6A2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DD49-55CC-4436-A634-28BD5DB4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FD6A-B2DD-45AA-83D9-D669F1EC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A79F-7E7C-4FAF-82C6-0AFFD7E7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274C-BA82-4310-B336-85237BBD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E6730-DF26-4B3C-A6A9-23CE1DCA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EBDEF-153F-4879-83E0-A3698616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156CC-92E8-484D-A256-D4164298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B7B7D-2C90-4B61-91BD-CBC1CDCE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D91-D2AF-4E88-B69E-85DFAAD6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ADEF6-4044-4B93-96CC-C285BCFD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1D043-5143-456E-B86A-5DDCEAEE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ACCE0-14F2-4EA4-9BD2-2C1B8C59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BDF5E-9644-4512-8E9D-AABD3BFD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87A32-0ED9-495D-9FDE-D4F6D010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4F40-B3F6-4206-92B6-1BEA1FA5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67AC4-8DA6-470A-A1F6-CA7AEB6D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0CB-C1AA-4617-A1CE-BF71E29B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8C3-C740-41EC-B43E-38FF0D24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EF6-C41C-44A0-9EC1-4C352B47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ACC-E2D3-4F6D-BDE1-48F111FE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333-B2BF-4828-8E38-5042F3FF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5C8-C770-4BC8-8BB2-F613935C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A060-0E24-4943-9A8F-4B94470D4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F226-4C2E-42A7-999B-887DC1B31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3BC0-1A8A-4010-B4D0-CC1FC229A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762120" y="160020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се подразумева под нумеричким диференцирањ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се подразумева под нумеричком интеграциј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су квадратурне формуле? Каква је структура интерполационе квадратурне форму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алгебарски степен тачности квадратурне форму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су квадратурне формуле Њутн – Котесовог тип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име се апроксимира подинтегрална функција код правила правоугаон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правило правоугаоника и дати геометријску интерпретацију прав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оцени грешке код правила правоугао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ко гласи уопштена формула правоугаоника? Навести формулу за оцену грешке те форму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280" y="990720"/>
          <a:ext cx="8763120" cy="5429160"/>
        </p:xfrm>
        <a:graphic>
          <a:graphicData uri="http://schemas.openxmlformats.org/drawingml/2006/table">
            <a:tbl>
              <a:tblPr/>
              <a:tblGrid>
                <a:gridCol w="1136880"/>
                <a:gridCol w="1203120"/>
                <a:gridCol w="3375000"/>
                <a:gridCol w="30481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о диференцирање и нумеричка интегр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ознавање са и овладавање проблема нумеричког диференцирања и интегр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о диференц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формуле за нумеричко диференцирање функциј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а интегр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укаже и препозна проблем нумеричке интеграције и да дефинише алгебарски степен тачности квадратурне формул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е правоугао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формуле правоугаоника уз оцену грешке и исту примени на решавање проблема интеграциј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219320"/>
          <a:ext cx="8534160" cy="313524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о диференц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формуле за нумеричко диференцирање функциј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а интегр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укаже и препозна проблем нумеричке интеграције и да дефинише алгебарски степен тачности квадратурне формул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е правоугао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формуле правоугаоника уз оцену грешке и исту примени на решавање проблема интеграциј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80880" y="45720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Rectangle 3"/>
          <p:cNvGraphicFramePr/>
          <p:nvPr/>
        </p:nvGraphicFramePr>
        <p:xfrm>
          <a:off x="2949480" y="1298520"/>
          <a:ext cx="3043440" cy="3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9480" y="1298520"/>
                    <a:ext cx="30434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3" name="Rectangle 3"/>
              <p:cNvSpPr txBox="1"/>
              <p:nvPr/>
            </p:nvSpPr>
            <p:spPr>
              <a:xfrm>
                <a:off x="1955880" y="1682640"/>
                <a:ext cx="53769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⋯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Rectangle 3"/>
              <p:cNvSpPr txBox="1"/>
              <p:nvPr/>
            </p:nvSpPr>
            <p:spPr>
              <a:xfrm>
                <a:off x="380880" y="2405160"/>
                <a:ext cx="85266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⋯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Rectangle 3"/>
              <p:cNvSpPr txBox="1"/>
              <p:nvPr/>
            </p:nvSpPr>
            <p:spPr>
              <a:xfrm>
                <a:off x="452520" y="3187800"/>
                <a:ext cx="7617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378160" y="3411360"/>
                <a:ext cx="4532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k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19040" y="4332240"/>
                <a:ext cx="84780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80880" y="6126120"/>
                <a:ext cx="8564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k</m:t>
                    </m:r>
                    <m:limLow>
                      <m:e/>
                      <m:lim>
                        <m:r>
                          <m:t xml:space="preserve">2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80880" y="914400"/>
            <a:ext cx="8180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8.1. Numeričko diferenc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9040" y="1836720"/>
            <a:ext cx="1805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438280" y="4191120"/>
                <a:ext cx="4532400" cy="18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209680" y="1295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o diferencir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800440" y="952560"/>
                <a:ext cx="21891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340000" y="1414440"/>
                <a:ext cx="4530600" cy="18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457200" y="952560"/>
            <a:ext cx="2343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kvidistantni čvorov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55880" y="3487680"/>
            <a:ext cx="5298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8.2. Numerička integr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952800" y="3873600"/>
                <a:ext cx="1459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031840" y="4680000"/>
                <a:ext cx="295776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≈</m:t>
                    </m:r>
                    <m:r>
                      <m:t xml:space="preserve">g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183200" y="5178600"/>
                <a:ext cx="12668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568680" y="5562720"/>
                <a:ext cx="20350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105520" y="4640400"/>
            <a:ext cx="349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 kvadraturna formul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9040" y="5178600"/>
            <a:ext cx="380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polacione kvadraturne formu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232080" y="6176880"/>
          <a:ext cx="332100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32080" y="6176880"/>
                    <a:ext cx="33210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o diferenciranj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integr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92400" y="2757600"/>
                <a:ext cx="29574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58" name=""/>
          <p:cNvGraphicFramePr/>
          <p:nvPr/>
        </p:nvGraphicFramePr>
        <p:xfrm>
          <a:off x="3421080" y="3929040"/>
          <a:ext cx="260676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1080" y="3929040"/>
                    <a:ext cx="26067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354800" y="4870440"/>
                <a:ext cx="8305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24160" y="4832280"/>
                <a:ext cx="11574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3487680" y="5522760"/>
          <a:ext cx="2279880" cy="33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7680" y="5522760"/>
                    <a:ext cx="227988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251080" y="914400"/>
          <a:ext cx="2720880" cy="70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51080" y="914400"/>
                    <a:ext cx="2720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4952880" y="1066680"/>
            <a:ext cx="2457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težinski koeficij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06880" y="1566720"/>
            <a:ext cx="4378320" cy="387000"/>
            <a:chOff x="3206880" y="1566720"/>
            <a:chExt cx="4378320" cy="387000"/>
          </a:xfrm>
        </p:grpSpPr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3206880" y="1566720"/>
                  <a:ext cx="111456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4243680" y="1604880"/>
              <a:ext cx="33415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- čvorovi interpolacij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709640" y="1989000"/>
            <a:ext cx="6413400" cy="372960"/>
            <a:chOff x="1709640" y="1989000"/>
            <a:chExt cx="6413400" cy="372960"/>
          </a:xfrm>
        </p:grpSpPr>
        <p:grpSp>
          <p:nvGrpSpPr>
            <p:cNvPr id="171" name=""/>
            <p:cNvGrpSpPr/>
            <p:nvPr/>
          </p:nvGrpSpPr>
          <p:grpSpPr>
            <a:xfrm>
              <a:off x="1709640" y="1989000"/>
              <a:ext cx="1420920" cy="372960"/>
              <a:chOff x="1709640" y="1989000"/>
              <a:chExt cx="1420920" cy="372960"/>
            </a:xfrm>
          </p:grpSpPr>
          <mc:AlternateContent>
            <mc:Choice xmlns:a14="http://schemas.microsoft.com/office/drawing/2010/main" Requires="a14">
              <p:sp>
                <p:nvSpPr>
                  <p:cNvPr id="172" name=""/>
                  <p:cNvSpPr txBox="1"/>
                  <p:nvPr/>
                </p:nvSpPr>
                <p:spPr>
                  <a:xfrm>
                    <a:off x="1709640" y="2027160"/>
                    <a:ext cx="614520" cy="33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3" name=""/>
                  <p:cNvSpPr txBox="1"/>
                  <p:nvPr/>
                </p:nvSpPr>
                <p:spPr>
                  <a:xfrm>
                    <a:off x="2554200" y="2027160"/>
                    <a:ext cx="576360" cy="325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4" name=""/>
              <p:cNvSpPr/>
              <p:nvPr/>
            </p:nvSpPr>
            <p:spPr>
              <a:xfrm>
                <a:off x="2324160" y="1989000"/>
                <a:ext cx="3078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130560" y="1989000"/>
              <a:ext cx="499248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- kvadraturna formula je zatvorenog ti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65040" y="2527200"/>
            <a:ext cx="472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kvadraturne formul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040" y="3564000"/>
            <a:ext cx="8334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efinici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Kvadraturna formula j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gebarskog stepena tačnosti 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ko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040" y="4870440"/>
            <a:ext cx="82947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ko su čvorovi                    unapred poznati i fiksirani, koeficij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 određuju iz uslova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040" y="6137280"/>
            <a:ext cx="7872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vo su kvadraturne formul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jutn – Kotesovo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ti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integr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647800" y="914400"/>
                <a:ext cx="92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417680" y="914400"/>
                <a:ext cx="1238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3" name=""/>
          <p:cNvGraphicFramePr/>
          <p:nvPr/>
        </p:nvGraphicFramePr>
        <p:xfrm>
          <a:off x="3024360" y="1336680"/>
          <a:ext cx="30114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4360" y="1336680"/>
                    <a:ext cx="30114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04920" y="914400"/>
            <a:ext cx="8103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) Ako su                                    nepoznati, onda se određuju iz usl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1644480"/>
            <a:ext cx="7681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 pitanju su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ausove kvadraturne formul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989000"/>
            <a:ext cx="8218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 ocenu greške koriste 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590920"/>
            <a:ext cx="8296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orema 1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eka je                     neprekidna funkcija i neka su                     istog znaka. Ako                                  , onda postoji               takvo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32240" y="2629080"/>
          <a:ext cx="1304640" cy="27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2240" y="2629080"/>
                    <a:ext cx="130464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72400" y="2590920"/>
                <a:ext cx="14968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2" name=""/>
          <p:cNvGraphicFramePr/>
          <p:nvPr/>
        </p:nvGraphicFramePr>
        <p:xfrm>
          <a:off x="2235240" y="2859120"/>
          <a:ext cx="2052720" cy="37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35240" y="2859120"/>
                    <a:ext cx="20527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719680" y="2859120"/>
                <a:ext cx="8445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5" name=""/>
          <p:cNvGraphicFramePr/>
          <p:nvPr/>
        </p:nvGraphicFramePr>
        <p:xfrm>
          <a:off x="3260880" y="3205080"/>
          <a:ext cx="256860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60880" y="3205080"/>
                    <a:ext cx="25686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570040" y="4533840"/>
                <a:ext cx="13827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8" name=""/>
          <p:cNvGraphicFramePr/>
          <p:nvPr/>
        </p:nvGraphicFramePr>
        <p:xfrm>
          <a:off x="6910560" y="4495680"/>
          <a:ext cx="1304640" cy="30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10560" y="4495680"/>
                    <a:ext cx="130464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224080" y="4803840"/>
                <a:ext cx="5382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183200" y="4764240"/>
                <a:ext cx="920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376440" y="5033880"/>
                <a:ext cx="2765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80880" y="4495680"/>
            <a:ext cx="8296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orema 2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eka je                       neprek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funkcija i neka je                stalnog znaka na         . Tada postoji                takvo da je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integr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706920" y="2066760"/>
                <a:ext cx="47624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≈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129200" y="4410000"/>
                <a:ext cx="8445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824120" y="4640400"/>
                <a:ext cx="9223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8" name=""/>
          <p:cNvGraphicFramePr/>
          <p:nvPr/>
        </p:nvGraphicFramePr>
        <p:xfrm>
          <a:off x="3774960" y="4794120"/>
          <a:ext cx="1976400" cy="5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4960" y="4794120"/>
                    <a:ext cx="197640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095560" y="5722920"/>
          <a:ext cx="545148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5560" y="5722920"/>
                    <a:ext cx="54514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2362320" y="914400"/>
            <a:ext cx="4800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8.3. Formula pravugao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668680" y="1298520"/>
                <a:ext cx="4384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4" name=""/>
          <p:cNvGrpSpPr/>
          <p:nvPr/>
        </p:nvGrpSpPr>
        <p:grpSpPr>
          <a:xfrm>
            <a:off x="749160" y="1452600"/>
            <a:ext cx="2189160" cy="1805040"/>
            <a:chOff x="749160" y="1452600"/>
            <a:chExt cx="2189160" cy="1805040"/>
          </a:xfrm>
        </p:grpSpPr>
        <p:sp>
          <p:nvSpPr>
            <p:cNvPr id="215" name=""/>
            <p:cNvSpPr/>
            <p:nvPr/>
          </p:nvSpPr>
          <p:spPr>
            <a:xfrm flipV="1">
              <a:off x="1017720" y="1452600"/>
              <a:ext cx="0" cy="180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9160" y="3103560"/>
              <a:ext cx="218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47760" y="2104920"/>
              <a:ext cx="1612800" cy="308160"/>
            </a:xfrm>
            <a:custGeom>
              <a:avLst/>
              <a:gdLst/>
              <a:ahLst/>
              <a:rect l="l" t="t" r="r" b="b"/>
              <a:pathLst>
                <a:path w="1016" h="194">
                  <a:moveTo>
                    <a:pt x="0" y="194"/>
                  </a:moveTo>
                  <a:cubicBezTo>
                    <a:pt x="88" y="125"/>
                    <a:pt x="177" y="57"/>
                    <a:pt x="266" y="49"/>
                  </a:cubicBezTo>
                  <a:cubicBezTo>
                    <a:pt x="355" y="41"/>
                    <a:pt x="407" y="153"/>
                    <a:pt x="532" y="145"/>
                  </a:cubicBezTo>
                  <a:cubicBezTo>
                    <a:pt x="657" y="137"/>
                    <a:pt x="931" y="28"/>
                    <a:pt x="10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47760" y="2413080"/>
              <a:ext cx="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2297160"/>
              <a:ext cx="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47760" y="2413080"/>
              <a:ext cx="11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017360" y="241308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47760" y="2413080"/>
              <a:ext cx="1114560" cy="690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54160" y="306540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209600" y="3143160"/>
                <a:ext cx="174600" cy="1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324160" y="3117960"/>
                <a:ext cx="17460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19120" y="2259000"/>
                <a:ext cx="471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862360" y="1836720"/>
                <a:ext cx="4712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382840" y="2281320"/>
                <a:ext cx="5065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708280" y="3603600"/>
                <a:ext cx="21510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5029200" y="3657600"/>
            <a:ext cx="2649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avilo pravugao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3449520"/>
            <a:ext cx="2514600" cy="690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1360" y="4371840"/>
            <a:ext cx="82566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orem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o oceni greške):   Ako je              neprekidno diferencijabilna funkcija, onda postoji                takvo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1360" y="5446800"/>
            <a:ext cx="1689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Formula pravougao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914400"/>
            <a:ext cx="8180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običajeno je da se interval integracije podeli na više ( jednakih ) delo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416320" y="1298520"/>
                <a:ext cx="38797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h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3080" y="1874880"/>
                <a:ext cx="85658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p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=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  <m:e>
                                        <m:r>
                                          <m:t xml:space="preserve">f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f</m:t>
                            </m:r>
                          </m:e>
                        </m:nary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38" name=""/>
          <p:cNvGraphicFramePr/>
          <p:nvPr/>
        </p:nvGraphicFramePr>
        <p:xfrm>
          <a:off x="2428920" y="4946760"/>
          <a:ext cx="492912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4946760"/>
                    <a:ext cx="49291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803160" y="3564000"/>
                <a:ext cx="3878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4919760" y="3657600"/>
            <a:ext cx="4224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opštena formula pravougao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3411360"/>
            <a:ext cx="4113000" cy="882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486320"/>
            <a:ext cx="2881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Formula pravougao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r</cp:lastModifiedBy>
  <dcterms:modified xsi:type="dcterms:W3CDTF">2010-04-15T14:37:46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