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28C-AE01-41EA-8DC5-E3FD8DC9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343-2825-44DB-870B-7A372224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530-C744-45AE-9026-E1953FCB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674-96DC-414C-B2ED-0F68919B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4365-E0DE-4C9B-BA9B-4B0AB832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4FED-024F-4D18-9B58-4961E998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725C-C2C0-47C7-BCC5-1F1D59AF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6CC9-ED12-412F-9C0D-8979814C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E18-CE28-41AC-9369-026CC1CA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A8CC-B41A-47E3-BBF9-82552EDD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F070-E83C-4BF6-989B-5D5CCD4F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DC3-AA93-4128-B828-F171B5D9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A36C-BA4F-4300-8143-3E335393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F078-5972-4B91-AF77-F9039208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D8E9-57EA-4A15-A998-C8BEE6B4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0B03-E360-4C43-8815-694B3EF3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9913-42B7-4DBC-BF62-4DC047F6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DD60-9727-4F2A-A4CA-7C0AF6EA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ACD6-1AD8-4DDA-B1AB-CA6DA78D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379F5-9B60-4B83-87D7-FBDA25F5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70BC-8BFE-46AB-BBCA-301F6587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C936-A150-4D74-9E80-2C70F230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BEB-EDF0-49BC-B784-39DDCE8B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D78F-FEEB-445B-AF29-776D4A9A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72456-9E15-4989-93BA-59057D39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52F3-E860-4B39-8486-4F13C196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BF585-3A38-4A1E-858C-C9C58530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7307-452F-4988-85FB-6CA9AE01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A2D3-388F-4AE4-AD3D-4E94FD80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2AC34-8FB0-4163-8261-83E93CEC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9690-0BEA-4AF6-AACD-C129FF7F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2E4-807F-452A-8129-0CA429E7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209-E39C-430F-964C-94AC458E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666-2A50-4770-B5DC-B6F10CC6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174-3C6A-49CD-AA64-6190162B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82A-59A3-455B-B26B-CD032442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DEDE-5BCF-4BC7-8E7F-B596EB215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E9AA-F529-445F-A27F-88F3215F6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7A16-8DA0-4AAA-A6E2-E45E10F0B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Rectangle 3"/>
          <p:cNvGraphicFramePr/>
          <p:nvPr/>
        </p:nvGraphicFramePr>
        <p:xfrm>
          <a:off x="3505320" y="3733920"/>
          <a:ext cx="22096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733920"/>
                    <a:ext cx="22096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33520" y="2666880"/>
            <a:ext cx="80136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bližno rešenje sistema (1) je tačka u kojoj 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ostiže minimum, tj. određuje se iz uslova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Rectangle 3"/>
              <p:cNvSpPr txBox="1"/>
              <p:nvPr/>
            </p:nvSpPr>
            <p:spPr>
              <a:xfrm>
                <a:off x="3276720" y="1447920"/>
                <a:ext cx="28191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33520" y="1676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unkcija odstup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određeni sistem linearnih algebarskih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62120" y="16002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 ког услова се изводе апроксимациони параметри у методи најмањих квадра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 је облик апроксимационе функције у општем случају линеарне апроксимаци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се долази до система нормалних једначина у општем случају линеарне апроксимаци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исати систем нормалних једначина у матричном обл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исати систем нормалних једначина ако је апроксимациона функција облика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функцију одступања за преодређени систем линеарних једначина. Који су услови за одређивање минимума те функци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Rectangle 3"/>
          <p:cNvGraphicFramePr/>
          <p:nvPr/>
        </p:nvGraphicFramePr>
        <p:xfrm>
          <a:off x="2997360" y="4381560"/>
          <a:ext cx="1562040" cy="3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7360" y="4381560"/>
                    <a:ext cx="156204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66960"/>
          <a:ext cx="8534520" cy="5773680"/>
        </p:xfrm>
        <a:graphic>
          <a:graphicData uri="http://schemas.openxmlformats.org/drawingml/2006/table">
            <a:tbl>
              <a:tblPr/>
              <a:tblGrid>
                <a:gridCol w="1106640"/>
                <a:gridCol w="1173240"/>
                <a:gridCol w="3614760"/>
                <a:gridCol w="26398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оксимација функ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знавање са и овладавање проблема апроксимације функ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најмањих квадр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укаже на проблем апроксимације функција, као и да објасни и примени методу најмањих квадрата на конкретном приме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оксимација полином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укаже на апроксимацију полиномима уз извођење одговарајућих система нормалних једначи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дређени системи 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епозна преодређене системе и да на њима примени методу најмањих квадрата како би их реши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295280"/>
          <a:ext cx="8534160" cy="31672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најмањих квадр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укаже на проблем апроксимације функција, као и да објасни и примени методу најмањих квадрата на конкретном приме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оксимација полином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укаже на апроксимацију полиномима уз извођење одговарајућих система нормалних једначи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дређени системи 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епозна преодређене системе и да на њима примени методу најмањих квадрата како би их реши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228600" y="50292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809880" y="1523880"/>
            <a:ext cx="2625840" cy="648000"/>
            <a:chOff x="3809880" y="1523880"/>
            <a:chExt cx="2625840" cy="648000"/>
          </a:xfrm>
        </p:grpSpPr>
        <p:sp>
          <p:nvSpPr>
            <p:cNvPr id="132" name=""/>
            <p:cNvSpPr/>
            <p:nvPr/>
          </p:nvSpPr>
          <p:spPr>
            <a:xfrm>
              <a:off x="3944880" y="1801800"/>
              <a:ext cx="24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Rectangle 3"/>
                <p:cNvSpPr txBox="1"/>
                <p:nvPr/>
              </p:nvSpPr>
              <p:spPr>
                <a:xfrm>
                  <a:off x="3944880" y="1523880"/>
                  <a:ext cx="225900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     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4334040" y="1523880"/>
              <a:ext cx="0" cy="5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" name="Rectangle 3"/>
            <p:cNvGraphicFramePr/>
            <p:nvPr/>
          </p:nvGraphicFramePr>
          <p:xfrm>
            <a:off x="3809880" y="1828800"/>
            <a:ext cx="2116080" cy="34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Rectangle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1828800"/>
                      <a:ext cx="211608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37" name="Rectangle 3"/>
              <p:cNvSpPr txBox="1"/>
              <p:nvPr/>
            </p:nvSpPr>
            <p:spPr>
              <a:xfrm>
                <a:off x="2590920" y="1676520"/>
                <a:ext cx="9525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2998800" y="2387520"/>
            <a:ext cx="3581280" cy="2298240"/>
            <a:chOff x="2998800" y="2387520"/>
            <a:chExt cx="3581280" cy="2298240"/>
          </a:xfrm>
        </p:grpSpPr>
        <p:sp>
          <p:nvSpPr>
            <p:cNvPr id="139" name=""/>
            <p:cNvSpPr/>
            <p:nvPr/>
          </p:nvSpPr>
          <p:spPr>
            <a:xfrm flipV="1">
              <a:off x="3392280" y="2425320"/>
              <a:ext cx="0" cy="22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98800" y="434340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798720" y="2628360"/>
              <a:ext cx="1853640" cy="14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14560" y="2781360"/>
              <a:ext cx="424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9960" y="3773520"/>
              <a:ext cx="424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4680" y="3848040"/>
              <a:ext cx="424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33680" y="2806560"/>
              <a:ext cx="424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90960" y="3314520"/>
              <a:ext cx="424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09720" y="3314520"/>
              <a:ext cx="424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Rectangle 3"/>
                <p:cNvSpPr txBox="1"/>
                <p:nvPr/>
              </p:nvSpPr>
              <p:spPr>
                <a:xfrm>
                  <a:off x="6345000" y="4473360"/>
                  <a:ext cx="186840" cy="20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9" name=""/>
            <p:cNvGraphicFramePr/>
            <p:nvPr/>
          </p:nvGraphicFramePr>
          <p:xfrm>
            <a:off x="3124080" y="2387520"/>
            <a:ext cx="204120" cy="24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2387520"/>
                      <a:ext cx="204120" cy="24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3160440" y="4400280"/>
            <a:ext cx="185400" cy="262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60440" y="4400280"/>
                      <a:ext cx="185400" cy="26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65560" y="5353200"/>
                <a:ext cx="204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735200" y="5805360"/>
                <a:ext cx="26820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89080" y="6108840"/>
                <a:ext cx="70768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471600" y="5003640"/>
            <a:ext cx="6908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oks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ci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funk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7880" y="5753160"/>
            <a:ext cx="7874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stupanje      od vrednosti u tabeli meri se nor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ajmanjih kvad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0666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7.1 METODA NAJMANJIH KVAD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Rectangle 3"/>
              <p:cNvSpPr txBox="1"/>
              <p:nvPr/>
            </p:nvSpPr>
            <p:spPr>
              <a:xfrm>
                <a:off x="2438280" y="838080"/>
                <a:ext cx="4660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Rectangle 3"/>
              <p:cNvSpPr txBox="1"/>
              <p:nvPr/>
            </p:nvSpPr>
            <p:spPr>
              <a:xfrm>
                <a:off x="800280" y="1930320"/>
                <a:ext cx="5713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Rectangle 3"/>
              <p:cNvSpPr txBox="1"/>
              <p:nvPr/>
            </p:nvSpPr>
            <p:spPr>
              <a:xfrm>
                <a:off x="2521080" y="2162160"/>
                <a:ext cx="38685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Rectangle 3"/>
              <p:cNvSpPr txBox="1"/>
              <p:nvPr/>
            </p:nvSpPr>
            <p:spPr>
              <a:xfrm>
                <a:off x="2249640" y="3665520"/>
                <a:ext cx="323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4" name=""/>
          <p:cNvGraphicFramePr/>
          <p:nvPr/>
        </p:nvGraphicFramePr>
        <p:xfrm>
          <a:off x="3537000" y="4862520"/>
          <a:ext cx="179856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4862520"/>
                    <a:ext cx="1798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887480" y="5764320"/>
                <a:ext cx="5186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893960" y="6170760"/>
                <a:ext cx="2114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957320" y="1382760"/>
            <a:ext cx="5854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 nije pogodno zbog nediferencijabilnosti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124680" y="1398600"/>
          <a:ext cx="31428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4680" y="1398600"/>
                    <a:ext cx="314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07880" y="1890720"/>
            <a:ext cx="3632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          koristi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08080" y="2894040"/>
            <a:ext cx="622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 funkcija kvadratnog odstupanja – nije norma 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0840" y="3389400"/>
            <a:ext cx="8127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etoda u kojoj se aproksimacioni parametri                određuju iz uslova da vrednost funkcije       bude minimalna naziva s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etoda najmanjih kvadrata (MNK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937040" y="3378240"/>
          <a:ext cx="965160" cy="4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7040" y="3378240"/>
                    <a:ext cx="96516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82680" y="4430880"/>
            <a:ext cx="8165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ophodan ( i dovoljan ) uslov minimum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5433840"/>
            <a:ext cx="5918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šti slučaj linearne aproksima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75040" y="6157800"/>
            <a:ext cx="3594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unapred zadane fun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ajmanjih kvad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670120" y="1704960"/>
                <a:ext cx="4837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⋯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644920" y="2886120"/>
                <a:ext cx="46861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324240" y="1184400"/>
                <a:ext cx="2647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85640" y="905040"/>
            <a:ext cx="6782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2280" y="1514520"/>
            <a:ext cx="1422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Rectangle 3"/>
          <p:cNvGraphicFramePr/>
          <p:nvPr/>
        </p:nvGraphicFramePr>
        <p:xfrm>
          <a:off x="1674720" y="4648320"/>
          <a:ext cx="512928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4648320"/>
                    <a:ext cx="512928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914400" y="4587840"/>
            <a:ext cx="7315200" cy="10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14720" y="5680080"/>
            <a:ext cx="3429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 sistem normalnih jednačin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ajmanjih kvad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781280" y="1733400"/>
          <a:ext cx="594828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1733400"/>
                    <a:ext cx="594828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524400" y="3289320"/>
                <a:ext cx="2395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3" name=""/>
          <p:cNvGraphicFramePr/>
          <p:nvPr/>
        </p:nvGraphicFramePr>
        <p:xfrm>
          <a:off x="4079880" y="1066680"/>
          <a:ext cx="160668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9880" y="1066680"/>
                    <a:ext cx="1606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457200" y="990720"/>
            <a:ext cx="2666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trični zapis sist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987720"/>
            <a:ext cx="8381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7.2. APROKSIMACIJA POLINOM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4800" y="4451400"/>
          <a:ext cx="24224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4800" y="4451400"/>
                    <a:ext cx="24224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89320" y="4759200"/>
                <a:ext cx="2800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3357720" y="5478480"/>
          <a:ext cx="2571480" cy="13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5478480"/>
                    <a:ext cx="257148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82760" y="5130720"/>
            <a:ext cx="4356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ovom slučaju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06668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352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sist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proksimacija polinom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67240" y="5310360"/>
                <a:ext cx="22320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7" name=""/>
          <p:cNvGraphicFramePr/>
          <p:nvPr/>
        </p:nvGraphicFramePr>
        <p:xfrm>
          <a:off x="3300480" y="957240"/>
          <a:ext cx="135900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0480" y="957240"/>
                    <a:ext cx="13590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438280" y="1422360"/>
                <a:ext cx="4275360" cy="23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0" name=""/>
          <p:cNvGraphicFramePr/>
          <p:nvPr/>
        </p:nvGraphicFramePr>
        <p:xfrm>
          <a:off x="3548160" y="4227480"/>
          <a:ext cx="195588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8160" y="4227480"/>
                    <a:ext cx="19558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380880" y="990720"/>
            <a:ext cx="8191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 normalnih jednačina                       ima ob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8280" y="3936960"/>
            <a:ext cx="5092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pecijalno, ako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8280" y="4724280"/>
            <a:ext cx="3505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 gla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proksimacija polinom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54200" y="2951280"/>
            <a:ext cx="8178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 (1) ne mora biti saglas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059520" y="3832200"/>
          <a:ext cx="2162160" cy="12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9520" y="3832200"/>
                    <a:ext cx="216216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9" name="Rectangle 3"/>
              <p:cNvSpPr txBox="1"/>
              <p:nvPr/>
            </p:nvSpPr>
            <p:spPr>
              <a:xfrm>
                <a:off x="2971800" y="1523880"/>
                <a:ext cx="31766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 flipV="1">
            <a:off x="1490760" y="3402000"/>
            <a:ext cx="0" cy="222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8760" y="5332320"/>
            <a:ext cx="347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4320" y="4392720"/>
            <a:ext cx="307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033560" y="3719520"/>
            <a:ext cx="248904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41440" y="3693960"/>
            <a:ext cx="2222640" cy="207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90760" y="425304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97120" y="42656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666160" y="4227480"/>
            <a:ext cx="4284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Rectangle 3"/>
              <p:cNvSpPr txBox="1"/>
              <p:nvPr/>
            </p:nvSpPr>
            <p:spPr>
              <a:xfrm>
                <a:off x="762120" y="4114800"/>
                <a:ext cx="2347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29" name=""/>
          <p:cNvGraphicFramePr/>
          <p:nvPr/>
        </p:nvGraphicFramePr>
        <p:xfrm>
          <a:off x="822240" y="4826160"/>
          <a:ext cx="23652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240" y="4826160"/>
                    <a:ext cx="236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530600" y="5676840"/>
          <a:ext cx="23652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30600" y="5676840"/>
                    <a:ext cx="236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579760" y="5283360"/>
          <a:ext cx="307800" cy="37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9760" y="5283360"/>
                    <a:ext cx="30780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173240" y="3952800"/>
          <a:ext cx="331560" cy="42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73240" y="3952800"/>
                    <a:ext cx="3315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419720" y="5369040"/>
          <a:ext cx="236520" cy="261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5369040"/>
                    <a:ext cx="23652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235160" y="3352680"/>
          <a:ext cx="260280" cy="309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35160" y="3352680"/>
                    <a:ext cx="2602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982800"/>
            <a:ext cx="914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7.3. PREODREĐENI SISTEM LINEARNIH ALGEBARSKIH JEDNA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37480" y="2087640"/>
            <a:ext cx="698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određeni sistem linearnih algebarskih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6T13:54:3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