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CB2D-A3FC-434D-8EF8-4173D4718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9AC0-E499-42A6-AA0C-9B0378E3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C5C2-21A0-4BB3-80CF-A2B2CFD9F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86A9-C440-46D6-87B5-D28053FB1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980B-7976-4A30-B134-BDA9A806D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DE8D-A770-4BE3-9804-882E8B1C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75CC-289E-4217-B76B-D51870F4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DCD1-7F7C-4B0D-A37C-E010B9DA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4311-03AD-4E5C-AB49-EBAD9925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DB33-67F8-4EC4-80AE-753D6D65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A37F-52F2-4173-8850-EAA96A77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B7D0-5D78-48FC-9C0A-F6CF388C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849C-BAA8-43BF-99A1-EA5C9B22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9752-1F75-4C61-AB4E-5A310BFD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F896-573E-4D31-A799-09EED9DF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B8D7-EF8A-4AC6-B784-B61068F3C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E75D-FC21-4B1D-96F5-341FB688E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0A1E0-4444-437D-A973-11A374C56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ACEB2-373A-4EC4-905D-A00BB66C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C0353-1CF1-4E2F-91BE-EA8F1361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6CDBB-12C3-4DF1-B786-213C7990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F68B3-6C9B-4979-A75F-D7F6D4F6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1904-8231-47B8-9D45-DA636034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E0146-845D-4ABE-A02C-B4017D36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C9A7E-E7B3-435C-AAB2-67EAE313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2BBAD-B14D-43AF-AAAB-B25F8FBB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52E34-3C26-49EE-AAF6-54B18D03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17A4B-6E8B-424F-A8D7-C3950F91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B2527-2E28-42B2-AC32-A1FAD2A53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6F956-4A4E-4C01-A26C-39D45BC96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FF24-AFB5-4EA8-9E88-ED800694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824D-67CB-4D8E-BB82-908E78D4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1AA8-988A-460E-9617-3A5F1EB2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87E7-11A8-4446-BAD8-98F9813C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E32E-1748-4F5C-B580-16C2EBDA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D9FB-EB8A-433E-8832-D4A6A92B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A38E-DDEE-4898-82A7-38C8BBF9A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9F94-6D8F-42CD-A73F-947AA9FD6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E755-A81C-4D77-9E48-CEEA7FAE9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533520" y="1143000"/>
            <a:ext cx="1295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2. Ako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536840" y="1371600"/>
          <a:ext cx="568800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371600"/>
                    <a:ext cx="56880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533520" y="2209680"/>
            <a:ext cx="1600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a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438280" y="2590920"/>
                <a:ext cx="41846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2" name=""/>
          <p:cNvGrpSpPr/>
          <p:nvPr/>
        </p:nvGrpSpPr>
        <p:grpSpPr>
          <a:xfrm>
            <a:off x="609480" y="3200400"/>
            <a:ext cx="8076960" cy="1518120"/>
            <a:chOff x="609480" y="3200400"/>
            <a:chExt cx="8076960" cy="1518120"/>
          </a:xfrm>
        </p:grpSpPr>
        <p:sp>
          <p:nvSpPr>
            <p:cNvPr id="253" name=""/>
            <p:cNvSpPr/>
            <p:nvPr/>
          </p:nvSpPr>
          <p:spPr>
            <a:xfrm>
              <a:off x="609480" y="3200400"/>
              <a:ext cx="129528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3. Ako 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4" name=""/>
            <p:cNvGraphicFramePr/>
            <p:nvPr/>
          </p:nvGraphicFramePr>
          <p:xfrm>
            <a:off x="1668240" y="3429000"/>
            <a:ext cx="5576760" cy="698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68240" y="3429000"/>
                      <a:ext cx="5576760" cy="6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6" name=""/>
            <p:cNvSpPr/>
            <p:nvPr/>
          </p:nvSpPr>
          <p:spPr>
            <a:xfrm>
              <a:off x="685440" y="4114800"/>
              <a:ext cx="800100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i ako je        parna cifra primenjuje se prvo, a ako je        neparna cifra drugo pravilo (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pravilo p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r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ne cifre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7" name=""/>
                <p:cNvSpPr txBox="1"/>
                <p:nvPr/>
              </p:nvSpPr>
              <p:spPr>
                <a:xfrm>
                  <a:off x="1599840" y="4114800"/>
                  <a:ext cx="3603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6019560" y="4114800"/>
                  <a:ext cx="3603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9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Zaokrugljivanje broj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4800600"/>
            <a:ext cx="81532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er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25473;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75;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0.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65;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326;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*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57200" y="1143000"/>
            <a:ext cx="7704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Teorema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G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ška zaokrugljivanja broja nije veća 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791320" y="990720"/>
                <a:ext cx="12240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457200" y="1533600"/>
            <a:ext cx="1152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Dok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4120" y="1893960"/>
            <a:ext cx="4392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1.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Nije došlo do povećanja. Tada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2819520" y="2286000"/>
                <a:ext cx="3963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609480" y="2666880"/>
            <a:ext cx="863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09480" y="3048120"/>
                <a:ext cx="7920000" cy="19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/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≤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533520" y="5254560"/>
            <a:ext cx="3959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2.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ošlo je do povećanja. Ta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895480" y="5638680"/>
                <a:ext cx="451008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685800" y="6172200"/>
            <a:ext cx="863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Zaokrugljivanje broj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Zaokrugljivanje broje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50880" y="3129120"/>
            <a:ext cx="574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3.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1066680" y="3048120"/>
                <a:ext cx="18003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2809800" y="3129120"/>
            <a:ext cx="1944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(trivijaln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3200400"/>
            <a:ext cx="863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Rectangle 3"/>
              <p:cNvSpPr txBox="1"/>
              <p:nvPr/>
            </p:nvSpPr>
            <p:spPr>
              <a:xfrm>
                <a:off x="762120" y="1219320"/>
                <a:ext cx="7696080" cy="14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/>
                            </m:s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≤</m:t>
                        </m:r>
                      </m:e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&lt;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psolutna i relativna greška približnog broja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Zaokrugljivanje broje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762120" y="1600200"/>
            <a:ext cx="7696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ИТ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финисати апсолутну и релативну грешку приближног број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финисати границе апсолутне и релативне грешке приближног број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е цифре приближног броја су значај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е цифре приближног броја су сигур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вести правило заокругљивањ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казати да прво правило заокругљивања наступа ако је прва цифра која се одбацује мања од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казати да прво правило заокругљивања наступа ако је прва цифра која се одбацује већа од 5 или је једнака 5, а иза ње постоји цифра различита од ну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казати да је број 0.1 бесконачно периодичан у бинарном запи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600200"/>
          <a:ext cx="8229600" cy="513252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81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ближни бројеви и греш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владавање основним појмовима везаним за приближне бројеве и грешке приближних број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солутна и релативна грешка приближног бро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упознат са појмом приближног броја у пракси и дефиницијом апсолутне и релативне грешке приближног број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округљивање број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упознат са правилима заокругљивања бројева уз илустрацију на конкретном приме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447920"/>
          <a:ext cx="8534160" cy="255564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солутна и релативна грешка приближног бро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упознат са појмом приближног броја у пракси и дефиницијом апсолутне и релативне грешке приближног број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округљивање број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упознат са правилима заокругљивања бројева уз илустрацију на конкретном приме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228600" y="411480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Предава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733920" y="2133720"/>
            <a:ext cx="2133360" cy="57132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685800" y="5181480"/>
            <a:ext cx="8001000" cy="1149120"/>
            <a:chOff x="685800" y="5181480"/>
            <a:chExt cx="8001000" cy="1149120"/>
          </a:xfrm>
        </p:grpSpPr>
        <p:sp>
          <p:nvSpPr>
            <p:cNvPr id="133" name=""/>
            <p:cNvSpPr/>
            <p:nvPr/>
          </p:nvSpPr>
          <p:spPr>
            <a:xfrm>
              <a:off x="685800" y="5181480"/>
              <a:ext cx="8001000" cy="7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Greška približnog broja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     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, kojim se zamenjuje tačan broj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je razli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3429000" y="5181480"/>
                  <a:ext cx="26676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6934320" y="5181480"/>
                  <a:ext cx="26676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4038840" y="5867280"/>
                  <a:ext cx="137160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sSup>
                            <m:e>
                              <m:r>
                                <m:t xml:space="preserve">x</m:t>
                              </m:r>
                            </m:e>
                            <m:sup/>
                          </m:sSup>
                        </m:sub>
                      </m:sSub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7" name=""/>
          <p:cNvSpPr/>
          <p:nvPr/>
        </p:nvSpPr>
        <p:spPr>
          <a:xfrm>
            <a:off x="533520" y="914400"/>
            <a:ext cx="78483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Definicija 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ibli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žan broj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alnog broja      je broj koji se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“neznatn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razlikuje od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k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risti se u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zračunavanjima umesto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429000" y="914400"/>
                <a:ext cx="2667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905120" y="1295280"/>
                <a:ext cx="2667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5943600" y="1295280"/>
                <a:ext cx="2667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105520" y="914400"/>
                <a:ext cx="2667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psolutna i relativna greška približnog bro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905120"/>
            <a:ext cx="7925040" cy="30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bližni brojevi se u praksi pojavljuju ka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azne matematičke konstan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zultati raznih merenja obeležja neprekidnog ti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ojevi koji se upisuju u memoriju računara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 li ste znal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Broj x=0.1 ne može memorisati tačno ni jedan računar koji radi u binarnom brojnom sistem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457200" y="3352680"/>
            <a:ext cx="8229600" cy="1001520"/>
            <a:chOff x="457200" y="3352680"/>
            <a:chExt cx="8229600" cy="1001520"/>
          </a:xfrm>
        </p:grpSpPr>
        <p:sp>
          <p:nvSpPr>
            <p:cNvPr id="145" name=""/>
            <p:cNvSpPr/>
            <p:nvPr/>
          </p:nvSpPr>
          <p:spPr>
            <a:xfrm>
              <a:off x="457200" y="3352680"/>
              <a:ext cx="8229600" cy="10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 u="sng">
                  <a:solidFill>
                    <a:srgbClr val="000000"/>
                  </a:solidFill>
                  <a:uFillTx/>
                  <a:latin typeface="Arial"/>
                  <a:ea typeface="Lucida Sans Unicode"/>
                </a:rPr>
                <a:t>Primer 1.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Odrediti granicu apsolutne greške broja 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   kao aproksimaci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broja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5638680" y="3352680"/>
                  <a:ext cx="99072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π</m:t>
                          </m:r>
                        </m:e>
                        <m:sup/>
                      </m:sSup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4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1219320" y="4038480"/>
                  <a:ext cx="2200320" cy="28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41592655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48" name=""/>
          <p:cNvGraphicFramePr/>
          <p:nvPr/>
        </p:nvGraphicFramePr>
        <p:xfrm>
          <a:off x="457200" y="4419720"/>
          <a:ext cx="764856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419720"/>
                    <a:ext cx="76485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457200" y="5257800"/>
            <a:ext cx="76960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Napomena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anica apsolutne greške približnog broja se najčešće piše u obliku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467480" y="5562720"/>
                <a:ext cx="6098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52" name=""/>
          <p:cNvGraphicFramePr/>
          <p:nvPr/>
        </p:nvGraphicFramePr>
        <p:xfrm>
          <a:off x="762120" y="6019920"/>
          <a:ext cx="146052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6019920"/>
                    <a:ext cx="14605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8077320" y="457200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psolutna i relativna greška približnog bro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85800" y="914400"/>
            <a:ext cx="7772400" cy="2133720"/>
            <a:chOff x="685800" y="914400"/>
            <a:chExt cx="7772400" cy="2133720"/>
          </a:xfrm>
        </p:grpSpPr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4343400" y="1905120"/>
                  <a:ext cx="4334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sSup>
                            <m:e>
                              <m:r>
                                <m:t xml:space="preserve">x</m:t>
                              </m:r>
                            </m:e>
                            <m:sup/>
                          </m:sSup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8" name=""/>
            <p:cNvSpPr/>
            <p:nvPr/>
          </p:nvSpPr>
          <p:spPr>
            <a:xfrm>
              <a:off x="685800" y="914400"/>
              <a:ext cx="777240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Apsolutna greška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približnog broja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3809880" y="1143000"/>
                  <a:ext cx="1981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sSup>
                            <m:e>
                              <m:r>
                                <m:t xml:space="preserve">x</m:t>
                              </m:r>
                            </m:e>
                            <m:sup/>
                          </m:sSup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/>
                          </m:sSup>
                        </m:e>
                      </m: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0" name=""/>
            <p:cNvSpPr/>
            <p:nvPr/>
          </p:nvSpPr>
          <p:spPr>
            <a:xfrm>
              <a:off x="762120" y="1905120"/>
              <a:ext cx="678168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Granica apsolutne greške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je broj 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  za koji 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3921120" y="2514600"/>
                  <a:ext cx="17589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/>
                          </m:sSup>
                        </m:e>
                      </m:d>
                      <m:r>
                        <m:t xml:space="preserve">≤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sSup>
                            <m:e>
                              <m:r>
                                <m:t xml:space="preserve">x</m:t>
                              </m:r>
                            </m:e>
                            <m:sup/>
                          </m:sSup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57200" y="1004760"/>
            <a:ext cx="8153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lativna greška približnog broja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je količ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191120" y="990720"/>
                <a:ext cx="2667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733920" y="1371600"/>
                <a:ext cx="16002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∗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457200" y="2452680"/>
            <a:ext cx="7391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anica relativne grešk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je broj       za koji važ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962520" y="2452680"/>
                <a:ext cx="3603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67" name=""/>
          <p:cNvGraphicFramePr/>
          <p:nvPr/>
        </p:nvGraphicFramePr>
        <p:xfrm>
          <a:off x="5562720" y="2443320"/>
          <a:ext cx="876240" cy="39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443320"/>
                    <a:ext cx="8762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457200" y="2909880"/>
            <a:ext cx="7848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anica procentualne grešk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809880" y="2895480"/>
          <a:ext cx="1360440" cy="4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895480"/>
                    <a:ext cx="136044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352680" y="3276720"/>
          <a:ext cx="1559160" cy="39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3276720"/>
                    <a:ext cx="155916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457200" y="3962520"/>
            <a:ext cx="807732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Primer 2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Neka je                     približna vrednost za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        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ibližna vrednost z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    Koja od ove dve aproksimacije je bolj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?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362320" y="3962520"/>
                <a:ext cx="12826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791320" y="3992400"/>
                <a:ext cx="129528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04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7238880" y="3962520"/>
                <a:ext cx="12240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5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743200" y="4343400"/>
                <a:ext cx="12193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457200" y="4876920"/>
            <a:ext cx="1219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šen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600200" y="5029200"/>
                <a:ext cx="220968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/>
                            </m:sSup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/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01</m:t>
                        </m:r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/>
                            </m:sSup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/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267080" y="4800600"/>
                <a:ext cx="2654280" cy="15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/>
                            </m:sSup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/>
                                </m:sSup>
                              </m:sub>
                            </m:sSub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/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0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0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/>
                            </m:sSup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/>
                                </m:sSup>
                              </m:sub>
                            </m:sSub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/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5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7162920" y="594360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psolutna i relativna greška približnog bro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3276720"/>
            <a:ext cx="3886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Granica promilne greš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649116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olja je druga aproksimaci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1262160" y="3506760"/>
          <a:ext cx="5303880" cy="8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2160" y="3506760"/>
                    <a:ext cx="530388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457200" y="914400"/>
            <a:ext cx="8001000" cy="858600"/>
            <a:chOff x="457200" y="914400"/>
            <a:chExt cx="8001000" cy="858600"/>
          </a:xfrm>
        </p:grpSpPr>
        <p:sp>
          <p:nvSpPr>
            <p:cNvPr id="189" name=""/>
            <p:cNvSpPr/>
            <p:nvPr/>
          </p:nvSpPr>
          <p:spPr>
            <a:xfrm>
              <a:off x="457200" y="914400"/>
              <a:ext cx="800100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 u="sng">
                  <a:solidFill>
                    <a:srgbClr val="000000"/>
                  </a:solidFill>
                  <a:uFillTx/>
                  <a:latin typeface="Arial"/>
                  <a:ea typeface="Lucida Sans Unicode"/>
                </a:rPr>
                <a:t>Definicija 4: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Cifra 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   približnog broja     je 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značajna cifra 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ako je različita od nule. Nula je značajna cifra ako se nalazi između cifara različitih od nule ili je desno u odnosu na sve značajne cif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2286000" y="914400"/>
                  <a:ext cx="2746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4191120" y="914400"/>
                  <a:ext cx="26676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2" name=""/>
          <p:cNvSpPr/>
          <p:nvPr/>
        </p:nvSpPr>
        <p:spPr>
          <a:xfrm>
            <a:off x="457200" y="1994040"/>
            <a:ext cx="777240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Primer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1.25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0.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3678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0.000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4567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0.00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4030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46040" y="4853160"/>
            <a:ext cx="7289640" cy="838080"/>
            <a:chOff x="446040" y="4853160"/>
            <a:chExt cx="7289640" cy="838080"/>
          </a:xfrm>
        </p:grpSpPr>
        <p:sp>
          <p:nvSpPr>
            <p:cNvPr id="194" name=""/>
            <p:cNvSpPr/>
            <p:nvPr/>
          </p:nvSpPr>
          <p:spPr>
            <a:xfrm>
              <a:off x="446040" y="4853160"/>
              <a:ext cx="114300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 u="sng">
                  <a:solidFill>
                    <a:srgbClr val="000000"/>
                  </a:solidFill>
                  <a:uFillTx/>
                  <a:latin typeface="Arial"/>
                  <a:ea typeface="Lucida Sans Unicode"/>
                </a:rPr>
                <a:t>Primer 4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1309680" y="5292720"/>
                  <a:ext cx="6426000" cy="39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30570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⋅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0</m:t>
                      </m:r>
                      <m:r>
                        <m:t xml:space="preserve">⋅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5</m:t>
                      </m:r>
                      <m:r>
                        <m:t xml:space="preserve">⋅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7</m:t>
                      </m:r>
                      <m:r>
                        <m:t xml:space="preserve">⋅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0</m:t>
                      </m:r>
                      <m:r>
                        <m:t xml:space="preserve">⋅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7761240" y="5386320"/>
                <a:ext cx="3808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648480" y="242568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457200" y="3002040"/>
            <a:ext cx="2664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Zapis približnog bro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psolutna i relativna greška približnog bro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200" y="914400"/>
            <a:ext cx="2895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ka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467000" y="1371600"/>
          <a:ext cx="671976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7000" y="1371600"/>
                    <a:ext cx="67197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533520" y="2057400"/>
            <a:ext cx="7924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Definicija 5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Značajna cifra       približnog broja      je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igurna cifr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ako j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352680" y="2057400"/>
                <a:ext cx="27936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5334120" y="2057400"/>
                <a:ext cx="253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590920" y="2666880"/>
                <a:ext cx="3352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</m:sub>
                    </m:sSub>
                    <m:r>
                      <m:t xml:space="preserve">≤</m:t>
                    </m:r>
                    <m:r>
                      <m:t xml:space="preserve">ω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ω</m:t>
                    </m:r>
                    <m:r>
                      <m:t xml:space="preserve">≤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7" name=""/>
          <p:cNvGrpSpPr/>
          <p:nvPr/>
        </p:nvGrpSpPr>
        <p:grpSpPr>
          <a:xfrm>
            <a:off x="609480" y="3048120"/>
            <a:ext cx="6172200" cy="561960"/>
            <a:chOff x="609480" y="3048120"/>
            <a:chExt cx="6172200" cy="561960"/>
          </a:xfrm>
        </p:grpSpPr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609480" y="3048120"/>
                  <a:ext cx="106668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: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9" name=""/>
            <p:cNvSpPr/>
            <p:nvPr/>
          </p:nvSpPr>
          <p:spPr>
            <a:xfrm>
              <a:off x="1676160" y="3135240"/>
              <a:ext cx="510552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je sigurna u 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užem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smislu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09480" y="3657600"/>
            <a:ext cx="6095880" cy="348840"/>
            <a:chOff x="609480" y="3657600"/>
            <a:chExt cx="6095880" cy="348840"/>
          </a:xfrm>
        </p:grpSpPr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609480" y="3657600"/>
                  <a:ext cx="993600" cy="32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: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"/>
            <p:cNvSpPr/>
            <p:nvPr/>
          </p:nvSpPr>
          <p:spPr>
            <a:xfrm>
              <a:off x="1600200" y="3657600"/>
              <a:ext cx="51051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je sigurna u 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širem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smislu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228600" y="4191120"/>
            <a:ext cx="7924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Primer 5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Odrediti sigurne cifre broja                       kao aproksimacije bro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7924680" y="4267080"/>
          <a:ext cx="1028880" cy="25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4680" y="4267080"/>
                    <a:ext cx="102888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1523880" y="4419720"/>
          <a:ext cx="4496040" cy="59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419720"/>
                    <a:ext cx="449604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457200" y="5562720"/>
            <a:ext cx="7543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Cifre 6,4 i 2 su sigurne u užem ( i širem ) smisl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5861160"/>
            <a:ext cx="807732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Napomena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Veza između broja sigurnih cifara i granice relativne greške data je 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[1]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eoremom 1.3.1 na strani 1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486400" y="5638680"/>
                <a:ext cx="3808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psolutna i relativna greška približnog bro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038480" y="4191120"/>
          <a:ext cx="1143000" cy="30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8480" y="4191120"/>
                    <a:ext cx="114300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33520" y="5105520"/>
          <a:ext cx="3124080" cy="317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520" y="5105520"/>
                    <a:ext cx="31240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5257800" y="4952880"/>
          <a:ext cx="2514600" cy="5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57800" y="4952880"/>
                    <a:ext cx="251460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Zaokrugljivanje broj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1905120"/>
            <a:ext cx="80010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Definicija 6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Postupak zamene broja     brojem       sa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jim brojem značajnih cifara naziva se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zaokrugljivan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broja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ko se to izvodi u skladu sa pravilima zaokrugljiva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990720"/>
            <a:ext cx="7315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ka je dat bro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025720" y="1447920"/>
                <a:ext cx="51433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191120" y="1905120"/>
                <a:ext cx="2667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181480" y="1905120"/>
                <a:ext cx="2667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410080" y="2133720"/>
                <a:ext cx="2667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380880" y="3048120"/>
            <a:ext cx="3048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avila za zaokrugljivan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4114800"/>
            <a:ext cx="1218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1. Ako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143000" y="4419720"/>
          <a:ext cx="615636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419720"/>
                    <a:ext cx="615636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457200" y="5257800"/>
            <a:ext cx="1600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a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752480" y="5791320"/>
          <a:ext cx="5235840" cy="43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5791320"/>
                    <a:ext cx="523584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2" name=""/>
          <p:cNvGrpSpPr/>
          <p:nvPr/>
        </p:nvGrpSpPr>
        <p:grpSpPr>
          <a:xfrm>
            <a:off x="457200" y="3429000"/>
            <a:ext cx="7848720" cy="638640"/>
            <a:chOff x="457200" y="3429000"/>
            <a:chExt cx="7848720" cy="638640"/>
          </a:xfrm>
        </p:grpSpPr>
        <p:sp>
          <p:nvSpPr>
            <p:cNvPr id="243" name=""/>
            <p:cNvSpPr/>
            <p:nvPr/>
          </p:nvSpPr>
          <p:spPr>
            <a:xfrm>
              <a:off x="457200" y="3463920"/>
              <a:ext cx="784872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Ako se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broj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 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zamenjuj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brojem       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koji ima       cifara, to se čini na sledeći način: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1758960" y="3429000"/>
                  <a:ext cx="26676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5137200" y="3500280"/>
                  <a:ext cx="3049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3919680" y="3429000"/>
                  <a:ext cx="26676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de</cp:lastModifiedBy>
  <dcterms:modified xsi:type="dcterms:W3CDTF">2010-04-15T08:30:32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