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E6B-D218-42EE-AAA8-0FB4C65E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C83-E191-48A7-8EE6-7C3D3DC4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EA3-578B-4BB8-BFB8-FE062E40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6A9-1355-480E-BCB0-F02D9647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83C7-1E41-4EA6-B334-AB462744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625C-0AC5-4800-A16C-FE4E1B13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B9A4-BB46-413C-BBD2-7F81896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C10-B5E3-4FA4-9021-535E544A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DA3A-CD0A-40CD-8973-0FD7006E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10C-4DC9-403A-A068-99C6C49D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D95E-FEED-476C-AD3A-98BD1CA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34F-82BA-4326-927E-638A754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4B47-B74B-49C5-8B07-8489ECB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4C9C-8220-4633-BF90-B9C0E2E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4F2C-3B22-4D83-9D81-287A4AF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E58B-F493-40A2-ACEE-8E92F58F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CEE-9C62-43B5-919E-349839F0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212C-73F7-47BB-BC5A-6DF8515C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BE943-B844-48BE-840A-3EF4496F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FF48-BF72-4F68-B81F-2A5DD3F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2D92-B463-44C7-A267-0190F416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7060-A060-4187-92AD-6D4B1E6F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B01-A6CB-45E5-B4C4-CABABA8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3E69-B18D-4D54-86D7-E73D752A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00E7-B2B2-4006-9E10-C87A9E73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BDCA-C6F2-45A1-9F0E-71F4AD38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457C-8F9E-41C6-857E-BD14165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CA2F-4E46-4055-A3EE-FFDCED9F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6CB5-85B5-495D-80E7-BD82C410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8F8B-3C78-4586-A061-51C60E8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0A4-4E46-43AA-9428-CC78067C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1D4-5704-4ADE-A40F-8FCD17C8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50D-15FF-4190-BD50-EF38A484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BB7-ECFB-4CF9-B84D-96ACAE30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328-1DB7-4796-9FF6-452BA71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1FE-A761-458E-B51E-F1DFA97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83DC-C1C3-4B76-8A9A-F24F068AA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19E0-0022-4F87-A0BB-ED8ED8F7D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3FEA-008A-45CA-9591-F83091C1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616200" y="1177920"/>
          <a:ext cx="177804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1177920"/>
                    <a:ext cx="17780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57200" y="91440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549520" y="2332080"/>
          <a:ext cx="436248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9520" y="2332080"/>
                    <a:ext cx="43624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795760" y="3670200"/>
          <a:ext cx="36576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5760" y="3670200"/>
                    <a:ext cx="3657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19560" y="4707000"/>
          <a:ext cx="241920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9560" y="4707000"/>
                    <a:ext cx="24192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69800" y="193032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9800" y="3111480"/>
            <a:ext cx="82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zadržimo na linearnim članovima u odnosu na      i    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987880" y="3125880"/>
                <a:ext cx="279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431040" y="3141720"/>
                <a:ext cx="263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69800" y="43815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410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Rectangle 3"/>
          <p:cNvGraphicFramePr/>
          <p:nvPr/>
        </p:nvGraphicFramePr>
        <p:xfrm>
          <a:off x="2608200" y="5770440"/>
          <a:ext cx="3113280" cy="74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Rectangle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08200" y="5770440"/>
                    <a:ext cx="311328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000680" y="1333440"/>
                <a:ext cx="12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46" name=""/>
          <p:cNvGraphicFramePr/>
          <p:nvPr/>
        </p:nvGraphicFramePr>
        <p:xfrm>
          <a:off x="3714840" y="2425680"/>
          <a:ext cx="173808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2425680"/>
                    <a:ext cx="173808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391520" y="2819520"/>
                <a:ext cx="29196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3629160" y="3362400"/>
          <a:ext cx="205560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9160" y="3362400"/>
                    <a:ext cx="20556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66920" y="5029200"/>
                <a:ext cx="820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750000" y="5016600"/>
                <a:ext cx="87300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01720" y="280512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80880" y="9144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zirom da smo zanemarili nelinearne članove, možemo pis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019240"/>
            <a:ext cx="79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pšta ide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8280" y="276876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 je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 Red konvergencije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postoji konstanta      takva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040" y="4051440"/>
            <a:ext cx="787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1: linearna konverg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2: kvadratna konverg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952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              , konvergencija je linearna, a ako je              , konvergencija je kvadrat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57913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Rectangle 3"/>
          <p:cNvGraphicFramePr/>
          <p:nvPr/>
        </p:nvGraphicFramePr>
        <p:xfrm>
          <a:off x="3214800" y="6189840"/>
          <a:ext cx="212544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6189840"/>
                    <a:ext cx="21254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880" y="914400"/>
            <a:ext cx="81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u         biramo iz uslova da je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Rectangle 3"/>
          <p:cNvGraphicFramePr/>
          <p:nvPr/>
        </p:nvGraphicFramePr>
        <p:xfrm>
          <a:off x="1362240" y="996840"/>
          <a:ext cx="471240" cy="2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996840"/>
                    <a:ext cx="4712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Rectangle 3"/>
          <p:cNvGraphicFramePr/>
          <p:nvPr/>
        </p:nvGraphicFramePr>
        <p:xfrm>
          <a:off x="4137120" y="958680"/>
          <a:ext cx="8128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7120" y="958680"/>
                    <a:ext cx="812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992320" y="1430280"/>
          <a:ext cx="324972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92320" y="1430280"/>
                    <a:ext cx="3249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47840" y="2274840"/>
          <a:ext cx="405108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840" y="2274840"/>
                    <a:ext cx="4051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780000" y="3637080"/>
          <a:ext cx="1893600" cy="39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637080"/>
                    <a:ext cx="1893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882800" y="4416480"/>
          <a:ext cx="578808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82800" y="4416480"/>
                    <a:ext cx="5788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230640" y="5245200"/>
          <a:ext cx="755640" cy="261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30640" y="5245200"/>
                    <a:ext cx="75564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93840" y="3238560"/>
            <a:ext cx="45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ma tom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8280" y="4025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8280" y="515628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rešenju sistema              i ima najmanje kvadratnu konvergenci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762120" y="1600200"/>
            <a:ext cx="125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;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и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система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методом итерације и доказом основне теореме о конвергенцији. Такође, биће способан за самостално решавање практичних проблема овом метод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Њутн - Канторови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самостално решава системе нелинеарних једначина методом Њутн – Канторовича за случај две једначине, а биће упознат и са применом ове методе у општем случај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9494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методом итерације и доказом основне теореме о конвергенцији. Такође, биће способан за самостално решавање практичних проблема овом метод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Њутн - Канторови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самостално решава системе нелинеарних једначина методом Њутн – Канторовича за случај две једначине, а биће упознат и са применом ове методе у општем случај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50292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2362320" y="1905120"/>
          <a:ext cx="31240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31240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Rectangle 3"/>
          <p:cNvGraphicFramePr/>
          <p:nvPr/>
        </p:nvGraphicFramePr>
        <p:xfrm>
          <a:off x="1143000" y="2590920"/>
          <a:ext cx="533520" cy="32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5335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Rectangle 3"/>
          <p:cNvGraphicFramePr/>
          <p:nvPr/>
        </p:nvGraphicFramePr>
        <p:xfrm>
          <a:off x="2286000" y="2917800"/>
          <a:ext cx="502920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917800"/>
                    <a:ext cx="50292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80880" y="1295280"/>
            <a:ext cx="792504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th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bir geometrijskog re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 je Košijev niz u prostoru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aki Košijev niz u prostoru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je konvergen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Razvoj funkcije f(x,y) u Tejlorov red u okolini tačke (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Rectangle 3"/>
          <p:cNvGraphicFramePr/>
          <p:nvPr/>
        </p:nvGraphicFramePr>
        <p:xfrm>
          <a:off x="380880" y="4800600"/>
          <a:ext cx="8610840" cy="101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800600"/>
                    <a:ext cx="86108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29000" y="990720"/>
                <a:ext cx="33796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2" name=""/>
          <p:cNvGraphicFramePr/>
          <p:nvPr/>
        </p:nvGraphicFramePr>
        <p:xfrm>
          <a:off x="3505320" y="2209680"/>
          <a:ext cx="3498840" cy="2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209680"/>
                    <a:ext cx="349884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429000" y="2514600"/>
          <a:ext cx="19432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514600"/>
                    <a:ext cx="19432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352680" y="4038480"/>
          <a:ext cx="324036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038480"/>
                    <a:ext cx="3240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95480" y="4419720"/>
          <a:ext cx="1922760" cy="80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4419720"/>
                    <a:ext cx="19227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882880" y="5450040"/>
          <a:ext cx="3848040" cy="14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2880" y="5450040"/>
                    <a:ext cx="38480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71600" y="18921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ktorski zap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640" y="5245200"/>
            <a:ext cx="28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vod funkcij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Rectangle 3"/>
          <p:cNvGraphicFramePr/>
          <p:nvPr/>
        </p:nvGraphicFramePr>
        <p:xfrm>
          <a:off x="4876920" y="4648320"/>
          <a:ext cx="4267080" cy="70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Rectangle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648320"/>
                    <a:ext cx="42670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04920" y="35812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1. METODA IT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778120" y="5600880"/>
          <a:ext cx="39243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8120" y="5600880"/>
                    <a:ext cx="39243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272120" y="6184800"/>
          <a:ext cx="232704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2120" y="6184800"/>
                    <a:ext cx="2327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422360" y="927000"/>
          <a:ext cx="274500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2360" y="927000"/>
                    <a:ext cx="2745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651120" y="1555920"/>
                <a:ext cx="175284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Sup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2397240" y="4457880"/>
          <a:ext cx="4781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7240" y="4457880"/>
                    <a:ext cx="4781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7200" y="106668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k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440" y="3898800"/>
            <a:ext cx="52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ži nejednak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4100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Rectangle 3"/>
              <p:cNvSpPr txBox="1"/>
              <p:nvPr/>
            </p:nvSpPr>
            <p:spPr>
              <a:xfrm>
                <a:off x="5943600" y="914400"/>
                <a:ext cx="950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Rectangle 3"/>
              <p:cNvSpPr txBox="1"/>
              <p:nvPr/>
            </p:nvSpPr>
            <p:spPr>
              <a:xfrm>
                <a:off x="7861320" y="90000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Rectangle 3"/>
              <p:cNvSpPr txBox="1"/>
              <p:nvPr/>
            </p:nvSpPr>
            <p:spPr>
              <a:xfrm>
                <a:off x="1816200" y="1343160"/>
                <a:ext cx="1082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5" name="Rectangle 3"/>
          <p:cNvGraphicFramePr/>
          <p:nvPr/>
        </p:nvGraphicFramePr>
        <p:xfrm>
          <a:off x="2897280" y="1758960"/>
          <a:ext cx="76824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1758960"/>
                    <a:ext cx="76824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186600" y="1736640"/>
          <a:ext cx="519120" cy="2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6600" y="1736640"/>
                    <a:ext cx="51912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668600" y="2316240"/>
          <a:ext cx="254304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8600" y="2316240"/>
                    <a:ext cx="25430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419120" y="3746520"/>
          <a:ext cx="644544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19120" y="3746520"/>
                    <a:ext cx="644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143000" y="4465800"/>
          <a:ext cx="7631280" cy="23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465800"/>
                    <a:ext cx="763128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853920"/>
            <a:ext cx="8191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 dovoljan uslov konvergencije 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                  i neka je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bar jedan                 .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Jednačina                ima jedinstveno reš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Niz definisan sa (4) konvergira 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9800" y="313992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1640" y="349560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.,2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4280" y="4130640"/>
            <a:ext cx="49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       . Tada važ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86080" y="4194000"/>
                <a:ext cx="533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24600" y="2197080"/>
                <a:ext cx="16668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067280" y="985680"/>
          <a:ext cx="5410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985680"/>
                    <a:ext cx="5410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992320" y="6186600"/>
          <a:ext cx="266544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2320" y="6186600"/>
                    <a:ext cx="26654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895320" y="932040"/>
          <a:ext cx="50796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95320" y="932040"/>
                    <a:ext cx="5079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143080" y="1494000"/>
          <a:ext cx="508644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1494000"/>
                    <a:ext cx="50864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808280" y="3778200"/>
          <a:ext cx="5416560" cy="194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8280" y="3778200"/>
                    <a:ext cx="541656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Rectangle 3"/>
          <p:cNvGraphicFramePr/>
          <p:nvPr/>
        </p:nvGraphicFramePr>
        <p:xfrm>
          <a:off x="1144440" y="2706840"/>
          <a:ext cx="618336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Rectangle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440" y="2706840"/>
                    <a:ext cx="61833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457200" y="927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 Košijev, pa konvergira ka            . Ako u (4) pređemo na graničnu vrednost, zbog neprekidnosti preslikavan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bić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1640" y="2209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nepokretna tačka preslikavan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a time i rešenje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267984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3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9236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t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1640" y="5740560"/>
            <a:ext cx="78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     i       sl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30080" y="5803920"/>
                <a:ext cx="311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36520" y="5803920"/>
                <a:ext cx="4240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Rectangle 3"/>
              <p:cNvSpPr txBox="1"/>
              <p:nvPr/>
            </p:nvSpPr>
            <p:spPr>
              <a:xfrm>
                <a:off x="3828960" y="4127400"/>
                <a:ext cx="2301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Rectangle 3"/>
          <p:cNvGraphicFramePr/>
          <p:nvPr/>
        </p:nvGraphicFramePr>
        <p:xfrm>
          <a:off x="1333440" y="4751280"/>
          <a:ext cx="24300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4751280"/>
                    <a:ext cx="243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Rectangle 3"/>
          <p:cNvGraphicFramePr/>
          <p:nvPr/>
        </p:nvGraphicFramePr>
        <p:xfrm>
          <a:off x="1676520" y="4775040"/>
          <a:ext cx="26676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775040"/>
                    <a:ext cx="2667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" name="Rectangle 3"/>
              <p:cNvSpPr txBox="1"/>
              <p:nvPr/>
            </p:nvSpPr>
            <p:spPr>
              <a:xfrm>
                <a:off x="1225440" y="5194440"/>
                <a:ext cx="5684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768920" y="5207040"/>
                <a:ext cx="714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79720" y="5918040"/>
                <a:ext cx="1276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3233880" y="1531800"/>
          <a:ext cx="2614320" cy="6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3880" y="1531800"/>
                    <a:ext cx="26143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57200" y="914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pome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cena greške može se dobiti i preko poslednje iteracije              ( udžbenik, strana 1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960" y="31370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METODA NJUTN – KANTOROVI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632040"/>
            <a:ext cx="77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dat nelinearni sistem od dv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9800" y="4737240"/>
            <a:ext cx="8166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de su      i      neprekidno diferencijabilne funk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          tačno rešenje sistema (1), a        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ta aproksimacija rešenja, on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3T11:35:18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