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5.jpeg" ContentType="image/jpeg"/>
  <Override PartName="/ppt/media/image2.png" ContentType="image/png"/>
  <Override PartName="/ppt/media/image4.jpeg" ContentType="image/jpeg"/>
  <Override PartName="/ppt/media/image8.wmf" ContentType="image/x-wmf"/>
  <Override PartName="/ppt/media/image38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2E8-8AA8-475E-8BA0-7F7BF32C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40F-E567-4122-80AB-0645E4A3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818-83A4-4911-BC4B-F20EA378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225-30EA-406F-A80C-77B4F905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01BB-5626-4F9B-9F45-2D201CD6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6C86-DD6F-43AB-ABD3-794C9949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AEA6-F799-4A44-834D-356EDE6E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F789-A3A4-4B90-A53D-FF75F815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C835-4227-4033-A761-DF8F8C65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4659-6294-4A17-934D-0FDB2BF6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4192-D674-4CC5-BDBF-21212E56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8C8-3866-41E7-BA84-1A4EF716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64A2-DEBD-457D-BB94-DA20F023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9347-6538-4663-ADF2-19CC4C06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21BD-7787-454F-9617-585B21FF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CF8E-DDD1-433F-9F9E-42A93242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9060-18D2-48A2-9609-C053E6E7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73E8-2D60-45F1-9839-17F7A269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FB7F0-43EA-4767-81F2-58E6D99E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F9CA-73A5-43E2-83CF-577FB982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3EB9-9D65-41ED-8670-3D10D28C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2351-A359-46E3-89CA-9A12A59E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C49-A3EA-4C89-85EF-1885110A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545A-2436-43D3-8441-F2FEA1CD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F5B0-7C09-45C6-8DF3-EB4EA61D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7F00-73E0-44C9-8448-3B66538F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D57B6-2F43-433E-9A13-3EDB9532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FF9EA-80AE-4CBF-BEB2-D9F960FD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F436-0AC5-49E6-86ED-C2FE4546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158F1-8D89-4144-A6E8-37B22F63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5F9-341B-4706-A41D-A981BF6A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E78-D441-4DF1-B5C5-F42A7501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909-4EB4-4E36-A589-594DD565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407-4868-4ADB-A9D4-B7F9644B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0E1-D284-4A54-BC03-A913959C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697-C76A-4DD2-A35C-EADC664A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91A7-6EA0-4A07-AC52-9E8EA7A8E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C132-2CC3-4018-A1C2-F268C676D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9526-B981-43A7-915E-7A2CC0489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7.wmf"/><Relationship Id="rId2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wmf"/><Relationship Id="rId2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1066680"/>
            <a:ext cx="8167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je     fiksna tačka funkcije                              i neka je           neprekidna u otvorenom intervalu koji sadrži     . Ako je               , onda postoji           tako da niz definisan s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353960" y="1519200"/>
          <a:ext cx="25884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519200"/>
                    <a:ext cx="2588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701880" y="1523880"/>
                <a:ext cx="1752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1" name=""/>
          <p:cNvGraphicFramePr/>
          <p:nvPr/>
        </p:nvGraphicFramePr>
        <p:xfrm>
          <a:off x="6481800" y="1506600"/>
          <a:ext cx="560520" cy="3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81800" y="1506600"/>
                    <a:ext cx="5605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672000" y="1795320"/>
          <a:ext cx="258480" cy="36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2000" y="1795320"/>
                    <a:ext cx="2584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707000" y="1805040"/>
          <a:ext cx="94140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07000" y="1805040"/>
                    <a:ext cx="941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086600" y="1828800"/>
          <a:ext cx="547560" cy="29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828800"/>
                    <a:ext cx="5475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174760" y="2330280"/>
          <a:ext cx="4695840" cy="43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74760" y="2330280"/>
                    <a:ext cx="469584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469800" y="2759040"/>
            <a:ext cx="69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vergira nepokretnoj tački funkci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73040" y="3595680"/>
            <a:ext cx="8151840" cy="2809800"/>
            <a:chOff x="473040" y="3595680"/>
            <a:chExt cx="8151840" cy="2809800"/>
          </a:xfrm>
        </p:grpSpPr>
        <p:sp>
          <p:nvSpPr>
            <p:cNvPr id="263" name=""/>
            <p:cNvSpPr/>
            <p:nvPr/>
          </p:nvSpPr>
          <p:spPr>
            <a:xfrm>
              <a:off x="473040" y="3595680"/>
              <a:ext cx="71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okaz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9360" y="4052880"/>
              <a:ext cx="730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Neka                       . Tada postoji           tako da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1246320" y="4043160"/>
            <a:ext cx="1339560" cy="417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46320" y="4043160"/>
                      <a:ext cx="13395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"/>
            <p:cNvGraphicFramePr/>
            <p:nvPr/>
          </p:nvGraphicFramePr>
          <p:xfrm>
            <a:off x="4070160" y="4097160"/>
            <a:ext cx="601920" cy="276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0160" y="4097160"/>
                      <a:ext cx="601920" cy="2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"/>
            <p:cNvGraphicFramePr/>
            <p:nvPr/>
          </p:nvGraphicFramePr>
          <p:xfrm>
            <a:off x="2743200" y="4484520"/>
            <a:ext cx="3865680" cy="420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743200" y="4484520"/>
                      <a:ext cx="386568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71" name=""/>
            <p:cNvGrpSpPr/>
            <p:nvPr/>
          </p:nvGrpSpPr>
          <p:grpSpPr>
            <a:xfrm>
              <a:off x="534960" y="4922640"/>
              <a:ext cx="7970760" cy="401760"/>
              <a:chOff x="534960" y="4922640"/>
              <a:chExt cx="7970760" cy="401760"/>
            </a:xfrm>
          </p:grpSpPr>
          <p:sp>
            <p:nvSpPr>
              <p:cNvPr id="272" name=""/>
              <p:cNvSpPr/>
              <p:nvPr/>
            </p:nvSpPr>
            <p:spPr>
              <a:xfrm>
                <a:off x="534960" y="4922640"/>
                <a:ext cx="797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zbog neprekidnosti            na         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73" name=""/>
              <p:cNvGraphicFramePr/>
              <p:nvPr/>
            </p:nvGraphicFramePr>
            <p:xfrm>
              <a:off x="2608200" y="4951440"/>
              <a:ext cx="622440" cy="3729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608200" y="4951440"/>
                        <a:ext cx="622440" cy="37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5" name=""/>
              <p:cNvGraphicFramePr/>
              <p:nvPr/>
            </p:nvGraphicFramePr>
            <p:xfrm>
              <a:off x="3576600" y="4968720"/>
              <a:ext cx="536760" cy="3477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76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3576600" y="4968720"/>
                        <a:ext cx="536760" cy="34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77" name=""/>
            <p:cNvGrpSpPr/>
            <p:nvPr/>
          </p:nvGrpSpPr>
          <p:grpSpPr>
            <a:xfrm>
              <a:off x="531720" y="5424480"/>
              <a:ext cx="8093160" cy="423720"/>
              <a:chOff x="531720" y="5424480"/>
              <a:chExt cx="8093160" cy="423720"/>
            </a:xfrm>
          </p:grpSpPr>
          <p:sp>
            <p:nvSpPr>
              <p:cNvPr id="278" name=""/>
              <p:cNvSpPr/>
              <p:nvPr/>
            </p:nvSpPr>
            <p:spPr>
              <a:xfrm>
                <a:off x="531720" y="5424480"/>
                <a:ext cx="809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Funkcija g preslikava segment                        na samog sebe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79" name=""/>
              <p:cNvGraphicFramePr/>
              <p:nvPr/>
            </p:nvGraphicFramePr>
            <p:xfrm>
              <a:off x="3776760" y="5456160"/>
              <a:ext cx="1431720" cy="3920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280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3776760" y="5456160"/>
                        <a:ext cx="1431720" cy="392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160720" y="6014880"/>
                  <a:ext cx="54482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ξ</m:t>
                          </m:r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ξ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g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ξ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L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ξ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Lε</m:t>
                      </m:r>
                      <m:r>
                        <m:t xml:space="preserve">&lt;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"/>
          <p:cNvSpPr/>
          <p:nvPr/>
        </p:nvSpPr>
        <p:spPr>
          <a:xfrm>
            <a:off x="457200" y="914400"/>
            <a:ext cx="75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4 (dovoljan uslov lokalne konvergencij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270080" y="914400"/>
            <a:ext cx="66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JUTN –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FSONOVA METODA ( METODA TANGENT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727440" y="1427040"/>
                <a:ext cx="2044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996840" y="1967040"/>
                <a:ext cx="56721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003320" y="3432240"/>
                <a:ext cx="1612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011240" y="4132440"/>
                <a:ext cx="5678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660240" y="4905360"/>
            <a:ext cx="7683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orema ( o lokalnoj konvergenciji 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ka je            neprekidna funkcija i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nekom otvorenom intervalu koji sad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i     gde je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postoji           tako da niz definisan sa (1) konvergira ka      ako j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Rectangle 3"/>
              <p:cNvSpPr txBox="1"/>
              <p:nvPr/>
            </p:nvSpPr>
            <p:spPr>
              <a:xfrm>
                <a:off x="5581800" y="4932360"/>
                <a:ext cx="639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1" name="Rectangle 3"/>
          <p:cNvGraphicFramePr/>
          <p:nvPr/>
        </p:nvGraphicFramePr>
        <p:xfrm>
          <a:off x="7683480" y="5211720"/>
          <a:ext cx="105408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3480" y="5211720"/>
                    <a:ext cx="105408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670040" y="5235480"/>
                <a:ext cx="96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794640" y="5210280"/>
                <a:ext cx="215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57400" y="5616720"/>
                <a:ext cx="6224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7842240" y="5597640"/>
                <a:ext cx="10605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Rectangle 3"/>
              <p:cNvSpPr txBox="1"/>
              <p:nvPr/>
            </p:nvSpPr>
            <p:spPr>
              <a:xfrm>
                <a:off x="6896160" y="5581800"/>
                <a:ext cx="241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8788320" y="559116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jutn – Rafso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12952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16080" y="1531800"/>
                <a:ext cx="46720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033640" y="2395440"/>
                <a:ext cx="8953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68640" y="2370240"/>
                <a:ext cx="2970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916680" y="2446200"/>
                <a:ext cx="2142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245280" y="2409840"/>
                <a:ext cx="5079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7221600" y="2446200"/>
                <a:ext cx="8348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982880" y="2776680"/>
                <a:ext cx="351468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,</m:t>
                            </m:r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021200" y="3208320"/>
                <a:ext cx="9302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15880" y="237024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zirom da je               i       neprekidna funkcija, postoji         i    ,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takvo da je               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7720" y="3144960"/>
            <a:ext cx="50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osnovu Teore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sledi da je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37339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Geometrijska interpreta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Rectangle 3"/>
          <p:cNvGraphicFramePr/>
          <p:nvPr/>
        </p:nvGraphicFramePr>
        <p:xfrm>
          <a:off x="3352680" y="4114800"/>
          <a:ext cx="369576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114800"/>
                    <a:ext cx="369576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jutn – Rafso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57200" y="9144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( o izboru početne aproksimacije 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je                     dva puta neprekidno diferencijabilna i neka je                  . Ako su     i       stalnog znaka na         i        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203880" y="954000"/>
                <a:ext cx="1314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183200" y="1258920"/>
                <a:ext cx="1170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16760" y="1257480"/>
                <a:ext cx="3412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499080" y="123660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819000" y="1523880"/>
                <a:ext cx="514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467000" y="1511280"/>
                <a:ext cx="933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22" name=""/>
          <p:cNvGraphicFramePr/>
          <p:nvPr/>
        </p:nvGraphicFramePr>
        <p:xfrm>
          <a:off x="7086600" y="2286000"/>
          <a:ext cx="2970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286000"/>
                    <a:ext cx="2970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286080" y="2184480"/>
                <a:ext cx="31273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778200" y="2908440"/>
                <a:ext cx="8571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524400" y="3276720"/>
                <a:ext cx="49719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009800" y="3733920"/>
                <a:ext cx="5029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516040" y="2909880"/>
                <a:ext cx="203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15960" y="4159080"/>
                <a:ext cx="1270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30520" y="4191120"/>
                <a:ext cx="2383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27120" y="4578480"/>
                <a:ext cx="230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260440" y="4546440"/>
                <a:ext cx="7383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3360" y="4908600"/>
                <a:ext cx="6387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25720" y="5587920"/>
                <a:ext cx="893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067200" y="5403960"/>
                <a:ext cx="1906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633840" y="6051600"/>
                <a:ext cx="2289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457200" y="2057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nda n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7960" y="2857680"/>
            <a:ext cx="59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vergira rešenju     jednačine            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6120" y="3251160"/>
            <a:ext cx="81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stavimo da je                                                      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720" y="3746520"/>
            <a:ext cx="40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z         je ograničen odozdo sa   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Rectangle 3"/>
              <p:cNvSpPr txBox="1"/>
              <p:nvPr/>
            </p:nvSpPr>
            <p:spPr>
              <a:xfrm>
                <a:off x="3911760" y="3757680"/>
                <a:ext cx="2584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1790640" y="4152960"/>
            <a:ext cx="47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r je                i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notono rastu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Rectangle 3"/>
              <p:cNvSpPr txBox="1"/>
              <p:nvPr/>
            </p:nvSpPr>
            <p:spPr>
              <a:xfrm>
                <a:off x="2459160" y="4183200"/>
                <a:ext cx="963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774720" y="4559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tpostavka:              (za neko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55245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zirom da je               i                                sledi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jutn – Rafso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046400" y="4975200"/>
                <a:ext cx="2415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992160" y="2262240"/>
                <a:ext cx="441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49" name=""/>
          <p:cNvGraphicFramePr/>
          <p:nvPr/>
        </p:nvGraphicFramePr>
        <p:xfrm>
          <a:off x="3746520" y="2678040"/>
          <a:ext cx="17715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6520" y="2678040"/>
                    <a:ext cx="1771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676520" y="3352680"/>
                <a:ext cx="1314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≥</m:t>
                    </m:r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195880" y="3843360"/>
                <a:ext cx="7700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627360" y="4275000"/>
                <a:ext cx="13273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538280" y="4979880"/>
                <a:ext cx="1889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Rectangle 3"/>
              <p:cNvSpPr txBox="1"/>
              <p:nvPr/>
            </p:nvSpPr>
            <p:spPr>
              <a:xfrm>
                <a:off x="3048120" y="914400"/>
                <a:ext cx="2073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2209680" y="1600200"/>
            <a:ext cx="62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Kraj dela dokaza mat. indukcij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1440" y="224964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z        je monotono opadajuć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276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 postoji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3809880"/>
            <a:ext cx="76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(1) pređemo na graničnu vrednost kad             , dobij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8480" y="4941720"/>
            <a:ext cx="80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nosno                               jer je      jedinstven koren jednačine na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jutn – Rafso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91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nos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3520" y="914400"/>
            <a:ext cx="81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( o oceni greške 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je                      dva puta neprekidno diferencijabilna funkcija, onda j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Rectangle 3"/>
              <p:cNvSpPr txBox="1"/>
              <p:nvPr/>
            </p:nvSpPr>
            <p:spPr>
              <a:xfrm>
                <a:off x="4311720" y="954000"/>
                <a:ext cx="1369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Rectangle 3"/>
              <p:cNvSpPr txBox="1"/>
              <p:nvPr/>
            </p:nvSpPr>
            <p:spPr>
              <a:xfrm>
                <a:off x="3503520" y="1500120"/>
                <a:ext cx="21225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66" name="Rectangle 3"/>
          <p:cNvGraphicFramePr/>
          <p:nvPr/>
        </p:nvGraphicFramePr>
        <p:xfrm>
          <a:off x="546120" y="3013200"/>
          <a:ext cx="80643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3013200"/>
                    <a:ext cx="80643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8" name="Rectangle 3"/>
              <p:cNvSpPr txBox="1"/>
              <p:nvPr/>
            </p:nvSpPr>
            <p:spPr>
              <a:xfrm>
                <a:off x="609480" y="4724280"/>
                <a:ext cx="48736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≤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520560" y="247644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jutn – Rafso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56386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vergencija metode je kvadrat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522360" y="1413000"/>
          <a:ext cx="4887720" cy="37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1413000"/>
                    <a:ext cx="48877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145120" y="4610160"/>
                <a:ext cx="1820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5162400" y="5372280"/>
          <a:ext cx="382140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2400" y="5372280"/>
                    <a:ext cx="38214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1143000" y="1028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OMBINOVANA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jutn – Rafso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4"/>
          <p:cNvSpPr/>
          <p:nvPr/>
        </p:nvSpPr>
        <p:spPr>
          <a:xfrm>
            <a:off x="762120" y="160020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Шаудерову теорему о егзистенцији фиксне тач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јединствености фиксне тач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м поступком се решавање једначин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ди на одређивање фиксне тач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јаснити идеју методе итер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довољном услову конвергенције методе итер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јаснити идеју Њутн – Рафсонове мет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локалној конвергенцији Њутн – Рафсонове мет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главне елементе доказа теореме о избору почетне апроксим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оцену грешке Њутн – Рафсонове мет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 две методе користи комбинована метода. Ка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ети наслов тематске јединице која се обрађу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990720"/>
          <a:ext cx="8381880" cy="5811840"/>
        </p:xfrm>
        <a:graphic>
          <a:graphicData uri="http://schemas.openxmlformats.org/drawingml/2006/table">
            <a:tbl>
              <a:tblPr/>
              <a:tblGrid>
                <a:gridCol w="1085760"/>
                <a:gridCol w="1154160"/>
                <a:gridCol w="3322800"/>
                <a:gridCol w="28191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е методе за решавање не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методама за решавање не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ме о фиксној та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теоремом о фиксној тачки и способан да је прим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ите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теореме о фиксној тачки на методу итерације, као и да методу итерације примени на решавање нелинеарних једначи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Њутн – Рафсон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ће бити упознат са Њутн – Рафсоновом методом и способан за њену примену на конкретаном пробле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ети наслов тематске јединице која се обрађу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33796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ме о фиксној та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теоремом о фиксној тачки и способан да је прим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ите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теореме о фиксној тачки на методу итерације, као и да методу итерације примени на решавање нелинеарних једначи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Њутн – Рафсон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ће бити упознат са Њутн – Рафсоновом методом и способан за њену примену на конкретаном пробле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52578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8880" y="1452600"/>
            <a:ext cx="82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efinicija 1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                           . Kažemo da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fiksna ili nepokretna tačka preslikavan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489040" y="1436760"/>
          <a:ext cx="175284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436760"/>
                    <a:ext cx="1752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668600" y="2546280"/>
            <a:ext cx="6108480" cy="4086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93800" y="4587840"/>
            <a:ext cx="1349640" cy="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943080" y="4602240"/>
            <a:ext cx="14040" cy="1262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938240" y="1790640"/>
                <a:ext cx="25416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24160" y="2035080"/>
                <a:ext cx="1181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oreme o fiksnoj ta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914400"/>
            <a:ext cx="82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1 (Šauderova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je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neka j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prekidno preslikava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Tad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ma bar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u nepokretnu tač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962520" y="896760"/>
          <a:ext cx="1752480" cy="3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896760"/>
                    <a:ext cx="1752480" cy="3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09680" y="1712880"/>
            <a:ext cx="62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449520" y="2076480"/>
                <a:ext cx="16002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68360" y="2771640"/>
            <a:ext cx="82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               ili                   onda je    , odnosno      nepokretna tačk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39840" y="2798640"/>
          <a:ext cx="91296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9840" y="2798640"/>
                    <a:ext cx="9129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397240" y="2782800"/>
          <a:ext cx="97128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97240" y="2782800"/>
                    <a:ext cx="971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356000" y="2868480"/>
          <a:ext cx="216000" cy="24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56000" y="2868480"/>
                    <a:ext cx="2160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627520" y="2797200"/>
          <a:ext cx="216000" cy="31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27520" y="2797200"/>
                    <a:ext cx="2160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2520" y="31640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protivnom je               i              , 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039760" y="3191040"/>
          <a:ext cx="881280" cy="34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39760" y="3191040"/>
                    <a:ext cx="88128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030480" y="3227400"/>
          <a:ext cx="857160" cy="347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30480" y="3227400"/>
                    <a:ext cx="8571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355920" y="3754440"/>
          <a:ext cx="2068560" cy="67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55920" y="3754440"/>
                    <a:ext cx="20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41440" y="45576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zirom da je     neprekidna funkcija, postoji                 takvo da je                 tj.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70000" y="4616280"/>
          <a:ext cx="268560" cy="268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70000" y="4616280"/>
                    <a:ext cx="26856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143680" y="4583160"/>
                <a:ext cx="9745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5" name=""/>
          <p:cNvGraphicFramePr/>
          <p:nvPr/>
        </p:nvGraphicFramePr>
        <p:xfrm>
          <a:off x="7350120" y="4572000"/>
          <a:ext cx="941400" cy="36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350120" y="4572000"/>
                    <a:ext cx="941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838080" y="4892760"/>
          <a:ext cx="925560" cy="355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38080" y="4892760"/>
                    <a:ext cx="925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oreme o fiksnoj ta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914400"/>
            <a:ext cx="8345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2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je                             diferencijabilna funkcija za koju posto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ko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629080" y="91296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2" name=""/>
          <p:cNvGraphicFramePr/>
          <p:nvPr/>
        </p:nvGraphicFramePr>
        <p:xfrm>
          <a:off x="2678040" y="1738440"/>
          <a:ext cx="354960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8040" y="1738440"/>
                    <a:ext cx="35496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55480" y="1349280"/>
          <a:ext cx="124776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480" y="1349280"/>
                    <a:ext cx="12477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25520" y="2649600"/>
            <a:ext cx="77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040" y="2208240"/>
            <a:ext cx="78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ma tačno jednu nepokretnu tač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9040" y="3046320"/>
            <a:ext cx="81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neprekidna (jer je diferencijabilna) pa ima bar jednu nepokretnu tačku. Dokažimo da funkcija ne može imati dve nepokretne tačke. Ako pretpostavimo d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ma dve nepokretne tačke,     i     , bilo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199120" y="3608280"/>
          <a:ext cx="312840" cy="38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99120" y="3608280"/>
                    <a:ext cx="3128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616720" y="3610080"/>
          <a:ext cx="3362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16720" y="3610080"/>
                    <a:ext cx="3362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009800" y="4035600"/>
          <a:ext cx="7126200" cy="48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9800" y="4035600"/>
                    <a:ext cx="71262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362320" y="4800600"/>
            <a:ext cx="43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ETODA IT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51814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79800" y="5362560"/>
          <a:ext cx="100980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79800" y="5362560"/>
                    <a:ext cx="10098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03200" y="5759280"/>
            <a:ext cx="71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e na           zamenjuje ekvivalent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978360" y="6149880"/>
          <a:ext cx="1011240" cy="37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78360" y="6149880"/>
                    <a:ext cx="10112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125360" y="5791320"/>
          <a:ext cx="55260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25360" y="5791320"/>
                    <a:ext cx="5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oreme o fiksnoj tački; 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495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Kontradikcija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9144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eneriše se niz 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141640" y="965160"/>
          <a:ext cx="46980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965160"/>
                    <a:ext cx="4698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612880" y="1398600"/>
          <a:ext cx="384660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2880" y="1398600"/>
                    <a:ext cx="3846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1504800" y="2027160"/>
            <a:ext cx="6350040" cy="4545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191120" y="3581280"/>
            <a:ext cx="0" cy="217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194000" y="5548320"/>
          <a:ext cx="18288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94000" y="5548320"/>
                    <a:ext cx="18288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4159080" y="5730840"/>
            <a:ext cx="57240" cy="61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925560"/>
            <a:ext cx="83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3 (dovoljni uslovi konvergencije metode iteracij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960" y="13669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diferencijabilna funkcija                             zadovoljava usl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05320" y="141120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417760" y="1781280"/>
                <a:ext cx="4290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L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442800" y="229716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niz           konvergira ka fiksnoj tački     funkci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za svaki prirodan broj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važi ocena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292560" y="3002040"/>
          <a:ext cx="256356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2560" y="3002040"/>
                    <a:ext cx="25635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488960" y="2352600"/>
          <a:ext cx="50652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88960" y="2352600"/>
                    <a:ext cx="5065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737240" y="2336760"/>
          <a:ext cx="25848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7240" y="2336760"/>
                    <a:ext cx="2584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71600" y="3851280"/>
            <a:ext cx="70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Važ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893960" y="4232160"/>
          <a:ext cx="5761080" cy="84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93960" y="4232160"/>
                    <a:ext cx="57610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57200" y="51307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sl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oraka dobij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781360" y="5495760"/>
          <a:ext cx="3744720" cy="4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81360" y="5495760"/>
                    <a:ext cx="374472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441360" y="5938920"/>
            <a:ext cx="69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038480" y="6319800"/>
                <a:ext cx="1295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90000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001960" y="1128600"/>
          <a:ext cx="491652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960" y="1128600"/>
                    <a:ext cx="4916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471600" y="170640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l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86080" y="1803240"/>
          <a:ext cx="212904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1803240"/>
                    <a:ext cx="21290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488880" y="2468520"/>
            <a:ext cx="25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281400" y="2666880"/>
          <a:ext cx="214308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1400" y="2666880"/>
                    <a:ext cx="21430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88880" y="3414600"/>
            <a:ext cx="772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Napomena: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cena greške može se dobiti iz poslednje dve iteracije.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290600" y="4354560"/>
                <a:ext cx="67737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71600" y="53499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l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882880" y="5473800"/>
          <a:ext cx="2760840" cy="6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2880" y="5473800"/>
                    <a:ext cx="2760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26960" y="6203880"/>
            <a:ext cx="43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o za                  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882800" y="6276960"/>
          <a:ext cx="109692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82800" y="6276960"/>
                    <a:ext cx="1096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448080" y="6419880"/>
          <a:ext cx="1979640" cy="4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48080" y="6419880"/>
                    <a:ext cx="19796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e</cp:lastModifiedBy>
  <dcterms:modified xsi:type="dcterms:W3CDTF">2010-04-16T20:24:4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