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3F2-55FF-43EA-83CE-E3B7229E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FF9-E480-4678-8F94-E19F0DFD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C39-1C09-49A0-A878-4906098E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041-FF80-496B-A116-1148AAF5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FD0-89E2-4179-8092-A268B5DE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811F-71C3-438F-A59A-E14929D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46E-2896-4BBB-BAEC-B111ED9F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9086-5287-49AC-8167-2E43298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D165-C0E2-49CC-93B0-3F68C3BC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721-0FCA-4598-A612-85BCB1B8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585-F320-4053-A62D-6762CDF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372-73C0-4F18-9999-21EE60B6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C8B3-EFA8-4B82-BAE8-DCD7EB8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0C94-6FF5-483D-8E62-D9171C1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11F1-E801-44F8-A451-7CA0635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AD39-C4EC-4EFB-BFDB-41E347EF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4961-D2CF-4083-A7D5-11EFD13E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A4D6-070D-4A09-8EA1-516F8F0B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6A9F-94F2-4018-9902-2CAC9CB0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6AA2-2174-40DC-9282-C7283C9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A35F-2136-4189-9D6B-333B7357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9632-493F-491F-9925-4E9A59B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794-C067-466B-93D8-7710E35C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4BE1-3758-4989-8B58-A33E74B4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20F1-432C-4584-B191-A063FC6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7303-68A2-432B-8EB1-EA517A2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BC13-4BB9-4C78-9F33-F2C9D609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BFCC-7453-473E-A19E-D731F18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4C08-86A9-423E-AC5D-D67DABDE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E5D6-3438-4117-BA9E-EA3BC560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CE5-B5CC-4F35-9B1C-5B9CA29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2FF-C4D9-406B-B6AA-63483B5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18B-DCBB-4231-B61A-7343C263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1A7-E9DA-4117-84FD-2A796EB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491-AC71-47CD-B4FA-544D5E2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A17-0845-43D8-9ACD-01F295C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EB81-0880-4609-B0F3-67CFC3E30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D253-04F6-4E46-BE9F-D99ED08E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B7BF-67E0-40FF-BD7F-37B36CCD8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ачне разлике. Њутнов интерполациони полином са конач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коначним разликама и да изрази везу између подељених и коначних разлика, као и да решава конкретне пробле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зн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облемом инверзне интерполације и њеним применама и биће способан да самостално решава ову класу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8321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ачне разлике. Њутнов интерполациони полином са конач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коначним разликама и да изрази везу између подељених и коначних разлика, као и да решава конкретне пробле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зн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облемом инверзне интерполације и њеним применама и биће способан да самостално решава ову класу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8769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2131920" y="1541520"/>
                <a:ext cx="1028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344760" y="1535040"/>
                <a:ext cx="662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3205080" y="1938240"/>
                <a:ext cx="26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2673360" y="3273480"/>
                <a:ext cx="3794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63600" y="3787920"/>
                <a:ext cx="2152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57480" y="4270320"/>
                <a:ext cx="299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8600" y="990720"/>
            <a:ext cx="8686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ČNE RAZ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501920"/>
            <a:ext cx="662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                 i           ,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2760" y="2352600"/>
            <a:ext cx="836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čna razlika prvog reda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960" y="2898720"/>
            <a:ext cx="815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čne razlike višeg r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960" y="3774960"/>
            <a:ext cx="4762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je                                   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Rectangle 3"/>
              <p:cNvSpPr txBox="1"/>
              <p:nvPr/>
            </p:nvSpPr>
            <p:spPr>
              <a:xfrm>
                <a:off x="324000" y="3035160"/>
                <a:ext cx="4644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324000" y="4425840"/>
          <a:ext cx="81835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5840"/>
                    <a:ext cx="81835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16000" y="2793960"/>
            <a:ext cx="7429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4160" y="3587760"/>
            <a:ext cx="6667200" cy="711000"/>
            <a:chOff x="254160" y="3587760"/>
            <a:chExt cx="6667200" cy="71100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368440" y="3587760"/>
                  <a:ext cx="29509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</m:sub>
                      </m:sSub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Δ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m</m:t>
                          </m:r>
                          <m:r>
                            <m:t xml:space="preserve">!</m:t>
                          </m:r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54160" y="3809880"/>
              <a:ext cx="66672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etpostavimo da je                                                za neko 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m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&lt;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8600" y="4267080"/>
            <a:ext cx="7251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066680"/>
            <a:ext cx="814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za između podeljenih i konačnih razl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3320" y="1436760"/>
          <a:ext cx="52070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1436760"/>
                    <a:ext cx="5207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28600" y="1447920"/>
            <a:ext cx="8128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L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                                                            . Tada je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64960" y="1792440"/>
                <a:ext cx="12891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2057400"/>
                <a:ext cx="283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752480"/>
            <a:ext cx="830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OV INTERPOLACIONI POLINOM ZA 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47880" y="2514600"/>
          <a:ext cx="58039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14600"/>
                    <a:ext cx="58039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59080" y="4411800"/>
                <a:ext cx="2030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33520" y="4495680"/>
            <a:ext cx="219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449280" y="2468520"/>
                <a:ext cx="7677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Rectangle 3"/>
          <p:cNvGraphicFramePr/>
          <p:nvPr/>
        </p:nvGraphicFramePr>
        <p:xfrm>
          <a:off x="533520" y="990720"/>
          <a:ext cx="832788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3278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3200" y="2055960"/>
            <a:ext cx="34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ma tom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351240"/>
            <a:ext cx="8458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6 INVERZNA INTERPO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7680" y="3973680"/>
            <a:ext cx="7937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Zadatak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ešavanje p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dnačin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(x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                      data tabelar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43560" y="3986280"/>
                <a:ext cx="1409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3417840" y="4440240"/>
            <a:ext cx="2636640" cy="576360"/>
            <a:chOff x="3417840" y="4440240"/>
            <a:chExt cx="2636640" cy="576360"/>
          </a:xfrm>
        </p:grpSpPr>
        <p:sp>
          <p:nvSpPr>
            <p:cNvPr id="172" name=""/>
            <p:cNvSpPr/>
            <p:nvPr/>
          </p:nvSpPr>
          <p:spPr>
            <a:xfrm>
              <a:off x="3606480" y="470052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Rectangle 3"/>
                <p:cNvSpPr txBox="1"/>
                <p:nvPr/>
              </p:nvSpPr>
              <p:spPr>
                <a:xfrm>
                  <a:off x="3606480" y="4440240"/>
                  <a:ext cx="222084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3989160" y="444204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" name="Rectangle 3"/>
            <p:cNvGraphicFramePr/>
            <p:nvPr/>
          </p:nvGraphicFramePr>
          <p:xfrm>
            <a:off x="3417840" y="4699080"/>
            <a:ext cx="2306520" cy="31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7840" y="4699080"/>
                      <a:ext cx="23065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555480" y="5319720"/>
            <a:ext cx="7874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je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onoto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toji              i može se aproksimirati npr. Lagranžovim interpolacionim polinom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71960" y="535788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27280" y="5859360"/>
                <a:ext cx="18036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verzna interpo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09960" y="2336760"/>
                <a:ext cx="1131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40160" y="3276720"/>
                <a:ext cx="34668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685800" y="4157640"/>
          <a:ext cx="58276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57640"/>
                    <a:ext cx="58276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Rectangle 3"/>
              <p:cNvSpPr txBox="1"/>
              <p:nvPr/>
            </p:nvSpPr>
            <p:spPr>
              <a:xfrm>
                <a:off x="685800" y="1295280"/>
                <a:ext cx="7986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7200" y="914400"/>
            <a:ext cx="551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kođ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9800" y="1930320"/>
            <a:ext cx="248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ije monoto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7840" y="2349360"/>
            <a:ext cx="355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alg. jedn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- tog step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2946240"/>
            <a:ext cx="5956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Čvorovi ekvidistant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verzna interpo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762120" y="1600200"/>
            <a:ext cx="800100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коначне разлике првог, другог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тог реда у чвор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лему о вези између подељених и коначних раз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Њутно интерполациони полином за еквидистантне ч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задатак инверзне интерпол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решава проблем инверзне интерполације ако је функција монот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49:5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