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666-BF10-4BCB-B40F-226CA280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1C3-20FD-4966-8E2F-CD419F6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E05-6621-46A6-BF80-EC6FA27F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400-2203-4A99-ACD0-5EDDD7B9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F4D-CA0F-4102-97C2-DA08F479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1ADD-4B2B-4A13-954F-E8A4985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5B2-8CE9-46FC-909C-A950BA46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7878-ED7D-4908-8824-B5516EA7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9977-755C-45E5-8273-0ED1791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94B-B840-4475-9D63-9DB544D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E18-AFF1-42DB-AD64-67D0D2C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D6E-B493-480D-A44F-D1528C7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0B69-5E8F-4BEC-8630-63F9DD2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888-D998-45AF-975D-3A88456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1FB-3950-4957-84E8-0873F64C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1C4F-B6E3-48E1-9E1B-0D2B33BF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5FC-829B-4FC2-8D79-1814CACC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C894-12CC-4FF2-AD62-16B769CB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C1D9-BDE8-4837-8582-0D74A905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C8CD2-1476-4113-831D-57E6E683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1B4E-4A1E-4C43-A69B-1DAB51EA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EA82-6743-4072-AF98-3BD2FE5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21E-AB20-454D-8391-27BD47FB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C37B-4680-4DDE-BE37-AAF385D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ACE4-FA02-43F9-AB8A-A9209C2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61A1-F649-427A-ACD4-E4C941D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16DA8-C5E7-43F3-8393-485B76D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D0AE-B3A7-4667-BA5B-963E54F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C2C3-3E3B-4F9F-B133-194B9F5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CE64-ED0F-400F-9F74-9B1D1823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2EC-60BB-4BC7-A165-9355E934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E56-0006-4BAF-A3F5-56CD01D4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34B-4E63-44ED-A938-CEBD2EC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48A-2E24-4349-849E-B976FD9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D0C-C283-4511-8A46-5090546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5FA-D06B-4731-B12A-9B8DF198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359-D815-4177-B661-D3F8BEFC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CCF4-29EA-4159-B79E-83A80613A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6580-A6B4-47E0-9EF5-9D09DD9C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Rectangle 3"/>
              <p:cNvSpPr txBox="1"/>
              <p:nvPr/>
            </p:nvSpPr>
            <p:spPr>
              <a:xfrm>
                <a:off x="2089080" y="905040"/>
                <a:ext cx="2412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Rectangle 3"/>
              <p:cNvSpPr txBox="1"/>
              <p:nvPr/>
            </p:nvSpPr>
            <p:spPr>
              <a:xfrm>
                <a:off x="5465880" y="189864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Rectangle 3"/>
              <p:cNvSpPr txBox="1"/>
              <p:nvPr/>
            </p:nvSpPr>
            <p:spPr>
              <a:xfrm>
                <a:off x="2970360" y="1289160"/>
                <a:ext cx="3563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Rectangle 3"/>
              <p:cNvSpPr txBox="1"/>
              <p:nvPr/>
            </p:nvSpPr>
            <p:spPr>
              <a:xfrm>
                <a:off x="4457880" y="1636560"/>
                <a:ext cx="7920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03680" y="1873080"/>
                <a:ext cx="1234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562720" y="990720"/>
                <a:ext cx="482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9880" y="2660760"/>
                <a:ext cx="4921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9640" y="2952720"/>
                <a:ext cx="547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61960" y="3676680"/>
                <a:ext cx="806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1295280" y="4191120"/>
          <a:ext cx="86688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8668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876920" y="4114800"/>
          <a:ext cx="35352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114800"/>
                    <a:ext cx="35352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25800" y="4778280"/>
          <a:ext cx="153684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5800" y="4778280"/>
                    <a:ext cx="15368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95280" y="5486400"/>
          <a:ext cx="8906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486400"/>
                    <a:ext cx="89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125880" y="5904000"/>
          <a:ext cx="342432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5880" y="5904000"/>
                    <a:ext cx="3424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80880" y="914400"/>
            <a:ext cx="8305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proizvoljan, ali fiksiran element          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5680" y="1600200"/>
            <a:ext cx="81658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de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nstanta određena tako da je             . Za tako izabranu konstant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m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 nule                     na segmentu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3080" y="2247840"/>
            <a:ext cx="77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lova teorema nam d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260352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ima bar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nulu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22800" y="2662200"/>
                <a:ext cx="444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760" y="290988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ima bar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 nule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37200" y="295596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656240" y="3705120"/>
                <a:ext cx="4442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rot="5400000">
            <a:off x="328680" y="3340080"/>
            <a:ext cx="41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200" y="366084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    ima bar jednu nulu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" y="4140360"/>
            <a:ext cx="801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toji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kvo da je                      tj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76720" y="4114800"/>
          <a:ext cx="130176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114800"/>
                    <a:ext cx="13017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30120" y="4584600"/>
            <a:ext cx="364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akl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5680" y="5435640"/>
            <a:ext cx="680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neko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Iz prethodnog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cena greške polinomske interpo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762120" y="1600200"/>
            <a:ext cx="77724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подељене разлике првог, другог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тог реда у чвор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зит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 вредности функције у чворов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Њутнов интерполациони полином за нееквидистантне чворо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главне извођења формуле за Њутнов интерполациони полином за нееквидистантне ч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љене разлике. Њутнов интерполациони полином са подеље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подељеним разликама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а грешке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оцени грешке полиномске интерполације и биће способан да теорему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9494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љене разлике. Њутнов интерполациони полином са подеље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подељеним разликама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а грешке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оцени грешке полиномске интерполације и биће способан да теорему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800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6765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olova teorema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funkcija f(x)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bilna na interval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ako je f(a) = f(b), onda postoji tačka                     takva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Rectangle 3"/>
          <p:cNvGraphicFramePr/>
          <p:nvPr/>
        </p:nvGraphicFramePr>
        <p:xfrm>
          <a:off x="7543800" y="1981080"/>
          <a:ext cx="100980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981080"/>
                    <a:ext cx="10098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Rectangle 3"/>
          <p:cNvGraphicFramePr/>
          <p:nvPr/>
        </p:nvGraphicFramePr>
        <p:xfrm>
          <a:off x="1523880" y="2297160"/>
          <a:ext cx="106992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297160"/>
                    <a:ext cx="10699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sledica Rolove teorem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među svake dve susedne nule diferencijabilne funkcije postoji bar jedna nula izvoda te funk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914400"/>
            <a:ext cx="8686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OV INTERPOLACIONI POLINOM ZA NE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720" y="1397160"/>
            <a:ext cx="2247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eljene raz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82880" y="1755720"/>
                <a:ext cx="41925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444920" y="1854360"/>
            <a:ext cx="2692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( prvog reda u čvoru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703920" y="18432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186600" y="2757600"/>
            <a:ext cx="262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( k-tog reda u čvoru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393040" y="2735280"/>
                <a:ext cx="254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47640" y="3225960"/>
            <a:ext cx="814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 veza podeljenih razlika i vrednosti funkcije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86040" y="3565440"/>
                <a:ext cx="4979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9160" y="4140360"/>
            <a:ext cx="125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p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862280" y="4518000"/>
                <a:ext cx="56530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774720" y="6045120"/>
            <a:ext cx="6540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Dokaz leme možete pogledati u udžbeniku na strani 12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2800" y="3179880"/>
                <a:ext cx="5925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1392120" y="4978440"/>
          <a:ext cx="64137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4978440"/>
                    <a:ext cx="64137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85800" y="2590920"/>
            <a:ext cx="4025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k Njutnovog polino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586320" y="4021200"/>
                <a:ext cx="1263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91520" y="4038480"/>
                <a:ext cx="4824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38080" y="4267080"/>
                <a:ext cx="970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43400" y="4267080"/>
                <a:ext cx="4953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0" name=""/>
          <p:cNvGraphicFramePr/>
          <p:nvPr/>
        </p:nvGraphicFramePr>
        <p:xfrm>
          <a:off x="5791320" y="4267080"/>
          <a:ext cx="53316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267080"/>
                    <a:ext cx="5331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62520" y="4495680"/>
          <a:ext cx="13413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495680"/>
                    <a:ext cx="1341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95360" y="3987720"/>
            <a:ext cx="84200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1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funkcija                     definisana na segmentu          i neka su                različite tačke segmenta        . Polinom         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jim s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ira u čvorovima                       j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990720"/>
            <a:ext cx="43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sobine podeljenih razli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39960" y="1276200"/>
          <a:ext cx="5999040" cy="4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9960" y="1276200"/>
                    <a:ext cx="59990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22440" y="1917720"/>
            <a:ext cx="788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Podeljena razlika je simetrična funkcija čvorova, što znači da redosled čvorova nije bi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990720"/>
            <a:ext cx="8217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azmotrimo grešku interpolacije Lagranžovim interpolacionim polinomom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razmotrimo razl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Rectangle 3"/>
              <p:cNvSpPr txBox="1"/>
              <p:nvPr/>
            </p:nvSpPr>
            <p:spPr>
              <a:xfrm>
                <a:off x="465120" y="1555920"/>
                <a:ext cx="792324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k</m:t>
                                </m:r>
                              </m:sup>
                              <m:e/>
                            </m:nary>
                          </m:e>
                          <m:lim>
                            <m:r>
                              <m:t xml:space="preserve">k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  <m:e/>
                      <m:e>
                        <m:r>
                          <m:t xml:space="preserve">k</m:t>
                        </m:r>
                      </m:e>
                      <m:e/>
                      <m:e/>
                      <m:e/>
                    </m:d>
                    <m:r>
                      <m:t xml:space="preserve">=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1241280" y="346860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95960" y="3422520"/>
                <a:ext cx="1186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1143000" y="3733920"/>
          <a:ext cx="36417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36417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3800" y="4521240"/>
                <a:ext cx="2685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54560" y="4930920"/>
                <a:ext cx="903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1640" y="5316480"/>
                <a:ext cx="1943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092400" y="5824440"/>
                <a:ext cx="3568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93840" y="3467160"/>
            <a:ext cx="8242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lika                       je polinom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čije su nule čvorovi                    jer je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8280" y="4203720"/>
            <a:ext cx="8077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bog tog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20040" y="3048120"/>
            <a:ext cx="48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08880" y="4459320"/>
            <a:ext cx="48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440" y="4952880"/>
            <a:ext cx="84200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poslednju jednakost napišemo za               i uzmemo u obzir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će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8280" y="6307200"/>
            <a:ext cx="8064360" cy="391680"/>
            <a:chOff x="368280" y="6307200"/>
            <a:chExt cx="8064360" cy="39168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3892680" y="6307200"/>
                  <a:ext cx="8190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368280" y="6350040"/>
              <a:ext cx="8064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oredeći ovu jednakost sa (1), za              , dobijam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25960" y="1108080"/>
                <a:ext cx="26398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73360" y="2646360"/>
                <a:ext cx="398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22400" y="4076640"/>
                <a:ext cx="5621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19160" y="5389560"/>
                <a:ext cx="5639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8394840" y="266760"/>
            <a:ext cx="49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360" y="1981080"/>
            <a:ext cx="7950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(2) i (3)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2760" y="3289320"/>
            <a:ext cx="330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jednak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960" y="4711680"/>
            <a:ext cx="154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edi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58720" y="1346040"/>
            <a:ext cx="8331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4 OCENA GREŠKE POLINOMSKE INTERPOLACI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1955880"/>
            <a:ext cx="5182560" cy="360360"/>
            <a:chOff x="762120" y="1955880"/>
            <a:chExt cx="5182560" cy="36036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49280" y="1960560"/>
                  <a:ext cx="3695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]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762120" y="1955880"/>
              <a:ext cx="1472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299280" y="1955880"/>
            <a:ext cx="647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680" y="2527200"/>
            <a:ext cx="83055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2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sad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ži svih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čvorova interpolacije             . Neka je, dalje,                   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za proizvoljno              postoji                takvo da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41680" y="2549520"/>
                <a:ext cx="4748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842240" y="2523960"/>
                <a:ext cx="8254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17600" y="2803680"/>
                <a:ext cx="1150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638680" y="2819520"/>
                <a:ext cx="814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162920" y="2819520"/>
                <a:ext cx="981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641680" y="4365720"/>
                <a:ext cx="3051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cena greške polinomske interpo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46:4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