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1EE-1BA2-4EAF-9851-7CDD4B3E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AF9-2FDD-4CDA-A458-589730F9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451-28BA-49D5-ABCE-0131AADD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A55-498B-4E34-B0DD-C8A11BBF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F5D0-FC82-4FEC-8543-3521F2FD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3F5A-C10C-4175-AA32-E6AFA778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75AF-D120-4A70-9690-F2863989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7F64-6934-40B3-9DF0-18774792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CA33-0741-469A-92E4-0DA7F2EA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BD84-1617-4F0C-8E51-1C377D03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D230-4FA9-4E81-92B2-5CE4B2E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CF9-C76A-42F8-A0E9-82D5127D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9CCA-8EA8-4309-B70E-3EC63D56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E86A-BFA5-4406-BDF5-323E9A23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E225-6133-4EF6-883C-62BC1CFF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7A07-E586-41A9-8F4A-29C96417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78A4-C4E7-439E-8DDB-039F3FAB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B9D7-1A0F-4C56-9D76-0CEA31D2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A2B1-33D6-4A29-A325-7D4D6E53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DAE6-FCC7-4337-83AF-638893DA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7250-BD62-4421-A4A7-68A9078C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7C8E-C250-4768-9B83-C9142380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0DB-E212-45AF-BB01-B76188E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A468-964C-4A67-961D-A0572494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B53CB-5DED-41FE-8F0A-81E936B7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6DA9-6386-4475-95BF-0DDD205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D29A-8E2C-44AC-987E-BADDF00F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11C9-94E5-478A-B8D6-CFE3F588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E122-7DC4-46F7-A5A1-C8F08DFB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BF42-6C36-4A68-8B25-6616A36C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0AA-E3B1-47BC-84D8-51F80FC5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4CE-9A4B-44C5-B9AB-33B7A806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772-56FC-4CC3-AD8E-0A73CF0C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379-4340-4BC6-A4FA-600F24A6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1A9-4715-470D-99E7-0F9B7280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F0D-0E6D-4D6D-9961-2730A2F2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51AC-21A3-45C7-BA60-FE01FF6BA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65C5-E65B-4716-9CA7-2373107D3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C5D9-8191-4245-AE41-812BFDB40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762120" y="1600200"/>
            <a:ext cx="77724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се декомпонује матрица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од Јакобијеве мет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 којим условима матиц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верзну? Наћ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формисати систе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x=b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обли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=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+B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довољним условима конвергенције Јакобије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потребним и довољним условима Јакобијеве методе? Зашто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 основна идеја Гаус – Зејделове методе? Како се она реализу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формисати систе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x=b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обл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=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+B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довољне услове конвергенције Гаус – Зајдело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потребним и довољним условима конвергенције Гаус – Зајдело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Rectangle 3"/>
          <p:cNvGraphicFramePr/>
          <p:nvPr/>
        </p:nvGraphicFramePr>
        <p:xfrm>
          <a:off x="5486400" y="3819600"/>
          <a:ext cx="12193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819600"/>
                    <a:ext cx="12193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Jakobijeva metoda;</a:t>
            </a:r>
            <a:br>
              <a:rPr sz="3000"/>
            </a:b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 Gaus – Zajdelova meto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966960"/>
          <a:ext cx="8534520" cy="567036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е методе за решавање система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методама за решавање система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обије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Јакобијевом методом, као и са довољним и потребним и довољним условима конвергенције. Такође, биће способан за практичну примену Јакобијеве мето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ус – Зајдел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Гаус - Заједловом методом, као и са довољним и потребним и довољним условима конвергенције. Такође, биће способан за практичну примену Гаус - Заједлове мето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28321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обије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Јакобијевом методом, као и са довољним и потребним и довољним условима конвергенције. Такође, биће способан за практичну примену Јакобијеве мето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ус – Зајдел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Гаус - Заједловом методом, као и са довољним и потребним и довољним условима конвергенције. Такође, биће способан за практичну примену Гаус - Заједлове мето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152280" y="48006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Rectangle 3"/>
              <p:cNvSpPr txBox="1"/>
              <p:nvPr/>
            </p:nvSpPr>
            <p:spPr>
              <a:xfrm>
                <a:off x="4235400" y="1427040"/>
                <a:ext cx="762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1022400" y="1833480"/>
                <a:ext cx="122400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Rectangle 3"/>
          <p:cNvGraphicFramePr/>
          <p:nvPr/>
        </p:nvGraphicFramePr>
        <p:xfrm>
          <a:off x="1504800" y="3633840"/>
          <a:ext cx="477216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3633840"/>
                    <a:ext cx="477216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58680" y="2232000"/>
                <a:ext cx="18226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71680" y="2227320"/>
                <a:ext cx="20685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632560" y="2212920"/>
                <a:ext cx="199548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8" name="Rectangle 3"/>
          <p:cNvGraphicFramePr/>
          <p:nvPr/>
        </p:nvGraphicFramePr>
        <p:xfrm>
          <a:off x="1522440" y="4822920"/>
          <a:ext cx="3537000" cy="20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4822920"/>
                    <a:ext cx="353700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842080" y="1362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67676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ciona matr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akobije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Rectangle 3"/>
          <p:cNvGraphicFramePr/>
          <p:nvPr/>
        </p:nvGraphicFramePr>
        <p:xfrm>
          <a:off x="1711440" y="882720"/>
          <a:ext cx="552924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882720"/>
                    <a:ext cx="55292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041640" y="3124080"/>
          <a:ext cx="2892600" cy="102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1640" y="3124080"/>
                    <a:ext cx="2892600" cy="10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68640" y="4305240"/>
                <a:ext cx="4446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50960" y="4597560"/>
                <a:ext cx="349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60720" y="4325760"/>
                <a:ext cx="2286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57200" y="1066680"/>
            <a:ext cx="62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ar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590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orema 1.(dovoljan uslov konvergencije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ko je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dijagonalno dominantna, tj ako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26708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a je matrica      regularna i niz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vergira 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u sist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 (1) za proizvoljno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9276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z dijagonalne dominantnosti sledi da je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040" y="4960800"/>
          <a:ext cx="90468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040" y="4960800"/>
                    <a:ext cx="9046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80880" y="1752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akobijeva metoda je specijalan slučaj metode proste iteracije ako se uzm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=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P= –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L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akobije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00400" y="2133720"/>
          <a:ext cx="236520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133720"/>
                    <a:ext cx="236520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620720" y="1754280"/>
                <a:ext cx="393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304920" y="1447920"/>
            <a:ext cx="81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2.(potreban i dovoljan uslov konvergencije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otreban i dovoljan uslov da niz       konvergira rešenju sistema (1) je da sva rešenja jedna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dovoljavaju uslov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Rectangle 3"/>
              <p:cNvSpPr txBox="1"/>
              <p:nvPr/>
            </p:nvSpPr>
            <p:spPr>
              <a:xfrm>
                <a:off x="2590920" y="3581280"/>
                <a:ext cx="495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80880" y="3962520"/>
            <a:ext cx="67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895480" y="5410080"/>
          <a:ext cx="3357720" cy="12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5410080"/>
                    <a:ext cx="33577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09480" y="5181480"/>
            <a:ext cx="19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t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4343400"/>
          <a:ext cx="669924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343400"/>
                    <a:ext cx="66992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-2286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akobije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600200" y="1447920"/>
          <a:ext cx="571500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57150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371600" y="2590920"/>
          <a:ext cx="6110280" cy="14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611028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Rectangle 3"/>
          <p:cNvGraphicFramePr/>
          <p:nvPr/>
        </p:nvGraphicFramePr>
        <p:xfrm>
          <a:off x="1905120" y="4449600"/>
          <a:ext cx="6705360" cy="240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449600"/>
                    <a:ext cx="670536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04920" y="4191120"/>
            <a:ext cx="32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kalar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aus – Zajd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581280" y="1371600"/>
          <a:ext cx="1905120" cy="4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71600"/>
                    <a:ext cx="1905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714680" y="3232080"/>
                <a:ext cx="22536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2" name=""/>
          <p:cNvGraphicFramePr/>
          <p:nvPr/>
        </p:nvGraphicFramePr>
        <p:xfrm>
          <a:off x="3738600" y="4813200"/>
          <a:ext cx="233820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8600" y="4813200"/>
                    <a:ext cx="23382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90920" y="6222960"/>
                <a:ext cx="571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Rectangle 3"/>
              <p:cNvSpPr txBox="1"/>
              <p:nvPr/>
            </p:nvSpPr>
            <p:spPr>
              <a:xfrm>
                <a:off x="5156280" y="3616200"/>
                <a:ext cx="22860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57200" y="1143000"/>
            <a:ext cx="46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teraciona matr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2743200"/>
            <a:ext cx="8051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voljni uslovi konvergen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)     je simetrična i pozitivno definitna ma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dijagonalna dominantnost matr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9800" y="4064040"/>
            <a:ext cx="83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potreban i dovoljan uslov konvergencije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iz (1) konvergira rešenju sistema ako i samo ako svi koreni jedna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360" y="622296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dovoljavaju uslov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828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aus – Zajdelova metoda je spacijalan slučaj metode proste iteracije ako se uzm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=L+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P= – 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aus – Zajd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91440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8280" y="1917720"/>
            <a:ext cx="83566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pomene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e Gaus – Zajdelova metoda primeni na Jakobijevu dobije se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arijanta Nekrasov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najvećem broju slučajeva Gaus – Zajdelova metoda konvergira brže od metode proste iteracije. Međutim, mogući su slučajevi kada Gaus – Zajdelova metoda konvergira sporije, pa čak i slučajevi kada metoda proste iteracije konvergira, a Gaus – Zajdelova metoda diverg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Rectangle 3"/>
              <p:cNvSpPr txBox="1"/>
              <p:nvPr/>
            </p:nvSpPr>
            <p:spPr>
              <a:xfrm>
                <a:off x="1270080" y="963720"/>
                <a:ext cx="70484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λ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λ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aus – Zajd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e</cp:lastModifiedBy>
  <dcterms:modified xsi:type="dcterms:W3CDTF">2010-04-17T20:29:1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