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D23-8991-425E-A7E8-C1251D94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F83-230E-4A84-B923-BE637C7B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F50-9A5D-44B9-954C-9E48D369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AFB-9F38-4691-A7C2-A82C9592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DD22-D9FA-4A33-B1B9-E178B112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2BBE-000C-4BC9-B127-292E2946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10E1-D8E1-4A28-8E4C-A5607123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9803-1599-4D5D-9EB2-B06FF56B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0182-4560-42C5-83B0-2CD3DA7B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4181-7656-46E1-A21E-D1196CB2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5761-4A4C-4D81-824A-DD41C07C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D4F-F7C9-4CF6-B155-5BA33F7E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39BB-D2C0-427D-A22D-1AD4211A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DFF5-395B-4E3A-843E-508F9554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DF7A-95C3-4CD5-A3A8-A3337BA4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523B-3A20-46B7-B390-7D411CCE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E3E7-9455-4AB9-AB86-A7152C78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720A1-FC01-413B-8198-3DE4C899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A1120-FD19-4A76-AB51-859985E9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3C370-3ACE-416D-90D2-7500A2AF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30E11-069E-41D5-9C47-B2278C00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D721B-315E-42D0-92F3-11007D95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F00-0C05-4DDD-97AF-6D165203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91F7-125D-489D-9621-D3D38EF0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DFE8-5CDC-4DDA-B0EA-39B12B13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EB947-9DC5-455D-9F22-5DFCAE2F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248F4-0CCE-411F-AE28-621E25B6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3401B-5A7B-4EEC-8640-1DD9023C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0DEA1-EB33-4B39-B180-17DBA05C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3D832-9268-498F-B770-12FEBC37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31C-8DC8-42D1-BFDD-B835A447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C03-9B3E-42EF-AFA3-09083EB7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6C6-2472-44B5-AB7D-628671DA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8D79-8B28-43F5-A013-AA596A85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A47-F734-4C38-A89B-7CB5E88A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6A1-CEBC-46A3-9798-A254CAB8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7CFF-4B1B-48FB-95DB-8B54E2AD3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CFEB-AFD5-45C3-9F28-E032398D3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5A02-42C9-49ED-B6C0-57B52CC33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914400"/>
            <a:ext cx="80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1.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ka je                i neka postoji         takvo d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Rectangle 3"/>
              <p:cNvSpPr txBox="1"/>
              <p:nvPr/>
            </p:nvSpPr>
            <p:spPr>
              <a:xfrm>
                <a:off x="2616120" y="987480"/>
                <a:ext cx="914400" cy="2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Rectangle 3"/>
              <p:cNvSpPr txBox="1"/>
              <p:nvPr/>
            </p:nvSpPr>
            <p:spPr>
              <a:xfrm>
                <a:off x="4971960" y="992160"/>
                <a:ext cx="5000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Rectangle 3"/>
              <p:cNvSpPr txBox="1"/>
              <p:nvPr/>
            </p:nvSpPr>
            <p:spPr>
              <a:xfrm>
                <a:off x="6680160" y="952560"/>
                <a:ext cx="12747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P</m:t>
                        </m:r>
                      </m:e>
                    </m:d>
                    <m:r>
                      <m:t xml:space="preserve">≤</m:t>
                    </m:r>
                    <m:r>
                      <m:t xml:space="preserve">L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Rectangle 3"/>
              <p:cNvSpPr txBox="1"/>
              <p:nvPr/>
            </p:nvSpPr>
            <p:spPr>
              <a:xfrm>
                <a:off x="944640" y="1927080"/>
                <a:ext cx="22212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31880" y="2317680"/>
                <a:ext cx="2667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68920" y="2362320"/>
                <a:ext cx="4824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56040" y="2924280"/>
                <a:ext cx="1295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k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971640" y="3384720"/>
                <a:ext cx="21952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d>
                      <m:dPr>
                        <m:begChr m:val="‖"/>
                        <m:endChr m:val="‖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658280" y="4432320"/>
                <a:ext cx="685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978280" y="4737240"/>
                <a:ext cx="5079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95360" y="5664240"/>
                <a:ext cx="6578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y</m:t>
                        </m:r>
                      </m:e>
                    </m:d>
                    <m:r>
                      <m:t xml:space="preserve">≤</m:t>
                    </m:r>
                    <m:d>
                      <m:dPr>
                        <m:begChr m:val="‖"/>
                        <m:endChr m:val="‖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P</m:t>
                        </m:r>
                      </m:e>
                    </m:d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≤</m:t>
                    </m:r>
                    <m:r>
                      <m:t xml:space="preserve">L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469800" y="13716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važ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680" y="1866960"/>
            <a:ext cx="77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)      je nesingularna ma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2336760"/>
            <a:ext cx="80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Ako je     tačno rešenje sistema (1), a         niz definisan relacijom (2), onda j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5040" y="33782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960" y="388620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9800" y="4381560"/>
            <a:ext cx="811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) Pretpostavimo da j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ngularna matrica. Tada matrična jednačina               ima netrivijalno rešenje           . ( Osobina homogenog sistema linearnih jednačina! ). Dalje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97680" y="5689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 kontradikcij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914400"/>
            <a:ext cx="79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, 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Rectangle 3"/>
          <p:cNvGraphicFramePr/>
          <p:nvPr/>
        </p:nvGraphicFramePr>
        <p:xfrm>
          <a:off x="390600" y="1231920"/>
          <a:ext cx="743112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231920"/>
                    <a:ext cx="743112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914400"/>
            <a:ext cx="80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sim ocene greške date u (***), koristi se i ocena greške pomoću poslednje dve itera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Rectangle 3"/>
              <p:cNvSpPr txBox="1"/>
              <p:nvPr/>
            </p:nvSpPr>
            <p:spPr>
              <a:xfrm>
                <a:off x="1828800" y="1752480"/>
                <a:ext cx="534816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≤</m:t>
                        </m:r>
                        <m:r>
                          <m:t xml:space="preserve">L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≤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≤</m:t>
                        </m:r>
                        <m:r>
                          <m:t xml:space="preserve">L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L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den>
                        </m:f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Rectangle 3"/>
              <p:cNvSpPr txBox="1"/>
              <p:nvPr/>
            </p:nvSpPr>
            <p:spPr>
              <a:xfrm>
                <a:off x="2095560" y="4876920"/>
                <a:ext cx="39369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Rectangle 3"/>
              <p:cNvSpPr txBox="1"/>
              <p:nvPr/>
            </p:nvSpPr>
            <p:spPr>
              <a:xfrm>
                <a:off x="3479760" y="5338800"/>
                <a:ext cx="8510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457200" y="4419720"/>
            <a:ext cx="78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2.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terativni pro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83360"/>
            <a:ext cx="8458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vergira ako i samo ako je              , gde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pektralni radiju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matrice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Rectangle 3"/>
              <p:cNvSpPr txBox="1"/>
              <p:nvPr/>
            </p:nvSpPr>
            <p:spPr>
              <a:xfrm>
                <a:off x="2362320" y="5715000"/>
                <a:ext cx="51004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 je sopstvena vrednost matrice 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276720" y="6095880"/>
                <a:ext cx="339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57200" y="36576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orema 1. daje dovoljne uslove konvergencije iterativnog procesa (2).              U narednoj teoremi navedeni su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trebni i dovoljn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uslovi konvergenci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762120" y="16002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норму у линеарном векторском прост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три норме простора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норму на скупу квадратних матрица реда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да је матрична норма сагласна са векторском? Навести векторске норме којима су сагласне апсолутна, Фробенијусова и униформна нор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формисати систем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Ax=b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облик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=Mx+B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 је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A=N –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и доказати теорему о довољном услову конвергенције методе просте итера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и доказати теорему о потребном услову конвергенције методе просте итера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 се формуле за оцену грешке користе у методи просте итерације?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990720"/>
          <a:ext cx="8229600" cy="5709960"/>
        </p:xfrm>
        <a:graphic>
          <a:graphicData uri="http://schemas.openxmlformats.org/drawingml/2006/table">
            <a:tbl>
              <a:tblPr/>
              <a:tblGrid>
                <a:gridCol w="1066680"/>
                <a:gridCol w="113184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е методе за решавање система 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ладавање методама за решавање система 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торске и матричне норм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просте итер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у ће бити представљене векторске и матричне норме и биће способан за њихово израчунавање на конкретном проблем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кође, студент ће бити упознат са методом просте итерације и способан за њену практичну примен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295280"/>
          <a:ext cx="8534160" cy="261756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96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торске и матричне норм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просте итер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у ће бити представљене векторске и матричне норме и биће способан за њихово израчунавање на конкретном проблем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кође, студент ће бити упознат са методом просте итерације и способан за њену практичну примен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228600" y="40384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914400"/>
            <a:ext cx="814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1. VEKTORSKE I MATRIČNE 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35040" y="1595520"/>
                <a:ext cx="3157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888840" y="154944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linearan vektorski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4280" y="195588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efinicij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Prostor       je normiran ako je definisana fun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ja ima osobin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579760" y="1978200"/>
                <a:ext cx="3031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910560" y="1982880"/>
                <a:ext cx="11318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 </m:t>
                        </m:r>
                      </m:e>
                    </m:d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35040" y="2774880"/>
                <a:ext cx="167940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 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 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 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α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 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558720" y="4444920"/>
            <a:ext cx="78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a je                                                     . Tada j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494000" y="4435560"/>
                <a:ext cx="3284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003480" y="4965840"/>
                <a:ext cx="3295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558720" y="5803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rma na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631880" y="5797440"/>
                <a:ext cx="365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3886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nejednakost troug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914400"/>
            <a:ext cx="81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i slučajev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Rectangle 3"/>
          <p:cNvGraphicFramePr/>
          <p:nvPr/>
        </p:nvGraphicFramePr>
        <p:xfrm>
          <a:off x="2708280" y="1400040"/>
          <a:ext cx="4441680" cy="20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8280" y="1400040"/>
                    <a:ext cx="444168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Rectangle 3"/>
          <p:cNvGraphicFramePr/>
          <p:nvPr/>
        </p:nvGraphicFramePr>
        <p:xfrm>
          <a:off x="1346040" y="3776760"/>
          <a:ext cx="184500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6040" y="3776760"/>
                    <a:ext cx="18450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31640" y="3759120"/>
            <a:ext cx="637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Rectangle 3"/>
              <p:cNvSpPr txBox="1"/>
              <p:nvPr/>
            </p:nvSpPr>
            <p:spPr>
              <a:xfrm>
                <a:off x="2558880" y="4524480"/>
                <a:ext cx="4402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11430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    normiran prostor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stoja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zmeđu elemenata             se definiše  relacijo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Rectangle 3"/>
              <p:cNvSpPr txBox="1"/>
              <p:nvPr/>
            </p:nvSpPr>
            <p:spPr>
              <a:xfrm>
                <a:off x="1295280" y="1219320"/>
                <a:ext cx="246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Rectangle 3"/>
              <p:cNvSpPr txBox="1"/>
              <p:nvPr/>
            </p:nvSpPr>
            <p:spPr>
              <a:xfrm>
                <a:off x="3854520" y="1728720"/>
                <a:ext cx="1305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Rectangle 3"/>
              <p:cNvSpPr txBox="1"/>
              <p:nvPr/>
            </p:nvSpPr>
            <p:spPr>
              <a:xfrm>
                <a:off x="6351480" y="1225440"/>
                <a:ext cx="7174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8001000" y="2743200"/>
                <a:ext cx="2332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Rectangle 3"/>
              <p:cNvSpPr txBox="1"/>
              <p:nvPr/>
            </p:nvSpPr>
            <p:spPr>
              <a:xfrm>
                <a:off x="3460680" y="3579840"/>
                <a:ext cx="228600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 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α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533520" y="2324160"/>
            <a:ext cx="816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efinicij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Realna funkcija      definisana na skupu kvadratnih matrica red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atrična norm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 su za proizvoljne matri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i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i proizvoljan skalar      zadovoljeni sledeći uslov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308400" y="2382840"/>
          <a:ext cx="236520" cy="2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8400" y="2382840"/>
                    <a:ext cx="23652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914400"/>
            <a:ext cx="81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i matričnih nor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Rectangle 3"/>
          <p:cNvGraphicFramePr/>
          <p:nvPr/>
        </p:nvGraphicFramePr>
        <p:xfrm>
          <a:off x="3181320" y="1366920"/>
          <a:ext cx="3481560" cy="22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1320" y="1366920"/>
                    <a:ext cx="3481560" cy="22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533520" y="383544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Rectangle 3"/>
              <p:cNvSpPr txBox="1"/>
              <p:nvPr/>
            </p:nvSpPr>
            <p:spPr>
              <a:xfrm>
                <a:off x="546120" y="4309920"/>
                <a:ext cx="1380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8" name="Rectangle 3"/>
          <p:cNvGraphicFramePr/>
          <p:nvPr/>
        </p:nvGraphicFramePr>
        <p:xfrm>
          <a:off x="3164040" y="4665600"/>
          <a:ext cx="326700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4040" y="4665600"/>
                    <a:ext cx="326700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0880" y="99684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efinicij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orma matrice j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aglas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atoj vektorskoj normi ako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422520" y="1492200"/>
                <a:ext cx="14353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</m:d>
                    <m:r>
                      <m:t xml:space="preserve">≤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A</m:t>
                        </m:r>
                      </m:e>
                    </m:d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48040" y="2158920"/>
                <a:ext cx="2350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4" name=""/>
          <p:cNvGraphicFramePr/>
          <p:nvPr/>
        </p:nvGraphicFramePr>
        <p:xfrm>
          <a:off x="6121440" y="2235240"/>
          <a:ext cx="203040" cy="2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1440" y="2235240"/>
                    <a:ext cx="20304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78480" y="2752560"/>
          <a:ext cx="1474560" cy="2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8480" y="2752560"/>
                    <a:ext cx="147456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406440" y="21272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proizvoljnu kvadratnu matricu      i proizvoljan vektor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8280" y="2698920"/>
            <a:ext cx="83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že se pokazati da su matrične norme                          saglasne odgovarajućim vektorsk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640" y="3397320"/>
            <a:ext cx="81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STEMI LINEARNIH ALGEBARSKIH JEDNAČ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Rectangle 3"/>
          <p:cNvGraphicFramePr/>
          <p:nvPr/>
        </p:nvGraphicFramePr>
        <p:xfrm>
          <a:off x="1998720" y="3801960"/>
          <a:ext cx="4718160" cy="305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98720" y="3801960"/>
                    <a:ext cx="471816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87624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stavićemo da je                      . Tada sistem (1) ima jedinstveno reše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743200" y="914400"/>
          <a:ext cx="1190520" cy="3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914400"/>
                    <a:ext cx="11905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57200" y="1447920"/>
            <a:ext cx="8458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TODE ZA REŠAVANJE SISTEMA LINEARNIH JEDNAČIN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) direktne ( Gausova, metode faktorizacije,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iterativne (metoda  proste iteracije, Jakobijeva, Gaus-Zajdelova,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895480"/>
            <a:ext cx="77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ETODA PROSTE IT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040" y="3390840"/>
            <a:ext cx="35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de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Rectangle 3"/>
          <p:cNvGraphicFramePr/>
          <p:nvPr/>
        </p:nvGraphicFramePr>
        <p:xfrm>
          <a:off x="2362320" y="3436920"/>
          <a:ext cx="5208480" cy="3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436920"/>
                    <a:ext cx="520848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Rectangle 3"/>
          <p:cNvGraphicFramePr/>
          <p:nvPr/>
        </p:nvGraphicFramePr>
        <p:xfrm>
          <a:off x="2311560" y="3960720"/>
          <a:ext cx="344484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11560" y="3960720"/>
                    <a:ext cx="34448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19040" y="3924360"/>
            <a:ext cx="81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terativni pro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6440" y="4432320"/>
            <a:ext cx="72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aliza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Rectangle 3"/>
              <p:cNvSpPr txBox="1"/>
              <p:nvPr/>
            </p:nvSpPr>
            <p:spPr>
              <a:xfrm>
                <a:off x="1824120" y="4614840"/>
                <a:ext cx="3284280" cy="21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b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de</cp:lastModifiedBy>
  <dcterms:modified xsi:type="dcterms:W3CDTF">2010-04-17T13:24:47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