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ECE-08E6-4643-8985-6826BEA6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571-AD3D-47F7-A9EE-968D09F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D0A-4D81-4BDC-91DB-B93AE135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DFC-9158-47A8-AAD5-FE77EB3A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1709-7A32-4FE0-9A17-1988AF70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BBE0-C7EE-4B8D-867B-BD3EE11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584A-60C5-4DCF-8AAB-A496D3F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49A-0B50-4957-B424-062F514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C8D8-C328-4CBF-9FA7-61026E8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9B58-AE8B-401E-8653-07CEC3D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55B3-5B6E-421F-AE7D-0D0E054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EF8-6CA4-4154-BCF6-F2CB6CA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C727-365C-4685-9C66-D2686B3B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30C-3A72-4CD8-8F19-20BE008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5934-4C78-4FE4-AE7F-EF3923F8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CF9F-55B2-4B11-884A-F93FBA13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F5D7-D5ED-4A6B-9476-22B43C4A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E1A-E8C9-4E2C-ADEE-308BDE8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76E-571F-45C7-B61F-F4DECD6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832-0F57-4422-915C-2ED8399A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2A9-2233-4D6B-AB98-D1C8DBD5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D31-A988-48C4-A1C4-D980F81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AE5-30C2-4798-89F0-3D10A59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27E-F709-48E3-8DF8-8882EE6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F11-CCE3-4196-83A3-1AD4843ABD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8A0-951C-46F4-8FD1-AA1B8D9C41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cc3300"/>
                </a:solidFill>
                <a:latin typeface="Arial"/>
              </a:rPr>
              <a:t>UVOD U MENADŽMENT LJUDSKIH RESURSA</a:t>
            </a:r>
            <a:endParaRPr b="0" lang="en-US" sz="5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nadžment ljudskih resursa-defini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ovske aktiv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rovski stručnj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 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straživanja pokazuju da redosled kadrovskih aktivnosti prema njihovom prioritetu za organizaciju izgleda ovak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rutovanje i selekcija- 5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ning i razvoj- 4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eficije- 3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- 32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dni odnosi/odnosi između zaposlenih-28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9360" y="451080"/>
            <a:ext cx="86374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 je odgovoran za kadrov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Ko bi trebalo da se bavi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im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itanjima u organizaciji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amo kadrovska odeljen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amo menadžeri (rukovodio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ukovodioci i kadrovsk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delje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948360" cy="462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12640" y="333360"/>
            <a:ext cx="85759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 odgovornosti menadžer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30800" y="451080"/>
            <a:ext cx="86374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69520" y="1703520"/>
            <a:ext cx="85741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kompaniji o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poslenih postoji potreba za jednom osobom nadležnom za kadrovska pitan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972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i stručnjac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a odeljenja su sastavljena od kadrovskih generalista i kadrovskih specijal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i general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oba odgovorna za izvršenje čitavog niza kadrovskih aktiv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i specijal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oba koja poseduje produbljeno znanje i stručnost u određenom (ograničen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 kadrovskom područj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eštine kadrovskih stručnj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đuljudsk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ština komunika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ovar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mskog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štine odluči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št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erst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hničke veš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56000" y="1998720"/>
            <a:ext cx="453708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Šta su ljudski resursi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496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Ljudski resursi (kadrovi) = 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osleni u organizaciji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i njihove karakteristike koje mogu da donesu ekonomsku vrednost organizacij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kon o radu RS definiše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aposlenog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fizičko lice koje je u radnom odnosu kod poslodavc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slodavca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pravno ili fizičko lice koje zapošljava, odnosno radno angažuje, jedno ili više l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 kadrovima se podrazumevaju ljudi koji aktivno rade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adrovi u funkcij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i oni koji se pripremaju za funkciju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adrovi u pripremi za funkci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rosni minimum za zasnivanje radnog odnosa kod nas 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je vrednosti zaposleni donose organizaciji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judski resursi stvaraju održivu konkurentsku prednost kompanije zato što s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dni resur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tki resur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mogu se kopira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mogu se zamen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701640" y="315720"/>
            <a:ext cx="934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e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džment ljudskih resurs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</a:rPr>
              <a:t>Menadžment ljudskih resurs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=kadrovski menadžment=upravljanje ljudskim resurs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kup aktivnosti usmeren na efektivnu upotrebu ljudskih resursa u organizacij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drovske aktiv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31640" y="1433520"/>
            <a:ext cx="6516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naliza poslova i radnih zadat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 obuhvata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ojektovanje poslova i radnih zadat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rganizovati i podeliti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laniranje 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ifikacija broja i vrste zaposlenih koji su potrebni organizacij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 ostvarila svoje cilj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egrutovanj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pronaći najbolje kandidate za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0080" y="1920960"/>
            <a:ext cx="2293920" cy="49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993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elekcija 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ceniti sposobnosti i motivaciju kandida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Tr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bezbediti da zaposleni svoje sadašnje poslove obavljaju na najefikasniji nač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brazovanje i razvoj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adrov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pripremiti zaposlene za napredovanje u karijeri i prihvatanje novih izazov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redno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merimo i podstičemo bolje rezultate rada naših zaposlenih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laniranje i kontrola nadoknada i benefi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bezbediti da nadoknade budu fer i interno i ekste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efi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maksimizirati zadovoljstvo zaposlenog i istovremeno držati troškove pod kontrol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drža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ordinacija, kadrovsko istraživanje i evidencije, zdravlje i sigurnost 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adni 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no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šta je moguće učiniti da zaposleni budu koliko je moguće i produktivni i zadovolj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 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rovske politi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Usklađenost sa zakonodavstv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ko znati da li je kadrovska praksa u skladu sa važećim zakonodavstv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ticaj kadrovskog menadžmen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62864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rovski menadžment utiče na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 radi u organizaciji (vrste ljudskog kapit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 ovi ljudi rade (ponašanje lju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g kapit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5229000"/>
            <a:ext cx="88200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 ljudski resursi mogu stvoriti konkurentsku prednost organizacije i tako doprineti ostvarenju osnovnih ciljeva organizacije- kvalitet, profitabilnost, zadovoljstvo potrošač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643360" cy="289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26:45Z</dcterms:created>
  <dc:creator>Tanja</dc:creator>
  <dc:description/>
  <dc:language>en-US</dc:language>
  <cp:lastModifiedBy>w7</cp:lastModifiedBy>
  <dcterms:modified xsi:type="dcterms:W3CDTF">2010-10-22T16:47:21Z</dcterms:modified>
  <cp:revision>95</cp:revision>
  <dc:subject/>
  <dc:title>Slide 1</dc:title>
</cp:coreProperties>
</file>