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713-097C-457E-AF25-FB84B8C3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238-2AE9-4293-A6F6-B29B2BE1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46F-81FC-42B8-BA3E-68987AE4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E5B-F4F2-4FA7-B761-48C83F4D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716C-F2F2-4CE1-B022-5A06BC2C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8720-0FBB-46C7-8B69-26E33B25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E407-BD1A-4C2B-9E43-0435B103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B712-CE6A-48F0-8151-45273822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8799-E205-45B4-A84D-F08EAF0B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6A13-B939-405A-8BA2-AB76F6ED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DF93-1354-463A-A080-55E69AF5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01C-3C0B-4357-AD6F-6E09A851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3963-ACC3-4824-9708-14A5868D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208F-D4A9-4DB5-8193-C81F5DC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3CEF-9E24-423F-AD14-DDADA9A3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1DF0-623B-42A0-9B50-C3E5AF82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7BAC-0A65-4082-A499-4AA0B764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EEE-561A-40FF-84DC-0758FFF7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DE4-CFE2-4119-998D-E1C4938A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6A6-A970-44D8-915C-B5CBA186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2F2-99D4-425F-A85B-E530933F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0E1-A857-4B7A-828F-E83D80E3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F7F-0318-4554-8A61-17D9C2A5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754-9817-4610-A5FB-0C757D88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BDDE-CD91-4D2E-9243-3132DBB159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454A-00D6-40C2-8C8D-32109B84F1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500" spc="-1" strike="noStrike">
                <a:solidFill>
                  <a:srgbClr val="cc3300"/>
                </a:solidFill>
                <a:latin typeface="Arial"/>
              </a:rPr>
              <a:t>Koordinacija kadrovskih aktivnosti</a:t>
            </a:r>
            <a:endParaRPr b="0" lang="en-US" sz="45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Mehanizmi koordinacij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Kadrovske politik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reventivna i progresivna disciplin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Tipični problemi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ipični problemi koji mogu zahtevati pok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je disciplinskog postupk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šnjenja na posa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psentiz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poštovanje pravila bezbednosti na ra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š kvalitet 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lazak na posao pod dejstvom alkohola/dro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rađa imovine kompan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yberslacking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urfovanje po internetu na radnom mes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Formalna komunika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700280"/>
            <a:ext cx="8497800" cy="68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malna komunikacija obezbeđuje informacije o drugim mehanizmima koordinacije i stvara pogodnu klimu za njihovu pri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adrovske informacije mogu se prenositi na različite nač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učnici za zapos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utije za predl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bori za komunika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oni ombuds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ličiti tipovi publi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itika otvorenih v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Koordinacija kadrovskih aktiv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ordinacija: harmonično odvijanje kadrovskih aktivnosti u organizacij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govornost za koordinaciju kadrovskih aktivnosti imaju kadrovsko odeljenje i linijski menadže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ordinacija se ostvaruje kroz nekoliko mehanizama koordinaci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iti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avi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scip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malna komunika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Mehanizmi koordinaci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686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-Politik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su opšte po prirod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ocedure i pravila su usmereni na specifične situacij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-Procedur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su uobičajene metode sprovođenja pojedinih aktivnosti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-Pravi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odražav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odluku menadžmenta o tome koju radnju treba ili ne treba preduzeti u datoj situacij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Pravila imaju životni cikl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Kadrovska politik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adno vreme, pau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avila ponašanja zaposleni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andardi komunikaci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a kolegama, nadređenima, podređenima, gostima, klijentima/potrošačima naći ya maxi ili tem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irektna komunikacija/telefon/faks/e-m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avila oblačenja- standardi posl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izg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tički kod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a politi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Efektivna kadrovska politika mora da bu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onzistent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azum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eophodn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imenjiva na šire grupe zaposleni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azumlj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bznanjena (npr. priručnici za zaposle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Disciplin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isciplina se odnosi na poštovanje zahtevanih ponaša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isciplina predstavlja jedan oblik treninga za primenu organizacionih pravi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oje dva pristupa discipili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ventivni 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zne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čekuje se da nakon kažnjavanja zaposleni neće ponoviti neželjeno ponaš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eventivna disciplin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ventivne discipli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je da se pojača svest zaposlenih o organizacionim politikama i pravil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anje o disciplinskim kaznama može da spreči prekrša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avilo ‘vruće ringle’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t-stove rule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isciplinska praksa organizacije treba 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pozori zaposlene i ima posledice koje s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konzistentne, objektivne i trenut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77080" y="3933720"/>
            <a:ext cx="1828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gresivna disciplin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rogresivna discipli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 trening ili oblikovanje ponašanja u cilju ispravljanja neprihvatljivog ponaša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ormalni disciplinski postupak u kome posledice postaju ozbiljnije ako zaposleni ponovi prekrša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poslenom se daje prilika da popravi svoje ponašanje pre nego što bude otpušt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Progresivna disciplin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isciplinske me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pomena-ukor-ukor pred isključenje-suspenzija-otpušt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7672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4:03:56Z</dcterms:created>
  <dc:creator>Tanja</dc:creator>
  <dc:description/>
  <dc:language>en-US</dc:language>
  <cp:lastModifiedBy>w7</cp:lastModifiedBy>
  <dcterms:modified xsi:type="dcterms:W3CDTF">2010-10-22T16:45:14Z</dcterms:modified>
  <cp:revision>7</cp:revision>
  <dc:subject/>
  <dc:title>Koordinacija kadrovskih aktivnosti</dc:title>
</cp:coreProperties>
</file>