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724-C24B-4C80-8A0F-903E18B2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F84-2543-47D5-8524-08C6B314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6E4-25B9-4FEB-B47A-C5E9005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9C0-D43D-4D34-9A7F-839D7B2E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A5D7-BD92-4500-BE4A-4669EB3F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B620-D552-42ED-9478-3E16543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B02-C5BC-4C16-8E2E-9E830883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005C-619C-48C3-A51F-1525D5D0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A7A3-6836-4A7C-88CB-801B03A1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83E5-E88D-479B-B0BF-19D755E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1EFF-C7CA-4C08-A04B-2565A7B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82A-5F74-4B1C-A468-ACF0A3EE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BADC-5B84-4663-855A-E2AE5B4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4FA2-E4F0-4321-9396-4E22490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A0F-B352-43CF-9AA6-65489546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57D-DA1B-46A5-967E-F39FE4CE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5B79-85F1-488A-9CF6-2B17B3F6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700-8C30-46E4-B08A-3472C862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70D-6E01-4DF3-B951-6B66793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0A7-5EB5-445D-9C54-51B6D478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1F9-9485-4A57-A34F-2185F2F5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DE4-28D0-4229-9507-089BD03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D01-34C3-4217-BF42-EF626E1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644-85F9-447F-950C-748F430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6E53-CDC3-4A82-A105-253CA97AA8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1D89-3017-4E28-85A6-9334427413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Trening zaposlenih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8920" y="3357720"/>
            <a:ext cx="60721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Utvrđivanje potreba za trening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Plan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Metode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Implementacija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Ocenjivanje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Primena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274680"/>
            <a:ext cx="8731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drška treningu- šta treba da rade menadžeri da bi podržali trening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4960" y="1665360"/>
            <a:ext cx="79372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lan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lan treninga započinje definisanjem ciljeva trenin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aposleni će znati šta će nauči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rganizacija može da meri da li je trening zadovoljio postavljene cilje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iljevi treninga treba da obuhvate tri kompon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Šta se od zaposlenog očekuje da ra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ihvatljivi nivo izvršenj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Uslovi pod kojima se od zaposlenog očekuje da primeni ono što je naučio u toku trening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etode treninga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5200" y="1492200"/>
            <a:ext cx="587844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mplementacija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ing treba da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i zaposlenima da povežu trening sa poslom koji obavljaj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i zaposlenima da sami primene i uvežbaju ono što su nauči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ezbediti feedback (povratne informacij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i zaposlenima da zapamte sadržaj trening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Kako p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moći zaposlenima da uč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29272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cenjivanje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cenjivanje treninga - pokušaj da se pribavi informacija o efektima programa treninga i da se proceni vrednost trenin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dovoljstvo zaposlenih trening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 li se trening svideo zaposlenom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ve veštine, stečena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a li je zaposleni naučio neš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t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a li zaposleni može da koristi to što je naučio na treningu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boljšanje izvršenja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 je došlo do poboljšanja uči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Definicij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Učenj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relativno stalna promena ponašanja koja se događa kao rezultat prethodne prakse ili iskustv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Obrazovanj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dugoročna aktivnost učenja koja ima za cilj da pripremi pojedinca za različite uloge u društvu- kao građanina, radnika i člana porodic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Trening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bilo koja aktivnost učenja usmerena na sticanje specifičnih znanja i veština neophodnih za uspešno obavljanje određenog posla ili zadat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Razvoj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aktivnost učenja koja je usmerena prema budućim, a ne sadašnim potrebama i koja se više zanima za napredovanje u karijeri nego za neposredno izvršen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91263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rijentacija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jentacija je posebna vrsta treninga sa ciljem da se novozaposlenom obezbede osnovne informacije koje su mu neophodne za rad u organiz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ektivan sistem orijentacije uključuj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ipremanje za novozaposlen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dređivanje šta novozaposleni treba da zna odm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ndukcioni tr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eliminarno ocenjivanje potreba za trening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bni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cenjivanje i praćenje orijent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Tren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1816200"/>
            <a:ext cx="8229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88200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drovsko odeljenje je obično zaduženo za koordinaciju aktivnosti u vezi sa trening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govornost za trening dele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viši menadžment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nijski menadžeri i trening menadžer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adrovski menadžeri, instruktori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, nadzornici, i sam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aposl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snovne faze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32000" y="1703520"/>
            <a:ext cx="3435480" cy="51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tvrđivanje potreba za treningo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es ocenjivanja organizacije, zaposlenih, i njihovih zadataka u cilju utvrđivanja koje vrste treninga su potrebne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tvrđivanje potreba za treningo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68400" y="1852560"/>
            <a:ext cx="75452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ing najefektivnije utiče 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leme sa motivacij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veština i sposob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povratnih informacija o učinku na posl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resursa za obavljanje pos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premnost zaposlenih za trening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binacija karakteristika zaposlenog i pozitivne radne sredine koja dozvoljava implementaciju trenin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ophodne karakteristike zaposlenog uključuj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osobnost da nauče određenu mater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voljne stavove prema trening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tivaciju za uče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itivno radno okruženje je okruženje koje podstič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 učenj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13:27Z</dcterms:created>
  <dc:creator>Tanja</dc:creator>
  <dc:description/>
  <dc:language>en-US</dc:language>
  <cp:lastModifiedBy>w7</cp:lastModifiedBy>
  <dcterms:modified xsi:type="dcterms:W3CDTF">2010-11-01T11:53:36Z</dcterms:modified>
  <cp:revision>19</cp:revision>
  <dc:subject/>
  <dc:title>Trening kadrova</dc:title>
</cp:coreProperties>
</file>