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E68A-D562-44E0-B811-7B319E122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Naci novi prime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4329-DE07-4EB5-982F-FD757D4B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C135-353F-45DA-983A-366C61BA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70CE-B456-4A8F-8E1D-4A227CB1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3E4B-A8F5-49E1-8782-3C962EBA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EC82-7981-4428-A039-029FBE36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E405-DC72-4BC1-8A52-4297EAFA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B2D5-B541-46C3-BDB7-812888A2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7C69-7626-49D1-9AA5-4E8F79FB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D889-CF93-4456-9CA8-D8CDB21A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E896-0D46-4D81-88E1-E8454D42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FEBF-257D-4899-AA3B-D9E67869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C5E3-7D1C-4966-8742-C96C3150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ACE9-CB92-448A-A16C-39896A27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5F2C-BE0D-4DE4-9C09-009FC98A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7E69-04D5-441C-9095-5B0393C6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57E7-6405-476D-B7F0-C20EE00B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67F2-844B-4A3C-9CB9-EED53203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5F6-5822-4B74-979F-F447167A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B312-1F03-495D-85C1-B73F6425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3072-3015-4B73-B328-DB2ECC0C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DB77-DF75-4063-A1F0-218D24BD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7795-BA63-4393-AFF1-0400BC35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AFC7-FEBB-42C2-9FAB-86630DBC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6642-AB7F-4307-BD5B-3A207C1D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8A83-F8D4-4D91-BD3A-BDB2DAECFE1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683D-DA3D-4BA8-925B-FEF4D2232BA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200" spc="-1" strike="noStrike">
                <a:solidFill>
                  <a:srgbClr val="cc3300"/>
                </a:solidFill>
                <a:latin typeface="Arial"/>
              </a:rPr>
              <a:t>Analiza i projektovanje poslova i radnih zadataka</a:t>
            </a:r>
            <a:endParaRPr b="0" lang="en-US" sz="52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Definicija posl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Analiza poslova</a:t>
            </a: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 i radnih zadatak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Projektovanje poslova</a:t>
            </a: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 i radnih zadatak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Fleksibilni rasporedi rad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2560" y="33300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Specifi</a:t>
            </a: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čne metode analize poslova i radnih zadatak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itnik za analizu položaja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Position Analysis Questionnair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ndardizovan upitnik za analizu poslova koji se sastoji od 194 pitanja o ponašanju na poslu, uslovima rada i karakteristikama pos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kcionalna analiza poslov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li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lova pravljenjem standardizovanih opisa poslova koji se mogu koristiti u različitim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ganizacijam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pitnik za opis menadžerskih položaja 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Management Position Description Questionnair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560" y="40428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imer: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ji od navedenih poslova bi bilo najbolje analizirati metodom posmatranja u cilju dobijanja informacija o poslu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4190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Finansijski analitič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4190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ek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4190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Sekretaric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4190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Generalni direk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547640" y="1846440"/>
          <a:ext cx="5788080" cy="50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846440"/>
                    <a:ext cx="578808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202200" y="3357720"/>
            <a:ext cx="239688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0040" bIns="50040" anchor="t">
            <a:spAutoFit/>
          </a:bodyPr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sr-Latn-CS" sz="2700" spc="-1" strike="noStrike" u="sng">
                <a:solidFill>
                  <a:srgbClr val="ffffff"/>
                </a:solidFill>
                <a:uFillTx/>
                <a:latin typeface="Arial"/>
              </a:rPr>
              <a:t>Analiza posl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74200" y="5300640"/>
            <a:ext cx="163620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0040" bIns="50040" anchor="t">
            <a:spAutoFit/>
          </a:bodyPr>
          <a:p>
            <a:pPr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redno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91280" y="6237360"/>
            <a:ext cx="122472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0040" bIns="50040" anchor="t">
            <a:spAutoFit/>
          </a:bodyPr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elek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5120" y="6451560"/>
            <a:ext cx="194724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0040" bIns="50040" anchor="t">
            <a:spAutoFit/>
          </a:bodyPr>
          <a:p>
            <a:pPr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rening i razv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00760" y="2781360"/>
            <a:ext cx="150984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0040" bIns="50040" anchor="t">
            <a:spAutoFit/>
          </a:bodyPr>
          <a:p>
            <a:pPr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dokn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0400" y="1700280"/>
            <a:ext cx="224424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0040" bIns="50040" anchor="t">
            <a:spAutoFit/>
          </a:bodyPr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laniranje karij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8080" y="1700280"/>
            <a:ext cx="291168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0040" bIns="50040" anchor="t">
            <a:spAutoFit/>
          </a:bodyPr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rganizaciona 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9640" y="3141720"/>
            <a:ext cx="140760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0040" bIns="50040" anchor="t">
            <a:spAutoFit/>
          </a:bodyPr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laniran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dr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760" y="5300640"/>
            <a:ext cx="172152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0040" bIns="50040" anchor="t">
            <a:spAutoFit/>
          </a:bodyPr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gruto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Značaj analize poslov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ojektovanje poslova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i radnih zadatak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roces u kome se definiše način na koji će se posao obavljati i zadaci koje posao obuhv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707868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9960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3300"/>
                </a:solidFill>
                <a:latin typeface="Arial"/>
              </a:rPr>
              <a:t>Tehnike motivacije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cc3300"/>
                </a:solidFill>
                <a:latin typeface="Arial"/>
              </a:rPr>
              <a:t>zaposlenih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većavanje posla (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 enlargemen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širivanje raspona posla povećavanjem broja različitih zadataka koje obavlja pojedina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tacija posla (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 rotatio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dnik se periodično premešta sa jednog posla na drugi, sa ciljem razbijanja monotonije rutinskog pos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ogaćivanje posla (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 enrichmen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anje većeg značaja zaposlenima, tako što im se daje mogućnost da donose neke odluk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ćava se odgovornost, širina i izazovi pos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utonomni timovi (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lf-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ag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team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imovi koji preuzimaju odgovornost za posao koji odrađuju; timovi obično sami određuju raspored rada, sami određuju članove tima, rešavaju probleme koji su u vezi sa radom tima, i obavljaju druge dužnosti koje su tradicionalno obavljali menadže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ja od ovih tehnika ima najjači uticaj na motivaciju zaposleni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22560" y="2637000"/>
            <a:ext cx="6121440" cy="3519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560" y="40428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Model obeležja posl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2421000"/>
            <a:ext cx="309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del obeležja posla opisuje poslove u pogledu sledećih karakteristi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novrsnost veš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poznatljivost za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načaj za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utonom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vratna v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148428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tovanje posla mora uzeti u obzir faktore koji povećavaju motivaciju zaposlenih za r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979640" y="1533600"/>
            <a:ext cx="5549760" cy="5022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2560" y="40428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Fleksibilni rasporedi rad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9520" y="1433520"/>
            <a:ext cx="857412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26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Fleksibilni rasporedi rad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leksibilno radno vre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extime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zaposleni sa punim radnim vremenom imaju mogućnost da sami izaberu vreme početka i završetka rada u skladu sa pravilima organizacije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Deljenje posla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</a:rPr>
              <a:t>job sharing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)-dva zaposlena sa skraćenim radnim vremenom  dele jedan posao koji zahteva puno radno vre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Zbijena radna nedelja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</a:rPr>
              <a:t>compressed workweek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)- zaposleni obavljaju posao za manje od pet dana u nedelj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Telework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telecommuting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zaposleni obavljaju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ao izvan kancelari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8760" y="27432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Šta je posao?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osao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koji zadaci se mogu pripisati određenom poslu ili položaju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Posao je skup povezanih zadataka, dužnosti i odgovornos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oložaj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koje zadatke treba da obavlja konkretan pojedin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Položaj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je skup zadataka, dužnosti i odgovornosti koje obavlja jedna osob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sao može da obuhvata više od jednog položa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8760" y="27432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Šta je posao?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Zadatak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: definiše metode, procedure i tehnike pomoću kojih se obavljaju dužnos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astoji se od pokre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datak je jasno prepoznatljiva radna aktivn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eba da pokaž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3427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šta se radi (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kcij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3427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ako se radi (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cedure, materijali, alati, oprem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3427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što se radi (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ilj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Dužnost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: veći odsečak rada koji obavlja jedna osob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t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je skup zadata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većina poslova sadrži od 4 do 8 dužno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Odgovornost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:obaveza za izvršenje određenih zadataka i dužnos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Analiza poslova i radnih zadatak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Analiza poslova i radnih zadatak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proces prikupljanja detaljnih informacija o poslovi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o je osnovna kadrovska aktivn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što je neophodna analiza posl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3769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za poslov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je informacije koje su neophodne za skoro sve kadrovske aktivno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je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vrste informacij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se prikupljaju u analizi posl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3769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ne aktivnosti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htevan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našan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3769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kcija sa drugim osoba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3769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 r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3769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sijski uticaj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3769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sak mašina i opreme koja se kori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3769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lovi r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3769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nos nadređenosti i podređenosti u organizacij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3769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rebno znanje, veštine i sposobno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Opis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osl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820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Krajnji rezultat analize posla su </a:t>
            </a:r>
            <a:r>
              <a:rPr b="1" lang="sr-Latn-CS" sz="2300" spc="-1" strike="noStrike" u="sng">
                <a:solidFill>
                  <a:srgbClr val="000000"/>
                </a:solidFill>
                <a:uFillTx/>
                <a:latin typeface="Arial"/>
              </a:rPr>
              <a:t>opis poslova i radnih zadataka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sr-Latn-CS" sz="2300" spc="-1" strike="noStrike" u="sng">
                <a:solidFill>
                  <a:srgbClr val="000000"/>
                </a:solidFill>
                <a:uFillTx/>
                <a:latin typeface="Arial"/>
              </a:rPr>
              <a:t>specifikacija posl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Arial"/>
              </a:rPr>
              <a:t>Razlika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opis posla se odnosi na </a:t>
            </a:r>
            <a:r>
              <a:rPr b="0" lang="pl-PL" sz="2300" spc="-1" strike="noStrike">
                <a:solidFill>
                  <a:srgbClr val="cc3300"/>
                </a:solidFill>
                <a:latin typeface="Arial"/>
              </a:rPr>
              <a:t>POSAO</a:t>
            </a: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, a specifikacija posla na </a:t>
            </a:r>
            <a:r>
              <a:rPr b="0" lang="pl-PL" sz="2300" spc="-1" strike="noStrike">
                <a:solidFill>
                  <a:srgbClr val="cc3300"/>
                </a:solidFill>
                <a:latin typeface="Arial"/>
              </a:rPr>
              <a:t>OSOBU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Opis poslova i radnih zadatak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od čega se posao sastoj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8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Arial"/>
              </a:rPr>
              <a:t>spisak zadataka, dužnosti i odgovornosti koje konkretan posao uključuj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Opis poslova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i radnih zadataka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ukazuje na to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šta se radi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zašto se radi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gde se radi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kako se rad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Tipičan opis poslova i radnih zadataka sadrži tri glavna dela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8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Arial"/>
              </a:rPr>
              <a:t>Identifikacija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-  naziv posla, odeljenje, nadređeni, podređen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8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Arial"/>
              </a:rPr>
              <a:t>Opšti rezime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-opšte odgovornosti i komponente po kojima se posao razlikuje od drugih poslov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8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Arial"/>
              </a:rPr>
              <a:t>Specifične dužnosti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- jasno i precizno definisani zadaci, dužnosti, odgovornost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Specifikacija posl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pecifikacija pos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ta treba da poseduje osoba da bi obavljala posa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pisak znanja, veština, sposobnosti i drugih karakteristika koje koje osoba treba da ima da bi mogla da obavlja posao na zadovoljavajući nač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pisanju specifikacije posla važno je navesti samo one veštine, znanja, sposobnosti koje su suštinske za uspešno izvršenje posla, i to samo one stavke koje su u vezi sa poslom a nisu diskriminator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pecifikacija posla je obično podeljena na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neophodne zahtev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željene zahte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pecifikacija posla obuhvata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kustvo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valifikacij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čne karakteristike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imer: opis posl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ova i radnih zadatak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573200"/>
            <a:ext cx="457992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imer: specifikacija posl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425680" y="1546200"/>
            <a:ext cx="45799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Opšte metode analize poslova i radnih zadatak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51228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ako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pronaći pouzdane izvore informacija o poslovi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matranj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vj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itni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Ekspertska poro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51640" y="1484280"/>
            <a:ext cx="3492360" cy="233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3:28:05Z</dcterms:created>
  <dc:creator>Tanja</dc:creator>
  <dc:description/>
  <dc:language>en-US</dc:language>
  <cp:lastModifiedBy>w7</cp:lastModifiedBy>
  <dcterms:modified xsi:type="dcterms:W3CDTF">2010-11-01T11:35:42Z</dcterms:modified>
  <cp:revision>76</cp:revision>
  <dc:subject/>
  <dc:title>Slide 1</dc:title>
</cp:coreProperties>
</file>