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97C-4B1F-48B5-B254-E60DEC61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DD0-F6D6-4C09-ADFE-ABA6B8B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0A7-E8F6-444F-9B42-A0D28595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8C2-8A6D-494C-85BF-7A432A43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CE53-C79A-4112-B6C8-BA8D26A5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AB9-D5A9-4AA7-B18B-2B9A89D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EBB-DF74-4DD9-97F9-F62AAA4F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BD11-A91D-493E-985A-84A4F3D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45F4-BB87-41B7-A499-0C4ED45C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40A1-74C5-48DF-89B9-8324F2F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29F0-8B24-4AB1-9B4E-3A422DD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5E5-6A76-48EA-81C2-4052484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64AA-6824-4106-8B65-13D8CF5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F82-EC12-43EA-B351-FA1EB82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DAF-E134-476B-AC31-AC257E39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9646-2DFC-4B1F-9058-A11333F7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21BB-7189-4503-9C59-4466F892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FEF-7FD3-4F6D-A4FE-8D2BDB40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A17-9F8A-44B4-A3E5-9D40B5D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E45-EF5A-4B06-BD09-35B3C68B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939-AC15-4B75-84E0-09178789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88C-BB7A-4F45-84B3-32DF5C7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AAF-4C1E-473B-BA92-638793E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6AD-FA49-4030-BCD5-F70310E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33C-B74A-4145-8EF4-53418D85B8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B84-4FED-4CEA-9089-0221B2E2BD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Nadokna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nadokna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Administracija nadoknad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voj sistema plać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truktura plać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cenjivanje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cenjivanje posla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 eval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 u kojoj se meri relativ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 vred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lov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vrednost poslova 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ganizac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y Guide-Chart Profile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sr-Latn-CS" sz="3200" spc="-1" strike="noStrike" u="sng">
                <a:solidFill>
                  <a:srgbClr val="cc3300"/>
                </a:solidFill>
                <a:uFillTx/>
                <a:latin typeface="Arial"/>
              </a:rPr>
              <a:t>Hay plan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 ocenjivanja posla kojim se kreira profil za svaki položaj u organizaciji na osnovu tri faktor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e veštine, znanja i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šavanje problema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i stepen analize, kreativnosti i logičkog razmišlj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vor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tegorija plaćanja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y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slovi za koje je ocenjeno da imaju približno istu vrednost obično se grupišu u jedinstvenu kategoriju plaćanja (svi poslovi u okviru jedne kategorije su plaćeni is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Broadbanding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koristi se manji broj kategorija plaćanja, a proširuje se rasp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n stope plaćanj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 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ređuje minimum, maksimum i sre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ju vredn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oguće nadokna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zaposlenog čiji posao potpada pod određenu kategoriju plać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sponi mogu da se preklapaju, tako da najveća nadoknada u jednoj kategoriji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u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ća od 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niže nadoknade u sle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ćoj kategorij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ija politike plaćanj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y policy li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a koja povezuje nadoknade sa rezultatima (bodovima) ocenjivanj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vena stopa plaćanja (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red-circl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ao čija je stopa plaćanja iznad raspona koji je predviđen za kategoriju plaćanja u koju je posao svr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d</a:t>
            </a:r>
            <a:r>
              <a:rPr b="0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ircled 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posleni koji je plaćen iznad raspona predviđenog za taj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lena stopa plaćanja (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green-circl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ao čija je stopa plaćanja ispod raspona koji je predviđen za kategoriju plaćanja u koju je posao svrst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en</a:t>
            </a:r>
            <a:r>
              <a:rPr b="0" lang="sr-Latn-CS" sz="24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ircled 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posleni koji je plaćen ispod predviđenog rasp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472440" cy="5548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05360" y="4498920"/>
            <a:ext cx="249120" cy="258840"/>
          </a:xfrm>
          <a:prstGeom prst="ellipse">
            <a:avLst/>
          </a:prstGeom>
          <a:solidFill>
            <a:srgbClr val="4ddf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85880" y="3343320"/>
            <a:ext cx="249480" cy="257040"/>
          </a:xfrm>
          <a:prstGeom prst="ellipse">
            <a:avLst/>
          </a:prstGeom>
          <a:solidFill>
            <a:srgbClr val="fd43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 i stvarna pl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60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Kadrovsko odeljenje je obično odgovorno za definisanje i praćenje strukture plaća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a-Ratio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nos prosečne plate zaposlenih u određenoj kategoriji plaćanja i srednje vrednosti raspona stope plaća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&gt;1, organizacija plaća malo više nego št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&lt;1, organizacija plaća manje nego št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organizacija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ća onoliko kolik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10200" y="1844640"/>
            <a:ext cx="403380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Nadoknad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 perspektive poslodavca nadoknada predstavlja moćno sredstvo za ostvarenje organizacionih cilje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oknada ima značajan uticaj na organiza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če na stavove i ponašanja zaposlenih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če na vrste zaposlenih koje organizacija privlači i zadrž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že da uskladi interese zaposlenih sa organizacionim ciljev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matra se kao znak statusa i uspe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oknade predstavljaju značajan trošak za organizac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oknad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kt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novna plat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base pa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dnica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 zaposleni se plaćaju na osnovu vremena provedenog na radu(po broju sati ra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lata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 zaposleni primaju plate koje su konzistentne za određeni vremenski period bez obzira na broj sati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gr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dividual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up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rganizac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rekt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nefi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dravstveno osigura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laćeni godišnji odm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enziono osigura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dgovornost za nadokn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Kadrovski specijalis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bično uspostavljaju i administriraju sistem nadokn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organizaciji, tako što sprovode ocenjivanje poslova i radnih zadataka i vrše istraživanje nadoknada koje daju organizacije u istoj industriji da bi odredili nivo nadoknada za svoje zaposle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perativni menadže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kušavaju da usaglase napore zaposlenih sa nagradama koristeći smernice dobijene od kadrovskog odeljen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itanja sa kojima se organizacije suočavaj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ed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ako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a jednakost: da li su plate fer u pogledu relativne vrednosti svakog posla za organizaciju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terna jednakost: da li su nadnice koje daje organizacija fer u poređenju sa visinom nadnica van organizacij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vidualna jednakost: da li je plata svakog pojedinca fer u poređenju sa platom drugih zaposlenih koji obavljaju isti ili sličan posa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epen javnosti/ tajnosti informacija o nadoknada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977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avovi zaposlenih o pravednosti pl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734080"/>
            <a:ext cx="72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Šta zaposleni mogu uraditi ako smatraju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plate nisu pravedn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80326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dministracija nadokn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voj, primena i održavanje osnovnog sistema nadoknade naziva s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dministracija nadoknad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a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vrh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dministracije nadoknade je da zaposlenima obezbedi nadoknade koje su </a:t>
            </a:r>
            <a:r>
              <a:rPr b="0" lang="sr-Latn-CS" sz="2800" spc="-1" strike="noStrike">
                <a:solidFill>
                  <a:srgbClr val="cc3300"/>
                </a:solidFill>
                <a:latin typeface="Arial"/>
              </a:rPr>
              <a:t>konkurent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800" spc="-1" strike="noStrike">
                <a:solidFill>
                  <a:srgbClr val="cc3300"/>
                </a:solidFill>
                <a:latin typeface="Arial"/>
              </a:rPr>
              <a:t>pravič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ganizacije moraju razviti politike koje će obezbediti koordinaciju, konzistentnost i pravednost u procesu obezbeđivanja nadoknada zaposlenim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eterminante koje određuju nivo i strukturu nadokn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Uslovi na tržištu rad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jedna od važnijih odluka koju firma mora doneti odnosi se na nivo nadoknada koji želi da ima u poređenju sa konkurencij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Zakonski okvir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dredbe Zakona o radu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indikati/kolektivno pregovara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jedna od promenljivih koja utiče na politiku nadoknada u organizaciji je da li su zaposleni članovi sindika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sistem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što kompanija definiše politiku nadoknada neophodno je razviti sistem plaća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 kompanija razvila sistem plaćanja potrebno joj je sledeć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isi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oriste 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a se odredi relativna vrednost posl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cenjivanje pos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isti se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slova prema relativnoj vrednosti za organiza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e nadnica/pl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ikupljanje podataka o nadnicama/platama koje druge organizacije nude za slične poslov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uktura plać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13:01Z</dcterms:created>
  <dc:creator>Tanja</dc:creator>
  <dc:description/>
  <dc:language>en-US</dc:language>
  <cp:lastModifiedBy>w7</cp:lastModifiedBy>
  <dcterms:modified xsi:type="dcterms:W3CDTF">2010-11-01T12:03:49Z</dcterms:modified>
  <cp:revision>30</cp:revision>
  <dc:subject/>
  <dc:title>Compensating Human Resources</dc:title>
</cp:coreProperties>
</file>