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8FF7-124F-4391-8FFC-8F1569AF2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B94B-1002-4A6B-865E-1A05A6CF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7B0E-C65A-4283-A9A6-5D658C01D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D886-101C-41F6-A5AA-4A175CAC8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6BCE-6D41-4E7D-BA9B-E9967220F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4C33-446B-4B4E-98DF-64870FD4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4777-6967-42AC-BD73-8A425F21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3BA4-6645-4115-BF1F-DC40ED9B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7333-2187-4DE4-8F0A-158A0781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C950-E2AB-4FE4-B305-E9C09959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A747-7D28-4340-9FC6-2B08D40F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9448-62A8-496B-B711-192E7064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9A2D-2A42-411B-BB5D-D6EA4811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90A3-58B2-4BD5-ADC2-3FFABD76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78B0-BF03-43F4-98D3-2927A79E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5B48-E2AE-4726-A610-D45649639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E93D-3687-4085-883E-6893231F5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D87C-9C08-4BD6-8B4D-523E0B07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A7EC-5D1F-4AE4-AA0F-C4E475D3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2407-8CEE-4ADB-94A7-0E790B42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EBD9-8A69-40B8-8908-49328E57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441E-7F6A-4847-B7D0-E14A1D43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0B22-2B96-4F9C-ADAC-70A4E0B9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1656-9122-488B-9CA6-A687BBF4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F9C2-5897-446A-A332-B9E681B2A17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C63D-2E7B-4D84-B077-05C9214CC5B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900" spc="-1" strike="noStrike">
                <a:solidFill>
                  <a:srgbClr val="cc3300"/>
                </a:solidFill>
                <a:latin typeface="Arial"/>
              </a:rPr>
              <a:t>Sindikati</a:t>
            </a:r>
            <a:endParaRPr b="0" lang="en-US" sz="59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92000" y="3573000"/>
            <a:ext cx="607212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jam sindik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Uloga sindik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Proces organizovanja sindik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rste sindik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Kolektivno pregovaranj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95080" y="388800"/>
            <a:ext cx="878256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Nepravedno postupanje sa zaposlenim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TIP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eate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pretnj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Menadžment može pretiti zaposlenima otkazom ili zatvaranjem kompanije ako glasaju za sindik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errogat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ispitivanj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Menadžment može pitati zaposlene kako će glasat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mis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obećanj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Menadžment može obećati zaposlenima povišice ako ne glasaju za sindik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y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špijuniranj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Menadžment može poslati svog špijua na sastanke sindika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Kolektivno pregovaranje </a:t>
            </a:r>
            <a:br>
              <a:rPr sz="4000"/>
            </a:b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i="1" lang="sr-Latn-CS" sz="4000" spc="-1" strike="noStrike">
                <a:solidFill>
                  <a:srgbClr val="cc3300"/>
                </a:solidFill>
                <a:latin typeface="Arial"/>
              </a:rPr>
              <a:t>c</a:t>
            </a:r>
            <a:r>
              <a:rPr b="0" i="1" lang="en-US" sz="4000" spc="-1" strike="noStrike">
                <a:solidFill>
                  <a:srgbClr val="cc3300"/>
                </a:solidFill>
                <a:latin typeface="Arial"/>
              </a:rPr>
              <a:t>ollective </a:t>
            </a:r>
            <a:r>
              <a:rPr b="0" i="1" lang="sr-Latn-CS" sz="40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0" i="1" lang="en-US" sz="4000" spc="-1" strike="noStrike">
                <a:solidFill>
                  <a:srgbClr val="cc3300"/>
                </a:solidFill>
                <a:latin typeface="Arial"/>
              </a:rPr>
              <a:t>argaining</a:t>
            </a: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491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egovaranje između predstavnika sindikata i predstavnika menadžmenta da se napravi ugovor koji definiše uslove zaposlenja i da se administrira ugov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govor obično sadrž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redbe 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cija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vilima ra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šavanju pritužb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45400" y="1960560"/>
            <a:ext cx="1971720" cy="262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Kolektivno pregovaranj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rste pregovaračkih odnosa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nflik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oružano primir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oć u pregovaranj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lagođavan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aradn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ćutno razumevan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truktura pregovaranj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jedan poslodavac-jedan sindik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jedan poslodavac-više sindik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više poslodavaca-jedan sindikat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Kolektivno pregovaranj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6868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Tipovi ponašanja u kolektivnom pregovaranj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Distributivno pregovaranj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Interaktivno pregovaranj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Strukturisanje stavo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Unutarorganizaciono pregovaranj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Kada pregovaranje ne da rezultat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traj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lektivna odluka članova sindikata da ne rade dok se ne ispune određeni zahtevi ili uslov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rste štrajk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konomski štraj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trajk zbog nepravednih praks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ivlji štraj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legalni štraj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ruge alterna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edijaci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 finde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rbitraž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716360" y="1557360"/>
            <a:ext cx="2305080" cy="2441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084720" y="4076640"/>
            <a:ext cx="2662560" cy="252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ostupak za rešavanje pritužb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Postupak za rešavanje pritužbe (</a:t>
            </a:r>
            <a:r>
              <a:rPr b="0" i="1" lang="sr-Latn-CS" sz="2500" spc="-1" strike="noStrike">
                <a:solidFill>
                  <a:srgbClr val="000000"/>
                </a:solidFill>
                <a:latin typeface="Arial"/>
              </a:rPr>
              <a:t>grievance procedure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100000"/>
              </a:lnSpc>
              <a:spcBef>
                <a:spcPts val="624"/>
              </a:spcBef>
              <a:buClr>
                <a:srgbClr val="cc3300"/>
              </a:buClr>
              <a:buSzPct val="75000"/>
              <a:buFont typeface="Arial"/>
              <a:buAutoNum type="arabicPeriod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Zaposleni se obraća nadređeno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100000"/>
              </a:lnSpc>
              <a:spcBef>
                <a:spcPts val="624"/>
              </a:spcBef>
              <a:buClr>
                <a:srgbClr val="cc3300"/>
              </a:buClr>
              <a:buSzPct val="75000"/>
              <a:buFont typeface="Arial"/>
              <a:buAutoNum type="arabicPeriod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Ako se konflikt ne reši na ovaj način, zaposleni se obraća predstavniku sindikat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100000"/>
              </a:lnSpc>
              <a:spcBef>
                <a:spcPts val="624"/>
              </a:spcBef>
              <a:buClr>
                <a:srgbClr val="cc3300"/>
              </a:buClr>
              <a:buSzPct val="75000"/>
              <a:buFont typeface="Arial"/>
              <a:buAutoNum type="arabicPeriod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Predstavnik sindikata razgovara sa linijskim menadžero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100000"/>
              </a:lnSpc>
              <a:spcBef>
                <a:spcPts val="624"/>
              </a:spcBef>
              <a:buClr>
                <a:srgbClr val="cc3300"/>
              </a:buClr>
              <a:buSzPct val="75000"/>
              <a:buFont typeface="Arial"/>
              <a:buAutoNum type="arabicPeriod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Sindikat razgovara o pritužbi sa menadžerom organizacione jedinice ili sa kadrovskim specijalisto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100000"/>
              </a:lnSpc>
              <a:spcBef>
                <a:spcPts val="624"/>
              </a:spcBef>
              <a:buClr>
                <a:srgbClr val="cc3300"/>
              </a:buClr>
              <a:buSzPct val="75000"/>
              <a:buFont typeface="Arial"/>
              <a:buAutoNum type="arabicPeriod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Predstavnik sindikata se sastaje sa predstavnikom menadžmenta kompanij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100000"/>
              </a:lnSpc>
              <a:spcBef>
                <a:spcPts val="624"/>
              </a:spcBef>
              <a:buClr>
                <a:srgbClr val="cc3300"/>
              </a:buClr>
              <a:buSzPct val="75000"/>
              <a:buFont typeface="Arial"/>
              <a:buAutoNum type="arabicPeriod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Poziva se treća osoba/arbitar da presudi u konkretnom slučaj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Uloga sindikat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indikati (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ion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rganizacije koje se formiraju sa ciljem da predstavljaju interese svojih članova i rešavaju konflikte sa poslodavci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Cilj sindikata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poboljšanje ekonomskih i drugih uslova zapošljavanja (kao što su nadnice, radno vreme beneficije, itd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indikati nastoje da ostvare ove ciljeve kroz kolektivno pregovaranj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Sindikati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Zakon o radu RS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Zaposlenima se jamči sloboda sindikalnog organizovanja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ndikatom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 se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matra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amostalna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mokratska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zavisna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rganizacija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zaposlenih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oju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ni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obrovo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lj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dru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ju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adi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zastupa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nj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edstav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lj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nj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napre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nj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za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ite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vojih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fesionalnih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adnih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konomskih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cijalnih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ulturnih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rugih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ojedina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ih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olektivnih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esa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oslodavac je dužan da zaposlenom koji je član sindikata na ime sindikalne članarine odbije iznos od zarade na osnovu njegove pismene izjave i da taj iznos uplati na odgovarajući račun sindikata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Uloga sindikat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posleni se organizuju u sindikate iz jednog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osnovnog razlog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 nezadovoljni su načinom na koji ih poslodavci tretiraju i smatraju da će sindikat popraviti njihovu situaciju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eki od važnijih faktora su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zadovoljstvo nadnicama i beneficija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zadovoljstvo bezbednošću na radu ili sigurnošću pos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oš tretman od strane nadređenog, uključujući i nedovoljnu komunikacij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mogućnost da bilo šta prome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Vrste sindikat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indikati zanatli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pšti sindika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indikati u industriji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indikati pojedinačnih profesi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rimer: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indikati či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 %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kupnog broja zaposlenih u u S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47640" y="1639800"/>
            <a:ext cx="6458040" cy="52182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Sindikati- t</a:t>
            </a: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rend u SAD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Ciljevi svake grup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>
              <a:lnSpc>
                <a:spcPct val="100000"/>
              </a:lnSpc>
              <a:spcBef>
                <a:spcPts val="55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U pogledu radnih odnosa koji su ciljev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17560" indent="-39420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Menadžmen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10240" indent="-35784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anjenje troškov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10240" indent="-35784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većanje output-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17560" indent="-39420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Sindika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10240" indent="-35784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Stvoriti uslove (u pogledu plate i uslova rada) koji zadovoljavaju članov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10240" indent="-35784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Dati članovima glas u donošenju odluka koje se njih tič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10240" indent="-35784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Jednaka plata za jednak ra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10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10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Procenjuje se da je ukupan ekefat sindikata na nadnice oko 10%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roces organizovanja sindikat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74400" y="1433520"/>
            <a:ext cx="370188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eklamiranje- sa ciljem stvaranja interesovanja zaposlenih za sindik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posleni potpisuju kartu odobren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zbor sindik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lasan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tvrd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862440" y="1773360"/>
            <a:ext cx="5281560" cy="446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7:54:35Z</dcterms:created>
  <dc:creator>Tanja</dc:creator>
  <dc:description/>
  <dc:language>en-US</dc:language>
  <cp:lastModifiedBy>w7</cp:lastModifiedBy>
  <dcterms:modified xsi:type="dcterms:W3CDTF">2010-11-01T11:58:26Z</dcterms:modified>
  <cp:revision>55</cp:revision>
  <dc:subject/>
  <dc:title>Kolektivno pregovaranje i radni odnosi</dc:title>
</cp:coreProperties>
</file>