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CA3-3204-4B85-BBAA-299E249B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0DA-3DED-474E-A915-EC6AF2DB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8E0-E769-4E54-946F-81B1AB05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76B-8D75-4283-9E6C-1F070576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FFF-9B52-442D-88D1-4BC5732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F5F-FA5E-43B3-AB7F-3B34669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BA3-32FC-4E12-8A9B-443B269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48C-EF8F-4A67-A541-CBE17432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61A-6690-4CE6-A4FA-062F514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F14-A826-44EE-8443-373B2F9E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CF4-CCA8-4169-848F-E211D146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0B6-1434-4A51-928C-14AFBCA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20DB-465D-4230-A832-044A115C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RTIVNA KOMUNIK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STILOVI KOMUN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83808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ASIVNA KOMUNIK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– indirektnost, izbegavanje konflikata, skrivanje osećanja i mišljenja, druga osoba ne zna vaše pravo mišlj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 se kada se plašimo da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ga ne izgubimo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da 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mopoštovan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 niskom nivo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ili kada ne želimo da zauzimamo stav u vezi određene te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335268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GRESIVNA KOMUNIK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– kontrola nad drugima, ponižavanje drugih, dominacija, napad, konstantna potreba 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et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avu, okrivl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anje drug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 se kada želimo da imamo kontrolu, nesigurni smo, p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mo se ili ne cenimo tuđa mišljenja, ž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 da dokažemo da je neko 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avu ili 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SERTIVNA KOMUN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ASERTIVNA KOMUN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orma komunikac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u okviru koje se zalažemo za svoja prava ali uzimamo u obzir i prava i osećanja drug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98764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e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Pravedn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Direktn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Takt i osećajnos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Iskre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0639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KAKO ASERTIVNO KOMUNICIR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1932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i dela u razvoju asertivnih iz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Vaša perspektiva/percepcija situ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Vaša osećanja u vezi situ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Vaše želje u vezi situacije ili reš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-361800" algn="just">
              <a:spcBef>
                <a:spcPts val="64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ja-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95320" indent="-361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način saopštavanja pomoću kojeg otvoreno i jasno iskazujemo svoje opažanje situacije, svoja osećanja i potrebe u vezi sa tom situacijom i saopštavamo kako bismo želeli da se ta situacija razreši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 da naša potreba bude zadovolj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95320" indent="-361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služe izražavanju vlastitih osećanja, opažanja, iskustava, doživljaja, sećanja, misli, potreba, želja, zanimanja, ideja, očekivanja, verovanja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OSNOVNE PORUKE U KOMUNIK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2. ti-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nude gotova rešenj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se koriste pri vređanju, napadanju,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ebacivanju, osuđivanju, ocenjivanju,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kažnjavanju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se odnose na dru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3. mi-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jačaju vlastiti položaj ili prikrivaju vlastito mišljenje i vlastite žel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pomoću kojih pokušavamo da utičemo na druge zaobilazno, indirektno, smanjujemo ili otklanjamo vlastitu odgovornost i obaveze u vezi sa sadržajem komunik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OSNOVNE PORUKE U KOMUNIK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1. ”Kada vidim/primetim da ... 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 govorimo o postupku druge os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- opis koji nije vrednovanje ni ocenjiv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Arial"/>
              </a:rPr>
              <a:t>2. ”...osećam se... ” ili ” ... želim da ... 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govorimo o svojoj reakciji bez samooptuživanja i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avd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3.”</a:t>
            </a: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..ž</a:t>
            </a: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eleo-la bih da..”</a:t>
            </a: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ili ”</a:t>
            </a: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..</a:t>
            </a: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voleo-la bih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govorimo o željenom ishodu bez naredbi i u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STRUKTURA JA-PO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V E Ž B A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371600"/>
          <a:ext cx="8382240" cy="518148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514600"/>
                <a:gridCol w="16765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an opis situacij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da vidim/primetim da .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da primetim da me laže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ja reakc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ećam se ili želim da 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ećam se povređenom i izneveren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hod koji bi voleo/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o što bih ja više voleo/la ili želeo/la je da 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o š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h ja više volela je da mi kažeš istinu ma koliko ona bole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V E Ž B A  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687600" indent="-687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PREUZIMANJE ODGOVOR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i me ne slušaš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i nikada ne vrednuješ moj rad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ašto si ljut/a na mene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Da li ti sve ovo zapisuješ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ilena, šta si uradila sa finansijskim izveštajem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etpostavka: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novo napisana izjava: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8:54:20Z</dcterms:created>
  <dc:creator>w7</dc:creator>
  <dc:description/>
  <dc:language>en-US</dc:language>
  <cp:lastModifiedBy>w7</cp:lastModifiedBy>
  <dcterms:modified xsi:type="dcterms:W3CDTF">2010-10-31T18:54:57Z</dcterms:modified>
  <cp:revision>2</cp:revision>
  <dc:subject/>
  <dc:title>Slide 1</dc:title>
</cp:coreProperties>
</file>