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B839-0540-49DE-AF08-6F1ED423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4B1-D42B-426D-876A-68C9B1FC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AC0-0F22-4738-86A0-9D29352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F7E-2F3C-4E44-916A-EC8D3DCA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932-B017-4BAD-A343-2BE1888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9CB-47BA-4741-A456-A789CCED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220A-F364-4613-8F15-0097772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5DE-3C7F-4980-9D01-2E9A99A4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313E-B90E-48F6-9FDC-9D72A08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438-A9D2-4A0D-AFC7-4F9F198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EA8-5ADB-4AB1-A18F-5FB1720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A1FF-AEF5-4418-82F4-117E753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65A-BDE3-4371-B29A-8F035FF7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96E7-7B53-4B46-8CC7-97A8434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51BB-AA2C-4BDC-BBE8-1DCE1DE8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B8C-E4BE-45A0-8B0F-280CF621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4EA-5EF2-470E-8568-AEDBDA4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92B9-B704-4D1B-A344-87A5F5D1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078-1EBD-4986-B201-84DE9976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55C-83BA-4ED6-807C-E6B84CA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6EF-FDB1-4BAD-9040-D66E852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321-B8B8-43D9-803F-77C2005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9D5-07AA-4992-84CD-B9864A7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84E-E592-46D7-A443-E5808EF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B1A-BACD-4D58-BD73-B3B1F18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B57-CF1C-4D30-974C-33E9F9917C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915-A6B9-4370-B17E-78DE3ECFCF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200" spc="-1" strike="noStrike">
                <a:solidFill>
                  <a:srgbClr val="cc3300"/>
                </a:solidFill>
                <a:latin typeface="Arial"/>
              </a:rPr>
              <a:t>Planiranje i regrutovanje </a:t>
            </a:r>
            <a:r>
              <a:rPr b="0" lang="en-US" sz="52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35344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laniranj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judskih resurs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egrutovanj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judskih resurs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Izvori regrut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93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išak radne snag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4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išak radne snag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kada predviđanja pokazuju da će interna ponuda radne snage premašiti tražnju, poslodavci moraju napraviti planove da smanje ponu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ategije za planiranje viška radne sn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wnsiz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lanirano smanjenje broja zaposlenih u cilju povećanja konkurentnosti organiza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vremeno penzionisan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grami koji podstiču starije zaposlene da dobrovoljno napuste organizaci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92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anjak radne snag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anjak radne sna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kada tražnja premašuje internu ponudu, poslodavci obično idu na eksterno tržište rada da regrutuju nove zaposle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ategije za planiranje manjka radne snag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šljavanje radnika na određeno vreme i angažovanje radnika po ugov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čitava funkcija se prepušta drugoj fir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rovođenje i praćenje plan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 je odgovoran za rezul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je organizacija uspela da izbegne višak ili manjak radne s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delovi plana su bili uspešni, a koji 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av je bio uticaj plana na iskorišćenost radne s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Regrutovanje kadrov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2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grutovanje podrazumeva s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vaku aktivnost koju organizacija sprovodi sa osnovnim ciljem da se identifikuju i privuku potencijalni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andidati za posa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ilj: zadovoljiti trenutne i buduće kadrovske potrebe na najefikasniji i najefektivniji nač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o regrutovanje obazbeđuje da kompanija im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voljno ljudi sa pravim veštin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 obavlja regrutova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rovski specijalisti i linijski menadže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viši menadžeri mogu biti uključeni u proces regrutovanja za ključne položaje u organizacij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grutovanje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10080" y="1979640"/>
            <a:ext cx="5533920" cy="487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557360"/>
            <a:ext cx="36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Tri ključna područja regrutovanj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Izvori regrutova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rakteristike i ponašanje poslodav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2327400"/>
            <a:ext cx="4038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ni izv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terni izv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886200" cy="54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98400" y="5978520"/>
            <a:ext cx="213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terni 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i izvori regrutovan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ljudi koji su trenutno zaposleni u organizaciji na drugim položaj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ašnji zaposle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rutovanje preko postojeći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poslen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vši zaposle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ndidati koji su se ranije prijavljivali za posao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terno oglašavanje poslov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job post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 informacije o slobodnim radnim mestima se objavljuju na oglasnim tablama, u različitim publikacijama koje su dostupne zaposlenima, na intranetu, ili na bilo koji drugi način kako organizacija inače komunicira sa svojim zaposlen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ekat talasa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ipple effec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Eksterni 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le i fakulte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encije za zapošljavanje (privatne, držav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ad hunter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encije/grupa profesionalaca koji se bave pronalaženjem kadrova za najviše položaje u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-recrui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jski izvo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novine, časopisi, radio, TV, it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glašavanje slobodnih radnih mes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 u="sng">
                <a:solidFill>
                  <a:srgbClr val="000000"/>
                </a:solidFill>
                <a:uFillTx/>
                <a:latin typeface="Arial"/>
              </a:rPr>
              <a:t>Oglas za posao treba da bude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cizan, ali da predstavlja tačan opis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traktivan maksimalnom broju pravih kandi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zitivan i da daje iskrenu sliku o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levantan za posao i kandi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egalan- u skladu sa zakon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glašavanje slobodnih radnih mes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onkurs za posao treba da sadrži informacije 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ji: osnovna delatnost i loka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u: naziv radnog mesta, osnovne dužnosti i odgovornosti, kao i posebne karakterist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lovima: specijani faktori koji utiču na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valifikacijama i iskustv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gradama: plata, beneficije, mogućnosti treninga, razvoj karijere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su prijavljivanja za posao: kako se prijaviti, kontakt osoba, kontakt telefon, rok za prijavl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475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ibavljanje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766800" y="6230880"/>
            <a:ext cx="1668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bavljanje ljudskih resur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tvaruje se kroz tri glavna proc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kadr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uto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kc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Zašto se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bi organizacija ostvarila svoje poslovne cilje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bi ostvarila prednost nad konkurencij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o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o odeljenje- najviši kadrovski menadžeri, kadrovski specijali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a se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Na kratak rok (godinu dana unapr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Srednjoročno (2-3 godin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ugoročno (više od 3 godine unapr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 korak u planiranju kadrov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poznavanje i procena budućih relevantnih spoljnih i unutrašnjih činila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dviđanje potreba za kadrovima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šaj da se odrede ponuda i tražnja za različitim vrstama ljudskih resursa kako bi se predvidelo u kojim delovima organizacije će se pojaviti manjak ili višak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e predviđanja potreba za kadrovi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matičke metode (proste i slože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e prosuđivanja (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tivno prosuđivanje ekspera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dviđanje ponude radne sn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u ponudu 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čine svi zaposleni u jednoj organizaciji. Interna ponuda rada se stalno menja zato što novi ljudi ulaze u organizaciju, a drugi je napuštaju iz različitih razlo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ksterna ponud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žište rad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oblast iz koje poslodavac obično regrutuje kadrove za položaje u svojoj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98400" y="5978520"/>
            <a:ext cx="213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adrovi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judi koji aktivno rade (kadrovi u funkciji) i oni koji se pripremaju za funkciju (kadrovi u pripremi za funkcij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ni minimum za zasnivanje radnog odnosa u RS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ezaposlena l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 ona koja trenutno ne rade, ali voljna su da rade i aktivno traže posao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L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opa zaposlen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: procenat broja kadrova koji su zaposleni u odnosu na ukupan broj radno sposobne popul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opa nezaposlenosti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cenat broja kadrova koji traže posao u odnosu na ukupan broj radno sposobnog stanovništv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visoka stopa nezaposlenosti- labavo tržište rad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iska stopa nezaposlenosti- čvsto tržište rad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 Srbiji ima vise od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700</a:t>
            </a:r>
            <a:r>
              <a:rPr b="0" lang="pl-PL" sz="3200" spc="-1" strike="noStrike" u="sng">
                <a:solidFill>
                  <a:srgbClr val="cc3300"/>
                </a:solidFill>
                <a:uFillTx/>
                <a:latin typeface="Arial"/>
              </a:rPr>
              <a:t> 000 nezaposleni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,2%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zaposlenih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čeka na posao duže od god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d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zaposleni prema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dužin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janj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manje 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 meseca (12,17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2 godine (18,3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3 godine (10,6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5 godina (11,9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8 godina (10,69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že 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godina (9,12%).  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zaposleni prema godinama staros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9 godin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3,2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o 34 godine (12,5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do 39 godina (12,01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o 49 godina (11,9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do 54 godina (11,8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do 44 godina (11,72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476280"/>
            <a:ext cx="87310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plan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5076720" cy="5300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 rot="10800000">
            <a:off x="394920" y="2276280"/>
            <a:ext cx="3459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ajnj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vrha pla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 da omogući menadžerima da usklade raspoloživu ponudu kadrova sa predviđenom tražnj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19:24Z</dcterms:created>
  <dc:creator>Tanja</dc:creator>
  <dc:description/>
  <dc:language>en-US</dc:language>
  <cp:lastModifiedBy>w7</cp:lastModifiedBy>
  <dcterms:modified xsi:type="dcterms:W3CDTF">2010-11-01T11:42:34Z</dcterms:modified>
  <cp:revision>70</cp:revision>
  <dc:subject/>
  <dc:title>Planiranje i regrutovanje kadrova</dc:title>
</cp:coreProperties>
</file>