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4BA-F49F-4F49-8E2C-58563ADB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90A-AB7F-4831-AA0C-7F88FB60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68E-1248-4132-802B-3249DA75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F18-67DA-49F2-B363-9A1CFE3A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033C-4660-4529-94B7-3E30A18C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9676-7BDC-4CF9-BE75-6EF751C9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1A0B-4940-4FAF-AA4F-FA5185EC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140C-C27B-4F24-B681-96E13B2B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1712-E216-4E42-9140-831C961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CC3-F8AC-41C9-B5EB-44C48A14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1123-5FA3-49FE-A037-795C885C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7B5-B115-4418-870D-2C1EC6E7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FD1B-AB84-4DCF-A788-99CD87AE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63F1-A1BE-446B-83FE-8F4A376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3B09-8A79-4333-AF0F-A02E54B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7C7-5833-4187-831C-37605001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01FE-738E-457A-837A-51F3D127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2D3-6C8A-47F6-8231-F75421FB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6D9-C597-4CE3-9F06-3B02FFF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3BA-3708-490D-BFF4-386225E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D8B-9D6D-4441-9CC9-BD943D40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1A8-5D5F-4FE7-86F7-0A1D471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606-7053-4FA7-AFEE-4AA6635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D14-3074-4834-BC01-5CCE3C4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18E8-5726-471D-AC3E-D0FA41924D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D27C-A9F8-4F2A-A316-4169A165F6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500" spc="-1" strike="noStrike">
                <a:solidFill>
                  <a:srgbClr val="cc3300"/>
                </a:solidFill>
                <a:latin typeface="Arial"/>
              </a:rPr>
              <a:t>Zdravlje i sigurnost na radu</a:t>
            </a:r>
            <a:endParaRPr b="0" lang="en-US" sz="45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Sektori visokog rizi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Uzroci nesreć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evencija nesreća na rad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aveze poslodavaca i zaposleni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evencija nesreća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sreće na radnom mestu mogu izazvat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zičke opasnos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ša prak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dgovorno ponašanje zaposlen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ćinu smrti, povreda na radu ili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ofesionalnih oboljenj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oguće je sprečiti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govornost je i poslodavca i zaposlenog da spreče nesreće kad god je to moguć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bave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e poslodavaca i zaposlenih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Poslodavac je duža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razvije sigurnu-bezbednu praksu i sigurne sisteme r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održava zdravo i bezbedno radno okružen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pismeno obaveštava zaposlene o politikama zdravlja i bezbednosti na rad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obezbedi potreban trening zaposlen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zaposlenima daje informacije o potencijalnim opasnost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Zaposleni su dužn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 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vesno i odgovorno vode računa o sebi i drug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postupaju u skladu sa merama bezbednosti i zdravlja na rad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informišu poslodavca o svakoj situaciji koja predstavlja rizik za bezbednost ili zdravlj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-R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konodavstvo definiše minimalne standarde u pogledu zdravlja i bezbednosti kadrova, koji moraju biti zadovolje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kon o bezbednosti i zdravlju na rad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su obaveze poslodavac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va su prava zaposlen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ležna institucija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arstvo rada i socijalne politik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rava za bezbednost i zdravlje na radu u sastavu minista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baveze poslodavc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Poslodavac je duž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zvrši osposobljavanje zaposlenog za bezbedan i zdrav rad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kod zasnivanja radnog odnosa, odnosno premeštaja na druge poslove, prilikom uvođenja nove tehnologije ili novih sredstava za rad, kao i kod promene procesa rada koji može prouzrokovati promenu mera za bezbedan i zdrav rad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svako lic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koje se po bilo kom osnovu nalazi u radnoj okolini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upozori na opasna mesta ili na štetnosti po zdravl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koje se javljaju u tehnološkom procesu, odnosno na mere bezbednosti koje mora da primeni, i da ga usmeri na bezbedne zone za kreta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poslenog upozna sa svim vrstama rizik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 poslovima na koje ga određuje i o konkretnim merama za bezbednost i zdravlje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vidno obeleži i istakne oznake za bezbednost i/ili zdravl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radi obaveštavanja i informisanja zaposlenih o rizicima u tehnološkom procesu, pravcima kretanja i dozvoljenim mestima zadržavanja kao i o merama za sprečavanje ili otklanjanje riz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zn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Novčanom kaznom od 800.000 do 1.000.000 dinara kazniće se za prekršaj poslodavac sa svojstvom pravnog lic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ko zaposlenom ne obezbedi rad na radnom mestu i u radnoj okolini na/ u kojima su sprovedene mere bezbednosti i zdravlja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prilikom organizovanja rada i radnog procesa ne obezbedi preventivne mere radi zaštite života i zdravlja zaposle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ne izvrši osposobljavanje zaposlenog za bezbedan i zdrav r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ne zaustavi svaku vrstu rada koji predstavlja neposrednu opasnost za život ili zdravlje zaposlen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zaposlenom odredi da obavlja poslove na kojima nisu sprovedene mere bezbednosti i zdravlja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zaposlene ne obaveštava o uvođenju novih tehnologija i sredstava za rad, kao i opasnostima od povreda i oštećenja zdravlja koji nastaju njihovim uvođenj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zaposleni ode da opere šolju od čaja posle upotrebe, oklizne se u kuhinji jer je pod klizav, i povredi se, šta mislite čija je greš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vako radno mesto identifikujte najmanje jednu moguću opasnost i najmanje jednu meru koju bi poslodavac mogao preduzeti u cilju smanjenja rizika za povredu na radu ili profesionalno obolje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dnik u restoranu brze hr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ozač kami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c3300"/>
                </a:solidFill>
                <a:latin typeface="Arial"/>
              </a:rPr>
              <a:t>Podsticanje primene pravila bezbednosti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522080"/>
            <a:ext cx="823428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lodavac ne treba samo da definiše pravila o bezbednosti na radnom mestu, već i da podstakne njihovu prime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ređene vrste povreda mogu se sprečiti kro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lizu pos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isana pravila/politi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ening iz bezbed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itnu oprem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grade i sankc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ršku menadžmen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dravlje i bezbednost na radu su prvenstvena briga kadrovskog menadžm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dravl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opšte stanje fizičkog, mentalnog i emocionalnog blagost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ezbednost (sigurnost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stanje u kome se štiti fizičko blagostanje ljud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žnost je poslodavca da svojim zaposlenima obezbed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zdravo i bezbedno okruženje za r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bednost zaposlenih je ključna za svaku organizaciju, bez obzira na njenu veliči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njuje se da svake godin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2,2</a:t>
            </a:r>
            <a:r>
              <a:rPr b="0" lang="pl-PL" sz="2400" spc="-1" strike="noStrike" u="sng">
                <a:solidFill>
                  <a:srgbClr val="cc3300"/>
                </a:solidFill>
                <a:uFillTx/>
                <a:latin typeface="Arial"/>
              </a:rPr>
              <a:t> miliona radni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gi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esre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radu i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re zbo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fesion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boljenja- to je oko </a:t>
            </a:r>
            <a:r>
              <a:rPr b="0" lang="pl-PL" sz="2400" spc="-1" strike="noStrike" u="sng">
                <a:solidFill>
                  <a:srgbClr val="cc3300"/>
                </a:solidFill>
                <a:uFillTx/>
                <a:latin typeface="Arial"/>
              </a:rPr>
              <a:t>6000 ljudi svakog d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 ovog broja, oko 1000 radnika pogine u nesreći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 EU godišnje umre više od 150000 zaposlenih godiš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8900 u nesreći na radu i 142000 zbog profesionalnih obolje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novni faktori koji utiču na zdravlje i bezbednost na radu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emijske sup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š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gađenost vazdu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ka i vibr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a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dij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rgonomski uslovi (osvetljenje, oprema,itd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ektori visokog rizi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oljoprivreda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oja trenutno zapošljava oko polovine svetske radne snage (1.3 milijardi ljudi); procenjuje se da godišnje pogine oko </a:t>
            </a:r>
            <a:r>
              <a:rPr b="0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170000 radnik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poljoprivredi; to znači da je rizik smrti radnika u poljoprivredi skoro </a:t>
            </a:r>
            <a:r>
              <a:rPr b="0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dva puta već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nosu n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ekto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udarstv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ošljava oko 1% svetske radne snage, a odgovorno je za 5% ukupnog broja nesreća na ra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Građevinarstv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godišnje se dogodi preko </a:t>
            </a:r>
            <a:r>
              <a:rPr b="0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60 hiljada nesreća na gradilištim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to je otprilike jedna nesreća sa smrtnim ishodom na svakih deset minu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ko 80% nesreća na radu dešava se u S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enjuje se da muškarci čine oko 80% smrti na r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o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kod mlađih radnika postoji veći rizik od ozbiljnih nesreć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 nesreća dešava se pojedincima starosti 20-29 god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% nesreća dešava se zaposlenima u toku prve godine rada na određenom posl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IV/AID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ražen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ko 26 miliona radnika širom sve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 dec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m sveta radi oko 250 miliona dec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ros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5 do 14 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kon o radu R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‘’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adni odnos može da se zasnuje sa licem koje ima najmanje 15 godina živo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adni odnos sa licem mlađim od 18 godina života može da se zasnuje uz pismenu saglasnost roditelja, usvojioca ili staraoca,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ko takav rad ne ugrožava njegovo zdravlje, moral i obrazovanje, odnosno ako takav rad nije zabranjen zakonom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.’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2 odsto dečaka i devojčica između 15 i 18 godina radi za nov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roci nesreć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lizavi ili loše održavani podov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štićene električne ž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preke u prolazima ili na stepeniš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njanje da bi se dohvatile visoke pol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izanje teških predm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pravilna upotreba električnih maš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pravilno obeležavanje ili čuvanje hemikal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asnosti po zdravl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uelne operacije (podizanje tere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ija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pstance koje su otrovne, korozivne ili izazivaju oboljenja (azbe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sivno puše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zumiranje alkohola, dro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atistički podaci- najčešći uzroci smrti u vezi sa radom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408720" cy="3787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443640" y="2565360"/>
            <a:ext cx="27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2% 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3% bolesti cirk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9% nesreće na ra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7% zarazne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% oboljenja respiratornih org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- troškov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 proseku 4% bruto domaćeg proizvoda troši se zbog odsustva sa posla, bolesti zaposlenih, problema invaliditeta ili beneficija preživelima u nesrećama na rad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šak koji društvo snosi zbog nesreća na radu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fesionalnih oboljen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ljučuje i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remeno penzionis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psentiz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ezaposle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iromašnija domaćinst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0:07:06Z</dcterms:created>
  <dc:creator>Tanja</dc:creator>
  <dc:description/>
  <dc:language>en-US</dc:language>
  <cp:lastModifiedBy>w7</cp:lastModifiedBy>
  <dcterms:modified xsi:type="dcterms:W3CDTF">2010-10-31T18:31:18Z</dcterms:modified>
  <cp:revision>27</cp:revision>
  <dc:subject/>
  <dc:title>Zdravlje i sigurnost na radu</dc:title>
</cp:coreProperties>
</file>