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3D6-62D6-44F1-92C1-23F21193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053-61C8-4A39-8199-5E7A85A4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830-7A52-4B5B-9D67-D40E1CB5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1BF-1859-4969-93AA-23654361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0E9B-EF14-45F6-8079-1CE739FF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BCFF-B245-4223-97AE-BBF78E38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3B38-E24C-46D5-A86C-125A7B08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67C8-494D-4375-A1E9-046D5C15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CD32-AC87-46FA-B4CE-B7A58107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B570-B064-4C7D-B072-3E93B9B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1913-5285-47D7-BB64-4C7B725C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C48-68BB-4862-8E43-A9925474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F2CB-3BED-4544-B749-AC203FBF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5EDA-F345-4426-A3C1-B9615247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894A-5B2C-43DF-97BD-5E57E946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2A20-BD10-475D-83D0-F4394B1F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2CE8-32CE-48E0-A089-D853B0A3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729-4743-4003-8AE0-4F337255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386-8C4D-467E-9C9B-86286DBE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61C-B372-4A05-9308-E62BE998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B18-9B37-497B-A7DB-3F52D38A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6AF-6865-4700-B776-9C232BBA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0CA-20AB-48E0-A15A-290A42E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03D-A03F-4463-A926-1F67A24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9B86-3688-4907-BF0E-06A1F2D1144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9734-3718-4BFF-8337-D4ED6ADA30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930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Selekcija </a:t>
            </a:r>
            <a:r>
              <a:rPr b="0" lang="en-US" sz="5800" spc="-1" strike="noStrike">
                <a:solidFill>
                  <a:srgbClr val="cc3300"/>
                </a:solidFill>
                <a:latin typeface="Arial"/>
              </a:rPr>
              <a:t>ljudskih resursa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63280" y="3284640"/>
            <a:ext cx="607212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 selekcij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rijave za posao i rezim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Metode selekcij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Testovi za selekciju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Donošenje odluke o selekciji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672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intervju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ituacioni intervj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Ispitivač opisuje situaciju koja se može desiti na poslu, i postavlja pitanje kandidatu šta bi on uradio u toj situacij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Intervju za opisivanje ponašanj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Ispitivač postavlja pitanje kandidatu da opiše kako je postupao u određenim situacijama u prošl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672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e od sledećih pitanja je dozvoljeno postavit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li će nega deteta uticati na mogućnost da dolazite na posa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li imate automobil kako biste mogli da stignete na vre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aj posao zahteva od Vas da budete na radnom mestu od 8 do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li možete da zadovoljite ovaj zaht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33300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Dozvoljena/nedozvoljena pit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6380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elekcija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ljudskih resurs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roces izbora pojedinaca koji imaju relevantne kvalifikacije da dobiju posao u organizaciji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roces u kome organizacija odlučuje ko će, odnosno ko neće ući u organizaciju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7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Arial"/>
              </a:rPr>
              <a:t>U čemu je razlika između regrutovanja i selekcij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selekci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9280" y="2492280"/>
            <a:ext cx="8694720" cy="27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599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egled prijava za posao i rezimea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java za posao sadrži sledeće informa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Lični podaci kandidata-kontakt informacij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Radno iskustv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Obrazovanje kandidata,it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2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Rezime (Curriculum Vitae-CV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560" y="33300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test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stovi sposobnos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stovi kojima se meri sposobnost pojedinca da razvije posebne veštine i znanja u budućn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stovi izvršenj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stovi kojima se mere postojeća znanja i veštine pojedin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Test iskrenosti- primer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6440" y="1965240"/>
            <a:ext cx="822636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ntervju za selekciju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ju je najčešće korišćeno sredstvo za selekc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vju sa kandidatom obično vode kadrovski specijalista i osoba koja će biti neposredni nadređeni kandidatu ako dobije posao. Ako više osoba treba da obavi intervju sa kandidatom , to se može uraditi pomoću panel intervjua (gde više ispitivača obavlja razgovor sa kandidatom odjedn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rha intervju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se pronađe najbolja osoba za posa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obezbedi da kandidati razumeju šta posao uključuje, kakve su mogućnosti za napredovanje u karijeri,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pruži najbolju moguću sliku o organizac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ponudi fer tretman svim kandidatima, bez obzira da li će dobiti posao ili 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aveti za efektivan intervj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860480"/>
            <a:ext cx="403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Odlučite šta tražite od kandidat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ripremite se za intervju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emojte otežavati kandidatu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ratite listu pitanja koju ste sastavil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lušajte šta kandidat govor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ravite belešk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jubazno završite intervju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08560" y="2046240"/>
            <a:ext cx="4003560" cy="32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33300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intervju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strukturisan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pitivač ima slobodu da izabere pitanja koja će postaviti kandida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itanja se ne planiraju unap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lustrukturisani interv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a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a pitanja se planiraju unap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isti standardizovan skup pitanja koja se postavljaju svim kandidatima po istom re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25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4:46:57Z</dcterms:created>
  <dc:creator>Tanja</dc:creator>
  <dc:description/>
  <dc:language>en-US</dc:language>
  <cp:lastModifiedBy>w7</cp:lastModifiedBy>
  <dcterms:modified xsi:type="dcterms:W3CDTF">2010-11-01T11:45:30Z</dcterms:modified>
  <cp:revision>23</cp:revision>
  <dc:subject/>
  <dc:title>Selekcija kadrova</dc:title>
</cp:coreProperties>
</file>