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111-9E6A-40EC-8A05-E606CF3F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B22-D56A-4A33-B940-052B6F23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C72-3A8A-4919-8376-0536612E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7DF-C0C3-47E1-AFF7-5EB129D5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687-C1E5-4C88-85FD-F107B280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F129-D9EA-4E22-8DC9-624A49D4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F65E-B1FA-47B8-92E3-51023C8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6A5-3832-4312-B6AD-2AC3194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52D-BAF2-4955-899D-258CD490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45C3-B8B6-4FD1-BE5D-E2F659E3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ACF-3C8B-4AE7-B37E-C229BF1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9DC-65F9-4FB6-83BF-92B006F8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72A7-01BD-4316-9D91-F9BEB2D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DAF-936C-4433-B9D0-93C6D99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D178-9600-4374-B518-68FD4C2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A5E9-D381-4553-839D-9841E398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55F-C1A5-40AC-8DB5-28757995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4E5-AE06-4BFB-8EDA-1965078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481-F364-4BEB-BA0F-A4DACF3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B39-63D1-468E-83AC-C081646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658-62E0-4A9B-846E-BFCA7E7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DE3-1B14-450F-8307-AF3BAB45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F5A-4980-43F7-8D6B-80FC43A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9A8-FC14-4602-809F-880EB81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137F-B373-43C2-B371-C19867D11D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0ABA-17A4-4422-9A2D-65618F31AB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Beneficij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Uloga benefici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Vrste benefici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90756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 Unicode MS"/>
              </a:rPr>
              <a:t>Udeo beneficija u ukupnim nadoknadama</a:t>
            </a:r>
            <a:endParaRPr b="0" lang="en-US" sz="38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0000" y="1763640"/>
            <a:ext cx="62960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 "/>
              </a:rPr>
              <a:t>Odluke o tome koje beneficije ponuditi zaposlenima treba da uzmu u obzir</a:t>
            </a:r>
            <a:r>
              <a:rPr b="0" lang="en-US" sz="3600" spc="-1" strike="noStrike">
                <a:solidFill>
                  <a:srgbClr val="000000"/>
                </a:solidFill>
                <a:latin typeface="Arial 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Ciljeve organizacij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Budžet organizacij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Potrebe i očekivanja sadašnjih i budućih zaposlenih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Izbor 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Izbor 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 "/>
              </a:rPr>
              <a:t>Cafeteria-style plan</a:t>
            </a: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"/>
              </a:rPr>
              <a:t>Nudi zaposlenima skup alternativa od kojih mogu izabrati vrstu i količinu beneficija koje ž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Koje su prednosti i nedostaci ovog pristupa</a:t>
            </a:r>
            <a:r>
              <a:rPr b="0" lang="en-US" sz="2800" spc="-1" strike="noStrike">
                <a:solidFill>
                  <a:srgbClr val="000000"/>
                </a:solidFill>
                <a:latin typeface="Arial 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56280" y="1763640"/>
            <a:ext cx="343512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98992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Kako obavestiti zaposlene o beneficijama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0800" y="2665440"/>
            <a:ext cx="78836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beneficij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eneficije su dodatna nadok</a:t>
            </a: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nada koja se daje zaposlenima kao nagrada za članstvo u organizaciji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Beneficije predstavljaju indirektnu nadoknadu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Zašto kompanije zaposlenima nude beneficij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cijal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nzio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mori i slobodno vre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dravstve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luge osiguranja i finansijske uslu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štveni život i rekreacija (organizovanje izleta, sportskih takmičenja, kulturnih događaj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e benefic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anje troškova prevoza, korišćenje automobila kompanije, korišćenje personalnih računara i mobilnih telefona, ishrana u restoranu kompanije, plaćanje članarina u različitim klubovima, i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ocijaln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eneficije socijalnog osiguranja obezbeđuju zaštitu i sigurnost zaposleni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de spadaj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u slučaju povrede na radu ili smrti zaposlen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u slučaju nezaposlenosti (kadrovima koji su ostali bez posla i aktivno traže posao- obično oko 50-80% prosečne pla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zaposlenom za čijim poslom je prestala potreba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everance pa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enzijsk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nzije- nagrade za dugogodišnji r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žavni/privatni penzioni plano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Zakon o penzijskom i invalidskom osiguranj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va iz penzijskog i invalidskog osigu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starosti - pravo na starosnu penz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invalidnosti - pravo na invalidsku penz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smr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o na porodičnu penzij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o na naknadu pogrebnih troško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telesnog oštećenja prouzrokovanog povredom na radu ili profesionalnom bolešću- pravo na novčanu nadoknadu za telesno oštećenj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enzijsk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rmalno penzionisanje’’- zaposleni ide u penziju kada po zakonu ispuni uslove za penzij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 navrši 63 (muškarac), odnosno 58 (žena) godina života i najmanje 20 godina staž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 navrši 40/35 godina staža i najmanje 53 godine živ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godina staž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dmori i slobodno vrem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 Zakonu o radu RS zaposleni imaju pravo na nadoknadu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vreme praznika koji je neradni dan (1. i 2. januar, 7. januar, 15. februar, 1. i 2. maj, Vaskrs – od Velikog petka do drugog dana Vaskrsa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dišnjeg odmor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enog odsustv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jne vežbe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azivanja na poziv državnog organa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Odmori i slobodno vrem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ena odsust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osleni ima pravo n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o odsust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ukupnom tra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 sedam radnih 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toku kalendarske godine, u sl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lap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ak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a suprug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boles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a 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orod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d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posleni ima pravo na pl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 odsustvo j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 radnih dana zbog smr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a 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orod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a dana za svaki sl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 dobrov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g dav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r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’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stven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z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stveno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siguranju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a 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 obaveznog zdravstvenog osigu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 na zdravstvenu zašti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 na naknadu zarade za vreme privremene sprečenosti za rad osigura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ezno zdravstveno osiguranje obuhvat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guranje za slučaj bolesti i povrede van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guranje za slučaj povrede na radu ili profesionalne bol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6:06:04Z</dcterms:created>
  <dc:creator>Tanja</dc:creator>
  <dc:description/>
  <dc:language>en-US</dc:language>
  <cp:lastModifiedBy>w7</cp:lastModifiedBy>
  <dcterms:modified xsi:type="dcterms:W3CDTF">2010-11-01T13:22:31Z</dcterms:modified>
  <cp:revision>40</cp:revision>
  <dc:subject/>
  <dc:title>Beneficije</dc:title>
</cp:coreProperties>
</file>