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803-B8F7-4A27-8579-12731E94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40FA-0385-48C9-8136-8B002F39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81C-25D1-40E9-BBCF-BEBD0D39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74AE-33DC-4ADD-BD97-49B4B27C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1235-C277-4D7A-B454-2C3E6FDA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F976-8C06-4462-940C-52C67C90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475C-0D95-4120-B749-0E99E114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0A89-7C68-4A68-88DE-DA8D5308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3270-F275-47BD-AA92-992BA7DA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E352-6F4A-45A0-8439-E01BCDEC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7E81-94E3-4C4F-A5AA-C74D83BF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436-DBAB-4216-ADE5-11C37F51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2436-8864-4181-9044-F8CE2927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6594-1DD0-407C-8664-DA541505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8A2B-679F-4412-A6F8-027F0613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84F0-F3CC-4A08-A341-AE374199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D0C7-8F33-4360-ADA4-E5BE4AB3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146-2B34-42FC-9363-DACC5EE6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CAA-FB8D-4824-A1A5-057CD80D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464-863D-4962-98CB-5E3B5C40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F6C-1756-4D3C-812D-18224E68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138-0ED6-4E89-988A-E9E6FFF6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C4C-9B45-40E7-A017-8AA81114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EE9-181E-4FB0-80E9-D42DA82A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967F-21CF-4BAA-A7B6-A57D48A6985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979C-D70F-42BE-9B68-05C5091E1CF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800" spc="-1" strike="noStrike">
                <a:solidFill>
                  <a:srgbClr val="cc3300"/>
                </a:solidFill>
                <a:latin typeface="Arial"/>
              </a:rPr>
              <a:t>Vrednovanje </a:t>
            </a:r>
            <a:r>
              <a:rPr b="0" lang="en-US" sz="5800" spc="-1" strike="noStrike">
                <a:solidFill>
                  <a:srgbClr val="cc3300"/>
                </a:solidFill>
                <a:latin typeface="Arial"/>
              </a:rPr>
              <a:t>ljudskih resursa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00000" y="3212640"/>
            <a:ext cx="73454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Definicija vrednovanja izvrše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Funkcije vrednovanja izvrše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Vrste sistema vrednovanja izvrše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Metodi vrednova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Greške u vrednovanju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Intervju o rezultatima vrednova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-3618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cenjuje sve svoje zaposlene veoma niskim ocenama, osim Džej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žej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obija ocene iznad proseka zato što uvek dolazi na posao tačno na vre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reške u ocenjivanju koje pra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l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____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90200" indent="-362160">
              <a:lnSpc>
                <a:spcPct val="100000"/>
              </a:lnSpc>
              <a:spcBef>
                <a:spcPts val="726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greška obzirnosti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rn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 greš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90200" indent="-362160">
              <a:lnSpc>
                <a:spcPct val="100000"/>
              </a:lnSpc>
              <a:spcBef>
                <a:spcPts val="726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greška strogosti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lo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 greš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90200" indent="-362160">
              <a:lnSpc>
                <a:spcPct val="100000"/>
              </a:lnSpc>
              <a:spcBef>
                <a:spcPts val="726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greška ‘sličan meni’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greška središnje tendenci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90200" indent="-362160">
              <a:lnSpc>
                <a:spcPct val="100000"/>
              </a:lnSpc>
              <a:spcBef>
                <a:spcPts val="726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rn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 greška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greška strogos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oces davanja povratnih informaci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intervju o rezultatima vrednovanja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eedback sess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menadžeri moraj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iti dobro pripremlje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ezbediti odgovarajući ambijent za sastana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abrati neku neutralnu lokaciju za sastana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mogućiti zaposlenom da se dobro pripre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moliti zaposlenog da popuni obrazac za samoocenjivanje pre sastan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Proces davanja 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ovratnih informaci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toku intervjua o rezultatima vrednovanja menadžeri se mogu odlučiti za jedan od tri pristu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stup ‘kaži i prodaj’ 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l and sell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: menadžer saopšti zaposlenom ocene i zatim objasni razloge takvog ocenjivan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stup rešavanja problema 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blem-solvin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: menadžer i zaposleni zajedno rade na tome da reše probleme koji postoje u izvršenju zaposleno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stup ‘kaži i slušaj’ 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l and liste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: menadžer saopšti zaposlenom i zatim dopusti zaposlenom da predstavi svoje viđenje probl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rednovan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87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ces kojim se procenjuje doprinos zaposlenog organizaciji u određenom periodu.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Funkcije vrednovanja izvršen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ednovanje izvršenja kao sredstvo za razvoj zaposlen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ednovanje izvršenja kao upravljačko sredst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25640" indent="-22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ednovanje izvršenja je deo sistema nagrađivanja i kažnjavanja u organizacij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65120" indent="-2253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re ocene– novčane nagrade i bonu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65120" indent="-2253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še ocene– sankcije (premeštaj na položaj nižeg ranga, otpuštanje, smanjenje plat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2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oces vrednovanja kadr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76320" y="1600200"/>
            <a:ext cx="539136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Metodi vrednovanja izvrše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7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Arial"/>
              </a:rPr>
              <a:t>Komparativne procedur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Rangiranje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Ranking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)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i zaposleni se  rangiraju- od najboljeg do najgor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Prinudna distribucija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Forced Distribution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)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cenjivač mora da smesti određeni broj zaposlenih u svaku od nekoliko kategorija (nezadovoljavajući, zadovoljavajući, dobri, odlični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Poređenje parova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Paired comparison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)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ormiraju se parovi zaposlenih, ocenjivač treba da oceni ko je u svakom paru bolji izvršilac, zaposleni koji je izabran najviše puta rangira se kao prv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7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rednovanje prema apsolutnim standardima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Vrste sistema vrednov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87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Vrednovanje zasnovano na osobinama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2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rafi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ke skale 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za ocenjivanje (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Graphic rating scale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00000" y="3164040"/>
            <a:ext cx="7473960" cy="36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Vrste sistema vrednov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535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rednovanje zasnovano na ponašanj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Tehnika kritičnih događaja (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critical incident method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ale koje se zasnivaju na tipičnim kriterijumima izvršenja za svakog zaposlenog- Behaviorally anchored rating scale (BA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 observation scale (BO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35640" y="1703520"/>
            <a:ext cx="3135240" cy="51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560" y="40428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Vrste sistema vrednov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rednovanje zasnovano na rezultati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Upravljanje pomoću ciljev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sr-Latn-CS" sz="3000" spc="-1" strike="noStrike">
                <a:solidFill>
                  <a:srgbClr val="000000"/>
                </a:solidFill>
                <a:latin typeface="Verdana"/>
              </a:rPr>
              <a:t>Management by objectiv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spcBef>
                <a:spcPts val="75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spcBef>
                <a:spcPts val="75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793728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o vrši vrednovanje?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dređeni vrednuje podređe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dređeni vrednuje nadređe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lege/ članovi tima ocenjuju jedni dru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poljni izvori- klijenti, potrošači, dobavljači..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amoocenjivanje- zaposleni ocenjuje sam seb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cenjivanje iz više izvor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360 degree feedba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Greške u vrednovanju kadr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511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Sličan meni (</a:t>
            </a:r>
            <a:r>
              <a:rPr b="0" i="1" lang="sr-Latn-CS" sz="2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imilar-to-me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sr-Latn-C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Greške u distribuciji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38124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Greška obzirnosti (</a:t>
            </a:r>
            <a:r>
              <a:rPr b="0" i="1" lang="sr-Latn-CS" sz="25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niency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38124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Greška strogosti (</a:t>
            </a:r>
            <a:r>
              <a:rPr b="0" i="1" lang="sr-Latn-C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trictness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38124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Greška središnje tendencije (</a:t>
            </a:r>
            <a:r>
              <a:rPr b="0" i="1" lang="sr-Latn-C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ntral </a:t>
            </a:r>
            <a:r>
              <a:rPr b="0" i="1" lang="sr-Latn-CS" sz="25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ndency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Greška halo efekt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38124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lo greška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halo err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38124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horns greška (</a:t>
            </a:r>
            <a:r>
              <a:rPr b="0" i="1" lang="sr-Latn-CS" sz="2500" spc="-1" strike="noStrike">
                <a:solidFill>
                  <a:srgbClr val="000000"/>
                </a:solidFill>
                <a:latin typeface="Arial"/>
              </a:rPr>
              <a:t>horns error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18080" y="1165320"/>
            <a:ext cx="3500640" cy="551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4:14:24Z</dcterms:created>
  <dc:creator>Tanja</dc:creator>
  <dc:description/>
  <dc:language>en-US</dc:language>
  <cp:lastModifiedBy>w7</cp:lastModifiedBy>
  <dcterms:modified xsi:type="dcterms:W3CDTF">2010-11-01T11:59:37Z</dcterms:modified>
  <cp:revision>31</cp:revision>
  <dc:subject/>
  <dc:title>Vrednovanje i razvoj kadrova Assessing Performance and Developing Employees</dc:title>
</cp:coreProperties>
</file>