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41B-4C93-49BD-96A7-5A5C9B11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EAF-9AC1-4655-8FE9-085F0DF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234-BD66-4852-9B7E-2EB849DC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BD-3BE6-48BC-9A55-56963E32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4DA4-B469-476D-9CCB-F66061EC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9473-BD84-4EBD-B970-42E058C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C08-B75E-404C-989B-3EF0DAE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D04-C143-4EAD-97AD-71BE4D75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A454-044E-406C-8ADC-0376215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A060-2CE6-474F-B1AD-F1AA7B7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359-7B3A-4377-8D7F-25F96D43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F0D-454A-4F01-AF68-4FFC31E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97C4-CAC3-453B-B8ED-4056144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F80-152B-4480-85A5-5866506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4D5-6935-479F-8E14-572B8C20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2EF3-0589-4798-B84A-BA04D4DF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C7A0-B336-42EE-A5AA-EF253966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5D5-2549-401B-8874-539B7608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E52-8A67-455D-BD76-2191E530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AC6-1FA7-444E-B298-B0BD1DC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1DA-F84A-4D2F-A36F-61B76716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5FC-BE96-4DCC-8460-E82DF6BC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0E5-07E6-4C4B-A5AC-E1B6224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F42-1238-4F3D-A2E8-3877E5BD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1DFD-306B-42AC-8CBF-1F760793C6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422E-6C45-4B23-A815-382328C679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900" spc="-1" strike="noStrike">
                <a:solidFill>
                  <a:srgbClr val="cc3300"/>
                </a:solidFill>
                <a:latin typeface="Arial"/>
              </a:rPr>
              <a:t>Razvoj </a:t>
            </a:r>
            <a:r>
              <a:rPr b="0" lang="en-US" sz="5900" spc="-1" strike="noStrike">
                <a:solidFill>
                  <a:srgbClr val="cc3300"/>
                </a:solidFill>
                <a:latin typeface="Arial"/>
              </a:rPr>
              <a:t>zaposlenih</a:t>
            </a:r>
            <a:endParaRPr b="0" lang="en-US" sz="59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0724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zvoj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posleni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zlika između 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g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a i razvo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laniranje karije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iranje sukcesij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menadžer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ukcesija menadžera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laniranje sukcesije menadž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ces identifikacije i praćenja zaposlenih sa visokim potencijalom koji će moći da popune menadžerske položaje kada se pojavi potre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99160" y="1825560"/>
            <a:ext cx="34034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planiranja sukcesi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cija položaja za koje treba planirati kad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cija zaposlenih koje treba uzeti u obz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efinisanje zahteva pos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renje potencijala zaposleni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cena i plan zadovoljenja razvojnih potreb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vezivanje planiranja sukcesije sa drugim kadrovskim sistem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avanje povratnih informacija zaposlen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08620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zaposlenih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 je aktivnost učenja koja je usmerena prema budućim, a ne sada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 potrebama i koja se više zanima za napredovanje u karijeri nego za neposredno izvršenj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ha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ojačati sposobnost zaposlenih za uspešno preuzimanje širih odgovornosti u organiz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čemu je razlika između razvoja i treninga kadr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like između treninga i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2276640"/>
          <a:ext cx="7556400" cy="3697200"/>
        </p:xfrm>
        <a:graphic>
          <a:graphicData uri="http://schemas.openxmlformats.org/drawingml/2006/table">
            <a:tbl>
              <a:tblPr/>
              <a:tblGrid>
                <a:gridCol w="2517840"/>
                <a:gridCol w="2520720"/>
                <a:gridCol w="2517840"/>
              </a:tblGrid>
              <a:tr h="46908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441"/>
                    </a:solidFill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441"/>
                    </a:solidFill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VO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441"/>
                    </a:solidFill>
                  </a:tcPr>
                </a:tc>
              </a:tr>
              <a:tr h="37764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ašnj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uć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en upotrebe radnog isku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08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ema za obavljanje sadašnjeg pos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ema za prom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šće zaposlen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avez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ovolj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6000" y="333360"/>
            <a:ext cx="87822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c3300"/>
                </a:solidFill>
                <a:latin typeface="Arial"/>
              </a:rPr>
              <a:t>Primer: razlika između treninga i razvoja</a:t>
            </a:r>
            <a:endParaRPr b="0" lang="en-US" sz="38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87240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etode razvoja menadžer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i razvoja na pos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kust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acija pos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iran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vetovanje menadžme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hnika kritičnih događa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projek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vljanje ci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pomoć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i razvoja van pos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 konferen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učavanje slučajeva i igranje ulo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lovne ig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-gru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je na dalji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adno i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kustvo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 utiče na razvoj zaposlenih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vanje pos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acija pos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meštaj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đen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eranje nad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vremeni rad u         drugoj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543564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4759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kadrova i međuljudski odnos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ntorstv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goročni odnos u kome stariji zaposleni sa iskustvom (mentor) pomaže zaposlenom da ostvari lični razvoj i razvoj karij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ntorski programi su najuspešniji kada su dobrovolj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uspešnog mentorskog programa može se desiti da zaposleni dobije unapređenje, povišicu ili veći uticaj u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9600" indent="-30960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ach</a:t>
            </a: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kolega ili menadžer koji radi sa zaposlenim sa ciljem da ga motiviše, pomogne mu da razvije veštine i pruža mu podršku i povratne inform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rijer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032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radicionalna karij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enljiva karijera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tean Career</a:t>
            </a:r>
            <a:r>
              <a:rPr b="0" i="1" lang="sr-Latn-C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ijera koja se često menja usled promena interesa, sposobnosti i vrednosti pojedinca i radnog okruž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59480" y="4448160"/>
            <a:ext cx="2684520" cy="24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2519640" cy="229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73520" y="1563840"/>
            <a:ext cx="0" cy="508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planiranja karijer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3040" y="2060640"/>
            <a:ext cx="8670960" cy="35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8:07:40Z</dcterms:created>
  <dc:creator>Tanja</dc:creator>
  <dc:description/>
  <dc:language>en-US</dc:language>
  <cp:lastModifiedBy>w7</cp:lastModifiedBy>
  <dcterms:modified xsi:type="dcterms:W3CDTF">2010-11-01T11:52:04Z</dcterms:modified>
  <cp:revision>41</cp:revision>
  <dc:subject/>
  <dc:title>Razvoj kadrova</dc:title>
</cp:coreProperties>
</file>