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0F5-59D1-4B77-A252-42A2820B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1C4-2CF2-4195-AA87-DE03FC8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B7C-330A-4552-97A2-DDB08FB4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5C1-FA1C-41E2-9E63-8FADA2AF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23B-AEF9-4846-8842-D4555747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9435-0FB6-4998-BAAB-11A994A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67C-3BFD-4ADE-9E2F-D221792E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EBC3-A561-444D-8B21-B8B377D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4F4A-5265-4078-8A82-D85E293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555B-9A53-47BD-A9A0-B84C105F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4DFC-9583-4C1E-BC53-732F2C9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B7F-760E-4DD8-BE83-86FDFC0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436B-F563-4633-9412-3AF9930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00D-C1FA-4CFD-9900-7D8F6A69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4C6E-A585-4A84-B210-AA20B4D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59C6-EFA7-4571-A840-D1220026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9153-0361-4A9D-ADB4-0A8A1342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6A8-AC59-4685-A3FD-38DE56F4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0CD-F172-4FEE-8AE4-F6F50E04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C3D-0F3F-4E56-BE1D-3FB3653D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D70-DAF1-40B3-B443-A8C9AF03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0FA-E33F-4D80-83A3-1EA012F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B10-FB06-4850-844F-FC409ADE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302-A69B-48C3-B576-8FDFBA40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1158-C444-445C-A337-F133E49392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4AD-47AC-46EB-91EB-456337B7ED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Na</a:t>
            </a:r>
            <a:r>
              <a:rPr b="0" lang="en-US" sz="5800" spc="-1" strike="noStrike">
                <a:solidFill>
                  <a:srgbClr val="cc3300"/>
                </a:solidFill>
                <a:latin typeface="Arial"/>
              </a:rPr>
              <a:t>gr</a:t>
            </a: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a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0724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cipi nagra</a:t>
            </a:r>
            <a:r>
              <a:rPr b="0" lang="sr-Latn-RS" sz="2700" spc="-1" strike="noStrike">
                <a:solidFill>
                  <a:srgbClr val="000000"/>
                </a:solidFill>
                <a:latin typeface="Arial"/>
              </a:rPr>
              <a:t>đi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Vrste nagrad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rganizacione nagrade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Arial"/>
              </a:rPr>
              <a:t>Skenlonov pla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a zamisao je da efikasnost zavisi od timskog rada i saradnje u organizacij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aj plan uključuje participaciju zaposlenih u smanjivanju troškova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posleni dobijaju nagradu za uštedu troškova bez obzira da li je kompanija ostvarila profit ili 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štede koje nastanu usled aktuelnih i očekivanih proporcija idu u fond iz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g se isplaćuju bonu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pična raspodela bonusa izgleda ovak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0% za zapos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5% za poslodav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5% za fond za nepredviđene događa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svaki od navedenih poslova identifikujte najbolju vrstu nagr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jasnite svoj odgov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et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rovski menadž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s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dava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992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ividual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992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up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992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doknade koje se daju najvišim menadž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m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e nadoknade često uključuju nagrade i daju se obično ljudima koji se nalaze na dva najviša nivoa u kompaniji (predsednik ili potpredsednik kompanije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ket nadoknada koji se daje najvišim menadžerima obično se sastoji od četiri komponent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a pl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efi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u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o da kupuju akcije kompanije po nižoj ceni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tock opt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grada je dodatna nadoknada koja je u vezi s izvršenj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azna tačka je sledeć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i poslovi doprinose uspehu organizacije više od drug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i zaposleni rade bolje od drug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posleni koji rade bolje bi trebalo da dobiju veću nadokn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de se javljaju dva osnovna pitanj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bi trebalo učinak meriti i nagrađivati na osnovu individualnog, grupnog učinka ili učinka na organizacionom nivou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bi ovaj učinak trebalo meriti kratkoročno ili dugoročno (duže od godinu dana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rganizacije mogu davati nagrade na osnov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ividualnog učinka zaposleni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tvarenog prof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niorat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enior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- pretpostavlja da razlike u plaćanju zavise isključivo od iskustva ili dužine radnog staža zaposlen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 ovom sistemu nagrađuju se stabilni, iskusni kadro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ih mera uspeh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anizacije odlučuju o tome kakve će nagrade dati svojim zaposleni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9773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rincipi dobrog plana nagrađivanj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7059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248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nagr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028600" cy="113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2055960" cy="214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202104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248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dividual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2038320" cy="2752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2708280"/>
            <a:ext cx="615636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stem plaćanja po jedinici proizvod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 ovom sistemu zaposleni dobijaju nadnice po fiksnoj stopi za svaku jedinicu proizv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iferencijalni sistem plaćanja po jedinici proizvoda: zaposleni su plaćeni po jednoj stopi ako proizvedu manje jedinica proizvoda od predviđenog standarda, a ako proizvedu više plaćaju se po višoj stop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55736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ividualne nagrade imaju za cilj da nagrade napor i učinak pojedina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dividual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651672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Bonus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jednokratna plaćanja koja se daju zaposlenima za ostvarivanje cilja organizacij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2240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2284200" cy="2349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59280" y="4076640"/>
            <a:ext cx="5833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vizi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adoknada koja se izračunava kao procenat od novčanog iznosa ukupnog broja ostvarenih prodaja. Međutim, ovaj vid nagrađivanja može da smanji timski rad, jer se zaposleni takmiče jedan sa drug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Grup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58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a vrsta podsticaja pr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vako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a mog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t da dobije bonus koji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sniva na output-u tima kao c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je su prednosti i nedostaci grupnih nagra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6784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rganizacio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700280"/>
            <a:ext cx="8893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e nagrade se daju svim zaposlenima u organizaciji na osnovu toga kako je organizacija poslovala tokom godine.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lanovi za udeo u profit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rofit shar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 planovi distribuiraju deo profita organizacije zaposlen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posleni dobijaju bonus koji obično predstavlja određeni procenat profita kompanije (npr. 10-3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iljevi: povećanje produktivnosti, privlačenje i zadržavanje zaposlenih, poboljšanje kvaliteta proizvoda/usluga, povećanje morala zaposleni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EOS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mployee stock ownership pl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lan kojim se zaposlenima omogućava da kupuju akcije svoje kompanije; na taj način zaposleni postaju vlasnici kompanije u kojoj 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2:03:37Z</dcterms:created>
  <dc:creator>w7</dc:creator>
  <dc:description/>
  <dc:language>en-US</dc:language>
  <cp:lastModifiedBy>w7</cp:lastModifiedBy>
  <dcterms:modified xsi:type="dcterms:W3CDTF">2010-11-01T12:03:38Z</dcterms:modified>
  <cp:revision>1</cp:revision>
  <dc:subject/>
  <dc:title>Nagrade</dc:title>
</cp:coreProperties>
</file>