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D77-AFBC-49DA-B340-966C9528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537-74CA-4234-9BB0-3BBDA9A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21E-46DB-4A4F-B74C-910A4AD1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0B3-23F9-4474-A638-1F866CD5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24BD-4796-4337-9D35-91815BB8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A2B6-45C8-4FB1-BD8A-46B6F07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C015-5F2C-4035-928C-137A04B5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D902-3EE2-4D3D-AA87-B8ADF1A7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EC18-D7B9-4903-B61E-53E292ED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B06E-41B5-4CDB-9E98-EE2751AC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B3D6-131C-4932-B458-50F089C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9C9-6472-41B1-BD11-9C05BE6A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B911-F293-4BD4-A6B7-75E97126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2DF-65D5-4678-B904-4DEF187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359-95F0-4D82-ACA9-6334C012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787-270A-47D4-8801-F75D6C99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8C05-9AEC-44A2-9473-A9A80552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2840-EA81-4506-B38A-75C17630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373F-1D69-450D-9726-F6CF2BD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002E-50B9-405F-A9D4-21B5397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958F-46D4-4DFC-8516-77CF0B7B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E4592-B967-4BE7-9EDD-9851ADAD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B0D-2B97-4ADB-A6BE-F2A639B0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56A2-FBF1-4FBA-9CED-9C23DB0E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29F3-79FA-4AF6-B8FA-A637CFF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A485-242F-4773-8E97-A699AFA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402A-95A1-4D7C-BE09-8359B47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6BC7-BB15-4E31-B1CC-A4DDA7E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0E5A-A06C-4A04-B7B2-13E17D36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A832-CDF5-44C7-AF79-D5676861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B980-01C7-4B96-B09D-8747DEA4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F1DDF-BF61-4316-A7B2-1402E3B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476A-B733-4C27-8D78-44C8896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E84-C159-46CD-AD0F-F6CA4B41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2E0AF-213B-4566-92A4-654B765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A34C-02FA-4C74-8101-C234E201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F4B2-0986-4747-BD5C-8380567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756C-1168-45E9-8205-8AF5E36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7099-5B8C-4CEF-B88E-63BBD46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5A24-6459-4D0F-BF35-08099947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524A-685D-4F1D-BD11-05EF3158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673A-1358-4D51-B2B5-E1F6DEAB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5CAF-79F5-4F9B-B734-924A191C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9AE0-6649-421D-9660-736A8541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5A0-C1D7-460E-9140-6CBAA20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4A777-489C-4E1D-8D38-8308DD40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B5F3-7DE5-4B70-9549-B7E1BB5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CDDD-8172-4B77-97D3-D972ED7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D375-D16D-47C1-8556-0EB1A989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696D-F3C9-442C-BD04-B179556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377D-8BF4-4173-B57C-118FD78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0AB4-DA44-4BC1-B42F-AC793DF7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4514-8717-47C7-85E4-3312E14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1F71-F974-458D-9CA3-38F5C6EA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A696-1373-49F3-867A-E6D5E1F1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C4A-DAF9-4147-88D8-59F7073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317F-457B-43B6-B1E6-9297B738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F55-DEAF-4914-8119-475D3BE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A9C-3EFA-46DB-BF93-46C8797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4CB-2B56-404F-9BEF-0F887A2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F35-D939-4698-AF31-ADD7E3C5042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560-DF54-461A-995A-F97B69AE3F5F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4DAF-5078-48DC-93C1-73D803D3E18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92A2-17D8-4641-93C5-6BBC190A8EA0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02E-D17C-461C-8EDD-A7056B0B38D4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66"/>
                </a:solidFill>
                <a:latin typeface="Franklin Gothic Book"/>
              </a:rPr>
              <a:t>Kolokvijum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U obzir dolaz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Congratulation lette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Thank you letter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Employment letter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a) Cover letter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b) Re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c) Recommendation let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d) Meeting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e) Company profi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6666"/>
                </a:solidFill>
                <a:latin typeface="Franklin Gothic Book"/>
              </a:rPr>
              <a:t>Company Profile </a:t>
            </a:r>
            <a:endParaRPr b="0" lang="en-US" sz="54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 company profile briefly outlines the company’s products or services, its mission, employees, and a few unique aspe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urpose of a company profile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engage and attract the right customers or supporters for busi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acquire financ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or media atten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attract the best candidates when posting job ap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w to start?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e.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Dear Mr. Hunt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lease find attached the information requested by your cli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e.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We are pleased to present the basic information on ZZ Company  covering legal status, location, the company profile outline and development and investment prospe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What to include (1)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name and legal status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loc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cont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Key Executiv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Branch Lo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ovide a short history of your company including the number of years in business, a description of your company’s activities, and a tangible sense of what you do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What to include (2)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scriptions of the company’s main services or product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Number of employe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ssion and philosophy of the compan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ommunity involve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(welfare activities, donations, volunteering and community support, teams, cultural institutions, and events that your company sponsors. This ads human personality to a profile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It’s important to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onvey important fac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 precise, while including all the details about the compan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 honest and interesting to the read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Use short descriptive sentences with lots of action verb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laim the company’s unique asse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Franklin Gothic Book"/>
              </a:rPr>
              <a:t>Correspondence regarding meetings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inviting somebody to a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nnouncing a mee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confirming your presence at a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cancelling a mee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lways mentio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date, time and the venue of the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agenda (topics and main issues to be discusse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names of delegation/committee/ board members  who are to be pres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66"/>
                </a:solidFill>
                <a:latin typeface="Franklin Gothic Book"/>
              </a:rPr>
              <a:t>Official Document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uthorizat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Engag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Invoic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ceip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Etc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1:32:07Z</dcterms:created>
  <dc:creator>Jelena Plecas</dc:creator>
  <dc:description/>
  <dc:language>en-US</dc:language>
  <cp:lastModifiedBy>Jelena Plecas</cp:lastModifiedBy>
  <dcterms:modified xsi:type="dcterms:W3CDTF">2009-12-22T22:17:53Z</dcterms:modified>
  <cp:revision>6</cp:revision>
  <dc:subject/>
  <dc:title>Slide 1</dc:title>
</cp:coreProperties>
</file>