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F49-1A53-4E10-9EAD-BC137140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FEB-1524-423B-A845-DDBB58E5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901-0606-4B31-BBFF-58DFECC6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398-ED82-4323-A58C-E66531A2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ABC3-176B-46E8-AB4C-1C5653F9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C9A6-0DC5-4363-8FA5-356E4606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598A-B9EB-470B-8E8E-FC39DF35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E5DF-E547-4510-8AA8-436F8A32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A9F7-25F0-431A-AB76-F7C8AC6A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B326-F382-4568-8702-25C19B5E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E9E3-7865-4B29-B978-34A2A469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F4E-B63D-45C5-AA12-AD68DA44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040C-9741-4F68-9284-32256721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1840-2517-437B-A5CB-E63D325E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BF19-743E-4C6B-A719-B0F90606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1CA8-4F7D-44B5-9587-5EDB492B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5F76-93AF-47EB-AEA7-435137F8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F873C-385A-4C52-AEDF-13E47D7F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38711-3CE8-42FE-89A8-F381C354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10390-0B2A-4203-98AC-0C1473E9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DB94A-890B-4664-AF4D-8B35855B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2ABB3-234D-4802-A7CC-1B3CA124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DDD-665A-4C7B-93BC-632911CF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A4631-71A8-453D-A359-1E62A778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FF862-45C9-4082-86C1-6038CFC8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35928-AD25-4D2B-9806-20ED9F3A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83498-F949-481F-B2E6-F131AAE6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73FCC-1B18-4ECD-A6FC-E272AAD4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92EAC-240F-4017-BFBB-9C54C95D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A54FE-E210-4A83-97E2-92B59A6A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2E03B-3EB6-4714-A71C-BBC7BF52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5974-9207-4258-AA8A-7A07A532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8A673-0378-439E-A8E3-BEE814CA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02C-1003-4237-977A-48E86901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7DFE7-237C-409B-9D95-E450C3EF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E16E2-A6D6-438D-B3EE-BEB8AE4F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BF585-87B4-45E3-ABA5-1400709D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C6C8A-8F01-48AA-9CEF-626C06D8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3E3BC-3B19-4E00-96B1-3C75AC77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C524C-5CE3-49E9-9B6C-1E02269D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2DCEA-EC17-45FD-85C6-FD90E5A6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1CA35-071D-45A3-950A-7F22CCCB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FBCF8-F663-4856-AE76-4E4B95AF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BE7-35EE-4EBD-B4A4-8E1EC989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A6B-34D7-48C6-B55A-CE29CD33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736-84AC-48A9-9EA8-4252DD4E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F3A-CD31-4707-AD6D-90FB91EB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1E3-45BE-4229-952E-87F9F8F2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a170a">
                  <a:alpha val="45098"/>
                </a:srgbClr>
              </a:gs>
              <a:gs pos="100000">
                <a:srgbClr val="a0845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c6946">
                  <a:alpha val="45098"/>
                </a:srgbClr>
              </a:gs>
              <a:gs pos="100000">
                <a:srgbClr val="9e15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b2d1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28e6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62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595B-247F-4D0A-906B-294A65CCA014}" type="slidenum">
              <a:rPr b="0" lang="en-US" sz="1200" spc="-1" strike="noStrike">
                <a:solidFill>
                  <a:srgbClr val="645f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a170a">
                  <a:alpha val="45098"/>
                </a:srgbClr>
              </a:gs>
              <a:gs pos="100000">
                <a:srgbClr val="a0845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c6946">
                  <a:alpha val="45098"/>
                </a:srgbClr>
              </a:gs>
              <a:gs pos="100000">
                <a:srgbClr val="9e15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9e5d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b2d1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28e6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62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b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3E98-804D-47FE-8406-454488ABE9A2}" type="slidenum">
              <a:rPr b="0" lang="en-US" sz="1200" spc="-1" strike="noStrike">
                <a:solidFill>
                  <a:srgbClr val="dedb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a170a">
                  <a:alpha val="45098"/>
                </a:srgbClr>
              </a:gs>
              <a:gs pos="100000">
                <a:srgbClr val="a0845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c6946">
                  <a:alpha val="45098"/>
                </a:srgbClr>
              </a:gs>
              <a:gs pos="100000">
                <a:srgbClr val="9e15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9e5d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b2d1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28e6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62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b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8AD2-66BE-4983-B42B-42F0DFC1EC0F}" type="slidenum">
              <a:rPr b="0" lang="en-US" sz="1200" spc="-1" strike="noStrike">
                <a:solidFill>
                  <a:srgbClr val="dedb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a170a">
                  <a:alpha val="45098"/>
                </a:srgbClr>
              </a:gs>
              <a:gs pos="100000">
                <a:srgbClr val="a0845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c6946">
                  <a:alpha val="45098"/>
                </a:srgbClr>
              </a:gs>
              <a:gs pos="100000">
                <a:srgbClr val="9e15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b2d1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28e6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62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47DD-6DFA-46B7-B328-14C4D53D109B}" type="slidenum">
              <a:rPr b="0" lang="en-US" sz="1200" spc="-1" strike="noStrike">
                <a:solidFill>
                  <a:srgbClr val="645f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61372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  <a:ea typeface="宋体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4496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Semicolon (;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b2d1f"/>
                </a:solidFill>
                <a:latin typeface="Comic Sans MS"/>
              </a:rPr>
              <a:t>To separate the clauses of a compound sentence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9b2d1f"/>
                </a:solidFill>
                <a:latin typeface="Comic Sans MS"/>
              </a:rPr>
              <a:t>(except the ones with and, or, but, nor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1900" spc="-1" strike="noStrike">
                <a:solidFill>
                  <a:srgbClr val="000000"/>
                </a:solidFill>
                <a:latin typeface="Comic Sans MS"/>
              </a:rPr>
              <a:t>Some firms went bankrupt; others have survived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b2d1f"/>
                </a:solidFill>
                <a:latin typeface="Comic Sans MS"/>
              </a:rPr>
              <a:t>When one or both clauses have internal comma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i="1" lang="en-US" sz="19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Comic Sans MS"/>
              </a:rPr>
              <a:t>The issues that top security analysts favour include Bristol Myers, NYSE, $42, among drug companies; McDonald's, NYSE, $72, in restaurants; and Lockheed, NYSE, $115, in aerospac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b2d1f"/>
                </a:solidFill>
                <a:latin typeface="Comic Sans MS"/>
              </a:rPr>
              <a:t>To separate clauses of a compound sentence joined by </a:t>
            </a:r>
            <a:r>
              <a:rPr b="1" i="1" lang="en-US" sz="2200" spc="-1" strike="noStrike">
                <a:solidFill>
                  <a:srgbClr val="9b2d1f"/>
                </a:solidFill>
                <a:latin typeface="Comic Sans MS"/>
              </a:rPr>
              <a:t>nonetheless, however,</a:t>
            </a:r>
            <a:r>
              <a:rPr b="1" lang="en-US" sz="2200" spc="-1" strike="noStrike">
                <a:solidFill>
                  <a:srgbClr val="9b2d1f"/>
                </a:solidFill>
                <a:latin typeface="Comic Sans MS"/>
              </a:rPr>
              <a:t> or </a:t>
            </a:r>
            <a:r>
              <a:rPr b="1" i="1" lang="en-US" sz="2200" spc="-1" strike="noStrike">
                <a:solidFill>
                  <a:srgbClr val="9b2d1f"/>
                </a:solidFill>
                <a:latin typeface="Comic Sans MS"/>
              </a:rPr>
              <a:t>for example</a:t>
            </a:r>
            <a:r>
              <a:rPr b="1" lang="en-US" sz="2200" spc="-1" strike="noStrike">
                <a:solidFill>
                  <a:srgbClr val="9b2d1f"/>
                </a:solidFill>
                <a:latin typeface="Comic Sans MS"/>
              </a:rPr>
              <a:t>:</a:t>
            </a:r>
            <a:r>
              <a:rPr b="0" lang="en-US" sz="22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lang="en-US" sz="22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We will produce the product; however, it will cost $15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olon (: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introduce words, phrases, or clauses that explain, amplify, or summarize what has precede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ere are several courses you can take: anthropology, psychology, or sociology. The verdict is in: accept the propos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introduce a lis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n the session we will also discus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 consumption d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es proje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olon (: )</a:t>
            </a:r>
            <a:br>
              <a:rPr sz="32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separate hour and minute in tim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3:45 p.m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ollowing a salutation in a business lett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Ladies and Gentleme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Apostrophe (‘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he possessive case of singular and plural nou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Sam's final repo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y friends' par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he plurals of figures, letters, or word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the 1900'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An omission of figures in da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the class of '84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Hyphen (-)</a:t>
            </a:r>
            <a:r>
              <a:rPr b="0" lang="en-US" sz="3600" spc="-1" strike="noStrike">
                <a:solidFill>
                  <a:srgbClr val="696464"/>
                </a:solidFill>
                <a:latin typeface="Comic Sans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join the elements of some compound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Cost- effectiveness      self- employed        cost-of-living inde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substitute for the word to between figures or word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3-5 month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Brackets ( 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Material that is not an essential part of the sentence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The Pittsburgh television (KDKA) director John Down is highly respect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igures following and confirming written-out numbe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We placed twelve (12) telephone calls to Euro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Period - Full stop (.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complete a declarative sentence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He completed the work on tim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or abbreviatio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Inc. Etc. Lt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Italics</a:t>
            </a:r>
            <a:r>
              <a:rPr b="1" i="1" lang="en-US" sz="3600" spc="-1" strike="noStrike">
                <a:solidFill>
                  <a:srgbClr val="9b2d1f"/>
                </a:solidFill>
                <a:latin typeface="Comic Sans MS"/>
              </a:rPr>
              <a:t> (italics)</a:t>
            </a:r>
            <a:br>
              <a:rPr sz="32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or the titles of books, plays, long poems, magazines, newspapers, TV seri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the Saturday Review        When Harry Met Sall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or the names of paintings and sculptur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 Mona Lis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Quotation Mark (“   ”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enclose direct quotations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“We couldn't complete the work."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set off the titles of articles, essays, short stories, short poems, TV and radio programs, short musical piec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Linguistics: “An Introduction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Comic Sans MS"/>
              </a:rPr>
              <a:t>SPELLING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Forming Possessive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form a possessive of a singular noun add an 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’s</a:t>
            </a: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to the noun.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June's advice                    judge's verdict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    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Arkansas's economy        boss’s request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or a plural noun that ends in s, add only an apostrophe: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witnesses' testimo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42217"/>
                </a:solidFill>
                <a:latin typeface="Comic Sans MS"/>
              </a:rPr>
              <a:t>BASIC RULES OF LETTER WRITING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Impeccable use of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pit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unctu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pell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umer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Forming Possessive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he possessive form is used in many common expressions that refer to time and measuremen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     an hour's time               this morning's mee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Possessives in holidays are usually singula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     Father's Day                      New Year's Ev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96464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Comic Sans MS"/>
              </a:rPr>
              <a:t>NUMERAL US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Spell out numbers from zero to ten and use figures for numbers 11 and above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     seven applicants               13 candidat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When a sentence begins with a number, spell it o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( calendar years are the exception)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  Fifteen thousand feet of wire was lost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Always write decimals in figur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100.23 m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6400800" y="48006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Numbers</a:t>
            </a:r>
            <a:br>
              <a:rPr sz="32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When two or more numbers appear in one sentence, use figures if one is below 10 and the other above 10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About 15 orders were delivered on 2 truc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Always use figures with abbreviations and symbols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   #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16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If a number forms part of a corporate name or a set phrase, use the exact style on the letterhe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Twentieth Century-Fox Film Corp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Money</a:t>
            </a:r>
            <a:br>
              <a:rPr sz="32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Use figures to express amounts of money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$18.50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Money in even amounts of a million or more may be expressed partially in words or in abbreviation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$8.5 billion or $8.5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Spell out indefinite amounts of mone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several thousands of doll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6705720" y="4352760"/>
            <a:ext cx="24382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Percentages 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Express percentages in figures and spell out the 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word percent</a:t>
            </a: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.g. The interest is 5 percent a ye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Clock Tim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Always use figures with 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a.m. or p.m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     3:50 p.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Measurement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Measurements are expressed in fig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A higher rate is charged on packages over 3.5 kilogra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Roman Numeral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Roman numerals are used for proper names,  divisions of literary and legislative material and in dates on public building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King Edward VII              Part VI           Chapter 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Calibri"/>
              </a:rPr>
              <a:t>Correct the mistakes in this letter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rs. Clara Winter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12187 s. Polo dr. 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airfax, VA 2203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26.5.2002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 Tiny Tots Toy compan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ifteen 456 pyramid Way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llege park, FL 3313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ear “customer  service Representative”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 recently purchased 1 of your Tiny Tents (Model #four seven four) for my daugh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Unfortunately  after viewing the components that came with the product I discovered that 3 of the parts were missing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 am writing to request replacements; for the missing part If reasonable arrangements are not made within 7 business days: I will return the tent to the store I purchased it from and expect a full refund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 sincerely hope this is a one time incident - and that; any future Purchases I make will live up to the standard, we have  come to expect from your Compan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incerely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lara winter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582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mrs.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ara Wint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2187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s.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olo dr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fairfax,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A 2203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6.5.2002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iny Tots Toy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Fiftee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456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pyramid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Way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llege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 par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FL 3313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ar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“customer  service Representative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 recently purchased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of your Tiny Tents (Model #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four seven fou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for my daugh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Unfortunately after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ewing the components that came with the product I discovered that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of the parts were missi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m writing to request replacements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for the missing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part If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asonable arrangements are not made within 7 business days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 will return the tent to the store I purchased it from and expect a full refund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 sincerely hope this is a one time incident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d that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y future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Purchas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I make will live up to the standard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, w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ave  come to expect from your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sincerely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ara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winter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742217"/>
                </a:solidFill>
                <a:latin typeface="Constantia"/>
              </a:rPr>
              <a:t>Thank you for your attention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Capitalize…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b2d1f"/>
                </a:solidFill>
                <a:uFillTx/>
                <a:latin typeface="Comic Sans MS"/>
              </a:rPr>
              <a:t>The first word of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d1f"/>
                </a:solidFill>
                <a:latin typeface="Comic Sans MS"/>
              </a:rPr>
              <a:t>Every senten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1800" spc="-1" strike="noStrike">
                <a:solidFill>
                  <a:srgbClr val="4a3128"/>
                </a:solidFill>
                <a:latin typeface="Comic Sans MS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rry is paying interest on troubles that may never come tru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d1f"/>
                </a:solidFill>
                <a:latin typeface="Comic Sans MS"/>
              </a:rPr>
              <a:t>A direct quot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.g. "</a:t>
            </a:r>
            <a:r>
              <a:rPr b="0" i="1" lang="en-US" sz="1800" spc="-1" strike="noStrike">
                <a:solidFill>
                  <a:srgbClr val="4a3128"/>
                </a:solidFill>
                <a:latin typeface="Comic Sans MS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 shook hands with the minister" he sai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d1f"/>
                </a:solidFill>
                <a:latin typeface="Comic Sans MS"/>
              </a:rPr>
              <a:t>The salutation and complimentary close of a letter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ar Mr. Adams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e.g.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V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ry truly your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d1f"/>
                </a:solidFill>
                <a:latin typeface="Comic Sans MS"/>
              </a:rPr>
              <a:t>Each item displayed in a list or outli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.g.  1.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hings to remember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eak clearl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eak confidentl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 articula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Capitalize…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b2d1f"/>
                </a:solidFill>
                <a:uFillTx/>
                <a:latin typeface="Comic Sans MS"/>
              </a:rPr>
              <a:t>Proper nou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Names of people, corporations, organizations, historical periods and event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izabeth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le,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nvironmental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otection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gency, the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vil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Names of places and reg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reet,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rth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le,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w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Y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rk,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hina, the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uth,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ooklyn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id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Names of rivers, lakes, mountains, seas, and oceans</a:t>
            </a:r>
            <a:r>
              <a:rPr b="0" i="1" lang="en-US" sz="2000" spc="-1" strike="noStrike">
                <a:solidFill>
                  <a:srgbClr val="9b2d1f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lantic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ean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ssissippi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ver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k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ctoria, 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p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Names of nationalities and languag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ericans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rbs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elic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n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apitalize…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Titles of peopl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hief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ustice Williams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sident Alexander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neral Patton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pe John Paul I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nister Jordan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ueen Elizabe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Titles of publications and artistic works</a:t>
            </a:r>
            <a:r>
              <a:rPr b="0" lang="en-US" sz="28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reet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urn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shington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Days, Months, and Holidays</a:t>
            </a:r>
            <a:r>
              <a:rPr b="1" lang="en-US" sz="1400" spc="-1" strike="noStrike" u="sng">
                <a:solidFill>
                  <a:srgbClr val="9b2d1f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nd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morial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hristm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rc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Cou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uprem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ur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urt of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pea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apitalize…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Abbreviations and Acrony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Dec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Dr.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Jon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IB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Lt. Gov.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Sincla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Treaties, laws, pacts and  amend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fth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endment 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vil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ghts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t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rsaw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Trademarks and Service Mar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rox                   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eenex               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nd-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Scientific Na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</a:t>
            </a: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ddl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lky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y        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r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Comic Sans MS"/>
              </a:rPr>
              <a:t>PUNCTUATION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use of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Comma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,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Semicolon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;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Colon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: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Apostrophe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‘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Exclamation Point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!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Hyphen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-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Brackets ( 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Period - Full stop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.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Question Mark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?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Italics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italics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Quotation Mark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“   ”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6172200" y="1066680"/>
            <a:ext cx="2362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omma </a:t>
            </a:r>
            <a:r>
              <a:rPr b="0" lang="en-US" sz="36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9b2d1f"/>
                </a:solidFill>
                <a:latin typeface="Comic Sans MS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nstantia"/>
              </a:rPr>
              <a:t>Words, phrases, or clauses loosely added on to the end of a sentenc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b2d1f"/>
                </a:solidFill>
                <a:latin typeface="Constanti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e.g.  I am happy about the results</a:t>
            </a:r>
            <a:r>
              <a:rPr b="0" i="1" lang="en-US" sz="2000" spc="-1" strike="noStrike">
                <a:solidFill>
                  <a:srgbClr val="cc9900"/>
                </a:solidFill>
                <a:latin typeface="Constanti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really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nstantia"/>
              </a:rPr>
              <a:t>Nonessential expressio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e.g. There is</a:t>
            </a:r>
            <a:r>
              <a:rPr b="0" i="1" lang="en-US" sz="2000" spc="-1" strike="noStrike">
                <a:solidFill>
                  <a:srgbClr val="9b2d1f"/>
                </a:solidFill>
                <a:latin typeface="Constanti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no doubt</a:t>
            </a:r>
            <a:r>
              <a:rPr b="0" i="1" lang="en-US" sz="2000" spc="-1" strike="noStrike">
                <a:solidFill>
                  <a:srgbClr val="9b2d1f"/>
                </a:solidFill>
                <a:latin typeface="Constanti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n explanation for the change in pla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nstantia"/>
              </a:rPr>
              <a:t>A nonrestrictive clause or phrase</a:t>
            </a:r>
            <a:r>
              <a:rPr b="0" lang="en-US" sz="2400" spc="-1" strike="noStrike">
                <a:solidFill>
                  <a:srgbClr val="9b2d1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b2d1f"/>
                </a:solidFill>
                <a:latin typeface="Constanti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e.g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here is a fine line between editing and formatting</a:t>
            </a:r>
            <a:r>
              <a:rPr b="0" i="1" lang="en-US" sz="2000" spc="-1" strike="noStrike">
                <a:solidFill>
                  <a:srgbClr val="9b2d1f"/>
                </a:solidFill>
                <a:latin typeface="Constantia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which is covered in the following sections.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b2d1f"/>
                </a:solidFill>
                <a:latin typeface="Constanti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omma (,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Words used in direct address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r. Stone, please submit your report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Some titles and degrees from surnames and from</a:t>
            </a: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he rest of a sentenc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John P. Jamison, Jr., wrote………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usan H. Greenfield, Ph.D., presented………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Series of four or more figures into thousands, millions, and so 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 g. 5,000                        15,000                     5,000,0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Year from the month and day in full dates</a:t>
            </a:r>
            <a:r>
              <a:rPr b="1" lang="en-US" sz="2800" spc="-1" strike="noStrike">
                <a:solidFill>
                  <a:srgbClr val="9b2d1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meeting was held on February 6, 1991, in Chicag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5:35:19Z</dcterms:created>
  <dc:creator>she</dc:creator>
  <dc:description/>
  <dc:language>en-US</dc:language>
  <cp:lastModifiedBy>seser</cp:lastModifiedBy>
  <dcterms:modified xsi:type="dcterms:W3CDTF">2009-10-21T08:26:55Z</dcterms:modified>
  <cp:revision>17</cp:revision>
  <dc:subject/>
  <dc:title>BASIC RULES OF LETTER WRITING</dc:title>
</cp:coreProperties>
</file>