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DF8-F579-41E7-A3A1-000F2087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996-4D4C-486D-B070-33C4DCA2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4B1-BFF0-48A0-9DA3-90FC70FB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70A-090A-4136-8473-287E0957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1E32-CDE0-43B7-9CCA-33BAFB37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BAEF-16BA-4239-9934-25A24562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AA33-8FA4-4FEE-A774-EE265B82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69AF-1C7F-4665-885A-0A79F6C4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A2D5-50CA-4297-B9CB-FDEEDF43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D7BB-8C24-4E96-9AC8-4345807B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4BAB-A569-4144-941C-6327AF7C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B76-ABF0-45E3-A1CC-AC29130D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1F78-3DBE-442E-A1FE-7C9D2E71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B78A-517B-4070-9361-AB9734C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CF54-1073-40DB-90B1-C0D1F1C6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463F-A017-47C8-9DC4-C9D9DA10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186B-2812-4AAB-B0C5-97E0B831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1D7-B266-4B0F-9B07-BE6F322D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3D9-82D5-4023-AADC-F813F5EF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58C-0F17-4C89-9E37-B54A1F5E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D1D-97BC-45E4-8A68-85E9B075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187-D32D-45A3-A44C-A996F20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3F2-B6C0-4A2D-8D6D-5FF603EA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6B4-F41C-44AC-ACCF-B5601560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F1A4-9BC9-492B-8001-4EDB94CF75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4EE0-2F9F-4A7C-B083-F153934743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TTERS REGARDING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Occas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s for a job, proposals, suggestions, letter of application, CV and résumé writing, complaints, announcements, company policies change, interviews, references, recommendations, meetings, raises, promotions, requests, resignations, retirement, et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What to sa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letter should be brief, descriptive and dynam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your interest in the company or the jo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ase you are turning down an applicant, state clearly the reasons you are not able to accept him for the position he is applying f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ositive comments on the person’s credenti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thee reasons why you think you are suited for the job and what you can do for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be as clear in your intentions as po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letter should be brief and to the 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What not to say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let negative emotions appear in letters between employer and employ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be ru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simply what your intentions are; do not make it too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Some useful phrases and sentenc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am proud to be part of such a creative and enthusiastic team – I hope you are, to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hear of any openings of the company, I would certainly appreciate knowing about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carefully considered your letter of application … and have been most favourably impr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with regret that we accept your resignation, effective April 2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be glad to provide a good 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363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 keep your application in file in case we should have any openings in the near fu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would like to offer my services to the compan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you are aware, we continue to be highly interested in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nk you for applying for the position of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solve this problem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ease accept my resignation, effectiv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have time to discuss this in the next couple of days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ying for a Jo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pplication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urriculum Vita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over Letters for CV and Résum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0:35:30Z</dcterms:created>
  <dc:creator>she</dc:creator>
  <dc:description/>
  <dc:language>en-US</dc:language>
  <cp:lastModifiedBy>she</cp:lastModifiedBy>
  <dcterms:modified xsi:type="dcterms:W3CDTF">2008-11-24T11:00:21Z</dcterms:modified>
  <cp:revision>2</cp:revision>
  <dc:subject/>
  <dc:title>LETTERS REGARDING EMPLOYMENT</dc:title>
</cp:coreProperties>
</file>