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0B3-4ADA-4A96-80C7-7F2FC83A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3C5-02EE-40E8-A092-F786ED2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5C6-5A39-4355-AAD5-56B4D228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F3D-63C9-4BF1-BE3B-2CEFEB3D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01F4-529A-461C-9E7F-9535BC90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D85-FD6E-46E3-AF71-1132EED1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BFC-9586-4813-95CA-99B02C0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259-7FCF-4EBB-A44F-0433D16D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899-5A08-4A9D-8976-DF6977C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E3E-6FE8-4F7B-8353-5E0CA60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7CEF-510A-4865-A745-5D51D06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308-F094-43CD-9DB4-47E6BDB5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6B3-D6B4-4F43-B6B1-DDEF63A7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62B1-4B56-486F-A509-69217D63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858-BE6C-4B49-950F-63723FE5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C10A-E3A6-4425-A774-3FCC68B4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8C0-2F95-44C3-AEA3-784F3946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A87-0C01-4DBE-B191-9A646C9A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FF3-61A4-4ED6-A853-D610202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5C1-3F7C-4581-A608-E48822C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CF3-40D6-43EC-BB7A-CAF919E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8AD-D10F-4A77-AE85-DC4E49F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BEC-DCAE-4D5B-B496-0B2BECD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4C2-51B0-4A1D-9519-1F90F67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4C4-1DE5-46C4-8F43-7DAF2A3DD6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6F4E-F53B-4F09-AD4B-8A2F1FC6F5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e Cover Lette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The primary purpose of the cover letter is to acquaint the prospective employer with your unique talents and skills, and to arrange an interview to discuss employment possibili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Stat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tatement should somehow ensure action beyond simply reading the let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hould urge the employer to 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vorable action on your employ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didacy or that your intentions are to cal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e.g. 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ill plan to call you next week to determine if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ou are interested in discussing this matter      further and, if appropriate, to arrange for 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eeting with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ement of Apprec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 most employers are busy you should express your appreci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Thank you for your conside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I hope that you will give the enclosed resume favorable consideration. Thank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ments of Bad Cover Let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overall appea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grammar, punctuation, and misspelled word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mbling – lack of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focused versus employer focus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and, boring 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ss exaggeration – brag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ggressive, pushy t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deprec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mple Cover Let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ty, State, Zi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000) 237-0000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garet W. Willi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ach Tree Day Care Cen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7120 Greenwood Av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eltsville, MD 2100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ar Dr. Willi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ing worked in three day care centers as a volunteer and student intern, I w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uite excited to learn from Professor Jan Jenkins that you have an opening for 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acher at Peach Tree Day Care Center. I would very much like to be consider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that position and feel qualified for several reason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cording to Dr. Jenkins, you are interested in incorporating educational objectiv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o play programs. I am not only committed to such an approach but, 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y enclosed resume illustrates, I have had the opportunity to design and impl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uch programs at two different day care facilities. Children, teachers a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rents were all enthusiastic about how educational yet captivating these sess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urned out to be, and I thoroughly enjoyed both planning them and working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childre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as also informed that Peach Tree Day Care Center is heavily used by African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erican and Hispanic families and that you strive to meet their unique needs. 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ition to studying the culture of urban minorities, for the past two summers 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e also been a ‘‘Big Sister’’ for two African-American children, ages 4 and 6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ing in Philadelphia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ould appreciate the opportunity to discuss these and other experiences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ou and to find out more about Peach Tree. Spring break lasts from March x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rough the x. Would it be possible to meet with you some time then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look forward to hearing from you soo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ncerely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hele Nit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ings to rememb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terhead is obligator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lling should be impeccable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body of the letter should be divided into paragrap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y attention to the lay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ilies and similar symbols are not allow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r Mr.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rely yours, man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duplicate what is said on your resu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cover letter should highlight your resume by identifying how you are qualified for the position and reasons why it will be to the employers advantage to hire yo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ver letter should be brief – limit it to one p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tter should not be addressed to sir, madam, or director of personnel…find out who is responsible for hirin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n your letter before you write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apt the letter carefully to conditions of the job opport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with the idea that captures the attention of the prospective employer so that the letter and resume are considered worth read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 your letter with a request for an int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2091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jarg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good quality stationery and have the letter typed in a professional manner- never use form lett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attention should be given to grammar, spelling and neatness. The cover letter should represent your very best effort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ortant Elements of a Cover Let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n introducto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interest g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s or implies employment inter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value-selling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nstrates your ability to be value ad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lights your key strengths and a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background summa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efly summarizes your relevant education and exper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ction 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atement that either “compels or ensures follow up actio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statement of apprec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ory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three effective techniques f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ing a personal, customized touch in t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tory paragraph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personal cont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e.g.   During recent discussions with Steve Temple,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Manager of Accounting, I became aware of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ncern about the need to automate the accou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payable function. Perhaps I can be of help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-975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 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specific company knowl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  I read the article concerning Champion Corporation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use of modern organization development techniques       in the August 2 issue of Business Week. As a seaso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O.D. Professional, I found this article unusual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teresting, and it has prompted my decision to app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for employment with your compan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a compli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 colleague of mine has told me of your excell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putation as an executive search firm that specializ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 the recruitment of financial executiv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lue Selling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7691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aragraph describes the value that  you can bring to the hiring organiza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IS NOT simply a listing of you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engths. Instead, it lists specific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hieved and contributions mad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rovides a key opportunity to mark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rself to prospective employ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 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ovides a brief synopsis of your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 and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ncludes the academic degree held, major field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, number of years of experience and a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job-relevant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rpose is to convey that you have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 training, experience and seasoning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the position for which you are apply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it brie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50:11Z</dcterms:created>
  <dc:creator>she</dc:creator>
  <dc:description/>
  <dc:language>en-US</dc:language>
  <cp:lastModifiedBy>Sandra Jednak</cp:lastModifiedBy>
  <dcterms:modified xsi:type="dcterms:W3CDTF">2008-11-27T07:30:10Z</dcterms:modified>
  <cp:revision>5</cp:revision>
  <dc:subject/>
  <dc:title>The Cover Letter</dc:title>
</cp:coreProperties>
</file>