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1ED2-D083-4757-9F97-A946729EE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EE7D-E7C7-4653-84E9-2E3EFF632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9098-0A93-4346-A608-952FD83A0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D770-E576-4DB4-94CD-3ED31D113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8990C-24A8-4557-AB80-87D7810F8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3C4FC-0F87-4D9A-9563-8CCC9D948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A2598-4FAF-4E6C-A2B7-C38E7340E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CA323-0B5A-476C-B0A5-AB8DF52D6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42264-00ED-4160-91C3-CCA8466F7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CC4C8-1D56-40D1-B21A-1C30E9191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0C18E-76BB-4BEF-AAE4-9F0468FED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4295-FCFC-4760-A39B-86F23800E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79C3D-20B7-4E1F-BD75-C196D7325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4A7F1-01FF-4E70-8610-D56EE041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003A0-EC3A-44C0-BE52-F056A229B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BFAC5-39F5-4B0F-B992-B621DC55D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A62E5-C0C8-4F80-B6CF-37C35F852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34B0-69BE-47D4-8C14-ABD268864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84FC-8A23-4077-BA79-CA7EDADD5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C6EA-6D88-4AC8-AB00-CE322220A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8C9E-4B84-473A-AD1D-654C5C68B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39F3-D4C0-4614-84BE-C29BF0D62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C972-6767-4608-B60D-F7391D78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A826-37DF-4EF6-AFA7-0E43EF11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4A0B2-5D1C-483F-8BE9-A38DACD603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CD743-133F-4C80-85A5-903DC622CD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b.olin.edu/mechanics/Backup/FALL04/images/mechanics.gif&amp;imgrefurl=http://wb.olin.edu/mechanics/Backup/FALL04/&amp;usg=__ivnPOfn-lbBBqPkqn0EpE4IX0TI=&amp;h=306&amp;w=450&amp;sz=36&amp;hl=sr&amp;start=1&amp;tbnid=0uAvZbco7FKn_M:&amp;tbnh=86&amp;tbnw=127&amp;prev=/images%3Fq%3Dmechanics%26gbv%3D2%26ndsp%3D18%26hl%3Dsr%26sa%3D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a26d18"/>
                </a:solidFill>
                <a:latin typeface="Comic Sans MS"/>
              </a:rPr>
              <a:t>Business </a:t>
            </a:r>
            <a:br>
              <a:rPr sz="4800"/>
            </a:br>
            <a:r>
              <a:rPr b="0" i="1" lang="en-US" sz="4800" spc="-1" strike="noStrike">
                <a:solidFill>
                  <a:srgbClr val="a26d18"/>
                </a:solidFill>
                <a:latin typeface="Comic Sans MS"/>
              </a:rPr>
              <a:t>Letter Writing </a:t>
            </a:r>
            <a:br>
              <a:rPr sz="4800"/>
            </a:br>
            <a:endParaRPr b="1" lang="en-US" sz="4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213000"/>
            <a:ext cx="6400800" cy="24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Comic Sans MS"/>
              </a:rPr>
              <a:t>MECHANIC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08360" y="4292640"/>
            <a:ext cx="2519280" cy="14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26d18"/>
                </a:solidFill>
                <a:latin typeface="Comic Sans MS"/>
              </a:rPr>
              <a:t>Envelopes</a:t>
            </a:r>
            <a:r>
              <a:rPr b="1" lang="en-US" sz="4400" spc="-1" strike="noStrike">
                <a:solidFill>
                  <a:srgbClr val="a26d18"/>
                </a:solidFill>
                <a:latin typeface="Comic Sans MS"/>
              </a:rPr>
              <a:t> 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velopes should match the stationary in colour, weight, general style and letterhea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return address should be imprinted in the upper left corner of the front of the envelo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492360" y="3716280"/>
            <a:ext cx="5132520" cy="2684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26d18"/>
                </a:solidFill>
                <a:latin typeface="Comic Sans MS"/>
              </a:rPr>
              <a:t>Envelopes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ailing direction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(airmail, third class, special delivery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hould be under the area where the postage will g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metimes the phrase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“Private and Confidential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ay be written on the envelope. Other variations are: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Confidential, Strictly confidential, and Classified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ype or print all address information in capital lette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076720" y="4076640"/>
            <a:ext cx="367200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best preference is an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optical-character-reader (OCR) format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 for your envelop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68360" y="2133720"/>
            <a:ext cx="82072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a26d18"/>
                </a:solidFill>
                <a:latin typeface="Comic Sans MS"/>
              </a:rPr>
              <a:t>OCR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1360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26d18"/>
                </a:solidFill>
                <a:latin typeface="Comic Sans MS"/>
              </a:rPr>
              <a:t>Points to remember *1: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A business letter is always prin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Black ink is always preferr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Accuracy is important. Pay special attention to titles, names and addresses, prices and specifications, enclos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Ask yourself if the letter represents your organization in a correct 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Ask yourself if the recipient will understand your letter quickl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Include just the right amount of information in your letter (better include too much than too littl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Make sure your signature tells your reader what he/she needs to know about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7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7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7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2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7" dur="5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26d18"/>
                </a:solidFill>
                <a:latin typeface="Comic Sans MS"/>
              </a:rPr>
              <a:t>Points to remember *2: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Plan your letter before you start writing to make sure it says everything you want to say and says it in a logical sequ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The layout and presentation of your letter is important as they give the reader the first impression of the firm’s efficien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Use a simple but polite style of language. Beware of idio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With a very few exceptions, business correspondence is being word processed in most places of business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Your letter should be clear. Take care with abbreviations and figures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4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9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4" dur="2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9" dur="20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4" dur="20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o be continued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4174920" cy="432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26d18"/>
                </a:solidFill>
                <a:latin typeface="Comic Sans MS"/>
              </a:rPr>
              <a:t>Business stationery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576440" y="1523880"/>
            <a:ext cx="5991120" cy="38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26d18"/>
                </a:solidFill>
                <a:latin typeface="Comic Sans MS"/>
              </a:rPr>
              <a:t>Letterhead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55436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26d18"/>
                </a:solidFill>
                <a:latin typeface="Comic Sans MS"/>
              </a:rPr>
              <a:t>Letterhead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andatory element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rm name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dress (including zip code and area cod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elephone number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ax number (if it is used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ptional element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logo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executive’s name and title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list of board directors or other governing bodies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good letterhead should b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adable, informative and attractive B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t too attention occupy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26d18"/>
                </a:solidFill>
                <a:latin typeface="Comic Sans MS"/>
              </a:rPr>
              <a:t>Letterhead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9640" y="1989000"/>
            <a:ext cx="756144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26d18"/>
                </a:solidFill>
                <a:latin typeface="Comic Sans MS"/>
              </a:rPr>
              <a:t>Second sheets</a:t>
            </a: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hould be the same quality of the letterhead pa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have the printed logo of the company, but the print is smaller and the address is not inclu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26d18"/>
                </a:solidFill>
                <a:latin typeface="Comic Sans MS"/>
              </a:rPr>
              <a:t>Enclosures</a:t>
            </a: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mall enclosures (checks, folded flyers, business cards) are placed inside the folds of the lette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safeguard against overlooking them inclu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an enclosure lin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 your let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your enclosures are bulkier, use an appropriately sized manila envelop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26d18"/>
                </a:solidFill>
                <a:latin typeface="Comic Sans MS"/>
              </a:rPr>
              <a:t>Folding and inserting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ld the paper in horizontal third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sert the paper with the back of the top third facing the fla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the recipient pulls out the letter and flips up the top third, he is ready to begin readin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using window envelope, the letters are to be folded so that the name and address appear in the wind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26d18"/>
                </a:solidFill>
                <a:latin typeface="Comic Sans MS"/>
              </a:rPr>
              <a:t>Folding and inserting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116000" y="1773360"/>
            <a:ext cx="669600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6T08:48:19Z</dcterms:created>
  <dc:creator>FON</dc:creator>
  <dc:description/>
  <dc:language>en-US</dc:language>
  <cp:lastModifiedBy>FON</cp:lastModifiedBy>
  <dcterms:modified xsi:type="dcterms:W3CDTF">2000-01-16T10:34:27Z</dcterms:modified>
  <cp:revision>3</cp:revision>
  <dc:subject/>
  <dc:title>Business  Letter Writing  </dc:title>
</cp:coreProperties>
</file>