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B44-2D6E-4515-BF3F-A79E58F2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FB1-44B7-4A55-8CCC-A70BBCA0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DAEC-EF95-41DE-A2CF-1E924EC1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EAF8-16A8-4E6E-97BF-B3CABE85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B98C-8D4B-4116-8217-B7E71485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44B4-57F0-4F9B-89B1-8E96C7D5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36D9-AD9F-4EF1-AF10-05153DE9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0211-203C-44B3-9CEB-32BBBE9E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71CA-081A-40CB-987F-938AD654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9BDD-984A-41CB-A87B-2F03A514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96E4-85CC-4172-A9A7-1AD8DCCB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E84-C13C-43EA-9FB1-29EEEB63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8BE4-2A33-409D-BF0D-7B61BCC1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164D-D0C7-44C3-B18A-E48D04F0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DBC3-C2EE-496D-9965-98875AC2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AA74-2797-4CEC-8734-58970B26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8D47-9790-4596-BD68-65B13615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709-BF0B-44F8-8265-3A61C695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D6B-7583-423C-B903-06562071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69FE-7CB1-4890-84E6-394F6E68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9CE-FC0C-48E3-81E5-3C89A78C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0636-7C5E-4B6F-AC10-9BCE96FB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43B-00E5-4BA9-BB1E-3A0E3FB1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EF2-FDED-4190-9022-F9244867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268F-505C-4125-B788-DFBDE48850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FC69-26C0-4A05-B58A-A4B8CAEA7B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openclipart.org/people/barretr/barretr_Pencil.pn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Business 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Letter Writing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ahoma"/>
              </a:rPr>
              <a:t>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Прикажи слику у пуној величин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2471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ide 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ddress of the recipi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oundsonic Lt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Warwick House, Warwick Stree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orrest Hil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ondon SE23 1J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UNITED KINGDO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on the left and single spac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ipient’s name (if stated) is followed by the company’s name, the department or division, the street address, city postal code and coun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of the lines is very long, put half of it on the next line, indenting two or three spac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ip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cipient’s name (if stated) and the title are separated by a com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itle can be underneath the name or omitte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are writing to more than one person, make a list of the names in alphabetical or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tention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ttn: Sales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used when you do not know the name of the person you are writing t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line can also be printed before the address of the compan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jec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UBJECT: Quadraphonic sou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bject tit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further referenc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introducing the subject in the first paragraph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mediately draws attention to the topic of the lette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the writer to refer to it throughout the lette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ly identifies the purpose of the lette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less than one line/ one or two word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ef No: 99887/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 indicate what the letter refers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(Your Ref.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 correspondence to refer to when replying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(Our Ref.)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referring to an order number or to a reference number used by you or your recipient, make sure you quote all references accuratel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laced instead of the subject tit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l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ar S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ar Si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ar Madam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ar Sir or Mad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ar Mr. J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written below the address and with a space of one or two lines before the body of the lette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ollowed by a comma (,) or a colon (:), which is option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dy of the lett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s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much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giv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l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letter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sort of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u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make a letter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ear, informative and accu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 possibl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ength depends 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ubject of the lett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yle and the language us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ight length includes the right amount of inform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que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the necessary points should be made in a logical sequ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piece of information linking with the previous one in a pattern that can be followe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, put the ideas and information in logical or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slang, jargon, buzz words, and elitist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the passive voi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ull rather than abbreviated fo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active voice and active verb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brief. Give short but clear explanations, instructions, reas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pecific. State the fac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pleasant, positive, lively, and encourag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word “you” in the opening sentence, but avoid using too many “you”-s in your lett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”-s should be used when you are speaking about yourself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”-s should be used when speaking on behalf of your company or a group of associa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unbiased language and avoid gender-biased languag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39640" y="1341360"/>
          <a:ext cx="8229600" cy="596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bi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person, business executive,  mana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ir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irperson, moderator, chair, group lea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ored African-Americ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es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esperson, sales agent, sales represent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ld man/wo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lder p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k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m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ufactured, hand-built, handm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a business 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terhead or return addres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 lin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or confidential notation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ide addres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tion lin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utation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or reference lin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or tex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imentary clo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tur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and title line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 lin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scrip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losure lin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ies lin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scrip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irst paragrap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the main idea in the first or second sentence of your lette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sentences should catch the reader’s eye and get him to react to your letter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first paragraph you wil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ank your correspondent for his letter (if replying)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yourself and your company if necessar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the subject of the letter,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ut the purpose of the let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8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3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econd paragrap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ain part of the le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concerned with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s that need to be made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wers you want to give o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s you want to ask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nal paragraph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losing the letter …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 the person for writing, if you rep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urage further enquiries and correspondence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tion that you look forward to be hearing from the person so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ant issues from the previous paragraphs may be rest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0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5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0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imentary c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Yours sincerely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Yours faithfull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Yours truly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Truly your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letter begin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ear Sir, Dear Sirs, Dear Madam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Dear Sir or Mada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, 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close with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ours faithfull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letter begin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personal name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ear Mr Ja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it will close with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ours sincere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ma after the complementary close is opt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ve one line between the body of the letter and the complimentary clo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gna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ways type your name after your handwritten signature and your position in the firm. That is known as the signature block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andwritten signature should be between the complimentary close and the typed name and titl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1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me and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 or more spaces should be left below the complimentary close for your name and titl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urtesy title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r, Mrs, Miss, M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may be includ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mit the name and title if they appear on the letterhea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8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 p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er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er pr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sometimes used in signatures and means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for and on behalf of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closure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Enc. or Encl.: Bill of loading (5 copies)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losures may include leaflets, prospectuses, CV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mentioned at the bottom of the letter afte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n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nc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re are a number of documents, these are liste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7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pies line - c.c. (carbon copi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.c. Mr. Jo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.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is written when copies are sent to people other than the named recipien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.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and list the individuals receiving the copies of the letter by full name and titl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.c.c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(blind carbon copie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written on the copies themselves (not on the top copy) if you do not want the named recipient to know that other people have received copi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7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2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7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2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scrip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.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note for additional attention is usually put on the left, two or three lines below the last li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7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27320" y="138960"/>
            <a:ext cx="443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 Letter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27320" y="404640"/>
          <a:ext cx="4691160" cy="6556320"/>
        </p:xfrm>
        <a:graphic>
          <a:graphicData uri="http://schemas.openxmlformats.org/drawingml/2006/table">
            <a:tbl>
              <a:tblPr/>
              <a:tblGrid>
                <a:gridCol w="904680"/>
                <a:gridCol w="3786480"/>
              </a:tblGrid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nder’s address/Business Letterh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492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492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dgade 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492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K 12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492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enhagen K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492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NMAR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ember 27, 2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ide    add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ndsonic Lt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rwick House, Warwick Street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rest Hill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don SE23 1J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ED KINGD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tention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 the attention of the Sales Manag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ject tit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draphonic sound syst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u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r Sir or Madam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dy o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let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ease would you send me details of your quadraphonic sound systems which were advertised in the April edition of Sound Monthly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am particularly interested in the Omega range of  equipment that you specialize i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imentary cl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rs faithfully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at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Kaasen (M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tle (p.p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Manag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ll of loading (5 cop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ll of exchange (1 cop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i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.c. Messrs. Poole &amp; Jackson Ltd. Solicito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Thank you for your attention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4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ments of a letter should be neither too widespread nor too dens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r letter is brief, use larger fonts. It will look bette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rmat should convey information clearly and logically, reflecting your organization’s styl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tterhead Statio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company is not us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turn 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company is not using letterhead stationary, it has to include its address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wo lines immediately preceding the date line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UK, in contrast to the practice in some countries, it is not usual to write the sender’s name before the sender’s add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t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e is written bellow the sender’s address, sometimes separated from it by a spa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n the right-hand side of the pag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most common form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vember 27, 2009 (A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7 November, 2009 (B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nth is never abbreviated, the day is never spelled out, and endings for numbers (27th) are not usually us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hortened date can also be us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1/27/2009 (A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7/11/2009  (B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idential or personal 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rivate &amp; confiden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ow the date but above the address of the person you are writing to (recipien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ween the date line and the inside addres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ame notation should be put on the envelop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08:49:16Z</dcterms:created>
  <dc:creator>FON</dc:creator>
  <dc:description/>
  <dc:language>en-US</dc:language>
  <cp:lastModifiedBy>FON</cp:lastModifiedBy>
  <dcterms:modified xsi:type="dcterms:W3CDTF">2000-01-18T11:16:16Z</dcterms:modified>
  <cp:revision>5</cp:revision>
  <dc:subject/>
  <dc:title>Slide 1</dc:title>
</cp:coreProperties>
</file>