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EED8-F553-4B67-8F8B-263A67E9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A383-5A38-45EF-B116-24664194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84AA-F8A0-4137-9958-2D6D33C4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97A9-6344-4FE9-8170-302153C7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EF8F-0BC1-43CA-A3AF-63A92BDF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2661-2D17-4CED-AB72-7E186D6E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63E1-B829-4DA1-884B-1D53C91D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B887-CE05-4D93-A83B-CDAAB2A1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2A8E-6075-4693-BE45-7E1B43E2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CD1C-FB60-44D5-A715-6BD7C472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392F-BC9A-4A05-B75F-5EB1E622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3046-D2E5-4702-A090-96EA321C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1B9F-553D-449A-834F-735F09EA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61EB-C456-4013-B1FF-1138775A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9AD7-D5C8-41E1-8825-7A596115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E8B0-CEFE-4EA4-8967-C104854A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AA14-E997-4E74-9370-1E1F3135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8C66-5A12-48C1-8E86-F872E1B5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FAC0-AF59-45E0-A90E-63E4668F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B347-ABC9-4304-8435-D01737CA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ABC1-3DDC-4574-9F23-C7BCDD79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F6CD-8E48-4940-83D3-646E2D10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61F3-F140-46D2-AEF2-C7D1BB91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7AE5-967D-4A95-AFEA-B437C479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A18F-0492-476D-ABD9-7195475774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822960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534520" y="65530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3806"/>
                </a:moveTo>
                <a:lnTo>
                  <a:pt x="17806" y="10813"/>
                </a:lnTo>
                <a:lnTo>
                  <a:pt x="3794" y="17819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>
            <a:hlinkClick r:id="" action="ppaction://hlinkshowjump?jump=firstslide"/>
          </p:cNvPr>
          <p:cNvSpPr/>
          <p:nvPr/>
        </p:nvSpPr>
        <p:spPr>
          <a:xfrm>
            <a:off x="79246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>
            <a:hlinkClick r:id="" action="ppaction://hlinkshowjump?jump=lastslide"/>
          </p:cNvPr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9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1F57-3883-4661-B9F6-686A8B5F12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822960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8534520" y="65530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3806"/>
                </a:moveTo>
                <a:lnTo>
                  <a:pt x="17806" y="10813"/>
                </a:lnTo>
                <a:lnTo>
                  <a:pt x="3794" y="17819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firstslide"/>
          </p:cNvPr>
          <p:cNvSpPr/>
          <p:nvPr/>
        </p:nvSpPr>
        <p:spPr>
          <a:xfrm>
            <a:off x="79246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lastslide"/>
          </p:cNvPr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9480" y="2209680"/>
            <a:ext cx="792504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Grafi</a:t>
            </a:r>
            <a:r>
              <a:rPr b="1" lang="sr-Latn-CS" sz="4400" spc="-1" strike="noStrike">
                <a:solidFill>
                  <a:srgbClr val="ffcc66"/>
                </a:solidFill>
                <a:latin typeface="Times New Roman"/>
              </a:rPr>
              <a:t>čko predstavljanje i prikazivanje modela u organizacij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c3300"/>
                </a:solidFill>
                <a:latin typeface="Arial"/>
              </a:rPr>
              <a:t>Konvencionalne organizacione šem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381880" cy="476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381880" cy="47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3300"/>
                </a:solidFill>
                <a:latin typeface="Arial"/>
              </a:rPr>
              <a:t>Šeme “s leva – na desno”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28600" y="1219320"/>
          <a:ext cx="8763120" cy="53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876312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3300"/>
                </a:solidFill>
                <a:latin typeface="Arial"/>
              </a:rPr>
              <a:t>Kružne organizacione še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66680" y="1397160"/>
          <a:ext cx="7620120" cy="51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97160"/>
                    <a:ext cx="7620120" cy="51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66"/>
                </a:solidFill>
                <a:latin typeface="Arial"/>
              </a:rPr>
              <a:t>Pravila crtanja organizacionih šem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Najznačajniji poslovi se koncentrišu u centru šem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Fizički raspored izvođenja poslova ili izvršilaca ne bi trebalo da utiče na kompoziciju šeme, presudna je funkcionalna povezano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Značajniji poslovi ili pozicije se predstavljaju simbolima većeg formata ili su boldiran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66"/>
                </a:solidFill>
                <a:latin typeface="Arial"/>
              </a:rPr>
              <a:t>Pravila crtanja organizacionih šem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4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Šeme sa previše elemenata treba dekomponovati na veći broj jednostavnih da bi se očuvala jasnost interpretaci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Jednostavnost je jedno od osnovnih pravila grafičkog predstavljanja podele rada i stukture uopšte. To implicira da šeme retko kada prikazuju više od jednog odnosa ili rasporeda u struktu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Šeme koje se odnose na isti predmet prikazivanja ne smeju biti izrađene primenom različitih pravila oblikova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00040" y="2286000"/>
            <a:ext cx="563868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lvl="1" marL="202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avouganoik je najuobi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jeniji geometrijski oblik koji se koristi za pre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vljanje kako nekog zaposlenog tako i neke poslovne jedinice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1676520" cy="838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k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85440" y="762120"/>
            <a:ext cx="2438280" cy="104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66"/>
                </a:solidFill>
                <a:latin typeface="Arial"/>
              </a:rPr>
              <a:t>Simbo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762120"/>
            <a:ext cx="243828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66"/>
                </a:solidFill>
                <a:latin typeface="Times New Roman"/>
              </a:rPr>
              <a:t>Op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4572000"/>
            <a:ext cx="1676520" cy="838080"/>
          </a:xfrm>
          <a:prstGeom prst="rect">
            <a:avLst/>
          </a:prstGeom>
          <a:noFill/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4419720"/>
            <a:ext cx="563868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41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avouganoik 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iscrtan isprekidanom linijom odnosi se na otvorene pozicije u organizacij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504960" y="2057400"/>
            <a:ext cx="563868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4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Duplo vezane pozicije označavaju međunadz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440" y="762120"/>
            <a:ext cx="2438280" cy="104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66"/>
                </a:solidFill>
                <a:latin typeface="Arial"/>
              </a:rPr>
              <a:t>Simbo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762120"/>
            <a:ext cx="243828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66"/>
                </a:solidFill>
                <a:latin typeface="Times New Roman"/>
              </a:rPr>
              <a:t>Op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05320" y="4267080"/>
            <a:ext cx="563868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41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una linija označava formalnu i direktnu vez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33520" y="2057040"/>
            <a:ext cx="2743200" cy="1295640"/>
            <a:chOff x="533520" y="2057040"/>
            <a:chExt cx="2743200" cy="1295640"/>
          </a:xfrm>
        </p:grpSpPr>
        <p:sp>
          <p:nvSpPr>
            <p:cNvPr id="146" name=""/>
            <p:cNvSpPr/>
            <p:nvPr/>
          </p:nvSpPr>
          <p:spPr>
            <a:xfrm>
              <a:off x="533520" y="2362320"/>
              <a:ext cx="1295280" cy="6858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81080" y="2362320"/>
              <a:ext cx="1295640" cy="6858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143000" y="205704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666880" y="205704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43000" y="2057400"/>
              <a:ext cx="15238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1143000" y="3048120"/>
              <a:ext cx="0" cy="3045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2666880" y="3048120"/>
              <a:ext cx="0" cy="3045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43000" y="3352680"/>
              <a:ext cx="15238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80880" y="4343400"/>
            <a:ext cx="2971800" cy="609480"/>
            <a:chOff x="380880" y="4343400"/>
            <a:chExt cx="2971800" cy="609480"/>
          </a:xfrm>
        </p:grpSpPr>
        <p:sp>
          <p:nvSpPr>
            <p:cNvPr id="155" name=""/>
            <p:cNvSpPr/>
            <p:nvPr/>
          </p:nvSpPr>
          <p:spPr>
            <a:xfrm>
              <a:off x="380880" y="4343400"/>
              <a:ext cx="114300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09680" y="4343400"/>
              <a:ext cx="114300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23880" y="4648320"/>
              <a:ext cx="6858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733560" y="2133720"/>
            <a:ext cx="518148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4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Isprekidana linija označava indirektnu vezu ili pomoćnu vezu (na primer, vezu sa savetnikom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440" y="762120"/>
            <a:ext cx="2438280" cy="104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66"/>
                </a:solidFill>
                <a:latin typeface="Arial"/>
              </a:rPr>
              <a:t>Simbo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762120"/>
            <a:ext cx="243828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66"/>
                </a:solidFill>
                <a:latin typeface="Times New Roman"/>
              </a:rPr>
              <a:t>Op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33920" y="4495680"/>
            <a:ext cx="563868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41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Strelica određuje tok komunikacij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57200" y="4343400"/>
            <a:ext cx="2971800" cy="609480"/>
            <a:chOff x="457200" y="4343400"/>
            <a:chExt cx="2971800" cy="609480"/>
          </a:xfrm>
        </p:grpSpPr>
        <p:sp>
          <p:nvSpPr>
            <p:cNvPr id="163" name=""/>
            <p:cNvSpPr/>
            <p:nvPr/>
          </p:nvSpPr>
          <p:spPr>
            <a:xfrm>
              <a:off x="457200" y="4343400"/>
              <a:ext cx="114300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86000" y="4343400"/>
              <a:ext cx="114300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00200" y="4648320"/>
              <a:ext cx="6858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57200" y="2286000"/>
            <a:ext cx="2971800" cy="609480"/>
            <a:chOff x="457200" y="2286000"/>
            <a:chExt cx="2971800" cy="609480"/>
          </a:xfrm>
        </p:grpSpPr>
        <p:sp>
          <p:nvSpPr>
            <p:cNvPr id="167" name=""/>
            <p:cNvSpPr/>
            <p:nvPr/>
          </p:nvSpPr>
          <p:spPr>
            <a:xfrm>
              <a:off x="457200" y="2286000"/>
              <a:ext cx="114300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86000" y="2286000"/>
              <a:ext cx="114300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0200" y="2590920"/>
              <a:ext cx="685800" cy="0"/>
            </a:xfrm>
            <a:prstGeom prst="line">
              <a:avLst/>
            </a:prstGeom>
            <a:ln w="158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2438280" cy="104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66"/>
                </a:solidFill>
                <a:latin typeface="Arial"/>
              </a:rPr>
              <a:t>Simbo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4419720"/>
            <a:ext cx="243828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66"/>
                </a:solidFill>
                <a:latin typeface="Times New Roman"/>
              </a:rPr>
              <a:t>Op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19520" y="4114800"/>
            <a:ext cx="60195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41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Najčešće organizacione šeme imaju horizontalnu strukturu. Hijerarhijski nivoi se koriste kako bi se tačno znalo “ko je kome odgovoran” za izvršavanje određene dužnosti i “ko koga nadgleda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581280" y="1905120"/>
            <a:ext cx="4648320" cy="1218960"/>
            <a:chOff x="3581280" y="1905120"/>
            <a:chExt cx="4648320" cy="1218960"/>
          </a:xfrm>
        </p:grpSpPr>
        <p:sp>
          <p:nvSpPr>
            <p:cNvPr id="174" name=""/>
            <p:cNvSpPr/>
            <p:nvPr/>
          </p:nvSpPr>
          <p:spPr>
            <a:xfrm>
              <a:off x="3581280" y="2514600"/>
              <a:ext cx="114300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10080" y="2514600"/>
              <a:ext cx="114300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86600" y="2514600"/>
              <a:ext cx="114300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14800" y="2209680"/>
              <a:ext cx="358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114800" y="22093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7696080" y="22093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019920" y="22093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6019920" y="1905120"/>
              <a:ext cx="0" cy="3045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2438280" cy="104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66"/>
                </a:solidFill>
                <a:latin typeface="Arial"/>
              </a:rPr>
              <a:t>Simbo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4419720"/>
            <a:ext cx="243828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66"/>
                </a:solidFill>
                <a:latin typeface="Times New Roman"/>
              </a:rPr>
              <a:t>Op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4648320"/>
            <a:ext cx="6019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41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Za kompaktniji i jasniji prikaz mogu se iskoristiti strukture slične ovoj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124080" y="914400"/>
            <a:ext cx="1905120" cy="3048120"/>
            <a:chOff x="3124080" y="914400"/>
            <a:chExt cx="1905120" cy="3048120"/>
          </a:xfrm>
        </p:grpSpPr>
        <p:sp>
          <p:nvSpPr>
            <p:cNvPr id="186" name=""/>
            <p:cNvSpPr/>
            <p:nvPr/>
          </p:nvSpPr>
          <p:spPr>
            <a:xfrm>
              <a:off x="3124080" y="914400"/>
              <a:ext cx="114300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86200" y="1828800"/>
              <a:ext cx="114300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86200" y="2590920"/>
              <a:ext cx="114300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352680" y="2133720"/>
              <a:ext cx="5335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352680" y="1523520"/>
              <a:ext cx="0" cy="2133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200" y="3352680"/>
              <a:ext cx="1143000" cy="6098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3352680" y="2895480"/>
              <a:ext cx="5335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352680" y="3657600"/>
              <a:ext cx="5335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248160" y="914400"/>
            <a:ext cx="1904760" cy="3048120"/>
            <a:chOff x="6248160" y="914400"/>
            <a:chExt cx="1904760" cy="3048120"/>
          </a:xfrm>
        </p:grpSpPr>
        <p:sp>
          <p:nvSpPr>
            <p:cNvPr id="195" name=""/>
            <p:cNvSpPr/>
            <p:nvPr/>
          </p:nvSpPr>
          <p:spPr>
            <a:xfrm flipH="1">
              <a:off x="7009560" y="914400"/>
              <a:ext cx="114300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6247800" y="1828800"/>
              <a:ext cx="114300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6247800" y="2590920"/>
              <a:ext cx="114300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91520" y="2133720"/>
              <a:ext cx="53316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7924320" y="1523520"/>
              <a:ext cx="0" cy="2133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247800" y="3352680"/>
              <a:ext cx="1143000" cy="6098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1520" y="2895480"/>
              <a:ext cx="53316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91520" y="3657600"/>
              <a:ext cx="53316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rgan</a:t>
            </a:r>
            <a:r>
              <a:rPr b="0" lang="sl-SI" sz="4400" spc="-1" strike="noStrike">
                <a:solidFill>
                  <a:srgbClr val="ffcc66"/>
                </a:solidFill>
                <a:latin typeface="Arial"/>
              </a:rPr>
              <a:t>izaciona struktur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Organizaciona struktura predstavlja rezultat raspodele zadataka organizacije na pojedince i grupe i način njihove integracije i koordinacije u toku izvršavanj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8098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Organizacionom strukturom se određuju poslovi i zadaci za svakog pojedinca u organizaciji, nivoi koeficjenata i rukovodeća struktura i stoga, individualno, organizacionu strukturu i njenu promenu ljudi uvek doživljavaju dramatič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2438280" cy="104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66"/>
                </a:solidFill>
                <a:latin typeface="Arial"/>
              </a:rPr>
              <a:t>Simbo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4419720"/>
            <a:ext cx="243828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66"/>
                </a:solidFill>
                <a:latin typeface="Times New Roman"/>
              </a:rPr>
              <a:t>Op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4572000"/>
            <a:ext cx="60195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41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Struktura koja se koristi za uštedu mesta na šem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886200" y="1676160"/>
            <a:ext cx="2743200" cy="2070360"/>
            <a:chOff x="3886200" y="1676160"/>
            <a:chExt cx="2743200" cy="2070360"/>
          </a:xfrm>
        </p:grpSpPr>
        <p:sp>
          <p:nvSpPr>
            <p:cNvPr id="207" name=""/>
            <p:cNvSpPr/>
            <p:nvPr/>
          </p:nvSpPr>
          <p:spPr>
            <a:xfrm>
              <a:off x="5486400" y="2362320"/>
              <a:ext cx="114300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86200" y="2362320"/>
              <a:ext cx="114300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5257800" y="1676160"/>
              <a:ext cx="0" cy="14475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99080" y="3137040"/>
              <a:ext cx="114300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4419720" y="205704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6095880" y="205704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19720" y="2057400"/>
              <a:ext cx="167616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2438280" cy="104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66"/>
                </a:solidFill>
                <a:latin typeface="Arial"/>
              </a:rPr>
              <a:t>Simbo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4419720"/>
            <a:ext cx="243828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66"/>
                </a:solidFill>
                <a:latin typeface="Times New Roman"/>
              </a:rPr>
              <a:t>Op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4419720"/>
            <a:ext cx="53341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41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omoćne pozicije se prikazuju dodavanjem pravougaonika na horizontalnu strukturu kao na slic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81280" y="990720"/>
            <a:ext cx="4648320" cy="2133360"/>
            <a:chOff x="3581280" y="990720"/>
            <a:chExt cx="4648320" cy="2133360"/>
          </a:xfrm>
        </p:grpSpPr>
        <p:sp>
          <p:nvSpPr>
            <p:cNvPr id="218" name=""/>
            <p:cNvSpPr/>
            <p:nvPr/>
          </p:nvSpPr>
          <p:spPr>
            <a:xfrm>
              <a:off x="3581280" y="2514600"/>
              <a:ext cx="114300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2514600"/>
              <a:ext cx="114300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86600" y="2514600"/>
              <a:ext cx="114300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14800" y="2209680"/>
              <a:ext cx="358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4114800" y="22093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7696080" y="22093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019920" y="22093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6019920" y="1599840"/>
              <a:ext cx="0" cy="6094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35640" y="990720"/>
              <a:ext cx="114300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62520" y="1523880"/>
              <a:ext cx="1143000" cy="5335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105520" y="182880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28600" y="990720"/>
          <a:ext cx="8763120" cy="49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7631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04920" y="990720"/>
          <a:ext cx="8673840" cy="49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867384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0" y="219240"/>
          <a:ext cx="9144000" cy="59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9240"/>
                    <a:ext cx="9144000" cy="59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530280"/>
          <a:ext cx="9144000" cy="54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0280"/>
                    <a:ext cx="914400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E</a:t>
            </a: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ŽB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84320" y="252360"/>
          <a:ext cx="877716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252360"/>
                    <a:ext cx="877716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09480" y="2209680"/>
            <a:ext cx="792504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Grafi</a:t>
            </a:r>
            <a:r>
              <a:rPr b="1" lang="sr-Latn-CS" sz="4400" spc="-1" strike="noStrike">
                <a:solidFill>
                  <a:srgbClr val="ffcc66"/>
                </a:solidFill>
                <a:latin typeface="Times New Roman"/>
              </a:rPr>
              <a:t>čko predstavljanje i prikazivanje modela u organizacij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cc66"/>
                </a:solidFill>
                <a:latin typeface="Arial"/>
              </a:rPr>
              <a:t>Dimenzije organizacione strukture su: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Times New Roman"/>
              </a:rPr>
              <a:t>Dimenzije diferencijacij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Podela r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Decentraliz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Times New Roman"/>
              </a:rPr>
              <a:t>Dimenzije integracije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Depa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entalizacij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Koordin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cc66"/>
                </a:solidFill>
                <a:latin typeface="Arial"/>
              </a:rPr>
              <a:t>Dimenzijama organizacione strukture treba da budu određeni: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ciljevi poslovnog sistem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konzistentan i celovit raspored poslova i aktivnosti kojima se realizuju ciljevi organizacij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skup nosilaca izvršenja svakog od poslova ili aktivnost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raspored autoriteta i odgovornost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ačin povezivanja i koordinacije poslova i izvršila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cc66"/>
                </a:solidFill>
                <a:latin typeface="Arial"/>
              </a:rPr>
              <a:t>Model organizacione struktur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i organi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zacione strukture predstavljaju uprošćenu sliku organizacionih uloga, veza i odnosa unutar organizac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9625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pski” modeli organizacione struk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62120" y="2819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Formalno – pravni ak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statut, pravilnik o organizaciji i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sistematizacij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zaštite na radu, platama zaposlenih i sl.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rganizacione še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rganizacioni priručni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9907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Dokumentaciona form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a 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organizacione strukture se daje kroz statut, sistematizaciju poslova i zadataka i organizacione še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cc66"/>
                </a:solidFill>
                <a:latin typeface="Arial"/>
              </a:rPr>
              <a:t>Vrste modela organizacione struktur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1. Opšti – daje se pregled svih njenih karakteristika (rešenja po svim dimenzijam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3429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2. Partikularni – daje se pregled nekih ili samo jedne dimenz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44197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3. Fokusirani – daje se pregled samo jednog dela čitave organizac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cc66"/>
                </a:solidFill>
                <a:latin typeface="Arial"/>
              </a:rPr>
              <a:t>Organizaciona šem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981080"/>
            <a:ext cx="853416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Organizaciona šema je grafički prikaz organizacione strukture. Njom se prikazuj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podela r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departmentaliz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nivoi hijerarh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raspon kontrole i rukovođe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Vrste organizacionih šema prema grafičkoj kompozicij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onvencionalne organizacione šeme “odozgo - nadol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Šeme “s leva – na desno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ružne organizacione še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1:18:56Z</dcterms:created>
  <dc:creator>Institut</dc:creator>
  <dc:description/>
  <dc:language>en-US</dc:language>
  <cp:lastModifiedBy>dr Zivko Dulanovic</cp:lastModifiedBy>
  <dcterms:modified xsi:type="dcterms:W3CDTF">2005-04-03T22:09:38Z</dcterms:modified>
  <cp:revision>21</cp:revision>
  <dc:subject/>
  <dc:title>PowerPoint Presentation</dc:title>
</cp:coreProperties>
</file>