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wmf" ContentType="image/x-wmf"/>
  <Override PartName="/ppt/media/image2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AC7DD-FF8F-4321-9287-333D3765E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F3119-16EA-4523-8093-23DD957E6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265A0-1746-41D3-B1DC-64E8C54D9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D48B0-D751-4522-BD8A-7702EE2A4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D565A-D57E-4A4C-9D06-BBF20D6AC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6C97B-CD28-49D1-8E27-7BD156B2D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368C0-EA5C-4B0F-A365-DC4D682A7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813F2-D654-4229-A076-0D2E56CC1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42288-259C-4421-9213-BD35BB7C4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9717A-515C-43C1-B4B8-E7569713F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DF3FF-232C-47AA-B2BA-CF0CA93ED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F0D44-C127-42CC-921B-1128F3AC9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4C50F-2AC1-4B36-AA57-D91A10D7D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F980C-B69E-43E3-BED5-B8CAE5B67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9CFEE-4590-4936-A52F-468BFB36D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ACAA1-1694-4006-8350-4FFAD3181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45691-3873-482B-A9F1-71BD2C289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6D817-5B70-4E92-B958-769FF80A1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D8864-B5DB-428B-8036-DE314D430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FB8DA-B85E-4BCE-B8F9-A79F093D8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3912A-D474-4155-9E0D-F6A1E1A7E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B9A0E-9A0F-4F2D-8139-050DADB35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ECEB4-DA1D-48FB-BAD2-A1C4199DA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3DAC9-73F3-4E95-AC23-81D53069A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933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5e2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00A70-7550-4442-860D-CC74DE589F6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66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6633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933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5e2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F6A3B-EE31-4420-8BF9-FFAE28DCA52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6633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6633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933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ENTRI KONTROLE – CK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(podru</a:t>
            </a:r>
            <a:r>
              <a:rPr b="0" lang="sr-Latn-CS" sz="4400" spc="-1" strike="noStrike">
                <a:solidFill>
                  <a:srgbClr val="ffcc66"/>
                </a:solidFill>
                <a:latin typeface="Arial"/>
              </a:rPr>
              <a:t>čja odgovornosti)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933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9" name=""/>
          <p:cNvGraphicFramePr/>
          <p:nvPr/>
        </p:nvGraphicFramePr>
        <p:xfrm>
          <a:off x="0" y="0"/>
          <a:ext cx="9144000" cy="358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358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1" name=""/>
          <p:cNvGraphicFramePr/>
          <p:nvPr/>
        </p:nvGraphicFramePr>
        <p:xfrm>
          <a:off x="0" y="3552840"/>
          <a:ext cx="9144000" cy="3305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3552840"/>
                    <a:ext cx="9144000" cy="330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933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cc66"/>
                </a:solidFill>
                <a:latin typeface="Arial"/>
              </a:rPr>
              <a:t>Centri prihoda</a:t>
            </a:r>
            <a:br>
              <a:rPr sz="4400"/>
            </a:br>
            <a:r>
              <a:rPr b="0" lang="sr-Latn-CS" sz="2800" spc="-1" strike="noStrike">
                <a:solidFill>
                  <a:srgbClr val="ffcc66"/>
                </a:solidFill>
                <a:latin typeface="Arial"/>
              </a:rPr>
              <a:t>(prodaja, ....)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88390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Organizacioni delovi preduze</a:t>
            </a:r>
            <a:r>
              <a:rPr b="0" lang="sl-SI" sz="2800" spc="-1" strike="noStrike">
                <a:solidFill>
                  <a:srgbClr val="ffffff"/>
                </a:solidFill>
                <a:latin typeface="Garamond"/>
              </a:rPr>
              <a:t>ć</a:t>
            </a:r>
            <a:r>
              <a:rPr b="0" lang="sl-SI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a </a:t>
            </a:r>
            <a:r>
              <a:rPr b="0" lang="sl-SI" sz="2800" spc="-1" strike="noStrike">
                <a:solidFill>
                  <a:srgbClr val="ffffff"/>
                </a:solidFill>
                <a:latin typeface="Garamond"/>
              </a:rPr>
              <a:t>č</a:t>
            </a:r>
            <a:r>
              <a:rPr b="0" lang="sl-SI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iji se autputi izra</a:t>
            </a:r>
            <a:r>
              <a:rPr b="0" lang="sl-SI" sz="2800" spc="-1" strike="noStrike">
                <a:solidFill>
                  <a:srgbClr val="ffffff"/>
                </a:solidFill>
                <a:latin typeface="Garamond"/>
              </a:rPr>
              <a:t>ž</a:t>
            </a:r>
            <a:r>
              <a:rPr b="0" lang="sl-SI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avaju u obliku prihoda, ali koji nemaju uticaj na najveći deo troškova koji su taj prihod uslovili</a:t>
            </a:r>
            <a:r>
              <a:rPr b="0" lang="sl-SI" sz="2800" spc="-1" strike="noStrike">
                <a:solidFill>
                  <a:srgbClr val="ffffff"/>
                </a:solidFill>
                <a:latin typeface="Garamond"/>
              </a:rPr>
              <a:t> nazivaju se područja odgovornosti za prihode (</a:t>
            </a:r>
            <a:r>
              <a:rPr b="0" lang="sl-SI" sz="2800" spc="-1" strike="noStrike">
                <a:solidFill>
                  <a:srgbClr val="ffff00"/>
                </a:solidFill>
                <a:latin typeface="Garamond"/>
              </a:rPr>
              <a:t>centri prihoda</a:t>
            </a:r>
            <a:r>
              <a:rPr b="0" lang="sl-SI" sz="2800" spc="-1" strike="noStrike">
                <a:solidFill>
                  <a:srgbClr val="ffffff"/>
                </a:solidFill>
                <a:latin typeface="Garamond"/>
              </a:rPr>
              <a:t>)</a:t>
            </a:r>
            <a:r>
              <a:rPr b="0" lang="sl-SI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933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5" name=""/>
          <p:cNvGraphicFramePr/>
          <p:nvPr/>
        </p:nvGraphicFramePr>
        <p:xfrm>
          <a:off x="0" y="3886200"/>
          <a:ext cx="9144000" cy="2031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886200"/>
                    <a:ext cx="9144000" cy="203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7" name=""/>
          <p:cNvGraphicFramePr/>
          <p:nvPr/>
        </p:nvGraphicFramePr>
        <p:xfrm>
          <a:off x="0" y="1447920"/>
          <a:ext cx="9144000" cy="2438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1447920"/>
                    <a:ext cx="9144000" cy="24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933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0" y="5331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Garamond"/>
              </a:rPr>
              <a:t>Izveštaj o planiranom kontribucionom rezultatu po proizvodim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3505320"/>
            <a:ext cx="9144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Garamond"/>
              </a:rPr>
              <a:t>Izveštaj o ostvarenom kontribucionom rezultatu po proizvodim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0" y="1295280"/>
          <a:ext cx="9144000" cy="199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295280"/>
                    <a:ext cx="9144000" cy="199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3" name=""/>
          <p:cNvGraphicFramePr/>
          <p:nvPr/>
        </p:nvGraphicFramePr>
        <p:xfrm>
          <a:off x="0" y="4267080"/>
          <a:ext cx="9144000" cy="1994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4267080"/>
                    <a:ext cx="9144000" cy="199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933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5" name=""/>
          <p:cNvGraphicFramePr/>
          <p:nvPr/>
        </p:nvGraphicFramePr>
        <p:xfrm>
          <a:off x="0" y="0"/>
          <a:ext cx="9144000" cy="1879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187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7" name=""/>
          <p:cNvGraphicFramePr/>
          <p:nvPr/>
        </p:nvGraphicFramePr>
        <p:xfrm>
          <a:off x="0" y="1905120"/>
          <a:ext cx="9144000" cy="1879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1905120"/>
                    <a:ext cx="9144000" cy="187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9" name=""/>
          <p:cNvGraphicFramePr/>
          <p:nvPr/>
        </p:nvGraphicFramePr>
        <p:xfrm>
          <a:off x="0" y="3809880"/>
          <a:ext cx="9144000" cy="1879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3809880"/>
                    <a:ext cx="9144000" cy="187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0" y="5715000"/>
          <a:ext cx="9144000" cy="736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5715000"/>
                    <a:ext cx="9144000" cy="73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933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cc66"/>
                </a:solidFill>
                <a:latin typeface="Arial"/>
              </a:rPr>
              <a:t>Profit centri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88390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Profit centri predstavljaju logi</a:t>
            </a:r>
            <a:r>
              <a:rPr b="0" lang="sl-SI" sz="2800" spc="-1" strike="noStrike">
                <a:solidFill>
                  <a:srgbClr val="ffffff"/>
                </a:solidFill>
                <a:latin typeface="Garamond"/>
              </a:rPr>
              <a:t>č</a:t>
            </a:r>
            <a:r>
              <a:rPr b="0" lang="sl-SI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ke i funkcionalno zaokru</a:t>
            </a:r>
            <a:r>
              <a:rPr b="0" lang="sl-SI" sz="2800" spc="-1" strike="noStrike">
                <a:solidFill>
                  <a:srgbClr val="ffffff"/>
                </a:solidFill>
                <a:latin typeface="Garamond"/>
              </a:rPr>
              <a:t>ž</a:t>
            </a:r>
            <a:r>
              <a:rPr b="0" lang="sl-SI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ene celine unutar preduze</a:t>
            </a:r>
            <a:r>
              <a:rPr b="0" lang="sl-SI" sz="2800" spc="-1" strike="noStrike">
                <a:solidFill>
                  <a:srgbClr val="ffffff"/>
                </a:solidFill>
                <a:latin typeface="Garamond"/>
              </a:rPr>
              <a:t>ć</a:t>
            </a:r>
            <a:r>
              <a:rPr b="0" lang="sl-SI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a, u kojima se istovremeno uti</a:t>
            </a:r>
            <a:r>
              <a:rPr b="0" lang="sl-SI" sz="2800" spc="-1" strike="noStrike">
                <a:solidFill>
                  <a:srgbClr val="ffffff"/>
                </a:solidFill>
                <a:latin typeface="Garamond"/>
              </a:rPr>
              <a:t>č</a:t>
            </a:r>
            <a:r>
              <a:rPr b="0" lang="sl-SI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e i na prihode i na rashode.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933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cc66"/>
                </a:solidFill>
                <a:latin typeface="Arial"/>
              </a:rPr>
              <a:t>Profit centri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88390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Garamond"/>
              </a:rPr>
              <a:t>Da bi neka divizija ili neki drugi organizacioni segment bio konstituisan kao profit centar neophodno je da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Garamond"/>
              </a:rPr>
              <a:t>a) poseduje dovoljnu kritičnu masu direktnih prihoda i rashoda, kako bi kontrola putem profita bila ostvariva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Garamond"/>
              </a:rPr>
              <a:t>b) njihovi menadžeri imaju dovoljno ovlašćenja kako bi mogli preduzimati akcije koje u značajnoj meri utiču na rezultat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Garamond"/>
              </a:rPr>
              <a:t>c) da imaju sopstveno prepoznatljivo eksterno tržište inputa i autputa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Garamond"/>
              </a:rPr>
              <a:t>d) profit svakog od njih ne zavisi od odluka i efikasnosti drugih organizacionih segmenata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Garamond"/>
              </a:rPr>
              <a:t>e) da postoji spremnost uprave da uspešnost divizija kontroliše preko ostverenog dobitka ili gubitk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933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cc66"/>
                </a:solidFill>
                <a:latin typeface="Arial"/>
              </a:rPr>
              <a:t>Profit centri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88390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Uspešnost profit centara se mo</a:t>
            </a:r>
            <a:r>
              <a:rPr b="0" lang="sl-SI" sz="2800" spc="-1" strike="noStrike">
                <a:solidFill>
                  <a:srgbClr val="ffffff"/>
                </a:solidFill>
                <a:latin typeface="Garamond"/>
              </a:rPr>
              <a:t>ž</a:t>
            </a:r>
            <a:r>
              <a:rPr b="0" lang="sl-SI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e meriti preko slede</a:t>
            </a:r>
            <a:r>
              <a:rPr b="0" lang="sl-SI" sz="2800" spc="-1" strike="noStrike">
                <a:solidFill>
                  <a:srgbClr val="ffffff"/>
                </a:solidFill>
                <a:latin typeface="Garamond"/>
              </a:rPr>
              <a:t>ć</a:t>
            </a:r>
            <a:r>
              <a:rPr b="0" lang="sl-SI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ih pokazatelja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sl-SI" sz="2800" spc="-1" strike="noStrike">
                <a:solidFill>
                  <a:srgbClr val="ffffff"/>
                </a:solidFill>
                <a:latin typeface="Garamond"/>
              </a:rPr>
              <a:t>1)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marginalni rezultat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2)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kontrolabilni rezultat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sr-Latn-CS" sz="2800" spc="-1" strike="noStrike">
                <a:solidFill>
                  <a:srgbClr val="ffffff"/>
                </a:solidFill>
                <a:latin typeface="Garamond"/>
              </a:rPr>
              <a:t>3)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neto rezultat.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933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cc66"/>
                </a:solidFill>
                <a:latin typeface="Arial"/>
              </a:rPr>
              <a:t>Profit centri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0" y="1371600"/>
          <a:ext cx="9144000" cy="271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371600"/>
                    <a:ext cx="9144000" cy="271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2" name=""/>
          <p:cNvGraphicFramePr/>
          <p:nvPr/>
        </p:nvGraphicFramePr>
        <p:xfrm>
          <a:off x="0" y="4140360"/>
          <a:ext cx="9144000" cy="2717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4140360"/>
                    <a:ext cx="9144000" cy="271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933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cc66"/>
                </a:solidFill>
                <a:latin typeface="Arial"/>
              </a:rPr>
              <a:t>Profit centri</a:t>
            </a: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– transferne ce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88390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Transferne cene i</a:t>
            </a:r>
            <a:r>
              <a:rPr b="0" lang="sl-SI" sz="2800" spc="-1" strike="noStrike">
                <a:solidFill>
                  <a:srgbClr val="ffffff"/>
                </a:solidFill>
                <a:latin typeface="Garamond"/>
              </a:rPr>
              <a:t>zražavaju vrednost proizvoda i usluga jedne divizije namenjenih drugim divizijama u okviru istog preduzeć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933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cc66"/>
                </a:solidFill>
                <a:latin typeface="Arial"/>
              </a:rPr>
              <a:t>Centri kontrol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560" y="1066320"/>
            <a:ext cx="883908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800" spc="-1" strike="noStrike">
                <a:solidFill>
                  <a:srgbClr val="ffffff"/>
                </a:solidFill>
                <a:latin typeface="Garamond"/>
              </a:rPr>
              <a:t>Definicija:</a:t>
            </a:r>
            <a:r>
              <a:rPr b="0" lang="sr-Latn-C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sl-SI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Centri kontrole ili podru</a:t>
            </a:r>
            <a:r>
              <a:rPr b="0" lang="sl-SI" sz="2800" spc="-1" strike="noStrike">
                <a:solidFill>
                  <a:srgbClr val="ffffff"/>
                </a:solidFill>
                <a:latin typeface="Garamond"/>
              </a:rPr>
              <a:t>č</a:t>
            </a:r>
            <a:r>
              <a:rPr b="0" lang="sl-SI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ja odgovornosti se definišu kao skup aktivnosti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dodeljenih na upravljanje menad</a:t>
            </a:r>
            <a:r>
              <a:rPr b="0" lang="sr-Latn-CS" sz="2800" spc="-1" strike="noStrike">
                <a:solidFill>
                  <a:srgbClr val="ffffff"/>
                </a:solidFill>
                <a:latin typeface="Garamond"/>
              </a:rPr>
              <a:t>ž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eru ili grupi menad</a:t>
            </a:r>
            <a:r>
              <a:rPr b="0" lang="sr-Latn-CS" sz="2800" spc="-1" strike="noStrike">
                <a:solidFill>
                  <a:srgbClr val="ffffff"/>
                </a:solidFill>
                <a:latin typeface="Garamond"/>
              </a:rPr>
              <a:t>ž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era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U zavisnosti od mogu</a:t>
            </a:r>
            <a:r>
              <a:rPr b="0" lang="sl-SI" sz="2800" spc="-1" strike="noStrike">
                <a:solidFill>
                  <a:srgbClr val="ffffff"/>
                </a:solidFill>
                <a:latin typeface="Garamond"/>
              </a:rPr>
              <a:t>ć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nosti merenja autputa u razli</a:t>
            </a:r>
            <a:r>
              <a:rPr b="0" lang="sr-Latn-CS" sz="2800" spc="-1" strike="noStrike">
                <a:solidFill>
                  <a:srgbClr val="ffffff"/>
                </a:solidFill>
                <a:latin typeface="Garamond"/>
              </a:rPr>
              <a:t>č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itim podru</a:t>
            </a:r>
            <a:r>
              <a:rPr b="0" lang="sr-Latn-CS" sz="2800" spc="-1" strike="noStrike">
                <a:solidFill>
                  <a:srgbClr val="ffffff"/>
                </a:solidFill>
                <a:latin typeface="Garamond"/>
              </a:rPr>
              <a:t>č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jima odgovornosti, zavisnosti autputa i inputa, kao i od stepena dodeljenih ovlaš</a:t>
            </a:r>
            <a:r>
              <a:rPr b="0" lang="sl-SI" sz="2800" spc="-1" strike="noStrike">
                <a:solidFill>
                  <a:srgbClr val="ffffff"/>
                </a:solidFill>
                <a:latin typeface="Garamond"/>
              </a:rPr>
              <a:t>ć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enja i odgovornosti mogu se identifikovati slede</a:t>
            </a:r>
            <a:r>
              <a:rPr b="0" lang="sl-SI" sz="2800" spc="-1" strike="noStrike">
                <a:solidFill>
                  <a:srgbClr val="ffffff"/>
                </a:solidFill>
                <a:latin typeface="Garamond"/>
              </a:rPr>
              <a:t>ć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a područja ili centri odgovornosti: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2902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800" spc="-1" strike="noStrike">
                <a:solidFill>
                  <a:srgbClr val="ffffff"/>
                </a:solidFill>
                <a:latin typeface="Garamond"/>
              </a:rPr>
              <a:t>1. Centri troškov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2902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800" spc="-1" strike="noStrike">
                <a:solidFill>
                  <a:srgbClr val="ffffff"/>
                </a:solidFill>
                <a:latin typeface="Garamond"/>
              </a:rPr>
              <a:t>2. Centri budžetiranih rashod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2902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800" spc="-1" strike="noStrike">
                <a:solidFill>
                  <a:srgbClr val="ffffff"/>
                </a:solidFill>
                <a:latin typeface="Garamond"/>
              </a:rPr>
              <a:t>3. Centri prihod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2902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800" spc="-1" strike="noStrike">
                <a:solidFill>
                  <a:srgbClr val="ffffff"/>
                </a:solidFill>
                <a:latin typeface="Garamond"/>
              </a:rPr>
              <a:t>4. Profit centr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2902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800" spc="-1" strike="noStrike">
                <a:solidFill>
                  <a:srgbClr val="ffffff"/>
                </a:solidFill>
                <a:latin typeface="Garamond"/>
              </a:rPr>
              <a:t>5. Investicioni centr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933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cc66"/>
                </a:solidFill>
                <a:latin typeface="Arial"/>
              </a:rPr>
              <a:t>Profit centri</a:t>
            </a: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– transferne ce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1069920" y="2209680"/>
            <a:ext cx="7256520" cy="3864240"/>
            <a:chOff x="1069920" y="2209680"/>
            <a:chExt cx="7256520" cy="3864240"/>
          </a:xfrm>
        </p:grpSpPr>
        <p:sp>
          <p:nvSpPr>
            <p:cNvPr id="148" name=""/>
            <p:cNvSpPr/>
            <p:nvPr/>
          </p:nvSpPr>
          <p:spPr>
            <a:xfrm>
              <a:off x="3849840" y="2209680"/>
              <a:ext cx="1698480" cy="892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Divizija 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"Prodavac"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849840" y="3695760"/>
              <a:ext cx="1698480" cy="892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aramond"/>
                </a:rPr>
                <a:t>Prodaja na internom tržištu (interni transferi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849840" y="5181480"/>
              <a:ext cx="1698480" cy="892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Divizija 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"Kupac"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775040" y="3249720"/>
              <a:ext cx="0" cy="298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775040" y="4735440"/>
              <a:ext cx="0" cy="298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627960" y="2209680"/>
              <a:ext cx="1698480" cy="892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aramond"/>
                </a:rPr>
                <a:t>Eksterno tržište za proizvode divizije 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702400" y="2655720"/>
              <a:ext cx="7714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627960" y="5181480"/>
              <a:ext cx="1698480" cy="892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aramond"/>
                </a:rPr>
                <a:t>Tržište finalnih proizvod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702400" y="5627520"/>
              <a:ext cx="7714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069920" y="5181480"/>
              <a:ext cx="1698840" cy="892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aramond"/>
                </a:rPr>
                <a:t>Eksterna ponuda proizvoda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aramond"/>
                </a:rPr>
                <a:t>divizije 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922480" y="5627520"/>
              <a:ext cx="773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9" name=""/>
          <p:cNvGrpSpPr/>
          <p:nvPr/>
        </p:nvGrpSpPr>
        <p:grpSpPr>
          <a:xfrm>
            <a:off x="762120" y="2655720"/>
            <a:ext cx="2778120" cy="1336680"/>
            <a:chOff x="762120" y="2655720"/>
            <a:chExt cx="2778120" cy="1336680"/>
          </a:xfrm>
        </p:grpSpPr>
        <p:sp>
          <p:nvSpPr>
            <p:cNvPr id="160" name=""/>
            <p:cNvSpPr/>
            <p:nvPr/>
          </p:nvSpPr>
          <p:spPr>
            <a:xfrm>
              <a:off x="2305080" y="3398760"/>
              <a:ext cx="1235160" cy="593640"/>
            </a:xfrm>
            <a:custGeom>
              <a:avLst/>
              <a:gdLst/>
              <a:ahLst/>
              <a:rect l="l" t="t" r="r" b="b"/>
              <a:pathLst>
                <a:path w="1496" h="1080">
                  <a:moveTo>
                    <a:pt x="0" y="0"/>
                  </a:moveTo>
                  <a:cubicBezTo>
                    <a:pt x="62" y="270"/>
                    <a:pt x="125" y="540"/>
                    <a:pt x="374" y="720"/>
                  </a:cubicBezTo>
                  <a:cubicBezTo>
                    <a:pt x="623" y="900"/>
                    <a:pt x="1309" y="1020"/>
                    <a:pt x="1496" y="108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62120" y="2655720"/>
              <a:ext cx="2778120" cy="59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Garamond"/>
                </a:rPr>
                <a:t>Problem formiranja transfernih cen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933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cc66"/>
                </a:solidFill>
                <a:latin typeface="Arial"/>
              </a:rPr>
              <a:t>Profit centri</a:t>
            </a: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– transferne ce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62120" y="10666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800" spc="-1" strike="noStrike">
                <a:solidFill>
                  <a:srgbClr val="ffcc66"/>
                </a:solidFill>
                <a:latin typeface="Arial"/>
              </a:rPr>
              <a:t>Transferne cene zasnovane na tržišnoj osnov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459480" y="2679840"/>
            <a:ext cx="7128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70 din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460840" y="2679840"/>
            <a:ext cx="99864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Tržišn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en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459480" y="3228840"/>
            <a:ext cx="71280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25 + 2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460840" y="3228840"/>
            <a:ext cx="99864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Relevantni troškov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895480" y="3228840"/>
            <a:ext cx="71280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25 din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897200" y="3228840"/>
            <a:ext cx="99828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Tržišn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en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895480" y="2679840"/>
            <a:ext cx="7128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15 din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897200" y="2679840"/>
            <a:ext cx="9982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Relevantni troškov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751200" y="2816280"/>
            <a:ext cx="1567080" cy="823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ivizija B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"Kupac"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13760" y="2816280"/>
            <a:ext cx="1568160" cy="823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Tržište finalnih proizvod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460840" y="3228840"/>
            <a:ext cx="17114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87200" y="2816280"/>
            <a:ext cx="1568520" cy="823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ivizija 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"Prodavac"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897200" y="3228840"/>
            <a:ext cx="17110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755720" y="4051440"/>
            <a:ext cx="18525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Doprinos divizije 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100 x 10 = 1.00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603760" y="4051440"/>
            <a:ext cx="18525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Doprinos divizije B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100 x 25 = 2.50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465360" y="4875120"/>
            <a:ext cx="2281320" cy="839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Ukupan doprinos divizija preduzeću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1.000 + 2.500 = 3.5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7456320" y="3776760"/>
            <a:ext cx="570240" cy="2746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5887800" y="4600440"/>
            <a:ext cx="571320" cy="685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900000" y="3776760"/>
            <a:ext cx="712800" cy="2746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52560" y="4600440"/>
            <a:ext cx="570240" cy="685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181320" y="3639960"/>
            <a:ext cx="0" cy="274680"/>
          </a:xfrm>
          <a:prstGeom prst="line">
            <a:avLst/>
          </a:prstGeom>
          <a:ln w="936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flipH="1">
            <a:off x="3180960" y="3914640"/>
            <a:ext cx="3419640" cy="0"/>
          </a:xfrm>
          <a:prstGeom prst="line">
            <a:avLst/>
          </a:prstGeom>
          <a:ln w="936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6600960" y="3639600"/>
            <a:ext cx="0" cy="274680"/>
          </a:xfrm>
          <a:prstGeom prst="line">
            <a:avLst/>
          </a:prstGeom>
          <a:ln w="9360">
            <a:solidFill>
              <a:srgbClr val="ffffff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933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cc66"/>
                </a:solidFill>
                <a:latin typeface="Arial"/>
              </a:rPr>
              <a:t>Profit centri</a:t>
            </a: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– transferne ce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0" y="1066680"/>
            <a:ext cx="91440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800" spc="-1" strike="noStrike">
                <a:solidFill>
                  <a:srgbClr val="ffcc66"/>
                </a:solidFill>
                <a:latin typeface="Arial"/>
              </a:rPr>
              <a:t>Transferne cene zasnovane na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800" spc="-1" strike="noStrike">
                <a:solidFill>
                  <a:srgbClr val="ffcc66"/>
                </a:solidFill>
                <a:latin typeface="Arial"/>
              </a:rPr>
              <a:t>modifikovanim tržišnim cenam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152280" y="2666880"/>
            <a:ext cx="8694720" cy="3035160"/>
            <a:chOff x="152280" y="2666880"/>
            <a:chExt cx="8694720" cy="3035160"/>
          </a:xfrm>
        </p:grpSpPr>
        <p:sp>
          <p:nvSpPr>
            <p:cNvPr id="190" name=""/>
            <p:cNvSpPr/>
            <p:nvPr/>
          </p:nvSpPr>
          <p:spPr>
            <a:xfrm>
              <a:off x="6459480" y="2679840"/>
              <a:ext cx="71280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70 din.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460840" y="2679840"/>
              <a:ext cx="99864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Tržišn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cen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459480" y="3228840"/>
              <a:ext cx="71280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2</a:t>
              </a:r>
              <a:r>
                <a:rPr b="0" lang="sl-SI" sz="1600" spc="-1" strike="noStrike">
                  <a:solidFill>
                    <a:srgbClr val="ffffff"/>
                  </a:solidFill>
                  <a:latin typeface="Times New Roman"/>
                </a:rPr>
                <a:t>2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+ 20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460840" y="3228840"/>
              <a:ext cx="99864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Relevantni troškovi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460840" y="3228840"/>
              <a:ext cx="1711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603760" y="4051440"/>
              <a:ext cx="185256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Doprinos divizije 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100 x 2</a:t>
              </a:r>
              <a:r>
                <a:rPr b="0" lang="sl-SI" sz="1600" spc="-1" strike="noStrike">
                  <a:solidFill>
                    <a:srgbClr val="ffffff"/>
                  </a:solidFill>
                  <a:latin typeface="Times New Roman"/>
                </a:rPr>
                <a:t>8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= 2.</a:t>
              </a:r>
              <a:r>
                <a:rPr b="0" lang="sl-SI" sz="1600" spc="-1" strike="noStrike">
                  <a:solidFill>
                    <a:srgbClr val="ffffff"/>
                  </a:solidFill>
                  <a:latin typeface="Times New Roman"/>
                </a:rPr>
                <a:t>8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00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flipH="1">
              <a:off x="7456320" y="3776760"/>
              <a:ext cx="570240" cy="274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97" name=""/>
            <p:cNvGrpSpPr/>
            <p:nvPr/>
          </p:nvGrpSpPr>
          <p:grpSpPr>
            <a:xfrm>
              <a:off x="152280" y="2666880"/>
              <a:ext cx="8694720" cy="3035160"/>
              <a:chOff x="152280" y="2666880"/>
              <a:chExt cx="8694720" cy="3035160"/>
            </a:xfrm>
          </p:grpSpPr>
          <p:sp>
            <p:nvSpPr>
              <p:cNvPr id="198" name=""/>
              <p:cNvSpPr/>
              <p:nvPr/>
            </p:nvSpPr>
            <p:spPr>
              <a:xfrm>
                <a:off x="2860560" y="3215880"/>
                <a:ext cx="712800" cy="547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7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Times New Roman"/>
                  </a:rPr>
                  <a:t>2</a:t>
                </a:r>
                <a:r>
                  <a:rPr b="0" lang="sl-SI" sz="1600" spc="-1" strike="noStrike">
                    <a:solidFill>
                      <a:srgbClr val="ffffff"/>
                    </a:solidFill>
                    <a:latin typeface="Times New Roman"/>
                  </a:rPr>
                  <a:t>2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1862280" y="3215880"/>
                <a:ext cx="998280" cy="547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Times New Roman"/>
                  </a:rPr>
                  <a:t>Tr</a:t>
                </a:r>
                <a:r>
                  <a:rPr b="0" lang="sl-SI" sz="1600" spc="-1" strike="noStrike">
                    <a:solidFill>
                      <a:srgbClr val="ffffff"/>
                    </a:solidFill>
                    <a:latin typeface="Times New Roman"/>
                  </a:rPr>
                  <a:t>ansferna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ff"/>
                    </a:solidFill>
                    <a:latin typeface="Times New Roman"/>
                  </a:rPr>
                  <a:t>cena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2860560" y="2666880"/>
                <a:ext cx="712800" cy="5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l-SI" sz="1600" spc="-1" strike="noStrike">
                    <a:solidFill>
                      <a:srgbClr val="ffffff"/>
                    </a:solidFill>
                    <a:latin typeface="Times New Roman"/>
                  </a:rPr>
                  <a:t>2</a:t>
                </a:r>
                <a:r>
                  <a:rPr b="0" lang="en-US" sz="1600" spc="-1" strike="noStrike">
                    <a:solidFill>
                      <a:srgbClr val="ffffff"/>
                    </a:solidFill>
                    <a:latin typeface="Times New Roman"/>
                  </a:rPr>
                  <a:t>5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l-SI" sz="1600" spc="-1" strike="noStrike">
                    <a:solidFill>
                      <a:srgbClr val="ffffff"/>
                    </a:solidFill>
                    <a:latin typeface="Times New Roman"/>
                  </a:rPr>
                  <a:t>3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1862280" y="2666880"/>
                <a:ext cx="1379520" cy="5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l-SI" sz="1600" spc="-1" strike="noStrike">
                    <a:solidFill>
                      <a:srgbClr val="ffffff"/>
                    </a:solidFill>
                    <a:latin typeface="Times New Roman"/>
                  </a:rPr>
                  <a:t>Tržišna cena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l-SI" sz="1600" spc="-1" strike="noStrike">
                    <a:solidFill>
                      <a:srgbClr val="ffffff"/>
                    </a:solidFill>
                    <a:latin typeface="Times New Roman"/>
                  </a:rPr>
                  <a:t>- Uštede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3716280" y="2803320"/>
                <a:ext cx="1567080" cy="8236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Divizija B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"Kupac"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7278840" y="2803320"/>
                <a:ext cx="1568160" cy="8236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7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Garamond"/>
                  </a:rPr>
                  <a:t>Tržište finalnih proizvoda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152280" y="2803320"/>
                <a:ext cx="1568520" cy="8236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7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Divizija A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"Prodavac"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862280" y="3215880"/>
                <a:ext cx="17110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1720800" y="4038480"/>
                <a:ext cx="1852560" cy="5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Times New Roman"/>
                  </a:rPr>
                  <a:t>Doprinos divizije A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Times New Roman"/>
                  </a:rPr>
                  <a:t>100 x 10 = 1.000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3430440" y="4862160"/>
                <a:ext cx="2281320" cy="8398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Garamond"/>
                  </a:rPr>
                  <a:t>Ukupan doprinos divizija preduzeću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Garamond"/>
                  </a:rPr>
                  <a:t>1.000 + 2.</a:t>
                </a:r>
                <a:r>
                  <a:rPr b="0" lang="sl-SI" sz="1800" spc="-1" strike="noStrike">
                    <a:solidFill>
                      <a:srgbClr val="000000"/>
                    </a:solidFill>
                    <a:latin typeface="Garamond"/>
                  </a:rPr>
                  <a:t>8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Garamond"/>
                  </a:rPr>
                  <a:t>00 = 3.</a:t>
                </a:r>
                <a:r>
                  <a:rPr b="0" lang="sl-SI" sz="1800" spc="-1" strike="noStrike">
                    <a:solidFill>
                      <a:srgbClr val="000000"/>
                    </a:solidFill>
                    <a:latin typeface="Garamond"/>
                  </a:rPr>
                  <a:t>8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Garamond"/>
                  </a:rPr>
                  <a:t>00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 flipH="1">
                <a:off x="5852880" y="4587480"/>
                <a:ext cx="571320" cy="6858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865080" y="3763800"/>
                <a:ext cx="712800" cy="2746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2717640" y="4587480"/>
                <a:ext cx="570240" cy="6858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3470400" y="3644640"/>
                <a:ext cx="0" cy="274680"/>
              </a:xfrm>
              <a:prstGeom prst="line">
                <a:avLst/>
              </a:prstGeom>
              <a:ln w="9360">
                <a:solidFill>
                  <a:srgbClr val="ffffff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flipH="1">
                <a:off x="3470040" y="3901680"/>
                <a:ext cx="30956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13" name=""/>
            <p:cNvSpPr/>
            <p:nvPr/>
          </p:nvSpPr>
          <p:spPr>
            <a:xfrm flipV="1">
              <a:off x="6600960" y="3639600"/>
              <a:ext cx="0" cy="274680"/>
            </a:xfrm>
            <a:prstGeom prst="line">
              <a:avLst/>
            </a:prstGeom>
            <a:ln w="9360">
              <a:solidFill>
                <a:srgbClr val="ffffff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933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cc66"/>
                </a:solidFill>
                <a:latin typeface="Arial"/>
              </a:rPr>
              <a:t>Profit centri</a:t>
            </a: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– transferne ce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04920" y="762120"/>
            <a:ext cx="88390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800" spc="-1" strike="noStrike">
                <a:solidFill>
                  <a:srgbClr val="ffcc66"/>
                </a:solidFill>
                <a:latin typeface="Arial"/>
              </a:rPr>
              <a:t>Transferne cene zasnovane na troškovnoj osnov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228600" y="1554120"/>
          <a:ext cx="8686800" cy="5289480"/>
        </p:xfrm>
        <a:graphic>
          <a:graphicData uri="http://schemas.openxmlformats.org/drawingml/2006/table">
            <a:tbl>
              <a:tblPr/>
              <a:tblGrid>
                <a:gridCol w="2971800"/>
                <a:gridCol w="2819520"/>
                <a:gridCol w="289548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Koncepti troškova kao osnova za transferne cen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0% na varijabilne troškov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5% na pune troškov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ivizija 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ransferne cen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5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36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SzPct val="80000"/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rihodi od internih transfer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SzPct val="80000"/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Varijabilni troškovi (50x100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SzPct val="80000"/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Kontribucioni rezulta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SzPct val="80000"/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iksni troškovi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SzPct val="80000"/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ivizioni doprino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   </a:t>
                      </a:r>
                      <a:r>
                        <a:rPr b="0" lang="sl-SI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.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</a:rPr>
                        <a:t>     </a:t>
                      </a:r>
                      <a:r>
                        <a:rPr b="0" lang="sl-SI" sz="14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</a:rPr>
                        <a:t>5.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.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</a:rPr>
                        <a:t>     </a:t>
                      </a:r>
                      <a:r>
                        <a:rPr b="0" lang="sl-SI" sz="14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</a:rPr>
                        <a:t>7.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4.000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5.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</a:rPr>
                        <a:t>     </a:t>
                      </a:r>
                      <a:r>
                        <a:rPr b="0" lang="sl-SI" sz="14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</a:rPr>
                        <a:t>5.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.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r>
                        <a:rPr b="0" lang="sl-SI" sz="14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</a:rPr>
                        <a:t>    </a:t>
                      </a:r>
                      <a:r>
                        <a:rPr b="0" lang="sl-SI" sz="14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</a:rPr>
                        <a:t>7.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.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ivizija 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ržišna cena finalnog proizvod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40 din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40 din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51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SzPct val="80000"/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rihodi od prodaj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SzPct val="80000"/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Varijabilni troškovi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    </a:t>
                      </a:r>
                      <a:r>
                        <a:rPr b="0" lang="sl-SI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.1.  Troškovi internih transfer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    </a:t>
                      </a:r>
                      <a:r>
                        <a:rPr b="0" lang="sl-SI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.2.  Divizioni varijabilni troškovi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SzPct val="80000"/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Kontribucioni rezulta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SzPct val="80000"/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iksni troškovi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SzPct val="80000"/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ivizioni doprino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   </a:t>
                      </a:r>
                      <a:r>
                        <a:rPr b="0" lang="sl-SI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4.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</a:rPr>
                        <a:t>     </a:t>
                      </a:r>
                      <a:r>
                        <a:rPr b="0" lang="sl-SI" sz="14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</a:rPr>
                        <a:t>20.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.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</a:rPr>
                        <a:t>     </a:t>
                      </a:r>
                      <a:r>
                        <a:rPr b="0" lang="sl-SI" sz="14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</a:rPr>
                        <a:t>12.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4.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</a:rPr>
                        <a:t>        </a:t>
                      </a:r>
                      <a:r>
                        <a:rPr b="0" lang="sl-SI" sz="14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</a:rPr>
                        <a:t>5.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.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4.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</a:rPr>
                        <a:t>    </a:t>
                      </a:r>
                      <a:r>
                        <a:rPr b="0" lang="sl-SI" sz="14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</a:rPr>
                        <a:t>27.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5.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r>
                        <a:rPr b="0" lang="sl-SI" sz="14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</a:rPr>
                        <a:t>    </a:t>
                      </a:r>
                      <a:r>
                        <a:rPr b="0" lang="sl-SI" sz="14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</a:rPr>
                        <a:t>12.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.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</a:rPr>
                        <a:t>      </a:t>
                      </a:r>
                      <a:r>
                        <a:rPr b="0" lang="sl-SI" sz="14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</a:rPr>
                        <a:t>5.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.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Rezultat preduzeć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.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.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933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cc66"/>
                </a:solidFill>
                <a:latin typeface="Arial"/>
              </a:rPr>
              <a:t>Profit centri</a:t>
            </a: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– transferne cene 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914400"/>
            <a:ext cx="9144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800" spc="-1" strike="noStrike">
                <a:solidFill>
                  <a:srgbClr val="ffcc66"/>
                </a:solidFill>
                <a:latin typeface="Arial"/>
              </a:rPr>
              <a:t>Opšta formula za formiranje transfernih cen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304920" y="1828800"/>
            <a:ext cx="7619760" cy="914400"/>
            <a:chOff x="304920" y="1828800"/>
            <a:chExt cx="7619760" cy="914400"/>
          </a:xfrm>
        </p:grpSpPr>
        <p:sp>
          <p:nvSpPr>
            <p:cNvPr id="220" name=""/>
            <p:cNvSpPr/>
            <p:nvPr/>
          </p:nvSpPr>
          <p:spPr>
            <a:xfrm>
              <a:off x="304920" y="1828800"/>
              <a:ext cx="137160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200" spc="-1" strike="noStrike">
                  <a:solidFill>
                    <a:srgbClr val="ffffff"/>
                  </a:solidFill>
                  <a:latin typeface="Times New Roman"/>
                </a:rPr>
                <a:t>Transferna 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200" spc="-1" strike="noStrike">
                  <a:solidFill>
                    <a:srgbClr val="ffffff"/>
                  </a:solidFill>
                  <a:latin typeface="Times New Roman"/>
                </a:rPr>
                <a:t>cena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971800" y="1828800"/>
              <a:ext cx="137160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200" spc="-1" strike="noStrike">
                  <a:solidFill>
                    <a:srgbClr val="ffffff"/>
                  </a:solidFill>
                  <a:latin typeface="Times New Roman"/>
                </a:rPr>
                <a:t>Varijabilni troškovi po 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200" spc="-1" strike="noStrike">
                  <a:solidFill>
                    <a:srgbClr val="ffffff"/>
                  </a:solidFill>
                  <a:latin typeface="Times New Roman"/>
                </a:rPr>
                <a:t>jedinici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553080" y="1828800"/>
              <a:ext cx="137160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200" spc="-1" strike="noStrike">
                  <a:solidFill>
                    <a:srgbClr val="ffffff"/>
                  </a:solidFill>
                  <a:latin typeface="Times New Roman"/>
                </a:rPr>
                <a:t>Gubitak kontribucione marže 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200" spc="-1" strike="noStrike">
                  <a:solidFill>
                    <a:srgbClr val="ffffff"/>
                  </a:solidFill>
                  <a:latin typeface="Times New Roman"/>
                </a:rPr>
                <a:t>po jedinici pri eksternoj prodaji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219320" y="1828800"/>
              <a:ext cx="137160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200" spc="-1" strike="noStrike">
                  <a:solidFill>
                    <a:srgbClr val="ffffff"/>
                  </a:solidFill>
                  <a:latin typeface="Times New Roman"/>
                </a:rPr>
                <a:t>=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495680" y="1905120"/>
              <a:ext cx="137160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200" spc="-1" strike="noStrike">
                  <a:solidFill>
                    <a:srgbClr val="ffffff"/>
                  </a:solidFill>
                  <a:latin typeface="Times New Roman"/>
                </a:rPr>
                <a:t>+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225" name=""/>
          <p:cNvGraphicFramePr/>
          <p:nvPr/>
        </p:nvGraphicFramePr>
        <p:xfrm>
          <a:off x="0" y="2666880"/>
          <a:ext cx="9144000" cy="1879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666880"/>
                    <a:ext cx="9144000" cy="187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7" name=""/>
          <p:cNvGraphicFramePr/>
          <p:nvPr/>
        </p:nvGraphicFramePr>
        <p:xfrm>
          <a:off x="0" y="4343400"/>
          <a:ext cx="9144000" cy="2514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4343400"/>
                    <a:ext cx="9144000" cy="25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933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9" name=""/>
          <p:cNvGraphicFramePr/>
          <p:nvPr/>
        </p:nvGraphicFramePr>
        <p:xfrm>
          <a:off x="0" y="0"/>
          <a:ext cx="9144000" cy="1879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187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1" name=""/>
          <p:cNvGraphicFramePr/>
          <p:nvPr/>
        </p:nvGraphicFramePr>
        <p:xfrm>
          <a:off x="0" y="1828800"/>
          <a:ext cx="9144000" cy="2514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1828800"/>
                    <a:ext cx="9144000" cy="25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3" name=""/>
          <p:cNvGraphicFramePr/>
          <p:nvPr/>
        </p:nvGraphicFramePr>
        <p:xfrm>
          <a:off x="0" y="4343400"/>
          <a:ext cx="9144000" cy="2514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3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4343400"/>
                    <a:ext cx="9144000" cy="25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933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cc66"/>
                </a:solidFill>
                <a:latin typeface="Arial"/>
              </a:rPr>
              <a:t>Investicioni centri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88390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Garamond"/>
              </a:rPr>
              <a:t>Investicioni</a:t>
            </a:r>
            <a:r>
              <a:rPr b="0" lang="sl-SI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 centri predstavljaju logi</a:t>
            </a:r>
            <a:r>
              <a:rPr b="0" lang="sr-Latn-CS" sz="2800" spc="-1" strike="noStrike">
                <a:solidFill>
                  <a:srgbClr val="ffffff"/>
                </a:solidFill>
                <a:latin typeface="Garamond"/>
              </a:rPr>
              <a:t>č</a:t>
            </a:r>
            <a:r>
              <a:rPr b="0" lang="sl-SI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ke i funkcionalno zaokru</a:t>
            </a:r>
            <a:r>
              <a:rPr b="0" lang="sl-SI" sz="2800" spc="-1" strike="noStrike">
                <a:solidFill>
                  <a:srgbClr val="ffffff"/>
                </a:solidFill>
                <a:latin typeface="Garamond"/>
              </a:rPr>
              <a:t>ž</a:t>
            </a:r>
            <a:r>
              <a:rPr b="0" lang="sl-SI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ene celine unutar preduze</a:t>
            </a:r>
            <a:r>
              <a:rPr b="0" lang="sl-SI" sz="2800" spc="-1" strike="noStrike">
                <a:solidFill>
                  <a:srgbClr val="ffffff"/>
                </a:solidFill>
                <a:latin typeface="Garamond"/>
              </a:rPr>
              <a:t>ć</a:t>
            </a:r>
            <a:r>
              <a:rPr b="0" lang="sl-SI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a </a:t>
            </a:r>
            <a:r>
              <a:rPr b="0" lang="sl-SI" sz="2800" spc="-1" strike="noStrike">
                <a:solidFill>
                  <a:srgbClr val="ffffff"/>
                </a:solidFill>
                <a:latin typeface="Garamond"/>
              </a:rPr>
              <a:t>na koje se </a:t>
            </a:r>
            <a:r>
              <a:rPr b="0" lang="sl-SI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pored odgovornosti za prihode i rashode prenose i odgovornosti za nabavku i koriš</a:t>
            </a:r>
            <a:r>
              <a:rPr b="0" lang="sl-SI" sz="2800" spc="-1" strike="noStrike">
                <a:solidFill>
                  <a:srgbClr val="ffffff"/>
                </a:solidFill>
                <a:latin typeface="Garamond"/>
              </a:rPr>
              <a:t>ć</a:t>
            </a:r>
            <a:r>
              <a:rPr b="0" lang="sl-SI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enje imovine.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933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cc66"/>
                </a:solidFill>
                <a:latin typeface="Arial"/>
              </a:rPr>
              <a:t>Investicioni centri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8390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Garamond"/>
              </a:rPr>
              <a:t>Da bi neka divizija ili neki drugi organizacioni segment bio konstituisan kao investicioni centar neophodno je da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Garamond"/>
              </a:rPr>
              <a:t>a) budu ispunjene sve pretpostavke koje su neophodne za konstituisanje profit centara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Garamond"/>
              </a:rPr>
              <a:t>b) organizacioni segmenti budu lako prepoznatljivi kako bi se za njih lako i pouzdano mogla “vezati” angažovana sredstva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Garamond"/>
              </a:rPr>
              <a:t>c) organizacioni delovi budu dovoljno veliki kako bi njihova kontrola putem stope prinosa i/ili rezidualnog dobitka imala smisla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Garamond"/>
              </a:rPr>
              <a:t>d) na njihove menadžere budu prenešena ovlašćenja za odlučivanje o vrsti i kvalitetu imovine koju treba angažovati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Garamond"/>
              </a:rPr>
              <a:t>e) da postoji spremnost uprave da uspešnost divizija kontroliše preko ostvarene stope prinosa i/ili rezidualnog dobitk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933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cc66"/>
                </a:solidFill>
                <a:latin typeface="Arial"/>
              </a:rPr>
              <a:t>Investicioni centri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04920" y="1600200"/>
            <a:ext cx="883908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62040" indent="-6620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Garamond"/>
              </a:rPr>
              <a:t>Uspe</a:t>
            </a:r>
            <a:r>
              <a:rPr b="0" lang="sl-SI" sz="2800" spc="-1" strike="noStrike">
                <a:solidFill>
                  <a:srgbClr val="ffffff"/>
                </a:solidFill>
                <a:latin typeface="Times New Roman"/>
              </a:rPr>
              <a:t>š</a:t>
            </a:r>
            <a:r>
              <a:rPr b="0" lang="sl-SI" sz="2800" spc="-1" strike="noStrike">
                <a:solidFill>
                  <a:srgbClr val="ffffff"/>
                </a:solidFill>
                <a:latin typeface="Garamond"/>
              </a:rPr>
              <a:t>nost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nvesticionih centara</a:t>
            </a:r>
            <a:r>
              <a:rPr b="0" lang="sl-SI" sz="2800" spc="-1" strike="noStrike">
                <a:solidFill>
                  <a:srgbClr val="ffffff"/>
                </a:solidFill>
                <a:latin typeface="Garamond"/>
              </a:rPr>
              <a:t> se može meriti preko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62040" indent="-6620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62040" indent="-6620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sl-SI" sz="2800" spc="-1" strike="noStrike">
                <a:solidFill>
                  <a:srgbClr val="ffffff"/>
                </a:solidFill>
                <a:latin typeface="Garamond"/>
              </a:rPr>
              <a:t>1) stope prinosa na angažovani kapital 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62040" indent="-6620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sl-SI" sz="2800" spc="-1" strike="noStrike">
                <a:solidFill>
                  <a:srgbClr val="ffffff"/>
                </a:solidFill>
                <a:latin typeface="Garamond"/>
              </a:rPr>
              <a:t>2) rezidualnog dobitk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933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cc66"/>
                </a:solidFill>
                <a:latin typeface="Arial"/>
              </a:rPr>
              <a:t>Investicioni centri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0" y="1295280"/>
            <a:ext cx="91440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800" spc="-1" strike="noStrike">
                <a:solidFill>
                  <a:srgbClr val="ffcc66"/>
                </a:solidFill>
                <a:latin typeface="Arial"/>
              </a:rPr>
              <a:t>Stopa prinosa na angažovani kapit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3" name=""/>
              <p:cNvSpPr txBox="1"/>
              <p:nvPr/>
            </p:nvSpPr>
            <p:spPr>
              <a:xfrm>
                <a:off x="1523880" y="2666880"/>
                <a:ext cx="5861160" cy="108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topa prinosa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obitak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profit</m:t>
                        </m:r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ngažovani kapital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933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cc66"/>
                </a:solidFill>
                <a:latin typeface="Arial"/>
              </a:rPr>
              <a:t>Centri kontrol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560" y="1066320"/>
            <a:ext cx="883908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Garamond"/>
              </a:rPr>
              <a:t>Područja odgovornosti karakteristična za funkcionalno strukturirana predeuzeća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2035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3200" spc="-1" strike="noStrike">
                <a:solidFill>
                  <a:srgbClr val="ffffff"/>
                </a:solidFill>
                <a:latin typeface="Garamond"/>
              </a:rPr>
              <a:t>1. Centri troškov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2035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3200" spc="-1" strike="noStrike">
                <a:solidFill>
                  <a:srgbClr val="ffffff"/>
                </a:solidFill>
                <a:latin typeface="Garamond"/>
              </a:rPr>
              <a:t>2. Centri budžetiranih rashod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2035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3200" spc="-1" strike="noStrike">
                <a:solidFill>
                  <a:srgbClr val="ffffff"/>
                </a:solidFill>
                <a:latin typeface="Garamond"/>
              </a:rPr>
              <a:t>3. Centri prihod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Garamond"/>
              </a:rPr>
              <a:t>Područja odgovornosti karakteristična za divizionalno strukturirana predeuzeća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2035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3200" spc="-1" strike="noStrike">
                <a:solidFill>
                  <a:srgbClr val="ffffff"/>
                </a:solidFill>
                <a:latin typeface="Garamond"/>
              </a:rPr>
              <a:t>4. Profit centr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2035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3200" spc="-1" strike="noStrike">
                <a:solidFill>
                  <a:srgbClr val="ffffff"/>
                </a:solidFill>
                <a:latin typeface="Garamond"/>
              </a:rPr>
              <a:t>5. Investicioni centr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933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cc66"/>
                </a:solidFill>
                <a:latin typeface="Arial"/>
              </a:rPr>
              <a:t>Investicioni centri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0" y="1295280"/>
            <a:ext cx="91440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800" spc="-1" strike="noStrike">
                <a:solidFill>
                  <a:srgbClr val="ffcc66"/>
                </a:solidFill>
                <a:latin typeface="Arial"/>
              </a:rPr>
              <a:t>Stopa prinosa na angažovani kapit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6" name=""/>
              <p:cNvSpPr txBox="1"/>
              <p:nvPr/>
            </p:nvSpPr>
            <p:spPr>
              <a:xfrm>
                <a:off x="228600" y="2666880"/>
                <a:ext cx="8686800" cy="108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obitak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profit</m:t>
                        </m:r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ngazovani kapital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obitak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profit</m:t>
                        </m:r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Prihod od prodaje</m:t>
                        </m:r>
                      </m:den>
                    </m:f>
                    <m:r>
                      <m:t xml:space="preserve">∗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Prihod od prodaje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ngazovani kapital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933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cc66"/>
                </a:solidFill>
                <a:latin typeface="Arial"/>
              </a:rPr>
              <a:t>Investicioni centri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0" y="914400"/>
            <a:ext cx="9144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800" spc="-1" strike="noStrike">
                <a:solidFill>
                  <a:srgbClr val="ffcc66"/>
                </a:solidFill>
                <a:latin typeface="Arial"/>
              </a:rPr>
              <a:t>Stopa prinosa na angažovani kapit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990720" y="4038480"/>
            <a:ext cx="11937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topa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inos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0" name=""/>
          <p:cNvGrpSpPr/>
          <p:nvPr/>
        </p:nvGrpSpPr>
        <p:grpSpPr>
          <a:xfrm>
            <a:off x="6676560" y="2324160"/>
            <a:ext cx="1476720" cy="3886200"/>
            <a:chOff x="6676560" y="2324160"/>
            <a:chExt cx="1476720" cy="3886200"/>
          </a:xfrm>
        </p:grpSpPr>
        <p:sp>
          <p:nvSpPr>
            <p:cNvPr id="251" name=""/>
            <p:cNvSpPr/>
            <p:nvPr/>
          </p:nvSpPr>
          <p:spPr>
            <a:xfrm>
              <a:off x="6959520" y="2324160"/>
              <a:ext cx="119376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oškovi proizvodnj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6959520" y="3467160"/>
              <a:ext cx="119376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oškovi administr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6959520" y="2895480"/>
              <a:ext cx="119376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oškovi prodaj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959520" y="5181480"/>
              <a:ext cx="119376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Potraživanja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959520" y="4610160"/>
              <a:ext cx="119376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Zalih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6959520" y="5753160"/>
              <a:ext cx="119376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Gotovina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826320" y="4838760"/>
              <a:ext cx="149040" cy="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826320" y="5981760"/>
              <a:ext cx="149040" cy="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 flipH="1">
              <a:off x="6676560" y="5410080"/>
              <a:ext cx="298440" cy="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6826320" y="4838760"/>
              <a:ext cx="0" cy="114300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826320" y="2552760"/>
              <a:ext cx="149040" cy="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826320" y="3695760"/>
              <a:ext cx="149040" cy="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 flipH="1">
              <a:off x="6676560" y="3124080"/>
              <a:ext cx="298440" cy="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826320" y="2552760"/>
              <a:ext cx="0" cy="114300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65" name=""/>
          <p:cNvGrpSpPr/>
          <p:nvPr/>
        </p:nvGrpSpPr>
        <p:grpSpPr>
          <a:xfrm>
            <a:off x="2200320" y="2895480"/>
            <a:ext cx="1476360" cy="2743200"/>
            <a:chOff x="2200320" y="2895480"/>
            <a:chExt cx="1476360" cy="2743200"/>
          </a:xfrm>
        </p:grpSpPr>
        <p:sp>
          <p:nvSpPr>
            <p:cNvPr id="266" name=""/>
            <p:cNvSpPr/>
            <p:nvPr/>
          </p:nvSpPr>
          <p:spPr>
            <a:xfrm>
              <a:off x="2482920" y="5181480"/>
              <a:ext cx="119376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Koeficijent obrta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482920" y="2895480"/>
              <a:ext cx="119376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topa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dobitka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49360" y="3124080"/>
              <a:ext cx="0" cy="228600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200320" y="4267080"/>
              <a:ext cx="149040" cy="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349360" y="3124080"/>
              <a:ext cx="149400" cy="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349360" y="5410080"/>
              <a:ext cx="149400" cy="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2438280" y="4038480"/>
              <a:ext cx="11937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1400" spc="-1" strike="noStrike">
                  <a:solidFill>
                    <a:srgbClr val="ffff00"/>
                  </a:solidFill>
                  <a:latin typeface="Times New Roman"/>
                </a:rPr>
                <a:t>x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3692160" y="2324160"/>
            <a:ext cx="1476720" cy="3886200"/>
            <a:chOff x="3692160" y="2324160"/>
            <a:chExt cx="1476720" cy="3886200"/>
          </a:xfrm>
        </p:grpSpPr>
        <p:sp>
          <p:nvSpPr>
            <p:cNvPr id="274" name=""/>
            <p:cNvSpPr/>
            <p:nvPr/>
          </p:nvSpPr>
          <p:spPr>
            <a:xfrm>
              <a:off x="3975120" y="3467160"/>
              <a:ext cx="119376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Prodaja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975120" y="4610160"/>
              <a:ext cx="119376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Prodaja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3975120" y="5753160"/>
              <a:ext cx="119376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Ukupna ulaganja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841920" y="2552760"/>
              <a:ext cx="149040" cy="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841920" y="3695760"/>
              <a:ext cx="149040" cy="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 flipH="1">
              <a:off x="3692160" y="3124080"/>
              <a:ext cx="149400" cy="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841920" y="2552760"/>
              <a:ext cx="0" cy="114300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3841920" y="4838760"/>
              <a:ext cx="149040" cy="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3841920" y="5981760"/>
              <a:ext cx="149040" cy="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flipH="1">
              <a:off x="3692160" y="5410080"/>
              <a:ext cx="149400" cy="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3841920" y="4838760"/>
              <a:ext cx="0" cy="114300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3975120" y="2324160"/>
              <a:ext cx="119376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Dobita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3962520" y="2895480"/>
              <a:ext cx="11937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1400" spc="-1" strike="noStrike">
                  <a:solidFill>
                    <a:srgbClr val="ffff00"/>
                  </a:solidFill>
                  <a:latin typeface="Times New Roman"/>
                </a:rPr>
                <a:t>: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3962520" y="5181480"/>
              <a:ext cx="11937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1400" spc="-1" strike="noStrike">
                  <a:solidFill>
                    <a:srgbClr val="ffff00"/>
                  </a:solidFill>
                  <a:latin typeface="Times New Roman"/>
                </a:rPr>
                <a:t>: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88" name=""/>
          <p:cNvGrpSpPr/>
          <p:nvPr/>
        </p:nvGrpSpPr>
        <p:grpSpPr>
          <a:xfrm>
            <a:off x="5184360" y="1752480"/>
            <a:ext cx="1495800" cy="5029200"/>
            <a:chOff x="5184360" y="1752480"/>
            <a:chExt cx="1495800" cy="5029200"/>
          </a:xfrm>
        </p:grpSpPr>
        <p:sp>
          <p:nvSpPr>
            <p:cNvPr id="289" name=""/>
            <p:cNvSpPr/>
            <p:nvPr/>
          </p:nvSpPr>
          <p:spPr>
            <a:xfrm>
              <a:off x="5467320" y="1752480"/>
              <a:ext cx="119376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Prodaja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467320" y="2895480"/>
              <a:ext cx="119376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ena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koštanja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467320" y="5181480"/>
              <a:ext cx="119376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Obrtni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kapital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5467320" y="6324480"/>
              <a:ext cx="119376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talni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kapital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334120" y="5410080"/>
              <a:ext cx="149040" cy="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5334120" y="6553080"/>
              <a:ext cx="149040" cy="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 flipH="1">
              <a:off x="5184360" y="5981760"/>
              <a:ext cx="149400" cy="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334120" y="5410080"/>
              <a:ext cx="0" cy="114300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334120" y="1981080"/>
              <a:ext cx="149040" cy="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5334120" y="3124080"/>
              <a:ext cx="149040" cy="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H="1">
              <a:off x="5184360" y="2552760"/>
              <a:ext cx="149400" cy="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5334120" y="1981080"/>
              <a:ext cx="0" cy="114300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486400" y="2362320"/>
              <a:ext cx="11937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1400" spc="-1" strike="noStrike">
                  <a:solidFill>
                    <a:srgbClr val="ffff00"/>
                  </a:solidFill>
                  <a:latin typeface="Times New Roman"/>
                </a:rPr>
                <a:t>-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5410080" y="5715000"/>
              <a:ext cx="11937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1400" spc="-1" strike="noStrike">
                  <a:solidFill>
                    <a:srgbClr val="ffff00"/>
                  </a:solidFill>
                  <a:latin typeface="Times New Roman"/>
                </a:rPr>
                <a:t>+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933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cc66"/>
                </a:solidFill>
                <a:latin typeface="Arial"/>
              </a:rPr>
              <a:t>Investicioni centri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0" y="1295280"/>
            <a:ext cx="91440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800" spc="-1" strike="noStrike">
                <a:solidFill>
                  <a:srgbClr val="ffcc66"/>
                </a:solidFill>
                <a:latin typeface="Arial"/>
              </a:rPr>
              <a:t>Stopa prinosa - prim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05" name=""/>
          <p:cNvGraphicFramePr/>
          <p:nvPr/>
        </p:nvGraphicFramePr>
        <p:xfrm>
          <a:off x="304920" y="2438280"/>
          <a:ext cx="8610480" cy="2638440"/>
        </p:xfrm>
        <a:graphic>
          <a:graphicData uri="http://schemas.openxmlformats.org/drawingml/2006/table">
            <a:tbl>
              <a:tblPr/>
              <a:tblGrid>
                <a:gridCol w="3047760"/>
                <a:gridCol w="1828800"/>
                <a:gridCol w="1905120"/>
                <a:gridCol w="1828800"/>
              </a:tblGrid>
              <a:tr h="7671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ostojeće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tanj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odatna ulaganj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Ukupn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23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. Investicij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0.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0.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90.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24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. Neto dobitak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 w="28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5.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8.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3.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22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.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topa prinos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5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3.85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933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cc66"/>
                </a:solidFill>
                <a:latin typeface="Arial"/>
              </a:rPr>
              <a:t>Investicioni centri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0" y="1295280"/>
            <a:ext cx="91440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cc66"/>
                </a:solidFill>
                <a:latin typeface="Arial"/>
              </a:rPr>
              <a:t>Re</a:t>
            </a:r>
            <a:r>
              <a:rPr b="0" i="1" lang="sl-SI" sz="2800" spc="-1" strike="noStrike">
                <a:solidFill>
                  <a:srgbClr val="ffcc66"/>
                </a:solidFill>
                <a:latin typeface="Arial"/>
              </a:rPr>
              <a:t>zidualni dobita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8" name=""/>
              <p:cNvSpPr txBox="1"/>
              <p:nvPr/>
            </p:nvSpPr>
            <p:spPr>
              <a:xfrm>
                <a:off x="380880" y="2362320"/>
                <a:ext cx="836136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ezidualni dobitak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Neto dobit - Troskovi kapitala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309" name=""/>
          <p:cNvGraphicFramePr/>
          <p:nvPr/>
        </p:nvGraphicFramePr>
        <p:xfrm>
          <a:off x="1905120" y="3048120"/>
          <a:ext cx="5967360" cy="347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3048120"/>
                    <a:ext cx="5967360" cy="347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933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cc66"/>
                </a:solidFill>
                <a:latin typeface="Arial"/>
              </a:rPr>
              <a:t>Investicioni centri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0" y="1295280"/>
            <a:ext cx="91440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800" spc="-1" strike="noStrike">
                <a:solidFill>
                  <a:srgbClr val="ffcc66"/>
                </a:solidFill>
                <a:latin typeface="Arial"/>
              </a:rPr>
              <a:t>Stopa prinosa i r</a:t>
            </a:r>
            <a:r>
              <a:rPr b="0" i="1" lang="en-US" sz="2800" spc="-1" strike="noStrike">
                <a:solidFill>
                  <a:srgbClr val="ffcc66"/>
                </a:solidFill>
                <a:latin typeface="Arial"/>
              </a:rPr>
              <a:t>e</a:t>
            </a:r>
            <a:r>
              <a:rPr b="0" i="1" lang="sl-SI" sz="2800" spc="-1" strike="noStrike">
                <a:solidFill>
                  <a:srgbClr val="ffcc66"/>
                </a:solidFill>
                <a:latin typeface="Arial"/>
              </a:rPr>
              <a:t>zidualni dobitak - prim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13" name=""/>
          <p:cNvGraphicFramePr/>
          <p:nvPr/>
        </p:nvGraphicFramePr>
        <p:xfrm>
          <a:off x="304920" y="2438280"/>
          <a:ext cx="8610480" cy="3892680"/>
        </p:xfrm>
        <a:graphic>
          <a:graphicData uri="http://schemas.openxmlformats.org/drawingml/2006/table">
            <a:tbl>
              <a:tblPr/>
              <a:tblGrid>
                <a:gridCol w="3047760"/>
                <a:gridCol w="1828800"/>
                <a:gridCol w="1905120"/>
                <a:gridCol w="1828800"/>
              </a:tblGrid>
              <a:tr h="7671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ostojeće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tanj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odatna ulaganj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Ukupn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24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. Investicij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0.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0.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90.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26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. Neto dobitak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5.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8.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3.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26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. Troškovi kapitala (15%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 w="28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5.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3.5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8.5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24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.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topa prinos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5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3.85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24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.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Re</a:t>
                      </a:r>
                      <a:r>
                        <a:rPr b="0" lang="sr-Latn-C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zidualni dobitak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 w="28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.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.5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4.5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933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cc66"/>
                </a:solidFill>
                <a:latin typeface="Arial"/>
              </a:rPr>
              <a:t>Centri kontrol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4560" y="1066320"/>
            <a:ext cx="883908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Garamond"/>
              </a:rPr>
              <a:t>Formiranje centara kontrole treba da bude u funkciji tri cilja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933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800" spc="-1" strike="noStrike">
                <a:solidFill>
                  <a:srgbClr val="ffffff"/>
                </a:solidFill>
                <a:latin typeface="Garamond"/>
              </a:rPr>
              <a:t>1. planiranja (budžetiranja)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933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800" spc="-1" strike="noStrike">
                <a:solidFill>
                  <a:srgbClr val="ffffff"/>
                </a:solidFill>
                <a:latin typeface="Garamond"/>
              </a:rPr>
              <a:t>2. kontrole uspešnosti menadžera i područja 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933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800" spc="-1" strike="noStrike">
                <a:solidFill>
                  <a:srgbClr val="ffffff"/>
                </a:solidFill>
                <a:latin typeface="Garamond"/>
              </a:rPr>
              <a:t>3. motivacij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Garamond"/>
              </a:rPr>
              <a:t>Za upravljanje različitim organizacionim delovima (centrima kontrole) neophodno je konstituisanje odgovarajućih računovodstvenih izveštaja koji bi pratili koncept decentralizacije u okviru organizacij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933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cc66"/>
                </a:solidFill>
                <a:latin typeface="Arial"/>
              </a:rPr>
              <a:t>Centri kontrol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04560" y="1066320"/>
            <a:ext cx="883908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Garamond"/>
              </a:rPr>
              <a:t>Računovodstveni izveštaji treba da budu tako strukturirani i informaciono opremljeni da omogućavaju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3600" spc="-1" strike="noStrike">
                <a:solidFill>
                  <a:srgbClr val="ffffff"/>
                </a:solidFill>
                <a:latin typeface="Garamond"/>
              </a:rPr>
              <a:t>1. kontrolu uspešnosti menadžera organizacionih delova i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3600" spc="-1" strike="noStrike">
                <a:solidFill>
                  <a:srgbClr val="ffffff"/>
                </a:solidFill>
                <a:latin typeface="Garamond"/>
              </a:rPr>
              <a:t>2. kontrolu uspešnosti samih organizacionih delova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933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cc66"/>
                </a:solidFill>
                <a:latin typeface="Arial"/>
              </a:rPr>
              <a:t>Centri kontrol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6868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Garamond"/>
              </a:rPr>
              <a:t>U tom cilju potrebno je sve troškove podeliti na kontrolabilne i nekontrolabiln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3200" spc="-1" strike="noStrike">
                <a:solidFill>
                  <a:srgbClr val="ffffff"/>
                </a:solidFill>
                <a:latin typeface="Garamond"/>
              </a:rPr>
              <a:t>Kontrolabilni troškovi</a:t>
            </a:r>
            <a:r>
              <a:rPr b="0" lang="sl-SI" sz="3200" spc="-1" strike="noStrike">
                <a:solidFill>
                  <a:srgbClr val="ffffff"/>
                </a:solidFill>
                <a:latin typeface="Garamond"/>
              </a:rPr>
              <a:t> su troškovi na čiji iznos može značajno da utiče neposredni menadžer svojim odlukama i akcijam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933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cc66"/>
                </a:solidFill>
                <a:latin typeface="Arial"/>
              </a:rPr>
              <a:t>Centri troškova </a:t>
            </a:r>
            <a:br>
              <a:rPr sz="4400"/>
            </a:br>
            <a:r>
              <a:rPr b="0" lang="sr-Latn-CS" sz="2800" spc="-1" strike="noStrike">
                <a:solidFill>
                  <a:srgbClr val="ffcc66"/>
                </a:solidFill>
                <a:latin typeface="Arial"/>
              </a:rPr>
              <a:t>(nabavka, proizvodnja, ....)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88390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Garamond"/>
              </a:rPr>
              <a:t>Organizacioni delovi preduzeća u kojima je odnos između inputa i autputa jaka i očigledna, ali se autputi ne izražavaju u obliku prihoda već u formi cene koštanja nazivaju se područja odgovornosti za troškove (</a:t>
            </a:r>
            <a:r>
              <a:rPr b="0" lang="sr-Latn-CS" sz="3200" spc="-1" strike="noStrike">
                <a:solidFill>
                  <a:srgbClr val="ffff00"/>
                </a:solidFill>
                <a:latin typeface="Garamond"/>
              </a:rPr>
              <a:t>centri troškova</a:t>
            </a:r>
            <a:r>
              <a:rPr b="0" lang="sr-Latn-CS" sz="3200" spc="-1" strike="noStrike">
                <a:solidFill>
                  <a:srgbClr val="ffffff"/>
                </a:solidFill>
                <a:latin typeface="Garamond"/>
              </a:rPr>
              <a:t>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933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1" name=""/>
          <p:cNvGraphicFramePr/>
          <p:nvPr/>
        </p:nvGraphicFramePr>
        <p:xfrm>
          <a:off x="0" y="0"/>
          <a:ext cx="9144000" cy="2921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292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3" name=""/>
          <p:cNvGraphicFramePr/>
          <p:nvPr/>
        </p:nvGraphicFramePr>
        <p:xfrm>
          <a:off x="0" y="2743200"/>
          <a:ext cx="9144000" cy="2070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2743200"/>
                    <a:ext cx="9144000" cy="207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5" name=""/>
          <p:cNvGraphicFramePr/>
          <p:nvPr/>
        </p:nvGraphicFramePr>
        <p:xfrm>
          <a:off x="0" y="4724280"/>
          <a:ext cx="9144000" cy="2133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4724280"/>
                    <a:ext cx="9144000" cy="213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933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cc66"/>
                </a:solidFill>
                <a:latin typeface="Arial"/>
              </a:rPr>
              <a:t>Centri budžetiranih rashoda</a:t>
            </a:r>
            <a:br>
              <a:rPr sz="4400"/>
            </a:br>
            <a:r>
              <a:rPr b="0" lang="sr-Latn-CS" sz="2800" spc="-1" strike="noStrike">
                <a:solidFill>
                  <a:srgbClr val="ffcc66"/>
                </a:solidFill>
                <a:latin typeface="Arial"/>
              </a:rPr>
              <a:t>(marketing, istraživanje i razvoj, ....)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88390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Organizacioni delovi preduze</a:t>
            </a:r>
            <a:r>
              <a:rPr b="0" lang="sl-SI" sz="2800" spc="-1" strike="noStrike">
                <a:solidFill>
                  <a:srgbClr val="ffffff"/>
                </a:solidFill>
                <a:latin typeface="Garamond"/>
              </a:rPr>
              <a:t>ć</a:t>
            </a:r>
            <a:r>
              <a:rPr b="0" lang="sl-SI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a u kojima se veza između inputa i autputa teško mo</a:t>
            </a:r>
            <a:r>
              <a:rPr b="0" lang="sl-SI" sz="2800" spc="-1" strike="noStrike">
                <a:solidFill>
                  <a:srgbClr val="ffffff"/>
                </a:solidFill>
                <a:latin typeface="Garamond"/>
              </a:rPr>
              <a:t>ž</a:t>
            </a:r>
            <a:r>
              <a:rPr b="0" lang="sl-SI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e sagledati, a uz to se autputi ne mogu finansijski izraziti, nazivaju se podru</a:t>
            </a:r>
            <a:r>
              <a:rPr b="0" lang="sl-SI" sz="2800" spc="-1" strike="noStrike">
                <a:solidFill>
                  <a:srgbClr val="ffffff"/>
                </a:solidFill>
                <a:latin typeface="Garamond"/>
              </a:rPr>
              <a:t>č</a:t>
            </a:r>
            <a:r>
              <a:rPr b="0" lang="sl-SI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ja odgovornosti za bud</a:t>
            </a:r>
            <a:r>
              <a:rPr b="0" lang="sl-SI" sz="2800" spc="-1" strike="noStrike">
                <a:solidFill>
                  <a:srgbClr val="ffffff"/>
                </a:solidFill>
                <a:latin typeface="Garamond"/>
              </a:rPr>
              <a:t>ž</a:t>
            </a:r>
            <a:r>
              <a:rPr b="0" lang="sl-SI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etirane rashode (</a:t>
            </a:r>
            <a:r>
              <a:rPr b="0" lang="sl-SI" sz="2800" spc="-1" strike="noStrike">
                <a:solidFill>
                  <a:srgbClr val="ffff00"/>
                </a:solidFill>
                <a:latin typeface="Garamond"/>
                <a:ea typeface="Times New Roman"/>
              </a:rPr>
              <a:t>centri bud</a:t>
            </a:r>
            <a:r>
              <a:rPr b="0" lang="sl-SI" sz="2800" spc="-1" strike="noStrike">
                <a:solidFill>
                  <a:srgbClr val="ffff00"/>
                </a:solidFill>
                <a:latin typeface="Garamond"/>
              </a:rPr>
              <a:t>ž</a:t>
            </a:r>
            <a:r>
              <a:rPr b="0" lang="sl-SI" sz="2800" spc="-1" strike="noStrike">
                <a:solidFill>
                  <a:srgbClr val="ffff00"/>
                </a:solidFill>
                <a:latin typeface="Garamond"/>
                <a:ea typeface="Times New Roman"/>
              </a:rPr>
              <a:t>etiranih rashoda</a:t>
            </a:r>
            <a:r>
              <a:rPr b="0" lang="sl-SI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)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Karakteristike podru</a:t>
            </a:r>
            <a:r>
              <a:rPr b="0" lang="sr-Latn-CS" sz="2800" spc="-1" strike="noStrike">
                <a:solidFill>
                  <a:srgbClr val="ffffff"/>
                </a:solidFill>
                <a:latin typeface="Garamond"/>
              </a:rPr>
              <a:t>č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ja odgovornosti za bud</a:t>
            </a:r>
            <a:r>
              <a:rPr b="0" lang="sl-SI" sz="2800" spc="-1" strike="noStrike">
                <a:solidFill>
                  <a:srgbClr val="ffffff"/>
                </a:solidFill>
                <a:latin typeface="Garamond"/>
              </a:rPr>
              <a:t>ž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etirane rashod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Garamond"/>
              </a:rPr>
              <a:t>1.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troškovi se ne mogu planirati i dovesti u vezu sa ostalim rezultatima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Garamond"/>
              </a:rPr>
              <a:t>2. k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ontrola nefinansijskih ciljeva (MBO).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r Zivko Dulanovic</cp:lastModifiedBy>
  <dcterms:modified xsi:type="dcterms:W3CDTF">2005-04-17T16:13:39Z</dcterms:modified>
  <cp:revision>31</cp:revision>
  <dc:subject/>
  <dc:title>PowerPoint Presentation</dc:title>
</cp:coreProperties>
</file>