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D3F-B067-4990-962E-E8669AFB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583-605E-4CAA-8B0B-9FEE1205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8DC-A8CB-4CB5-88F2-28BBCE39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5A2-E470-4103-9F1D-AC9E4A2B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C639-86D4-4558-834C-3342F430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806A-BCA4-43CC-9E85-56CDF16C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C76E-F73E-44DF-9DDD-15AB3705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7B0A-B5AD-428E-88CE-69270DFC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C8A1-E76C-462C-9F40-DBAFC6AA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1AB6-3125-42C1-9706-45F15FCD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7CA3-C738-40A0-98C2-2DB15F98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AE8-7DDF-472B-AB7F-F3F52ABB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350F-AB9E-4BC4-991D-C0095E3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A3AB-990B-4955-854C-19649B9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9B65-0845-4657-A02D-63B75AB3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BE60-B3B4-447A-A598-287624AA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1297-6FDD-433E-A6EC-F161C4D9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ADD-BACC-48A5-A6CE-1A16B5DE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3DE-F48A-432D-8EDC-9D42BA70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B14-51D1-42C0-8469-B725C293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549-4778-4210-935C-C3979AFB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AC4-1A59-4CDA-9D43-5A112576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D83-BE83-4752-88B0-49FA669D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721-6E94-48F2-8A83-C00D788E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6C7C-9C45-4A5B-BAC2-3389AF630DE2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EF77-4A83-459C-B902-3E1BC7E38DA8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VIZIJA, MISIJA, CILJEVI, STRATEGIJ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VIZIJA – VIZIONARSKI CILJEV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tegor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litativno ili kvantitativno odredište (npr Ford i demokratizacija automobi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prijatel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terna trans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posle? (Ford&amp;G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VIZIJA – Primer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Donalds – Da bude najbolji poslodavac u svakom regionu u kome poslu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N – svako i svašta povezano na mre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P – da bude pobednička e-kompanija sa sjajnom duš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VIDIA – da unapredi računarsku grafiku ka real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MISIJ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ko je vizija mesto koje kompanija hoće da zauzme u budućnosti, onda je misija interna percepcija budućnosti u odnosu na d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novna svrha (1 kako + n zaš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ugoročna svrha posto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java o mis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azira se na viz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MISIJA - pitanj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it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trebe koje posao preduzeća zadovol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ovne sposobnosti u odnosu na sposobnosti konkuren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uduće okruženje i njegov očekivan uticaj na posl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ednost preduze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ičnost preduzeć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MISIJA - preporuk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slogana i izveštaja top menadž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poru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isija treba da kaže ko je kompanija, šta radi, za šta se zalaže i zaš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fektivna misija se najbolje razvija uz učešće svih u organizac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 bi trebalo da bude duža od 3-4 reče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reba analizirati druge misije, ali ne kopirati i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 isticati kako je kompanija sjajna, kako pruža dobre usluge ili pravi dobre proizv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orate verovati u svoju misiju. Ukoliko ne verujete, ona je laž, a klijenti i kupci to brzo sh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FORMULISANJE MISIJE I VIZIJ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nest Shackleto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e dao sledeći oglas za ljudstvo za svoju ekspediciju na južni pol 19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"Men wanted for hazardous journey. Small wages, bitter cold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ng months of complete darkness, constant danger, saf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turn doubtful. Honour and recognition in case of success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 bi oglas glasi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mbers wanted for adventure trek. Low cost, cool sights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ts fun nights, thrills galore, insurance available. Ge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r picture in Outdoor magazine."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MISIJA – Poslovna strategij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 – strategija (Drucker), usmerena 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cio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nadž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graničenom broju interesnih gru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im interesnim grup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uštvenoj harmon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wlsian filozofiji (promovisati nejednakost interesnih grupa samo ukoliko to pomaže najteže pogođenoj interesnoj gru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ičn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MISIJA - primer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KEA – stvoriti za većinu ljudi bolju svakodnevi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AMBI – koncern zdrave hrane postoji da bi svim potrošačima pružao kvalitetne i nadasve zdrave proizvode dajući time svojevrstan doprinos sveukupnom razvoju dru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icrosoft – da omogući pojedincima i preduzećima celog sveta ostvare svoje pune potencij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MISIJA - primer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EPSI – pobediti Koka-ko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KE – smrviti Reeb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WAL-MART – Postati kompanija koja vredi bar 125 milijardi $ do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LT DISNEY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Usrećiti lj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ez ciniz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govanje i objavljivanje “opštih američkih vrednos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reativnost, snovi i maš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Fanatična pažnja obraćena na konzistenciju i deta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čuvanje i kontrola “Dizni magij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MISIJA - primer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LTA OSIGURANJE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 svojim načinom poslovanja omogući (na tržistu) pouzdanost i sigurnost u izboru i odlučivanju za pravu finansijsku zaštitu od posledica nepredviđenih događaja u poslovanju i životu svojih osiguranika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lta Osiguranj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e opredeljeno da gradi imidž velike privatne osiguravajuće kuće koja stalno unapređuje svoje programe osiguranja, i time podstiče i predvodi razvoj tržista osiguranja i uspešno uključenje domaćeg osiguravajućeg sektora sa evropskim tržistem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RIP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 predmet projektovanje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STITUCIONALNI OBL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RGANIZOVANJA I ORGANIZACIONE PROM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ona struktura – metode i mod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MISIJA - primer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N – rešavanje kompleksnih problema mrežne informatike za vlade, korporacije i sve one koji pružaju usluge na mrež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OEING – postati glavni igrač u komercijalnim letovima i dovesti svet u “mlazno” do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CILJEV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eljena stanj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užaju osećanje us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redsređuju naše nap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meravaju naše planove i odl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mažu nam da ocenimo naš napred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pravljanje i motivacija preko cilj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STRATEGIJ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ovanje je u velikoj meri slično ratu. Ukoliko je strateški plan dobar, mogu se praviti i neke operativne greške a da se na kraju ipak pobe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rategeia (grč) – kako se postaj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hovni plan delovanja (1920 isporuke preko pošte 1950 lanac prodav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mpon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laniran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STRATEGIJA – McKinsey 7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2888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819520" y="1981080"/>
          <a:ext cx="4572000" cy="42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81080"/>
                    <a:ext cx="45720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STRATEGIJA - Nivo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286000"/>
            <a:ext cx="4343400" cy="7621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porativna strate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3429000"/>
            <a:ext cx="4343400" cy="7621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rategija poslovne jedin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572000"/>
            <a:ext cx="4343400" cy="7621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rategija funkcijskog niv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840" y="55879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ivn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480" y="566424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ivn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6080" y="566424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ivn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5334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5334120"/>
            <a:ext cx="21337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123720" y="5334120"/>
            <a:ext cx="17528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STRATEGIJA I TAKTIK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rateški i operativni planov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likuju 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emenskim rokovima (nekoliko godina-nekoliko dekada: do jedne god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imu (širok raspon aktivnosti organizacije : jedna aktivn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uhvaćenim detaljima (opšte : pojedinač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... A čemu sve to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abilan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prekidno preispitivati dugoročnu svrhu postojanja (MISIJA) pretakati to u konkretne vrednosti stanja sistema (CILJEVI) i planove za njihovo postizanje (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VIZIJ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ksioma, do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ako se sistem mora konstanto prilagođavati promenama okruženja, neke ključne vrednosti moraju da ostanu relativno stabilne, kako bi se stvorila baza za strateško odlučivan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žak posao, za top menadž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 period od dekade naviš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VIZIJ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0" name="315deg-48px-45px-0tail-1head-ddddbb-1" descr=""/>
          <p:cNvPicPr/>
          <p:nvPr/>
        </p:nvPicPr>
        <p:blipFill>
          <a:blip r:embed="rId2"/>
          <a:stretch/>
        </p:blipFill>
        <p:spPr>
          <a:xfrm>
            <a:off x="3581280" y="312408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121" name="225deg-48px-45px-0tail-1head-ddddbb-1" descr=""/>
          <p:cNvPicPr/>
          <p:nvPr/>
        </p:nvPicPr>
        <p:blipFill>
          <a:blip r:embed="rId3"/>
          <a:stretch/>
        </p:blipFill>
        <p:spPr>
          <a:xfrm>
            <a:off x="6934320" y="30481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22" name="090deg-47px-44px-0tail-1head-ddddbb-1" descr=""/>
          <p:cNvPicPr/>
          <p:nvPr/>
        </p:nvPicPr>
        <p:blipFill>
          <a:blip r:embed="rId4"/>
          <a:stretch/>
        </p:blipFill>
        <p:spPr>
          <a:xfrm>
            <a:off x="5029200" y="5029200"/>
            <a:ext cx="419040" cy="4478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1828800" y="2209680"/>
            <a:ext cx="6857280" cy="4038480"/>
            <a:chOff x="1828800" y="2209680"/>
            <a:chExt cx="6857280" cy="4038480"/>
          </a:xfrm>
        </p:grpSpPr>
        <p:sp>
          <p:nvSpPr>
            <p:cNvPr id="124" name=""/>
            <p:cNvSpPr/>
            <p:nvPr/>
          </p:nvSpPr>
          <p:spPr>
            <a:xfrm>
              <a:off x="1828800" y="2209680"/>
              <a:ext cx="1611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Ključne vrednos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9800" y="2209680"/>
              <a:ext cx="511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1720" y="2209680"/>
              <a:ext cx="25711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23200" y="2209680"/>
              <a:ext cx="510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34400" y="2209680"/>
              <a:ext cx="16516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Osnovna svr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8800" y="2942640"/>
              <a:ext cx="16110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39800" y="2942640"/>
              <a:ext cx="51192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51720" y="2942640"/>
              <a:ext cx="257112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23200" y="2942640"/>
              <a:ext cx="510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34400" y="2942640"/>
              <a:ext cx="16516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28800" y="3516840"/>
              <a:ext cx="1611000" cy="14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39800" y="3516840"/>
              <a:ext cx="511920" cy="14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3951720" y="3516840"/>
              <a:ext cx="2569320" cy="1457280"/>
              <a:chOff x="3951720" y="3516840"/>
              <a:chExt cx="2569320" cy="1457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4163400" y="3516840"/>
                <a:ext cx="2357640" cy="1226160"/>
                <a:chOff x="4163400" y="3516840"/>
                <a:chExt cx="2357640" cy="12261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163400" y="3516840"/>
                  <a:ext cx="2357640" cy="1226160"/>
                </a:xfrm>
                <a:prstGeom prst="rect">
                  <a:avLst/>
                </a:prstGeom>
                <a:solidFill>
                  <a:srgbClr val="eeee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" name=""/>
                <p:cNvGrpSpPr/>
                <p:nvPr/>
              </p:nvGrpSpPr>
              <p:grpSpPr>
                <a:xfrm>
                  <a:off x="4163400" y="3516840"/>
                  <a:ext cx="2356920" cy="1062360"/>
                  <a:chOff x="4163400" y="3516840"/>
                  <a:chExt cx="2356920" cy="106236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4272480" y="3557880"/>
                    <a:ext cx="2137680" cy="980280"/>
                  </a:xfrm>
                  <a:prstGeom prst="rect">
                    <a:avLst/>
                  </a:prstGeom>
                  <a:solidFill>
                    <a:srgbClr val="eeee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440" bIns="19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2400" spc="-1" strike="noStrike">
                        <a:solidFill>
                          <a:srgbClr val="444444"/>
                        </a:solidFill>
                        <a:latin typeface="Times New Roman"/>
                      </a:rPr>
                      <a:t>VIZIJ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163400" y="3516840"/>
                    <a:ext cx="2356920" cy="1062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2" name=""/>
              <p:cNvSpPr/>
              <p:nvPr/>
            </p:nvSpPr>
            <p:spPr>
              <a:xfrm>
                <a:off x="3951720" y="4518000"/>
                <a:ext cx="42372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6523200" y="3516840"/>
              <a:ext cx="510840" cy="14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4400" y="3516840"/>
              <a:ext cx="1651680" cy="14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8800" y="4974480"/>
              <a:ext cx="16110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39800" y="4974480"/>
              <a:ext cx="51192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1720" y="4974480"/>
              <a:ext cx="257112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3200" y="4974480"/>
              <a:ext cx="510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34400" y="4974480"/>
              <a:ext cx="16516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5548680"/>
              <a:ext cx="1611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9800" y="5548680"/>
              <a:ext cx="511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51720" y="5548680"/>
              <a:ext cx="25711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Vizionarski cilje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23200" y="5548680"/>
              <a:ext cx="5108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34400" y="5548680"/>
              <a:ext cx="16516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VIZIJA – KLJUČNE VREDNOST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više od p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itan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li bi se vrednost promenila ukoliko bi se okolnosti promenile i uzrokovale da ta vrednost postane opterećenj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li bi se vrednost promenila ukoliko bi prešli u drugu industri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ljučne vrednosti su toliko jake da se preporučuje menjanje tržišta, a ne ključnih vred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VIZIJA – KLJUČNE VREDNOST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imeri ključnih vrednos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jbolje usluge svojim kupci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ij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ionirska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rea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ocijalna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VIZIJA – OSNOVNA SVRH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log postojanja firme, pažljivo izražen u izjavi o mis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je profit, već način kako će firma sticati profit – pitanje KA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tavljanje pitanja ZAŠTO – primer marketinške agen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 KAKO + N ZAŠTO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novna svr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vrha se ne postavlja, već se otkriva. Nametanje svrhe vodi u probl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996633"/>
                </a:solidFill>
                <a:latin typeface="Times New Roman"/>
              </a:rPr>
              <a:t>VIZIJA – VIZIONARSKI CILJEV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iraju se, a ne otkriv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50% šanse je dovolj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dvažni, čupavi, veliki ciljevi (big, hairy, audacious goals – Collin&amp;Porr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judi bi trebalo da se skoro zagrcnu kada čuju te cilj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lika između strateških i operativnih cilj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stitut</cp:lastModifiedBy>
  <dcterms:modified xsi:type="dcterms:W3CDTF">2005-03-07T12:15:14Z</dcterms:modified>
  <cp:revision>8</cp:revision>
  <dc:subject/>
  <dc:title>PowerPoint Presentation</dc:title>
</cp:coreProperties>
</file>