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562-6D2B-4D8B-A252-9CEE7E41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5F5-2D6F-4FA5-8795-71216305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31B-3B97-49D8-A27B-F7684E65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65D-0968-4CEB-9E87-58CE712C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95C0-0E1A-4F80-BD39-12F88D93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E90F-12E3-4BC6-878A-D1288137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A220-FC23-4908-A1B6-EF894B30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3B6-3032-4BAE-9661-A2813790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C749-D3E1-45EC-ADE1-4C205D74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36C8-B006-4DDF-BB1D-F19916E9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70DD-793C-43CD-81BA-F30B320F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EBD-5203-4CDE-A988-02EBF4BE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65C5-D7A1-4B6F-9F84-FD7C9024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3578-1A9D-4443-82D2-04066DD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7E64-13F6-4ED7-B96B-0394673E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50E4-7D1B-41C2-A34E-5E532E6B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54D0-0306-4658-B10D-FF571902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FA79-96BA-4FC7-B5C7-19CEF664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2793-F800-44DA-AE68-941C2377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D12A-32C8-469C-AB68-51557618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050A-794F-4AD7-9C6B-16F81428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97A9-3633-4DEF-AD67-7D64E374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0BA-03E0-4730-B76A-5C97E91B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842F-D7BD-4D7A-A65F-F1CCF1BA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4F7C-9817-4CC6-8CA4-F85E72EF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A8BD6-F74B-45D4-ADE6-81098CD2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C5BF-F363-4FE1-9F31-973C9A0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DAEE-0FDC-4D8D-8C80-195F328C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4B7C-CCCC-44D1-8F3D-DE72F5A2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BA41-256B-4EBB-8568-19F4324B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01A7-D277-4EE8-BF03-EDBB138C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BC37-0A13-45DA-B4BA-0AA1024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F7011-2F53-48F0-ABF4-9E989E09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A30-3A06-4C4E-9958-C9FFEFAB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2850-1817-4541-B2E3-BD4F2840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6644-FA5B-448E-908D-0B763201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ABBB-3327-4525-86C1-CEB591DE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79AD-5180-48CF-A57C-E500A47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1627-DB7D-403E-B06D-7BA6E448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40F5-4C20-4F2B-B340-56C2CDB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EED6B-300A-4227-AD55-C03246AF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62818-45BE-475C-A31A-E7E0E67A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9103-7977-4669-89A8-4E26B563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F2C-0113-404C-B76D-B374D9D0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7CC-DA66-4EBD-87BF-05642755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0CB-CE75-42A1-90EF-C4067136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31A-1132-4928-A65D-6DB4771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206-BF91-4D66-902B-24B77B84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C4BB-1784-4299-A0EB-349837612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31E1-A700-408C-A53C-B310F953F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BB60-8C51-43B7-89FC-6B61054CAE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7E65-69D0-4389-9DB1-FE7D572070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UROPLAN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lan%20pokrivanja.DOC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221304"/>
                </a:solidFill>
                <a:latin typeface="Times New Roman"/>
              </a:rPr>
              <a:t>Organizacija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066680" y="1294920"/>
            <a:ext cx="78487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zacija je sredstvo u rukama menadžera, onoliko jako, koliko su sposobni da ga iskori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Organizacija je jedna od funkcija menadžm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16904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221304"/>
                </a:solidFill>
                <a:latin typeface="Times New Roman"/>
              </a:rPr>
              <a:t>Organizaciona šema je grafički iskaz organizacione strukture. </a:t>
            </a:r>
            <a:br>
              <a:rPr sz="4000"/>
            </a:br>
            <a:br>
              <a:rPr sz="4000"/>
            </a:br>
            <a:r>
              <a:rPr b="1" lang="sl-SI" sz="4000" spc="-1" strike="noStrike">
                <a:solidFill>
                  <a:srgbClr val="221304"/>
                </a:solidFill>
                <a:latin typeface="Times New Roman"/>
              </a:rPr>
              <a:t>Prikazuje:</a:t>
            </a:r>
            <a:br>
              <a:rPr sz="4000"/>
            </a:br>
            <a:r>
              <a:rPr b="1" lang="sl-SI" sz="3200" spc="-1" strike="noStrike">
                <a:solidFill>
                  <a:srgbClr val="221304"/>
                </a:solidFill>
                <a:latin typeface="Times New Roman"/>
              </a:rPr>
              <a:t>podelu rada-specijalizaciju</a:t>
            </a:r>
            <a:br>
              <a:rPr sz="3200"/>
            </a:br>
            <a:r>
              <a:rPr b="1" lang="sl-SI" sz="3200" spc="-1" strike="noStrike">
                <a:solidFill>
                  <a:srgbClr val="221304"/>
                </a:solidFill>
                <a:latin typeface="Times New Roman"/>
              </a:rPr>
              <a:t>departmentalizaciju</a:t>
            </a:r>
            <a:br>
              <a:rPr sz="3200"/>
            </a:br>
            <a:r>
              <a:rPr b="1" lang="sl-SI" sz="3200" spc="-1" strike="noStrike">
                <a:solidFill>
                  <a:srgbClr val="221304"/>
                </a:solidFill>
                <a:latin typeface="Times New Roman"/>
              </a:rPr>
              <a:t>nivoe hijerarhije</a:t>
            </a:r>
            <a:br>
              <a:rPr sz="3200"/>
            </a:br>
            <a:r>
              <a:rPr b="1" lang="sl-SI" sz="3200" spc="-1" strike="noStrike">
                <a:solidFill>
                  <a:srgbClr val="221304"/>
                </a:solidFill>
                <a:latin typeface="Times New Roman"/>
              </a:rPr>
              <a:t>raspon kontrole i rukovođenja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221304"/>
                </a:solidFill>
                <a:latin typeface="Times New Roman"/>
              </a:rPr>
              <a:t>usluge\glavna šema.doc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221304"/>
                </a:solidFill>
                <a:latin typeface="Times New Roman"/>
              </a:rPr>
              <a:t>Organizaciona šema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788508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0909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317080" y="6597720"/>
            <a:ext cx="466560" cy="260280"/>
          </a:xfrm>
          <a:custGeom>
            <a:avLst/>
            <a:gdLst>
              <a:gd name="textAreaLeft" fmla="*/ 16560 w 466560"/>
              <a:gd name="textAreaRight" fmla="*/ 450000 w 4665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695" h="21600">
                <a:moveTo>
                  <a:pt x="0" y="0"/>
                </a:moveTo>
                <a:lnTo>
                  <a:pt x="38695" y="0"/>
                </a:lnTo>
                <a:lnTo>
                  <a:pt x="38695" y="21600"/>
                </a:lnTo>
                <a:lnTo>
                  <a:pt x="0" y="21600"/>
                </a:lnTo>
                <a:close/>
              </a:path>
              <a:path fill="lightenLess" w="38695" h="21600">
                <a:moveTo>
                  <a:pt x="0" y="0"/>
                </a:moveTo>
                <a:lnTo>
                  <a:pt x="38695" y="0"/>
                </a:lnTo>
                <a:lnTo>
                  <a:pt x="37295" y="1400"/>
                </a:lnTo>
                <a:lnTo>
                  <a:pt x="1400" y="1400"/>
                </a:lnTo>
                <a:close/>
              </a:path>
              <a:path fill="darken" w="38695" h="21600">
                <a:moveTo>
                  <a:pt x="38695" y="0"/>
                </a:moveTo>
                <a:lnTo>
                  <a:pt x="38695" y="21600"/>
                </a:lnTo>
                <a:lnTo>
                  <a:pt x="37295" y="20200"/>
                </a:lnTo>
                <a:lnTo>
                  <a:pt x="37295" y="1400"/>
                </a:lnTo>
                <a:close/>
              </a:path>
              <a:path fill="darkenLess" w="38695" h="21600">
                <a:moveTo>
                  <a:pt x="38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95" y="20200"/>
                </a:lnTo>
                <a:close/>
              </a:path>
              <a:path fill="lighten" w="38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95" h="21600">
                <a:moveTo>
                  <a:pt x="12341" y="3794"/>
                </a:moveTo>
                <a:lnTo>
                  <a:pt x="26354" y="10800"/>
                </a:lnTo>
                <a:lnTo>
                  <a:pt x="12341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las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19893" y="10800"/>
                </a:moveTo>
                <a:lnTo>
                  <a:pt x="9387" y="17806"/>
                </a:lnTo>
                <a:lnTo>
                  <a:pt x="9387" y="3794"/>
                </a:lnTo>
                <a:close/>
              </a:path>
              <a:path fill="darken" w="32788" h="21600">
                <a:moveTo>
                  <a:pt x="21738" y="3794"/>
                </a:moveTo>
                <a:lnTo>
                  <a:pt x="21738" y="17806"/>
                </a:lnTo>
                <a:lnTo>
                  <a:pt x="23400" y="17806"/>
                </a:lnTo>
                <a:lnTo>
                  <a:pt x="23400" y="3794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748980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4417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  <a:path fill="darken" w="35831" h="21600">
                <a:moveTo>
                  <a:pt x="10909" y="3794"/>
                </a:moveTo>
                <a:lnTo>
                  <a:pt x="12571" y="3794"/>
                </a:lnTo>
                <a:lnTo>
                  <a:pt x="12571" y="17806"/>
                </a:lnTo>
                <a:lnTo>
                  <a:pt x="10909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47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221304"/>
                </a:solidFill>
                <a:latin typeface="Times New Roman"/>
              </a:rPr>
              <a:t>Pravila crtanja organizacionih šema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značajniji poslovi se koncentrišu u centru šeme, ma kako ona bila predstavljenaglavna šema.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Fizički raspored izvođenja poslova ili izvršilaca ne bi trebalo da utiče na kompoziciju šeme, presudna je funkcionalna povez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načajniji poslovi ili pozicije se predstavljaju simbolima većeg formata ili su boldir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788508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0909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8317080" y="6597720"/>
            <a:ext cx="466560" cy="260280"/>
          </a:xfrm>
          <a:custGeom>
            <a:avLst/>
            <a:gdLst>
              <a:gd name="textAreaLeft" fmla="*/ 16560 w 466560"/>
              <a:gd name="textAreaRight" fmla="*/ 450000 w 4665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695" h="21600">
                <a:moveTo>
                  <a:pt x="0" y="0"/>
                </a:moveTo>
                <a:lnTo>
                  <a:pt x="38695" y="0"/>
                </a:lnTo>
                <a:lnTo>
                  <a:pt x="38695" y="21600"/>
                </a:lnTo>
                <a:lnTo>
                  <a:pt x="0" y="21600"/>
                </a:lnTo>
                <a:close/>
              </a:path>
              <a:path fill="lightenLess" w="38695" h="21600">
                <a:moveTo>
                  <a:pt x="0" y="0"/>
                </a:moveTo>
                <a:lnTo>
                  <a:pt x="38695" y="0"/>
                </a:lnTo>
                <a:lnTo>
                  <a:pt x="37295" y="1400"/>
                </a:lnTo>
                <a:lnTo>
                  <a:pt x="1400" y="1400"/>
                </a:lnTo>
                <a:close/>
              </a:path>
              <a:path fill="darken" w="38695" h="21600">
                <a:moveTo>
                  <a:pt x="38695" y="0"/>
                </a:moveTo>
                <a:lnTo>
                  <a:pt x="38695" y="21600"/>
                </a:lnTo>
                <a:lnTo>
                  <a:pt x="37295" y="20200"/>
                </a:lnTo>
                <a:lnTo>
                  <a:pt x="37295" y="1400"/>
                </a:lnTo>
                <a:close/>
              </a:path>
              <a:path fill="darkenLess" w="38695" h="21600">
                <a:moveTo>
                  <a:pt x="38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95" y="20200"/>
                </a:lnTo>
                <a:close/>
              </a:path>
              <a:path fill="lighten" w="38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95" h="21600">
                <a:moveTo>
                  <a:pt x="12341" y="3794"/>
                </a:moveTo>
                <a:lnTo>
                  <a:pt x="26354" y="10800"/>
                </a:lnTo>
                <a:lnTo>
                  <a:pt x="12341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las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19893" y="10800"/>
                </a:moveTo>
                <a:lnTo>
                  <a:pt x="9387" y="17806"/>
                </a:lnTo>
                <a:lnTo>
                  <a:pt x="9387" y="3794"/>
                </a:lnTo>
                <a:close/>
              </a:path>
              <a:path fill="darken" w="32788" h="21600">
                <a:moveTo>
                  <a:pt x="21738" y="3794"/>
                </a:moveTo>
                <a:lnTo>
                  <a:pt x="21738" y="17806"/>
                </a:lnTo>
                <a:lnTo>
                  <a:pt x="23400" y="17806"/>
                </a:lnTo>
                <a:lnTo>
                  <a:pt x="23400" y="3794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>
            <a:off x="748980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4417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  <a:path fill="darken" w="35831" h="21600">
                <a:moveTo>
                  <a:pt x="10909" y="3794"/>
                </a:moveTo>
                <a:lnTo>
                  <a:pt x="12571" y="3794"/>
                </a:lnTo>
                <a:lnTo>
                  <a:pt x="12571" y="17806"/>
                </a:lnTo>
                <a:lnTo>
                  <a:pt x="10909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221304"/>
                </a:solidFill>
                <a:latin typeface="Times New Roman"/>
              </a:rPr>
              <a:t>Pravila crtanja organizacionih šema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43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Šeme sa previše elemenata treba dekomponovati na veći broj jednostavnih da bi se očuvala jasnost interpre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ostavnost je jedno od osnovnih pravila grafičkog predstavljanja podele rada i stukture uopšte. To implicira da šeme retko kada prikazuju više od jednog odnosa ili rasporeda u strukt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Šeme koje se odnose na isti predmet prikazivanja ne smeju biti izrađene primenom različitih pravila oblik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788508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0909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8317080" y="6597720"/>
            <a:ext cx="466560" cy="260280"/>
          </a:xfrm>
          <a:custGeom>
            <a:avLst/>
            <a:gdLst>
              <a:gd name="textAreaLeft" fmla="*/ 16560 w 466560"/>
              <a:gd name="textAreaRight" fmla="*/ 450000 w 4665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695" h="21600">
                <a:moveTo>
                  <a:pt x="0" y="0"/>
                </a:moveTo>
                <a:lnTo>
                  <a:pt x="38695" y="0"/>
                </a:lnTo>
                <a:lnTo>
                  <a:pt x="38695" y="21600"/>
                </a:lnTo>
                <a:lnTo>
                  <a:pt x="0" y="21600"/>
                </a:lnTo>
                <a:close/>
              </a:path>
              <a:path fill="lightenLess" w="38695" h="21600">
                <a:moveTo>
                  <a:pt x="0" y="0"/>
                </a:moveTo>
                <a:lnTo>
                  <a:pt x="38695" y="0"/>
                </a:lnTo>
                <a:lnTo>
                  <a:pt x="37295" y="1400"/>
                </a:lnTo>
                <a:lnTo>
                  <a:pt x="1400" y="1400"/>
                </a:lnTo>
                <a:close/>
              </a:path>
              <a:path fill="darken" w="38695" h="21600">
                <a:moveTo>
                  <a:pt x="38695" y="0"/>
                </a:moveTo>
                <a:lnTo>
                  <a:pt x="38695" y="21600"/>
                </a:lnTo>
                <a:lnTo>
                  <a:pt x="37295" y="20200"/>
                </a:lnTo>
                <a:lnTo>
                  <a:pt x="37295" y="1400"/>
                </a:lnTo>
                <a:close/>
              </a:path>
              <a:path fill="darkenLess" w="38695" h="21600">
                <a:moveTo>
                  <a:pt x="38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95" y="20200"/>
                </a:lnTo>
                <a:close/>
              </a:path>
              <a:path fill="lighten" w="38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95" h="21600">
                <a:moveTo>
                  <a:pt x="12341" y="3794"/>
                </a:moveTo>
                <a:lnTo>
                  <a:pt x="26354" y="10800"/>
                </a:lnTo>
                <a:lnTo>
                  <a:pt x="12341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las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19893" y="10800"/>
                </a:moveTo>
                <a:lnTo>
                  <a:pt x="9387" y="17806"/>
                </a:lnTo>
                <a:lnTo>
                  <a:pt x="9387" y="3794"/>
                </a:lnTo>
                <a:close/>
              </a:path>
              <a:path fill="darken" w="32788" h="21600">
                <a:moveTo>
                  <a:pt x="21738" y="3794"/>
                </a:moveTo>
                <a:lnTo>
                  <a:pt x="21738" y="17806"/>
                </a:lnTo>
                <a:lnTo>
                  <a:pt x="23400" y="17806"/>
                </a:lnTo>
                <a:lnTo>
                  <a:pt x="23400" y="3794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48980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4417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  <a:path fill="darken" w="35831" h="21600">
                <a:moveTo>
                  <a:pt x="10909" y="3794"/>
                </a:moveTo>
                <a:lnTo>
                  <a:pt x="12571" y="3794"/>
                </a:lnTo>
                <a:lnTo>
                  <a:pt x="12571" y="17806"/>
                </a:lnTo>
                <a:lnTo>
                  <a:pt x="10909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1197000"/>
            <a:ext cx="73152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Motivi za decentralizacij</a:t>
            </a:r>
            <a:r>
              <a:rPr b="0" lang="sr-Latn-CS" sz="2800" spc="-1" strike="noStrike">
                <a:solidFill>
                  <a:srgbClr val="666699"/>
                </a:solidFill>
                <a:latin typeface="Times New Roman"/>
              </a:rPr>
              <a:t>u ..\..\APOTEKARSKA USTANOVA BEOGRAD\Menadzerska struktura.v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raničena sposobnost kontrole rad na svim nivoima hijerarh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ionalna superiornost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ršilac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pogledu odlučivanja o nekim aktivnost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većanje kapaciteta obrade informaci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zina reakcije, u okviru delova i organizacije kao celine u odnosu na promene u okruženj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dsticaj preduzetničkim i inovativnim naporima na nižim nivoima hijerarh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raćivanje komunikacionih kanala, ubrzavanje tokova inform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bližavanje mesta odlučivanja mestu izvršav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21304"/>
                </a:solidFill>
                <a:latin typeface="Times New Roman"/>
              </a:rPr>
              <a:t>DECENTRALIZAC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1523880"/>
            <a:ext cx="754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ećava složenost i troškove koordin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že prouzrokovati određeni gubitak kontrole nad funkcionisanjem, na višim nivoima menadžm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razumeva razvijenost i upotrebu planskih i kontrolnih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ežava upotrebu jedinstvene taktike u situacijama kr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4120" indent="-1094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razumeva raspoloživost kvalitetnog menadžmenta i  persona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zi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ci decentralizacij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144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ktori odlučivanja o prenošenju autoriteta na 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nivoe hijerarhij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goročnost i obim posledica decentralizovanih odlu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ičina organiz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adžerski s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orija i kultura organiz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htevi standardizacije uslu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htevi za nezavisnošć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položivost menadž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vijenost kontrolnih tehni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itorijalna disperzija aktiv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0328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namika okružen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14400" y="533520"/>
            <a:ext cx="754380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menzija decentralizaci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tikaln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orizontaln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kratska struktura, mali broj rukovodilaca na vrhu strukture upravljanja donosi sve odluke (tačka 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garhijska struktura koju karakteriše povećan broj ljudi na vrhovnom nivou upravljanja (tačka 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entrična autokratija koja predstavlja multipliciranu autokratsku strukturu, na nižim nivoima struktur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kratska struktura u kojoj je autoritet raspoređen ravnomerno sa stručnom i izvršnom sposobnošću (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914400" y="1600200"/>
          <a:ext cx="788976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88976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054880" y="533520"/>
            <a:ext cx="59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CENTRAL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221304"/>
                </a:solidFill>
                <a:latin typeface="Times New Roman"/>
              </a:rPr>
              <a:t>Pokazatelji nedostataka organizacione strukture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množavanje broja upravljačkih niv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množavanje broja organizacionih c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množavanje i produžavanje trajanja sastan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Povećanje broja ljudi koji prisustvuju sasta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Povećanje broja pomoćnika, savetnika i sekret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Česte promene u organizacionoj i rukovodećoj struktu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88508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0909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17080" y="6597720"/>
            <a:ext cx="466560" cy="260280"/>
          </a:xfrm>
          <a:custGeom>
            <a:avLst/>
            <a:gdLst>
              <a:gd name="textAreaLeft" fmla="*/ 16560 w 466560"/>
              <a:gd name="textAreaRight" fmla="*/ 450000 w 4665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695" h="21600">
                <a:moveTo>
                  <a:pt x="0" y="0"/>
                </a:moveTo>
                <a:lnTo>
                  <a:pt x="38695" y="0"/>
                </a:lnTo>
                <a:lnTo>
                  <a:pt x="38695" y="21600"/>
                </a:lnTo>
                <a:lnTo>
                  <a:pt x="0" y="21600"/>
                </a:lnTo>
                <a:close/>
              </a:path>
              <a:path fill="lightenLess" w="38695" h="21600">
                <a:moveTo>
                  <a:pt x="0" y="0"/>
                </a:moveTo>
                <a:lnTo>
                  <a:pt x="38695" y="0"/>
                </a:lnTo>
                <a:lnTo>
                  <a:pt x="37295" y="1400"/>
                </a:lnTo>
                <a:lnTo>
                  <a:pt x="1400" y="1400"/>
                </a:lnTo>
                <a:close/>
              </a:path>
              <a:path fill="darken" w="38695" h="21600">
                <a:moveTo>
                  <a:pt x="38695" y="0"/>
                </a:moveTo>
                <a:lnTo>
                  <a:pt x="38695" y="21600"/>
                </a:lnTo>
                <a:lnTo>
                  <a:pt x="37295" y="20200"/>
                </a:lnTo>
                <a:lnTo>
                  <a:pt x="37295" y="1400"/>
                </a:lnTo>
                <a:close/>
              </a:path>
              <a:path fill="darkenLess" w="38695" h="21600">
                <a:moveTo>
                  <a:pt x="38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95" y="20200"/>
                </a:lnTo>
                <a:close/>
              </a:path>
              <a:path fill="lighten" w="38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95" h="21600">
                <a:moveTo>
                  <a:pt x="12341" y="3794"/>
                </a:moveTo>
                <a:lnTo>
                  <a:pt x="26354" y="10800"/>
                </a:lnTo>
                <a:lnTo>
                  <a:pt x="12341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las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19893" y="10800"/>
                </a:moveTo>
                <a:lnTo>
                  <a:pt x="9387" y="17806"/>
                </a:lnTo>
                <a:lnTo>
                  <a:pt x="9387" y="3794"/>
                </a:lnTo>
                <a:close/>
              </a:path>
              <a:path fill="darken" w="32788" h="21600">
                <a:moveTo>
                  <a:pt x="21738" y="3794"/>
                </a:moveTo>
                <a:lnTo>
                  <a:pt x="21738" y="17806"/>
                </a:lnTo>
                <a:lnTo>
                  <a:pt x="23400" y="17806"/>
                </a:lnTo>
                <a:lnTo>
                  <a:pt x="23400" y="3794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748980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4417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  <a:path fill="darken" w="35831" h="21600">
                <a:moveTo>
                  <a:pt x="10909" y="3794"/>
                </a:moveTo>
                <a:lnTo>
                  <a:pt x="12571" y="3794"/>
                </a:lnTo>
                <a:lnTo>
                  <a:pt x="12571" y="17806"/>
                </a:lnTo>
                <a:lnTo>
                  <a:pt x="10909" y="17806"/>
                </a:lnTo>
                <a:close/>
              </a:path>
            </a:pathLst>
          </a:custGeom>
          <a:solidFill>
            <a:srgbClr val="221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Proces menadžmen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8000" y="1386000"/>
          <a:ext cx="543096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86000"/>
                    <a:ext cx="54309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67652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jalizacija je najuže povezana sa prob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ma koordinac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klađivanje aktivnosti delova struktur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 nje pojedinci i odeljenja će izgubiti predstavu o svojim ulogama i baviće se svojim specijalizovanim inter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rdinacija ima dva pravca rasprostiranja kroz strukturu, vertikalni i horizontal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trica odgovornost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jučna aktivnost koordinacije je komunikac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i u kreiranju komunikacione strukture su poštovanje principa jedinstva komande, dvosmerne komunikacije, najmanjeg broja komunikacionih veza i očuvanje jedinstva struk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38080" y="1143000"/>
          <a:ext cx="7543800" cy="51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54380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9144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poredni prikaz komunikacijskih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09480" y="2286000"/>
          <a:ext cx="8066160" cy="22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806616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371600" y="380880"/>
            <a:ext cx="7162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retanje učešća vertikalnih i horizontalnih komunikacija prema ukupnim u zavisnosti od broja saradnika jednog rukovod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Definicija organizaci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rganizacija predstavlja raspodelu, usklađivanje i vođenje sveukupnih procesa rada radi efikasnog dostizanja cilje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Organizacija je determinisana kroz organizacionu strukturu i kroz organizaciju procesa 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predstavlja rezultat raspodele zadataka organizacije na pojedince i grupe i način njihove integracije i koordinacije u toku izvršava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rganizacija procesa rad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definiše način i rada i upotrebu resursa u procesu izvršenja zadata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Organizaciona struktu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6201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DEFINIŠ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iljeve poslovnog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nzistentan i celovit raspored poslova i aktvnosti kojim se realizuju ti cilje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kup nosilaca izvršenja svakog od poslova ili akti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spored autoriteta i odgovor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čin povezivanja i koordinacije poslova i izvršil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EFINISANJE CILJEVA-UPUTSTVA I PRIMER:</a:t>
            </a:r>
            <a:r>
              <a:rPr b="0" lang="sr-Latn-CS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EUROPLAN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221304"/>
                </a:solidFill>
                <a:latin typeface="Times New Roman"/>
              </a:rPr>
              <a:t>Dimenzije, elementi organizacione strukture su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1341360"/>
            <a:ext cx="7848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Dimenzije diferencijacij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dela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ecentral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Dimenzije integrac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e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entalizacija (formiranje organizacioni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in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jalizac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upak podele rada se odvija u dve faze: rasčlanjivanje ukupnog zadatka i sinteza i dodeljivanje zadataka. Rasčlanjivanje se može izvršiti na osnovu kriterijuma: izvršenja, objekta, ranga, faze i svr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Primer  </a:t>
            </a:r>
            <a:r>
              <a:rPr b="0" lang="sr-Latn-CS" sz="4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lan pokrivanja.DO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Primer  proces prodaje.do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600200" y="1720800"/>
          <a:ext cx="603720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20800"/>
                    <a:ext cx="603720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dnos stepena specijalizacije složenosti upravljanja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45720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Doprinos različitih stepena specijalizacije efektivnosti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rganizacion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44720" y="2060640"/>
          <a:ext cx="7808760" cy="314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2060640"/>
                    <a:ext cx="780876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4:53:08Z</dcterms:created>
  <dc:creator>dr Zivko Dulanovic</dc:creator>
  <dc:description/>
  <dc:language>en-US</dc:language>
  <cp:lastModifiedBy>Vujaklija</cp:lastModifiedBy>
  <dcterms:modified xsi:type="dcterms:W3CDTF">2005-08-04T13:38:00Z</dcterms:modified>
  <cp:revision>27</cp:revision>
  <dc:subject/>
  <dc:title>PowerPoint Presentation</dc:title>
</cp:coreProperties>
</file>