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56F-B80D-4883-80B8-4CF2950F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150-1CE6-4719-9777-F80C1005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B67-996D-4A5E-AD2D-40D6DBE5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27D-AC6F-4901-9610-416E43DB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78EA-45FA-4C55-9201-131A9B85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2B6F-D8B7-4725-AB3A-86DD77E4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C3EB-94F6-4146-A5BD-E2A86766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57BA-0C1F-4B48-8921-8EB4C6D4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CB3E-A5B6-47D0-BB3A-C990A81B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8F5C-F5EC-4591-84C6-893ED27F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DBA7-E681-4BAE-ADC2-8C26C207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0DF-B385-42AC-BA12-FF750159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3D86-0AB1-49B0-BAD6-EE0DF0A7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0A94-5851-4DBC-AC3E-78C5CB79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76C0-ECC3-412B-A517-336B07BA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38C9-2555-445D-8A36-EE9ED1D0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EECA-F29F-45F8-A2FF-34B35320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A75-F46B-4D85-B865-CCAA58AE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10D-CB17-4C0B-AB0D-80F741F1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42F-2C40-44EE-A445-244397C7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3D0-C264-4FEB-91DD-460799C7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5C5-A701-416B-8F5B-2082DBCE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7BD-AFAF-4894-8666-39848AB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D67-5EFA-4353-8126-64E054D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E277-CFB3-4C09-A761-A4829C497D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E3C1-C72B-4228-96E6-6D998EA78C37}" type="slidenum"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7280"/>
            <a:ext cx="746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6600" spc="-1" strike="noStrike">
                <a:solidFill>
                  <a:srgbClr val="ccffff"/>
                </a:solidFill>
                <a:latin typeface="Tahoma"/>
              </a:rPr>
              <a:t>REINŽENJERING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KARAKTERISTIK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adne jedinice se menjaju - od funkcionalnih odeljenja u procesne timo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sao se menja - od jednostavnog zadatka do multidimenzionalnog rad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nja se uloga ljudi - od kontrolisanih do opunomoćeni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nja se priprema za posao - od obuke do edukaci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KARAKTERISTIK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mena kompenzacionog sistema - od aktivnosti ka rezulta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nja se kriterijum unapređenja - od izvršenja do sposobno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nja se sistem vrednosti - od protektivnog do produktivnog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(ne radis za šefa, već za kupca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nja se organizaciona struktura - od hijerarhijske ka ravnoj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ukovodioci se menjaju - od zapisničara do vođe u novom okruženj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OCESNE MAP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ao što imaju organizacione šeme, organizacije treba da imaju procesne ma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ocesne mape daju sliku radnog toka kroz kompan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OCESNE MAP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1981080"/>
          <a:ext cx="7696440" cy="437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981080"/>
                    <a:ext cx="7696440" cy="43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IZBOR PROCES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04760" algn="just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Izbor proces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87360" algn="just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funkcija (koji su procesi u najvećoj kriz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87360" algn="just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ažnost (koji procesi imaju najveći uticaj na potrošač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87360" algn="just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zvodljivost (koji od procesa je u ovom trenutku najspremniji da se uspešno redizajni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3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ISTUP REDIZAJNIRANJ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Redizaj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zahteva maštu, indikativno mišljenje, odbacivanje poznatog i traganje za potpuno novi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melo istraživanje principa reinženjering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straživanje i uništavanje pretpostavk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raganje za mogu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ostima kreativne primene tehnologije.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ISTUP REDIZAJNIRANJ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371600" y="2057400"/>
            <a:ext cx="6171840" cy="3047760"/>
            <a:chOff x="1371600" y="2057400"/>
            <a:chExt cx="6171840" cy="3047760"/>
          </a:xfrm>
        </p:grpSpPr>
        <p:sp>
          <p:nvSpPr>
            <p:cNvPr id="172" name=""/>
            <p:cNvSpPr/>
            <p:nvPr/>
          </p:nvSpPr>
          <p:spPr>
            <a:xfrm>
              <a:off x="1442520" y="2057400"/>
              <a:ext cx="212760" cy="186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2240" y="2057400"/>
              <a:ext cx="212760" cy="186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30680" y="2057400"/>
              <a:ext cx="212760" cy="186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30680" y="3425760"/>
              <a:ext cx="212760" cy="186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30680" y="4856760"/>
              <a:ext cx="212760" cy="186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64080" y="4918680"/>
              <a:ext cx="212760" cy="186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42520" y="4918680"/>
              <a:ext cx="212760" cy="186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71600" y="3425760"/>
              <a:ext cx="212760" cy="186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22240" y="3425760"/>
              <a:ext cx="212760" cy="186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712520" y="563868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pojiti ove tačke sa četiri prave lin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METODOLOGIJA REINŽENJERING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057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LC, RAPID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590920"/>
            <a:ext cx="1828800" cy="1752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Razmatr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nov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2590920"/>
            <a:ext cx="1828800" cy="1752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Započinj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om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2590920"/>
            <a:ext cx="1828800" cy="1752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Dijagno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4800600"/>
            <a:ext cx="1828800" cy="1752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Redizaj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4800600"/>
            <a:ext cx="1828800" cy="1752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Rekon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struk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4800600"/>
            <a:ext cx="1828800" cy="1752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Nadgled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3505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4343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361960" y="5715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333760" y="57150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35812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676520" y="4419720"/>
            <a:ext cx="56386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3120" y="4335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vratna ve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LC METODOLOGIJA REINŽENJERING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2057400"/>
            <a:ext cx="7924680" cy="41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Razmatranje novih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743200"/>
            <a:ext cx="2666880" cy="1523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drška t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nadžm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743200"/>
            <a:ext cx="281952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dentifik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ilika 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konstrukci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572000"/>
            <a:ext cx="281916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sklađivanje 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rporativni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rategij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495680"/>
            <a:ext cx="281952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dentifik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potr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ehnolog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3048120"/>
            <a:ext cx="1371600" cy="75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52320" y="4038480"/>
            <a:ext cx="205740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411480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5791320"/>
            <a:ext cx="1447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LC METODOLOGIJA REINŽENJERING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057400"/>
            <a:ext cx="7924680" cy="41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Započinjanje prom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2743200"/>
            <a:ext cx="2666880" cy="1523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Formir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inžinjering t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743200"/>
            <a:ext cx="281952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dređi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iljnih performan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3048120"/>
            <a:ext cx="1371600" cy="75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OME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057400" y="2133720"/>
            <a:ext cx="5333760" cy="4343400"/>
            <a:chOff x="2057400" y="2133720"/>
            <a:chExt cx="5333760" cy="4343400"/>
          </a:xfrm>
        </p:grpSpPr>
        <p:sp>
          <p:nvSpPr>
            <p:cNvPr id="89" name=""/>
            <p:cNvSpPr/>
            <p:nvPr/>
          </p:nvSpPr>
          <p:spPr>
            <a:xfrm>
              <a:off x="2057400" y="2133720"/>
              <a:ext cx="5333760" cy="4343400"/>
            </a:xfrm>
            <a:prstGeom prst="rect">
              <a:avLst/>
            </a:prstGeom>
            <a:solidFill>
              <a:srgbClr val="cc99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7400" y="4267440"/>
              <a:ext cx="5333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70720" y="2133720"/>
              <a:ext cx="0" cy="4343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981080" y="1668600"/>
            <a:ext cx="58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RATEGIJSKE               INKREMENTAL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69480" y="316836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TICIPATIV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25200">
            <a:off x="321120" y="539064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AKTIV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2514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REORIJEN-T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5146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PODEŠA-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4800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RE-KRE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8006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ADAPT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LC METODOLOGIJA REINŽENJERING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2057400"/>
            <a:ext cx="7924680" cy="41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Dijagnoza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2743200"/>
            <a:ext cx="2666880" cy="1523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pisivan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stojećih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743200"/>
            <a:ext cx="281952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tkri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pravil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3048120"/>
            <a:ext cx="1371600" cy="75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LC METODOLOGIJA REINŽENJERING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057400"/>
            <a:ext cx="7924680" cy="4495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Redizajn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666880"/>
            <a:ext cx="2667240" cy="15242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izaj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lternativn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743200"/>
            <a:ext cx="281952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izajn arhitek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judskih resur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4952880"/>
            <a:ext cx="281952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dređi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toti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4952880"/>
            <a:ext cx="281952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dabir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lat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3352680"/>
            <a:ext cx="213336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81680" y="4191120"/>
            <a:ext cx="152640" cy="7617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5715000"/>
            <a:ext cx="190476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3886200"/>
            <a:ext cx="281952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izajn nov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514600" y="4724280"/>
            <a:ext cx="45720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648320" y="3733920"/>
            <a:ext cx="91440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LC METODOLOGIJA REINŽENJERING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2057400"/>
            <a:ext cx="7924680" cy="41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Rekonstruk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743200"/>
            <a:ext cx="2666880" cy="1523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staliranje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743200"/>
            <a:ext cx="281952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ktiv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organiz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3048120"/>
            <a:ext cx="1371600" cy="75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LC METODOLOGIJA REINŽENJERING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057400"/>
            <a:ext cx="7924680" cy="41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Nadgledanje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743200"/>
            <a:ext cx="2666880" cy="1523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re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erforman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2743200"/>
            <a:ext cx="281952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tkri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epravil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3048120"/>
            <a:ext cx="1371600" cy="75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GREŠK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441360" y="1787400"/>
            <a:ext cx="8321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kušaj da se popravi, umesto da se promeni postojeći pro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fokusiranje na poslovne proc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gnorisanje svega osim procesnog redizaj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Zapostavljanje vrednosti i uverenja lju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premnosti da se zadovolji malim rezultat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rano prekid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GREŠK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441360" y="1787400"/>
            <a:ext cx="8321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oncentrisanje na definisanje problema unapred i ograničavanja dometa reinženjerin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važavanje postojećih kultura i menadžerskih stavova da bi se sprečio početak reinženjerin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kušavanje sa reinženjeringom odozdo nag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dređivanje da reinženjering vodi neko ko ga ne raz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GREŠK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441360" y="1787400"/>
            <a:ext cx="832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graničavanje pristalica reinženjerin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avanje reinženjeringu nevažnog mesta među prioritet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asipanje energije na veliki broj reinženjering projek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razlikovanje reinženjeringa od ostalih programa kojima se poboljšava poslo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GREŠK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41360" y="1787400"/>
            <a:ext cx="8321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oncentrisanje isključivo na diza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astojanje da reinženjering usreći svak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vlačenje čim ljudi pruže otpor reinženjering promen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ORGANIZACIONI RAZVOJ</a:t>
            </a:r>
            <a:br>
              <a:rPr sz="4400"/>
            </a:b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Bostonska škol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057400" y="2133720"/>
            <a:ext cx="5333760" cy="4343400"/>
            <a:chOff x="2057400" y="2133720"/>
            <a:chExt cx="5333760" cy="4343400"/>
          </a:xfrm>
        </p:grpSpPr>
        <p:sp>
          <p:nvSpPr>
            <p:cNvPr id="101" name=""/>
            <p:cNvSpPr/>
            <p:nvPr/>
          </p:nvSpPr>
          <p:spPr>
            <a:xfrm>
              <a:off x="2057400" y="2133720"/>
              <a:ext cx="5333760" cy="4343400"/>
            </a:xfrm>
            <a:prstGeom prst="rect">
              <a:avLst/>
            </a:prstGeom>
            <a:solidFill>
              <a:srgbClr val="cc99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57400" y="4267440"/>
              <a:ext cx="5333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70720" y="2133720"/>
              <a:ext cx="0" cy="4343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911600" y="16765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TRATEGIJSKE               INKREMENTAL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112320" y="308844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NTICIPATIV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25200">
            <a:off x="321120" y="539064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AKTIV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2514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REORIJEN-T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25146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DEŠA-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800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RE-KRE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8006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ADAPT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2057400"/>
            <a:ext cx="2819160" cy="449568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ORGANIZACIONA TRANSFORMAC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057400" y="2133720"/>
            <a:ext cx="5333760" cy="4343400"/>
            <a:chOff x="2057400" y="2133720"/>
            <a:chExt cx="5333760" cy="4343400"/>
          </a:xfrm>
        </p:grpSpPr>
        <p:sp>
          <p:nvSpPr>
            <p:cNvPr id="114" name=""/>
            <p:cNvSpPr/>
            <p:nvPr/>
          </p:nvSpPr>
          <p:spPr>
            <a:xfrm>
              <a:off x="2057400" y="2133720"/>
              <a:ext cx="5333760" cy="4343400"/>
            </a:xfrm>
            <a:prstGeom prst="rect">
              <a:avLst/>
            </a:prstGeom>
            <a:solidFill>
              <a:srgbClr val="cc99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7400" y="4267440"/>
              <a:ext cx="5333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70720" y="2133720"/>
              <a:ext cx="0" cy="4343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911600" y="16765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TRATEGIJSKE               INKREMENTAL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-112320" y="308844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NTICIPATIV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25200">
            <a:off x="321120" y="539064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AKTIV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514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REORIJEN-T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5146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DEŠA-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800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RE-KRE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48006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ADAPT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057400"/>
            <a:ext cx="2895840" cy="449568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REINŽENJERING</a:t>
            </a:r>
            <a:br>
              <a:rPr sz="4400"/>
            </a:b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Majkl Hamer, Džejms Čemp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057400" y="2133720"/>
            <a:ext cx="5333760" cy="4343400"/>
            <a:chOff x="2057400" y="2133720"/>
            <a:chExt cx="5333760" cy="4343400"/>
          </a:xfrm>
        </p:grpSpPr>
        <p:sp>
          <p:nvSpPr>
            <p:cNvPr id="127" name=""/>
            <p:cNvSpPr/>
            <p:nvPr/>
          </p:nvSpPr>
          <p:spPr>
            <a:xfrm>
              <a:off x="2057400" y="2133720"/>
              <a:ext cx="5333760" cy="4343400"/>
            </a:xfrm>
            <a:prstGeom prst="rect">
              <a:avLst/>
            </a:prstGeom>
            <a:solidFill>
              <a:srgbClr val="cc99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4267440"/>
              <a:ext cx="5333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70720" y="2133720"/>
              <a:ext cx="0" cy="4343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911600" y="16765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TRATEGIJSKE               INKREMENTAL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112320" y="308844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NTICIPATIV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25200">
            <a:off x="321120" y="539064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AKTIV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514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REORIJEN-T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5146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DEŠA-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800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RE-KRE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48006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ADAPT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2057400"/>
            <a:ext cx="2819520" cy="304812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REORGANIZACIJA</a:t>
            </a:r>
            <a:br>
              <a:rPr sz="4400"/>
            </a:b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Draker, Adižes, Mincberg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57400" y="2133720"/>
            <a:ext cx="5333760" cy="4343400"/>
            <a:chOff x="2057400" y="2133720"/>
            <a:chExt cx="5333760" cy="4343400"/>
          </a:xfrm>
        </p:grpSpPr>
        <p:sp>
          <p:nvSpPr>
            <p:cNvPr id="140" name=""/>
            <p:cNvSpPr/>
            <p:nvPr/>
          </p:nvSpPr>
          <p:spPr>
            <a:xfrm>
              <a:off x="2057400" y="2133720"/>
              <a:ext cx="5333760" cy="4343400"/>
            </a:xfrm>
            <a:prstGeom prst="rect">
              <a:avLst/>
            </a:prstGeom>
            <a:solidFill>
              <a:srgbClr val="cc99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4267440"/>
              <a:ext cx="5333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70720" y="2133720"/>
              <a:ext cx="0" cy="4343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11600" y="16765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TRATEGIJSKE               INKREMENTAL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-112320" y="308844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NTICIPATIV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25200">
            <a:off x="321120" y="539064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AKTIV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514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REORIJEN-T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5146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DEŠA-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4800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RE-KRE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48006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ADAPT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048120"/>
            <a:ext cx="2819160" cy="251460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DEFINIC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inženjering je fundamentalno razmatranje i radikalno redizajniranje poslovnih procesa u cilju postizanja dramatičnih poboljšanja u kritičnim, savremenim merama performansi (kvalitet, troškovim usluga i brzi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DEFINIC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undamentalno razmatr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adikalno redizajniran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amatično poboljšan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oce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DEFINIC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-3240" algn="just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ombinuju 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88920" algn="just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nforma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88920" algn="just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88920" algn="just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Teorija organiza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stitut</cp:lastModifiedBy>
  <dcterms:modified xsi:type="dcterms:W3CDTF">2005-03-21T12:16:45Z</dcterms:modified>
  <cp:revision>6</cp:revision>
  <dc:subject/>
  <dc:title>PowerPoint Presentation</dc:title>
</cp:coreProperties>
</file>