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D5C-1779-4BBF-AE80-BEA18B19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40E-8703-49C5-A9BD-3688DBB3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12C-4465-469A-BEE0-F1D23EDE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0C9-242B-4B4A-91EF-CA5DC9EC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5FFB-04AD-4E8A-8B2A-07D76A1A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A0D1-BB3E-466F-B9AB-4936FEF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4063-5A74-4BAE-9EDF-9E802EE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C063-9D02-4484-8FE6-8C0080CF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4E7A-7A14-4701-A852-6FF2253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EA11-D601-4FDE-9C3B-FA330282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32F2-69EC-4987-9944-572D3DCB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55E-FCE3-42A1-8B8C-79ECC3DC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CBB8-CB15-47BE-BF6B-62317C60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392-44E6-43F4-89BC-2256E721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1A93-835F-43F7-B525-D2DA9A6E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DE25-5D9C-4167-8C16-70C00C8B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5692-747D-4082-AC81-F090E757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734-8237-4148-9949-5AE5A320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153-734D-4A63-B0CB-B6B97DF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5EB-2E2A-4C29-B13A-28B689C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816-4CF8-4421-9ABF-8012186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33E-ADA2-455B-8465-C454ACF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66F-0796-4BAD-9F4C-0C15988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933-9DAF-48D2-A46E-5EF6053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5FB-A3CA-4167-8DBD-8C00F6C3D4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A9A-7B1A-45FB-97EE-8873D8C4A7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ORGANIZACIONE PROME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8C0B-7C71-4DDE-A393-4D6EC8B48A7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1" i="1" lang="en-GB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 kriterijumu orijentacije intervencije:</a:t>
            </a: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2238480"/>
          <a:ext cx="896472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38480"/>
                    <a:ext cx="896472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132-0FBF-42C4-9678-79EA428C327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1" i="1" lang="en-GB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ema ulozi zaposlenih u procesu promena:</a:t>
            </a: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ametnut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articipativ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kompromis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D2E-77B6-4810-88CD-E379BD2ADAA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1" i="1" lang="en-GB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ema organizacionom nivou na kome se sprovode:</a:t>
            </a: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individualni n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laniranje i razvoj karijere, trening ponašanja, specijalizacije i d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grupni n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upno odlučivanje, krugovi kvaliteta, projektni timov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organizacioni n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TQM (Total Quality Menagement), reinženjering i organizacio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 transformaci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E8B-D32A-47A6-B36D-28D6E7FE3CB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1" i="1" lang="en-GB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ema stepenu diskontinuiteta, tj odstupanju novog stanja od postojećeg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33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inkremental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a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133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ransformacio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mogu se zasnivati 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24000" indent="152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gativnoj povratnoj sprez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24000" indent="152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zitivnoj povratnoj sprez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C0D-16B5-4403-BEFA-B83EE14F55EB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Trajektorija organizacionih promen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95280" y="2133720"/>
          <a:ext cx="838836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3720"/>
                    <a:ext cx="838836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8A8-FD67-4C71-A9FF-A00296C1C00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Inkrementalno organizacione prome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nkrementalne organizacione promene ne može koristiti svako preduzeće, već samo ona koja su u stabilnom okruženju ili okrućenju sa linearnim tren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F70-FA72-4202-85EA-50F772D0DD6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Inkrementalne organizacione prome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3808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58672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988920" y="3508200"/>
            <a:ext cx="6235920" cy="2187720"/>
          </a:xfrm>
          <a:custGeom>
            <a:avLst/>
            <a:gdLst/>
            <a:ahLst/>
            <a:rect l="l" t="t" r="r" b="b"/>
            <a:pathLst>
              <a:path w="3928" h="1378">
                <a:moveTo>
                  <a:pt x="0" y="1378"/>
                </a:moveTo>
                <a:cubicBezTo>
                  <a:pt x="53" y="1362"/>
                  <a:pt x="97" y="1335"/>
                  <a:pt x="151" y="1322"/>
                </a:cubicBezTo>
                <a:cubicBezTo>
                  <a:pt x="183" y="1306"/>
                  <a:pt x="212" y="1295"/>
                  <a:pt x="246" y="1284"/>
                </a:cubicBezTo>
                <a:cubicBezTo>
                  <a:pt x="313" y="1238"/>
                  <a:pt x="299" y="1258"/>
                  <a:pt x="359" y="1227"/>
                </a:cubicBezTo>
                <a:cubicBezTo>
                  <a:pt x="424" y="1194"/>
                  <a:pt x="351" y="1219"/>
                  <a:pt x="416" y="1199"/>
                </a:cubicBezTo>
                <a:cubicBezTo>
                  <a:pt x="469" y="1163"/>
                  <a:pt x="530" y="1135"/>
                  <a:pt x="586" y="1104"/>
                </a:cubicBezTo>
                <a:cubicBezTo>
                  <a:pt x="643" y="1073"/>
                  <a:pt x="693" y="1029"/>
                  <a:pt x="756" y="1010"/>
                </a:cubicBezTo>
                <a:cubicBezTo>
                  <a:pt x="844" y="950"/>
                  <a:pt x="938" y="942"/>
                  <a:pt x="1039" y="916"/>
                </a:cubicBezTo>
                <a:cubicBezTo>
                  <a:pt x="1091" y="903"/>
                  <a:pt x="1137" y="886"/>
                  <a:pt x="1190" y="878"/>
                </a:cubicBezTo>
                <a:cubicBezTo>
                  <a:pt x="1311" y="835"/>
                  <a:pt x="1421" y="819"/>
                  <a:pt x="1549" y="802"/>
                </a:cubicBezTo>
                <a:cubicBezTo>
                  <a:pt x="1641" y="772"/>
                  <a:pt x="1730" y="737"/>
                  <a:pt x="1823" y="708"/>
                </a:cubicBezTo>
                <a:cubicBezTo>
                  <a:pt x="1865" y="679"/>
                  <a:pt x="1914" y="671"/>
                  <a:pt x="1964" y="661"/>
                </a:cubicBezTo>
                <a:cubicBezTo>
                  <a:pt x="2029" y="618"/>
                  <a:pt x="1999" y="631"/>
                  <a:pt x="2049" y="613"/>
                </a:cubicBezTo>
                <a:cubicBezTo>
                  <a:pt x="2226" y="483"/>
                  <a:pt x="2402" y="507"/>
                  <a:pt x="2625" y="500"/>
                </a:cubicBezTo>
                <a:cubicBezTo>
                  <a:pt x="2676" y="488"/>
                  <a:pt x="2725" y="473"/>
                  <a:pt x="2776" y="462"/>
                </a:cubicBezTo>
                <a:cubicBezTo>
                  <a:pt x="2841" y="419"/>
                  <a:pt x="2811" y="431"/>
                  <a:pt x="2861" y="415"/>
                </a:cubicBezTo>
                <a:cubicBezTo>
                  <a:pt x="2929" y="370"/>
                  <a:pt x="2896" y="382"/>
                  <a:pt x="2956" y="368"/>
                </a:cubicBezTo>
                <a:cubicBezTo>
                  <a:pt x="2969" y="362"/>
                  <a:pt x="2981" y="354"/>
                  <a:pt x="2994" y="349"/>
                </a:cubicBezTo>
                <a:cubicBezTo>
                  <a:pt x="3006" y="345"/>
                  <a:pt x="3019" y="345"/>
                  <a:pt x="3031" y="340"/>
                </a:cubicBezTo>
                <a:cubicBezTo>
                  <a:pt x="3063" y="326"/>
                  <a:pt x="3093" y="304"/>
                  <a:pt x="3126" y="292"/>
                </a:cubicBezTo>
                <a:cubicBezTo>
                  <a:pt x="3138" y="288"/>
                  <a:pt x="3151" y="287"/>
                  <a:pt x="3163" y="283"/>
                </a:cubicBezTo>
                <a:cubicBezTo>
                  <a:pt x="3182" y="277"/>
                  <a:pt x="3220" y="264"/>
                  <a:pt x="3220" y="264"/>
                </a:cubicBezTo>
                <a:cubicBezTo>
                  <a:pt x="3229" y="258"/>
                  <a:pt x="3238" y="250"/>
                  <a:pt x="3248" y="245"/>
                </a:cubicBezTo>
                <a:cubicBezTo>
                  <a:pt x="3257" y="241"/>
                  <a:pt x="3269" y="242"/>
                  <a:pt x="3277" y="236"/>
                </a:cubicBezTo>
                <a:cubicBezTo>
                  <a:pt x="3311" y="213"/>
                  <a:pt x="3321" y="192"/>
                  <a:pt x="3362" y="179"/>
                </a:cubicBezTo>
                <a:cubicBezTo>
                  <a:pt x="3523" y="70"/>
                  <a:pt x="3614" y="83"/>
                  <a:pt x="3824" y="75"/>
                </a:cubicBezTo>
                <a:cubicBezTo>
                  <a:pt x="3860" y="51"/>
                  <a:pt x="3897" y="30"/>
                  <a:pt x="392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3162240"/>
            <a:ext cx="6324480" cy="2552760"/>
          </a:xfrm>
          <a:custGeom>
            <a:avLst/>
            <a:gdLst/>
            <a:ahLst/>
            <a:rect l="l" t="t" r="r" b="b"/>
            <a:pathLst>
              <a:path w="3984" h="1608">
                <a:moveTo>
                  <a:pt x="0" y="1608"/>
                </a:moveTo>
                <a:cubicBezTo>
                  <a:pt x="4" y="1524"/>
                  <a:pt x="8" y="1440"/>
                  <a:pt x="48" y="1416"/>
                </a:cubicBezTo>
                <a:cubicBezTo>
                  <a:pt x="88" y="1392"/>
                  <a:pt x="192" y="1488"/>
                  <a:pt x="240" y="1464"/>
                </a:cubicBezTo>
                <a:cubicBezTo>
                  <a:pt x="288" y="1440"/>
                  <a:pt x="296" y="1296"/>
                  <a:pt x="336" y="1272"/>
                </a:cubicBezTo>
                <a:cubicBezTo>
                  <a:pt x="376" y="1248"/>
                  <a:pt x="440" y="1352"/>
                  <a:pt x="480" y="1320"/>
                </a:cubicBezTo>
                <a:cubicBezTo>
                  <a:pt x="520" y="1288"/>
                  <a:pt x="520" y="1104"/>
                  <a:pt x="576" y="1080"/>
                </a:cubicBezTo>
                <a:cubicBezTo>
                  <a:pt x="632" y="1056"/>
                  <a:pt x="752" y="1208"/>
                  <a:pt x="816" y="1176"/>
                </a:cubicBezTo>
                <a:cubicBezTo>
                  <a:pt x="880" y="1144"/>
                  <a:pt x="896" y="904"/>
                  <a:pt x="960" y="888"/>
                </a:cubicBezTo>
                <a:cubicBezTo>
                  <a:pt x="1024" y="872"/>
                  <a:pt x="1144" y="1088"/>
                  <a:pt x="1200" y="1080"/>
                </a:cubicBezTo>
                <a:cubicBezTo>
                  <a:pt x="1256" y="1072"/>
                  <a:pt x="1232" y="856"/>
                  <a:pt x="1296" y="840"/>
                </a:cubicBezTo>
                <a:cubicBezTo>
                  <a:pt x="1360" y="824"/>
                  <a:pt x="1504" y="1008"/>
                  <a:pt x="1584" y="984"/>
                </a:cubicBezTo>
                <a:cubicBezTo>
                  <a:pt x="1664" y="960"/>
                  <a:pt x="1704" y="720"/>
                  <a:pt x="1776" y="696"/>
                </a:cubicBezTo>
                <a:cubicBezTo>
                  <a:pt x="1848" y="672"/>
                  <a:pt x="1944" y="864"/>
                  <a:pt x="2016" y="840"/>
                </a:cubicBezTo>
                <a:cubicBezTo>
                  <a:pt x="2088" y="816"/>
                  <a:pt x="2144" y="576"/>
                  <a:pt x="2208" y="552"/>
                </a:cubicBezTo>
                <a:cubicBezTo>
                  <a:pt x="2272" y="528"/>
                  <a:pt x="2320" y="712"/>
                  <a:pt x="2400" y="696"/>
                </a:cubicBezTo>
                <a:cubicBezTo>
                  <a:pt x="2480" y="680"/>
                  <a:pt x="2608" y="472"/>
                  <a:pt x="2688" y="456"/>
                </a:cubicBezTo>
                <a:cubicBezTo>
                  <a:pt x="2768" y="440"/>
                  <a:pt x="2816" y="624"/>
                  <a:pt x="2880" y="600"/>
                </a:cubicBezTo>
                <a:cubicBezTo>
                  <a:pt x="2944" y="576"/>
                  <a:pt x="3008" y="344"/>
                  <a:pt x="3072" y="312"/>
                </a:cubicBezTo>
                <a:cubicBezTo>
                  <a:pt x="3136" y="280"/>
                  <a:pt x="3208" y="432"/>
                  <a:pt x="3264" y="408"/>
                </a:cubicBezTo>
                <a:cubicBezTo>
                  <a:pt x="3320" y="384"/>
                  <a:pt x="3336" y="184"/>
                  <a:pt x="3408" y="168"/>
                </a:cubicBezTo>
                <a:cubicBezTo>
                  <a:pt x="3480" y="152"/>
                  <a:pt x="3616" y="336"/>
                  <a:pt x="3696" y="312"/>
                </a:cubicBezTo>
                <a:cubicBezTo>
                  <a:pt x="3776" y="288"/>
                  <a:pt x="3840" y="48"/>
                  <a:pt x="3888" y="24"/>
                </a:cubicBezTo>
                <a:cubicBezTo>
                  <a:pt x="3936" y="0"/>
                  <a:pt x="3968" y="144"/>
                  <a:pt x="3984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0B1-FD1D-4FC6-931F-A28FD8DD71C8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Transformacione organizacione prome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Uvode se tek kada su sve mogućnosti za inkrementalne iscrp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omena organizacione paradigme ;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8D6-1108-4441-9ECA-DCAB93D914B4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Transformacione organizacione prome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orra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mena vizi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Vodeći principi i verova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Trajna organizaciona svr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atalizirajuća misi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isan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. organizaciono uređenj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b. društveni faktori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. tehnologij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d. fizičko uređen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ewin: - posle tranzicije organizacionog sistema treba da dođe period stabil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F51-988B-439A-9F52-456AE54D8FA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Transformacione organizacione prome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280" y="2133720"/>
          <a:ext cx="799308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799308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2F9-B177-442C-ABDF-292CC9E590CB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Definicij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Organizaciona promen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je ono što menja kvantitativne i kvalitativne odnose unutar sistema i  izlaze i nj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od organizacionom promenom se podrazumeva svaka promena u organizacionom sistemu koja dovodi do višeg nivoa efikasnosti i efektivnosti funkcionisanja uključujući i standarde i metode njihovog meren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cije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će u budućnosti “morati da trče da bi ostale u mest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CB8-F2F1-4E71-93CA-AEA17050448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Kontinualna tranzicij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395280" y="1989000"/>
          <a:ext cx="7812000" cy="43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7812000" cy="43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DD0-F71F-4824-9515-4151B0C5D764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Dvodimenzionalna sinteza tipologije organizacionih promena</a:t>
            </a:r>
            <a:r>
              <a:rPr b="0" i="1" lang="sr-Latn-CS" sz="3600" spc="-1" strike="noStrike">
                <a:solidFill>
                  <a:srgbClr val="cc6600"/>
                </a:solidFill>
                <a:latin typeface="Times New Roman"/>
              </a:rPr>
              <a:t> –Paul Strebel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95280" y="2205000"/>
          <a:ext cx="874872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7487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996-F564-4943-A7EB-368B5E9B2828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Adižesova metodologija promen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066680" y="1981080"/>
          <a:ext cx="655344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5534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72B-5A02-488F-8D55-EEEC0AB160A6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Adižesova metodologija promen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2209680"/>
            <a:ext cx="732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Faze 1,2,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– odmrzavanje prom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Faze 4,5,6,7,1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 sprovođenje prom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Faze 8,9,11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– zamrzavanje prom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B83-0CAE-4BCF-BF3D-1D195EB2EE2E}" type="slidenum">
              <a:t>23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Efikasnost i efektivnos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55640" y="2276640"/>
            <a:ext cx="6769080" cy="3840120"/>
            <a:chOff x="755640" y="2276640"/>
            <a:chExt cx="6769080" cy="3840120"/>
          </a:xfrm>
        </p:grpSpPr>
        <p:sp>
          <p:nvSpPr>
            <p:cNvPr id="331" name=""/>
            <p:cNvSpPr/>
            <p:nvPr/>
          </p:nvSpPr>
          <p:spPr>
            <a:xfrm>
              <a:off x="755640" y="2276640"/>
              <a:ext cx="6769080" cy="384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61240" y="2895480"/>
              <a:ext cx="0" cy="26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0920" y="4338000"/>
              <a:ext cx="357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99000" y="3007800"/>
              <a:ext cx="1276920" cy="97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rofi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oškovi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Škar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skorišćen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surs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31520" y="3007800"/>
              <a:ext cx="191556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Udeo na tržiš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Kvalitet uslug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leksibilnos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br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bsentizam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3400" y="4470840"/>
              <a:ext cx="1532520" cy="97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Zadovoljenj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Uključivanj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Konkurentska pozicij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31520" y="4470840"/>
              <a:ext cx="1787760" cy="97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azvoj menadžmen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daptabilnos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ganizaciona kultur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65440" y="2452320"/>
              <a:ext cx="1532520" cy="32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Kvantitativ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38680" y="4196520"/>
              <a:ext cx="127692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fikasnos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19640" y="4177800"/>
              <a:ext cx="127692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fektivnos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92880" y="5686200"/>
              <a:ext cx="140472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Kvalitativni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117-0D67-4141-B889-E11E5AD19FC8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Sadržaj organizacionih promen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mene u osnovnom uređenju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ganiz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(pravna struktura, vlasništvo, finansijski izvori, međunarodne operacije i uticaj, diverzifikacija, fuzija, zajednička preduzeća);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mene u zadacima i aktiv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(dužina linije proizvoda i usluga, opsluživanje tržišta, kupci i dobavljači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185-9953-4863-BCD8-7A344B064D59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Sadržaj organizacionih promen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mene u tehnologi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(oprema, alati, materijali, energenti, tehnološki procesi, računarski hardware i software i dr.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mene u upravljačkoj struktu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unutrašnja organizacija, postupci odlučivanja i kontrole, informacioni sistemi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10B-6645-4CEF-886F-129AF73762CB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Sadržaj organizacionih promen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mene u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kultu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vrednosti, tradicije, neformalni odnosi, uticaji, stil upravljanj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mene u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ljud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menadžment i zaposleni, njihove kompetencije, stavovi, motivacija, ponašanje i efikasnost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639-B7E6-4773-A8E9-3849F002464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cc6600"/>
                </a:solidFill>
                <a:latin typeface="Times New Roman"/>
              </a:rPr>
              <a:t>Sadržaj organizacionih promen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omene u rezultatima organiz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finansijskim, ekonomskim, socijalnim) koji pokazuju kako organizacija ispunjava svoju misiju i kako koristi nove mogućnost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mena imidža u poslovnom i društvenom okružen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911-5808-47DE-A7EF-1E51F34ABA6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1" i="1" lang="en-GB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 kriterijumu odnosa prema sprovođenju promena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lanira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sprovođenje proaktivne strateg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eplanira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reaktivne prome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393-CA3C-49EC-B67B-0AFB4F3EDE7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1" i="1" lang="en-GB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 kriterijumu orijentacije intervencije:</a:t>
            </a: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ehnološk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ruktur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bihejvioristič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23F-2B60-45BE-BCA5-AEB018E3AB67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6:43:25Z</dcterms:created>
  <dc:creator>Mladen</dc:creator>
  <dc:description/>
  <dc:language>en-US</dc:language>
  <cp:lastModifiedBy>Mladen Cudanov</cp:lastModifiedBy>
  <dcterms:modified xsi:type="dcterms:W3CDTF">2005-03-14T08:34:50Z</dcterms:modified>
  <cp:revision>14</cp:revision>
  <dc:subject/>
  <dc:title>ORGANIZACIONE PROMENE</dc:title>
</cp:coreProperties>
</file>