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FD62-30AB-49BE-B6D7-AB71B07B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A880-4C3F-45DC-B01E-9D60652E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9945-285F-4AE4-ADD2-6F1DC22D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DDCA-7558-49C2-9592-AF8E9B34A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0831-DBD1-438A-A47C-0ABD177B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46A0-4771-4B62-A683-226690B8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D789-E579-4A41-99D6-BF03188A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4210-E8E2-4DBA-81A2-A4803411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4B14-B900-419D-A9F7-0D29AA1F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AE68-9595-4E85-BA68-5733A6FF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E8E3-500B-4E45-BCC1-BAB08183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410-3948-493B-80F0-ECDEC9E4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8B17-6B5F-462F-81F6-A69126C5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F31D-6860-4328-9170-E12BEB95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625E-899E-4EAE-9BDB-27A8D383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650C-B219-4D4C-9A79-F6DA6EC0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5B06-552B-4CF1-922F-A35FF264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F4C8-32A9-48CC-B224-E15A88A3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1440-C5EE-4800-9C04-3E94990F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2BCE-E234-4C7B-AF69-06C682C6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5132-EEA6-4FE1-86CA-0904924B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676F-47D8-47C4-8B8F-24B03BEA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E59E-4A29-428F-9032-D9931F19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B6FD-C18A-4034-BC53-E0E8F295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A422-7038-44DE-8A45-1DF39A8410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AD82-538E-46A7-A8B1-C179DE27A5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METODE PRIKUPLJANJA I ANALIZE PODATAK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ANKET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ažni momenti anke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ruktura ispita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erbalni oblik pitanja (prilagođenost rečniku ispitanik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bim upit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osled pitanja (treba da bude logič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lja manipulacija sa upitnik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ANKET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rs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Otvor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Zatvorena (2-10 odgov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blem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skrenost (ako ispitanik nije anonim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Broj pit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avilna formulacija pit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vantifikovanje kvalitativnih odgovara i obrn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MODEL LEDENOG BREG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9/10 ledenog brega se nalazi ispod površ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edeni breg u organizaciji je sve ono što je obuhvaćeno formalnim sistemom kont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itanje koliko je menadžment zainteresovan za saradnju sa konsultanti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jčešće se posmatra formalna organizacija, dok spoljni konsultanti zanemaruju neformalne pojave dok ne izazovu promene na vrhu “ledenog breg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MODEL LEDENOG BREG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blem se rešava metodama istraživanja neformalne organ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stražuju se lični ciljevi menadžera, nelegitimni i nelegalni načini rada, neformalne organizacione strukture, neformalne grupe, grupne norme, šeme međuljudskih odnosa, lobistički klanovi, zajedničke vrednosti, verovanja i poveren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PEST ANALIZ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1752480"/>
            <a:ext cx="3657600" cy="76212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naliza okruž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2971800"/>
            <a:ext cx="2895480" cy="76212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Eks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2971800"/>
            <a:ext cx="2895480" cy="76212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4038480"/>
            <a:ext cx="2133720" cy="106704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akro-okruž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4038480"/>
            <a:ext cx="2133720" cy="106704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ikro-okruž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5486400"/>
            <a:ext cx="2133720" cy="106668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nali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657240" y="25146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14600"/>
            <a:ext cx="198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285640" y="37339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05320" y="37339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PEST ANALIZ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jedinačno, ali integralno se analiziraju četiri komponente okruž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litičko-zakonodav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Ekonom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ocio-kultu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ehnološ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ji faktori oktuženja utiču na organizaci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ji su faktori najvažniji danas i biće najvažniji i u sledećih nekoliko god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PEST ANALIZA – Političko-zakonodavni faktor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onopolsko zakonodavst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koni o zaštiti oko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reska poli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egulativa vezana za međunarodnu sarad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kon o zapošljava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abilnost V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PEST ANALIZA – Ekonomski faktor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slovni krug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rendovi Bruto nacionalnog dohot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matne st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nabdevanje novc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nfl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ezaposle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aspoloživi priho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PEST ANALIZA – Socio-kulturni faktor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mograf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aspodela prih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ocijalni tend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omene životnog sti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dnos ptema radu i zapošljava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trošački fakt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vo obrazo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PEST ANALIZA – Tehnološki faktor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rževna ulaganja u istraživ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ržavni i industrijski fokus tehnoloških fak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ova otkrić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Brzina tehnološkog transf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opa zastarel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PRIKUPLJANJE I ANALIZA PODATAK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lasičan proje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nali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jektovanje novog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lan primene novog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 prvom koraku se ispitujuju postojeća stanja i uticaji svih relevantnih faktora koji utiču na konkretne dimenzije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ANALIZA UTICA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ticaji okruženja se analiziraju, ali kao zakasnele posledice promena u okruže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bog toga se preduzeća ne prilagođavaju proaktivno, već reaktiv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bog toga se pravi lista uticaja na preduzeće i njihovo povezivanje sa budućim događajima u okruženj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aralela sa P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METOD SCENAR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avi se uprošćeni model predviđenih budućih situacija u kojima će preduzeće poslov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ed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ali broj spoljnih utic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kspertsko znanje iz ob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ajčešće se bira 2-3 najverovatnija scenar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METOD SCENAR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r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zavis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rategij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stup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rišćenjem pretpostav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rišćenjem lanaca zavis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METO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naliza sadrž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istematsko posmat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nk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del organizacionog ledenog bre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EST anali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naliza utic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etod scena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.. Nastavak u sledećem broju ;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ANALIZA SADRŽA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vedena iz opštije istraživačke metode posmat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edmet posmatranja su postojeći dokumenti – sekundarna metoda koja se bazira na već prikupljenim i klasifikovanim poda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rste analize sadrž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valitativna (šta, kak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vantitativna (šta, kako, kolik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ANALIZA SADRŽA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aci se ne koriste u nameni zbog koje su kreirani, već u cilju istraži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riste 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ojeće organizacione š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nalize poslovnih rezultata iz ranijih peri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tatistički pregledi poslovanja preduzeć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tatistički pregledi poslovanja spoljnih saradnika preduzeć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zultati prethodnih istraži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tručna lit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ANALIZA SADRŽA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daci koji se koriste mogu b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potpu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ubjektiv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..      (Pa bilo je na dnevniku ?!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vo je metoda za početak istraživanja, koja zacrtava grube smernice daljeg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SISTEMATSKO POSMATRANJ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AUČNO POSMATRANJE je organizovano, plansko i metodski izvođeno  opažanje u cilju otkrivanja novih činjenica ili proveravanja naučnih hipot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ISTEMATSKO POSMATRANJE obuhvata unapred određen skup događaja, stanja ili ponašanja  koji se prate zbog veze sa predmetom ist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SISTEMATSKO POSMATRANJ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MATR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k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Otk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ktiv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asiv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tus posmatrača utiče na ovu meto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dabir perioda posmat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zultati posmatranja (desktiptivni, grafički, video zapis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ANKET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pitnik koji teži da standardizuje i objektivizuje određene odgovore razlikuje anketu i interv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je skupa, i u kratkom vremenu se može prikupiti puno podataka, i zato je jedan od najčešćih tehnika prikupljanja podataka u društvenim nauk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laden</cp:lastModifiedBy>
  <dcterms:modified xsi:type="dcterms:W3CDTF">2004-05-10T10:45:09Z</dcterms:modified>
  <cp:revision>4</cp:revision>
  <dc:subject/>
  <dc:title>PowerPoint Presentation</dc:title>
</cp:coreProperties>
</file>