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3924-3A11-4D6B-B335-D548179A9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4571-D191-462A-939D-4F34D4C6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CE40-66E1-48B0-8AE6-98B9D6868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A4D2-D35A-4170-B112-401DD9E42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E8004-BCCC-4329-9ED8-53803D2D9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B8F7-F200-4937-87E2-03C4E31A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A332-A09E-4115-86C7-B69D4B1A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0D505-CF9C-4234-99D5-7C3A411E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B985-7386-420E-AC91-E5D64094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CD4A-42FA-42F6-B7D2-2F1A1F28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9630-C6B9-4B98-940A-C236035D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914B-57AD-45A4-AE73-A5F8B19D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F847-0238-46C3-8C6B-CAA003CC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B367-D29E-4E39-A9FA-675EF9E7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9838-46FE-4A7C-A2FA-3D6F4319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03F6-2865-47B8-A653-61A3C4779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D662-528E-48B2-B52E-D864E70F4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1B38-A679-482E-A1FA-F194CE76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B2AC-7280-49A9-9A43-8674AEF7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EE2F-4F66-495E-BAC7-9AF0731D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A490-2188-4E12-B74C-7C28983B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BBD1-29EA-4E36-9219-A69406B6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D573-3D3E-4450-A843-AC9E1527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FAA3-6918-43C7-A139-D8C9E5D6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966B-6199-4BC8-AC4D-301AC8A78375}" type="datetime3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y 30, 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60B0-8F76-4D85-A3D7-E7CE07B461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/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F333-B44B-4C61-A18D-685436930FF3}" type="datetime3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y 30, 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65EB-6231-4F90-A7E1-98561C907D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6633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6633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320" y="24379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CESNI PRISTU</a:t>
            </a:r>
            <a:r>
              <a:rPr b="0" lang="sr-Latn-CS" sz="4400" spc="-1" strike="noStrike">
                <a:solidFill>
                  <a:srgbClr val="ffcc66"/>
                </a:solidFill>
                <a:latin typeface="Arial"/>
              </a:rPr>
              <a:t>P PROJEKTOVANJA ORGANIZACIJ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66"/>
                </a:solidFill>
                <a:latin typeface="Arial"/>
              </a:rPr>
              <a:t>EDB - proces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ocesi potencijalnih uslug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c66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transport (npr. najam specijalnih vozila)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c66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tehnički pregled, servis i održavanje vozil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c66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brazovni centar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2048-9219-43B3-A74A-AE1E8D7D199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19366E-C40C-4C37-9F19-CE4A8596DD2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66"/>
                </a:solidFill>
                <a:latin typeface="Arial"/>
              </a:rPr>
              <a:t>EDB – nedostaci u postojećoj organizacij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jučni procesi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su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zbijeni na više organizacionih celin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pr. Direkcija za planiranje i razvoj i Direkcija elektroenergetskih usluga se angažuju u procesu sticanja statusa potrošača, a u slučaju potrošača koji je ovaj zahtev podneo u Direkciji za održavanje i usluge u vangradskoj mreži u ispunjenju njegovog zahteva učestvuje i te direkcija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36CA-D142-4A21-9FFA-3398BDB17E5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5D2B3F-C5F7-46B7-8050-6A21646510C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66"/>
                </a:solidFill>
                <a:latin typeface="Arial"/>
              </a:rPr>
              <a:t>EDB – proces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1374840"/>
          <a:ext cx="9144000" cy="47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4840"/>
                    <a:ext cx="914400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79A9-2EB9-497C-B57F-65DD0BEC1811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3A0C1F-6AA3-49E3-B739-79E127FB71E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66"/>
                </a:solidFill>
                <a:latin typeface="Arial"/>
              </a:rPr>
              <a:t>EDB – nova organizaciona struktur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0" y="1598760"/>
          <a:ext cx="9144000" cy="42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98760"/>
                    <a:ext cx="9144000" cy="42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3069-F163-45F3-8ADE-2019871B6A68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B0A8F8-AC24-4192-93FC-AB0BD6DE046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66"/>
                </a:solidFill>
                <a:latin typeface="Arial"/>
              </a:rPr>
              <a:t>Procesi u uslužnom sektoru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ikazivanjem procesa moguće j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cc66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dentifikovanje kritičnih tača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cc66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dentifikovanje delova procesa gde kupac preterano če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cc66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unapređivanje načina obavljanja aktivnos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cc66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da zaposleni bolje shvataju svoj doprinos i ulogu u proces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EF94-9732-4298-8A7F-E149703C5B6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A981DD-9CB1-49BF-A4FB-437D77761F1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66"/>
                </a:solidFill>
                <a:latin typeface="Arial"/>
              </a:rPr>
              <a:t>Procesi u uslužnom sektoru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riterijumi izvršenj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c66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Kvalitet usluge koji korisnik percipi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c66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Troško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c66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Brz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c66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roduktiv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F540-918C-451A-B9D6-AE76D19448F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6A8514-D8BB-4644-A2C7-A166130EF37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66"/>
                </a:solidFill>
                <a:latin typeface="Arial"/>
              </a:rPr>
              <a:t>Radionic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ikazati detaljno proces pružanja sledećih uslug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581120" indent="-53352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Rentiranje automobi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581120" indent="-53352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Servis za pranje tepih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581120" indent="-53352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Servis za popravku bicik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581120" indent="-53352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CD61-94FA-4AE3-A8BC-A21899C0FA0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05ECE7-AA4E-41DD-A755-61D5C16F5E4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66"/>
                </a:solidFill>
                <a:latin typeface="Arial"/>
              </a:rPr>
              <a:t>Pro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ces predstavlja ni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z aktivnosti koji dovodi do ispunjavanja ciljeva organizacij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oslovni proces je specifičan niz poslovnih aktivnosti u vremenu i prostoru koji ima svoj početak i kraj i precizno definisane ulaze i izlaz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roces je skup međusobno povezanih ili međusobno delujućih aktivnosti koji pretvara ulaze u izlazne elemente za unutrašnjeg ili spoljašnjeg korisnik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9AF2-D32F-49D6-927D-C9AE33047AD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F1EACD-91CF-467B-8B7F-74EBE1C197E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66"/>
                </a:solidFill>
                <a:latin typeface="Arial"/>
              </a:rPr>
              <a:t>Prikazivanje proces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Da bi se prikazao određeni proces neophodno j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c66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dentifikovati sve aktivnosti u proces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c66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utvrditi njihov redos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c66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utvrditi veze između aktivn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E0C0-C9F2-4F09-A205-95B37EF1BA5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5AAD44-302D-4492-B92C-490A69B0A09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990720" y="0"/>
          <a:ext cx="71625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0"/>
                    <a:ext cx="71625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8F12-D686-4494-9353-C81D14B49C23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FDEC86-D5DE-4E2C-AD7F-578E21DFDB6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685800" y="533520"/>
          <a:ext cx="7772400" cy="5441760"/>
        </p:xfrm>
        <a:graphic>
          <a:graphicData uri="http://schemas.openxmlformats.org/drawingml/2006/table">
            <a:tbl>
              <a:tblPr/>
              <a:tblGrid>
                <a:gridCol w="457200"/>
                <a:gridCol w="3429000"/>
                <a:gridCol w="3886200"/>
              </a:tblGrid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rste proces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riterijum pode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rste proces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edmet ra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1. Proizvodn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2. Uslužn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spunjenje poslovnih ciljev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1. Bazn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2. Podržavajuć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rste nadležnosti i odgovornos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1. Procesi operativnog ra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2. Procesi upravljanj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3. Kombinovan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čestalo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1. Svakodnevn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2. Povremen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3. Veoma retk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ipadnost ključnim fazama stvaranja i funkcionisanja sist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1. Procesi projektovanja siste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2. Procesi uređenja siste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3. Procesi funkcionisanja sistem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B4F8-52E5-40FE-ABD1-FF19332111A0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E98C87-9654-4247-A9E9-2638A1EFFFB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66"/>
                </a:solidFill>
                <a:latin typeface="Arial"/>
              </a:rPr>
              <a:t>EDB – organizaciona struktur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627120"/>
          <a:ext cx="9144000" cy="62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27120"/>
                    <a:ext cx="9144000" cy="62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7302-0B2B-4E44-B74A-FEA0D814F3F9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91836E-107A-464F-A408-F0A5D4930F4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66"/>
                </a:solidFill>
                <a:latin typeface="Arial"/>
              </a:rPr>
              <a:t>EDB - proces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ljučni procesi u pružanju uslug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cc66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Nabavka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poruka, merenje, obračunavanje i naplata električne energij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cc66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Planiranj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 izgradnja novih objekata, razvoj mrež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cc66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Preispitivanj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lova i postupanje po zahtevu za novog potrošača (sticanje statusa potrošača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cc66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Upravljanje i održavanje DE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38FC-02C6-4B35-8BF6-289DD4DB155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738B61-299D-4823-9B0D-B835D7011FE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66"/>
                </a:solidFill>
                <a:latin typeface="Arial"/>
              </a:rPr>
              <a:t>EDB - proces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moćni procesi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c66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finansijsko-računovodstve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c66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ravni i kadrovsk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c66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c66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nformacio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c66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sistem kvalite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c66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1BF8-C436-4845-B1DC-465F9F9A8FE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E926D6-6EC7-4EFB-BDCD-4385D53466B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66"/>
                </a:solidFill>
                <a:latin typeface="Arial"/>
              </a:rPr>
              <a:t>EDB - proces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ocesi koji čine osnovu za sticanje prihod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c66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rodaja električne energij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c66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aplaćena sredstva kod priključenj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c66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rojektovanje javnog osvetljenj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c66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državanje trafostanica za treća lic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c66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spitivanje kvarova u privatnim mrežam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c66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državanje javnog osvetljenj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B9E2-C30A-4553-B98C-469F1627EC5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163D81-4270-4AB4-ABEF-85D1E4133BE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nstitut</cp:lastModifiedBy>
  <dcterms:modified xsi:type="dcterms:W3CDTF">2005-04-11T12:08:59Z</dcterms:modified>
  <cp:revision>6</cp:revision>
  <dc:subject/>
  <dc:title>PowerPoint Presentation</dc:title>
</cp:coreProperties>
</file>