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707A-0327-44D7-B3AC-A250C12B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4F33-55A4-405E-AADB-6478E436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E8F-EBEC-4C12-8E4A-089E62B3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9CB-E8C0-4F48-93BC-D6D4BF90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8C1A-CFE0-48E3-AC85-154195BD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BF54-A014-42E8-B862-F8A0F9F2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4010-0D1A-4CF5-936D-8F8BCD48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5C3B-F7F3-46B4-A0F3-127814E7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486A-CC70-4D80-A18D-E652CEA2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AA87-E060-4D96-B16B-0EC9BADF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43A4-DA7F-484D-86E2-801E2E55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99E-BC88-4397-B6C5-33578FDD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6905-316A-44DC-B5F7-5D85708C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8DB5-8518-4D77-A92F-9F232EBA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1512-837F-4310-B053-240B412F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A18C-E0BC-4DE9-8CB3-ADFD9B85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6273-1BA5-459D-B352-A39D23F8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6AB-0FC7-4543-9FC5-ECB8575D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F2C-3646-43D3-B9C4-4C552D1C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445-1A3D-404C-92D4-7131E44F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CA3-8369-4E7C-B8A5-C511EE39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0905-25CC-4284-951B-BE6E38B1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B0FC-BB4C-4304-AF57-AC3004CC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0A74-218B-48EA-9260-D5C668AE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BD59-1B71-4F59-827F-E8BDCCB867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6081-0304-44A5-A3F8-D691AD0C0A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Transakcioni tro</a:t>
            </a:r>
            <a:r>
              <a:rPr b="0" lang="sr-Latn-CS" sz="5400" spc="-1" strike="noStrike">
                <a:solidFill>
                  <a:srgbClr val="420000"/>
                </a:solidFill>
                <a:latin typeface="Times New Roman"/>
              </a:rPr>
              <a:t>škovi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nstitucionalna organizacija tržišt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akonska regulativa o sklapanju tržišnih ugovora (trgovinsko pra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avna sigurnost, tj. zaštita ugovora (primena zakona  odluka suda, sigurnost instrumenata obezbeđenja plaćanja i s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dministrativno ograničavanje slobode tržišta (prednost domaćih firmi u odnosu na strane, državnih u odnosu na privat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fikasnost institucija koje obezbeđuju robni i finansijski tok transakcija (carinjenje, vreme potrebno da novac “legne” na račun, mogućnost raspolaganja novcem, rad prbnih berzi i berzi kapitala i s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420000"/>
                </a:solidFill>
                <a:latin typeface="Times New Roman"/>
              </a:rPr>
              <a:t>Metodološki okvir primene transakcionih troškova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vo transakcionih troškova može biti merilo efikasnosti organizacione strukture (Comm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naliza transakcionih troškova ukazuje na granice firme (Co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aktori koji ograničavaju ekspanziju fir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roškovi koordinacije delova fi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ast broja transakcija unutar firma povećava verovatnoću greš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ast firme može je dovesti u monopolski polož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420000"/>
                </a:solidFill>
                <a:latin typeface="Times New Roman"/>
              </a:rPr>
              <a:t>Model uslovljenosti transakcionih troškova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39152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420000"/>
                </a:solidFill>
                <a:latin typeface="Times New Roman"/>
              </a:rPr>
              <a:t>Efektivne granice preduzeća po Williamson-u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80010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420000"/>
                </a:solidFill>
                <a:latin typeface="Times New Roman"/>
              </a:rPr>
              <a:t>Transakcioni troškov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koliko su zahtevi nespecifični, ili standardni, onda će se oni verovatno ispunjavati kroz tržišne transa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koliko su zahtevi specifični, onda će se verovatno ispunjavati u okviru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Grafički model odlučivanja o obuhvatanju transakcija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7150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Grafički model odlučivanja o obuhvatanju transakcija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 – nivo transakcio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 – specifičnost zahte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 = f(A) – razlika troškova proizvodnje untar firme i nabavke na tržiš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 = g(A) – razlika troškova upravljanja proizvodnjom i realizacijom tržišnih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 + 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zahtevi se ispunjavaju preko tržiš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 + C &lt; 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zahtevi se ispunjavaju u okviru fi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420000"/>
                </a:solidFill>
                <a:latin typeface="Times New Roman"/>
              </a:rPr>
              <a:t>Inostrana iskustva sa transakcionim troškovima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utomobilska industrija – proizvođači sedišta, razvodnih instalacija, kočionih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istemska strukture – dobavljači pod istim ili sličnim uslovima snabdevaju više konkur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azvoj ergonomskih sedišta, ABS sistema kočenja, kompjuterske oprimizacije potroš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ntegracija – dobavljači pod krovom kupaca, iako posebana firma, što znatno snižava transakcione t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420000"/>
                </a:solidFill>
                <a:latin typeface="Times New Roman"/>
              </a:rPr>
              <a:t>Inostrana iskustva sa transakcionim troškovima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apanska privreda – tehnološke, tržišne i finansijske alijanse između banaka, trgovinskih organizacija, velikih kompanija i ministarstava zasnovane na ugovornoj, a ne vlasničkoj koordinacij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žišne transakcije postaju jeftin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manjenje oportunizma – “win-win” filozof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420000"/>
                </a:solidFill>
                <a:latin typeface="Times New Roman"/>
              </a:rPr>
              <a:t>Inostrana iskustva sa transakcionim troškovima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snovna preporuka velikim korporacija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azvijati osnovnu tehnološku kompetenciju i marketinške oper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ast ostvarivati uključivanjem većeg broja kooperativnih organizacija na bazi dugoročnih partnerskih, neoportunističkih ugov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o stv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slove za amortizaciju pada ili rasta traž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ast tehnološkog napre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ednostavne, upravljivije struk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DEFINICIJ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ansakcija je aktivnost ili skup aktivnosti koje  je neophodno obaviti da bi određeni proizvod ili usluga prešli granice organizacionog sistema ili nekog njegovog de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oškovi vezani za te aktivnosti nazivaju se transakcioni troškovi (troškovi prelaz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420000"/>
                </a:solidFill>
                <a:latin typeface="Times New Roman"/>
              </a:rPr>
              <a:t>Inostrana iskustva sa transakcionim troškovima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2057400"/>
          <a:ext cx="8076600" cy="4114080"/>
        </p:xfrm>
        <a:graphic>
          <a:graphicData uri="http://schemas.openxmlformats.org/drawingml/2006/table">
            <a:tbl>
              <a:tblPr/>
              <a:tblGrid>
                <a:gridCol w="4037760"/>
                <a:gridCol w="4038840"/>
              </a:tblGrid>
              <a:tr h="86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nos kompanija i podugovorač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anija kao kolekt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iko povere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jedn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gućnost uključivan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životno zaposle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o rangiranje statu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lektivne odlu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sti kontak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o rangir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upne operaci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420000"/>
                </a:solidFill>
                <a:latin typeface="Times New Roman"/>
              </a:rPr>
              <a:t>Inostrana iskustva sa transakcionim troškovima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šla tabela prikazuje karakteristike japanske privre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ansakcioni troškovi između kompanije i zaposleni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420000"/>
                </a:solidFill>
                <a:latin typeface="Times New Roman"/>
              </a:rPr>
              <a:t>Uticaj transakcionih troškova na domaću privredu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lanska privreda – pretpostavljen minimalni oportunizam, u realnosti visoki transakcioni trošk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pored formiranja velikog broja malih preduzeća od 1991, nivo eksternih transakcionih troškova ostaje vrlo vi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oliko je veličina firme iznad optimalne (Williamson), tada su dobiti od lakšeg upravljanja zbog integracije niže od internih transakcio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še velike firme moraju da razviju sistem praćenja i kontrole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420000"/>
                </a:solidFill>
                <a:latin typeface="Times New Roman"/>
              </a:rPr>
              <a:t>Uticaj transakcionih troškova na domaću privredu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diti samostalnost de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diti odgovornost za rezul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diti korelaciju između poslovnih rezultata i raspodele dob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li je veličina bit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uacioni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im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mpanija koja se bavi proizvodnjom osnovne sirovine za proizvodnju plastike nabavlja kese za osnovnu sirovinu od spoljnog dobavljača. Proizvodi se oko 15.000t sirovine godišnje, u pakovanjima od 50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 osnovu analize transakcionih troškova utvrdi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bim proizvodnje na kome treba uključiti tu jedinicu u preduzeć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brazložiti odluku, opisati transakcione t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420000"/>
                </a:solidFill>
                <a:latin typeface="Times New Roman"/>
              </a:rPr>
              <a:t>Tipovi transakcionih aktivnost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poljne transakcione aktivnosti (kupac-dobavljač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govaranje uslova transa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trol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spunjenje zakonskih uslova za njeno odvi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ržišna administr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420000"/>
                </a:solidFill>
                <a:latin typeface="Times New Roman"/>
              </a:rPr>
              <a:t>Tipovi transakcionih aktivnost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nutrašnje transakcione aktivnosti (u samoj organizacij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eđusobna koordinacija učesnika transa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enadžerska koordinacija učesnika transa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420000"/>
                </a:solidFill>
                <a:latin typeface="Times New Roman"/>
              </a:rPr>
              <a:t>Uticaji na transakcione troško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graničena raciona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ortuniz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j učesnika na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itucionalna organizacija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Ograničena racionalnos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x ante  ograničena racionalnosti – problem definisanja svih mogućih ishoda transakcije pre njenog deš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predmet transakcije kompleksan proizvod ili usluga, sa većim brojem nenormiranih karakteristika, tada je napor uložen u specificiranje ugovora o predmetu transakcije visok, a samim tim rastu i transakcioni troškov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roškovi ugovaranja, koordinacije u toku realizacije ugovora i troškovi otklanjanja reklamacija u garantnom roku (prodav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Ograničena racionalnos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x post ograničena racionalnosti – utvrđivanje da li je za dati novac dobijeno ono što je traž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oškovi ulazne i izlazne kont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oškovi obezbeđenja od rizika naplate i kursknih razlika - prodav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Oportuniza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ežnja učesnika u transakciji da se ponašaju u skladu sa ličnim interesom i ako taj interes sadrži štetu (troškove) drugih učesnika u transak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x ante oportunizam (pre dešavanja transakcij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x post oportunizam (posle dešavanja transakcij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roj učesnika na tržištu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avršeno tržište uključuje neograničen ili bar dovoljno velik broj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ali broj učesnika  (monopol, monopson, oligopol, oligopson) povećava oportunizak kod učesnika na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laden Cudanov</cp:lastModifiedBy>
  <dcterms:modified xsi:type="dcterms:W3CDTF">2005-05-29T19:59:0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